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7.jpeg" ContentType="image/jpeg"/>
  <Override PartName="/ppt/media/image28.png" ContentType="image/png"/>
  <Override PartName="/ppt/media/image29.jpeg" ContentType="image/jpeg"/>
  <Override PartName="/ppt/media/image5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jpeg" ContentType="image/jpeg"/>
  <Override PartName="/ppt/media/image6.jpeg" ContentType="image/jpeg"/>
  <Override PartName="/ppt/media/image21.wmf" ContentType="image/x-wm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26E4-F72A-4055-A337-2D2BC7ED3F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7A09-E2B8-4F8E-BECC-77AFFF469DE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C0B7-F2A4-4350-A025-D6764C76115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39B3-3C93-49AE-9C55-2C7FCD8607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BFAC-358E-4424-9B90-86964B2C37A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4DBF-0182-4BC5-9EA2-168F46BB786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380520" y="434340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481-2492-41BC-BE83-3A68CCCD1DB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28437-43C1-41C8-8B6F-70AE90E8D67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31E3-010B-4BE0-8BFD-38AB19E13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23D-F3C3-4A15-9C16-2CCCF12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9C3-EE6B-41F4-82F5-39C5AAD9F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1F3F-C664-4B5F-B97C-14473DEB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100E-1280-48D5-80FF-1650A65F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F077-38CD-4517-943A-3E0394F6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D258D-9A30-4F50-8A09-A5F35F28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51FF-E2A3-4590-822A-2847FCEDC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9B1F-50F6-4466-9E40-83728BF5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C9A-3298-49AF-9354-43B9FCE1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EBCC7-7DCE-4DEE-A66D-850A5C1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70D-82A0-4E4A-8DC6-938E80CB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77D5-11A0-4F6D-A0C9-118F3E0F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462B-42AA-4824-833D-F266E063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0F64-CF80-4C2B-A21B-90FEFC2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907B1-704D-404F-ABFD-D4464699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D6CC-6B5D-44C8-8460-6CE12845C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A1A-C3C5-4DC4-9758-D4A1FB1D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2C7F-0429-47A6-85F3-1DC673EC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3B3D-A4D4-4A6D-8CAD-56A460DD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6427-6A9D-4BB9-9FA4-895306340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DCDC-3532-4BE2-B5E1-47FE478A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5E78-F15C-49E0-B653-83DF24A2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B20E-3BBC-4A8B-877B-34F77C49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2461-6790-49E1-B3A6-B5562D361C9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7358-FEA3-4891-8542-0751249616F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images.google.com.sa/imgres?imgurl=http://images.clipartof.com/small/26501-Clipart-Illustration-Of-A-Friendly-Male-Doctor-Wearing-A-Head-Lamp-Stethoscope-And-Lab-Coat-Holding-His-Arms-Out.jpg&amp;imgrefurl=http://www.clipartof.com/details/clipart/26501.html&amp;usg=__2N3IhRkKWWhEu9ErcGlVP__jHeU=&amp;h=450&amp;w=361&amp;sz=55&amp;hl=ar&amp;start=1&amp;itbs=1&amp;tbnid=fdECLjItJxRrxM:&amp;tbnh=127&amp;tbnw=102&amp;prev=/images%3Fq%3Dcartoon%2Bwearing%2Blab%2Bcoat%26hl%3Dar%26safe%3Dactive%26rlz%3D1T4ADSA_enSA348SA348%26tbs%3Disch: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DBCF6-2655-404B-AE8D-6D6AF5D9990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WordArt 4"/>
          <p:cNvSpPr txBox="1"/>
          <p:nvPr/>
        </p:nvSpPr>
        <p:spPr>
          <a:xfrm>
            <a:off x="1979640" y="1557360"/>
            <a:ext cx="554364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26 PHT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Lab # 1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B338-5673-4448-8FDB-2930FE7E1A27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468360" y="1052640"/>
            <a:ext cx="8280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Disinfectants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emicals which cause disinf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Bacterial spor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mycobacter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some virus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onsiderable resistanc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Antiseptic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infectants which can be safely applied to skin &amp; mucous membran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E7B9-14B0-4BB9-8F9D-3ABDCB694BA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611280" y="476280"/>
            <a:ext cx="8028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Contamination: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roduction of undesirable m.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Asepsi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cesses designed to prevent m.o. from reaching a protected environme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Aseptic technique</a:t>
            </a:r>
            <a:r>
              <a:rPr b="1" lang="en-US" sz="3600" spc="-1" strike="noStrike">
                <a:solidFill>
                  <a:srgbClr val="00ff00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Practices used by microbiologists to exclude all organisms from contaminating media or contacting living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6446-8ECD-43DB-9D84-792E47B8AD0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Discard cultures and other infectious material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Petri dish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Test tube cultur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wire basket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Used pipette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Used slides, covers, and pipett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Jar containing a disinfect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d1ec"/>
                </a:solidFill>
                <a:latin typeface="Arial"/>
              </a:rPr>
              <a:t>Broken gla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→ swept in a dustpan → container for broken gl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VER place contaminated material in waste bask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8EC80-67BC-4EF2-90EB-8E5936E85AA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ff00"/>
                </a:solidFill>
                <a:latin typeface="Arial"/>
              </a:rPr>
              <a:t>Broken or spilled living cultur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Clothing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Autoclave plastic bag → Autocla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lood the area with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disinfectan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 or paper towels are placed over the spills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spcBef>
                <a:spcPts val="700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0- 30mi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wipe up &amp; discard the waste in </a:t>
            </a: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autoclavable dustp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→ Autoclav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-85680">
              <a:lnSpc>
                <a:spcPct val="80000"/>
              </a:lnSpc>
              <a:spcBef>
                <a:spcPts val="201"/>
              </a:spcBef>
              <a:buClr>
                <a:srgbClr val="86d1e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ff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36" end="13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10">
                                            <p:txEl>
                                              <p:pRg st="136" end="13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55FB-530D-40E5-849B-C342992310DB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457200" y="1600200"/>
            <a:ext cx="82296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Microscopical Examin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 of ce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nt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6"/>
          <p:cNvSpPr/>
          <p:nvPr/>
        </p:nvSpPr>
        <p:spPr>
          <a:xfrm>
            <a:off x="533520" y="3962520"/>
            <a:ext cx="81691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Macroscopical Examin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racters of coloni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898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98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E5BE-328C-41EA-AC88-B444A8F172A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57200" y="19051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iochemical Tes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457200" y="228600"/>
            <a:ext cx="8229600" cy="113976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182f7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Identification of Bacter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500040" y="3857760"/>
            <a:ext cx="6873840" cy="17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dditional Test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ch as seriological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B082-EDB7-4499-AD9F-F6E1667B8DE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y vs.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258920" y="530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084720" y="522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6" descr="01-18_GramStain_L"/>
          <p:cNvPicPr/>
          <p:nvPr/>
        </p:nvPicPr>
        <p:blipFill>
          <a:blip r:embed="rId1"/>
          <a:stretch/>
        </p:blipFill>
        <p:spPr>
          <a:xfrm>
            <a:off x="4859280" y="1773360"/>
            <a:ext cx="3606840" cy="3024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01-17_ColoniesAgar_L"/>
          <p:cNvPicPr/>
          <p:nvPr/>
        </p:nvPicPr>
        <p:blipFill>
          <a:blip r:embed="rId2"/>
          <a:stretch/>
        </p:blipFill>
        <p:spPr>
          <a:xfrm>
            <a:off x="539640" y="1773360"/>
            <a:ext cx="4038840" cy="30286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3113-11E9-4D9A-9F95-BA98CE56D5A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ony vs.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1258920" y="530064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on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84720" y="5229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2"/>
          <p:cNvGrpSpPr/>
          <p:nvPr/>
        </p:nvGrpSpPr>
        <p:grpSpPr>
          <a:xfrm>
            <a:off x="684360" y="1844640"/>
            <a:ext cx="3600360" cy="2664000"/>
            <a:chOff x="684360" y="1844640"/>
            <a:chExt cx="3600360" cy="2664000"/>
          </a:xfrm>
        </p:grpSpPr>
        <p:pic>
          <p:nvPicPr>
            <p:cNvPr id="230" name="Picture 7" descr="M874545-Cultured_pneumonia_bacteria-SPL"/>
            <p:cNvPicPr/>
            <p:nvPr/>
          </p:nvPicPr>
          <p:blipFill>
            <a:blip r:embed="rId1"/>
            <a:stretch/>
          </p:blipFill>
          <p:spPr>
            <a:xfrm>
              <a:off x="684360" y="1844640"/>
              <a:ext cx="3600360" cy="25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Rectangle 11"/>
            <p:cNvSpPr/>
            <p:nvPr/>
          </p:nvSpPr>
          <p:spPr>
            <a:xfrm>
              <a:off x="684360" y="3789360"/>
              <a:ext cx="3600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Picture 13" descr="PHOTO69"/>
          <p:cNvPicPr/>
          <p:nvPr/>
        </p:nvPicPr>
        <p:blipFill>
          <a:blip r:embed="rId2"/>
          <a:stretch/>
        </p:blipFill>
        <p:spPr>
          <a:xfrm>
            <a:off x="5433840" y="1773360"/>
            <a:ext cx="2608560" cy="26636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8B52-3AE9-4B28-8E7B-596F61C25B0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he microscop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the most important tool used for examination and identification of microorganism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j0305257"/>
          <p:cNvPicPr/>
          <p:nvPr/>
        </p:nvPicPr>
        <p:blipFill>
          <a:blip r:embed="rId2"/>
          <a:stretch/>
        </p:blipFill>
        <p:spPr>
          <a:xfrm>
            <a:off x="4002120" y="3284640"/>
            <a:ext cx="2225520" cy="32400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DBDB-A893-46A7-9929-18E251D4427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ses of microscope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tion of microbial groups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Bacterial, Fungi, Protozo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phological studies of m.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ize, shape, arrangement…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Physiological stud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otility …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8AB2-77CE-4D4A-8F6F-F393B90206D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WordArt 5"/>
          <p:cNvSpPr txBox="1"/>
          <p:nvPr/>
        </p:nvSpPr>
        <p:spPr>
          <a:xfrm>
            <a:off x="1187280" y="1700280"/>
            <a:ext cx="6840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Basic Microbiology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55640" y="3500280"/>
            <a:ext cx="78487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Microbiolo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s the science that deals with the study of too small organism (micro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sms) that are invisible to the naked ey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9CFB-0FCE-46EA-A23D-0A01E3790E4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b46d0"/>
                </a:solidFill>
                <a:latin typeface="Arial"/>
              </a:rPr>
              <a:t>Types of microsco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Optical microscop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light beams and len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most common one used in the l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Electronic microscop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electron beams and magnetic fie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d for examination of viruses and sections of bac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2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541E-80C8-4EEB-9445-2E5BDFF1E40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536400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971640" y="558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8" descr="03-01c_Paramecium_L"/>
          <p:cNvPicPr/>
          <p:nvPr/>
        </p:nvPicPr>
        <p:blipFill>
          <a:blip r:embed="rId1"/>
          <a:stretch/>
        </p:blipFill>
        <p:spPr>
          <a:xfrm>
            <a:off x="4788000" y="2205000"/>
            <a:ext cx="3557520" cy="28526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PHOTO69"/>
          <p:cNvPicPr/>
          <p:nvPr/>
        </p:nvPicPr>
        <p:blipFill>
          <a:blip r:embed="rId2"/>
          <a:stretch/>
        </p:blipFill>
        <p:spPr>
          <a:xfrm>
            <a:off x="1116000" y="2060640"/>
            <a:ext cx="2890800" cy="29527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F387-BE6B-49F2-9E9F-DD004920EBE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9"/>
          <p:cNvPicPr/>
          <p:nvPr/>
        </p:nvPicPr>
        <p:blipFill>
          <a:blip r:embed="rId1"/>
          <a:stretch/>
        </p:blipFill>
        <p:spPr>
          <a:xfrm>
            <a:off x="5292720" y="2421000"/>
            <a:ext cx="2878200" cy="2139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5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219640" y="544500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1042920" y="5516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PHOTO76"/>
          <p:cNvPicPr/>
          <p:nvPr/>
        </p:nvPicPr>
        <p:blipFill>
          <a:blip r:embed="rId2"/>
          <a:stretch/>
        </p:blipFill>
        <p:spPr>
          <a:xfrm>
            <a:off x="1258920" y="2276640"/>
            <a:ext cx="2665440" cy="254304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FA78-5E94-4C59-88BF-6D87DCC8F851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Arial"/>
              </a:rPr>
              <a:t>Optical microscope vs. Electronic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7" descr="11-06e_Staph_L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3"/>
          <p:cNvSpPr/>
          <p:nvPr/>
        </p:nvSpPr>
        <p:spPr>
          <a:xfrm>
            <a:off x="5364000" y="558972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Electronic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971640" y="558972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ptical microsco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9" descr="Staph22"/>
          <p:cNvPicPr/>
          <p:nvPr/>
        </p:nvPicPr>
        <p:blipFill>
          <a:blip r:embed="rId2"/>
          <a:stretch/>
        </p:blipFill>
        <p:spPr>
          <a:xfrm>
            <a:off x="4648320" y="2440080"/>
            <a:ext cx="4038480" cy="2849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5AAD-05D9-456E-8336-CB0A1CBC0AA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86d1ec"/>
                </a:solidFill>
                <a:uFillTx/>
                <a:latin typeface="Arial"/>
              </a:rPr>
              <a:t>Optical microscop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There are two types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a-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imple microscope: single system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f len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Arial"/>
              </a:rPr>
              <a:t>b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ound microscope: has two lens system, the ocular lens and the objective l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93366"/>
                </a:solidFill>
                <a:latin typeface="Arial"/>
              </a:rPr>
              <a:t>The two lenses system give greater magn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0C0C-A612-4C1B-BBD1-3D1E10A587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onents of the compound microscop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5" descr="PHOTO34"/>
          <p:cNvPicPr/>
          <p:nvPr/>
        </p:nvPicPr>
        <p:blipFill>
          <a:blip r:embed="rId1"/>
          <a:stretch/>
        </p:blipFill>
        <p:spPr>
          <a:xfrm>
            <a:off x="2411280" y="1628640"/>
            <a:ext cx="4446720" cy="5000760"/>
          </a:xfrm>
          <a:prstGeom prst="rect">
            <a:avLst/>
          </a:prstGeom>
          <a:ln w="0">
            <a:noFill/>
          </a:ln>
        </p:spPr>
      </p:pic>
      <p:sp>
        <p:nvSpPr>
          <p:cNvPr id="267" name="Line 6"/>
          <p:cNvSpPr/>
          <p:nvPr/>
        </p:nvSpPr>
        <p:spPr>
          <a:xfrm flipH="1">
            <a:off x="1908000" y="1989000"/>
            <a:ext cx="719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 flipH="1">
            <a:off x="2700000" y="1989000"/>
            <a:ext cx="1079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594720" y="17208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cular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10"/>
          <p:cNvSpPr/>
          <p:nvPr/>
        </p:nvSpPr>
        <p:spPr>
          <a:xfrm flipV="1">
            <a:off x="4572000" y="3644640"/>
            <a:ext cx="2664000" cy="7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11"/>
          <p:cNvSpPr/>
          <p:nvPr/>
        </p:nvSpPr>
        <p:spPr>
          <a:xfrm>
            <a:off x="7291080" y="344808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12"/>
          <p:cNvSpPr/>
          <p:nvPr/>
        </p:nvSpPr>
        <p:spPr>
          <a:xfrm>
            <a:off x="4572000" y="501336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7435440" y="481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mp bo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Line 14"/>
          <p:cNvSpPr/>
          <p:nvPr/>
        </p:nvSpPr>
        <p:spPr>
          <a:xfrm>
            <a:off x="4572000" y="4508640"/>
            <a:ext cx="273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15"/>
          <p:cNvSpPr/>
          <p:nvPr/>
        </p:nvSpPr>
        <p:spPr>
          <a:xfrm>
            <a:off x="7291080" y="4240080"/>
            <a:ext cx="14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ris diaph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Line 16"/>
          <p:cNvSpPr/>
          <p:nvPr/>
        </p:nvSpPr>
        <p:spPr>
          <a:xfrm flipH="1">
            <a:off x="1619280" y="4005360"/>
            <a:ext cx="1728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449640" y="38084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8"/>
          <p:cNvSpPr/>
          <p:nvPr/>
        </p:nvSpPr>
        <p:spPr>
          <a:xfrm>
            <a:off x="6300720" y="5229360"/>
            <a:ext cx="1295640" cy="79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19"/>
          <p:cNvSpPr/>
          <p:nvPr/>
        </p:nvSpPr>
        <p:spPr>
          <a:xfrm>
            <a:off x="7454160" y="59500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ar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20"/>
          <p:cNvSpPr/>
          <p:nvPr/>
        </p:nvSpPr>
        <p:spPr>
          <a:xfrm>
            <a:off x="6732720" y="5229360"/>
            <a:ext cx="863640" cy="21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7311600" y="54388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e adjust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22"/>
          <p:cNvSpPr/>
          <p:nvPr/>
        </p:nvSpPr>
        <p:spPr>
          <a:xfrm flipH="1">
            <a:off x="1763280" y="5445000"/>
            <a:ext cx="4032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23"/>
          <p:cNvSpPr/>
          <p:nvPr/>
        </p:nvSpPr>
        <p:spPr>
          <a:xfrm>
            <a:off x="111600" y="543888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lide movement kno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AAF8-B482-41F3-AAA6-C82BA182005A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Magnification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means enlargement of the linear diameter of an objec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function of  two lens system [the ocular and the objective lens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B272-D926-485A-A410-0A545A6CB9B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Total magnification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g. power of ocular lens X mag. power of objective lens </a:t>
            </a:r>
            <a:r>
              <a:rPr b="1" lang="en-US" sz="2800" spc="-1" strike="noStrike" u="sng">
                <a:solidFill>
                  <a:srgbClr val="e9e400"/>
                </a:solidFill>
                <a:uFillTx/>
                <a:latin typeface="Arial"/>
              </a:rPr>
              <a:t>u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e400"/>
                </a:solidFill>
                <a:uFillTx/>
                <a:latin typeface="Arial"/>
              </a:rPr>
              <a:t>N.B </a:t>
            </a: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(oil immersion lens is use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c984"/>
                </a:solidFill>
                <a:latin typeface="Arial"/>
              </a:rPr>
              <a:t>Objective lens                      mag.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nning lens                              4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w power objective lens          10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igh power objective lens         40×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45c984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il immersion lens                    100×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756A-7EAD-4391-BCD1-6133B6AD68B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agnification power of ocular lens (eye piece) is 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10×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total magnification will be </a:t>
            </a:r>
            <a:r>
              <a:rPr b="1" lang="en-US" sz="3200" spc="-1" strike="noStrike">
                <a:solidFill>
                  <a:srgbClr val="ff7c80"/>
                </a:solidFill>
                <a:latin typeface="Arial"/>
              </a:rPr>
              <a:t>40, 100, 400, 1000 tim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56FF-78D4-4EFF-8C7B-83A9E6D613D2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Working distance: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distance between the objective lens and the slid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General rule, as the magnification of  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5f5f5f"/>
                </a:solidFill>
                <a:latin typeface="Arial"/>
              </a:rPr>
              <a:t>the lens increase the working distance decrease.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285840" y="4000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عنصر نائب لرقم الشريحة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4CE6-F9F6-4CC4-9748-A9CB36864FF0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مستطيل 8"/>
          <p:cNvSpPr/>
          <p:nvPr/>
        </p:nvSpPr>
        <p:spPr>
          <a:xfrm>
            <a:off x="1714680" y="1785960"/>
            <a:ext cx="5500440" cy="242892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Bradley Hand ITC"/>
              </a:rPr>
              <a:t>Laboratory Rules and Safet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5B2BB-F1ED-498A-BEA3-B33D543E4DA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oretical principles of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e9e400"/>
                </a:solidFill>
                <a:uFillTx/>
                <a:latin typeface="Arial"/>
              </a:rPr>
              <a:t>Resolution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t is the ability of a lens to reveal two closely adjacent points as separate and distanc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 resolving power of the oil immersion len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Kristen ITC"/>
              </a:rPr>
              <a:t>depends on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 addition of special oil (Ceder wood oil) between the specimen slide and the objective le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ED7-ADA6-4229-B453-60E7F2AC89D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9e400"/>
                </a:solidFill>
                <a:latin typeface="Arial"/>
              </a:rPr>
              <a:t>Resolutio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0"/>
          <p:cNvGraphicFramePr/>
          <p:nvPr/>
        </p:nvGraphicFramePr>
        <p:xfrm>
          <a:off x="1071720" y="2286000"/>
          <a:ext cx="3456000" cy="29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286000"/>
                    <a:ext cx="345600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3" name="Picture 7" descr="staph-aureus"/>
          <p:cNvPicPr/>
          <p:nvPr/>
        </p:nvPicPr>
        <p:blipFill>
          <a:blip r:embed="rId3"/>
          <a:stretch/>
        </p:blipFill>
        <p:spPr>
          <a:xfrm>
            <a:off x="4786200" y="2286000"/>
            <a:ext cx="3600720" cy="2952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21" descr="nes18783_0302L"/>
          <p:cNvPicPr/>
          <p:nvPr/>
        </p:nvPicPr>
        <p:blipFill>
          <a:blip r:embed="rId4"/>
          <a:stretch/>
        </p:blipFill>
        <p:spPr>
          <a:xfrm>
            <a:off x="857160" y="1357200"/>
            <a:ext cx="8001000" cy="5197680"/>
          </a:xfrm>
          <a:prstGeom prst="rect">
            <a:avLst/>
          </a:prstGeom>
          <a:ln w="0">
            <a:noFill/>
          </a:ln>
        </p:spPr>
      </p:pic>
      <p:sp>
        <p:nvSpPr>
          <p:cNvPr id="305" name="AutoShape 22"/>
          <p:cNvSpPr/>
          <p:nvPr/>
        </p:nvSpPr>
        <p:spPr>
          <a:xfrm>
            <a:off x="1000080" y="1643040"/>
            <a:ext cx="2928960" cy="1089360"/>
          </a:xfrm>
          <a:prstGeom prst="wedgeRoundRectCallout">
            <a:avLst>
              <a:gd name="adj1" fmla="val 129189"/>
              <a:gd name="adj2" fmla="val 17851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Higher Resolution; note the “Sharpness” of the Im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857840" y="4786200"/>
            <a:ext cx="2643120" cy="759960"/>
          </a:xfrm>
          <a:prstGeom prst="wedgeRoundRectCallout">
            <a:avLst>
              <a:gd name="adj1" fmla="val -118486"/>
              <a:gd name="adj2" fmla="val 6106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46d0"/>
                </a:solidFill>
                <a:latin typeface="Arial"/>
              </a:rPr>
              <a:t>Lower Resolution; it is less shar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 rot="16200000">
            <a:off x="-2774160" y="3139560"/>
            <a:ext cx="648540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b46d0"/>
                </a:solidFill>
                <a:latin typeface="Arial"/>
              </a:rPr>
              <a:t>Which image is least resolv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 rot="16200000">
            <a:off x="-2597040" y="3120840"/>
            <a:ext cx="6599160" cy="58896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b46d0"/>
                </a:solidFill>
                <a:latin typeface="Arial"/>
              </a:rPr>
              <a:t>Oil Immersion Increases Re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3" descr="03_03"/>
          <p:cNvPicPr/>
          <p:nvPr/>
        </p:nvPicPr>
        <p:blipFill>
          <a:blip r:embed="rId1"/>
          <a:stretch/>
        </p:blipFill>
        <p:spPr>
          <a:xfrm>
            <a:off x="1449360" y="212760"/>
            <a:ext cx="4822920" cy="6399000"/>
          </a:xfrm>
          <a:prstGeom prst="rect">
            <a:avLst/>
          </a:prstGeom>
          <a:ln w="38160">
            <a:solidFill>
              <a:srgbClr val="7b46d0"/>
            </a:solidFill>
            <a:miter/>
          </a:ln>
        </p:spPr>
      </p:pic>
      <p:sp>
        <p:nvSpPr>
          <p:cNvPr id="310" name="AutoShape 4"/>
          <p:cNvSpPr/>
          <p:nvPr/>
        </p:nvSpPr>
        <p:spPr>
          <a:xfrm>
            <a:off x="5900760" y="4145040"/>
            <a:ext cx="3100320" cy="1418040"/>
          </a:xfrm>
          <a:prstGeom prst="wedgeRoundRectCallout">
            <a:avLst>
              <a:gd name="adj1" fmla="val -107004"/>
              <a:gd name="adj2" fmla="val -12060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The Mineral Oil has the same Index of Refraction as glass (so light does not bend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5857920" y="1863720"/>
            <a:ext cx="3286080" cy="1089360"/>
          </a:xfrm>
          <a:prstGeom prst="wedgeRoundRectCallout">
            <a:avLst>
              <a:gd name="adj1" fmla="val -145615"/>
              <a:gd name="adj2" fmla="val 107745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ir has a different Index of Refraction from glass (so light bend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5143680" y="355680"/>
            <a:ext cx="3828960" cy="1089360"/>
          </a:xfrm>
          <a:prstGeom prst="wedgeRoundRectCallout">
            <a:avLst>
              <a:gd name="adj1" fmla="val -104587"/>
              <a:gd name="adj2" fmla="val 13657"/>
              <a:gd name="adj3" fmla="val 16667"/>
            </a:avLst>
          </a:prstGeom>
          <a:solidFill>
            <a:srgbClr val="ffffff"/>
          </a:solidFill>
          <a:ln w="9360">
            <a:solidFill>
              <a:srgbClr val="000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Arial"/>
              </a:rPr>
              <a:t>Air has a different Index of Refraction from water (so light bend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0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A60C-9E2A-4888-9DB9-75B92361001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4067280" y="314172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Oval 5"/>
          <p:cNvSpPr/>
          <p:nvPr/>
        </p:nvSpPr>
        <p:spPr>
          <a:xfrm>
            <a:off x="4067280" y="2997360"/>
            <a:ext cx="1152360" cy="2887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AutoShape 6"/>
          <p:cNvSpPr/>
          <p:nvPr/>
        </p:nvSpPr>
        <p:spPr>
          <a:xfrm rot="16200000">
            <a:off x="3570840" y="2866320"/>
            <a:ext cx="339840" cy="642600"/>
          </a:xfrm>
          <a:custGeom>
            <a:avLst/>
            <a:gdLst>
              <a:gd name="textAreaLeft" fmla="*/ 70560 w 339840"/>
              <a:gd name="textAreaRight" fmla="*/ 269280 w 339840"/>
              <a:gd name="textAreaTop" fmla="*/ 133920 h 642600"/>
              <a:gd name="textAreaBottom" fmla="*/ 50868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7"/>
          <p:cNvSpPr/>
          <p:nvPr/>
        </p:nvSpPr>
        <p:spPr>
          <a:xfrm rot="5148600">
            <a:off x="5373000" y="2851200"/>
            <a:ext cx="339480" cy="647640"/>
          </a:xfrm>
          <a:custGeom>
            <a:avLst/>
            <a:gdLst>
              <a:gd name="textAreaLeft" fmla="*/ 70560 w 339480"/>
              <a:gd name="textAreaRight" fmla="*/ 268920 w 339480"/>
              <a:gd name="textAreaTop" fmla="*/ 135000 h 647640"/>
              <a:gd name="textAreaBottom" fmla="*/ 513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8"/>
          <p:cNvSpPr/>
          <p:nvPr/>
        </p:nvSpPr>
        <p:spPr>
          <a:xfrm>
            <a:off x="3419640" y="2131920"/>
            <a:ext cx="26640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9"/>
          <p:cNvSpPr/>
          <p:nvPr/>
        </p:nvSpPr>
        <p:spPr>
          <a:xfrm>
            <a:off x="5580000" y="2154240"/>
            <a:ext cx="2667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0"/>
          <p:cNvSpPr/>
          <p:nvPr/>
        </p:nvSpPr>
        <p:spPr>
          <a:xfrm>
            <a:off x="3419640" y="3789360"/>
            <a:ext cx="2427120" cy="576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4140360" y="3716280"/>
            <a:ext cx="914400" cy="123840"/>
          </a:xfrm>
          <a:prstGeom prst="ellipse">
            <a:avLst/>
          </a:prstGeom>
          <a:solidFill>
            <a:srgbClr val="7b46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2"/>
          <p:cNvSpPr/>
          <p:nvPr/>
        </p:nvSpPr>
        <p:spPr>
          <a:xfrm>
            <a:off x="4643280" y="3357720"/>
            <a:ext cx="0" cy="20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17"/>
          <p:cNvSpPr/>
          <p:nvPr/>
        </p:nvSpPr>
        <p:spPr>
          <a:xfrm flipV="1">
            <a:off x="4643280" y="3860280"/>
            <a:ext cx="216000" cy="5050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18"/>
          <p:cNvSpPr/>
          <p:nvPr/>
        </p:nvSpPr>
        <p:spPr>
          <a:xfrm flipV="1">
            <a:off x="4932360" y="342900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9"/>
          <p:cNvSpPr/>
          <p:nvPr/>
        </p:nvSpPr>
        <p:spPr>
          <a:xfrm>
            <a:off x="4232160" y="3357720"/>
            <a:ext cx="411120" cy="35856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AutoShape 24"/>
          <p:cNvSpPr/>
          <p:nvPr/>
        </p:nvSpPr>
        <p:spPr>
          <a:xfrm>
            <a:off x="4356000" y="1989000"/>
            <a:ext cx="1152720" cy="648000"/>
          </a:xfrm>
          <a:prstGeom prst="borderCallout2">
            <a:avLst>
              <a:gd name="adj1" fmla="val 18750"/>
              <a:gd name="adj2" fmla="val -8333"/>
              <a:gd name="adj3" fmla="val 17648"/>
              <a:gd name="adj4" fmla="val -9226"/>
              <a:gd name="adj5" fmla="val 150981"/>
              <a:gd name="adj6" fmla="val -1914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bjective le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26"/>
          <p:cNvSpPr/>
          <p:nvPr/>
        </p:nvSpPr>
        <p:spPr>
          <a:xfrm>
            <a:off x="5706360" y="330516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st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7"/>
          <p:cNvSpPr/>
          <p:nvPr/>
        </p:nvSpPr>
        <p:spPr>
          <a:xfrm>
            <a:off x="2342880" y="335772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Saved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30"/>
          <p:cNvSpPr/>
          <p:nvPr/>
        </p:nvSpPr>
        <p:spPr>
          <a:xfrm>
            <a:off x="4788000" y="3860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b46d0"/>
                </a:solidFill>
                <a:latin typeface="Arial"/>
              </a:rPr>
              <a:t>speci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854160" y="558972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Line 35"/>
          <p:cNvSpPr/>
          <p:nvPr/>
        </p:nvSpPr>
        <p:spPr>
          <a:xfrm flipV="1">
            <a:off x="4068720" y="4437000"/>
            <a:ext cx="503280" cy="287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Line 37"/>
          <p:cNvSpPr/>
          <p:nvPr/>
        </p:nvSpPr>
        <p:spPr>
          <a:xfrm flipH="1" flipV="1">
            <a:off x="4716360" y="4437000"/>
            <a:ext cx="503280" cy="2872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Line 38"/>
          <p:cNvSpPr/>
          <p:nvPr/>
        </p:nvSpPr>
        <p:spPr>
          <a:xfrm flipH="1" flipV="1">
            <a:off x="4427280" y="3860280"/>
            <a:ext cx="215640" cy="50508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39"/>
          <p:cNvSpPr/>
          <p:nvPr/>
        </p:nvSpPr>
        <p:spPr>
          <a:xfrm flipH="1" flipV="1">
            <a:off x="4211640" y="3284640"/>
            <a:ext cx="216000" cy="50472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عنصر نائب لرقم الشريحة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B4C-A34A-4858-B9F2-8D344F4377D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WordArt 5"/>
          <p:cNvSpPr txBox="1"/>
          <p:nvPr/>
        </p:nvSpPr>
        <p:spPr>
          <a:xfrm>
            <a:off x="2362320" y="9144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pull dir="l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4C6-E7CB-47CC-8AE3-808DBA958A8C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structions and Ru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267920"/>
            <a:ext cx="5186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eating or drink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b coat &amp; mark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5c984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6600"/>
                </a:solidFill>
                <a:latin typeface="Arial Unicode MS"/>
                <a:ea typeface="Arial Unicode MS"/>
              </a:rPr>
              <a:t>Aseptic technique.</a:t>
            </a:r>
            <a:r>
              <a:rPr b="0" lang="en-US" sz="2800" spc="-1" strike="noStrike">
                <a:solidFill>
                  <a:srgbClr val="45c984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e4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nches must be disinfe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993366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oid contamin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Discarded cultures &amp; infectious materials and broken or spilled living culture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عنصر نائب للمحتوى 7" descr="no eating or drinking.jpg"/>
          <p:cNvPicPr/>
          <p:nvPr/>
        </p:nvPicPr>
        <p:blipFill>
          <a:blip r:embed="rId1"/>
          <a:stretch/>
        </p:blipFill>
        <p:spPr>
          <a:xfrm>
            <a:off x="5643720" y="2351160"/>
            <a:ext cx="3043080" cy="2792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http://t2.gstatic.com/images?q=tbn:fdECLjItJxRrxM:http://images.clipartof.com/small/26501-Clipart-Illustration-Of-A-Friendly-Male-Doctor-Wearing-A-Head-Lamp-Stethoscope-And-Lab-Coat-Holding-His-Arms-Out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2080" y="2357280"/>
            <a:ext cx="3071880" cy="278640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عنصر نائب لرقم الشريحة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1C12-8059-45B6-99D1-0A096BC8F3D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end of each lab chec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Gas tap is turned o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Water tap is closed proper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11089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00"/>
                </a:solidFill>
                <a:latin typeface="Arial"/>
              </a:rPr>
              <a:t>Microscope lamp is turned of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 Unicode MS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45c984"/>
                </a:solidFill>
                <a:latin typeface="Arial"/>
              </a:rPr>
              <a:t>Finally wash your hands thoroughl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7" descr="Objective Lenses and Stage CropSuite"/>
          <p:cNvPicPr/>
          <p:nvPr/>
        </p:nvPicPr>
        <p:blipFill>
          <a:blip r:embed="rId4"/>
          <a:stretch/>
        </p:blipFill>
        <p:spPr>
          <a:xfrm>
            <a:off x="5786280" y="1857240"/>
            <a:ext cx="2995920" cy="2917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Gases on tap (Credit: David Bradley)"/>
          <p:cNvPicPr/>
          <p:nvPr/>
        </p:nvPicPr>
        <p:blipFill>
          <a:blip r:embed="rId5"/>
          <a:stretch/>
        </p:blipFill>
        <p:spPr>
          <a:xfrm>
            <a:off x="5786280" y="1785960"/>
            <a:ext cx="3071880" cy="30718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www.wateruseitwisely.com/blog/wp-content/uploads/2009/02/tap-water.jpg"/>
          <p:cNvPicPr/>
          <p:nvPr/>
        </p:nvPicPr>
        <p:blipFill>
          <a:blip r:embed="rId6"/>
          <a:stretch/>
        </p:blipFill>
        <p:spPr>
          <a:xfrm>
            <a:off x="5643720" y="1714680"/>
            <a:ext cx="3286080" cy="32860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"/>
          <p:cNvPicPr/>
          <p:nvPr/>
        </p:nvPicPr>
        <p:blipFill>
          <a:blip r:embed="rId7"/>
          <a:stretch/>
        </p:blipFill>
        <p:spPr>
          <a:xfrm>
            <a:off x="5500800" y="1714680"/>
            <a:ext cx="3429000" cy="3286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4" descr="wash hands"/>
          <p:cNvPicPr/>
          <p:nvPr/>
        </p:nvPicPr>
        <p:blipFill>
          <a:blip r:embed="rId8"/>
          <a:stretch/>
        </p:blipFill>
        <p:spPr>
          <a:xfrm>
            <a:off x="4929120" y="1643040"/>
            <a:ext cx="4000680" cy="378612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4F75-0662-43DA-8743-A76AACD7B1B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Microbiological Equipments and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28760" y="224928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9e400"/>
                </a:solidFill>
                <a:latin typeface="Arial"/>
              </a:rPr>
              <a:t>Medium</a:t>
            </a: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: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❊</a:t>
            </a:r>
            <a:r>
              <a:rPr b="0" lang="en-US" sz="32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artificial preparation contains the essential elements and nutrients needed by the m.o to grow (medi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ulture media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عنصر نائب للمحتوى 4" descr="Culture_media.jpg"/>
          <p:cNvPicPr/>
          <p:nvPr/>
        </p:nvPicPr>
        <p:blipFill>
          <a:blip r:embed="rId1"/>
          <a:stretch/>
        </p:blipFill>
        <p:spPr>
          <a:xfrm>
            <a:off x="3714840" y="3786120"/>
            <a:ext cx="5214960" cy="2859120"/>
          </a:xfrm>
          <a:prstGeom prst="rect">
            <a:avLst/>
          </a:prstGeom>
          <a:ln w="0">
            <a:noFill/>
          </a:ln>
        </p:spPr>
      </p:pic>
      <p:sp>
        <p:nvSpPr>
          <p:cNvPr id="196" name="عنصر نائب لرقم الشريحة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1910-24FE-4B51-A41E-A11F46DB139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مستطيل 5"/>
          <p:cNvSpPr/>
          <p:nvPr/>
        </p:nvSpPr>
        <p:spPr>
          <a:xfrm>
            <a:off x="357120" y="1714680"/>
            <a:ext cx="8572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❊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It may b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quid (bro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id (containing agar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misolid (containing low conc. of a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8BAA-99EF-4D1C-AEE4-700B27AECC3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troduction to Microbiological Equipments and Mate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Inocul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Culturing of sterile media with m.o [Inoculation loop]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cub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cing the culture into the incubator at optimum temperature for grow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e400"/>
                </a:solidFill>
                <a:latin typeface="Arial"/>
              </a:rPr>
              <a:t>Sterile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ree from any living microorganism</a:t>
            </a: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ontamination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troduction of undesirable m.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B296-BFB1-431E-8B0C-20052C5D241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Steriliza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Killing or removal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ll living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icro-organisms (from a particular location or material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00"/>
                </a:solidFill>
                <a:latin typeface="Arial"/>
              </a:rPr>
              <a:t>Sterile article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ly free of all living micro-organi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e400"/>
                </a:solidFill>
                <a:latin typeface="Arial"/>
              </a:rPr>
              <a:t>Disinfectio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truction of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vegetative conspiring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icro-organism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45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0"/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55680" indent="0">
              <a:spcBef>
                <a:spcPts val="201"/>
              </a:spcBef>
              <a:buNone/>
              <a:tabLst>
                <a:tab algn="l" pos="35568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2T11:22:45Z</dcterms:created>
  <dc:creator>user</dc:creator>
  <dc:description/>
  <dc:language>en-US</dc:language>
  <cp:lastModifiedBy>rihaf</cp:lastModifiedBy>
  <dcterms:modified xsi:type="dcterms:W3CDTF">2014-02-11T07:08:48Z</dcterms:modified>
  <cp:revision>99</cp:revision>
  <dc:subject/>
  <dc:title>381 PHT</dc:title>
</cp:coreProperties>
</file>