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2AB-5271-41B2-86A8-A1F29AE8D8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881-E297-44E7-BBDF-69790D0D4A4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F3B6-4514-4706-B33F-BEF445B61C9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01F6-6B89-42E6-964F-5FEF50D1BF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B2D-1D0C-4B70-A134-7B7672D69AF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C1A7-09F5-43B1-B511-AFA8BE26D86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11BA-4D25-4E7A-8124-C51E3EEE59B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B6AA-F54C-478A-A9D3-92A50F8EF55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7AA-DD6B-481E-B870-B7AC29A9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248-AD5B-40B7-9905-E647D4C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97C-01EE-437F-9E21-E31AF72A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009-AC9F-45BD-B560-66EDF0B9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DFD1-CEDB-4778-B603-877A54DE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7C44-36DB-43FD-BE5D-6542F00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E4F6-E64C-484C-B992-607743D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607C-AA07-4D98-A261-9418F80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D34-192D-410D-96C4-233692DC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87E5-E1BD-4CC9-9DA1-9D1AFA20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62B-22A7-459D-BF43-AC10C3A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8B8-E1BB-42FA-97C1-B00EBA56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169D-6E1B-44C9-B48D-DEE08AA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92E3-AB9E-4D81-8099-AA8FF6DC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A49-D314-4F63-A535-DF7FF01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2D69-0A22-4D69-AEB6-859607D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49C0-12CF-4107-8956-5C70FC89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E77-4300-4245-892B-552CABE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7B6-94A1-4E86-9F7B-90981D5A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658-A6CB-4BEE-BEB1-A4C3224D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3B6-C9A6-4BF2-B004-5BC62519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FA4-CE5C-4C29-95C2-1B42233B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D25-5E57-4C73-9377-9D6790A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318-B66C-4D2F-9BBA-0CA738B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D45B-4B9C-49B0-98F0-E8501362A5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5A2B-716F-47D5-88C7-4046B3771C5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com.sa/imgres?imgurl=http://images.clipartof.com/small/26501-Clipart-Illustration-Of-A-Friendly-Male-Doctor-Wearing-A-Head-Lamp-Stethoscope-And-Lab-Coat-Holding-His-Arms-Out.jpg&amp;imgrefurl=http://www.clipartof.com/details/clipart/26501.html&amp;usg=__2N3IhRkKWWhEu9ErcGlVP__jHeU=&amp;h=450&amp;w=361&amp;sz=55&amp;hl=ar&amp;start=1&amp;itbs=1&amp;tbnid=fdECLjItJxRrxM:&amp;tbnh=127&amp;tbnw=102&amp;prev=/images%3Fq%3Dcartoon%2Bwearing%2Blab%2Bcoat%26hl%3Dar%26safe%3Dactive%26rlz%3D1T4ADSA_enSA348SA348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72F0-DAFC-4D00-85C8-F050FC40552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979640" y="1557360"/>
            <a:ext cx="554364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6 PH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b # 1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2FAE-72A3-4C6B-B719-7C598EF467E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10526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Disinfectants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micals which cause dis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Bacterial spor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mycobacter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some viru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derable resista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Antiseptic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infectants which can be safely applied to skin &amp; mucous membra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A89A-0129-43EC-945B-CF6B00B1694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11280" y="476280"/>
            <a:ext cx="8028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9e400"/>
                </a:solidFill>
                <a:latin typeface="Arial"/>
              </a:rPr>
              <a:t>Contamination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of undesirable m.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9e400"/>
                </a:solidFill>
                <a:latin typeface="Arial"/>
              </a:rPr>
              <a:t>Aseps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es designed to prevent m.o. from reaching a protected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Aseptic technique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actices used by microbiologists to exclude all organisms from contaminating media or contacting living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37D6-9BF0-4C53-AB9F-3F391100B23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Discard cultures and other infectious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Petri dish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Plastic bag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Test tube cultur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wire basket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Used pipet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 Plastic bag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Used slides, covers, and pipet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Jar containing a disinfec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Broken gla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swept in a dustpan → container for broken g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VER place contaminated material in waste bas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86AC-D4E9-4E63-BAEC-6FC177648B9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Broken or spilled living cul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Cloth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Autoclave plastic bag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od the area wit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isinfecta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 or paper towels are placed over the spill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- 30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wipe up &amp; discard the waste in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autoclavable dustpa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Autocla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2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ff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6" end="1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10">
                                            <p:txEl>
                                              <p:pRg st="136" end="13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78FC-69A8-4CC9-BEA8-2818AABD38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16002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icroscopical Examin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ntification of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33520" y="3962520"/>
            <a:ext cx="8169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Macroscopical Examin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s of colon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6A4D-3342-4012-AF2D-D8B23BCAA7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iochemical Tes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ntification of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00040" y="3857760"/>
            <a:ext cx="687384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dditional Tes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as seriological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0507-8EC5-4B4C-970B-F475801252E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y vs.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258920" y="530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084720" y="522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01-18_GramStain_L"/>
          <p:cNvPicPr/>
          <p:nvPr/>
        </p:nvPicPr>
        <p:blipFill>
          <a:blip r:embed="rId1"/>
          <a:stretch/>
        </p:blipFill>
        <p:spPr>
          <a:xfrm>
            <a:off x="4859280" y="1773360"/>
            <a:ext cx="3606840" cy="302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01-17_ColoniesAgar_L"/>
          <p:cNvPicPr/>
          <p:nvPr/>
        </p:nvPicPr>
        <p:blipFill>
          <a:blip r:embed="rId2"/>
          <a:stretch/>
        </p:blipFill>
        <p:spPr>
          <a:xfrm>
            <a:off x="539640" y="17733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387B-7D04-4EE5-B5A3-AA3AADC95F9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y vs.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258920" y="530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84720" y="522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2"/>
          <p:cNvGrpSpPr/>
          <p:nvPr/>
        </p:nvGrpSpPr>
        <p:grpSpPr>
          <a:xfrm>
            <a:off x="684360" y="1844640"/>
            <a:ext cx="3600360" cy="2664000"/>
            <a:chOff x="684360" y="1844640"/>
            <a:chExt cx="3600360" cy="2664000"/>
          </a:xfrm>
        </p:grpSpPr>
        <p:pic>
          <p:nvPicPr>
            <p:cNvPr id="230" name="Picture 7" descr="M874545-Cultured_pneumonia_bacteria-SPL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360036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11"/>
            <p:cNvSpPr/>
            <p:nvPr/>
          </p:nvSpPr>
          <p:spPr>
            <a:xfrm>
              <a:off x="684360" y="3789360"/>
              <a:ext cx="3600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Picture 13" descr="PHOTO69"/>
          <p:cNvPicPr/>
          <p:nvPr/>
        </p:nvPicPr>
        <p:blipFill>
          <a:blip r:embed="rId2"/>
          <a:stretch/>
        </p:blipFill>
        <p:spPr>
          <a:xfrm>
            <a:off x="5433840" y="1773360"/>
            <a:ext cx="2608560" cy="26636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ED0C-F844-4C8E-9D8B-3D8FFD9F885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microsc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ost important tool used for examination and identification of microorganis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j0305257"/>
          <p:cNvPicPr/>
          <p:nvPr/>
        </p:nvPicPr>
        <p:blipFill>
          <a:blip r:embed="rId2"/>
          <a:stretch/>
        </p:blipFill>
        <p:spPr>
          <a:xfrm>
            <a:off x="4002120" y="3284640"/>
            <a:ext cx="222552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042D-D6F5-46A2-8C52-3043D9409E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ses of microscop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microbial group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Bacterial, Fungi, Protozo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phological studies of m.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ize, shape, arrangement…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Physiological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otility …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75D9-4688-46B6-973F-E87E04DC3E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1187280" y="1700280"/>
            <a:ext cx="684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sic Microbiolog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848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icrobi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science that deals with the study of too small organism (micr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) that are invisible to the naked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91B5-7F6B-443E-AA5E-BCF25AC3540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46d0"/>
                </a:solidFill>
                <a:latin typeface="Arial"/>
              </a:rPr>
              <a:t>Types of microsco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Optical microscop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light beams and l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st common one used in the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Electronic microscop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electron beams and magnetic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examination of viruses and sections of bac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E2B-3207-4EF8-9264-3AB78BD86E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Optical microscope vs. Electronic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36400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Electronic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5589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ptical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8" descr="03-01c_Paramecium_L"/>
          <p:cNvPicPr/>
          <p:nvPr/>
        </p:nvPicPr>
        <p:blipFill>
          <a:blip r:embed="rId1"/>
          <a:stretch/>
        </p:blipFill>
        <p:spPr>
          <a:xfrm>
            <a:off x="4788000" y="2205000"/>
            <a:ext cx="3557520" cy="2852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PHOTO69"/>
          <p:cNvPicPr/>
          <p:nvPr/>
        </p:nvPicPr>
        <p:blipFill>
          <a:blip r:embed="rId2"/>
          <a:stretch/>
        </p:blipFill>
        <p:spPr>
          <a:xfrm>
            <a:off x="1116000" y="2060640"/>
            <a:ext cx="289080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3BD-8C4C-440A-ABB5-F07EEC973C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9"/>
          <p:cNvPicPr/>
          <p:nvPr/>
        </p:nvPicPr>
        <p:blipFill>
          <a:blip r:embed="rId1"/>
          <a:stretch/>
        </p:blipFill>
        <p:spPr>
          <a:xfrm>
            <a:off x="5292720" y="2421000"/>
            <a:ext cx="2878200" cy="21398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Optical microscope vs. Electronic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21964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Electronic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042920" y="551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ptical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PHOTO76"/>
          <p:cNvPicPr/>
          <p:nvPr/>
        </p:nvPicPr>
        <p:blipFill>
          <a:blip r:embed="rId2"/>
          <a:stretch/>
        </p:blipFill>
        <p:spPr>
          <a:xfrm>
            <a:off x="1258920" y="2276640"/>
            <a:ext cx="2665440" cy="2543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1EC5-0E60-41D9-8EF0-5886E20C25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Optical microscope vs. Electronic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11-06e_Staph_L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536400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Electronic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971640" y="5589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ptical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Staph22"/>
          <p:cNvPicPr/>
          <p:nvPr/>
        </p:nvPicPr>
        <p:blipFill>
          <a:blip r:embed="rId2"/>
          <a:stretch/>
        </p:blipFill>
        <p:spPr>
          <a:xfrm>
            <a:off x="4648320" y="2440080"/>
            <a:ext cx="4038480" cy="2849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8294-D046-4A53-880F-782E8DD2E33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6d1ec"/>
                </a:solidFill>
                <a:uFillTx/>
                <a:latin typeface="Arial"/>
              </a:rPr>
              <a:t>Optical microscop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here are two typ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a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imple microscope: single syste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le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e400"/>
                </a:solidFill>
                <a:latin typeface="Arial"/>
              </a:rPr>
              <a:t>b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und microscope: has two lens system, the ocular lens and the objective l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e two lenses system give greater magn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7B0-8567-4584-A657-B5439BBE22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s of the compound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PHOTO34"/>
          <p:cNvPicPr/>
          <p:nvPr/>
        </p:nvPicPr>
        <p:blipFill>
          <a:blip r:embed="rId1"/>
          <a:stretch/>
        </p:blipFill>
        <p:spPr>
          <a:xfrm>
            <a:off x="2411280" y="1628640"/>
            <a:ext cx="4446720" cy="500076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H="1">
            <a:off x="1908000" y="198900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2700000" y="198900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94720" y="1720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ular 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V="1">
            <a:off x="4572000" y="3644640"/>
            <a:ext cx="266400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291080" y="34480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 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4572000" y="501336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435440" y="4816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p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4572000" y="450864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7291080" y="4240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is diaph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H="1">
            <a:off x="1619280" y="400536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449640" y="38084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6300720" y="5229360"/>
            <a:ext cx="129564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7454160" y="59500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6732720" y="5229360"/>
            <a:ext cx="86364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7311600" y="54388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e adjus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 flipH="1">
            <a:off x="1763280" y="544500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111600" y="5438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movement kn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8A0-428E-4CA2-B301-E92A4C5042C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9e400"/>
                </a:solidFill>
                <a:uFillTx/>
                <a:latin typeface="Arial"/>
              </a:rPr>
              <a:t>Magnification: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means enlargement of the linear diameter of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function of  two lens system [the ocular and the objective len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6C8-AD7C-4139-996C-42B431D2A8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tal magnification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g. power of ocular lens X mag. power of objective lens </a:t>
            </a:r>
            <a:r>
              <a:rPr b="1" lang="en-US" sz="2800" spc="-1" strike="noStrike" u="sng">
                <a:solidFill>
                  <a:srgbClr val="e9e400"/>
                </a:solidFill>
                <a:uFillTx/>
                <a:latin typeface="Arial"/>
              </a:rPr>
              <a:t>u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9e400"/>
                </a:solidFill>
                <a:uFillTx/>
                <a:latin typeface="Arial"/>
              </a:rPr>
              <a:t>N.B </a:t>
            </a: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(oil immersion lens is u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Objective lens                      mag.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nning lens                              4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power objective lens          10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power objective lens         40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l immersion lens                    100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A44-66DD-4CEB-94E8-49D5E15091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gnification power of ocular lens (eye piece) is 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10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magnification will be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40, 100, 400, 1000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FA6-39DF-4C36-90E1-6152A009115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9e400"/>
                </a:solidFill>
                <a:uFillTx/>
                <a:latin typeface="Arial"/>
              </a:rPr>
              <a:t>Working distance: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distance between the objective lens and the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General rule, as the magnification of 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the lens increase the working distance decrease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5840" y="4000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D22-10FB-4AB3-931F-9E56EE1695D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مستطيل 8"/>
          <p:cNvSpPr/>
          <p:nvPr/>
        </p:nvSpPr>
        <p:spPr>
          <a:xfrm>
            <a:off x="1714680" y="1785960"/>
            <a:ext cx="5500440" cy="242892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adley Hand ITC"/>
              </a:rPr>
              <a:t>Laboratory Rules and Safe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784F-147E-4794-A6FB-8854DC8808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9e400"/>
                </a:solidFill>
                <a:uFillTx/>
                <a:latin typeface="Arial"/>
              </a:rPr>
              <a:t>Resolution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ability of a lens to reveal two closely adjacent points as separate and d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 resolving power of the oil immersion len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depends on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 addition of special oil (Ceder wood oil) between the specimen slide and the objective l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DCEE-36F0-4ACA-9F1E-8DEC47894D6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400"/>
                </a:solidFill>
                <a:latin typeface="Arial"/>
              </a:rPr>
              <a:t>Resolutio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1071720" y="2286000"/>
          <a:ext cx="345600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286000"/>
                    <a:ext cx="3456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Picture 7" descr="staph-aureus"/>
          <p:cNvPicPr/>
          <p:nvPr/>
        </p:nvPicPr>
        <p:blipFill>
          <a:blip r:embed="rId3"/>
          <a:stretch/>
        </p:blipFill>
        <p:spPr>
          <a:xfrm>
            <a:off x="4786200" y="2286000"/>
            <a:ext cx="36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1" descr="nes18783_0302L"/>
          <p:cNvPicPr/>
          <p:nvPr/>
        </p:nvPicPr>
        <p:blipFill>
          <a:blip r:embed="rId4"/>
          <a:stretch/>
        </p:blipFill>
        <p:spPr>
          <a:xfrm>
            <a:off x="857160" y="1357200"/>
            <a:ext cx="8001000" cy="519768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2"/>
          <p:cNvSpPr/>
          <p:nvPr/>
        </p:nvSpPr>
        <p:spPr>
          <a:xfrm>
            <a:off x="1000080" y="1643040"/>
            <a:ext cx="2928960" cy="1089360"/>
          </a:xfrm>
          <a:prstGeom prst="wedgeRoundRectCallout">
            <a:avLst>
              <a:gd name="adj1" fmla="val 129189"/>
              <a:gd name="adj2" fmla="val 17851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Higher Resolution; note the “Sharpness” of the Im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857840" y="4786200"/>
            <a:ext cx="2643120" cy="759960"/>
          </a:xfrm>
          <a:prstGeom prst="wedgeRoundRectCallout">
            <a:avLst>
              <a:gd name="adj1" fmla="val -118486"/>
              <a:gd name="adj2" fmla="val 6106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Lower Resolution; it is less shar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 rot="16200000">
            <a:off x="-2774160" y="3139560"/>
            <a:ext cx="64854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46d0"/>
                </a:solidFill>
                <a:latin typeface="Arial"/>
              </a:rPr>
              <a:t>Which image is least resolv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6200000">
            <a:off x="-2597040" y="3120840"/>
            <a:ext cx="659916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Arial"/>
              </a:rPr>
              <a:t>Oil Immersion Increases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03_03"/>
          <p:cNvPicPr/>
          <p:nvPr/>
        </p:nvPicPr>
        <p:blipFill>
          <a:blip r:embed="rId1"/>
          <a:stretch/>
        </p:blipFill>
        <p:spPr>
          <a:xfrm>
            <a:off x="1449360" y="212760"/>
            <a:ext cx="4822920" cy="6399000"/>
          </a:xfrm>
          <a:prstGeom prst="rect">
            <a:avLst/>
          </a:prstGeom>
          <a:ln w="38160">
            <a:solidFill>
              <a:srgbClr val="7b46d0"/>
            </a:solidFill>
            <a:miter/>
          </a:ln>
        </p:spPr>
      </p:pic>
      <p:sp>
        <p:nvSpPr>
          <p:cNvPr id="310" name="AutoShape 4"/>
          <p:cNvSpPr/>
          <p:nvPr/>
        </p:nvSpPr>
        <p:spPr>
          <a:xfrm>
            <a:off x="5900760" y="4145040"/>
            <a:ext cx="3100320" cy="1418040"/>
          </a:xfrm>
          <a:prstGeom prst="wedgeRoundRectCallout">
            <a:avLst>
              <a:gd name="adj1" fmla="val -107004"/>
              <a:gd name="adj2" fmla="val -12060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 Mineral Oil has the same Index of Refraction as glass (so light does not ben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5857920" y="1863720"/>
            <a:ext cx="3286080" cy="1089360"/>
          </a:xfrm>
          <a:prstGeom prst="wedgeRoundRectCallout">
            <a:avLst>
              <a:gd name="adj1" fmla="val -145615"/>
              <a:gd name="adj2" fmla="val 107745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ir has a different Index of Refraction from glass (so light bend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5143680" y="355680"/>
            <a:ext cx="3828960" cy="1089360"/>
          </a:xfrm>
          <a:prstGeom prst="wedgeRoundRectCallout">
            <a:avLst>
              <a:gd name="adj1" fmla="val -104587"/>
              <a:gd name="adj2" fmla="val 13657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ir has a different Index of Refraction from water (so light bend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1FC6-BE58-418E-9C1C-2334E695C9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67280" y="314172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4067280" y="2997360"/>
            <a:ext cx="115236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 rot="16200000">
            <a:off x="3570840" y="2866320"/>
            <a:ext cx="339840" cy="642600"/>
          </a:xfrm>
          <a:custGeom>
            <a:avLst/>
            <a:gdLst>
              <a:gd name="textAreaLeft" fmla="*/ 70560 w 339840"/>
              <a:gd name="textAreaRight" fmla="*/ 269280 w 339840"/>
              <a:gd name="textAreaTop" fmla="*/ 133920 h 642600"/>
              <a:gd name="textAreaBottom" fmla="*/ 50868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 rot="5148600">
            <a:off x="5373000" y="2851200"/>
            <a:ext cx="339480" cy="647640"/>
          </a:xfrm>
          <a:custGeom>
            <a:avLst/>
            <a:gdLst>
              <a:gd name="textAreaLeft" fmla="*/ 70560 w 339480"/>
              <a:gd name="textAreaRight" fmla="*/ 268920 w 339480"/>
              <a:gd name="textAreaTop" fmla="*/ 135000 h 647640"/>
              <a:gd name="textAreaBottom" fmla="*/ 513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419640" y="2131920"/>
            <a:ext cx="26640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5580000" y="2154240"/>
            <a:ext cx="2667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419640" y="3789360"/>
            <a:ext cx="242712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4140360" y="3716280"/>
            <a:ext cx="914400" cy="12384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4643280" y="335772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 flipV="1">
            <a:off x="4643280" y="3860280"/>
            <a:ext cx="216000" cy="5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V="1">
            <a:off x="4932360" y="3429000"/>
            <a:ext cx="503280" cy="28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4232160" y="3357720"/>
            <a:ext cx="411120" cy="358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4356000" y="1989000"/>
            <a:ext cx="115272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9226"/>
              <a:gd name="adj5" fmla="val 150981"/>
              <a:gd name="adj6" fmla="val -1914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 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5706360" y="3305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2342880" y="33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Saved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788000" y="38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Arial"/>
              </a:rPr>
              <a:t>speci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3854160" y="5589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 flipV="1">
            <a:off x="4068720" y="4437000"/>
            <a:ext cx="503280" cy="28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37"/>
          <p:cNvSpPr/>
          <p:nvPr/>
        </p:nvSpPr>
        <p:spPr>
          <a:xfrm flipH="1" flipV="1">
            <a:off x="4716360" y="4437000"/>
            <a:ext cx="503280" cy="287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38"/>
          <p:cNvSpPr/>
          <p:nvPr/>
        </p:nvSpPr>
        <p:spPr>
          <a:xfrm flipH="1" flipV="1">
            <a:off x="4427280" y="3860280"/>
            <a:ext cx="215640" cy="505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39"/>
          <p:cNvSpPr/>
          <p:nvPr/>
        </p:nvSpPr>
        <p:spPr>
          <a:xfrm flipH="1" flipV="1">
            <a:off x="4211640" y="3284640"/>
            <a:ext cx="216000" cy="504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A230-A8B9-490D-9E61-8110BE9BC56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WordArt 5"/>
          <p:cNvSpPr txBox="1"/>
          <p:nvPr/>
        </p:nvSpPr>
        <p:spPr>
          <a:xfrm>
            <a:off x="2362320" y="91440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C02-81B0-4AD1-B41A-B73D8A134A7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tructions and R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267920"/>
            <a:ext cx="5186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ating or drin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coat &amp; mark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Aseptic technique.</a:t>
            </a:r>
            <a:r>
              <a:rPr b="0" lang="en-US" sz="2800" spc="-1" strike="noStrike">
                <a:solidFill>
                  <a:srgbClr val="45c984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40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es must be dis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993366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iscarded cultures &amp; infectious materials and broken or spilled living culture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عنصر نائب للمحتوى 7" descr="no eating or drinking.jpg"/>
          <p:cNvPicPr/>
          <p:nvPr/>
        </p:nvPicPr>
        <p:blipFill>
          <a:blip r:embed="rId1"/>
          <a:stretch/>
        </p:blipFill>
        <p:spPr>
          <a:xfrm>
            <a:off x="5643720" y="2351160"/>
            <a:ext cx="3043080" cy="279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t2.gstatic.com/images?q=tbn:fdECLjItJxRrxM:http://images.clipartof.com/small/26501-Clipart-Illustration-Of-A-Friendly-Male-Doctor-Wearing-A-Head-Lamp-Stethoscope-And-Lab-Coat-Holding-His-Arms-Ou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2080" y="2357280"/>
            <a:ext cx="3071880" cy="2786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عنصر نائب لرقم الشريحة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D3C-4704-4DC7-8158-699B6C8659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of each lab chec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Gas tap is turned of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Water tap is closed proper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Microscope lamp is turned of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Finally wash your hands thorough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Objective Lenses and Stage CropSuite"/>
          <p:cNvPicPr/>
          <p:nvPr/>
        </p:nvPicPr>
        <p:blipFill>
          <a:blip r:embed="rId4"/>
          <a:stretch/>
        </p:blipFill>
        <p:spPr>
          <a:xfrm>
            <a:off x="5786280" y="1857240"/>
            <a:ext cx="2995920" cy="2917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Gases on tap (Credit: David Bradley)"/>
          <p:cNvPicPr/>
          <p:nvPr/>
        </p:nvPicPr>
        <p:blipFill>
          <a:blip r:embed="rId5"/>
          <a:stretch/>
        </p:blipFill>
        <p:spPr>
          <a:xfrm>
            <a:off x="5786280" y="178596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wateruseitwisely.com/blog/wp-content/uploads/2009/02/tap-water.jpg"/>
          <p:cNvPicPr/>
          <p:nvPr/>
        </p:nvPicPr>
        <p:blipFill>
          <a:blip r:embed="rId6"/>
          <a:stretch/>
        </p:blipFill>
        <p:spPr>
          <a:xfrm>
            <a:off x="5643720" y="1714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7"/>
          <a:stretch/>
        </p:blipFill>
        <p:spPr>
          <a:xfrm>
            <a:off x="5500800" y="1714680"/>
            <a:ext cx="3429000" cy="328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wash hands"/>
          <p:cNvPicPr/>
          <p:nvPr/>
        </p:nvPicPr>
        <p:blipFill>
          <a:blip r:embed="rId8"/>
          <a:stretch/>
        </p:blipFill>
        <p:spPr>
          <a:xfrm>
            <a:off x="4929120" y="164304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05D-F2D3-4DA1-81BB-B193599598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Microbiological Equipments and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2249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e400"/>
                </a:solidFill>
                <a:latin typeface="Arial"/>
              </a:rPr>
              <a:t>Medium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❊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tificial preparation contains the essential elements and nutrients needed by the m.o to grow (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e med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عنصر نائب للمحتوى 4" descr="Culture_media.jpg"/>
          <p:cNvPicPr/>
          <p:nvPr/>
        </p:nvPicPr>
        <p:blipFill>
          <a:blip r:embed="rId1"/>
          <a:stretch/>
        </p:blipFill>
        <p:spPr>
          <a:xfrm>
            <a:off x="3714840" y="3786120"/>
            <a:ext cx="5214960" cy="2859120"/>
          </a:xfrm>
          <a:prstGeom prst="rect">
            <a:avLst/>
          </a:prstGeom>
          <a:ln w="0">
            <a:noFill/>
          </a:ln>
        </p:spPr>
      </p:pic>
      <p:sp>
        <p:nvSpPr>
          <p:cNvPr id="196" name="عنصر نائب لرقم الشريحة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9BC-DE62-4319-A7CD-6A11207D038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مستطيل 5"/>
          <p:cNvSpPr/>
          <p:nvPr/>
        </p:nvSpPr>
        <p:spPr>
          <a:xfrm>
            <a:off x="357120" y="1714680"/>
            <a:ext cx="85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t may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(bro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(containing aga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solid (containing low conc. of a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798E-5CC8-402B-8002-9E5524D02C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Microbiological Equipments and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Inocul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ulturing of sterile media with m.o [Inoculation loop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ub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cing the culture into the incubator at optimum temperature for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Steri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ee from any living microorganism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ntamin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roduction of undesirable m.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678B-0D97-467D-82FF-45D10F06571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Steril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lling or removal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l liv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-organisms (from a particular location or material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Sterile articl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ly free of all living micro-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Disinfec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ruction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getative conspir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icro-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1:22:45Z</dcterms:created>
  <dc:creator>user</dc:creator>
  <dc:description/>
  <dc:language>en-US</dc:language>
  <cp:lastModifiedBy>rihaf</cp:lastModifiedBy>
  <dcterms:modified xsi:type="dcterms:W3CDTF">2014-02-11T07:08:48Z</dcterms:modified>
  <cp:revision>99</cp:revision>
  <dc:subject/>
  <dc:title>381 PHT</dc:title>
</cp:coreProperties>
</file>