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FB0-C6D8-4CF0-8303-2E043FBB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E987-3FA2-46B9-B13E-D057C1FF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6EEF9-39D3-4333-B68F-2E87ACDB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B6060-D976-4DF7-B42E-040F10EB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CC3F7-7F75-4918-ADC3-69EC40A7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72610-F4A7-42F4-95A9-012DF03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63477-865B-49C9-8F4E-A169CEF9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11270-041B-4364-8ADA-614455A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4C68E-A8A8-4221-A0FD-9669BDA0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F2C8D-AF06-4709-8066-977B89F3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BFF91-D9A3-439B-B30A-26D6E842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A93C6-B0BB-4D73-B26A-3A4BDDFD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A4C-3484-4D40-B3B9-F6859B44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7E5B2-C9B5-4B9B-B3A2-842B659A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BC28D-1823-449F-B559-6E32EB31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EDBD5-2D8C-4307-B606-A3EF4C8D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169A2-0ECA-43EA-9F1E-6736B490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A9159-C548-482D-B081-4ABB7D0E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21AFC-64C7-4A4E-A34A-557C0EA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02941-C313-4162-ABB1-5C7DAD11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4F18E-E895-4C16-AE00-ADC3E78F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0F9F9-E6AA-413A-80AA-C398D808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4F47B-1702-488B-BE42-054355F8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A253-E72C-4F24-9A50-88C8AFB1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1D3CD-E63A-4B84-9301-7BBE65C8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4B11A-CC66-40BB-AC33-B544265B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48E4B-44B8-4418-982F-0D8DDB05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E849F-232F-492C-B4B3-55E5A97E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CC915-ED94-4824-B949-DA729AC9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1DE2F-9F50-47CD-A53C-4D0AE4C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560A8-E974-4CE2-8C13-08342803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264CF-773B-47AD-9283-73C154F9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51940-9187-4A5D-B98A-C4D2B58C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393B2-A8C4-495A-A550-4E02E65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4DC3-4A42-458E-B947-E8F7A2AD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44945-4A4E-4BAE-B659-E0C2D8E3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FE1E6-1AC1-4389-BD88-52589531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DFB4E-A8E0-41DE-A658-85C884D2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00A47-02CD-4CB9-AAE5-3220EFD2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2600A-8B58-4BAD-9691-15632CF9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8ED12-74FF-4D83-A745-E8173765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FFB2F-C098-4539-894F-3A9A1553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4CA4B-A9AE-48B5-9C5E-04F180C5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9D381-2B84-436D-B458-F9557F66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5DB65-17E5-47A6-8693-EF450BF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9183-EC9F-4718-9D5D-F4F76827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FCA8C-0370-49BE-9F9B-1430BDE0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5172E-365E-45A6-9EAF-104E93F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A34D2-44B1-4E68-873D-720DBEEF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9F8C25-0318-4D28-8775-50947C9F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B9011-8DF4-4E86-ACF4-E15C8396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3ADB-4177-4CFF-BD3C-595BFEB7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5C38-3C53-42AA-8A5F-2D9B3C17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D292-F18F-4521-8099-2A91ED9E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F0CD4-AC34-4720-B361-A3B2735D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8F89-4EB8-4131-9B05-6263706C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6AA-24D5-4C6F-A8A8-077E3470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6220-D027-4AC3-89EF-E59B0E84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EAE7-4191-4625-8999-BE5BA6DC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D90F-07CA-40D2-B000-28D2CCB4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85AC-9705-4D5B-9F2F-E0D85D2A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1020-0807-4D91-84F2-4F77DC0C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508EA-1D76-4F4B-997E-47A81E57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AA3D-C6DE-4F09-A6A3-2749D5C0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01FA-7B94-487B-9467-615F3BC9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91FA5-A8BC-4F14-AE8C-F6D81907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714E1-006E-4A71-9064-D0D70BD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EB7-5003-47F2-BF4A-FA44F5E3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1172-6E01-4D95-BE99-7052DA6C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EB6E-46A6-4BEF-A8AA-569258DD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3D01-7B5F-458E-B952-71FE16A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9983-FF51-458D-B4F2-08B50733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3D7F-40FD-4AB9-8DB4-85043873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86F55-1BAF-45B7-8986-544BC0DE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8C8ED-3F55-4DDC-8001-C0CAEE96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A2B8-962D-4D9A-A501-B7346661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4D20-8C16-4485-BFC3-5D95391A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ADAA-1C1F-40B4-915A-FD0E7A19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0AF-1C4A-4940-B359-4FAA9A97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860A-F6A4-41D7-BD3E-EA3D4B46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FD3A4-AE4F-4F93-93FE-94F3CF86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D8BF-E83F-4714-88C6-D7A8CB6A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86120-5275-4E3F-8BD5-0AA212C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211D-367A-4089-9085-81C34912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17414-B9EC-4EE3-B0EF-A8908493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50A8-CB91-44B0-9DD9-19D8C76E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61621-FBE0-4A77-830A-51828DD4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5E60A-E992-4018-BB17-3049E162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D783F-0E4C-43DC-B282-F9E1B1D3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CF7-36F5-4FDC-AC28-513B3722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11A42-B21E-40D4-8E47-798C29B5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2AC7B-B596-43FE-AE51-7C272008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0F7A-DCFD-4FF8-A14E-52C6CD2B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8DE3-8EEB-45B8-B699-6A1DCB81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F8FA6-8967-4F18-A884-60FC6E16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1F6A5-7FFD-44A3-8698-1050A987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53D3E-BFB1-4C92-8CF3-D801233A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50AF0-8BB4-4327-9003-6417785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C42A2-1475-4CED-A4A1-1DD4CF6B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217D1-C534-4BB5-841A-140CCFF8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23A-771F-4914-B7AC-E488AA2F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D0DA6-5982-48A9-9241-0EAF6414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629DB-4942-4028-8443-10CE748D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C94A-6399-4723-BE22-21B50E4F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5FE4A-FE20-4388-A678-35F2218A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1AE44-E2A8-431B-AC94-8D9FA7BF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C2C34-E6AD-451E-82FE-023601D9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7DE2-4EE7-49F1-BD3E-1927345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28E85-7223-483C-8749-F014A1EC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D9A70-709F-4E5E-BCBF-8FEAB881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CC9AF-8865-479F-A879-845FF55F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D3B-29EC-4316-9E20-C2F9866F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0ADDA-15A1-41E9-B30D-E6FC14BF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9FF75-F1DB-4EF0-9FE4-4AE2DDC1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71FD-8B7C-48FC-BC32-F0078EA0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6B54D-A485-43DC-B890-04771418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03635-DB27-4216-9891-7B0DABCA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981BD-95EF-40B6-AABB-3500F356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3B1F4-9D69-4B24-97A6-E22F0B88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4ECF1-8AFD-48D3-99F5-D6991CF0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AC925-7A61-4511-B983-824C680A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91387-F284-4961-B524-0DD7CC1C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C70-67A7-4D70-9202-516D3902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D1849-F7C3-41D3-B1D0-969EB960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9F3C0-5891-4D9F-B0D1-75FD97C6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E17E4-ADFB-4DA8-AE08-CE1A391A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0C350-7475-44A4-8CD5-D3908715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4B10F-2E83-42AC-AF58-DE8C7A7B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E5FA6-BEE1-4DEC-AD4F-24444927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36BBB-0B67-45CB-AAF8-1BC173E9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57AC3-7A99-4F9A-8D24-14196A10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EDC3A-6368-4D46-B413-AF56D34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AC023-8FC8-41F0-9D0C-1F256F73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DA76-789B-4E6C-9689-5051306E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0E4E9-467B-471C-9F64-6195CAC6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AFF16-EB6C-4AED-8C83-770EB86B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8481A-EFA9-4CD4-A871-49D71B6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AB6A4-E3D4-44CB-B820-D84C60FD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585C2-13D1-462E-BCAA-35C21B5F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E811D-5A93-4C40-963D-950D4706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97BA7-30B6-4085-A5DC-EE45A512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ED04D-1026-4783-98DA-23B9FF48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7F0EA-5BA0-4A3E-A9C7-5E3C4790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55D9F-6E9A-413A-9000-C0562262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C94A-A038-4FCD-AD9C-12E094F359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AD7B-3398-4A05-8256-F3D9ED0E7E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E857-A71C-43ED-BAAE-DCAE791537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0E22-E172-4E68-9840-235279492D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28E6-8F67-4855-8B64-915583699B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A5FB-197F-40D1-A970-5F5A4728A7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EA83-50E5-40C1-8E54-84FCDDA740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91C1-F2C1-432B-8ED4-02CE5DDD02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8049-7039-4010-B3E4-CAD7A4013D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A44E-A176-4E10-AF25-EE178899DA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2A02-481E-4500-83B5-056F2FD519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F65A-0AB3-4E1F-A84C-4F7ED7EEFA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5"/>
          <p:cNvSpPr/>
          <p:nvPr/>
        </p:nvSpPr>
        <p:spPr>
          <a:xfrm>
            <a:off x="714240" y="1928880"/>
            <a:ext cx="1714680" cy="18572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ربع نص 4"/>
          <p:cNvSpPr/>
          <p:nvPr/>
        </p:nvSpPr>
        <p:spPr>
          <a:xfrm>
            <a:off x="179280" y="1849320"/>
            <a:ext cx="259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مجموعة 32"/>
          <p:cNvGrpSpPr/>
          <p:nvPr/>
        </p:nvGrpSpPr>
        <p:grpSpPr>
          <a:xfrm>
            <a:off x="2124000" y="-1270080"/>
            <a:ext cx="7993080" cy="4770360"/>
            <a:chOff x="2124000" y="-1270080"/>
            <a:chExt cx="7993080" cy="4770360"/>
          </a:xfrm>
        </p:grpSpPr>
        <p:sp>
          <p:nvSpPr>
            <p:cNvPr id="663" name="AutoShape 8"/>
            <p:cNvSpPr/>
            <p:nvPr/>
          </p:nvSpPr>
          <p:spPr>
            <a:xfrm>
              <a:off x="2916000" y="-127008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مستطيل 9"/>
            <p:cNvSpPr/>
            <p:nvPr/>
          </p:nvSpPr>
          <p:spPr>
            <a:xfrm>
              <a:off x="2124000" y="1322280"/>
              <a:ext cx="4885920" cy="576000"/>
            </a:xfrm>
            <a:prstGeom prst="rect">
              <a:avLst/>
            </a:prstGeom>
            <a:solidFill>
              <a:srgbClr val="e6189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مربع نص 17"/>
            <p:cNvSpPr/>
            <p:nvPr/>
          </p:nvSpPr>
          <p:spPr>
            <a:xfrm>
              <a:off x="2637720" y="140868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حديد المستهلكين المستهدف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8"/>
          <p:cNvSpPr/>
          <p:nvPr/>
        </p:nvSpPr>
        <p:spPr>
          <a:xfrm>
            <a:off x="1285920" y="417600"/>
            <a:ext cx="6572160" cy="52056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  <a:cs typeface="PT Bold Heading"/>
              </a:rPr>
              <a:t>مراحل تنفيذ الاتصالات الترويج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مجموعة 32"/>
          <p:cNvGrpSpPr/>
          <p:nvPr/>
        </p:nvGrpSpPr>
        <p:grpSpPr>
          <a:xfrm>
            <a:off x="2124000" y="-404640"/>
            <a:ext cx="7993080" cy="4770360"/>
            <a:chOff x="2124000" y="-404640"/>
            <a:chExt cx="7993080" cy="4770360"/>
          </a:xfrm>
        </p:grpSpPr>
        <p:sp>
          <p:nvSpPr>
            <p:cNvPr id="668" name="AutoShape 8"/>
            <p:cNvSpPr/>
            <p:nvPr/>
          </p:nvSpPr>
          <p:spPr>
            <a:xfrm>
              <a:off x="2916000" y="-40464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مستطيل 9"/>
            <p:cNvSpPr/>
            <p:nvPr/>
          </p:nvSpPr>
          <p:spPr>
            <a:xfrm>
              <a:off x="2124000" y="2187720"/>
              <a:ext cx="4885920" cy="57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مربع نص 17"/>
            <p:cNvSpPr/>
            <p:nvPr/>
          </p:nvSpPr>
          <p:spPr>
            <a:xfrm>
              <a:off x="2637720" y="227412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حديد أهداف الاتصال الترويج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مجموعة 32"/>
          <p:cNvGrpSpPr/>
          <p:nvPr/>
        </p:nvGrpSpPr>
        <p:grpSpPr>
          <a:xfrm>
            <a:off x="2124000" y="458640"/>
            <a:ext cx="7993080" cy="4770720"/>
            <a:chOff x="2124000" y="458640"/>
            <a:chExt cx="7993080" cy="4770720"/>
          </a:xfrm>
        </p:grpSpPr>
        <p:sp>
          <p:nvSpPr>
            <p:cNvPr id="672" name="AutoShape 8"/>
            <p:cNvSpPr/>
            <p:nvPr/>
          </p:nvSpPr>
          <p:spPr>
            <a:xfrm>
              <a:off x="2916000" y="45864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مستطيل 9"/>
            <p:cNvSpPr/>
            <p:nvPr/>
          </p:nvSpPr>
          <p:spPr>
            <a:xfrm>
              <a:off x="2124000" y="3051000"/>
              <a:ext cx="4885920" cy="57600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مربع نص 17"/>
            <p:cNvSpPr/>
            <p:nvPr/>
          </p:nvSpPr>
          <p:spPr>
            <a:xfrm>
              <a:off x="2637720" y="313776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صميم الرسالة االترويج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مجموعة 32"/>
          <p:cNvGrpSpPr/>
          <p:nvPr/>
        </p:nvGrpSpPr>
        <p:grpSpPr>
          <a:xfrm>
            <a:off x="2124000" y="1322280"/>
            <a:ext cx="7993080" cy="4770720"/>
            <a:chOff x="2124000" y="1322280"/>
            <a:chExt cx="7993080" cy="4770720"/>
          </a:xfrm>
        </p:grpSpPr>
        <p:sp>
          <p:nvSpPr>
            <p:cNvPr id="676" name="AutoShape 8"/>
            <p:cNvSpPr/>
            <p:nvPr/>
          </p:nvSpPr>
          <p:spPr>
            <a:xfrm>
              <a:off x="2916000" y="1322280"/>
              <a:ext cx="720108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مستطيل 9"/>
            <p:cNvSpPr/>
            <p:nvPr/>
          </p:nvSpPr>
          <p:spPr>
            <a:xfrm>
              <a:off x="2124000" y="3914640"/>
              <a:ext cx="4885920" cy="57600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مربع نص 17"/>
            <p:cNvSpPr/>
            <p:nvPr/>
          </p:nvSpPr>
          <p:spPr>
            <a:xfrm>
              <a:off x="2637720" y="400140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ختيار وسيلة الاتصا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مجموعة 32"/>
          <p:cNvGrpSpPr/>
          <p:nvPr/>
        </p:nvGrpSpPr>
        <p:grpSpPr>
          <a:xfrm>
            <a:off x="2124000" y="1916280"/>
            <a:ext cx="7993080" cy="4770360"/>
            <a:chOff x="2124000" y="1916280"/>
            <a:chExt cx="7993080" cy="4770360"/>
          </a:xfrm>
        </p:grpSpPr>
        <p:sp>
          <p:nvSpPr>
            <p:cNvPr id="680" name="AutoShape 8"/>
            <p:cNvSpPr/>
            <p:nvPr/>
          </p:nvSpPr>
          <p:spPr>
            <a:xfrm>
              <a:off x="2916000" y="191628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مستطيل 9"/>
            <p:cNvSpPr/>
            <p:nvPr/>
          </p:nvSpPr>
          <p:spPr>
            <a:xfrm>
              <a:off x="2124000" y="4796640"/>
              <a:ext cx="4885920" cy="576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مربع نص 17"/>
            <p:cNvSpPr/>
            <p:nvPr/>
          </p:nvSpPr>
          <p:spPr>
            <a:xfrm>
              <a:off x="2637720" y="486864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ختيار مصدر الرسا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مجموعة 32"/>
          <p:cNvGrpSpPr/>
          <p:nvPr/>
        </p:nvGrpSpPr>
        <p:grpSpPr>
          <a:xfrm>
            <a:off x="2124000" y="3122640"/>
            <a:ext cx="7993080" cy="4770360"/>
            <a:chOff x="2124000" y="3122640"/>
            <a:chExt cx="7993080" cy="4770360"/>
          </a:xfrm>
        </p:grpSpPr>
        <p:sp>
          <p:nvSpPr>
            <p:cNvPr id="684" name="AutoShape 8"/>
            <p:cNvSpPr/>
            <p:nvPr/>
          </p:nvSpPr>
          <p:spPr>
            <a:xfrm>
              <a:off x="2916000" y="3122640"/>
              <a:ext cx="720108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مستطيل 9"/>
            <p:cNvSpPr/>
            <p:nvPr/>
          </p:nvSpPr>
          <p:spPr>
            <a:xfrm>
              <a:off x="2124000" y="5715000"/>
              <a:ext cx="4885920" cy="576000"/>
            </a:xfrm>
            <a:prstGeom prst="rect">
              <a:avLst/>
            </a:prstGeom>
            <a:solidFill>
              <a:srgbClr val="10ee3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مربع نص 17"/>
            <p:cNvSpPr/>
            <p:nvPr/>
          </p:nvSpPr>
          <p:spPr>
            <a:xfrm>
              <a:off x="2637720" y="5801400"/>
              <a:ext cx="40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لقي ردود الأفعا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87" name="رابط كسهم مستقيم 74"/>
          <p:cNvCxnSpPr>
            <a:endCxn id="669" idx="0"/>
          </p:cNvCxnSpPr>
          <p:nvPr/>
        </p:nvCxnSpPr>
        <p:spPr>
          <a:xfrm flipH="1">
            <a:off x="4566600" y="1916280"/>
            <a:ext cx="5400" cy="27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8" name="رابط كسهم مستقيم 75"/>
          <p:cNvCxnSpPr/>
          <p:nvPr/>
        </p:nvCxnSpPr>
        <p:spPr>
          <a:xfrm flipH="1">
            <a:off x="4571280" y="2770200"/>
            <a:ext cx="5400" cy="2707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9" name="رابط كسهم مستقيم 76"/>
          <p:cNvCxnSpPr/>
          <p:nvPr/>
        </p:nvCxnSpPr>
        <p:spPr>
          <a:xfrm flipH="1">
            <a:off x="4571280" y="3662280"/>
            <a:ext cx="5400" cy="2721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0" name="رابط كسهم مستقيم 77"/>
          <p:cNvCxnSpPr/>
          <p:nvPr/>
        </p:nvCxnSpPr>
        <p:spPr>
          <a:xfrm flipH="1">
            <a:off x="4571280" y="4527360"/>
            <a:ext cx="5400" cy="2703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91" name="رابط كسهم مستقيم 78"/>
          <p:cNvCxnSpPr/>
          <p:nvPr/>
        </p:nvCxnSpPr>
        <p:spPr>
          <a:xfrm flipH="1">
            <a:off x="4571280" y="5402160"/>
            <a:ext cx="5400" cy="27072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حديد المستهلكين المستهدف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مستطيل 4"/>
          <p:cNvSpPr/>
          <p:nvPr/>
        </p:nvSpPr>
        <p:spPr>
          <a:xfrm>
            <a:off x="928800" y="1125360"/>
            <a:ext cx="7345080" cy="71733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هم المستهلكون الذين لديهم </a:t>
            </a:r>
            <a:r>
              <a:rPr b="1" lang="ar-SA" sz="2800" spc="-1" strike="noStrike">
                <a:solidFill>
                  <a:srgbClr val="ff00ff"/>
                </a:solidFill>
                <a:latin typeface="Tahoma"/>
                <a:cs typeface="PT Bold Heading"/>
              </a:rPr>
              <a:t>حاجة ورغبة وقدرة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على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وهم الذين تريد الشركة </a:t>
            </a:r>
            <a:r>
              <a:rPr b="1" lang="ar-SA" sz="2800" spc="-1" strike="noStrike">
                <a:solidFill>
                  <a:srgbClr val="ff00ff"/>
                </a:solidFill>
                <a:latin typeface="Tahoma"/>
                <a:cs typeface="PT Bold Heading"/>
              </a:rPr>
              <a:t>مخاطبتهم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بالتروي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يتم التحديد عن طريق </a:t>
            </a:r>
            <a:r>
              <a:rPr b="1" lang="ar-SA" sz="2800" spc="-1" strike="noStrike">
                <a:solidFill>
                  <a:srgbClr val="ff00ff"/>
                </a:solidFill>
                <a:latin typeface="Tahoma"/>
                <a:cs typeface="PT Bold Heading"/>
              </a:rPr>
              <a:t>تجزئة السوق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لتحديد المستهلكين المستهدفين و</a:t>
            </a:r>
            <a:r>
              <a:rPr b="1" lang="ar-SA" sz="2800" spc="-1" strike="noStrike">
                <a:solidFill>
                  <a:srgbClr val="ff00ff"/>
                </a:solidFill>
                <a:latin typeface="Tahoma"/>
                <a:cs typeface="PT Bold Heading"/>
              </a:rPr>
              <a:t>دراسة سلوكياتهم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للتعرف على العوامل المؤثرة على قراراتهم الشر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 هذا التحديد مهم لبناء الرسالة واختيا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    وسيلة الاتصال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حديد أهداف الاتصال الترويج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مستطيل 4"/>
          <p:cNvSpPr/>
          <p:nvPr/>
        </p:nvSpPr>
        <p:spPr>
          <a:xfrm>
            <a:off x="928800" y="1255680"/>
            <a:ext cx="7345080" cy="4775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تعريف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إقناع المستهلك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بمزايا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حث المستهلك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على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تغلب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على المنافس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تذكير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لمستهلك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عزيز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قرار المستهلك ب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صميم الرسالة الترويج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مستطيل 4"/>
          <p:cNvSpPr/>
          <p:nvPr/>
        </p:nvSpPr>
        <p:spPr>
          <a:xfrm>
            <a:off x="900000" y="1125360"/>
            <a:ext cx="7345440" cy="61153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2d050"/>
                </a:solidFill>
                <a:latin typeface="Tahoma"/>
                <a:cs typeface="PT Bold Heading"/>
              </a:rPr>
              <a:t>تصميم الرسالة بما يتفق مع الهدف من الاتصال وخصائص المستهلكين المستهدف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يتضمن ذل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تصميم الرسالة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اللغة – الصورة – الألوان ....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هيكل الرسالة 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من ناحية الترت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مضمون الرسال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ahoma"/>
                <a:cs typeface="PT Bold Heading"/>
              </a:rPr>
              <a:t>عاطفية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: الشكل – الألوان – المظهر الاجتم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ahoma"/>
                <a:cs typeface="PT Bold Heading"/>
              </a:rPr>
              <a:t>عقلانية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: السعر – الجو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50"/>
                </a:solidFill>
                <a:latin typeface="Tahoma"/>
                <a:cs typeface="PT Bold Heading"/>
              </a:rPr>
              <a:t>أخلاقية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: الحفاظ على البيئة وموارد المجت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ختيار وسيلة الاتصال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مستطيل 4"/>
          <p:cNvSpPr/>
          <p:nvPr/>
        </p:nvSpPr>
        <p:spPr>
          <a:xfrm>
            <a:off x="900000" y="1195560"/>
            <a:ext cx="7345440" cy="60242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2d050"/>
                </a:solidFill>
                <a:latin typeface="Tahoma"/>
                <a:cs typeface="PT Bold Heading"/>
              </a:rPr>
              <a:t>القناة التي يتم عن طريقها توصيل الرسالة إلى المستهلكين المستهدف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أنواع وسائل الاتص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شخصية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مندوب البيع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غير شخصية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الجرائد – المجلات – التليفزيون ...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ختيار مُصدر الرسا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مستطيل 4"/>
          <p:cNvSpPr/>
          <p:nvPr/>
        </p:nvSpPr>
        <p:spPr>
          <a:xfrm>
            <a:off x="900000" y="1195560"/>
            <a:ext cx="7345440" cy="55371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cs typeface="PT Bold Heading"/>
              </a:rPr>
              <a:t>المصدر هو المتعهد الذي يتم التعاقد معه على إصدار الرسالة الإعلانية عن طريق وسيلته الاتص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جرائد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أي جريدة من الجرائد المتاحة محليا وعالميا؟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التليفزيون (</a:t>
            </a:r>
            <a:r>
              <a:rPr b="1" lang="ar-SA" sz="2800" spc="-1" strike="noStrike">
                <a:solidFill>
                  <a:srgbClr val="00b050"/>
                </a:solidFill>
                <a:latin typeface="Tahoma"/>
                <a:cs typeface="PT Bold Heading"/>
              </a:rPr>
              <a:t>أي قناة من القنوات المحلية والعالمية؟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جمع ردود الأفعا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مستطيل 4"/>
          <p:cNvSpPr/>
          <p:nvPr/>
        </p:nvSpPr>
        <p:spPr>
          <a:xfrm>
            <a:off x="900000" y="1195560"/>
            <a:ext cx="7345440" cy="48769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cs typeface="PT Bold Heading"/>
              </a:rPr>
              <a:t>جمع رد فعل الجمهور الذي تلقي الرسالة الاتصالية لتقييم فعالي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2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  <a:cs typeface="PT Bold Heading"/>
              </a:rPr>
              <a:t>وتطوير عملية الاتصال الت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998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تحديد ميزانية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مستطيل 4"/>
          <p:cNvSpPr/>
          <p:nvPr/>
        </p:nvSpPr>
        <p:spPr>
          <a:xfrm>
            <a:off x="900000" y="1238400"/>
            <a:ext cx="7345440" cy="5153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Tahoma"/>
                <a:cs typeface="PT Bold Heading"/>
              </a:rPr>
              <a:t>وهي الميزانية التي يتم الصرف منها على الأنشطة التروي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61893"/>
                </a:solidFill>
                <a:latin typeface="Tahoma"/>
                <a:cs typeface="PT Bold Heading"/>
              </a:rPr>
              <a:t>وهناك عدة طرق لتحديد ميزانية الترويج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2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1</a:t>
            </a: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- نسبة من المبيعات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2</a:t>
            </a: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- الاقتداء بالمنافس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3</a:t>
            </a: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- حسب الإمك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4</a:t>
            </a:r>
            <a:r>
              <a:rPr b="1" lang="ar-SA" sz="3200" spc="-1" strike="noStrike">
                <a:solidFill>
                  <a:srgbClr val="0070c0"/>
                </a:solidFill>
                <a:latin typeface="Tahoma"/>
                <a:ea typeface="PT Bold Heading"/>
              </a:rPr>
              <a:t>- حسب المهام التروي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8"/>
          <p:cNvSpPr/>
          <p:nvPr/>
        </p:nvSpPr>
        <p:spPr>
          <a:xfrm>
            <a:off x="571680" y="27082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مستطيل 4"/>
          <p:cNvSpPr/>
          <p:nvPr/>
        </p:nvSpPr>
        <p:spPr>
          <a:xfrm>
            <a:off x="928800" y="1177920"/>
            <a:ext cx="7345080" cy="520560"/>
          </a:xfrm>
          <a:prstGeom prst="rect">
            <a:avLst/>
          </a:prstGeom>
          <a:solidFill>
            <a:srgbClr val="10ee3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دف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مستطيل 3"/>
          <p:cNvSpPr/>
          <p:nvPr/>
        </p:nvSpPr>
        <p:spPr>
          <a:xfrm>
            <a:off x="900000" y="1916280"/>
            <a:ext cx="7345440" cy="68990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PT Bold Heading"/>
              </a:rPr>
              <a:t> يقوم المنتج بالترويج لتاجر الجملة ، فيطلب تاج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PT Bold Heading"/>
              </a:rPr>
              <a:t>    الجملة البضاعة من المنتج 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ثم يقوم تاجر الجملة بالترويج لتاجر التجزئ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فيطلب تاجر التجزئة البضاعة من تاجر الجمل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ea typeface="PT Bold Heading"/>
              </a:rPr>
              <a:t> ثم يقوم تاجر التجزئة بالترويج للمستهلك، فيطل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ea typeface="PT Bold Heading"/>
              </a:rPr>
              <a:t>    المستهلك البضاعة من تاجر التجزئة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رابط كسهم مستقيم 19"/>
          <p:cNvCxnSpPr>
            <a:stCxn id="587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7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8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9" name="رابط كسهم مستقيم 27"/>
          <p:cNvCxnSpPr>
            <a:stCxn id="591" idx="0"/>
            <a:endCxn id="590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00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8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رابط كسهم مستقيم 48"/>
          <p:cNvCxnSpPr>
            <a:endCxn id="591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2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17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18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19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6"/>
          <p:cNvSpPr/>
          <p:nvPr/>
        </p:nvSpPr>
        <p:spPr>
          <a:xfrm flipH="1">
            <a:off x="707076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نت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7"/>
          <p:cNvSpPr/>
          <p:nvPr/>
        </p:nvSpPr>
        <p:spPr>
          <a:xfrm flipH="1">
            <a:off x="4932360" y="29973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28"/>
          <p:cNvSpPr/>
          <p:nvPr/>
        </p:nvSpPr>
        <p:spPr>
          <a:xfrm flipH="1">
            <a:off x="245736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تجزئ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9"/>
          <p:cNvSpPr/>
          <p:nvPr/>
        </p:nvSpPr>
        <p:spPr>
          <a:xfrm flipH="1">
            <a:off x="304920" y="2995560"/>
            <a:ext cx="184464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1"/>
          <p:cNvSpPr/>
          <p:nvPr/>
        </p:nvSpPr>
        <p:spPr>
          <a:xfrm flipH="1">
            <a:off x="6762600" y="3605040"/>
            <a:ext cx="3081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2"/>
          <p:cNvSpPr/>
          <p:nvPr/>
        </p:nvSpPr>
        <p:spPr>
          <a:xfrm flipH="1">
            <a:off x="4301640" y="3605040"/>
            <a:ext cx="615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3"/>
          <p:cNvSpPr/>
          <p:nvPr/>
        </p:nvSpPr>
        <p:spPr>
          <a:xfrm flipH="1">
            <a:off x="2149200" y="3605040"/>
            <a:ext cx="30780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3"/>
          <p:cNvSpPr/>
          <p:nvPr/>
        </p:nvSpPr>
        <p:spPr>
          <a:xfrm flipH="1">
            <a:off x="6372000" y="4581360"/>
            <a:ext cx="165564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9" name="رابط كسهم مستقيم 26"/>
          <p:cNvCxnSpPr/>
          <p:nvPr/>
        </p:nvCxnSpPr>
        <p:spPr>
          <a:xfrm flipH="1">
            <a:off x="636984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cxnSp>
        <p:nvCxnSpPr>
          <p:cNvPr id="720" name="رابط كسهم مستقيم 27"/>
          <p:cNvCxnSpPr/>
          <p:nvPr/>
        </p:nvCxnSpPr>
        <p:spPr>
          <a:xfrm flipH="1">
            <a:off x="802620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721" name="رابط كسهم مستقيم 28"/>
          <p:cNvCxnSpPr/>
          <p:nvPr/>
        </p:nvCxnSpPr>
        <p:spPr>
          <a:xfrm flipH="1">
            <a:off x="536328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722" name="رابط كسهم مستقيم 29"/>
          <p:cNvCxnSpPr/>
          <p:nvPr/>
        </p:nvCxnSpPr>
        <p:spPr>
          <a:xfrm flipH="1">
            <a:off x="377964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723" name="Line 43"/>
          <p:cNvSpPr/>
          <p:nvPr/>
        </p:nvSpPr>
        <p:spPr>
          <a:xfrm flipH="1">
            <a:off x="3780000" y="4581360"/>
            <a:ext cx="158400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رابط كسهم مستقيم 31"/>
          <p:cNvCxnSpPr/>
          <p:nvPr/>
        </p:nvCxnSpPr>
        <p:spPr>
          <a:xfrm flipH="1">
            <a:off x="2986920" y="4149360"/>
            <a:ext cx="252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cxnSp>
        <p:nvCxnSpPr>
          <p:cNvPr id="725" name="رابط كسهم مستقيم 32"/>
          <p:cNvCxnSpPr/>
          <p:nvPr/>
        </p:nvCxnSpPr>
        <p:spPr>
          <a:xfrm flipH="1">
            <a:off x="125856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726" name="Line 43"/>
          <p:cNvSpPr/>
          <p:nvPr/>
        </p:nvSpPr>
        <p:spPr>
          <a:xfrm flipH="1">
            <a:off x="1258920" y="4581360"/>
            <a:ext cx="1728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مربع نص 34"/>
          <p:cNvSpPr/>
          <p:nvPr/>
        </p:nvSpPr>
        <p:spPr>
          <a:xfrm>
            <a:off x="680400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مربع نص 35"/>
          <p:cNvSpPr/>
          <p:nvPr/>
        </p:nvSpPr>
        <p:spPr>
          <a:xfrm>
            <a:off x="406728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مربع نص 36"/>
          <p:cNvSpPr/>
          <p:nvPr/>
        </p:nvSpPr>
        <p:spPr>
          <a:xfrm>
            <a:off x="1619280" y="501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ترويج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رابط كسهم مستقيم 37"/>
          <p:cNvCxnSpPr/>
          <p:nvPr/>
        </p:nvCxnSpPr>
        <p:spPr>
          <a:xfrm flipH="1">
            <a:off x="630000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31" name="Line 43"/>
          <p:cNvSpPr/>
          <p:nvPr/>
        </p:nvSpPr>
        <p:spPr>
          <a:xfrm flipH="1">
            <a:off x="6372000" y="2565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رابط كسهم مستقيم 39"/>
          <p:cNvCxnSpPr/>
          <p:nvPr/>
        </p:nvCxnSpPr>
        <p:spPr>
          <a:xfrm flipH="1">
            <a:off x="8027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33" name="مربع نص 40"/>
          <p:cNvSpPr/>
          <p:nvPr/>
        </p:nvSpPr>
        <p:spPr>
          <a:xfrm>
            <a:off x="6659640" y="2050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رابط كسهم مستقيم 41"/>
          <p:cNvCxnSpPr/>
          <p:nvPr/>
        </p:nvCxnSpPr>
        <p:spPr>
          <a:xfrm flipH="1">
            <a:off x="536220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35" name="Line 43"/>
          <p:cNvSpPr/>
          <p:nvPr/>
        </p:nvSpPr>
        <p:spPr>
          <a:xfrm flipH="1">
            <a:off x="3780000" y="256536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6" name="رابط كسهم مستقيم 43"/>
          <p:cNvCxnSpPr/>
          <p:nvPr/>
        </p:nvCxnSpPr>
        <p:spPr>
          <a:xfrm flipH="1">
            <a:off x="3779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37" name="مربع نص 44"/>
          <p:cNvSpPr/>
          <p:nvPr/>
        </p:nvSpPr>
        <p:spPr>
          <a:xfrm>
            <a:off x="399564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8" name="رابط كسهم مستقيم 45"/>
          <p:cNvCxnSpPr/>
          <p:nvPr/>
        </p:nvCxnSpPr>
        <p:spPr>
          <a:xfrm flipH="1">
            <a:off x="298692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39" name="Line 43"/>
          <p:cNvSpPr/>
          <p:nvPr/>
        </p:nvSpPr>
        <p:spPr>
          <a:xfrm flipH="1">
            <a:off x="1258920" y="256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رابط كسهم مستقيم 47"/>
          <p:cNvCxnSpPr/>
          <p:nvPr/>
        </p:nvCxnSpPr>
        <p:spPr>
          <a:xfrm flipH="1">
            <a:off x="125856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41" name="مربع نص 48"/>
          <p:cNvSpPr/>
          <p:nvPr/>
        </p:nvSpPr>
        <p:spPr>
          <a:xfrm>
            <a:off x="161928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رابط كسهم مستقيم 50"/>
          <p:cNvCxnSpPr/>
          <p:nvPr/>
        </p:nvCxnSpPr>
        <p:spPr>
          <a:xfrm flipH="1" flipV="1">
            <a:off x="7379640" y="6237000"/>
            <a:ext cx="577080" cy="21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3" name="مربع نص 51"/>
          <p:cNvSpPr/>
          <p:nvPr/>
        </p:nvSpPr>
        <p:spPr>
          <a:xfrm>
            <a:off x="5781600" y="6049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دفق سل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مستطيل 53"/>
          <p:cNvSpPr/>
          <p:nvPr/>
        </p:nvSpPr>
        <p:spPr>
          <a:xfrm>
            <a:off x="928800" y="1197000"/>
            <a:ext cx="7345080" cy="520560"/>
          </a:xfrm>
          <a:prstGeom prst="rect">
            <a:avLst/>
          </a:prstGeom>
          <a:solidFill>
            <a:srgbClr val="10ee3a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دف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8"/>
          <p:cNvSpPr/>
          <p:nvPr/>
        </p:nvSpPr>
        <p:spPr>
          <a:xfrm>
            <a:off x="684360" y="26028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مستطيل 4"/>
          <p:cNvSpPr/>
          <p:nvPr/>
        </p:nvSpPr>
        <p:spPr>
          <a:xfrm>
            <a:off x="928800" y="981000"/>
            <a:ext cx="73450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ستراتيجية الس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مستطيل 3"/>
          <p:cNvSpPr/>
          <p:nvPr/>
        </p:nvSpPr>
        <p:spPr>
          <a:xfrm>
            <a:off x="900000" y="1628640"/>
            <a:ext cx="7345440" cy="55177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PT Bold Heading"/>
              </a:rPr>
              <a:t> يقوم المنتج بالترويج للمستهلك مباشرة ، فيطلب المستهلك البضاعة من تاجر التجزئة 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ثم يقوم تاجر التجزئة البضاعة من تاجر الجملة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ea typeface="PT Bold Heading"/>
              </a:rPr>
              <a:t> ثم يقوم تاجر الجملة بطلب البضاعة من المنتج، ويستلمها من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ea typeface="PT Bold Heading"/>
              </a:rPr>
              <a:t> يقوم تاجر التجزئة باستلام البضاعة من تاجر الجملة، فيسلمها بدوره للمسته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6"/>
          <p:cNvSpPr/>
          <p:nvPr/>
        </p:nvSpPr>
        <p:spPr>
          <a:xfrm flipH="1">
            <a:off x="707076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نت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7"/>
          <p:cNvSpPr/>
          <p:nvPr/>
        </p:nvSpPr>
        <p:spPr>
          <a:xfrm flipH="1">
            <a:off x="4932360" y="29973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ج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28"/>
          <p:cNvSpPr/>
          <p:nvPr/>
        </p:nvSpPr>
        <p:spPr>
          <a:xfrm flipH="1">
            <a:off x="245736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تاجر التجزئ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9"/>
          <p:cNvSpPr/>
          <p:nvPr/>
        </p:nvSpPr>
        <p:spPr>
          <a:xfrm flipH="1">
            <a:off x="304920" y="2995560"/>
            <a:ext cx="1844640" cy="1143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Times New Roman (Arabic)"/>
              </a:rPr>
              <a:t>المستهل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1"/>
          <p:cNvSpPr/>
          <p:nvPr/>
        </p:nvSpPr>
        <p:spPr>
          <a:xfrm flipH="1">
            <a:off x="6762600" y="3605040"/>
            <a:ext cx="3081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32"/>
          <p:cNvSpPr/>
          <p:nvPr/>
        </p:nvSpPr>
        <p:spPr>
          <a:xfrm flipH="1">
            <a:off x="4301640" y="3605040"/>
            <a:ext cx="61596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3"/>
          <p:cNvSpPr/>
          <p:nvPr/>
        </p:nvSpPr>
        <p:spPr>
          <a:xfrm flipH="1">
            <a:off x="2149200" y="3605040"/>
            <a:ext cx="307800" cy="0"/>
          </a:xfrm>
          <a:prstGeom prst="line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43"/>
          <p:cNvSpPr/>
          <p:nvPr/>
        </p:nvSpPr>
        <p:spPr>
          <a:xfrm flipH="1">
            <a:off x="5364000" y="4581360"/>
            <a:ext cx="266400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7" name="رابط كسهم مستقيم 27"/>
          <p:cNvCxnSpPr/>
          <p:nvPr/>
        </p:nvCxnSpPr>
        <p:spPr>
          <a:xfrm flipH="1">
            <a:off x="802620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</a:ln>
        </p:spPr>
      </p:cxnSp>
      <p:sp>
        <p:nvSpPr>
          <p:cNvPr id="758" name="Line 43"/>
          <p:cNvSpPr/>
          <p:nvPr/>
        </p:nvSpPr>
        <p:spPr>
          <a:xfrm flipH="1">
            <a:off x="3059280" y="4581360"/>
            <a:ext cx="2304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رابط كسهم مستقيم 32"/>
          <p:cNvCxnSpPr/>
          <p:nvPr/>
        </p:nvCxnSpPr>
        <p:spPr>
          <a:xfrm flipH="1">
            <a:off x="1258560" y="4149360"/>
            <a:ext cx="2160" cy="432360"/>
          </a:xfrm>
          <a:prstGeom prst="straightConnector1">
            <a:avLst/>
          </a:prstGeom>
          <a:ln w="38160">
            <a:solidFill>
              <a:srgbClr val="ff6600"/>
            </a:solidFill>
            <a:prstDash val="sysDash"/>
            <a:miter/>
            <a:headEnd len="med" type="triangle" w="med"/>
          </a:ln>
        </p:spPr>
      </p:cxnSp>
      <p:sp>
        <p:nvSpPr>
          <p:cNvPr id="760" name="Line 43"/>
          <p:cNvSpPr/>
          <p:nvPr/>
        </p:nvSpPr>
        <p:spPr>
          <a:xfrm flipH="1">
            <a:off x="1258920" y="4581360"/>
            <a:ext cx="1728720" cy="0"/>
          </a:xfrm>
          <a:prstGeom prst="line">
            <a:avLst/>
          </a:prstGeom>
          <a:ln w="38160">
            <a:solidFill>
              <a:srgbClr val="ff66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مربع نص 35"/>
          <p:cNvSpPr/>
          <p:nvPr/>
        </p:nvSpPr>
        <p:spPr>
          <a:xfrm>
            <a:off x="4067280" y="4797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روي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2" name="رابط كسهم مستقيم 37"/>
          <p:cNvCxnSpPr/>
          <p:nvPr/>
        </p:nvCxnSpPr>
        <p:spPr>
          <a:xfrm flipH="1">
            <a:off x="630000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63" name="Line 43"/>
          <p:cNvSpPr/>
          <p:nvPr/>
        </p:nvSpPr>
        <p:spPr>
          <a:xfrm flipH="1">
            <a:off x="6372000" y="2565360"/>
            <a:ext cx="165564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4" name="رابط كسهم مستقيم 39"/>
          <p:cNvCxnSpPr/>
          <p:nvPr/>
        </p:nvCxnSpPr>
        <p:spPr>
          <a:xfrm flipH="1">
            <a:off x="8027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65" name="مربع نص 40"/>
          <p:cNvSpPr/>
          <p:nvPr/>
        </p:nvSpPr>
        <p:spPr>
          <a:xfrm>
            <a:off x="6659640" y="2050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6" name="رابط كسهم مستقيم 41"/>
          <p:cNvCxnSpPr/>
          <p:nvPr/>
        </p:nvCxnSpPr>
        <p:spPr>
          <a:xfrm flipH="1">
            <a:off x="536220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67" name="Line 43"/>
          <p:cNvSpPr/>
          <p:nvPr/>
        </p:nvSpPr>
        <p:spPr>
          <a:xfrm flipH="1">
            <a:off x="3780000" y="2565360"/>
            <a:ext cx="158400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" name="رابط كسهم مستقيم 43"/>
          <p:cNvCxnSpPr/>
          <p:nvPr/>
        </p:nvCxnSpPr>
        <p:spPr>
          <a:xfrm flipH="1">
            <a:off x="377964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69" name="مربع نص 44"/>
          <p:cNvSpPr/>
          <p:nvPr/>
        </p:nvSpPr>
        <p:spPr>
          <a:xfrm>
            <a:off x="399564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رابط كسهم مستقيم 45"/>
          <p:cNvCxnSpPr/>
          <p:nvPr/>
        </p:nvCxnSpPr>
        <p:spPr>
          <a:xfrm flipH="1">
            <a:off x="2986920" y="2565360"/>
            <a:ext cx="252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771" name="Line 43"/>
          <p:cNvSpPr/>
          <p:nvPr/>
        </p:nvSpPr>
        <p:spPr>
          <a:xfrm flipH="1">
            <a:off x="1258920" y="256536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2" name="رابط كسهم مستقيم 47"/>
          <p:cNvCxnSpPr/>
          <p:nvPr/>
        </p:nvCxnSpPr>
        <p:spPr>
          <a:xfrm flipH="1">
            <a:off x="1258560" y="2565360"/>
            <a:ext cx="2160" cy="43272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</a:ln>
        </p:spPr>
      </p:cxnSp>
      <p:sp>
        <p:nvSpPr>
          <p:cNvPr id="773" name="مربع نص 48"/>
          <p:cNvSpPr/>
          <p:nvPr/>
        </p:nvSpPr>
        <p:spPr>
          <a:xfrm>
            <a:off x="1619280" y="2060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لب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4" name="رابط كسهم مستقيم 50"/>
          <p:cNvCxnSpPr/>
          <p:nvPr/>
        </p:nvCxnSpPr>
        <p:spPr>
          <a:xfrm flipH="1" flipV="1">
            <a:off x="7379640" y="6237000"/>
            <a:ext cx="577080" cy="216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75" name="مربع نص 51"/>
          <p:cNvSpPr/>
          <p:nvPr/>
        </p:nvSpPr>
        <p:spPr>
          <a:xfrm>
            <a:off x="5781600" y="6049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دفق سل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ستراتيجيات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مستطيل 53"/>
          <p:cNvSpPr/>
          <p:nvPr/>
        </p:nvSpPr>
        <p:spPr>
          <a:xfrm>
            <a:off x="928800" y="1197000"/>
            <a:ext cx="734508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ستراتيجية الس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8"/>
          <p:cNvSpPr/>
          <p:nvPr/>
        </p:nvSpPr>
        <p:spPr>
          <a:xfrm>
            <a:off x="611280" y="47772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قارنة بين استراتيجيتي الدفع والسح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187280" y="1528920"/>
          <a:ext cx="6840720" cy="4295520"/>
        </p:xfrm>
        <a:graphic>
          <a:graphicData uri="http://schemas.openxmlformats.org/drawingml/2006/table">
            <a:tbl>
              <a:tblPr/>
              <a:tblGrid>
                <a:gridCol w="2295720"/>
                <a:gridCol w="2295360"/>
                <a:gridCol w="1836720"/>
                <a:gridCol w="412920"/>
              </a:tblGrid>
              <a:tr h="606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سح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دف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وجه المقار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31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إعلا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بيع الشخص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نشاط الترويج الرئيس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هلاكية (</a:t>
                      </a:r>
                      <a:r>
                        <a:rPr b="0" lang="ar-SA" sz="1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يسرة – تسوق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صناعية واستهلاكية خاص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نوع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62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بسيط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عقدة (عالية التقني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طبيعة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080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طوي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قصي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قنوات 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066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تعد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حدو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نافذ 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5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نخفض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رتف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أسعار المنت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1a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8"/>
          <p:cNvSpPr/>
          <p:nvPr/>
        </p:nvSpPr>
        <p:spPr>
          <a:xfrm>
            <a:off x="571680" y="2781360"/>
            <a:ext cx="8072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زيج الترو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M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مجموعة 13"/>
          <p:cNvGrpSpPr/>
          <p:nvPr/>
        </p:nvGrpSpPr>
        <p:grpSpPr>
          <a:xfrm>
            <a:off x="2843280" y="1611360"/>
            <a:ext cx="7200720" cy="4770360"/>
            <a:chOff x="2843280" y="1611360"/>
            <a:chExt cx="7200720" cy="4770360"/>
          </a:xfrm>
        </p:grpSpPr>
        <p:sp>
          <p:nvSpPr>
            <p:cNvPr id="783" name="AutoShape 8"/>
            <p:cNvSpPr/>
            <p:nvPr/>
          </p:nvSpPr>
          <p:spPr>
            <a:xfrm>
              <a:off x="2843280" y="161136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مستطيل 9"/>
            <p:cNvSpPr/>
            <p:nvPr/>
          </p:nvSpPr>
          <p:spPr>
            <a:xfrm>
              <a:off x="5586480" y="5006160"/>
              <a:ext cx="2214360" cy="72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مربع نص 17"/>
            <p:cNvSpPr/>
            <p:nvPr/>
          </p:nvSpPr>
          <p:spPr>
            <a:xfrm>
              <a:off x="5723640" y="515772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نترن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مجموعة 14"/>
          <p:cNvGrpSpPr/>
          <p:nvPr/>
        </p:nvGrpSpPr>
        <p:grpSpPr>
          <a:xfrm>
            <a:off x="2843280" y="2690640"/>
            <a:ext cx="7200720" cy="4770720"/>
            <a:chOff x="2843280" y="2690640"/>
            <a:chExt cx="7200720" cy="4770720"/>
          </a:xfrm>
        </p:grpSpPr>
        <p:sp>
          <p:nvSpPr>
            <p:cNvPr id="787" name="AutoShape 8"/>
            <p:cNvSpPr/>
            <p:nvPr/>
          </p:nvSpPr>
          <p:spPr>
            <a:xfrm>
              <a:off x="2843280" y="2690640"/>
              <a:ext cx="720072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مستطيل 9"/>
            <p:cNvSpPr/>
            <p:nvPr/>
          </p:nvSpPr>
          <p:spPr>
            <a:xfrm>
              <a:off x="5586480" y="5805000"/>
              <a:ext cx="2214360" cy="727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مربع نص 17"/>
            <p:cNvSpPr/>
            <p:nvPr/>
          </p:nvSpPr>
          <p:spPr>
            <a:xfrm>
              <a:off x="5729400" y="591948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بريد المباش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مجموعة 20"/>
          <p:cNvGrpSpPr/>
          <p:nvPr/>
        </p:nvGrpSpPr>
        <p:grpSpPr>
          <a:xfrm>
            <a:off x="2843280" y="530280"/>
            <a:ext cx="7200720" cy="4770360"/>
            <a:chOff x="2843280" y="530280"/>
            <a:chExt cx="7200720" cy="4770360"/>
          </a:xfrm>
        </p:grpSpPr>
        <p:sp>
          <p:nvSpPr>
            <p:cNvPr id="791" name="AutoShape 8"/>
            <p:cNvSpPr/>
            <p:nvPr/>
          </p:nvSpPr>
          <p:spPr>
            <a:xfrm>
              <a:off x="2843280" y="53028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مستطيل 9"/>
            <p:cNvSpPr/>
            <p:nvPr/>
          </p:nvSpPr>
          <p:spPr>
            <a:xfrm>
              <a:off x="5586480" y="41774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مربع نص 17"/>
            <p:cNvSpPr/>
            <p:nvPr/>
          </p:nvSpPr>
          <p:spPr>
            <a:xfrm>
              <a:off x="5729400" y="4220640"/>
              <a:ext cx="192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نشر والعلاقات العام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مجموعة 24"/>
          <p:cNvGrpSpPr/>
          <p:nvPr/>
        </p:nvGrpSpPr>
        <p:grpSpPr>
          <a:xfrm>
            <a:off x="2843280" y="-531720"/>
            <a:ext cx="7200720" cy="4770360"/>
            <a:chOff x="2843280" y="-531720"/>
            <a:chExt cx="7200720" cy="4770360"/>
          </a:xfrm>
        </p:grpSpPr>
        <p:sp>
          <p:nvSpPr>
            <p:cNvPr id="795" name="AutoShape 8"/>
            <p:cNvSpPr/>
            <p:nvPr/>
          </p:nvSpPr>
          <p:spPr>
            <a:xfrm>
              <a:off x="2843280" y="-53172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مستطيل 9"/>
            <p:cNvSpPr/>
            <p:nvPr/>
          </p:nvSpPr>
          <p:spPr>
            <a:xfrm>
              <a:off x="5586480" y="3356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مربع نص 17"/>
            <p:cNvSpPr/>
            <p:nvPr/>
          </p:nvSpPr>
          <p:spPr>
            <a:xfrm>
              <a:off x="5729400" y="3532680"/>
              <a:ext cx="19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نشيط المبيع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مجموعة 28"/>
          <p:cNvGrpSpPr/>
          <p:nvPr/>
        </p:nvGrpSpPr>
        <p:grpSpPr>
          <a:xfrm>
            <a:off x="2843280" y="-531720"/>
            <a:ext cx="7200720" cy="4770360"/>
            <a:chOff x="2843280" y="-531720"/>
            <a:chExt cx="7200720" cy="4770360"/>
          </a:xfrm>
        </p:grpSpPr>
        <p:sp>
          <p:nvSpPr>
            <p:cNvPr id="799" name="AutoShape 8"/>
            <p:cNvSpPr/>
            <p:nvPr/>
          </p:nvSpPr>
          <p:spPr>
            <a:xfrm>
              <a:off x="2843280" y="-531720"/>
              <a:ext cx="7200720" cy="47703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مستطيل 9"/>
            <p:cNvSpPr/>
            <p:nvPr/>
          </p:nvSpPr>
          <p:spPr>
            <a:xfrm>
              <a:off x="5586480" y="2564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مربع نص 17"/>
            <p:cNvSpPr/>
            <p:nvPr/>
          </p:nvSpPr>
          <p:spPr>
            <a:xfrm>
              <a:off x="5729400" y="2721960"/>
              <a:ext cx="192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إعل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مجموعة 32"/>
          <p:cNvGrpSpPr/>
          <p:nvPr/>
        </p:nvGrpSpPr>
        <p:grpSpPr>
          <a:xfrm>
            <a:off x="2843280" y="-1324080"/>
            <a:ext cx="7200720" cy="4770720"/>
            <a:chOff x="2843280" y="-1324080"/>
            <a:chExt cx="7200720" cy="4770720"/>
          </a:xfrm>
        </p:grpSpPr>
        <p:sp>
          <p:nvSpPr>
            <p:cNvPr id="803" name="AutoShape 8"/>
            <p:cNvSpPr/>
            <p:nvPr/>
          </p:nvSpPr>
          <p:spPr>
            <a:xfrm>
              <a:off x="2843280" y="-1324080"/>
              <a:ext cx="7200720" cy="477072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مستطيل 9"/>
            <p:cNvSpPr/>
            <p:nvPr/>
          </p:nvSpPr>
          <p:spPr>
            <a:xfrm>
              <a:off x="5586480" y="1772640"/>
              <a:ext cx="2214360" cy="745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مربع نص 17"/>
            <p:cNvSpPr/>
            <p:nvPr/>
          </p:nvSpPr>
          <p:spPr>
            <a:xfrm>
              <a:off x="5729400" y="1948320"/>
              <a:ext cx="19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بيع الشخص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مزيج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مجموعة 38"/>
          <p:cNvGrpSpPr/>
          <p:nvPr/>
        </p:nvGrpSpPr>
        <p:grpSpPr>
          <a:xfrm>
            <a:off x="-1332000" y="98280"/>
            <a:ext cx="7201080" cy="4887360"/>
            <a:chOff x="-1332000" y="98280"/>
            <a:chExt cx="7201080" cy="4887360"/>
          </a:xfrm>
        </p:grpSpPr>
        <p:sp>
          <p:nvSpPr>
            <p:cNvPr id="808" name="AutoShape 8"/>
            <p:cNvSpPr/>
            <p:nvPr/>
          </p:nvSpPr>
          <p:spPr>
            <a:xfrm>
              <a:off x="-1332000" y="98280"/>
              <a:ext cx="7201080" cy="4772160"/>
            </a:xfrm>
            <a:prstGeom prst="flowChartDocumen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مستطيل 9"/>
            <p:cNvSpPr/>
            <p:nvPr/>
          </p:nvSpPr>
          <p:spPr>
            <a:xfrm>
              <a:off x="1411200" y="3339360"/>
              <a:ext cx="2214720" cy="160236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مربع نص 17"/>
            <p:cNvSpPr/>
            <p:nvPr/>
          </p:nvSpPr>
          <p:spPr>
            <a:xfrm>
              <a:off x="1554120" y="3429360"/>
              <a:ext cx="1928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سو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2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ستهد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رابط مستقيم 43"/>
          <p:cNvSpPr/>
          <p:nvPr/>
        </p:nvSpPr>
        <p:spPr>
          <a:xfrm>
            <a:off x="4788000" y="2133720"/>
            <a:ext cx="0" cy="410364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رابط مستقيم 52"/>
          <p:cNvSpPr/>
          <p:nvPr/>
        </p:nvSpPr>
        <p:spPr>
          <a:xfrm>
            <a:off x="4788000" y="2997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رابط مستقيم 53"/>
          <p:cNvSpPr/>
          <p:nvPr/>
        </p:nvSpPr>
        <p:spPr>
          <a:xfrm>
            <a:off x="4788000" y="21477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رابط مستقيم 54"/>
          <p:cNvSpPr/>
          <p:nvPr/>
        </p:nvSpPr>
        <p:spPr>
          <a:xfrm>
            <a:off x="4788000" y="371628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رابط مستقيم 55"/>
          <p:cNvSpPr/>
          <p:nvPr/>
        </p:nvSpPr>
        <p:spPr>
          <a:xfrm>
            <a:off x="4788000" y="4581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رابط مستقيم 56"/>
          <p:cNvSpPr/>
          <p:nvPr/>
        </p:nvSpPr>
        <p:spPr>
          <a:xfrm>
            <a:off x="4788000" y="537372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رابط مستقيم 57"/>
          <p:cNvSpPr/>
          <p:nvPr/>
        </p:nvSpPr>
        <p:spPr>
          <a:xfrm>
            <a:off x="4788000" y="6237360"/>
            <a:ext cx="792000" cy="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8" name="رابط كسهم مستقيم 63"/>
          <p:cNvCxnSpPr/>
          <p:nvPr/>
        </p:nvCxnSpPr>
        <p:spPr>
          <a:xfrm flipH="1" flipV="1">
            <a:off x="3634920" y="4147920"/>
            <a:ext cx="1153440" cy="2160"/>
          </a:xfrm>
          <a:prstGeom prst="straightConnector1">
            <a:avLst/>
          </a:prstGeom>
          <a:ln w="507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8"/>
          <p:cNvSpPr/>
          <p:nvPr/>
        </p:nvSpPr>
        <p:spPr>
          <a:xfrm>
            <a:off x="684360" y="40464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علان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مستطيل 3"/>
          <p:cNvSpPr/>
          <p:nvPr/>
        </p:nvSpPr>
        <p:spPr>
          <a:xfrm>
            <a:off x="928800" y="1289160"/>
            <a:ext cx="7345080" cy="58539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70c0"/>
                </a:solidFill>
                <a:uFillTx/>
                <a:latin typeface="Tahoma"/>
                <a:cs typeface="PT Bold Heading"/>
              </a:rPr>
              <a:t>أهداف الإعلان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استثارة الطلب الأولي والانتقائ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مواجهة إعلانات المنافس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سهيل مهمة البيع الشخص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زيادة استخدامات السل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ذكير المستهلك بالسلعة وتعزيز قراره الشر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تقليل التقلبات الموسمية في المبيعات (</a:t>
            </a:r>
            <a:r>
              <a:rPr b="1" lang="ar-SA" sz="1800" spc="-1" strike="noStrike">
                <a:solidFill>
                  <a:srgbClr val="e61893"/>
                </a:solidFill>
                <a:latin typeface="Tahoma"/>
                <a:cs typeface="PT Bold Heading"/>
              </a:rPr>
              <a:t>مثل إعلان الفنادق عن خصومات سعرية في أوقات انخفاض الطلب عليها، فيؤدي إلى زيادة الطلب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d3ee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إعلان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مستطيل 3"/>
          <p:cNvSpPr/>
          <p:nvPr/>
        </p:nvSpPr>
        <p:spPr>
          <a:xfrm>
            <a:off x="928800" y="1557360"/>
            <a:ext cx="7345080" cy="62215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Tahoma"/>
                <a:cs typeface="PT Bold Heading"/>
              </a:rPr>
              <a:t>أنواع الإعلانات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الإعلان التعريفية: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يخبر المستهلكين عن السلعة وخصائصها وفوائدها واستخداماتها ، ويهدف إلى إثارة الطلب الأولى</a:t>
            </a:r>
            <a:r>
              <a:rPr b="1" lang="ar-SA" sz="2400" spc="-1" strike="noStrike">
                <a:solidFill>
                  <a:srgbClr val="006600"/>
                </a:solidFill>
                <a:latin typeface="Tahoma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إعلان التنافسي: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يعدد استخدامات وخصائص ومزايا المنتج عن غيره من المنتجات المنافسة، ويهدف إلى إثارة الطلب الانتقائ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الإعلان التذكيري: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يهدف إلى تذكير المستهلكين بالسلعة، وأنها مازالت موجودة بهدف تجنب انخفاض المبي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إعلان التعزيزي: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يهدف إلى طمأنة المستعملين الحاليين للسلعة، والتأكيد لهم بأنهم اتخذوا القرار السليم بشراء السلعة محل الإعلان بهدف تجنب الانخفاض في المبيع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solidFill>
            <a:srgbClr val="67ed0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بيع الشخصي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Personal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مستطيل 3"/>
          <p:cNvSpPr/>
          <p:nvPr/>
        </p:nvSpPr>
        <p:spPr>
          <a:xfrm>
            <a:off x="928800" y="1052640"/>
            <a:ext cx="7345080" cy="6733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ts val="29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70c0"/>
                </a:solidFill>
                <a:latin typeface="Tahoma"/>
                <a:cs typeface="PT Bold Heading"/>
              </a:rPr>
              <a:t>يعني مقابلة رجال البيع للعملاء، بهدف تعريفهم وإقناعهم بالمنتج وحثهم على شرائ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ff"/>
                </a:solidFill>
                <a:uFillTx/>
                <a:latin typeface="Tahoma"/>
                <a:cs typeface="PT Bold Heading"/>
              </a:rPr>
              <a:t>وتتم المقابلة البيعية على عدة خطوات</a:t>
            </a:r>
            <a:r>
              <a:rPr b="1" lang="ar-SA" sz="2000" spc="-1" strike="noStrike">
                <a:solidFill>
                  <a:srgbClr val="ff00ff"/>
                </a:solidFill>
                <a:latin typeface="Tahoma"/>
                <a:ea typeface="PT Bold Heading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بحث عن العميل المرتقب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من خلال العملاء الحاليين أو السابقين أو الأصدقاء، أو الأدلة التجارية ....ال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2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cs typeface="PT Bold Heading"/>
              </a:rPr>
              <a:t>التمهيد للمقابلة البيعية:</a:t>
            </a: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تحديد خطة البيع والإقناع حسب شخصية العميل وخصائص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3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لقاء بين البائع والمشتري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اهتمام بالمظهر والعبارات الافتتاحية لترك انطباع إيجابي لدى العم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4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رد على الاعتراضات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فيما يتعلق بخصائص المنتج أو سعره مثل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5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إنهاء المقابلة البيعية:</a:t>
            </a: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cs typeface="PT Bold Heading"/>
              </a:rPr>
              <a:t>بشكل يشجع على الشر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6</a:t>
            </a: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- متابعة عملية البيع:</a:t>
            </a:r>
            <a:r>
              <a:rPr b="1" lang="ar-SA" sz="2000" spc="-1" strike="noStrike">
                <a:solidFill>
                  <a:srgbClr val="c000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للتأكد من الوفاء بما تم الاتفاق عليه مع العم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ن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Publ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مستطيل 3"/>
          <p:cNvSpPr/>
          <p:nvPr/>
        </p:nvSpPr>
        <p:spPr>
          <a:xfrm>
            <a:off x="928800" y="1413000"/>
            <a:ext cx="7345080" cy="65422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نشر أخبار أو معلومات عن المنتجات في وسائل النشر ال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يتم النشر عادة بدون مقا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لا يكون للمنظمة السيطرة على الرسائل الدعائية من حيث توقيت عرضها ولا كيفية العر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يكون لدار النشر الحرية في ذكر اسم الشركة المنتجة من عدم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يكون النشر غالباً عندما تكون المنتجات ذات أهمية خاصة للمجتم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 للنشر مصداقية عالية لدى الجمهور</a:t>
            </a:r>
            <a:r>
              <a:rPr b="1" lang="ar-SA" sz="2400" spc="-1" strike="noStrike">
                <a:solidFill>
                  <a:srgbClr val="39639d"/>
                </a:solidFill>
                <a:latin typeface="Tahoma"/>
                <a:ea typeface="PT Bold Heading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Tahoma"/>
                <a:ea typeface="PT Bold Heading"/>
              </a:rPr>
              <a:t> قد يأخذ النشر شكل: الأخبار القصيرة ، المقالات المطولة ، مؤتمرات صحفية ، أفلام مصو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ستراتيجية 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Promotion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تنشيط المبيعات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مستطيل 3"/>
          <p:cNvSpPr/>
          <p:nvPr/>
        </p:nvSpPr>
        <p:spPr>
          <a:xfrm>
            <a:off x="928800" y="1413000"/>
            <a:ext cx="7345080" cy="5247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يقصد بتنشيط المبيعات كافة الأنشطة الترويجية الأخرى بخلاف البيع الشخصي والإعلان والنش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ومن أكثر الأساليب المستخدمة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مسابق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كوبونات تخفيض الأسع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عينات المجا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هدايا التي تمنح عند 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معارض التج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ec76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سويق المبا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Direct Marketing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مستطيل 3"/>
          <p:cNvSpPr/>
          <p:nvPr/>
        </p:nvSpPr>
        <p:spPr>
          <a:xfrm>
            <a:off x="928800" y="1504800"/>
            <a:ext cx="7345080" cy="549684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ts val="29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2060"/>
                </a:solidFill>
                <a:latin typeface="Tahoma"/>
                <a:cs typeface="PT Bold Heading"/>
              </a:rPr>
              <a:t>هو اتصال مباشر بالعملاء للحصول على رد فعال مباشر منهم فرا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ومن أبرز عناصر التسويق المب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ahoma"/>
                <a:cs typeface="PT Bold Heading"/>
              </a:rPr>
              <a:t>البريد المباشر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 </a:t>
            </a:r>
            <a:r>
              <a:rPr b="1" lang="en-US" sz="1600" spc="-1" strike="noStrike">
                <a:solidFill>
                  <a:srgbClr val="ff6600"/>
                </a:solidFill>
                <a:latin typeface="Tahoma"/>
                <a:ea typeface="PT Bold Heading"/>
              </a:rPr>
              <a:t>Direct Mail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ahoma"/>
                <a:cs typeface="PT Bold Heading"/>
              </a:rPr>
              <a:t>من صوره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إعلان البريدي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Mail Advertizing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(إعلان مباشر يرسل بالبري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بيع بالبريد عن طريق الكتالوجات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Mail Ordering</a:t>
            </a:r>
            <a:r>
              <a:rPr b="1" lang="en-US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والسداد عن ب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ahoma"/>
                <a:cs typeface="PT Bold Heading"/>
              </a:rPr>
              <a:t>التسويق عن طريق الهاتف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  <a:ea typeface="PT Bold Heading"/>
              </a:rPr>
              <a:t>Telemarketing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Tahoma"/>
                <a:cs typeface="PT Bold Heading"/>
              </a:rPr>
              <a:t>التسويق الإلكتروني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 </a:t>
            </a:r>
            <a:r>
              <a:rPr b="1" lang="en-US" sz="2000" spc="-1" strike="noStrike">
                <a:solidFill>
                  <a:srgbClr val="ff6600"/>
                </a:solidFill>
                <a:latin typeface="Tahoma"/>
                <a:ea typeface="PT Bold Heading"/>
              </a:rPr>
              <a:t>E-Marketing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</a:t>
            </a:r>
            <a:r>
              <a:rPr b="1" lang="ar-SA" sz="2000" spc="-1" strike="noStrike">
                <a:solidFill>
                  <a:srgbClr val="006600"/>
                </a:solidFill>
                <a:latin typeface="Tahoma"/>
                <a:ea typeface="PT Bold Heading"/>
              </a:rPr>
              <a:t>(استخدام الإنترنت في بناء الاستراتيجيات التسويقية ومنها الترويج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8"/>
          <p:cNvSpPr/>
          <p:nvPr/>
        </p:nvSpPr>
        <p:spPr>
          <a:xfrm>
            <a:off x="684360" y="550800"/>
            <a:ext cx="7775280" cy="642600"/>
          </a:xfrm>
          <a:prstGeom prst="rect">
            <a:avLst/>
          </a:prstGeom>
          <a:solidFill>
            <a:srgbClr val="ec76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سويق المباشر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Direct Marketing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مستطيل 3"/>
          <p:cNvSpPr/>
          <p:nvPr/>
        </p:nvSpPr>
        <p:spPr>
          <a:xfrm>
            <a:off x="928800" y="1413000"/>
            <a:ext cx="7345080" cy="66477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cs typeface="PT Bold Heading"/>
              </a:rPr>
              <a:t>هو اتصال مباشر بالعملاء للحصول على رد فعال مباشر منهم فراد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cs typeface="PT Bold Heading"/>
              </a:rPr>
              <a:t>ويتضح من ذلك بعض الخصائص للتسويق المباش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2798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نظام  للاتصال </a:t>
            </a:r>
            <a:r>
              <a:rPr b="1" lang="ar-SA" sz="2800" spc="-1" strike="noStrike">
                <a:solidFill>
                  <a:srgbClr val="e61893"/>
                </a:solidFill>
                <a:latin typeface="Tahoma"/>
                <a:cs typeface="PT Bold Heading"/>
              </a:rPr>
              <a:t>التفاعلي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في مجال التسويق (</a:t>
            </a:r>
            <a:r>
              <a:rPr b="1" lang="ar-SA" sz="1800" spc="-1" strike="noStrike">
                <a:solidFill>
                  <a:srgbClr val="002060"/>
                </a:solidFill>
                <a:latin typeface="Tahoma"/>
                <a:cs typeface="PT Bold Heading"/>
              </a:rPr>
              <a:t>يتضمن اتصال مباشر بالعملاء والحصول منهم على رد فعال مباشر أيضاً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3699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يستخدم مجموعة من </a:t>
            </a:r>
            <a:r>
              <a:rPr b="1" lang="ar-SA" sz="2800" spc="-1" strike="noStrike">
                <a:solidFill>
                  <a:srgbClr val="e61893"/>
                </a:solidFill>
                <a:latin typeface="Tahoma"/>
                <a:cs typeface="PT Bold Heading"/>
              </a:rPr>
              <a:t>الوسائل غير التقليدية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التي تحقق هذا الاتصال المباشر (</a:t>
            </a:r>
            <a:r>
              <a:rPr b="1" lang="ar-SA" sz="1800" spc="-1" strike="noStrike">
                <a:solidFill>
                  <a:srgbClr val="002060"/>
                </a:solidFill>
                <a:latin typeface="Tahoma"/>
                <a:cs typeface="PT Bold Heading"/>
              </a:rPr>
              <a:t>البريد -  الهاتف – الفاكس – الإنترنت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تحقق </a:t>
            </a:r>
            <a:r>
              <a:rPr b="1" lang="ar-SA" sz="2800" spc="-1" strike="noStrike">
                <a:solidFill>
                  <a:srgbClr val="e61893"/>
                </a:solidFill>
                <a:latin typeface="Tahoma"/>
                <a:cs typeface="PT Bold Heading"/>
              </a:rPr>
              <a:t>استجابة ملموسة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(</a:t>
            </a:r>
            <a:r>
              <a:rPr b="1" lang="ar-SA" sz="1800" spc="-1" strike="noStrike">
                <a:solidFill>
                  <a:srgbClr val="002060"/>
                </a:solidFill>
                <a:latin typeface="Tahoma"/>
                <a:cs typeface="PT Bold Heading"/>
              </a:rPr>
              <a:t>رد فعل مباشر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61893"/>
                </a:solidFill>
                <a:latin typeface="Tahoma"/>
                <a:ea typeface="PT Bold Heading"/>
              </a:rPr>
              <a:t> بأقل جهد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 ممكن (</a:t>
            </a:r>
            <a:r>
              <a:rPr b="1" lang="ar-SA" sz="1800" spc="-1" strike="noStrike">
                <a:solidFill>
                  <a:srgbClr val="002060"/>
                </a:solidFill>
                <a:latin typeface="Tahoma"/>
                <a:cs typeface="PT Bold Heading"/>
              </a:rPr>
              <a:t>بخلاف الوسائل التقليدية كالإعلان والبيع الشخصي</a:t>
            </a:r>
            <a:r>
              <a:rPr b="1" lang="ar-SA" sz="2800" spc="-1" strike="noStrike">
                <a:solidFill>
                  <a:srgbClr val="ff6600"/>
                </a:solidFill>
                <a:latin typeface="Tahoma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8"/>
          <p:cNvSpPr/>
          <p:nvPr/>
        </p:nvSpPr>
        <p:spPr>
          <a:xfrm>
            <a:off x="611280" y="47772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 الفرو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ين التسويق المباشر والتسويق غير المباش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1187280" y="1920960"/>
          <a:ext cx="6840720" cy="4110120"/>
        </p:xfrm>
        <a:graphic>
          <a:graphicData uri="http://schemas.openxmlformats.org/drawingml/2006/table">
            <a:tbl>
              <a:tblPr/>
              <a:tblGrid>
                <a:gridCol w="2295720"/>
                <a:gridCol w="2295360"/>
                <a:gridCol w="1836720"/>
                <a:gridCol w="412920"/>
              </a:tblGrid>
              <a:tr h="841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سويق غير المبا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سويق المباش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وجه المقارن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إعلان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مفر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معروف للشرك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عم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ستهلاكية (ميسرة – تسو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 (مفصل على العميل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منت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5980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ا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 (بما يناسب ظروف العميل ورغبته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توزي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9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عام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خاصة (مفصلة على العمي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 ينتج عنها رد فعل مباش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رسالة الترويج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8395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إغراء العملاء وترك صورة ذهنية محددة عن الشركة ومنتجاتها في أذهانه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احتفاظ بالعملاء وتحويلهم إلى عملاء دائمي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PT Bold Heading"/>
                        </a:rPr>
                        <a:t>الهدف من التروي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PT Bold Heading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8"/>
          <p:cNvSpPr/>
          <p:nvPr/>
        </p:nvSpPr>
        <p:spPr>
          <a:xfrm>
            <a:off x="571680" y="2781360"/>
            <a:ext cx="8072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اتصالات التسويقية المتكام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PT Bold Heading"/>
              </a:rPr>
              <a:t>Integrated Marketing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8"/>
          <p:cNvSpPr/>
          <p:nvPr/>
        </p:nvSpPr>
        <p:spPr>
          <a:xfrm>
            <a:off x="684360" y="333360"/>
            <a:ext cx="77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مفهوم الاتصالات التسويقية المتكا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Integrated Marketing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مستطيل 4"/>
          <p:cNvSpPr/>
          <p:nvPr/>
        </p:nvSpPr>
        <p:spPr>
          <a:xfrm>
            <a:off x="928800" y="1557360"/>
            <a:ext cx="7345080" cy="61920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تطور مفهوم الترويج ليشمل كافة عناصر المزيج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   التسو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كل عنصر من عناصر المزيج التسويقي يساهم ف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   الترويج ل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اتصالات التسويقية المتكاملة هي: </a:t>
            </a:r>
            <a:r>
              <a:rPr b="1" lang="ar-SA" sz="2800" spc="-1" strike="noStrike">
                <a:solidFill>
                  <a:srgbClr val="00b0f0"/>
                </a:solidFill>
                <a:latin typeface="Tahoma"/>
                <a:cs typeface="PT Bold Heading"/>
              </a:rPr>
              <a:t>مجموعة الاتصالات التي يجريها المنتج بالمشترين المرتقبين بغرض تعريفهم وإقناعهم بالسلع والخدمات المنتجة ودفعهم ل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مجموعة 64"/>
          <p:cNvGrpSpPr/>
          <p:nvPr/>
        </p:nvGrpSpPr>
        <p:grpSpPr>
          <a:xfrm>
            <a:off x="-1260360" y="-1539720"/>
            <a:ext cx="11377440" cy="8137440"/>
            <a:chOff x="-1260360" y="-1539720"/>
            <a:chExt cx="11377440" cy="8137440"/>
          </a:xfrm>
        </p:grpSpPr>
        <p:grpSp>
          <p:nvGrpSpPr>
            <p:cNvPr id="840" name="مجموعة 62"/>
            <p:cNvGrpSpPr/>
            <p:nvPr/>
          </p:nvGrpSpPr>
          <p:grpSpPr>
            <a:xfrm>
              <a:off x="-1260360" y="-1539720"/>
              <a:ext cx="11377440" cy="8013600"/>
              <a:chOff x="-1260360" y="-1539720"/>
              <a:chExt cx="11377440" cy="8013600"/>
            </a:xfrm>
          </p:grpSpPr>
          <p:grpSp>
            <p:nvGrpSpPr>
              <p:cNvPr id="841" name="مجموعة 20"/>
              <p:cNvGrpSpPr/>
              <p:nvPr/>
            </p:nvGrpSpPr>
            <p:grpSpPr>
              <a:xfrm>
                <a:off x="2916000" y="314640"/>
                <a:ext cx="7201080" cy="6159240"/>
                <a:chOff x="2916000" y="314640"/>
                <a:chExt cx="7201080" cy="6159240"/>
              </a:xfrm>
            </p:grpSpPr>
            <p:sp>
              <p:nvSpPr>
                <p:cNvPr id="842" name="AutoShape 8"/>
                <p:cNvSpPr/>
                <p:nvPr/>
              </p:nvSpPr>
              <p:spPr>
                <a:xfrm>
                  <a:off x="2916000" y="314640"/>
                  <a:ext cx="7201080" cy="477072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مستطيل 9"/>
                <p:cNvSpPr/>
                <p:nvPr/>
              </p:nvSpPr>
              <p:spPr>
                <a:xfrm>
                  <a:off x="5659200" y="3962160"/>
                  <a:ext cx="2214720" cy="2275560"/>
                </a:xfrm>
                <a:prstGeom prst="rect">
                  <a:avLst/>
                </a:prstGeom>
                <a:solidFill>
                  <a:srgbClr val="67ed0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مربع نص 17"/>
                <p:cNvSpPr/>
                <p:nvPr/>
              </p:nvSpPr>
              <p:spPr>
                <a:xfrm>
                  <a:off x="5802120" y="4005720"/>
                  <a:ext cx="1928880" cy="246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4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ترويج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بيع الشخصي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إعلا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تنشيط المبيعا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نشر والعلاقات العامة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إنترنت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c00000"/>
                      </a:solidFill>
                      <a:latin typeface="Arial"/>
                      <a:cs typeface="PT Bold Heading"/>
                    </a:rPr>
                    <a:t>البريد المباشر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مجموعة 24"/>
              <p:cNvGrpSpPr/>
              <p:nvPr/>
            </p:nvGrpSpPr>
            <p:grpSpPr>
              <a:xfrm>
                <a:off x="2916000" y="-747360"/>
                <a:ext cx="7201080" cy="4771080"/>
                <a:chOff x="2916000" y="-747360"/>
                <a:chExt cx="7201080" cy="4771080"/>
              </a:xfrm>
            </p:grpSpPr>
            <p:sp>
              <p:nvSpPr>
                <p:cNvPr id="846" name="AutoShape 8"/>
                <p:cNvSpPr/>
                <p:nvPr/>
              </p:nvSpPr>
              <p:spPr>
                <a:xfrm>
                  <a:off x="2916000" y="-747360"/>
                  <a:ext cx="7201080" cy="477108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مستطيل 9"/>
                <p:cNvSpPr/>
                <p:nvPr/>
              </p:nvSpPr>
              <p:spPr>
                <a:xfrm>
                  <a:off x="5670000" y="3142080"/>
                  <a:ext cx="2214720" cy="745560"/>
                </a:xfrm>
                <a:prstGeom prst="rect">
                  <a:avLst/>
                </a:prstGeom>
                <a:solidFill>
                  <a:srgbClr val="67ed0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مربع نص 17"/>
                <p:cNvSpPr/>
                <p:nvPr/>
              </p:nvSpPr>
              <p:spPr>
                <a:xfrm>
                  <a:off x="5802120" y="3318120"/>
                  <a:ext cx="192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0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توزي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9" name="مجموعة 28"/>
              <p:cNvGrpSpPr/>
              <p:nvPr/>
            </p:nvGrpSpPr>
            <p:grpSpPr>
              <a:xfrm>
                <a:off x="2916000" y="-747360"/>
                <a:ext cx="7201080" cy="4771080"/>
                <a:chOff x="2916000" y="-747360"/>
                <a:chExt cx="7201080" cy="4771080"/>
              </a:xfrm>
            </p:grpSpPr>
            <p:sp>
              <p:nvSpPr>
                <p:cNvPr id="850" name="AutoShape 8"/>
                <p:cNvSpPr/>
                <p:nvPr/>
              </p:nvSpPr>
              <p:spPr>
                <a:xfrm>
                  <a:off x="2916000" y="-747360"/>
                  <a:ext cx="7201080" cy="477108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مستطيل 9"/>
                <p:cNvSpPr/>
                <p:nvPr/>
              </p:nvSpPr>
              <p:spPr>
                <a:xfrm>
                  <a:off x="5659200" y="2349720"/>
                  <a:ext cx="2214720" cy="745560"/>
                </a:xfrm>
                <a:prstGeom prst="rect">
                  <a:avLst/>
                </a:prstGeom>
                <a:solidFill>
                  <a:srgbClr val="67ed0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مربع نص 17"/>
                <p:cNvSpPr/>
                <p:nvPr/>
              </p:nvSpPr>
              <p:spPr>
                <a:xfrm>
                  <a:off x="5802120" y="2507040"/>
                  <a:ext cx="192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4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تسعير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مجموعة 32"/>
              <p:cNvGrpSpPr/>
              <p:nvPr/>
            </p:nvGrpSpPr>
            <p:grpSpPr>
              <a:xfrm>
                <a:off x="2916000" y="-1539720"/>
                <a:ext cx="7201080" cy="4771080"/>
                <a:chOff x="2916000" y="-1539720"/>
                <a:chExt cx="7201080" cy="4771080"/>
              </a:xfrm>
            </p:grpSpPr>
            <p:sp>
              <p:nvSpPr>
                <p:cNvPr id="854" name="AutoShape 8"/>
                <p:cNvSpPr/>
                <p:nvPr/>
              </p:nvSpPr>
              <p:spPr>
                <a:xfrm>
                  <a:off x="2916000" y="-1539720"/>
                  <a:ext cx="7201080" cy="477108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مستطيل 9"/>
                <p:cNvSpPr/>
                <p:nvPr/>
              </p:nvSpPr>
              <p:spPr>
                <a:xfrm>
                  <a:off x="5659200" y="1557360"/>
                  <a:ext cx="2214720" cy="745560"/>
                </a:xfrm>
                <a:prstGeom prst="rect">
                  <a:avLst/>
                </a:prstGeom>
                <a:solidFill>
                  <a:srgbClr val="67ed0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مربع نص 17"/>
                <p:cNvSpPr/>
                <p:nvPr/>
              </p:nvSpPr>
              <p:spPr>
                <a:xfrm>
                  <a:off x="5802120" y="1733400"/>
                  <a:ext cx="192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24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منتج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Text Box 8"/>
              <p:cNvSpPr/>
              <p:nvPr/>
            </p:nvSpPr>
            <p:spPr>
              <a:xfrm>
                <a:off x="1359000" y="282600"/>
                <a:ext cx="6572160" cy="1434600"/>
              </a:xfrm>
              <a:prstGeom prst="rect">
                <a:avLst/>
              </a:prstGeom>
              <a:solidFill>
                <a:srgbClr val="b5e9f4"/>
              </a:solidFill>
              <a:ln w="381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4400" spc="-1" strike="noStrike">
                    <a:solidFill>
                      <a:srgbClr val="ff0000"/>
                    </a:solidFill>
                    <a:latin typeface="Arial"/>
                    <a:cs typeface="PT Bold Heading"/>
                  </a:rPr>
                  <a:t>الاتصالات التسويقية المتكاملة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مجموعة 38"/>
              <p:cNvGrpSpPr/>
              <p:nvPr/>
            </p:nvGrpSpPr>
            <p:grpSpPr>
              <a:xfrm>
                <a:off x="-1260360" y="-117000"/>
                <a:ext cx="7201080" cy="5033880"/>
                <a:chOff x="-1260360" y="-117000"/>
                <a:chExt cx="7201080" cy="5033880"/>
              </a:xfrm>
            </p:grpSpPr>
            <p:sp>
              <p:nvSpPr>
                <p:cNvPr id="859" name="AutoShape 8"/>
                <p:cNvSpPr/>
                <p:nvPr/>
              </p:nvSpPr>
              <p:spPr>
                <a:xfrm>
                  <a:off x="-1260360" y="-117000"/>
                  <a:ext cx="7201080" cy="4761360"/>
                </a:xfrm>
                <a:prstGeom prst="flowChartDocumen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مستطيل 9"/>
                <p:cNvSpPr/>
                <p:nvPr/>
              </p:nvSpPr>
              <p:spPr>
                <a:xfrm>
                  <a:off x="1482840" y="3123720"/>
                  <a:ext cx="2214720" cy="16023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مربع نص 17"/>
                <p:cNvSpPr/>
                <p:nvPr/>
              </p:nvSpPr>
              <p:spPr>
                <a:xfrm>
                  <a:off x="1625760" y="3360600"/>
                  <a:ext cx="1928880" cy="15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2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سوق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200" spc="-1" strike="noStrike">
                      <a:solidFill>
                        <a:srgbClr val="000000"/>
                      </a:solidFill>
                      <a:latin typeface="Arial"/>
                      <a:cs typeface="PT Bold Heading"/>
                    </a:rPr>
                    <a:t>المستهدف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2" name="رابط مستقيم 43"/>
              <p:cNvSpPr/>
              <p:nvPr/>
            </p:nvSpPr>
            <p:spPr>
              <a:xfrm>
                <a:off x="4861080" y="1916280"/>
                <a:ext cx="0" cy="331308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رابط مستقيم 52"/>
              <p:cNvSpPr/>
              <p:nvPr/>
            </p:nvSpPr>
            <p:spPr>
              <a:xfrm>
                <a:off x="4861080" y="2781720"/>
                <a:ext cx="792000" cy="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رابط مستقيم 53"/>
              <p:cNvSpPr/>
              <p:nvPr/>
            </p:nvSpPr>
            <p:spPr>
              <a:xfrm>
                <a:off x="4861080" y="1946520"/>
                <a:ext cx="792000" cy="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رابط مستقيم 54"/>
              <p:cNvSpPr/>
              <p:nvPr/>
            </p:nvSpPr>
            <p:spPr>
              <a:xfrm>
                <a:off x="4861080" y="3500640"/>
                <a:ext cx="792000" cy="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رابط مستقيم 55"/>
              <p:cNvSpPr/>
              <p:nvPr/>
            </p:nvSpPr>
            <p:spPr>
              <a:xfrm>
                <a:off x="4861080" y="5229720"/>
                <a:ext cx="792000" cy="0"/>
              </a:xfrm>
              <a:prstGeom prst="line">
                <a:avLst/>
              </a:prstGeom>
              <a:ln w="507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67" name="رابط كسهم مستقيم 63"/>
              <p:cNvCxnSpPr/>
              <p:nvPr/>
            </p:nvCxnSpPr>
            <p:spPr>
              <a:xfrm flipH="1" flipV="1">
                <a:off x="3708000" y="3930840"/>
                <a:ext cx="1152720" cy="2160"/>
              </a:xfrm>
              <a:prstGeom prst="straightConnector1">
                <a:avLst/>
              </a:prstGeom>
              <a:ln w="50760">
                <a:solidFill>
                  <a:srgbClr val="c00000"/>
                </a:solidFill>
                <a:miter/>
                <a:tailEnd len="med" type="triangle" w="med"/>
              </a:ln>
            </p:spPr>
          </p:cxnSp>
        </p:grpSp>
        <p:sp>
          <p:nvSpPr>
            <p:cNvPr id="868" name="رابط مستقيم 45"/>
            <p:cNvSpPr/>
            <p:nvPr/>
          </p:nvSpPr>
          <p:spPr>
            <a:xfrm>
              <a:off x="7885080" y="1930320"/>
              <a:ext cx="4316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رابط مستقيم 47"/>
            <p:cNvSpPr/>
            <p:nvPr/>
          </p:nvSpPr>
          <p:spPr>
            <a:xfrm>
              <a:off x="7885080" y="2708280"/>
              <a:ext cx="4316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رابط مستقيم 48"/>
            <p:cNvSpPr/>
            <p:nvPr/>
          </p:nvSpPr>
          <p:spPr>
            <a:xfrm>
              <a:off x="7885080" y="3500640"/>
              <a:ext cx="4316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رابط مستقيم 49"/>
            <p:cNvSpPr/>
            <p:nvPr/>
          </p:nvSpPr>
          <p:spPr>
            <a:xfrm>
              <a:off x="7885080" y="5229360"/>
              <a:ext cx="4316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رابط مستقيم 50"/>
            <p:cNvSpPr/>
            <p:nvPr/>
          </p:nvSpPr>
          <p:spPr>
            <a:xfrm>
              <a:off x="8317080" y="1916280"/>
              <a:ext cx="0" cy="468144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رابط مستقيم 58"/>
            <p:cNvSpPr/>
            <p:nvPr/>
          </p:nvSpPr>
          <p:spPr>
            <a:xfrm>
              <a:off x="2556000" y="6597720"/>
              <a:ext cx="5689440" cy="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رابط مستقيم 60"/>
            <p:cNvSpPr/>
            <p:nvPr/>
          </p:nvSpPr>
          <p:spPr>
            <a:xfrm>
              <a:off x="2556000" y="4797720"/>
              <a:ext cx="0" cy="1728720"/>
            </a:xfrm>
            <a:prstGeom prst="line">
              <a:avLst/>
            </a:prstGeom>
            <a:ln w="50760">
              <a:solidFill>
                <a:srgbClr val="0070c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8"/>
          <p:cNvSpPr/>
          <p:nvPr/>
        </p:nvSpPr>
        <p:spPr>
          <a:xfrm>
            <a:off x="857160" y="500040"/>
            <a:ext cx="764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 هو أحد عناصر المزيج التسويق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مستطيل 6"/>
          <p:cNvSpPr/>
          <p:nvPr/>
        </p:nvSpPr>
        <p:spPr>
          <a:xfrm>
            <a:off x="2428920" y="2500200"/>
            <a:ext cx="4643280" cy="3357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رابط مستقيم 8"/>
          <p:cNvSpPr/>
          <p:nvPr/>
        </p:nvSpPr>
        <p:spPr>
          <a:xfrm flipH="1">
            <a:off x="2428920" y="4179960"/>
            <a:ext cx="464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رابط مستقيم 11"/>
          <p:cNvSpPr/>
          <p:nvPr/>
        </p:nvSpPr>
        <p:spPr>
          <a:xfrm flipH="1">
            <a:off x="4714560" y="2499480"/>
            <a:ext cx="3636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مربع نص 16"/>
          <p:cNvSpPr/>
          <p:nvPr/>
        </p:nvSpPr>
        <p:spPr>
          <a:xfrm>
            <a:off x="5072040" y="3000240"/>
            <a:ext cx="1785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8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تج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مربع نص 17"/>
          <p:cNvSpPr/>
          <p:nvPr/>
        </p:nvSpPr>
        <p:spPr>
          <a:xfrm>
            <a:off x="2643120" y="300024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سع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مربع نص 18"/>
          <p:cNvSpPr/>
          <p:nvPr/>
        </p:nvSpPr>
        <p:spPr>
          <a:xfrm>
            <a:off x="5072040" y="4599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Arial"/>
                <a:cs typeface="PT Bold Heading"/>
              </a:rPr>
              <a:t>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مربع نص 19"/>
          <p:cNvSpPr/>
          <p:nvPr/>
        </p:nvSpPr>
        <p:spPr>
          <a:xfrm>
            <a:off x="2786040" y="4572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8"/>
          <p:cNvSpPr/>
          <p:nvPr/>
        </p:nvSpPr>
        <p:spPr>
          <a:xfrm>
            <a:off x="684360" y="333360"/>
            <a:ext cx="777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مستطيل 4"/>
          <p:cNvSpPr/>
          <p:nvPr/>
        </p:nvSpPr>
        <p:spPr>
          <a:xfrm>
            <a:off x="928800" y="1557360"/>
            <a:ext cx="7345080" cy="62352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70c0"/>
                </a:solidFill>
                <a:latin typeface="Tahoma"/>
                <a:cs typeface="PT Bold Heading"/>
              </a:rPr>
              <a:t>مجموعة </a:t>
            </a:r>
            <a:r>
              <a:rPr b="1" lang="ar-SA" sz="4800" spc="-1" strike="noStrike">
                <a:solidFill>
                  <a:srgbClr val="e61893"/>
                </a:solidFill>
                <a:latin typeface="Tahoma"/>
                <a:cs typeface="PT Bold Heading"/>
              </a:rPr>
              <a:t>الاتصالات</a:t>
            </a:r>
            <a:r>
              <a:rPr b="1" lang="ar-SA" sz="4800" spc="-1" strike="noStrike">
                <a:solidFill>
                  <a:srgbClr val="0070c0"/>
                </a:solidFill>
                <a:latin typeface="Tahoma"/>
                <a:ea typeface="PT Bold Heading"/>
              </a:rPr>
              <a:t> التي يجريها المنتج بالمشترين المرتقبين بغرض </a:t>
            </a:r>
            <a:r>
              <a:rPr b="1" lang="ar-SA" sz="4800" spc="-1" strike="noStrike">
                <a:solidFill>
                  <a:srgbClr val="ff0000"/>
                </a:solidFill>
                <a:latin typeface="Tahoma"/>
                <a:cs typeface="PT Bold Heading"/>
              </a:rPr>
              <a:t>تعريفهم</a:t>
            </a:r>
            <a:r>
              <a:rPr b="1" lang="ar-SA" sz="4800" spc="-1" strike="noStrike">
                <a:solidFill>
                  <a:srgbClr val="0070c0"/>
                </a:solidFill>
                <a:latin typeface="Tahoma"/>
                <a:ea typeface="PT Bold Heading"/>
              </a:rPr>
              <a:t> و</a:t>
            </a:r>
            <a:r>
              <a:rPr b="1" lang="ar-SA" sz="4800" spc="-1" strike="noStrike">
                <a:solidFill>
                  <a:srgbClr val="00b050"/>
                </a:solidFill>
                <a:latin typeface="Tahoma"/>
                <a:cs typeface="PT Bold Heading"/>
              </a:rPr>
              <a:t>إقناعهم</a:t>
            </a:r>
            <a:r>
              <a:rPr b="1" lang="ar-SA" sz="4800" spc="-1" strike="noStrike">
                <a:solidFill>
                  <a:srgbClr val="0070c0"/>
                </a:solidFill>
                <a:latin typeface="Tahoma"/>
                <a:ea typeface="PT Bold Heading"/>
              </a:rPr>
              <a:t> بالسلع و الخدمات المنتجة و</a:t>
            </a:r>
            <a:r>
              <a:rPr b="1" lang="ar-SA" sz="4800" spc="-1" strike="noStrike">
                <a:solidFill>
                  <a:srgbClr val="ff6600"/>
                </a:solidFill>
                <a:latin typeface="Tahoma"/>
                <a:cs typeface="PT Bold Heading"/>
              </a:rPr>
              <a:t>دفعهم</a:t>
            </a:r>
            <a:r>
              <a:rPr b="1" lang="ar-SA" sz="4800" spc="-1" strike="noStrike">
                <a:solidFill>
                  <a:srgbClr val="0070c0"/>
                </a:solidFill>
                <a:latin typeface="Tahoma"/>
                <a:ea typeface="PT Bold Heading"/>
              </a:rPr>
              <a:t> للشر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31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971640" y="646200"/>
            <a:ext cx="7176960" cy="838080"/>
          </a:xfrm>
          <a:prstGeom prst="rect">
            <a:avLst/>
          </a:prstGeom>
          <a:solidFill>
            <a:srgbClr val="ccff66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cc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549360" y="2063880"/>
            <a:ext cx="1358640" cy="1587240"/>
          </a:xfrm>
          <a:prstGeom prst="rect">
            <a:avLst/>
          </a:prstGeom>
          <a:solidFill>
            <a:srgbClr val="92d050"/>
          </a:solidFill>
          <a:ln w="12600">
            <a:solidFill>
              <a:srgbClr val="400073"/>
            </a:solidFill>
            <a:miter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 rtl="1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  <a:cs typeface="PT Bold Heading"/>
              </a:rPr>
              <a:t>المرس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Group 10"/>
          <p:cNvGrpSpPr/>
          <p:nvPr/>
        </p:nvGrpSpPr>
        <p:grpSpPr>
          <a:xfrm>
            <a:off x="4354560" y="2128680"/>
            <a:ext cx="2300400" cy="1587600"/>
            <a:chOff x="4354560" y="2128680"/>
            <a:chExt cx="2300400" cy="1587600"/>
          </a:xfrm>
        </p:grpSpPr>
        <p:sp>
          <p:nvSpPr>
            <p:cNvPr id="635" name="Rectangle 11"/>
            <p:cNvSpPr/>
            <p:nvPr/>
          </p:nvSpPr>
          <p:spPr>
            <a:xfrm>
              <a:off x="5219640" y="2128680"/>
              <a:ext cx="1435320" cy="1587600"/>
            </a:xfrm>
            <a:prstGeom prst="rect">
              <a:avLst/>
            </a:prstGeom>
            <a:solidFill>
              <a:srgbClr val="c6ff03"/>
            </a:solidFill>
            <a:ln w="12600">
              <a:solidFill>
                <a:srgbClr val="400073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ستقب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>
              <a:off x="4354560" y="2924280"/>
              <a:ext cx="720720" cy="0"/>
            </a:xfrm>
            <a:prstGeom prst="line">
              <a:avLst/>
            </a:prstGeom>
            <a:ln w="50760">
              <a:solidFill>
                <a:srgbClr val="01ff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13"/>
          <p:cNvGrpSpPr/>
          <p:nvPr/>
        </p:nvGrpSpPr>
        <p:grpSpPr>
          <a:xfrm>
            <a:off x="1979640" y="2128680"/>
            <a:ext cx="2305080" cy="1587600"/>
            <a:chOff x="1979640" y="2128680"/>
            <a:chExt cx="2305080" cy="1587600"/>
          </a:xfrm>
        </p:grpSpPr>
        <p:sp>
          <p:nvSpPr>
            <p:cNvPr id="638" name="Rectangle 14"/>
            <p:cNvSpPr/>
            <p:nvPr/>
          </p:nvSpPr>
          <p:spPr>
            <a:xfrm>
              <a:off x="2868480" y="2128680"/>
              <a:ext cx="1416240" cy="1587600"/>
            </a:xfrm>
            <a:prstGeom prst="rect">
              <a:avLst/>
            </a:prstGeom>
            <a:solidFill>
              <a:srgbClr val="35385a"/>
            </a:solidFill>
            <a:ln w="12600">
              <a:solidFill>
                <a:srgbClr val="400073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b">
              <a:noAutofit/>
            </a:bodyPr>
            <a:p>
              <a:pPr algn="ctr" rtl="1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def5fa"/>
                  </a:solidFill>
                  <a:latin typeface="Arial"/>
                  <a:cs typeface="PT Bold Heading"/>
                </a:rPr>
                <a:t>الوسي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5"/>
            <p:cNvSpPr/>
            <p:nvPr/>
          </p:nvSpPr>
          <p:spPr>
            <a:xfrm>
              <a:off x="1979640" y="2924280"/>
              <a:ext cx="792000" cy="0"/>
            </a:xfrm>
            <a:prstGeom prst="line">
              <a:avLst/>
            </a:prstGeom>
            <a:ln w="50760">
              <a:solidFill>
                <a:srgbClr val="01ff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6"/>
            <p:cNvSpPr/>
            <p:nvPr/>
          </p:nvSpPr>
          <p:spPr>
            <a:xfrm>
              <a:off x="2928960" y="2368440"/>
              <a:ext cx="1282680" cy="4446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def5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رسا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Line 19"/>
          <p:cNvSpPr/>
          <p:nvPr/>
        </p:nvSpPr>
        <p:spPr>
          <a:xfrm flipH="1">
            <a:off x="1258920" y="6002280"/>
            <a:ext cx="4633920" cy="1908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2"/>
          <p:cNvSpPr/>
          <p:nvPr/>
        </p:nvSpPr>
        <p:spPr>
          <a:xfrm flipV="1">
            <a:off x="1187280" y="3645000"/>
            <a:ext cx="0" cy="238896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23"/>
          <p:cNvGrpSpPr/>
          <p:nvPr/>
        </p:nvGrpSpPr>
        <p:grpSpPr>
          <a:xfrm>
            <a:off x="5873760" y="2997000"/>
            <a:ext cx="2514600" cy="3456360"/>
            <a:chOff x="5873760" y="2997000"/>
            <a:chExt cx="2514600" cy="3456360"/>
          </a:xfrm>
        </p:grpSpPr>
        <p:sp>
          <p:nvSpPr>
            <p:cNvPr id="644" name="Rectangle 24"/>
            <p:cNvSpPr/>
            <p:nvPr/>
          </p:nvSpPr>
          <p:spPr>
            <a:xfrm>
              <a:off x="5873760" y="5475600"/>
              <a:ext cx="1511280" cy="977760"/>
            </a:xfrm>
            <a:prstGeom prst="rect">
              <a:avLst/>
            </a:prstGeom>
            <a:solidFill>
              <a:srgbClr val="227a8f"/>
            </a:solidFill>
            <a:ln w="12600">
              <a:solidFill>
                <a:srgbClr val="def5fa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def5fa"/>
                  </a:solidFill>
                  <a:latin typeface="Arial"/>
                  <a:cs typeface="PT Bold Heading"/>
                </a:rPr>
                <a:t>تغذية عكس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25"/>
            <p:cNvSpPr/>
            <p:nvPr/>
          </p:nvSpPr>
          <p:spPr>
            <a:xfrm flipH="1">
              <a:off x="7365600" y="6021720"/>
              <a:ext cx="939960" cy="0"/>
            </a:xfrm>
            <a:prstGeom prst="line">
              <a:avLst/>
            </a:prstGeom>
            <a:ln w="50760">
              <a:solidFill>
                <a:srgbClr val="01fff8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6"/>
            <p:cNvSpPr/>
            <p:nvPr/>
          </p:nvSpPr>
          <p:spPr>
            <a:xfrm flipV="1">
              <a:off x="8381880" y="2997000"/>
              <a:ext cx="6480" cy="2971800"/>
            </a:xfrm>
            <a:prstGeom prst="line">
              <a:avLst/>
            </a:prstGeom>
            <a:ln w="50760">
              <a:solidFill>
                <a:srgbClr val="01fff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27"/>
          <p:cNvGrpSpPr/>
          <p:nvPr/>
        </p:nvGrpSpPr>
        <p:grpSpPr>
          <a:xfrm>
            <a:off x="2771640" y="3860640"/>
            <a:ext cx="1511280" cy="2057040"/>
            <a:chOff x="2771640" y="3860640"/>
            <a:chExt cx="1511280" cy="2057040"/>
          </a:xfrm>
        </p:grpSpPr>
        <p:sp>
          <p:nvSpPr>
            <p:cNvPr id="648" name="Rectangle 28"/>
            <p:cNvSpPr/>
            <p:nvPr/>
          </p:nvSpPr>
          <p:spPr>
            <a:xfrm>
              <a:off x="2771640" y="4363560"/>
              <a:ext cx="1511280" cy="978120"/>
            </a:xfrm>
            <a:prstGeom prst="rect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f5fa"/>
              </a:solidFill>
              <a:miter/>
            </a:ln>
            <a:effectLst>
              <a:outerShdw dist="17819" dir="2700000" blurRad="0" rotWithShape="0">
                <a:srgbClr val="def5f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  <a:cs typeface="PT Bold Heading"/>
                </a:rPr>
                <a:t>الضوضا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>
              <a:off x="3527280" y="3860640"/>
              <a:ext cx="0" cy="482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32"/>
            <p:cNvSpPr/>
            <p:nvPr/>
          </p:nvSpPr>
          <p:spPr>
            <a:xfrm flipV="1">
              <a:off x="3527280" y="5434920"/>
              <a:ext cx="0" cy="482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Line 21"/>
          <p:cNvSpPr/>
          <p:nvPr/>
        </p:nvSpPr>
        <p:spPr>
          <a:xfrm flipH="1">
            <a:off x="6948360" y="2924280"/>
            <a:ext cx="1440000" cy="0"/>
          </a:xfrm>
          <a:prstGeom prst="line">
            <a:avLst/>
          </a:prstGeom>
          <a:ln w="50760">
            <a:solidFill>
              <a:srgbClr val="01fff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رابط مستقيم 34"/>
          <p:cNvSpPr/>
          <p:nvPr/>
        </p:nvSpPr>
        <p:spPr>
          <a:xfrm>
            <a:off x="4356000" y="4954680"/>
            <a:ext cx="360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رابط كسهم مستقيم 36"/>
          <p:cNvCxnSpPr/>
          <p:nvPr/>
        </p:nvCxnSpPr>
        <p:spPr>
          <a:xfrm flipV="1">
            <a:off x="4715280" y="2925360"/>
            <a:ext cx="2520" cy="2016720"/>
          </a:xfrm>
          <a:prstGeom prst="straightConnector1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654" name="رابط مستقيم 37"/>
          <p:cNvSpPr/>
          <p:nvPr/>
        </p:nvSpPr>
        <p:spPr>
          <a:xfrm>
            <a:off x="2411280" y="4941720"/>
            <a:ext cx="36036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5" name="رابط كسهم مستقيم 38"/>
          <p:cNvCxnSpPr/>
          <p:nvPr/>
        </p:nvCxnSpPr>
        <p:spPr>
          <a:xfrm flipV="1">
            <a:off x="2410200" y="2923920"/>
            <a:ext cx="2520" cy="2018160"/>
          </a:xfrm>
          <a:prstGeom prst="straightConnector1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مستطيل 2"/>
          <p:cNvSpPr/>
          <p:nvPr/>
        </p:nvSpPr>
        <p:spPr>
          <a:xfrm>
            <a:off x="928800" y="1557360"/>
            <a:ext cx="7345080" cy="63223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مرسل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صاحب المصلحة في توجيه الرسالة الترويجي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                   (المسو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رسالة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مجموعة كلمات أو رموز أو صور أو أرقام تعب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عن الرسالة التي يري المسوق أن ينقلها إلى جمهوره ع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منتج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وسيلة الاتصال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الوسيلة التي يتم عن طريقها نق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                                   رسالة المسوق إلى العمل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مستطيل 2"/>
          <p:cNvSpPr/>
          <p:nvPr/>
        </p:nvSpPr>
        <p:spPr>
          <a:xfrm>
            <a:off x="900000" y="1704960"/>
            <a:ext cx="7344000" cy="5635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4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مستقبل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متلقي الرسالة الترويجية عن طريق حواس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الذي يقوم بفك رموز الرسالة وفهمها وفقاً لشخصي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Tahoma"/>
                <a:ea typeface="PT Bold Heading"/>
              </a:rPr>
              <a:t>      وصفاته ومحيطة البيئي الذي يعيش في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5</a:t>
            </a:r>
            <a:r>
              <a:rPr b="1" lang="ar-SA" sz="3600" spc="-1" strike="noStrike">
                <a:solidFill>
                  <a:srgbClr val="c00000"/>
                </a:solidFill>
                <a:latin typeface="Tahoma"/>
                <a:ea typeface="PT Bold Heading"/>
              </a:rPr>
              <a:t>- التغذية العكسية</a:t>
            </a:r>
            <a:r>
              <a:rPr b="1" lang="ar-SA" sz="3600" spc="-1" strike="noStrike">
                <a:solidFill>
                  <a:srgbClr val="0070c0"/>
                </a:solidFill>
                <a:latin typeface="Tahoma"/>
                <a:ea typeface="PT Bold Heading"/>
              </a:rPr>
              <a:t>: </a:t>
            </a:r>
            <a:r>
              <a:rPr b="1" lang="ar-SA" sz="2400" spc="-1" strike="noStrike">
                <a:solidFill>
                  <a:srgbClr val="0070c0"/>
                </a:solidFill>
                <a:latin typeface="Tahoma"/>
                <a:cs typeface="PT Bold Heading"/>
              </a:rPr>
              <a:t>صاحب المصلحة في توجيه الرسالة الترويجية وقد تكو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ts val="15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  <a:cs typeface="PT Bold Heading"/>
              </a:rPr>
              <a:t>إيجابية</a:t>
            </a:r>
            <a:r>
              <a:rPr b="1" lang="ar-SA" sz="2400" spc="-1" strike="noStrike">
                <a:solidFill>
                  <a:srgbClr val="006600"/>
                </a:solidFill>
                <a:latin typeface="Tahoma"/>
                <a:ea typeface="PT Bold Heading"/>
              </a:rPr>
              <a:t> :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عندما يفهم المستقبل وجهة نظر المرسل ويحدث الأثر المطلو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2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  <a:cs typeface="PT Bold Heading"/>
              </a:rPr>
              <a:t>سلبية</a:t>
            </a:r>
            <a:r>
              <a:rPr b="1" lang="ar-SA" sz="2400" spc="-1" strike="noStrike">
                <a:solidFill>
                  <a:srgbClr val="006600"/>
                </a:solidFill>
                <a:latin typeface="Tahoma"/>
                <a:ea typeface="PT Bold Heading"/>
              </a:rPr>
              <a:t>: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لم يفهم المستهلك</a:t>
            </a:r>
            <a:r>
              <a:rPr b="1" lang="ar-SA" sz="2400" spc="-1" strike="noStrike">
                <a:solidFill>
                  <a:srgbClr val="006600"/>
                </a:solidFill>
                <a:latin typeface="Tahoma"/>
                <a:ea typeface="PT Bold Heading"/>
              </a:rPr>
              <a:t> </a:t>
            </a:r>
            <a:r>
              <a:rPr b="1" lang="ar-SA" sz="1800" spc="-1" strike="noStrike">
                <a:solidFill>
                  <a:srgbClr val="006600"/>
                </a:solidFill>
                <a:latin typeface="Tahoma"/>
                <a:cs typeface="PT Bold Heading"/>
              </a:rPr>
              <a:t>الرسالة ولم تحدث الأثر المطلو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1285920" y="417600"/>
            <a:ext cx="6572160" cy="1739880"/>
          </a:xfrm>
          <a:prstGeom prst="rect">
            <a:avLst/>
          </a:prstGeom>
          <a:solidFill>
            <a:srgbClr val="b5e9f4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cs typeface="PT Bold Heading"/>
              </a:rPr>
              <a:t>عناصر الاتصال الترويج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8"/>
          <p:cNvSpPr/>
          <p:nvPr/>
        </p:nvSpPr>
        <p:spPr>
          <a:xfrm>
            <a:off x="684360" y="333360"/>
            <a:ext cx="77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داف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مستطيل 4"/>
          <p:cNvSpPr/>
          <p:nvPr/>
        </p:nvSpPr>
        <p:spPr>
          <a:xfrm>
            <a:off x="928800" y="1341360"/>
            <a:ext cx="7345080" cy="60966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تزويد العملاء بالمعلو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إثارة اهتمام العملاء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بناء سمعة الشركة وكسب ثقة الجمه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غيير اتجاهات العملاء نحو منتجات الشرك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خلق الرغبة لدى العملاء في شراء 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مساعدة العميل على اتخاذ قرار الشر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تسهيل إنجاز العمليات البي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نشيط وزيادة المبي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Tahoma"/>
                <a:ea typeface="PT Bold Heading"/>
              </a:rPr>
              <a:t> الوصول إلى أفراد يصعب الوصول إلي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ff811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ahoma"/>
                <a:ea typeface="PT Bold Heading"/>
              </a:rPr>
              <a:t> تذكير المستهلك بالمنت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0:10Z</dcterms:modified>
  <cp:revision>1114</cp:revision>
  <dc:subject/>
  <dc:title>الشريحة 1</dc:title>
</cp:coreProperties>
</file>