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dt" idx="3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ftr" idx="3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 type="sldNum" idx="3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72F-A632-4016-9007-B6F6F2CAB6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05C2-D5DE-46D5-8C51-BA7C0544444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2E7-15D5-474F-A78A-9598FA61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61B-32DB-42E9-9C6F-96B79966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501AA-6327-45B9-B0E9-13C29EA1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D9B41-F085-459D-B087-A0FFA7E1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CAEA3-62D1-4118-9EAF-5C9C40AD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FA25D-E223-4AFA-BC97-FC4DC33D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32392-7EF3-48ED-A2B5-FBDCB320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1734A-16D1-43B0-A5AA-A98BD6BB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7E4C6-9E27-4F20-A889-1243E3B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5BFC6-37BE-4024-B374-9CD49D55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F6C21-8D2A-4A1F-AF40-7BF47D57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D9661-0C3D-4AD6-B88E-9A5C5C8F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9A9-C7BE-416F-A60D-6951CC4A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D95D3-4372-4353-9BEE-B09DDCA8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37A4F-38C9-438B-B6A0-301F84DA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E50BC-C57E-477F-BEAC-0D7B91E5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30C5D-4AE3-4931-BC14-3286738E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898D7-EDAB-4098-9B17-722E2BF9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8B723-921A-49DA-AEBA-9FCB5F6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8FA47-434D-47F2-A4D3-B612839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50DBD-D61C-4A62-86C6-435177FC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215BB-8073-402B-A18B-0BB56D79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48DEA-9529-48A4-91B8-BD45AAE4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BE5-51E6-4754-9AB4-DD7DD105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3F04B-CD3F-4A0A-A818-E7FDD4D6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AB68-AB30-4233-B756-D51F3C2D8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F99CD-6DCB-443A-9B7E-0F008D26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53A33-3202-4A8C-B18E-691B6993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65E0E-6BBE-4E98-8DFC-BD88CB7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5500D-DD34-448F-A5A7-EC880A7F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05D06-3D31-4056-BB25-11EBE4E4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BE4A3-3629-42FD-917B-927C57E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84B2F-EB94-4B66-89B0-525A702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9E845-5C6C-45AC-9564-AD6320BD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774C-6BB4-47C2-951C-F3D2B322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3C739-3755-4845-9B1E-5F71CB7F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FD218-CA2B-4DBC-B0B8-EF336ECD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32A77-7C3A-48ED-BEAC-0A05ED94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04468-5AD7-4C08-BF3F-C183A97A4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91D9D-2E06-4117-9FE2-3B379A49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1398F-7D0F-4C4B-BB5B-6388F07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B9EF4-3213-4DBD-A04A-B907AEC2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F8409-0AA9-429D-A99D-EB0B437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3D206-1E76-4398-83D3-B0C5AA1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4797D-A62C-4A3A-A171-2092AF09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32D0-7AB3-4385-B51E-C19BF826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8110C-5B25-4453-81CF-F4F77F49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3FB4C-571E-4D6B-86F8-B1CAB24B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AA3EB-ECBC-4D91-B459-47D2585A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7C560-D817-43FC-A0E2-16FAE6B2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6A9BF-7BEE-4DFB-A8D4-05E1A248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31A1-E64A-4F3E-815E-68EC9BC8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D8DA-E91B-45B1-8E58-03E474DF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621AB-6E06-4FCA-BB4E-91A2D167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AE7-28CC-43CC-ABA1-3958C0E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A9E5-ECDA-4A2A-8BC2-36EED1CA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4866-6D0E-48E0-B5B4-65C31B3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7799-D014-48C7-A5EC-C8D3ECB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5CC8-E9CA-4A7F-B0C6-FE80DBE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C628-E368-4001-8B5B-965B06DC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382B-993C-48FA-9102-9E479DE4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FA91-6AFD-4AC8-82E2-07AEA6EA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DAC40-8817-468F-AC38-D8341811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2AEA-7FEC-4053-A784-45A5F978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CF5EF-B525-400F-9DF6-22472299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3E37-BA5D-4FA3-B345-E1F5DB2D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1353D-9E2D-4615-89F4-F8B7EFAB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04B-8BAA-4836-A255-084931CE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7E65-BB93-4F14-951B-0344EE44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E71A6-75A6-43F9-8182-6EFAE0D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19BE-54D6-4AFA-ACB8-74EC46E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B0E2-DA46-40F1-9388-E7A53412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0A7D1-45A5-403A-9CCD-351A1469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E10FC-6234-4413-970F-2C271A4C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18DEA-8FA8-4685-AE49-6A61FF29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484D-F02F-428C-BA55-FC8C5410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18040-C526-4A93-9DF1-409E5D9A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2CCD-6307-4E8A-8CAC-C77E13B7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A0D-FD82-4600-98EB-B494DA56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16A1-31FC-459C-ADCA-77981AB0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19751-CA00-4B19-B4AD-07AD1F26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CDE7-7FB7-46AA-9681-C9E2D7B3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3B6D-D357-4196-A907-3F50C7B4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588A-BBD2-4D38-9889-2B1AD52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E1B3C-9F78-4FFD-9D64-A54BA846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8E47B-10AE-423C-8A0F-5BBE8677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64CB-69D9-42A7-B26A-88F23806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CFB16-D7B6-4048-8544-2E4836B1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81C70-FB2E-4E5C-A787-1E06C856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9254-3EE7-4523-B2F2-0AC6CCF5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CE3CA-F626-4709-A121-CFEFF3F2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3144D-BF4A-4E23-9D57-B590CB81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A6D1-9746-4718-A126-FE321BF7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933D2-B365-40FA-92EA-590A2859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06B9E-1D30-491B-AAF6-9D204FE3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0B46-9EB1-4E98-B246-626DD141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4BA88-630C-4BA4-B708-0E92924A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2D842-1DE6-49D5-BB8A-F453C11E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6ADD1-8345-46BE-B79C-8ACCC01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85CEC-6EBA-4738-91CD-E267DDAB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C1A2-DC54-408B-9360-13FDA4A8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D3970-94B2-417D-8E59-803F34D9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6960-058E-40AA-B5A7-50652A81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FECEE-2936-4522-8692-A9A12455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5BD0C-8EE9-4C95-B81F-8E6A4B79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BFC1-9FD4-4F84-898A-750BDE7E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91F5C-326C-413E-8905-9D6E5364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A518D-1C84-4CA0-A7BB-86900752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EC87F-33F0-47C8-84B3-D9EB2DC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4EAA0-411B-4559-91A8-1223D6E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E80F-13CE-45F2-9C42-6768AC3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564-1FC4-4DE4-AF53-E6D6C71D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B832B-BFA3-47C9-9156-48230AC5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D59B2-78A3-4BA0-9329-4CAD1C24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3EE89-4122-469E-985E-9118F94B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CBFD5-7E4E-41FC-9C36-46CAF68A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FADD-E29A-423C-B0AB-C39A6C4A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40846-641D-49CE-B943-82D62773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4CC4-FCF0-4ACB-8D4A-AE5FD68E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E270F-346E-4093-89D5-46ED7201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219EF-CA8C-4212-96BD-6A627393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D1668-083D-4546-B83F-579D98A0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EF3-916D-44D8-9D68-E227B54D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EC667-51EE-48E3-997A-4E5164B6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FDC55-B42F-474D-A238-9A869E3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46581-5856-446D-B8E4-3D2A3F74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A5F42-EC2C-45A2-BB62-324E57A6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ABF8C-61B7-4EBD-A30E-94E12CFD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A4DA9-183F-4445-95B7-42CB3C7C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ECA49-97C1-415F-BB0D-9745346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E12CE-F706-4D44-8A3D-9573402E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23B92-C8DE-4AC6-B60A-13618D90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F651-95FB-4B04-9634-6FD4307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A18-AA2F-4766-B165-FE1F2FC7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01694-1FA4-4738-8DEA-423B0818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D1E70-A514-4C9A-9958-4F44FE3E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0CC41-4931-44EA-8927-DC16960B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27DC6-C22C-4ED1-ADE5-E0AE2E3E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38BBC-77BE-4BAA-9FA0-9C5CAEDB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C8D80-3586-4AF4-A76D-2CB62489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C7494-79E5-49CC-B75A-E15A00EF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0D271-F39E-472F-A69C-7B4D60A6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A55BC-4DDC-432E-B6FB-17459566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850E9-0D8E-4A9E-9874-FF7451D1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09AC-E04D-43C1-9646-C617044527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300A-77F5-4322-ABC7-F32E292636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8AC4-80FC-4D25-B431-4934DD0EA8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61FB-96C4-4D48-B753-9C0E9F1EA0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5569-8C26-4871-B0FF-EBE72BD343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A465-7D1B-41E9-B30D-3FFF46601E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8A2A-8143-4F6D-A56C-0683580A76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3024-D99A-4C7A-8579-D2DE7B7992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A977-19A2-4BAC-8742-27E5651579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1DDF-6241-46B7-894C-BD15897960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6D94-2FCC-45D1-84AF-B9277AF879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f93d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023-C6D0-411F-AFD8-2EB0EB24E5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2786040" y="1174680"/>
            <a:ext cx="542916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000000"/>
                </a:solidFill>
                <a:latin typeface="Arial"/>
                <a:cs typeface="PT Bold Heading"/>
              </a:rPr>
              <a:t>إدارة التسويق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 rot="20312400">
            <a:off x="1749960" y="3765960"/>
            <a:ext cx="239040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د. محمود صال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شكل بيضاوي 5"/>
          <p:cNvSpPr/>
          <p:nvPr/>
        </p:nvSpPr>
        <p:spPr>
          <a:xfrm>
            <a:off x="357120" y="1928880"/>
            <a:ext cx="1714680" cy="18572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مربع نص 6"/>
          <p:cNvSpPr/>
          <p:nvPr/>
        </p:nvSpPr>
        <p:spPr>
          <a:xfrm>
            <a:off x="642960" y="1785960"/>
            <a:ext cx="1071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8"/>
          <p:cNvSpPr/>
          <p:nvPr/>
        </p:nvSpPr>
        <p:spPr>
          <a:xfrm>
            <a:off x="642960" y="2286000"/>
            <a:ext cx="77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لاقة التبادلية بين المنتج والمستهلك هي جوهر النشاط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9"/>
          <p:cNvSpPr/>
          <p:nvPr/>
        </p:nvSpPr>
        <p:spPr>
          <a:xfrm>
            <a:off x="5670720" y="3648240"/>
            <a:ext cx="1763640" cy="91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نت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1500120" y="58572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يعتمد نجاح التسويق على نجاح العلاقة التبادلية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571840" y="3643200"/>
            <a:ext cx="1763640" cy="173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رابط منحني 68"/>
          <p:cNvCxnSpPr>
            <a:stCxn id="630" idx="0"/>
            <a:endCxn id="632" idx="0"/>
          </p:cNvCxnSpPr>
          <p:nvPr/>
        </p:nvCxnSpPr>
        <p:spPr>
          <a:xfrm flipV="1" rot="16200000">
            <a:off x="5000040" y="2094840"/>
            <a:ext cx="5760" cy="3101040"/>
          </a:xfrm>
          <a:prstGeom prst="curvedConnector5">
            <a:avLst>
              <a:gd name="adj1" fmla="val 27900000"/>
              <a:gd name="adj2" fmla="val 49994"/>
              <a:gd name="adj3" fmla="val 2790000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cxnSp>
        <p:nvCxnSpPr>
          <p:cNvPr id="634" name="رابط منحني 71"/>
          <p:cNvCxnSpPr>
            <a:stCxn id="632" idx="2"/>
            <a:endCxn id="630" idx="2"/>
          </p:cNvCxnSpPr>
          <p:nvPr/>
        </p:nvCxnSpPr>
        <p:spPr>
          <a:xfrm flipH="1" rot="16200000">
            <a:off x="5002200" y="3023280"/>
            <a:ext cx="2160" cy="3099240"/>
          </a:xfrm>
          <a:prstGeom prst="curvedConnector5">
            <a:avLst>
              <a:gd name="adj1" fmla="val 86660000"/>
              <a:gd name="adj2" fmla="val 50000"/>
              <a:gd name="adj3" fmla="val 86660000"/>
            </a:avLst>
          </a:prstGeom>
          <a:ln w="55080">
            <a:solidFill>
              <a:srgbClr val="da1f28"/>
            </a:solidFill>
            <a:miter/>
            <a:tailEnd len="med" type="triangle" w="med"/>
          </a:ln>
        </p:spPr>
      </p:cxnSp>
      <p:sp>
        <p:nvSpPr>
          <p:cNvPr id="635" name="Text Box 9"/>
          <p:cNvSpPr/>
          <p:nvPr/>
        </p:nvSpPr>
        <p:spPr>
          <a:xfrm>
            <a:off x="2928960" y="2563920"/>
            <a:ext cx="412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سلع –خدمات – أفك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أشخاص – أماكن - منظ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2928960" y="5000760"/>
            <a:ext cx="4121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7030a0"/>
                </a:solidFill>
                <a:latin typeface="Arial"/>
                <a:cs typeface="PT Bold Heading"/>
              </a:rPr>
              <a:t>مقابل مادي أو معنو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8"/>
          <p:cNvSpPr/>
          <p:nvPr/>
        </p:nvSpPr>
        <p:spPr>
          <a:xfrm>
            <a:off x="642960" y="571680"/>
            <a:ext cx="77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فهم سلوك المستهل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هو الأساس في نجاح العلاقة التبادل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642960" y="3071880"/>
            <a:ext cx="77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حيث يعتمد عليها المنتج في بناء استراتيجياته التسويق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تعلقة بالمنتج والسعر والترويج والتوزي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8"/>
          <p:cNvSpPr/>
          <p:nvPr/>
        </p:nvSpPr>
        <p:spPr>
          <a:xfrm>
            <a:off x="428760" y="428760"/>
            <a:ext cx="8243640" cy="79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شروط نجاح عملية التبادل التسويق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وجود </a:t>
            </a:r>
            <a:r>
              <a:rPr b="0" lang="ar-SA" sz="3200" spc="-1" strike="noStrike">
                <a:solidFill>
                  <a:srgbClr val="7030a0"/>
                </a:solidFill>
                <a:latin typeface="Arial"/>
                <a:cs typeface="PT Bold Heading"/>
              </a:rPr>
              <a:t>طرفي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(بائع ومشتري) لكل منهما حاجات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ورغبات يريد أن يشبع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دى كل طرف </a:t>
            </a:r>
            <a:r>
              <a:rPr b="0" lang="ar-SA" sz="3200" spc="-1" strike="noStrike">
                <a:solidFill>
                  <a:srgbClr val="00b050"/>
                </a:solidFill>
                <a:latin typeface="Arial"/>
                <a:cs typeface="PT Bold Heading"/>
              </a:rPr>
              <a:t>قيم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يقدمها للآخر تلبية لحاجاته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ورغب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كل طرف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الح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في قبول أو رفض عرض الطر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   الآخر (القبول طواعية دون إلزا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0" lang="ar-SA" sz="3200" spc="-1" strike="noStrike">
                <a:solidFill>
                  <a:srgbClr val="da1f28"/>
                </a:solidFill>
                <a:latin typeface="Arial"/>
                <a:cs typeface="PT Bold Heading"/>
              </a:rPr>
              <a:t>اتص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طرفين ببعضهما اتصالاً فعال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8"/>
          <p:cNvSpPr/>
          <p:nvPr/>
        </p:nvSpPr>
        <p:spPr>
          <a:xfrm>
            <a:off x="571680" y="2992320"/>
            <a:ext cx="82152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ا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8"/>
          <p:cNvSpPr/>
          <p:nvPr/>
        </p:nvSpPr>
        <p:spPr>
          <a:xfrm>
            <a:off x="642960" y="500040"/>
            <a:ext cx="7883640" cy="64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تعريف التسو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مجموعة من 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cs typeface="PT Bold Heading"/>
              </a:rPr>
              <a:t>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ي يتم تصميمها </a:t>
            </a:r>
            <a:r>
              <a:rPr b="0" lang="ar-SA" sz="3200" spc="-1" strike="noStrike">
                <a:solidFill>
                  <a:srgbClr val="105766"/>
                </a:solidFill>
                <a:latin typeface="Arial"/>
                <a:cs typeface="PT Bold Heading"/>
              </a:rPr>
              <a:t>لتسهيل وإنجاز عملي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05766"/>
                </a:solidFill>
                <a:latin typeface="Arial"/>
                <a:ea typeface="PT Bold Heading"/>
              </a:rPr>
              <a:t>    التباد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بهدف تحقيق 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cs typeface="PT Bold Heading"/>
              </a:rPr>
              <a:t>أهدا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طرفي التباد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من خلال قيام المسوق 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cs typeface="PT Bold Heading"/>
              </a:rPr>
              <a:t>بتخطيط وتطوير المنتجات 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    وتسعيرها ، والترويج لها ، وتوزيع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357120" y="2571840"/>
            <a:ext cx="8407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تموي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موارد البش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ويق</a:t>
            </a:r>
            <a:r>
              <a:rPr b="0" lang="ar-SA" sz="5400" spc="-1" strike="noStrike">
                <a:solidFill>
                  <a:srgbClr val="ffffff"/>
                </a:solidFill>
                <a:latin typeface="Arial"/>
                <a:ea typeface="AL-Mohanad Bold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إنتا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1785960" y="214200"/>
            <a:ext cx="657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سويق هو أحد الأنشطة الرئيس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ي تعتمد عليها المنشأة في إدارة أعمال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سهم منحني إلى اليمين 12"/>
          <p:cNvSpPr/>
          <p:nvPr/>
        </p:nvSpPr>
        <p:spPr>
          <a:xfrm>
            <a:off x="1857240" y="2000160"/>
            <a:ext cx="4357800" cy="4071960"/>
          </a:xfrm>
          <a:custGeom>
            <a:avLst/>
            <a:gdLst>
              <a:gd name="textAreaLeft" fmla="*/ 583560 w 4357800"/>
              <a:gd name="textAreaRight" fmla="*/ 3774240 w 4357800"/>
              <a:gd name="textAreaTop" fmla="*/ 682200 h 4071960"/>
              <a:gd name="textAreaBottom" fmla="*/ 26964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39" stAng="-5400000" swAng="-5400000"/>
                <a:lnTo>
                  <a:pt x="0" y="10685"/>
                </a:lnTo>
                <a:arcTo wR="21600" hR="7239" stAng="10800000" swAng="-3261697"/>
                <a:lnTo>
                  <a:pt x="16554" y="21400"/>
                </a:lnTo>
                <a:lnTo>
                  <a:pt x="21600" y="16200"/>
                </a:lnTo>
                <a:lnTo>
                  <a:pt x="16554" y="10600"/>
                </a:lnTo>
                <a:lnTo>
                  <a:pt x="16554" y="14277"/>
                </a:lnTo>
                <a:arcTo wR="21600" hR="7239" stAng="7538303" swAng="2979990"/>
                <a:lnTo>
                  <a:pt x="621" y="8962"/>
                </a:lnTo>
                <a:arcTo wR="21600" hR="7239" stAng="-10518293" swAng="5118293"/>
                <a:close/>
              </a:path>
              <a:path fill="darkenLess" w="21600" h="21600">
                <a:moveTo>
                  <a:pt x="21600" y="0"/>
                </a:moveTo>
                <a:arcTo wR="21600" hR="7239" stAng="-5400000" swAng="-5400000"/>
                <a:lnTo>
                  <a:pt x="0" y="7239"/>
                </a:lnTo>
                <a:arcTo wR="21600" hR="7239" stAng="10800000" swAng="-281707"/>
                <a:lnTo>
                  <a:pt x="621" y="8962"/>
                </a:lnTo>
                <a:arcTo wR="21600" hR="7239" stAng="-10518293" swAng="5118293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8"/>
          <p:cNvSpPr/>
          <p:nvPr/>
        </p:nvSpPr>
        <p:spPr>
          <a:xfrm>
            <a:off x="1500120" y="64296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سويق هو الوظيفة المحورية بالمنظ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6148440" y="2143080"/>
            <a:ext cx="2066760" cy="3660120"/>
          </a:xfrm>
          <a:prstGeom prst="rect">
            <a:avLst/>
          </a:prstGeom>
          <a:solidFill>
            <a:srgbClr val="08de2c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تسوي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1643040" y="1714680"/>
            <a:ext cx="2067120" cy="1739880"/>
          </a:xfrm>
          <a:prstGeom prst="rect">
            <a:avLst/>
          </a:prstGeom>
          <a:solidFill>
            <a:srgbClr val="ffff0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تدبير الاحتياجات المادية والبشرية (تمويل، موارد بشرية، عدد وآلات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1647720" y="4381560"/>
            <a:ext cx="2067120" cy="916920"/>
          </a:xfrm>
          <a:prstGeom prst="rect">
            <a:avLst/>
          </a:prstGeom>
          <a:solidFill>
            <a:srgbClr val="00b0f0"/>
          </a:solidFill>
          <a:ln w="442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ملية التشغي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PT Bold Heading"/>
              </a:rPr>
              <a:t>(الإنتا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رابط كسهم مستقيم 15"/>
          <p:cNvCxnSpPr/>
          <p:nvPr/>
        </p:nvCxnSpPr>
        <p:spPr>
          <a:xfrm flipH="1" flipV="1">
            <a:off x="3714120" y="2855160"/>
            <a:ext cx="24296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2" name="رابط كسهم مستقيم 23"/>
          <p:cNvCxnSpPr/>
          <p:nvPr/>
        </p:nvCxnSpPr>
        <p:spPr>
          <a:xfrm>
            <a:off x="3714480" y="4857840"/>
            <a:ext cx="242964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3" name="رابط كسهم مستقيم 25"/>
          <p:cNvCxnSpPr>
            <a:stCxn id="599" idx="2"/>
            <a:endCxn id="600" idx="0"/>
          </p:cNvCxnSpPr>
          <p:nvPr/>
        </p:nvCxnSpPr>
        <p:spPr>
          <a:xfrm>
            <a:off x="2675520" y="3192120"/>
            <a:ext cx="540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4" name="Text Box 8"/>
          <p:cNvSpPr/>
          <p:nvPr/>
        </p:nvSpPr>
        <p:spPr>
          <a:xfrm>
            <a:off x="3857760" y="1905120"/>
            <a:ext cx="207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عرف على حاجات ورغبات العمل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نبؤ بالطل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8"/>
          <p:cNvSpPr/>
          <p:nvPr/>
        </p:nvSpPr>
        <p:spPr>
          <a:xfrm>
            <a:off x="3857760" y="4406760"/>
            <a:ext cx="207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منتجات تامة الصن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3929040" y="6264360"/>
            <a:ext cx="392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تحقيق الإيرادات والأرباح – والمساهمة في تطوير المنتج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رابط كسهم مستقيم 31"/>
          <p:cNvCxnSpPr>
            <a:stCxn id="598" idx="2"/>
          </p:cNvCxnSpPr>
          <p:nvPr/>
        </p:nvCxnSpPr>
        <p:spPr>
          <a:xfrm flipH="1">
            <a:off x="6643080" y="5835600"/>
            <a:ext cx="538920" cy="380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8"/>
          <p:cNvSpPr/>
          <p:nvPr/>
        </p:nvSpPr>
        <p:spPr>
          <a:xfrm>
            <a:off x="642960" y="500040"/>
            <a:ext cx="7786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يتضح من الشكل السابق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سويق هو المحرك الأول لبقية أنشطة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تدبير الاحتياجات يعتمد على ما يقدمه مدير التسويق من 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نشاط التسويقي هو الذي يجلب الإيراد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دور التسويق لا ينتهي ببيع المنتج ل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show_file3"/>
          <p:cNvPicPr/>
          <p:nvPr/>
        </p:nvPicPr>
        <p:blipFill>
          <a:blip r:embed="rId1"/>
          <a:stretch/>
        </p:blipFill>
        <p:spPr>
          <a:xfrm>
            <a:off x="-542880" y="-469800"/>
            <a:ext cx="10229760" cy="7797600"/>
          </a:xfrm>
          <a:prstGeom prst="rect">
            <a:avLst/>
          </a:prstGeom>
          <a:ln w="0">
            <a:noFill/>
          </a:ln>
        </p:spPr>
      </p:pic>
      <p:sp>
        <p:nvSpPr>
          <p:cNvPr id="610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290680" y="857160"/>
            <a:ext cx="606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يعمل التسويق على إشباع حاجا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رغبات العملاء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357120" y="2500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توفير المنتج المناسب  (المنتج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بالسعر المناسب (التسعير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في الوقت والمكان المناسبين وبالكمية المناسبة (التوزي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cs typeface="PT Bold Heading"/>
              </a:rPr>
              <a:t>بتوفير المعلومات المناسبة (التروي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show_file3"/>
          <p:cNvPicPr/>
          <p:nvPr/>
        </p:nvPicPr>
        <p:blipFill>
          <a:blip r:embed="rId1"/>
          <a:stretch/>
        </p:blipFill>
        <p:spPr>
          <a:xfrm>
            <a:off x="-523800" y="-695160"/>
            <a:ext cx="10228320" cy="779112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 rot="20398800">
            <a:off x="133200" y="549360"/>
            <a:ext cx="1747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مقدمـــة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8"/>
          <p:cNvSpPr/>
          <p:nvPr/>
        </p:nvSpPr>
        <p:spPr>
          <a:xfrm>
            <a:off x="857160" y="2413080"/>
            <a:ext cx="7429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c00000"/>
                </a:solidFill>
                <a:latin typeface="Arial"/>
                <a:cs typeface="PT Bold Heading"/>
              </a:rPr>
              <a:t>عناصر المزيج التسويق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7"/>
          <p:cNvSpPr/>
          <p:nvPr/>
        </p:nvSpPr>
        <p:spPr>
          <a:xfrm rot="20398800">
            <a:off x="316440" y="546120"/>
            <a:ext cx="137844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5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زيع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1857240" y="642960"/>
            <a:ext cx="628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عناصر المزيج التسويقي (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Marketing Mix</a:t>
            </a: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مستطيل 6"/>
          <p:cNvSpPr/>
          <p:nvPr/>
        </p:nvSpPr>
        <p:spPr>
          <a:xfrm>
            <a:off x="2428920" y="2500200"/>
            <a:ext cx="4643280" cy="33577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رابط مستقيم 8"/>
          <p:cNvSpPr/>
          <p:nvPr/>
        </p:nvSpPr>
        <p:spPr>
          <a:xfrm flipH="1">
            <a:off x="2428920" y="4178160"/>
            <a:ext cx="464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رابط مستقيم 11"/>
          <p:cNvSpPr/>
          <p:nvPr/>
        </p:nvSpPr>
        <p:spPr>
          <a:xfrm>
            <a:off x="4749840" y="2500200"/>
            <a:ext cx="1440" cy="33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مربع نص 16"/>
          <p:cNvSpPr/>
          <p:nvPr/>
        </p:nvSpPr>
        <p:spPr>
          <a:xfrm>
            <a:off x="5072040" y="300024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cs typeface="PT Bold Heading"/>
              </a:rPr>
              <a:t>المنت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مربع نص 17"/>
          <p:cNvSpPr/>
          <p:nvPr/>
        </p:nvSpPr>
        <p:spPr>
          <a:xfrm>
            <a:off x="2643120" y="300024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6600"/>
                </a:solidFill>
                <a:latin typeface="Arial"/>
                <a:cs typeface="PT Bold Heading"/>
              </a:rPr>
              <a:t>التسع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مربع نص 18"/>
          <p:cNvSpPr/>
          <p:nvPr/>
        </p:nvSpPr>
        <p:spPr>
          <a:xfrm>
            <a:off x="5072040" y="4599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cs typeface="PT Bold Heading"/>
              </a:rPr>
              <a:t>التروي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مربع نص 19"/>
          <p:cNvSpPr/>
          <p:nvPr/>
        </p:nvSpPr>
        <p:spPr>
          <a:xfrm>
            <a:off x="2786040" y="457200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030a0"/>
                </a:solidFill>
                <a:latin typeface="Arial"/>
                <a:cs typeface="PT Bold Heading"/>
              </a:rPr>
              <a:t>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8"/>
          <p:cNvSpPr/>
          <p:nvPr/>
        </p:nvSpPr>
        <p:spPr>
          <a:xfrm>
            <a:off x="1857240" y="42876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عناصر المزيج التسويقي من وجهة نظر العمي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571680" y="2143080"/>
            <a:ext cx="8215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006600"/>
                </a:solidFill>
                <a:uFillTx/>
                <a:latin typeface="Arial"/>
                <a:cs typeface="PT Bold Heading"/>
              </a:rPr>
              <a:t>وسيلة لإشباع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حاجات ورغبات (المنت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Arial"/>
                <a:cs typeface="PT Bold Heading"/>
              </a:rPr>
              <a:t>تكلفة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يتحملها للحصول على المنتج (السع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وسيلة </a:t>
            </a:r>
            <a:r>
              <a:rPr b="0" lang="ar-SA" sz="3200" spc="-1" strike="noStrike" u="sng">
                <a:solidFill>
                  <a:srgbClr val="006600"/>
                </a:solidFill>
                <a:uFillTx/>
                <a:latin typeface="Arial"/>
                <a:cs typeface="PT Bold Heading"/>
              </a:rPr>
              <a:t>اتصال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لجمع معلومات عن المنتج (الترويج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200" spc="-1" strike="noStrike" u="sng">
                <a:solidFill>
                  <a:srgbClr val="002060"/>
                </a:solidFill>
                <a:uFillTx/>
                <a:latin typeface="Arial"/>
                <a:cs typeface="PT Bold Heading"/>
              </a:rPr>
              <a:t>نظام مريح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يحصل منه على المنتج في المكان و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  المناسبين (التوزي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8"/>
          <p:cNvSpPr/>
          <p:nvPr/>
        </p:nvSpPr>
        <p:spPr>
          <a:xfrm>
            <a:off x="1500120" y="285840"/>
            <a:ext cx="628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تمديد عناصر المزيج التسو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500040" y="1285920"/>
            <a:ext cx="821520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1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- المنتج 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Product</a:t>
            </a:r>
            <a:r>
              <a:rPr b="0" lang="ar-SA" sz="3200" spc="-1" strike="noStrike">
                <a:solidFill>
                  <a:srgbClr val="00660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سعير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Pricing</a:t>
            </a:r>
            <a:r>
              <a:rPr b="0" lang="ar-SA" sz="32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3</a:t>
            </a:r>
            <a:r>
              <a:rPr b="0" lang="ar-SA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 الترويج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PT Bold Heading"/>
              </a:rPr>
              <a:t>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d0d0d"/>
                </a:solidFill>
                <a:latin typeface="Arial"/>
                <a:ea typeface="PT Bold Heading"/>
              </a:rPr>
              <a:t>4</a:t>
            </a:r>
            <a:r>
              <a:rPr b="0" lang="ar-SA" sz="3200" spc="-1" strike="noStrike">
                <a:solidFill>
                  <a:srgbClr val="0d0d0d"/>
                </a:solidFill>
                <a:latin typeface="Arial"/>
                <a:ea typeface="PT Bold Heading"/>
              </a:rPr>
              <a:t>- التوزيع 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  <a:ea typeface="PT Bold Heading"/>
              </a:rPr>
              <a:t>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5</a:t>
            </a:r>
            <a:r>
              <a:rPr b="0" lang="ar-SA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- العاملون </a:t>
            </a:r>
            <a:r>
              <a:rPr b="0" lang="en-US" sz="3200" spc="-1" strike="noStrike">
                <a:solidFill>
                  <a:srgbClr val="e61893"/>
                </a:solidFill>
                <a:latin typeface="Arial"/>
                <a:ea typeface="PT Bold Heading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6</a:t>
            </a:r>
            <a:r>
              <a:rPr b="0" lang="ar-SA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-العملية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  <a:ea typeface="PT Bold Heading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165160"/>
                </a:solidFill>
                <a:latin typeface="Arial"/>
                <a:ea typeface="PT Bold Heading"/>
              </a:rPr>
              <a:t>7</a:t>
            </a:r>
            <a:r>
              <a:rPr b="0" lang="ar-SA" sz="3200" spc="-1" strike="noStrike">
                <a:solidFill>
                  <a:srgbClr val="165160"/>
                </a:solidFill>
                <a:latin typeface="Arial"/>
                <a:ea typeface="PT Bold Heading"/>
              </a:rPr>
              <a:t>- المظهر المادي </a:t>
            </a:r>
            <a:r>
              <a:rPr b="0" lang="en-US" sz="3200" spc="-1" strike="noStrike">
                <a:solidFill>
                  <a:srgbClr val="165160"/>
                </a:solidFill>
                <a:latin typeface="Arial"/>
                <a:ea typeface="PT Bold Heading"/>
              </a:rPr>
              <a:t>Physical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aldarrab</cp:lastModifiedBy>
  <dcterms:modified xsi:type="dcterms:W3CDTF">2015-09-13T10:37:26Z</dcterms:modified>
  <cp:revision>203</cp:revision>
  <dc:subject/>
  <dc:title>الشريحة 1</dc:title>
</cp:coreProperties>
</file>