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dt" idx="3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ftr" idx="3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 type="sldNum" idx="3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27CEE-D2D7-4C9C-812B-A5173559F1F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04BEC-0D6D-456B-A9F0-5489C269846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585D-BB60-449F-B297-359F627E6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4CE6-5521-4670-9D1D-D3C1D1291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584911-F743-44A5-B7D6-5245BAF1A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E647E8-0DA7-4FAC-806F-5E26E4D62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A9FB37-35AB-4D5A-8B24-671FE1D88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E3A68C-8A8D-4321-B4F7-ACAB92E1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75D1B3-2CDD-40CF-A549-8799BFA8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0B4C92-9B4B-4C9B-A1B4-857C0E4D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1E9942-4F50-40D8-8B50-A9F68E091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1FBE3A-ABC7-4BCA-AE56-7D12050ED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642926-66DC-4BF5-AA69-70D3469F2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644EDE-8422-47A6-86F9-325A55F2A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9D55-4200-4137-A23B-A3F6829BB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08DD42-3E87-4B09-B315-AC935D207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F03DC7-B108-4F53-B881-EFCF6CCA5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F8FED8-4B08-44B2-B1C4-EFB9CEF95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F1CB94-FC22-4825-8E1F-F48AFB235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CA7BD4-18F0-4815-BD6F-133A102CE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5E3D3B-083A-4179-B111-4BA4F6D3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FBD877-A651-4E3D-A06D-6106F4E39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823FF4-19DF-49E3-848D-F890004F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D1A060-01F5-4F33-9390-17A572CC0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2ED5C4-ACC1-4433-89BC-565C96BA4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8D7D-0227-4E68-9FD4-F20FC0644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A72B94-6E73-45A2-9210-266A5DD9E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7ED60F-380C-432F-B71C-03E5BC12D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1B37C3-759F-45F5-B63C-C8FCFC95C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AB3C04-19F1-44E0-83BE-865459CE4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22FED7-5103-4D87-A6B4-A5878B96F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11C71A-F479-4A8D-9FE2-5CFD59025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EA5F4B-FED5-4FCC-93FC-7FD6DC082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120C66-CCB0-4C37-B91B-BD0067CA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118B87-11B7-4A6C-A44A-8099B231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3C0E68-F330-4041-80AD-146381A9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C2E14-A1D9-4368-A54F-412F4C060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34B751-CDD9-4D0A-81B8-68B2D869D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465DC4-97EE-4AB6-ABEE-57B9554D8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C86833-A660-43F6-907D-5152AA0A9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2DE8D6-A38B-455D-840F-7E04BE3AE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39A064-7483-42CC-83EB-1B24E76A0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70C2CE-90C5-40B9-805E-335FA1CFE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5274CA-2F9B-4B33-A81A-6E106478B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3E920E-855A-4B6C-A7F5-3CBC42543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D8BCE7-64AE-4328-94A5-48D2A6A3D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A62E5A-BB10-40C6-9CD2-A04D8BFF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48E2D-583F-4451-B2FC-B7DEAC257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A6A363-54B6-4684-A9F5-62582DD4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CD5D7B-68FA-4E28-B547-C3E0A330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42DAD1-39BA-4A5C-83D9-EE8E88581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43B693-83F4-4294-A772-0D2CCBA0C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0A397B-A483-487B-89F4-2623BF15D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29A1A-4ACC-4DC2-88BE-A49AD8483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3A0CF-FFBC-4F12-BC47-7AD93A879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24616-E9C0-44C0-83A6-FAD19DBAF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F05ED-9097-4C87-9798-532FFB8A6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37E0D-585D-4455-A48B-28A78BD3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E91D-0C0A-4AE3-80A1-A4E36550E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5BF7A-1FCD-4F4A-B844-9195DF4B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30D6E-00BC-451F-B3F6-3BCB45B1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CDC15-2846-4E02-A273-8D9CD9FF5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B6784-984D-4AE1-B011-02AF8EDBF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211CC-B726-4D7E-9BEC-53446109F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981A3-2AA6-4222-A87C-3AAFC4122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86CCD-52F9-4705-81FE-371C420C9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A88B2-77C6-4A1F-AB8F-05C86494F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BEBC3-8B18-48CA-9DEA-71CED987E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CB8FC-1D48-4B1B-A22C-E195555E5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A634-C816-4623-8ED3-5739D49B2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D6D9F-E1FA-4CA4-A716-41A986F5A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3D1D8-40B5-4947-8C68-1C3AFB0F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F4864-211F-4861-9B6C-772DFD96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6C3B3-EB94-4BA0-8895-F942F76E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61E04-D603-4DB4-BA1A-7B82EBD65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6C34A-5B27-4A2B-BDE0-C09C0D69D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7041B-41BA-4172-A184-40A4C46D4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D16EE-BD51-4F1C-A53D-C88023ADF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2266E-6BE5-4917-868B-F6E048397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D82C3-9D3E-416E-9E9A-1398AF1A2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BEE0-9B04-4946-AD74-3A96AC377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94E8B-711B-4246-A1D7-B119C285C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1C272-A6D9-4A88-87D0-C3BD62EF2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63238-C44E-4C03-8848-94210225F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81B68-AF56-4FEE-9CF9-008003E1F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D8793-C51A-490F-AC6A-D9CA7818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ADBB7-86DD-4BD7-8B4D-751137CE9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4FA74-D774-42D7-B3C4-13CA06F6C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8176C-BAFD-445D-A313-A7F995DD6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3869E-31CE-477C-A886-F9A082630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E4DA9-4C96-4E9B-8BB0-47E4BD6FC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0744-45E8-41D9-B6AE-A0B69B299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C9CBB-F456-4BD8-9EF9-E5C298864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79054-E219-4B50-AC3F-6986E23DE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BAD9F-AA1E-4B2C-81F1-0EB2E519D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8CDCB-9241-4980-BD05-0C818854D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3C7A3-5C16-432C-AF19-EC99BC2E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8EF33-8338-4921-9EB2-F9D69D12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D5084-EAE2-45C9-831B-48FB22AB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56B47-024A-4AAB-AF8D-A39A43DA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71CEC-05D1-4B48-93C2-1C117C5FC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BA3CE-9D07-4A9C-8B21-9C1C5ADFF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60B5-DB97-4E74-B346-FE8421772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8C683-8DEA-488E-82BB-3E080BA4D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7453C-E157-488E-AEA3-E276BE714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F10C9C-2F9D-4D2E-8566-27697E060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D0F29-E95C-4204-9B8C-17727DD49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9FB4B-B31A-4002-A8AD-445EB0C59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413E06-0A5D-48AB-A6F1-44918105B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31600-A14B-45FE-A30E-DAAB8FAA4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D0714-8749-4E6A-BDC2-EC31A8D6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53851-41C3-4B73-9925-C2A0D84E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DD33B-DCCA-42CD-91E2-45976F4D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507C-DDD6-4578-A9D4-5CD5024E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C0248-7E08-4931-A5BF-71B77FA9F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A0D41C-388C-4000-9CC2-0330E63F0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BD1301-DB24-4B8F-8664-51C616253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F59AE1-3B22-4ACA-9283-49F00A411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F721C-47F3-4AB6-BC22-80D2BDFCE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0E90E-E25C-4BA3-9EA2-1D53A3A0A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F2FEEE-B418-4496-871C-19E88366A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A693C4-A0AC-4ACF-B875-37A3D3647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6F14F-32E3-45AA-A81A-78EFE2FB2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BF1AF-7A01-497D-BA92-479FED91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E8E7-2820-4599-881D-736B2B29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4197FC-F14F-46C4-9040-8FE3F6FA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8D4D2-67C3-4E54-B09B-09784640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8DC4C3-7477-45F0-B31E-B35D73B46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27EC0-DFF5-42D6-9212-B6AB44176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CB2A5-2B4B-4C19-BE65-E7170BA7E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C83D18-CBF1-4E2B-988C-ECFC74A91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D53F98-B9A9-4C10-9B2E-206B17B9F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630322-21D2-4A87-AE12-1A5099235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A3F385-8981-4F6F-A391-D7A1CFB3A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8D6BCA-959D-46D3-B394-B8C9C51B1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0419-02D1-440A-B332-2C43BED5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27778-4276-4800-8AC5-F26B3382D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BA8989-F9D3-4A4B-B678-74D9AF6C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39FEC1-BB6F-4B4B-A383-96B5C7F8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B6663F-357C-4BC9-826D-2F26A209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468C0B-B66E-44C4-A7DF-CA5415E82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AB6450-A69F-4CA5-861F-D0CCB04D3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F25479-798D-4FCF-8DB1-8A88312D7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B809F2-C217-4CB9-9A5C-DE9E2146A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B8FD85-8CF9-47A9-B9F9-8E5EF1E22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99D3AE-71A3-4428-8A03-9372B89CC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f93d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8F4BF-C61A-4FBE-9C2E-E36272CEEA7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f93d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36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8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39" name="شكل حر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شكل حر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مثلث قائم الزاوية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42" name="مثلث قائم الزاوية 16" descr=""/>
            <p:cNvPicPr/>
            <p:nvPr/>
          </p:nvPicPr>
          <p:blipFill>
            <a:blip r:embed="rId4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4" name="رابط مستقيم 18" descr=""/>
          <p:cNvPicPr/>
          <p:nvPr/>
        </p:nvPicPr>
        <p:blipFill>
          <a:blip r:embed="rId5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45" name="شارة رتبة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شارة رتبة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54AAA-3F81-4703-A9C5-6E40B85C0D7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f93d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91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3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3E480-93CA-48D6-A34D-62D952E63E7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f93d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38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0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7FE08-E4E7-44FE-B218-641D9A27552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f93d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0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3" name="مثلث قائم الزاوية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مجموعة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5" name="شكل حر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شكل حر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شكل حر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8" name="شكل حر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" name="رابط مستقيم 20" descr=""/>
            <p:cNvPicPr/>
            <p:nvPr/>
          </p:nvPicPr>
          <p:blipFill>
            <a:blip r:embed="rId5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4BF4D-B0B8-48D3-A206-2ECE3C0CD40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f93d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05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010D2-E121-47D6-AA01-58D3148AEEA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f93d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52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5" name="شارة رتبة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شارة رتبة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8B4A5-9CF6-408E-B0B1-1AF90DDA8FF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f93d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01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3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027CA-0E9E-4142-90D0-EBED04B459A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f93d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48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0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EF4B5-4D9E-4379-A3A3-EA4A9EBF259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f93d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95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7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3D004-DBCE-48CE-AEDF-60760DD79E8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f93d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42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4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6695A-0D4F-4EAB-93DB-260F375F9FF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f93d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89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1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D2666-86C7-4696-A2ED-F0DF10273E4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xt Box 4"/>
          <p:cNvSpPr/>
          <p:nvPr/>
        </p:nvSpPr>
        <p:spPr>
          <a:xfrm>
            <a:off x="2786040" y="1174680"/>
            <a:ext cx="542916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000000"/>
                </a:solidFill>
                <a:latin typeface="Arial"/>
                <a:cs typeface="PT Bold Heading"/>
              </a:rPr>
              <a:t>إدارة التسويق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5"/>
          <p:cNvSpPr/>
          <p:nvPr/>
        </p:nvSpPr>
        <p:spPr>
          <a:xfrm rot="20312400">
            <a:off x="1749960" y="3765960"/>
            <a:ext cx="2390400" cy="13737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Arial"/>
                <a:cs typeface="PT Bold Heading"/>
              </a:rPr>
              <a:t>إعدا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Arial"/>
                <a:ea typeface="PT Bold Heading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Arial"/>
                <a:cs typeface="PT Bold Heading"/>
              </a:rPr>
              <a:t>د. محمود صال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شكل بيضاوي 5"/>
          <p:cNvSpPr/>
          <p:nvPr/>
        </p:nvSpPr>
        <p:spPr>
          <a:xfrm>
            <a:off x="357120" y="1928880"/>
            <a:ext cx="1714680" cy="185724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مربع نص 6"/>
          <p:cNvSpPr/>
          <p:nvPr/>
        </p:nvSpPr>
        <p:spPr>
          <a:xfrm>
            <a:off x="642960" y="1785960"/>
            <a:ext cx="1071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Text Box 8"/>
          <p:cNvSpPr/>
          <p:nvPr/>
        </p:nvSpPr>
        <p:spPr>
          <a:xfrm>
            <a:off x="642960" y="2286000"/>
            <a:ext cx="7786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c00000"/>
                </a:solidFill>
                <a:latin typeface="Arial"/>
                <a:cs typeface="PT Bold Heading"/>
              </a:rPr>
              <a:t>العلاقة التبادلية بين المنتج والمستهلك هي جوهر النشاط التسويق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 Box 9"/>
          <p:cNvSpPr/>
          <p:nvPr/>
        </p:nvSpPr>
        <p:spPr>
          <a:xfrm>
            <a:off x="5670720" y="3648240"/>
            <a:ext cx="1763640" cy="916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  <a:cs typeface="PT Bold Heading"/>
              </a:rPr>
              <a:t>المنت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8"/>
          <p:cNvSpPr/>
          <p:nvPr/>
        </p:nvSpPr>
        <p:spPr>
          <a:xfrm>
            <a:off x="1500120" y="585720"/>
            <a:ext cx="657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Arial"/>
                <a:cs typeface="PT Bold Heading"/>
              </a:rPr>
              <a:t>يعتمد نجاح التسويق على نجاح العلاقة التبادلية بين المنتج والمستهل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9"/>
          <p:cNvSpPr/>
          <p:nvPr/>
        </p:nvSpPr>
        <p:spPr>
          <a:xfrm>
            <a:off x="2571840" y="3643200"/>
            <a:ext cx="1763640" cy="1739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  <a:cs typeface="PT Bold Heading"/>
              </a:rPr>
              <a:t>المستهل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3" name="رابط منحني 68"/>
          <p:cNvCxnSpPr>
            <a:stCxn id="630" idx="0"/>
            <a:endCxn id="632" idx="0"/>
          </p:cNvCxnSpPr>
          <p:nvPr/>
        </p:nvCxnSpPr>
        <p:spPr>
          <a:xfrm flipV="1" rot="16200000">
            <a:off x="5000040" y="2094840"/>
            <a:ext cx="5760" cy="3101040"/>
          </a:xfrm>
          <a:prstGeom prst="curvedConnector5">
            <a:avLst>
              <a:gd name="adj1" fmla="val 27900000"/>
              <a:gd name="adj2" fmla="val 49994"/>
              <a:gd name="adj3" fmla="val 27900000"/>
            </a:avLst>
          </a:prstGeom>
          <a:ln w="55080">
            <a:solidFill>
              <a:srgbClr val="da1f28"/>
            </a:solidFill>
            <a:miter/>
            <a:tailEnd len="med" type="triangle" w="med"/>
          </a:ln>
        </p:spPr>
      </p:cxnSp>
      <p:cxnSp>
        <p:nvCxnSpPr>
          <p:cNvPr id="634" name="رابط منحني 71"/>
          <p:cNvCxnSpPr>
            <a:stCxn id="632" idx="2"/>
            <a:endCxn id="630" idx="2"/>
          </p:cNvCxnSpPr>
          <p:nvPr/>
        </p:nvCxnSpPr>
        <p:spPr>
          <a:xfrm flipH="1" rot="16200000">
            <a:off x="5002200" y="3023280"/>
            <a:ext cx="2160" cy="3099240"/>
          </a:xfrm>
          <a:prstGeom prst="curvedConnector5">
            <a:avLst>
              <a:gd name="adj1" fmla="val 86660000"/>
              <a:gd name="adj2" fmla="val 50000"/>
              <a:gd name="adj3" fmla="val 86660000"/>
            </a:avLst>
          </a:prstGeom>
          <a:ln w="55080">
            <a:solidFill>
              <a:srgbClr val="da1f28"/>
            </a:solidFill>
            <a:miter/>
            <a:tailEnd len="med" type="triangle" w="med"/>
          </a:ln>
        </p:spPr>
      </p:cxnSp>
      <p:sp>
        <p:nvSpPr>
          <p:cNvPr id="635" name="Text Box 9"/>
          <p:cNvSpPr/>
          <p:nvPr/>
        </p:nvSpPr>
        <p:spPr>
          <a:xfrm>
            <a:off x="2928960" y="2563920"/>
            <a:ext cx="412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7030a0"/>
                </a:solidFill>
                <a:latin typeface="Arial"/>
                <a:cs typeface="PT Bold Heading"/>
              </a:rPr>
              <a:t>سلع –خدمات – أفكا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7030a0"/>
                </a:solidFill>
                <a:latin typeface="Arial"/>
                <a:cs typeface="PT Bold Heading"/>
              </a:rPr>
              <a:t>أشخاص – أماكن - منظم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9"/>
          <p:cNvSpPr/>
          <p:nvPr/>
        </p:nvSpPr>
        <p:spPr>
          <a:xfrm>
            <a:off x="2928960" y="5000760"/>
            <a:ext cx="4121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7030a0"/>
                </a:solidFill>
                <a:latin typeface="Arial"/>
                <a:cs typeface="PT Bold Heading"/>
              </a:rPr>
              <a:t>مقابل مادي أو معنو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8"/>
          <p:cNvSpPr/>
          <p:nvPr/>
        </p:nvSpPr>
        <p:spPr>
          <a:xfrm>
            <a:off x="642960" y="571680"/>
            <a:ext cx="7786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c00000"/>
                </a:solidFill>
                <a:latin typeface="Arial"/>
                <a:cs typeface="PT Bold Heading"/>
              </a:rPr>
              <a:t>فهم سلوك المستهل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c00000"/>
                </a:solidFill>
                <a:latin typeface="Arial"/>
                <a:ea typeface="PT Bold Heading"/>
              </a:rPr>
              <a:t> هو الأساس في نجاح العلاقة التبادلي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8"/>
          <p:cNvSpPr/>
          <p:nvPr/>
        </p:nvSpPr>
        <p:spPr>
          <a:xfrm>
            <a:off x="642960" y="3071880"/>
            <a:ext cx="77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2060"/>
                </a:solidFill>
                <a:latin typeface="Arial"/>
                <a:cs typeface="PT Bold Heading"/>
              </a:rPr>
              <a:t>حيث يعتمد عليها المنتج في بناء استراتيجياته التسويقية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2060"/>
                </a:solidFill>
                <a:latin typeface="Arial"/>
                <a:cs typeface="PT Bold Heading"/>
              </a:rPr>
              <a:t>المتعلقة بالمنتج والسعر والترويج والتوزي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Text Box 8"/>
          <p:cNvSpPr/>
          <p:nvPr/>
        </p:nvSpPr>
        <p:spPr>
          <a:xfrm>
            <a:off x="428760" y="428760"/>
            <a:ext cx="8243640" cy="79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c00000"/>
                </a:solidFill>
                <a:latin typeface="Arial"/>
                <a:cs typeface="PT Bold Heading"/>
              </a:rPr>
              <a:t>شروط نجاح عملية التبادل التسويق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وجود </a:t>
            </a:r>
            <a:r>
              <a:rPr b="0" lang="ar-SA" sz="3200" spc="-1" strike="noStrike">
                <a:solidFill>
                  <a:srgbClr val="7030a0"/>
                </a:solidFill>
                <a:latin typeface="Arial"/>
                <a:cs typeface="PT Bold Heading"/>
              </a:rPr>
              <a:t>طرفين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(بائع ومشتري) لكل منهما حاجات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   ورغبات يريد أن يشبع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لدى كل طرف </a:t>
            </a:r>
            <a:r>
              <a:rPr b="0" lang="ar-SA" sz="3200" spc="-1" strike="noStrike">
                <a:solidFill>
                  <a:srgbClr val="00b050"/>
                </a:solidFill>
                <a:latin typeface="Arial"/>
                <a:cs typeface="PT Bold Heading"/>
              </a:rPr>
              <a:t>قيم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يقدمها للآخر تلبية لحاجاته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   ورغبات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لكل طرف </a:t>
            </a:r>
            <a:r>
              <a:rPr b="0" lang="ar-SA" sz="3200" spc="-1" strike="noStrike">
                <a:solidFill>
                  <a:srgbClr val="0070c0"/>
                </a:solidFill>
                <a:latin typeface="Arial"/>
                <a:cs typeface="PT Bold Heading"/>
              </a:rPr>
              <a:t>الحر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في قبول أو رفض عرض الطر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   الآخر (القبول طواعية دون إلزام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</a:t>
            </a:r>
            <a:r>
              <a:rPr b="0" lang="ar-SA" sz="3200" spc="-1" strike="noStrike">
                <a:solidFill>
                  <a:srgbClr val="da1f28"/>
                </a:solidFill>
                <a:latin typeface="Arial"/>
                <a:cs typeface="PT Bold Heading"/>
              </a:rPr>
              <a:t>اتصال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الطرفين ببعضهما اتصالاً فعالا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Text Box 8"/>
          <p:cNvSpPr/>
          <p:nvPr/>
        </p:nvSpPr>
        <p:spPr>
          <a:xfrm>
            <a:off x="571680" y="2992320"/>
            <a:ext cx="8215200" cy="11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c00000"/>
                </a:solidFill>
                <a:latin typeface="Arial"/>
                <a:cs typeface="PT Bold Heading"/>
              </a:rPr>
              <a:t>تعريف التسوي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Text Box 8"/>
          <p:cNvSpPr/>
          <p:nvPr/>
        </p:nvSpPr>
        <p:spPr>
          <a:xfrm>
            <a:off x="642960" y="500040"/>
            <a:ext cx="7883640" cy="64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c00000"/>
                </a:solidFill>
                <a:latin typeface="Arial"/>
                <a:cs typeface="PT Bold Heading"/>
              </a:rPr>
              <a:t>تعريف التسوي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مجموعة من </a:t>
            </a:r>
            <a:r>
              <a:rPr b="0" lang="ar-SA" sz="3200" spc="-1" strike="noStrike">
                <a:solidFill>
                  <a:srgbClr val="006600"/>
                </a:solidFill>
                <a:latin typeface="Arial"/>
                <a:cs typeface="PT Bold Heading"/>
              </a:rPr>
              <a:t>الأنشط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التي يتم تصميمها </a:t>
            </a:r>
            <a:r>
              <a:rPr b="0" lang="ar-SA" sz="3200" spc="-1" strike="noStrike">
                <a:solidFill>
                  <a:srgbClr val="105766"/>
                </a:solidFill>
                <a:latin typeface="Arial"/>
                <a:cs typeface="PT Bold Heading"/>
              </a:rPr>
              <a:t>لتسهيل وإنجاز عملي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05766"/>
                </a:solidFill>
                <a:latin typeface="Arial"/>
                <a:ea typeface="PT Bold Heading"/>
              </a:rPr>
              <a:t>    التباد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بهدف تحقيق </a:t>
            </a:r>
            <a:r>
              <a:rPr b="0" lang="ar-SA" sz="3200" spc="-1" strike="noStrike">
                <a:solidFill>
                  <a:srgbClr val="e61893"/>
                </a:solidFill>
                <a:latin typeface="Arial"/>
                <a:cs typeface="PT Bold Heading"/>
              </a:rPr>
              <a:t>أهداف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طرفي التباد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من خلال قيام المسوق </a:t>
            </a:r>
            <a:r>
              <a:rPr b="0" lang="ar-SA" sz="3200" spc="-1" strike="noStrike">
                <a:solidFill>
                  <a:srgbClr val="0070c0"/>
                </a:solidFill>
                <a:latin typeface="Arial"/>
                <a:cs typeface="PT Bold Heading"/>
              </a:rPr>
              <a:t>بتخطيط وتطوير المنتجات 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70c0"/>
                </a:solidFill>
                <a:latin typeface="Arial"/>
                <a:ea typeface="PT Bold Heading"/>
              </a:rPr>
              <a:t>    وتسعيرها ، والترويج لها ، وتوزيع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Text Box 7"/>
          <p:cNvSpPr/>
          <p:nvPr/>
        </p:nvSpPr>
        <p:spPr>
          <a:xfrm rot="20398800">
            <a:off x="133200" y="549360"/>
            <a:ext cx="1747440" cy="62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500" spc="-1" strike="noStrike">
                <a:solidFill>
                  <a:srgbClr val="000000"/>
                </a:solidFill>
                <a:latin typeface="Arial"/>
                <a:cs typeface="PT Bold Heading"/>
              </a:rPr>
              <a:t>مقدمـــة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9"/>
          <p:cNvSpPr/>
          <p:nvPr/>
        </p:nvSpPr>
        <p:spPr>
          <a:xfrm>
            <a:off x="357120" y="2571840"/>
            <a:ext cx="840744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5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 التموي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AL-Mohanad Bold"/>
              </a:rPr>
              <a:t> </a:t>
            </a:r>
            <a:r>
              <a:rPr b="0" lang="ar-SA" sz="3600" spc="-1" strike="noStrike">
                <a:solidFill>
                  <a:srgbClr val="002060"/>
                </a:solidFill>
                <a:latin typeface="Arial"/>
                <a:cs typeface="PT Bold Heading"/>
              </a:rPr>
              <a:t>الموارد البشر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c00000"/>
                </a:solidFill>
                <a:latin typeface="Arial"/>
                <a:cs typeface="PT Bold Heading"/>
              </a:rPr>
              <a:t>التسويق</a:t>
            </a:r>
            <a:r>
              <a:rPr b="0" lang="ar-SA" sz="5400" spc="-1" strike="noStrike">
                <a:solidFill>
                  <a:srgbClr val="ffffff"/>
                </a:solidFill>
                <a:latin typeface="Arial"/>
                <a:ea typeface="AL-Mohanad Bold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  <a:cs typeface="PT Bold Heading"/>
              </a:rPr>
              <a:t>الإنتا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8"/>
          <p:cNvSpPr/>
          <p:nvPr/>
        </p:nvSpPr>
        <p:spPr>
          <a:xfrm>
            <a:off x="1785960" y="214200"/>
            <a:ext cx="657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Arial"/>
                <a:cs typeface="PT Bold Heading"/>
              </a:rPr>
              <a:t>التسويق هو أحد الأنشطة الرئيسي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Arial"/>
                <a:cs typeface="PT Bold Heading"/>
              </a:rPr>
              <a:t>التي تعتمد عليها المنشأة في إدارة أعمالها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سهم منحني إلى اليمين 12"/>
          <p:cNvSpPr/>
          <p:nvPr/>
        </p:nvSpPr>
        <p:spPr>
          <a:xfrm>
            <a:off x="1857240" y="2000160"/>
            <a:ext cx="4357800" cy="4071960"/>
          </a:xfrm>
          <a:custGeom>
            <a:avLst/>
            <a:gdLst>
              <a:gd name="textAreaLeft" fmla="*/ 583560 w 4357800"/>
              <a:gd name="textAreaRight" fmla="*/ 3774240 w 4357800"/>
              <a:gd name="textAreaTop" fmla="*/ 682200 h 4071960"/>
              <a:gd name="textAreaBottom" fmla="*/ 2696400 h 407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239" stAng="-5400000" swAng="-5400000"/>
                <a:lnTo>
                  <a:pt x="0" y="10685"/>
                </a:lnTo>
                <a:arcTo wR="21600" hR="7239" stAng="10800000" swAng="-3261697"/>
                <a:lnTo>
                  <a:pt x="16554" y="21400"/>
                </a:lnTo>
                <a:lnTo>
                  <a:pt x="21600" y="16200"/>
                </a:lnTo>
                <a:lnTo>
                  <a:pt x="16554" y="10600"/>
                </a:lnTo>
                <a:lnTo>
                  <a:pt x="16554" y="14277"/>
                </a:lnTo>
                <a:arcTo wR="21600" hR="7239" stAng="7538303" swAng="2979990"/>
                <a:lnTo>
                  <a:pt x="621" y="8962"/>
                </a:lnTo>
                <a:arcTo wR="21600" hR="7239" stAng="-10518293" swAng="5118293"/>
                <a:close/>
              </a:path>
              <a:path fill="darkenLess" w="21600" h="21600">
                <a:moveTo>
                  <a:pt x="21600" y="0"/>
                </a:moveTo>
                <a:arcTo wR="21600" hR="7239" stAng="-5400000" swAng="-5400000"/>
                <a:lnTo>
                  <a:pt x="0" y="7239"/>
                </a:lnTo>
                <a:arcTo wR="21600" hR="7239" stAng="10800000" swAng="-281707"/>
                <a:lnTo>
                  <a:pt x="621" y="8962"/>
                </a:lnTo>
                <a:arcTo wR="21600" hR="7239" stAng="-10518293" swAng="5118293"/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 Box 8"/>
          <p:cNvSpPr/>
          <p:nvPr/>
        </p:nvSpPr>
        <p:spPr>
          <a:xfrm>
            <a:off x="1500120" y="642960"/>
            <a:ext cx="657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Arial"/>
                <a:cs typeface="PT Bold Heading"/>
              </a:rPr>
              <a:t>التسويق هو الوظيفة المحورية بالمنظم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8"/>
          <p:cNvSpPr/>
          <p:nvPr/>
        </p:nvSpPr>
        <p:spPr>
          <a:xfrm>
            <a:off x="6148440" y="2143080"/>
            <a:ext cx="2066760" cy="3660120"/>
          </a:xfrm>
          <a:prstGeom prst="rect">
            <a:avLst/>
          </a:prstGeom>
          <a:solidFill>
            <a:srgbClr val="08de2c"/>
          </a:solidFill>
          <a:ln w="442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c00000"/>
                </a:solidFill>
                <a:latin typeface="Arial"/>
                <a:cs typeface="PT Bold Heading"/>
              </a:rPr>
              <a:t>التسوي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8"/>
          <p:cNvSpPr/>
          <p:nvPr/>
        </p:nvSpPr>
        <p:spPr>
          <a:xfrm>
            <a:off x="1643040" y="1714680"/>
            <a:ext cx="2067120" cy="1739880"/>
          </a:xfrm>
          <a:prstGeom prst="rect">
            <a:avLst/>
          </a:prstGeom>
          <a:solidFill>
            <a:srgbClr val="ffff00"/>
          </a:solidFill>
          <a:ln w="442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c00000"/>
                </a:solidFill>
                <a:latin typeface="Arial"/>
                <a:cs typeface="PT Bold Heading"/>
              </a:rPr>
              <a:t>تدبير الاحتياجات المادية والبشرية (تمويل، موارد بشرية، عدد وآلات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8"/>
          <p:cNvSpPr/>
          <p:nvPr/>
        </p:nvSpPr>
        <p:spPr>
          <a:xfrm>
            <a:off x="1647720" y="4381560"/>
            <a:ext cx="2067120" cy="916920"/>
          </a:xfrm>
          <a:prstGeom prst="rect">
            <a:avLst/>
          </a:prstGeom>
          <a:solidFill>
            <a:srgbClr val="00b0f0"/>
          </a:solidFill>
          <a:ln w="442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c00000"/>
                </a:solidFill>
                <a:latin typeface="Arial"/>
                <a:cs typeface="PT Bold Heading"/>
              </a:rPr>
              <a:t>العملية التشغي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c00000"/>
                </a:solidFill>
                <a:latin typeface="Arial"/>
                <a:ea typeface="PT Bold Heading"/>
              </a:rPr>
              <a:t>(الإنتاج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1" name="رابط كسهم مستقيم 15"/>
          <p:cNvCxnSpPr/>
          <p:nvPr/>
        </p:nvCxnSpPr>
        <p:spPr>
          <a:xfrm flipH="1" flipV="1">
            <a:off x="3714120" y="2855160"/>
            <a:ext cx="242964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2" name="رابط كسهم مستقيم 23"/>
          <p:cNvCxnSpPr/>
          <p:nvPr/>
        </p:nvCxnSpPr>
        <p:spPr>
          <a:xfrm>
            <a:off x="3714480" y="4857840"/>
            <a:ext cx="242964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3" name="رابط كسهم مستقيم 25"/>
          <p:cNvCxnSpPr>
            <a:stCxn id="599" idx="2"/>
            <a:endCxn id="600" idx="0"/>
          </p:cNvCxnSpPr>
          <p:nvPr/>
        </p:nvCxnSpPr>
        <p:spPr>
          <a:xfrm>
            <a:off x="2675520" y="3192120"/>
            <a:ext cx="5400" cy="1189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4" name="Text Box 8"/>
          <p:cNvSpPr/>
          <p:nvPr/>
        </p:nvSpPr>
        <p:spPr>
          <a:xfrm>
            <a:off x="3857760" y="1905120"/>
            <a:ext cx="2071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  <a:cs typeface="PT Bold Heading"/>
              </a:rPr>
              <a:t>التعرف على حاجات ورغبات العملا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  <a:cs typeface="PT Bold Heading"/>
              </a:rPr>
              <a:t>التنبؤ بالطل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8"/>
          <p:cNvSpPr/>
          <p:nvPr/>
        </p:nvSpPr>
        <p:spPr>
          <a:xfrm>
            <a:off x="3857760" y="4406760"/>
            <a:ext cx="207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  <a:cs typeface="PT Bold Heading"/>
              </a:rPr>
              <a:t>منتجات تامة الصن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8"/>
          <p:cNvSpPr/>
          <p:nvPr/>
        </p:nvSpPr>
        <p:spPr>
          <a:xfrm>
            <a:off x="3929040" y="6264360"/>
            <a:ext cx="392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  <a:cs typeface="PT Bold Heading"/>
              </a:rPr>
              <a:t>تحقيق الإيرادات والأرباح – والمساهمة في تطوير المنتجا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7" name="رابط كسهم مستقيم 31"/>
          <p:cNvCxnSpPr>
            <a:stCxn id="598" idx="2"/>
          </p:cNvCxnSpPr>
          <p:nvPr/>
        </p:nvCxnSpPr>
        <p:spPr>
          <a:xfrm flipH="1">
            <a:off x="6643080" y="5835600"/>
            <a:ext cx="538920" cy="380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ext Box 8"/>
          <p:cNvSpPr/>
          <p:nvPr/>
        </p:nvSpPr>
        <p:spPr>
          <a:xfrm>
            <a:off x="642960" y="500040"/>
            <a:ext cx="77868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c00000"/>
                </a:solidFill>
                <a:latin typeface="Arial"/>
                <a:cs typeface="PT Bold Heading"/>
              </a:rPr>
              <a:t>يتضح من الشكل السابق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التسويق هو المحرك الأول لبقية أنشطة المنظم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تدبير الاحتياجات يعتمد على ما يقدمه مدير التسويق من معلوم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النشاط التسويقي هو الذي يجلب الإيراد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دور التسويق لا ينتهي ببيع المنتج للعملا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5" descr="show_file3"/>
          <p:cNvPicPr/>
          <p:nvPr/>
        </p:nvPicPr>
        <p:blipFill>
          <a:blip r:embed="rId1"/>
          <a:stretch/>
        </p:blipFill>
        <p:spPr>
          <a:xfrm>
            <a:off x="-542880" y="-469800"/>
            <a:ext cx="10229760" cy="7797600"/>
          </a:xfrm>
          <a:prstGeom prst="rect">
            <a:avLst/>
          </a:prstGeom>
          <a:ln w="0">
            <a:noFill/>
          </a:ln>
        </p:spPr>
      </p:pic>
      <p:sp>
        <p:nvSpPr>
          <p:cNvPr id="610" name="Text Box 7"/>
          <p:cNvSpPr/>
          <p:nvPr/>
        </p:nvSpPr>
        <p:spPr>
          <a:xfrm rot="20398800">
            <a:off x="133200" y="549360"/>
            <a:ext cx="1747440" cy="62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500" spc="-1" strike="noStrike">
                <a:solidFill>
                  <a:srgbClr val="000000"/>
                </a:solidFill>
                <a:latin typeface="Arial"/>
                <a:cs typeface="PT Bold Heading"/>
              </a:rPr>
              <a:t>مقدمـــة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8"/>
          <p:cNvSpPr/>
          <p:nvPr/>
        </p:nvSpPr>
        <p:spPr>
          <a:xfrm>
            <a:off x="2290680" y="857160"/>
            <a:ext cx="606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  <a:cs typeface="PT Bold Heading"/>
              </a:rPr>
              <a:t>يعمل التسويق على إشباع حاجات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  <a:cs typeface="PT Bold Heading"/>
              </a:rPr>
              <a:t>ورغبات العملاء من خلال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8"/>
          <p:cNvSpPr/>
          <p:nvPr/>
        </p:nvSpPr>
        <p:spPr>
          <a:xfrm>
            <a:off x="357120" y="2500200"/>
            <a:ext cx="8358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توفير المنتج المناسب  (المنتج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بالسعر المناسب (التسعير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  <a:cs typeface="PT Bold Heading"/>
              </a:rPr>
              <a:t>في الوقت والمكان المناسبين وبالكمية المناسبة (التوزي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  <a:cs typeface="PT Bold Heading"/>
              </a:rPr>
              <a:t>بتوفير المعلومات المناسبة (الترويج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5" descr="show_file3"/>
          <p:cNvPicPr/>
          <p:nvPr/>
        </p:nvPicPr>
        <p:blipFill>
          <a:blip r:embed="rId1"/>
          <a:stretch/>
        </p:blipFill>
        <p:spPr>
          <a:xfrm>
            <a:off x="-523800" y="-695160"/>
            <a:ext cx="10228320" cy="7791120"/>
          </a:xfrm>
          <a:prstGeom prst="rect">
            <a:avLst/>
          </a:prstGeom>
          <a:ln w="0">
            <a:noFill/>
          </a:ln>
        </p:spPr>
      </p:pic>
      <p:sp>
        <p:nvSpPr>
          <p:cNvPr id="614" name="Text Box 7"/>
          <p:cNvSpPr/>
          <p:nvPr/>
        </p:nvSpPr>
        <p:spPr>
          <a:xfrm rot="20398800">
            <a:off x="133200" y="549360"/>
            <a:ext cx="1747440" cy="62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500" spc="-1" strike="noStrike">
                <a:solidFill>
                  <a:srgbClr val="000000"/>
                </a:solidFill>
                <a:latin typeface="Arial"/>
                <a:cs typeface="PT Bold Heading"/>
              </a:rPr>
              <a:t>مقدمـــة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8"/>
          <p:cNvSpPr/>
          <p:nvPr/>
        </p:nvSpPr>
        <p:spPr>
          <a:xfrm>
            <a:off x="857160" y="2413080"/>
            <a:ext cx="7429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c00000"/>
                </a:solidFill>
                <a:latin typeface="Arial"/>
                <a:cs typeface="PT Bold Heading"/>
              </a:rPr>
              <a:t>عناصر المزيج التسويق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Text Box 7"/>
          <p:cNvSpPr/>
          <p:nvPr/>
        </p:nvSpPr>
        <p:spPr>
          <a:xfrm rot="20398800">
            <a:off x="316440" y="546120"/>
            <a:ext cx="1378440" cy="62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500" spc="-1" strike="noStrike">
                <a:solidFill>
                  <a:srgbClr val="000000"/>
                </a:solidFill>
                <a:latin typeface="Arial"/>
                <a:cs typeface="PT Bold Heading"/>
              </a:rPr>
              <a:t>التوزيع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8"/>
          <p:cNvSpPr/>
          <p:nvPr/>
        </p:nvSpPr>
        <p:spPr>
          <a:xfrm>
            <a:off x="1857240" y="642960"/>
            <a:ext cx="6286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Arial"/>
                <a:cs typeface="PT Bold Heading"/>
              </a:rPr>
              <a:t>عناصر المزيج التسويقي (</a:t>
            </a:r>
            <a:r>
              <a:rPr b="0" lang="en-US" sz="4400" spc="-1" strike="noStrike">
                <a:solidFill>
                  <a:srgbClr val="c00000"/>
                </a:solidFill>
                <a:latin typeface="Arial"/>
                <a:ea typeface="PT Bold Heading"/>
              </a:rPr>
              <a:t>Marketing Mix</a:t>
            </a:r>
            <a:r>
              <a:rPr b="0" lang="ar-SA" sz="4400" spc="-1" strike="noStrike">
                <a:solidFill>
                  <a:srgbClr val="c00000"/>
                </a:solidFill>
                <a:latin typeface="Arial"/>
                <a:ea typeface="PT Bold Heading"/>
              </a:rPr>
              <a:t>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مستطيل 6"/>
          <p:cNvSpPr/>
          <p:nvPr/>
        </p:nvSpPr>
        <p:spPr>
          <a:xfrm>
            <a:off x="2428920" y="2500200"/>
            <a:ext cx="4643280" cy="335772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رابط مستقيم 8"/>
          <p:cNvSpPr/>
          <p:nvPr/>
        </p:nvSpPr>
        <p:spPr>
          <a:xfrm flipH="1">
            <a:off x="2428920" y="4178160"/>
            <a:ext cx="4643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رابط مستقيم 11"/>
          <p:cNvSpPr/>
          <p:nvPr/>
        </p:nvSpPr>
        <p:spPr>
          <a:xfrm>
            <a:off x="4749840" y="2500200"/>
            <a:ext cx="1440" cy="335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مربع نص 16"/>
          <p:cNvSpPr/>
          <p:nvPr/>
        </p:nvSpPr>
        <p:spPr>
          <a:xfrm>
            <a:off x="5072040" y="3000240"/>
            <a:ext cx="1785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c00000"/>
                </a:solidFill>
                <a:latin typeface="Arial"/>
                <a:cs typeface="PT Bold Heading"/>
              </a:rPr>
              <a:t>المنت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مربع نص 17"/>
          <p:cNvSpPr/>
          <p:nvPr/>
        </p:nvSpPr>
        <p:spPr>
          <a:xfrm>
            <a:off x="2643120" y="3000240"/>
            <a:ext cx="192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6600"/>
                </a:solidFill>
                <a:latin typeface="Arial"/>
                <a:cs typeface="PT Bold Heading"/>
              </a:rPr>
              <a:t>التسعي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مربع نص 18"/>
          <p:cNvSpPr/>
          <p:nvPr/>
        </p:nvSpPr>
        <p:spPr>
          <a:xfrm>
            <a:off x="5072040" y="4599000"/>
            <a:ext cx="178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2060"/>
                </a:solidFill>
                <a:latin typeface="Arial"/>
                <a:cs typeface="PT Bold Heading"/>
              </a:rPr>
              <a:t>التروي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مربع نص 19"/>
          <p:cNvSpPr/>
          <p:nvPr/>
        </p:nvSpPr>
        <p:spPr>
          <a:xfrm>
            <a:off x="2786040" y="4572000"/>
            <a:ext cx="178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7030a0"/>
                </a:solidFill>
                <a:latin typeface="Arial"/>
                <a:cs typeface="PT Bold Heading"/>
              </a:rPr>
              <a:t>التوزي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Text Box 8"/>
          <p:cNvSpPr/>
          <p:nvPr/>
        </p:nvSpPr>
        <p:spPr>
          <a:xfrm>
            <a:off x="1857240" y="428760"/>
            <a:ext cx="628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00000"/>
                </a:solidFill>
                <a:latin typeface="Arial"/>
                <a:cs typeface="PT Bold Heading"/>
              </a:rPr>
              <a:t>عناصر المزيج التسويقي من وجهة نظر العميل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8"/>
          <p:cNvSpPr/>
          <p:nvPr/>
        </p:nvSpPr>
        <p:spPr>
          <a:xfrm>
            <a:off x="571680" y="2143080"/>
            <a:ext cx="82152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00"/>
                </a:solidFill>
                <a:latin typeface="Arial"/>
                <a:ea typeface="PT Bold Heading"/>
              </a:rPr>
              <a:t> </a:t>
            </a:r>
            <a:r>
              <a:rPr b="0" lang="ar-SA" sz="3200" spc="-1" strike="noStrike" u="sng">
                <a:solidFill>
                  <a:srgbClr val="006600"/>
                </a:solidFill>
                <a:uFillTx/>
                <a:latin typeface="Arial"/>
                <a:cs typeface="PT Bold Heading"/>
              </a:rPr>
              <a:t>وسيلة لإشباع</a:t>
            </a:r>
            <a:r>
              <a:rPr b="0" lang="ar-SA" sz="3200" spc="-1" strike="noStrike">
                <a:solidFill>
                  <a:srgbClr val="006600"/>
                </a:solidFill>
                <a:latin typeface="Arial"/>
                <a:ea typeface="PT Bold Heading"/>
              </a:rPr>
              <a:t> حاجات ورغبات (المنتج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060"/>
                </a:solidFill>
                <a:latin typeface="Arial"/>
                <a:ea typeface="PT Bold Heading"/>
              </a:rPr>
              <a:t> </a:t>
            </a:r>
            <a:r>
              <a:rPr b="0" lang="ar-SA" sz="3200" spc="-1" strike="noStrike" u="sng">
                <a:solidFill>
                  <a:srgbClr val="002060"/>
                </a:solidFill>
                <a:uFillTx/>
                <a:latin typeface="Arial"/>
                <a:cs typeface="PT Bold Heading"/>
              </a:rPr>
              <a:t>تكلفة</a:t>
            </a:r>
            <a:r>
              <a:rPr b="0" lang="ar-SA" sz="3200" spc="-1" strike="noStrike">
                <a:solidFill>
                  <a:srgbClr val="002060"/>
                </a:solidFill>
                <a:latin typeface="Arial"/>
                <a:ea typeface="PT Bold Heading"/>
              </a:rPr>
              <a:t> يتحملها للحصول على المنتج (السع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00"/>
                </a:solidFill>
                <a:latin typeface="Arial"/>
                <a:ea typeface="PT Bold Heading"/>
              </a:rPr>
              <a:t> وسيلة </a:t>
            </a:r>
            <a:r>
              <a:rPr b="0" lang="ar-SA" sz="3200" spc="-1" strike="noStrike" u="sng">
                <a:solidFill>
                  <a:srgbClr val="006600"/>
                </a:solidFill>
                <a:uFillTx/>
                <a:latin typeface="Arial"/>
                <a:cs typeface="PT Bold Heading"/>
              </a:rPr>
              <a:t>اتصال</a:t>
            </a:r>
            <a:r>
              <a:rPr b="0" lang="ar-SA" sz="3200" spc="-1" strike="noStrike">
                <a:solidFill>
                  <a:srgbClr val="006600"/>
                </a:solidFill>
                <a:latin typeface="Arial"/>
                <a:ea typeface="PT Bold Heading"/>
              </a:rPr>
              <a:t> لجمع معلومات عن المنتج (الترويج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060"/>
                </a:solidFill>
                <a:latin typeface="Arial"/>
                <a:ea typeface="PT Bold Heading"/>
              </a:rPr>
              <a:t> </a:t>
            </a:r>
            <a:r>
              <a:rPr b="0" lang="ar-SA" sz="3200" spc="-1" strike="noStrike" u="sng">
                <a:solidFill>
                  <a:srgbClr val="002060"/>
                </a:solidFill>
                <a:uFillTx/>
                <a:latin typeface="Arial"/>
                <a:cs typeface="PT Bold Heading"/>
              </a:rPr>
              <a:t>نظام مريح</a:t>
            </a:r>
            <a:r>
              <a:rPr b="0" lang="ar-SA" sz="3200" spc="-1" strike="noStrike">
                <a:solidFill>
                  <a:srgbClr val="002060"/>
                </a:solidFill>
                <a:latin typeface="Arial"/>
                <a:ea typeface="PT Bold Heading"/>
              </a:rPr>
              <a:t> يحصل منه على المنتج في المكان والوق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060"/>
                </a:solidFill>
                <a:latin typeface="Arial"/>
                <a:ea typeface="PT Bold Heading"/>
              </a:rPr>
              <a:t>   المناسبين (التوزي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Text Box 8"/>
          <p:cNvSpPr/>
          <p:nvPr/>
        </p:nvSpPr>
        <p:spPr>
          <a:xfrm>
            <a:off x="1500120" y="285840"/>
            <a:ext cx="628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00000"/>
                </a:solidFill>
                <a:latin typeface="Arial"/>
                <a:cs typeface="PT Bold Heading"/>
              </a:rPr>
              <a:t>تمديد عناصر المزيج التسويق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8"/>
          <p:cNvSpPr/>
          <p:nvPr/>
        </p:nvSpPr>
        <p:spPr>
          <a:xfrm>
            <a:off x="500040" y="1285920"/>
            <a:ext cx="8215200" cy="48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00"/>
                </a:solidFill>
                <a:latin typeface="Arial"/>
                <a:ea typeface="PT Bold Heading"/>
              </a:rPr>
              <a:t>1</a:t>
            </a:r>
            <a:r>
              <a:rPr b="0" lang="ar-SA" sz="3200" spc="-1" strike="noStrike">
                <a:solidFill>
                  <a:srgbClr val="006600"/>
                </a:solidFill>
                <a:latin typeface="Arial"/>
                <a:ea typeface="PT Bold Heading"/>
              </a:rPr>
              <a:t>- المنتج  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  <a:ea typeface="PT Bold Heading"/>
              </a:rPr>
              <a:t>Product</a:t>
            </a:r>
            <a:r>
              <a:rPr b="0" lang="ar-SA" sz="3200" spc="-1" strike="noStrike">
                <a:solidFill>
                  <a:srgbClr val="006600"/>
                </a:solidFill>
                <a:latin typeface="Arial"/>
                <a:ea typeface="PT Bold Heading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060"/>
                </a:solidFill>
                <a:latin typeface="Arial"/>
                <a:ea typeface="PT Bold Heading"/>
              </a:rPr>
              <a:t>2</a:t>
            </a:r>
            <a:r>
              <a:rPr b="0" lang="ar-SA" sz="3200" spc="-1" strike="noStrike">
                <a:solidFill>
                  <a:srgbClr val="002060"/>
                </a:solidFill>
                <a:latin typeface="Arial"/>
                <a:ea typeface="PT Bold Heading"/>
              </a:rPr>
              <a:t>- التسعير 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  <a:ea typeface="PT Bold Heading"/>
              </a:rPr>
              <a:t>Pricing</a:t>
            </a:r>
            <a:r>
              <a:rPr b="0" lang="ar-SA" sz="3200" spc="-1" strike="noStrike">
                <a:solidFill>
                  <a:srgbClr val="002060"/>
                </a:solidFill>
                <a:latin typeface="Arial"/>
                <a:ea typeface="PT Bold Heading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3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 الترويج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Prom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d0d0d"/>
                </a:solidFill>
                <a:latin typeface="Arial"/>
                <a:ea typeface="PT Bold Heading"/>
              </a:rPr>
              <a:t>4</a:t>
            </a:r>
            <a:r>
              <a:rPr b="0" lang="ar-SA" sz="3200" spc="-1" strike="noStrike">
                <a:solidFill>
                  <a:srgbClr val="0d0d0d"/>
                </a:solidFill>
                <a:latin typeface="Arial"/>
                <a:ea typeface="PT Bold Heading"/>
              </a:rPr>
              <a:t>- التوزيع </a:t>
            </a:r>
            <a:r>
              <a:rPr b="0" lang="en-US" sz="3200" spc="-1" strike="noStrike">
                <a:solidFill>
                  <a:srgbClr val="0d0d0d"/>
                </a:solidFill>
                <a:latin typeface="Arial"/>
                <a:ea typeface="PT Bold Heading"/>
              </a:rPr>
              <a:t>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61893"/>
                </a:solidFill>
                <a:latin typeface="Arial"/>
                <a:ea typeface="PT Bold Heading"/>
              </a:rPr>
              <a:t>5</a:t>
            </a:r>
            <a:r>
              <a:rPr b="0" lang="ar-SA" sz="3200" spc="-1" strike="noStrike">
                <a:solidFill>
                  <a:srgbClr val="e61893"/>
                </a:solidFill>
                <a:latin typeface="Arial"/>
                <a:ea typeface="PT Bold Heading"/>
              </a:rPr>
              <a:t>- العاملون </a:t>
            </a:r>
            <a:r>
              <a:rPr b="0" lang="en-US" sz="3200" spc="-1" strike="noStrike">
                <a:solidFill>
                  <a:srgbClr val="e61893"/>
                </a:solidFill>
                <a:latin typeface="Arial"/>
                <a:ea typeface="PT Bold Heading"/>
              </a:rPr>
              <a:t>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70c0"/>
                </a:solidFill>
                <a:latin typeface="Arial"/>
                <a:ea typeface="PT Bold Heading"/>
              </a:rPr>
              <a:t>6</a:t>
            </a:r>
            <a:r>
              <a:rPr b="0" lang="ar-SA" sz="3200" spc="-1" strike="noStrike">
                <a:solidFill>
                  <a:srgbClr val="0070c0"/>
                </a:solidFill>
                <a:latin typeface="Arial"/>
                <a:ea typeface="PT Bold Heading"/>
              </a:rPr>
              <a:t>-العملية 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  <a:ea typeface="PT Bold Heading"/>
              </a:rPr>
              <a:t>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65160"/>
                </a:solidFill>
                <a:latin typeface="Arial"/>
                <a:ea typeface="PT Bold Heading"/>
              </a:rPr>
              <a:t>7</a:t>
            </a:r>
            <a:r>
              <a:rPr b="0" lang="ar-SA" sz="3200" spc="-1" strike="noStrike">
                <a:solidFill>
                  <a:srgbClr val="165160"/>
                </a:solidFill>
                <a:latin typeface="Arial"/>
                <a:ea typeface="PT Bold Heading"/>
              </a:rPr>
              <a:t>- المظهر المادي </a:t>
            </a:r>
            <a:r>
              <a:rPr b="0" lang="en-US" sz="3200" spc="-1" strike="noStrike">
                <a:solidFill>
                  <a:srgbClr val="165160"/>
                </a:solidFill>
                <a:latin typeface="Arial"/>
                <a:ea typeface="PT Bold Heading"/>
              </a:rPr>
              <a:t>Physical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4T08:58:44Z</dcterms:created>
  <dc:creator>dokhails</dc:creator>
  <dc:description/>
  <dc:language>en-US</dc:language>
  <cp:lastModifiedBy>aldarrab</cp:lastModifiedBy>
  <dcterms:modified xsi:type="dcterms:W3CDTF">2015-09-13T10:37:26Z</dcterms:modified>
  <cp:revision>203</cp:revision>
  <dc:subject/>
  <dc:title>الشريحة 1</dc:title>
</cp:coreProperties>
</file>