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BAC-390D-4422-8A44-D6FCF650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FFC-6D62-4429-81CF-DD1B109C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BAB42-56B0-4C34-A5C4-0980020F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64C72-B69F-4461-BB75-94FB011B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3685D-FFC7-4CDC-BCBA-662829DD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30D9B-6267-4201-A85E-E65DEB2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51C38-75EE-4E1E-8FAB-C7B56D6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8B6EE-A370-40CC-A494-AF466D50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281CA-29E3-4C9C-9776-B9AB359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B6E90-6396-4524-8BCD-0E2342E6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77A33-2318-4C7E-8A84-AFD09E3E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B25CB-37D6-41DF-8F39-27B0151B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1CC-98E0-4020-B70C-02C1F9D0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6B274-D280-4BA0-99AB-43D3EA1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37144-D0AC-45BF-88CF-268B37D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EE839-21DC-47DB-8071-A99F27AA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EE779-F88E-4A36-AD3C-15D200E3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034D2-AB73-448B-B420-0D9E512D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70FAC-B89E-4A1A-8B35-2389186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0ADE6-3C3F-4323-8BC7-8306D6E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B4D8E-1356-4CE0-9D4A-1F5E6C6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4CFF1-6DC8-4993-9B08-73E7EDD9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EC773-E635-4139-826F-353E45E9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C84-C6FA-49F9-9F79-B706DB22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79453-CD1C-4E89-B489-D824F339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4EFA6-5CE7-4912-9C36-BBA604DD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C50ED-092E-4212-B2AC-6AE1EB17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7D130-01E4-4B5E-AA2D-8B10D70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37719-5308-43E4-AD5D-83887C01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DEE4E-55CD-47EF-91AD-7860E450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C8340-9347-43FF-80E4-6D52661F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D3A0F-605D-4322-BA0C-44A36F67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09F1E-CBA7-4332-A4A0-01DCAE7E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37AD-E21F-4137-981A-2B8A1FA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0483-731F-4515-B0A3-7BBFCB27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F1AEB-32B8-4471-9E4E-E0209731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15B34-0698-497C-8A43-6FF724C1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E503F-ED96-479A-AA05-5B0F8C1C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02D7A-EA0D-4E08-B0E3-A5C6E1C8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64ACC-2C7A-4CD8-93E5-2E475B15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8DBE5-9FFE-4A48-9D72-78BB998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D0A71-84CF-46C9-AB21-762139A7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78B4-18CC-4DDA-9BED-CF769480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DA98B-C68C-4189-9601-6566D6F8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E2C77-D812-49DA-9105-FD59DDB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3E28-D42C-4748-9E30-DBA501F9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18A4A-9CF0-4515-AEAB-95D8ACB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6714D-4B48-4B0C-9DFD-0F044F4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7D0FA-283B-46B7-9AFF-83205CC1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D9441-F10C-4E96-B362-26B3D7C2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E8A83-4EDE-4338-9142-C3A91572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CCE9-F64F-4ED7-A853-AE4AF347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0F0F-FB0E-4540-8E8F-D69D3A9E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A223-9D42-4BEA-B660-0C4F5E57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52CD-F484-4F27-8AF7-87F08E26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3FD5-C6AC-46F2-BC1B-7C2DE25C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4DA-024C-4143-A50C-C2BEDF9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253E-B3C9-464B-9776-75EE6FD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91E3-5295-4B0D-ABBF-288FBDD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E360-5221-4555-B746-C619FF1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3246-ACCF-40B4-93D6-70595171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4436-2380-4878-8DE8-A6AA12EC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F595-3CFC-4907-89F5-F6DA0F4B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8F75-9FFD-4C3D-9520-22C02269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89C9-7CFC-48FE-838B-260ABC14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DD53-3125-4DAA-B351-A3269A3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BF54-9F7C-4610-A069-B866C027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681-596F-4930-8836-14786A8E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C994-E59D-42AF-8507-34020C14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BCAA-4265-4798-BC61-DA017FFA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A1E1-C16B-4139-AB19-EADF9E26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3D2A-9BBC-4E4A-A558-76DFE85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216E-05D4-441E-98FA-AAAF9DE2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E2D0-25FD-44BE-BCF9-60C0F37A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55A5-10B1-48DE-9003-6EF2B4BF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7344-A19F-4E5E-AC92-5DD8AC2A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3BDC6-41A5-4A5B-A4C8-6884933C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4DA71-8F80-4787-B5A6-73A60D93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2DE-D769-4D86-98ED-F0C9C25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EC9D-C90C-411D-9D4B-5CA329C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5DBE4-D336-4DBC-AEA9-A6286BDF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EF28-8B27-48B9-805F-93929B77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BBAF-C770-4541-8BDB-BB052DCE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1F46-4D28-4E7F-BA29-F00F962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ED85F-2123-469E-889F-CAD8334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B457E-886B-4B59-ADEC-2F80235A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AB98E-1D7D-4DC8-A3AC-D76F881F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1844-2658-49E5-827F-1E2B0476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870CF-ED8F-437C-9BB3-33BD4B39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FB0-E9A7-4259-94E8-F2FB94FD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33FB-3FD4-4EA7-8827-F1045C3A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3274D-737A-45A5-88E9-4BE96EF3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9114A-9D43-478F-A87F-16FA6F99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7368-A6E7-4B46-BB4B-7FC6B61A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38CEF-0718-4A9B-9219-BB2DA2EB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FD65-FDB5-499A-95FC-2D263935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7993-9E2A-47C8-938D-AD163D52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AEB46-08FE-4BA2-B037-043BB631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D8BA1-BC80-4A15-8FDA-F7B1E58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F6481-0CE2-46C3-8330-95336D25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F8E-FD7A-4B4F-B09C-6257AEC8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5C7AE-4016-4ED8-9FFB-495603C5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DA5FB-80D2-4B26-B5B4-5016F46E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EA19-CCB5-496B-82F8-B31AF7E7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047C-62EC-489D-A9C0-DB21DCDA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7F78-D534-4897-AF77-D7767B29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71651-B927-43C9-A529-D30D66C2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1790C-A654-45D4-924B-6FFBA705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82B9F-0538-41C2-BCDC-45A7AB1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4AD8-DE8B-479D-BB79-1F8072FD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784EF-E63D-4FAD-881A-D273BFE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E55-E850-4557-A335-9548F59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46752-7E70-4E54-BA6D-27A3E036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A0F2-37C7-4B67-8AB2-29814273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BAEE5-54F3-46E6-9B0A-5D2CA4E8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F3C99-A8B5-48B8-9332-B66F6264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5E5E3-AAA5-491C-A11F-1846E5C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8F13-A877-486E-944D-A2E58F42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2AEAB-1992-40AF-9EFD-1ADF211E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65423-5934-4B93-B5B0-37D5723C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822C-E599-4F36-B5A4-9A28E091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81333-209A-4112-92A2-C5480918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116-A9FC-4F01-91A6-EB165547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AEAA-AC00-404D-88AE-34B03F9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1185-30F6-4398-A5C3-8FFF084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0653-B3D9-41AE-B14A-755E0728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2008F-AE67-467B-BF96-49CEA745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24006-8957-438F-BB5D-EA4D7E50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0103D-330A-43E8-8F99-C702B262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C6E07-4E31-4AEE-B466-D971300C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69AB1-B73C-4AED-9CAF-F1B0CCC8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97156-8CD6-4BE8-A0A1-36EBA3C3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4931C-7DD7-447A-A7E0-91D735C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DA4-2A50-4930-8229-05391F2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4B022-2E5A-489C-A2FF-87C81654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060CA-13E2-4747-8083-1308698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3B06-A3E0-4026-B988-025FCAA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3DF98-2F21-41CF-BC00-CC5AC0E3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A8F00-8C9C-4E30-91E6-32817C70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6B72D-4403-4C70-BDD4-5336DB8D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FDE9D-E53F-4EF8-902F-47D25591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4EAD5-601C-4E5B-9668-4A3D3FE1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0DED6-E84C-4956-A6A3-6BB622E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8D7AC-E75A-430C-9427-70CC315D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9981-5524-4FB7-B6A9-67E44A0081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C2F-43CB-4BF2-BD3E-2FF8504F3A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B052-0DF5-480B-AA44-DBB5F6BE86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D037-475F-4D6D-BBF6-A8E4BFB2E3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5F4B-007F-494D-AA1B-8775848332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9655-CB23-4EFB-BC76-6D03A88BC3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AE83-B044-4DA9-9498-1A2BB1BFB5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FAF5-94FF-47F7-BED7-5D1A35131E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D54-9C17-4671-AD63-7CF859558C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78CB-BEA0-4AE7-B6D6-10A35DD078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DD61-3D5A-44E2-8E04-210B8B99BE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6617-00B1-4224-B3CA-5EC9F99656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4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ربع نص 5"/>
          <p:cNvSpPr/>
          <p:nvPr/>
        </p:nvSpPr>
        <p:spPr>
          <a:xfrm>
            <a:off x="669960" y="1857240"/>
            <a:ext cx="1071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8"/>
          <p:cNvSpPr/>
          <p:nvPr/>
        </p:nvSpPr>
        <p:spPr>
          <a:xfrm>
            <a:off x="500040" y="6494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مقارنة بين التوجهين البيعي والتسو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مستطيل 4"/>
          <p:cNvSpPr/>
          <p:nvPr/>
        </p:nvSpPr>
        <p:spPr>
          <a:xfrm>
            <a:off x="500040" y="1857240"/>
            <a:ext cx="8143920" cy="30718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رابط مستقيم 12"/>
          <p:cNvSpPr/>
          <p:nvPr/>
        </p:nvSpPr>
        <p:spPr>
          <a:xfrm flipH="1" flipV="1">
            <a:off x="428760" y="2714760"/>
            <a:ext cx="821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رابط مستقيم 14"/>
          <p:cNvSpPr/>
          <p:nvPr/>
        </p:nvSpPr>
        <p:spPr>
          <a:xfrm flipH="1">
            <a:off x="5857920" y="1857240"/>
            <a:ext cx="1440" cy="307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رابط مستقيم 16"/>
          <p:cNvSpPr/>
          <p:nvPr/>
        </p:nvSpPr>
        <p:spPr>
          <a:xfrm>
            <a:off x="3143160" y="1857240"/>
            <a:ext cx="0" cy="307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مربع نص 17"/>
          <p:cNvSpPr/>
          <p:nvPr/>
        </p:nvSpPr>
        <p:spPr>
          <a:xfrm>
            <a:off x="6000840" y="2048040"/>
            <a:ext cx="2428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جه المقار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مربع نص 18"/>
          <p:cNvSpPr/>
          <p:nvPr/>
        </p:nvSpPr>
        <p:spPr>
          <a:xfrm>
            <a:off x="3286080" y="2048040"/>
            <a:ext cx="2428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وجه البي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مربع نص 19"/>
          <p:cNvSpPr/>
          <p:nvPr/>
        </p:nvSpPr>
        <p:spPr>
          <a:xfrm>
            <a:off x="642960" y="2048040"/>
            <a:ext cx="2428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وجه التسو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رابط مستقيم 20"/>
          <p:cNvSpPr/>
          <p:nvPr/>
        </p:nvSpPr>
        <p:spPr>
          <a:xfrm flipH="1" flipV="1">
            <a:off x="457200" y="3429000"/>
            <a:ext cx="821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رابط مستقيم 21"/>
          <p:cNvSpPr/>
          <p:nvPr/>
        </p:nvSpPr>
        <p:spPr>
          <a:xfrm flipH="1" flipV="1">
            <a:off x="471600" y="4212720"/>
            <a:ext cx="821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رابط مستقيم 22"/>
          <p:cNvSpPr/>
          <p:nvPr/>
        </p:nvSpPr>
        <p:spPr>
          <a:xfrm flipH="1" flipV="1">
            <a:off x="457200" y="4928760"/>
            <a:ext cx="821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مربع نص 23"/>
          <p:cNvSpPr/>
          <p:nvPr/>
        </p:nvSpPr>
        <p:spPr>
          <a:xfrm>
            <a:off x="6000840" y="2873520"/>
            <a:ext cx="242892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لوية المؤس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مربع نص 24"/>
          <p:cNvSpPr/>
          <p:nvPr/>
        </p:nvSpPr>
        <p:spPr>
          <a:xfrm>
            <a:off x="6000840" y="3630600"/>
            <a:ext cx="2428920" cy="459720"/>
          </a:xfrm>
          <a:prstGeom prst="rect">
            <a:avLst/>
          </a:prstGeom>
          <a:solidFill>
            <a:srgbClr val="f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فق التخطي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مربع نص 25"/>
          <p:cNvSpPr/>
          <p:nvPr/>
        </p:nvSpPr>
        <p:spPr>
          <a:xfrm>
            <a:off x="6000840" y="4357800"/>
            <a:ext cx="2428920" cy="459720"/>
          </a:xfrm>
          <a:prstGeom prst="rect">
            <a:avLst/>
          </a:prstGeom>
          <a:solidFill>
            <a:srgbClr val="e61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جال الترك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مربع نص 27"/>
          <p:cNvSpPr/>
          <p:nvPr/>
        </p:nvSpPr>
        <p:spPr>
          <a:xfrm>
            <a:off x="3286080" y="2873520"/>
            <a:ext cx="2428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حتياجات البائ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مربع نص 28"/>
          <p:cNvSpPr/>
          <p:nvPr/>
        </p:nvSpPr>
        <p:spPr>
          <a:xfrm>
            <a:off x="614520" y="2857680"/>
            <a:ext cx="242856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حتياجات المشت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مربع نص 29"/>
          <p:cNvSpPr/>
          <p:nvPr/>
        </p:nvSpPr>
        <p:spPr>
          <a:xfrm>
            <a:off x="3286080" y="3630600"/>
            <a:ext cx="2428920" cy="459720"/>
          </a:xfrm>
          <a:prstGeom prst="rect">
            <a:avLst/>
          </a:prstGeom>
          <a:solidFill>
            <a:srgbClr val="f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صيرة الأ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مربع نص 30"/>
          <p:cNvSpPr/>
          <p:nvPr/>
        </p:nvSpPr>
        <p:spPr>
          <a:xfrm>
            <a:off x="600120" y="3630600"/>
            <a:ext cx="2428920" cy="459720"/>
          </a:xfrm>
          <a:prstGeom prst="rect">
            <a:avLst/>
          </a:prstGeom>
          <a:solidFill>
            <a:srgbClr val="f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ويل الأ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مربع نص 32"/>
          <p:cNvSpPr/>
          <p:nvPr/>
        </p:nvSpPr>
        <p:spPr>
          <a:xfrm>
            <a:off x="3286080" y="4357800"/>
            <a:ext cx="2428920" cy="459720"/>
          </a:xfrm>
          <a:prstGeom prst="rect">
            <a:avLst/>
          </a:prstGeom>
          <a:solidFill>
            <a:srgbClr val="e61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مربع نص 33"/>
          <p:cNvSpPr/>
          <p:nvPr/>
        </p:nvSpPr>
        <p:spPr>
          <a:xfrm>
            <a:off x="614520" y="4357800"/>
            <a:ext cx="2428560" cy="459720"/>
          </a:xfrm>
          <a:prstGeom prst="rect">
            <a:avLst/>
          </a:prstGeom>
          <a:solidFill>
            <a:srgbClr val="e61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رضاء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8"/>
          <p:cNvSpPr/>
          <p:nvPr/>
        </p:nvSpPr>
        <p:spPr>
          <a:xfrm>
            <a:off x="500040" y="428760"/>
            <a:ext cx="8215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فكر التسويقي على المستوى التنفيذ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سهم إلى اليمين 4"/>
          <p:cNvSpPr/>
          <p:nvPr/>
        </p:nvSpPr>
        <p:spPr>
          <a:xfrm>
            <a:off x="1714680" y="1214280"/>
            <a:ext cx="6858000" cy="11988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مربع نص 5"/>
          <p:cNvSpPr/>
          <p:nvPr/>
        </p:nvSpPr>
        <p:spPr>
          <a:xfrm>
            <a:off x="714240" y="150012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6600"/>
                </a:solidFill>
                <a:latin typeface="Arial"/>
              </a:rPr>
              <a:t>التوجه الإنتا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مربع نص 6"/>
          <p:cNvSpPr/>
          <p:nvPr/>
        </p:nvSpPr>
        <p:spPr>
          <a:xfrm>
            <a:off x="1714680" y="221472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ازالت بعض المؤسسات تتبنى التوجه الإنتاجي حتى ال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سهم إلى اليمين 7"/>
          <p:cNvSpPr/>
          <p:nvPr/>
        </p:nvSpPr>
        <p:spPr>
          <a:xfrm>
            <a:off x="1714680" y="2714760"/>
            <a:ext cx="2928600" cy="11984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مربع نص 8"/>
          <p:cNvSpPr/>
          <p:nvPr/>
        </p:nvSpPr>
        <p:spPr>
          <a:xfrm>
            <a:off x="714240" y="300024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6600"/>
                </a:solidFill>
                <a:latin typeface="Arial"/>
              </a:rPr>
              <a:t>التوجه الإنتا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مربع نص 10"/>
          <p:cNvSpPr/>
          <p:nvPr/>
        </p:nvSpPr>
        <p:spPr>
          <a:xfrm>
            <a:off x="4686480" y="300024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030a0"/>
                </a:solidFill>
                <a:latin typeface="Arial"/>
              </a:rPr>
              <a:t>التوجه البي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سهم إلى اليمين 11"/>
          <p:cNvSpPr/>
          <p:nvPr/>
        </p:nvSpPr>
        <p:spPr>
          <a:xfrm>
            <a:off x="5715000" y="2643120"/>
            <a:ext cx="2857680" cy="11988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مربع نص 12"/>
          <p:cNvSpPr/>
          <p:nvPr/>
        </p:nvSpPr>
        <p:spPr>
          <a:xfrm>
            <a:off x="1714680" y="398772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قدمت بعض المؤسسات نحو مرحلة التوجه البي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سهم إلى اليمين 13"/>
          <p:cNvSpPr/>
          <p:nvPr/>
        </p:nvSpPr>
        <p:spPr>
          <a:xfrm>
            <a:off x="1714680" y="4429080"/>
            <a:ext cx="1643040" cy="11984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مربع نص 14"/>
          <p:cNvSpPr/>
          <p:nvPr/>
        </p:nvSpPr>
        <p:spPr>
          <a:xfrm>
            <a:off x="3214800" y="471492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030a0"/>
                </a:solidFill>
                <a:latin typeface="Arial"/>
              </a:rPr>
              <a:t>التوجه البي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سهم إلى اليمين 15"/>
          <p:cNvSpPr/>
          <p:nvPr/>
        </p:nvSpPr>
        <p:spPr>
          <a:xfrm>
            <a:off x="4143240" y="4429080"/>
            <a:ext cx="1714680" cy="1198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مربع نص 16"/>
          <p:cNvSpPr/>
          <p:nvPr/>
        </p:nvSpPr>
        <p:spPr>
          <a:xfrm>
            <a:off x="5857920" y="4711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توجه التسو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سهم إلى اليمين 17"/>
          <p:cNvSpPr/>
          <p:nvPr/>
        </p:nvSpPr>
        <p:spPr>
          <a:xfrm>
            <a:off x="6858000" y="4373640"/>
            <a:ext cx="1714680" cy="1198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مربع نص 18"/>
          <p:cNvSpPr/>
          <p:nvPr/>
        </p:nvSpPr>
        <p:spPr>
          <a:xfrm>
            <a:off x="714240" y="471492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6600"/>
                </a:solidFill>
                <a:latin typeface="Arial"/>
              </a:rPr>
              <a:t>التوجه الإنتا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مربع نص 19"/>
          <p:cNvSpPr/>
          <p:nvPr/>
        </p:nvSpPr>
        <p:spPr>
          <a:xfrm>
            <a:off x="1714680" y="577368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قدمت العديد من المؤسسات نحو التوجه التسويق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8"/>
          <p:cNvSpPr/>
          <p:nvPr/>
        </p:nvSpPr>
        <p:spPr>
          <a:xfrm>
            <a:off x="428760" y="357120"/>
            <a:ext cx="8215200" cy="61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فهوم الاجتماعي للتسو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(</a:t>
            </a:r>
            <a:r>
              <a:rPr b="0" lang="ar-SA" sz="18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تطوير المفهوم الحديث للتسويق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شباع حاجات ورغبات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قيق الأرباح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للمنتج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راعاة صالح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جتم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حماية البيئة والحفاظ ع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موارد المجتمع وتنميتها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سهم منحني إلى اليسار 4"/>
          <p:cNvSpPr/>
          <p:nvPr/>
        </p:nvSpPr>
        <p:spPr>
          <a:xfrm>
            <a:off x="8001000" y="3571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3198936"/>
                <a:lnTo>
                  <a:pt x="5400" y="21362"/>
                </a:lnTo>
                <a:lnTo>
                  <a:pt x="0" y="17182"/>
                </a:lnTo>
                <a:lnTo>
                  <a:pt x="5400" y="12526"/>
                </a:lnTo>
                <a:lnTo>
                  <a:pt x="5400" y="14735"/>
                </a:lnTo>
                <a:arcTo wR="21600" hR="7487" stAng="3198936" swAng="-2832376"/>
                <a:lnTo>
                  <a:pt x="20638" y="9696"/>
                </a:lnTo>
                <a:arcTo wR="21600" hR="7487" stAng="-366560" swAng="-5033440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-366560"/>
                <a:lnTo>
                  <a:pt x="20638" y="9696"/>
                </a:lnTo>
                <a:arcTo wR="21600" hR="7487" stAng="-366560" swAng="-5033440"/>
                <a:close/>
              </a:path>
            </a:pathLst>
          </a:cu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مثلث متساوي الساقين 5"/>
          <p:cNvSpPr/>
          <p:nvPr/>
        </p:nvSpPr>
        <p:spPr>
          <a:xfrm>
            <a:off x="1071720" y="1714680"/>
            <a:ext cx="2428560" cy="2286000"/>
          </a:xfrm>
          <a:prstGeom prst="triangle">
            <a:avLst>
              <a:gd name="adj" fmla="val 50000"/>
            </a:avLst>
          </a:prstGeom>
          <a:solidFill>
            <a:srgbClr val="2da2b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مربع نص 6"/>
          <p:cNvSpPr/>
          <p:nvPr/>
        </p:nvSpPr>
        <p:spPr>
          <a:xfrm>
            <a:off x="1928880" y="13572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61893"/>
                </a:solidFill>
                <a:latin typeface="Arial"/>
              </a:rPr>
              <a:t>المجتم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مربع نص 7"/>
          <p:cNvSpPr/>
          <p:nvPr/>
        </p:nvSpPr>
        <p:spPr>
          <a:xfrm>
            <a:off x="3429000" y="3786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61893"/>
                </a:solidFill>
                <a:latin typeface="Arial"/>
              </a:rPr>
              <a:t>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مربع نص 8"/>
          <p:cNvSpPr/>
          <p:nvPr/>
        </p:nvSpPr>
        <p:spPr>
          <a:xfrm>
            <a:off x="357120" y="3786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61893"/>
                </a:solidFill>
                <a:latin typeface="Arial"/>
              </a:rPr>
              <a:t>المنت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رابط كسهم مستقيم 19"/>
          <p:cNvCxnSpPr>
            <a:stCxn id="653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3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4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5" name="رابط كسهم مستقيم 27"/>
          <p:cNvCxnSpPr>
            <a:stCxn id="657" idx="0"/>
            <a:endCxn id="656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66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رابط كسهم مستقيم 48"/>
          <p:cNvCxnSpPr>
            <a:endCxn id="657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8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83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84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85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show_file3"/>
          <p:cNvPicPr/>
          <p:nvPr/>
        </p:nvPicPr>
        <p:blipFill>
          <a:blip r:embed="rId1"/>
          <a:stretch/>
        </p:blipFill>
        <p:spPr>
          <a:xfrm>
            <a:off x="-523800" y="-695160"/>
            <a:ext cx="10228320" cy="77911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 rot="20398800">
            <a:off x="133200" y="549360"/>
            <a:ext cx="1747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مقدمـــ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857160" y="241308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التسوي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8"/>
          <p:cNvSpPr/>
          <p:nvPr/>
        </p:nvSpPr>
        <p:spPr>
          <a:xfrm>
            <a:off x="642960" y="214200"/>
            <a:ext cx="7786800" cy="86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التسو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وائمة بين العرض والطلب على المنتجات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(تلب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لحاجات المستهلكين – تخفيض التكاليف -الحفاظ على استقرار الأسعا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خلق المنافع (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الشكلية – المكانية – الزمنية – الملكية – المعلومات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القيمة المناسبة للمنت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دعيم التخصص (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تركيز المجتمعات على إنتاج ما تتمتع بميز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نسبية في إنتاجه وتبادل المنتجات فيما بينها : تخصص إنتاجي وتخصص تجار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رفع مستوى معيشة الأفراد في المجتمع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من خل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تلبية حاجات ورغبات أفراده من سلع وخدمات يتم تطويرها باستمرا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خلق وظائف جديدة لأفراد المجتم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8"/>
          <p:cNvSpPr/>
          <p:nvPr/>
        </p:nvSpPr>
        <p:spPr>
          <a:xfrm>
            <a:off x="500040" y="2921040"/>
            <a:ext cx="82152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8"/>
          <p:cNvSpPr/>
          <p:nvPr/>
        </p:nvSpPr>
        <p:spPr>
          <a:xfrm>
            <a:off x="428760" y="357120"/>
            <a:ext cx="8215200" cy="74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مرحلة 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التوجه بالإنتا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زيادة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الطل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على الع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هتمام المستهلك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الحصول على المنتجات وبأسعا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رخي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بغض النظر عن مواصف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تركيز المؤسسات</a:t>
            </a:r>
            <a:r>
              <a:rPr b="0" lang="ar-SA" sz="3200" spc="-1" strike="noStrike">
                <a:solidFill>
                  <a:srgbClr val="7030a0"/>
                </a:solidFill>
                <a:latin typeface="Arial"/>
                <a:ea typeface="PT Bold Heading"/>
              </a:rPr>
              <a:t> على توفير المنتجات كم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على حسا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جو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عدم الحاجة لجهود تسويق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بسبب زيادة الطلب وقل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ناف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Arial"/>
                <a:cs typeface="PT Bold Heading"/>
              </a:rPr>
              <a:t>تذم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ستهلكين من مستوى جودة المنتج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8"/>
          <p:cNvSpPr/>
          <p:nvPr/>
        </p:nvSpPr>
        <p:spPr>
          <a:xfrm>
            <a:off x="428760" y="357120"/>
            <a:ext cx="8215200" cy="78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مرحلة 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التوجه بالمنت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هتمام المؤسسات </a:t>
            </a:r>
            <a:r>
              <a:rPr b="0" lang="ar-SA" sz="3200" spc="-1" strike="noStrike">
                <a:solidFill>
                  <a:srgbClr val="00b050"/>
                </a:solidFill>
                <a:latin typeface="Arial"/>
                <a:cs typeface="PT Bold Heading"/>
              </a:rPr>
              <a:t>بجودة المنتج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إرضاء للمسته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فتراض أن المنتج الجيد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يبيع نفس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000"/>
              </a:lnSpc>
              <a:buClr>
                <a:srgbClr val="6d1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d1014"/>
                </a:solidFill>
                <a:latin typeface="Arial"/>
                <a:ea typeface="PT Bold Heading"/>
              </a:rPr>
              <a:t> ركو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عديد من المنتجات لعدم علم المستهلك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سهم منحني إلى اليسار 4"/>
          <p:cNvSpPr/>
          <p:nvPr/>
        </p:nvSpPr>
        <p:spPr>
          <a:xfrm>
            <a:off x="8001000" y="3571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3198936"/>
                <a:lnTo>
                  <a:pt x="5400" y="21362"/>
                </a:lnTo>
                <a:lnTo>
                  <a:pt x="0" y="17182"/>
                </a:lnTo>
                <a:lnTo>
                  <a:pt x="5400" y="12526"/>
                </a:lnTo>
                <a:lnTo>
                  <a:pt x="5400" y="14735"/>
                </a:lnTo>
                <a:arcTo wR="21600" hR="7487" stAng="3198936" swAng="-2832376"/>
                <a:lnTo>
                  <a:pt x="20638" y="9696"/>
                </a:lnTo>
                <a:arcTo wR="21600" hR="7487" stAng="-366560" swAng="-5033440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-366560"/>
                <a:lnTo>
                  <a:pt x="20638" y="9696"/>
                </a:lnTo>
                <a:arcTo wR="21600" hR="7487" stAng="-366560" swAng="-5033440"/>
                <a:close/>
              </a:path>
            </a:pathLst>
          </a:cu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رابط كسهم مستقيم 6"/>
          <p:cNvCxnSpPr/>
          <p:nvPr/>
        </p:nvCxnSpPr>
        <p:spPr>
          <a:xfrm>
            <a:off x="4285800" y="4572000"/>
            <a:ext cx="3429720" cy="572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8"/>
          <p:cNvSpPr/>
          <p:nvPr/>
        </p:nvSpPr>
        <p:spPr>
          <a:xfrm>
            <a:off x="428760" y="357120"/>
            <a:ext cx="8215200" cy="74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مرحلة 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التوجه بالبي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دراك المؤسسات بضرورة </a:t>
            </a:r>
            <a:r>
              <a:rPr b="0" lang="ar-SA" sz="3200" spc="-1" strike="noStrike">
                <a:solidFill>
                  <a:srgbClr val="10ee3a"/>
                </a:solidFill>
                <a:latin typeface="Arial"/>
                <a:cs typeface="PT Bold Heading"/>
              </a:rPr>
              <a:t>حث المستهل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على الشر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عداد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برامج بيعية وترويج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قيام مندوبي البيع بالضغط على العملاء (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بيع التعس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 تذم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ستهلكين من أسلوب الضغط علي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سهم منحني إلى اليسار 4"/>
          <p:cNvSpPr/>
          <p:nvPr/>
        </p:nvSpPr>
        <p:spPr>
          <a:xfrm>
            <a:off x="8001000" y="3571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3198936"/>
                <a:lnTo>
                  <a:pt x="5400" y="21362"/>
                </a:lnTo>
                <a:lnTo>
                  <a:pt x="0" y="17182"/>
                </a:lnTo>
                <a:lnTo>
                  <a:pt x="5400" y="12526"/>
                </a:lnTo>
                <a:lnTo>
                  <a:pt x="5400" y="14735"/>
                </a:lnTo>
                <a:arcTo wR="21600" hR="7487" stAng="3198936" swAng="-2832376"/>
                <a:lnTo>
                  <a:pt x="20638" y="9696"/>
                </a:lnTo>
                <a:arcTo wR="21600" hR="7487" stAng="-366560" swAng="-5033440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-366560"/>
                <a:lnTo>
                  <a:pt x="20638" y="9696"/>
                </a:lnTo>
                <a:arcTo wR="21600" hR="7487" stAng="-366560" swAng="-5033440"/>
                <a:close/>
              </a:path>
            </a:pathLst>
          </a:cu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8"/>
          <p:cNvSpPr/>
          <p:nvPr/>
        </p:nvSpPr>
        <p:spPr>
          <a:xfrm>
            <a:off x="428760" y="630360"/>
            <a:ext cx="8215200" cy="81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مرحلة </a:t>
            </a:r>
            <a:r>
              <a:rPr b="0" lang="ar-SA" sz="40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التوجه التسويقي 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ea typeface="PT Bold Heading"/>
              </a:rPr>
              <a:t>(</a:t>
            </a:r>
            <a:r>
              <a:rPr b="0" lang="ar-SA" sz="22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المفهوم الحديث للتسويق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ea typeface="PT Bold Heading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cc00ff"/>
                </a:solidFill>
                <a:latin typeface="Arial"/>
                <a:cs typeface="PT Bold Heading"/>
              </a:rPr>
              <a:t>العميل أول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التركيز على حاجات ورغبات 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ff00"/>
                </a:solidFill>
                <a:latin typeface="Arial"/>
                <a:cs typeface="PT Bold Heading"/>
              </a:rPr>
              <a:t>أرباح المنظ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تحقق نتيجة لإرضاء 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أهمية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تكامل الأنشطة التسويق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واستمراريتها 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وتكاملها مع الأنشطة ال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سهم منحني إلى اليسار 4"/>
          <p:cNvSpPr/>
          <p:nvPr/>
        </p:nvSpPr>
        <p:spPr>
          <a:xfrm>
            <a:off x="8001000" y="3571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3198936"/>
                <a:lnTo>
                  <a:pt x="5400" y="21362"/>
                </a:lnTo>
                <a:lnTo>
                  <a:pt x="0" y="17182"/>
                </a:lnTo>
                <a:lnTo>
                  <a:pt x="5400" y="12526"/>
                </a:lnTo>
                <a:lnTo>
                  <a:pt x="5400" y="14735"/>
                </a:lnTo>
                <a:arcTo wR="21600" hR="7487" stAng="3198936" swAng="-2832376"/>
                <a:lnTo>
                  <a:pt x="20638" y="9696"/>
                </a:lnTo>
                <a:arcTo wR="21600" hR="7487" stAng="-366560" swAng="-5033440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-366560"/>
                <a:lnTo>
                  <a:pt x="20638" y="9696"/>
                </a:lnTo>
                <a:arcTo wR="21600" hR="7487" stAng="-366560" swAng="-5033440"/>
                <a:close/>
              </a:path>
            </a:pathLst>
          </a:cu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8"/>
          <p:cNvSpPr/>
          <p:nvPr/>
        </p:nvSpPr>
        <p:spPr>
          <a:xfrm>
            <a:off x="1500120" y="6429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نموذج المفهوم الحديث للتسوي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642960" y="1879560"/>
            <a:ext cx="478620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785880" y="4148280"/>
            <a:ext cx="2066760" cy="642600"/>
          </a:xfrm>
          <a:prstGeom prst="rect">
            <a:avLst/>
          </a:prstGeom>
          <a:solidFill>
            <a:srgbClr val="00b0f0"/>
          </a:solidFill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أهداف 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785880" y="2505240"/>
            <a:ext cx="2066760" cy="642600"/>
          </a:xfrm>
          <a:prstGeom prst="rect">
            <a:avLst/>
          </a:prstGeom>
          <a:solidFill>
            <a:srgbClr val="a6ddea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جه بالعم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مربع نص 16"/>
          <p:cNvSpPr/>
          <p:nvPr/>
        </p:nvSpPr>
        <p:spPr>
          <a:xfrm>
            <a:off x="3929040" y="2286000"/>
            <a:ext cx="1357200" cy="3018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cs typeface="PT Bold Heading"/>
              </a:rPr>
              <a:t>تكامل الأنشطة التسويق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مربع نص 17"/>
          <p:cNvSpPr/>
          <p:nvPr/>
        </p:nvSpPr>
        <p:spPr>
          <a:xfrm>
            <a:off x="6000840" y="3398760"/>
            <a:ext cx="1000080" cy="642600"/>
          </a:xfrm>
          <a:prstGeom prst="rect">
            <a:avLst/>
          </a:prstGeom>
          <a:solidFill>
            <a:srgbClr val="10ee3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رضاء 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مربع نص 18"/>
          <p:cNvSpPr/>
          <p:nvPr/>
        </p:nvSpPr>
        <p:spPr>
          <a:xfrm>
            <a:off x="7572240" y="3112920"/>
            <a:ext cx="1000440" cy="14655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نجاح المنظمة في تحقيق أهداف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رابط كسهم مستقيم 20"/>
          <p:cNvCxnSpPr>
            <a:stCxn id="600" idx="3"/>
            <a:endCxn id="604" idx="1"/>
          </p:cNvCxnSpPr>
          <p:nvPr/>
        </p:nvCxnSpPr>
        <p:spPr>
          <a:xfrm flipV="1">
            <a:off x="5429160" y="3722040"/>
            <a:ext cx="572400" cy="39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رابط كسهم مستقيم 22"/>
          <p:cNvCxnSpPr>
            <a:stCxn id="604" idx="3"/>
            <a:endCxn id="605" idx="1"/>
          </p:cNvCxnSpPr>
          <p:nvPr/>
        </p:nvCxnSpPr>
        <p:spPr>
          <a:xfrm flipV="1">
            <a:off x="7000560" y="3712320"/>
            <a:ext cx="572040" cy="104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8" name="مربع نص 24"/>
          <p:cNvSpPr/>
          <p:nvPr/>
        </p:nvSpPr>
        <p:spPr>
          <a:xfrm>
            <a:off x="1571760" y="2962440"/>
            <a:ext cx="5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مربع نص 26"/>
          <p:cNvSpPr/>
          <p:nvPr/>
        </p:nvSpPr>
        <p:spPr>
          <a:xfrm>
            <a:off x="3214800" y="2962440"/>
            <a:ext cx="5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8:02Z</dcterms:modified>
  <cp:revision>219</cp:revision>
  <dc:subject/>
  <dc:title>الشريحة 1</dc:title>
</cp:coreProperties>
</file>