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74B-C680-4B4C-8EF7-BCEC0817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0F6-E9D3-4067-929A-FD61997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38363-9B66-4216-9D5D-28FD1401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A34B1-DF47-458B-A63F-9847BF0A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C6C69-812D-4207-B325-9C1F381B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C7F9D-3F89-438A-8FCC-2BF8E43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48375-C8EB-4421-8CE1-A3BBA9E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56BA2-D4C6-4B6B-B61E-58713BC4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C7B4B-B0C7-4A8A-AD04-D92984D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3875F-68D1-475E-ACDB-199265F7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4C781A-71B7-4576-B3BC-F2AE47130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F5752-3F92-4795-BE0D-DBA17AB2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893-FC8E-4E0A-A4DD-2368C844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53FD8-831C-48EC-BCD4-3F73DB52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06B46-59BD-40E1-AAD6-7BBB86D0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A4C83-9063-41CF-9FD4-445EE1C9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8496A-788E-481C-A8B3-98B9324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1810B-E953-402A-A1A4-59A68101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7AEC8-9A8B-4C6C-9D50-FF64B965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CB3A2F-8340-47D5-9671-23C8180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B2161-5AA9-4765-AB1B-867FC551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67E51-21A6-408C-B8BE-5E2932BD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811B1-97F9-4BBC-85A3-C5A55F83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8B1-859D-4AB7-940E-1A87D811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90CE7-263E-4BF2-BA9E-16E38D68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401DE-5725-4074-B3E4-09BBD0C2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1E765-CA54-46C9-A041-C0992908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EB67-2923-4B6D-8EAB-A9BC51F3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3EB74-DBA4-4F77-B319-94E9164C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8E074-FB6B-4470-A6C9-BD353274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D51C9-B4AA-4B95-8FB6-88774C4F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87052-27C7-4946-9872-5C64D37C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CE3A2-7B0F-4ABB-A94C-BA8EC9A7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13C59-FFA6-4C42-A7D5-14BE3D32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7CF5-05B8-4379-BC59-0DF5EE26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934F0-940D-467C-84E8-6F533BF3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0AE44-4639-4618-8A02-1560A140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17DCE-9489-43C7-9713-458E245C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B859C-3D7B-4385-9696-E73B0C32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01546-2E0E-4802-A66A-B32D3CFC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9C9E2-60A4-4ECE-8544-0E89D3AD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29356-D61F-40ED-8578-ED1A8F7A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46928-900A-4760-B8DC-B2F69EB8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28525-A0D5-40CD-9BAB-9C87EF4E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042C5-4EF9-4458-8153-474AB58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1563-C9D3-4D6F-A8C7-E71D10B7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B0A2-F0B2-4830-8FB8-D4B0D678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FE726-736C-4547-91B3-9744316D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79E550-B1C3-450D-95A9-266217A2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5F0ED-D99C-4F66-8608-7F6A03FD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21142-D3BE-4DE0-9E87-63C82599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FD81-AAB5-4DA0-8CBE-82F813E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7A54-1FF5-4F83-9F14-51DFD27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20D-FF98-4F75-827F-C2F1FFF9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F510-170B-4DEE-B18B-3E90B38A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8656-B8DB-4DF6-9AC7-E1B7FA8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DC55-D07C-4FA1-83DB-A51BB9A3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8FD-436F-48C2-9971-C52D81FE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A293-1C84-4544-B456-B1697B0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4C12-A246-4627-BE1A-C322D32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1C28-E9A9-4DFF-94B1-AB2783BD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8C34-C785-4618-98AE-A23A8014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5D038-9DE7-40FB-8243-979F5516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D5554-8B44-4F9C-8637-9EB0954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56F5-21E3-4E88-93D2-92730B98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BD088-C562-4686-8065-3B8254F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CA5C-09FD-4BAD-ABCD-31269575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E55-C2B5-48F9-8C16-F2CD9D1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F999-6B02-4E36-8940-963E89EB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C7772-EE74-4EFA-9DA3-6D525BEE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066F-7363-4AE9-AE66-23EC497B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EC7E-540D-4D73-BCA5-527DCFE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6804-0FFD-40BD-866A-47C08EEA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F141E-8F69-4CCF-9828-225366FD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DEBE-3B02-479E-BC97-ED85CEC7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FB47C-161C-4B6E-9142-B9605F1D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74624-CEC4-46FC-AC82-91E88749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C04F9-B805-4B7A-B2BE-708EDF60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831-6ACD-4F60-AC6D-5C1DC097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F186-2354-4162-8C2B-CC8FA74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F70F-D477-4F2B-81DF-9498B6B3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D92E-248F-4060-8519-C9DD7841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603E4-75E5-44F5-A474-A3394D1D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466B-B360-499B-BD9C-F1725E6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C34D-2F81-4BCB-821A-B82A414D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9632-A4C1-493C-ADD7-25C599E1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6B92-7190-438F-8A25-31EC241F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32BA6-168E-4E61-9076-7C59213AB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2F971-6DEE-4633-84CA-40208C57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5D8C-DE35-474D-88E4-C23FB6D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392E-1AA2-4261-9EDA-8E58833A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A2FCC-EE9A-422D-853B-21F760EB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B5642-EE80-4C56-AFAE-41FB425C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D042-82A5-4EF3-A899-C42035A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AA24-50F9-4BCB-B73A-59016EA0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663A3-BCA8-4D71-8ECE-D1AD096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FF577-FDBD-4E86-AABE-E536A5B9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F5A2-3B52-470E-8375-3BF8B375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08181-1D46-4C12-A2E3-8404B078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3F242-EF92-4C45-A872-BBBEA34F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B4D-AFB7-4C32-AD54-E0AC87F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5CD2-DD75-4B5A-8BF7-9BE48BD4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E7980-EBFA-45BD-B83D-CF66BF9EF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40210-AB7A-4400-B10B-B62736F9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B454-241F-4630-AAC4-A42F912E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39E8-824C-45BD-8C90-3D4EB69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E5C6-DCCB-41C4-BB5A-C9E87820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0071-6DFE-4047-AA9C-7AF85B7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A65EA-56F1-402D-A5AA-FCCD730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92672-4AB3-4206-A52F-1B97C3AF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CDDB-34EE-4FA7-A640-C8D78596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D50-2DC4-4990-B770-44EC7A13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45BE1-7F72-4698-92EC-D99CEA4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D74F2-8F60-493B-8A59-D77A2167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4DA5-F533-4EBB-835B-DC1F7156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AFA9-4EFD-4C66-866A-2634B5BA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EDFB6-D07A-40C2-B595-B7A78DBF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75744-5046-43A2-8753-F4828899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6C4C-BCA7-4056-BF12-A600E149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6E13-E497-4150-AEF8-222195D5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9CD4A-4F51-451C-8E98-B9345213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729EE-A89A-498A-B67B-2088034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5EE-4035-4074-B8E7-14BE29C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1FCAA-E716-4DE9-A40C-7D188F8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68A3-4D95-4C30-AF9E-FF7D1CC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16DA1-92CE-43D8-933F-AA5C9FCF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E7E1B-7C25-481C-8DCF-82CC14DC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95036-796F-4194-AFC6-128D1B16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D01DB-4901-45A0-AE70-EC566C5A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B4FD-A0D0-49DA-9873-D83E12A2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6F87-1C09-4A26-A3D3-D576ABEE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3C5A-2786-40FB-B3C9-F8D3B338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131D-536F-482A-A121-DF2006DE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840-C8E2-454F-834A-0563E918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432F1-F745-42DF-8DE4-B477862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7806-09BA-42B5-9EE1-C2A2131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8C18C-604B-417E-B818-48508FC9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A9F2E-AA1A-4FF7-A3E2-12C38197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B3B7E-95C2-47C6-BDA2-DCB0A364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72F8B-1779-413D-B6C1-94F66770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8F0F7-F7A6-4884-817C-9BD9E365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11F8F-0B24-4B67-B8CE-74B718B1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50AB6-812C-43D3-A2CB-CAEEF46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0B034-EC61-48DE-8211-15530EE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A3F-85FE-4CCC-B2E8-9FE088A4B3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E858-23C7-4466-96DF-B7BBC7BFA6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47C-02F4-45D3-8319-E7E7F0863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14B6-C625-4C06-B737-48354D7827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3976-1EE9-4B95-B2AD-4626258D3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C3C6-205E-42D4-B138-CFEBDD6C7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C8C1-6E45-43DC-B1AD-7CE4681A2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02D1-FE68-4052-9D43-EAD0CBA14D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413F-970B-4B99-A57B-188F135AAF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D3DE-F342-408E-BD60-62938E93FE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1781-0110-41E6-A366-34C0196EE1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E0A8-B3B6-4EEB-9869-B43FE1E7B7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5"/>
          <p:cNvSpPr/>
          <p:nvPr/>
        </p:nvSpPr>
        <p:spPr>
          <a:xfrm>
            <a:off x="669960" y="185724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8"/>
          <p:cNvSpPr/>
          <p:nvPr/>
        </p:nvSpPr>
        <p:spPr>
          <a:xfrm>
            <a:off x="500040" y="6494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لتوجهين البيعي والتسو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مستطيل 4"/>
          <p:cNvSpPr/>
          <p:nvPr/>
        </p:nvSpPr>
        <p:spPr>
          <a:xfrm>
            <a:off x="500040" y="1857240"/>
            <a:ext cx="8143920" cy="307188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12"/>
          <p:cNvSpPr/>
          <p:nvPr/>
        </p:nvSpPr>
        <p:spPr>
          <a:xfrm flipH="1" flipV="1">
            <a:off x="428760" y="2714760"/>
            <a:ext cx="821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رابط مستقيم 14"/>
          <p:cNvSpPr/>
          <p:nvPr/>
        </p:nvSpPr>
        <p:spPr>
          <a:xfrm flipH="1">
            <a:off x="5857920" y="1857240"/>
            <a:ext cx="1440" cy="307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رابط مستقيم 16"/>
          <p:cNvSpPr/>
          <p:nvPr/>
        </p:nvSpPr>
        <p:spPr>
          <a:xfrm>
            <a:off x="3143160" y="1857240"/>
            <a:ext cx="0" cy="307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مربع نص 17"/>
          <p:cNvSpPr/>
          <p:nvPr/>
        </p:nvSpPr>
        <p:spPr>
          <a:xfrm>
            <a:off x="6000840" y="2048040"/>
            <a:ext cx="242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جه المقارن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مربع نص 18"/>
          <p:cNvSpPr/>
          <p:nvPr/>
        </p:nvSpPr>
        <p:spPr>
          <a:xfrm>
            <a:off x="3286080" y="2048040"/>
            <a:ext cx="2428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جه البي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مربع نص 19"/>
          <p:cNvSpPr/>
          <p:nvPr/>
        </p:nvSpPr>
        <p:spPr>
          <a:xfrm>
            <a:off x="642960" y="2048040"/>
            <a:ext cx="2428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وجه التسو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رابط مستقيم 20"/>
          <p:cNvSpPr/>
          <p:nvPr/>
        </p:nvSpPr>
        <p:spPr>
          <a:xfrm flipH="1" flipV="1">
            <a:off x="457200" y="3429000"/>
            <a:ext cx="8215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21"/>
          <p:cNvSpPr/>
          <p:nvPr/>
        </p:nvSpPr>
        <p:spPr>
          <a:xfrm flipH="1" flipV="1">
            <a:off x="471600" y="4212720"/>
            <a:ext cx="821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رابط مستقيم 22"/>
          <p:cNvSpPr/>
          <p:nvPr/>
        </p:nvSpPr>
        <p:spPr>
          <a:xfrm flipH="1" flipV="1">
            <a:off x="457200" y="4928760"/>
            <a:ext cx="82152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مربع نص 23"/>
          <p:cNvSpPr/>
          <p:nvPr/>
        </p:nvSpPr>
        <p:spPr>
          <a:xfrm>
            <a:off x="6000840" y="2873520"/>
            <a:ext cx="242892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لوية المؤسس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مربع نص 24"/>
          <p:cNvSpPr/>
          <p:nvPr/>
        </p:nvSpPr>
        <p:spPr>
          <a:xfrm>
            <a:off x="600084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فق التخطي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ربع نص 25"/>
          <p:cNvSpPr/>
          <p:nvPr/>
        </p:nvSpPr>
        <p:spPr>
          <a:xfrm>
            <a:off x="6000840" y="4357800"/>
            <a:ext cx="242892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جال التركي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مربع نص 27"/>
          <p:cNvSpPr/>
          <p:nvPr/>
        </p:nvSpPr>
        <p:spPr>
          <a:xfrm>
            <a:off x="3286080" y="2873520"/>
            <a:ext cx="2428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حتياجات البائ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مربع نص 28"/>
          <p:cNvSpPr/>
          <p:nvPr/>
        </p:nvSpPr>
        <p:spPr>
          <a:xfrm>
            <a:off x="614520" y="2857680"/>
            <a:ext cx="242856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حتياجات المشت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مربع نص 29"/>
          <p:cNvSpPr/>
          <p:nvPr/>
        </p:nvSpPr>
        <p:spPr>
          <a:xfrm>
            <a:off x="328608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صيرة الأ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30"/>
          <p:cNvSpPr/>
          <p:nvPr/>
        </p:nvSpPr>
        <p:spPr>
          <a:xfrm>
            <a:off x="600120" y="3630600"/>
            <a:ext cx="2428920" cy="45972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ويل الأ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32"/>
          <p:cNvSpPr/>
          <p:nvPr/>
        </p:nvSpPr>
        <p:spPr>
          <a:xfrm>
            <a:off x="3286080" y="4357800"/>
            <a:ext cx="242892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مربع نص 33"/>
          <p:cNvSpPr/>
          <p:nvPr/>
        </p:nvSpPr>
        <p:spPr>
          <a:xfrm>
            <a:off x="614520" y="4357800"/>
            <a:ext cx="2428560" cy="459720"/>
          </a:xfrm>
          <a:prstGeom prst="rect">
            <a:avLst/>
          </a:prstGeom>
          <a:solidFill>
            <a:srgbClr val="e618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رضاء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8"/>
          <p:cNvSpPr/>
          <p:nvPr/>
        </p:nvSpPr>
        <p:spPr>
          <a:xfrm>
            <a:off x="500040" y="428760"/>
            <a:ext cx="8215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فكر التسويقي على المستوى التنفيذ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سهم إلى اليمين 4"/>
          <p:cNvSpPr/>
          <p:nvPr/>
        </p:nvSpPr>
        <p:spPr>
          <a:xfrm>
            <a:off x="1714680" y="1214280"/>
            <a:ext cx="6858000" cy="11988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5"/>
          <p:cNvSpPr/>
          <p:nvPr/>
        </p:nvSpPr>
        <p:spPr>
          <a:xfrm>
            <a:off x="714240" y="150012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مربع نص 6"/>
          <p:cNvSpPr/>
          <p:nvPr/>
        </p:nvSpPr>
        <p:spPr>
          <a:xfrm>
            <a:off x="1714680" y="221472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ازالت بعض المؤسسات تتبنى التوجه الإنتاجي حتى الآ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سهم إلى اليمين 7"/>
          <p:cNvSpPr/>
          <p:nvPr/>
        </p:nvSpPr>
        <p:spPr>
          <a:xfrm>
            <a:off x="1714680" y="2714760"/>
            <a:ext cx="2928600" cy="11984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مربع نص 8"/>
          <p:cNvSpPr/>
          <p:nvPr/>
        </p:nvSpPr>
        <p:spPr>
          <a:xfrm>
            <a:off x="714240" y="300024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مربع نص 10"/>
          <p:cNvSpPr/>
          <p:nvPr/>
        </p:nvSpPr>
        <p:spPr>
          <a:xfrm>
            <a:off x="4686480" y="300024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030a0"/>
                </a:solidFill>
                <a:latin typeface="Arial"/>
              </a:rPr>
              <a:t>التوجه البي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سهم إلى اليمين 11"/>
          <p:cNvSpPr/>
          <p:nvPr/>
        </p:nvSpPr>
        <p:spPr>
          <a:xfrm>
            <a:off x="5715000" y="2643120"/>
            <a:ext cx="2857680" cy="119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مربع نص 12"/>
          <p:cNvSpPr/>
          <p:nvPr/>
        </p:nvSpPr>
        <p:spPr>
          <a:xfrm>
            <a:off x="1714680" y="398772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مت بعض المؤسسات نحو مرحلة التوجه البي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سهم إلى اليمين 13"/>
          <p:cNvSpPr/>
          <p:nvPr/>
        </p:nvSpPr>
        <p:spPr>
          <a:xfrm>
            <a:off x="1714680" y="4429080"/>
            <a:ext cx="1643040" cy="11984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da1f28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مربع نص 14"/>
          <p:cNvSpPr/>
          <p:nvPr/>
        </p:nvSpPr>
        <p:spPr>
          <a:xfrm>
            <a:off x="3214800" y="47149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7030a0"/>
                </a:solidFill>
                <a:latin typeface="Arial"/>
              </a:rPr>
              <a:t>التوجه البي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سهم إلى اليمين 15"/>
          <p:cNvSpPr/>
          <p:nvPr/>
        </p:nvSpPr>
        <p:spPr>
          <a:xfrm>
            <a:off x="4143240" y="4429080"/>
            <a:ext cx="1714680" cy="119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مربع نص 16"/>
          <p:cNvSpPr/>
          <p:nvPr/>
        </p:nvSpPr>
        <p:spPr>
          <a:xfrm>
            <a:off x="5857920" y="471168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</a:rPr>
              <a:t>التوجه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سهم إلى اليمين 17"/>
          <p:cNvSpPr/>
          <p:nvPr/>
        </p:nvSpPr>
        <p:spPr>
          <a:xfrm>
            <a:off x="6858000" y="4373640"/>
            <a:ext cx="1714680" cy="1198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مربع نص 18"/>
          <p:cNvSpPr/>
          <p:nvPr/>
        </p:nvSpPr>
        <p:spPr>
          <a:xfrm>
            <a:off x="714240" y="4714920"/>
            <a:ext cx="9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توجه الإنتاج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مربع نص 19"/>
          <p:cNvSpPr/>
          <p:nvPr/>
        </p:nvSpPr>
        <p:spPr>
          <a:xfrm>
            <a:off x="1714680" y="577368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قدمت العديد من المؤسسات نحو التوجه التسويق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8"/>
          <p:cNvSpPr/>
          <p:nvPr/>
        </p:nvSpPr>
        <p:spPr>
          <a:xfrm>
            <a:off x="428760" y="357120"/>
            <a:ext cx="8215200" cy="61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فهوم الاجتماعي ل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18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تطوير المفهوم الحديث للتسويق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شباع حاجات ورغبات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قيق الأرباح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للمنتج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راعاة صالح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جتم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حماية البيئة والحفاظ ع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موارد المجتمع وتنميتها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مثلث متساوي الساقين 5"/>
          <p:cNvSpPr/>
          <p:nvPr/>
        </p:nvSpPr>
        <p:spPr>
          <a:xfrm>
            <a:off x="1071720" y="1714680"/>
            <a:ext cx="2428560" cy="2286000"/>
          </a:xfrm>
          <a:prstGeom prst="triangle">
            <a:avLst>
              <a:gd name="adj" fmla="val 50000"/>
            </a:avLst>
          </a:prstGeom>
          <a:solidFill>
            <a:srgbClr val="2da2b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مربع نص 6"/>
          <p:cNvSpPr/>
          <p:nvPr/>
        </p:nvSpPr>
        <p:spPr>
          <a:xfrm>
            <a:off x="1928880" y="1357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مجتم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مربع نص 7"/>
          <p:cNvSpPr/>
          <p:nvPr/>
        </p:nvSpPr>
        <p:spPr>
          <a:xfrm>
            <a:off x="3429000" y="3786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مربع نص 8"/>
          <p:cNvSpPr/>
          <p:nvPr/>
        </p:nvSpPr>
        <p:spPr>
          <a:xfrm>
            <a:off x="357120" y="37861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e61893"/>
                </a:solidFill>
                <a:latin typeface="Arial"/>
              </a:rPr>
              <a:t>المنت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2" name="رابط كسهم مستقيم 19"/>
          <p:cNvCxnSpPr>
            <a:stCxn id="653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4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5" name="رابط كسهم مستقيم 27"/>
          <p:cNvCxnSpPr>
            <a:stCxn id="657" idx="0"/>
            <a:endCxn id="656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666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3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رابط كسهم مستقيم 48"/>
          <p:cNvCxnSpPr>
            <a:endCxn id="657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8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2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3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4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85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show_file3"/>
          <p:cNvPicPr/>
          <p:nvPr/>
        </p:nvPicPr>
        <p:blipFill>
          <a:blip r:embed="rId1"/>
          <a:stretch/>
        </p:blipFill>
        <p:spPr>
          <a:xfrm>
            <a:off x="-523800" y="-695160"/>
            <a:ext cx="10228320" cy="77911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857160" y="2413080"/>
            <a:ext cx="742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تسوي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8"/>
          <p:cNvSpPr/>
          <p:nvPr/>
        </p:nvSpPr>
        <p:spPr>
          <a:xfrm>
            <a:off x="642960" y="214200"/>
            <a:ext cx="7786800" cy="86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وائمة بين العرض والطلب على المنتجات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(تلب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لحاجات المستهلكين – تخفيض التكاليف -الحفاظ على استقرار الأسعا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خلق المنافع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شكلية – المكانية – الزمنية – الملكية – المعلومات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القيمة المناسبة ل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دعيم التخصص (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تركيز المجتمعات على إنتاج ما تتمتع بميز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نسبية في إنتاجه وتبادل المنتجات فيما بينها : تخصص إنتاجي وتخصص تجار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فع مستوى معيشة الأفراد في المجتمع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من خل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تلبية حاجات ورغبات أفراده من سلع وخدمات يتم تطويرها باستمرار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خلق وظائف جديدة لأفراد المج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8"/>
          <p:cNvSpPr/>
          <p:nvPr/>
        </p:nvSpPr>
        <p:spPr>
          <a:xfrm>
            <a:off x="500040" y="2921040"/>
            <a:ext cx="82152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8"/>
          <p:cNvSpPr/>
          <p:nvPr/>
        </p:nvSpPr>
        <p:spPr>
          <a:xfrm>
            <a:off x="428760" y="357120"/>
            <a:ext cx="8215200" cy="74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إنتا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زيادة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الطلب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العر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هتمام المستهلك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الحصول على المنتجات وبأسعا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رخيص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بغض النظر عن مواصف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ركيز المؤسسات</a:t>
            </a:r>
            <a:r>
              <a:rPr b="0" lang="ar-SA" sz="3200" spc="-1" strike="noStrike">
                <a:solidFill>
                  <a:srgbClr val="7030a0"/>
                </a:solidFill>
                <a:latin typeface="Arial"/>
                <a:ea typeface="PT Bold Heading"/>
              </a:rPr>
              <a:t> على توفير المنتجات كم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حسا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جو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618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عدم الحاجة لجهود تسويق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بسبب زيادة الطلب وقلة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ناف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تذ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ين من مستوى جودة المنت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8"/>
          <p:cNvSpPr/>
          <p:nvPr/>
        </p:nvSpPr>
        <p:spPr>
          <a:xfrm>
            <a:off x="428760" y="357120"/>
            <a:ext cx="8215200" cy="78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هتمام المؤسسات </a:t>
            </a: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بجودة المنت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إرضاء ل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فتراض أن المنتج الجيد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يبيع نفس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000"/>
              </a:lnSpc>
              <a:buClr>
                <a:srgbClr val="6d10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d1014"/>
                </a:solidFill>
                <a:latin typeface="Arial"/>
                <a:ea typeface="PT Bold Heading"/>
              </a:rPr>
              <a:t> ركود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عديد من المنتجات لعدم علم المستهلك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رابط كسهم مستقيم 6"/>
          <p:cNvCxnSpPr/>
          <p:nvPr/>
        </p:nvCxnSpPr>
        <p:spPr>
          <a:xfrm>
            <a:off x="4285800" y="4572000"/>
            <a:ext cx="3429720" cy="572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8"/>
          <p:cNvSpPr/>
          <p:nvPr/>
        </p:nvSpPr>
        <p:spPr>
          <a:xfrm>
            <a:off x="428760" y="357120"/>
            <a:ext cx="8215200" cy="74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بالبي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دراك المؤسسات بضرورة </a:t>
            </a:r>
            <a:r>
              <a:rPr b="0" lang="ar-SA" sz="3200" spc="-1" strike="noStrike">
                <a:solidFill>
                  <a:srgbClr val="10ee3a"/>
                </a:solidFill>
                <a:latin typeface="Arial"/>
                <a:cs typeface="PT Bold Heading"/>
              </a:rPr>
              <a:t>حث المستهلك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على الشر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عداد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برامج بيعية وتروي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قيام مندوبي البيع بالضغط على العملاء (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PT Bold Heading"/>
              </a:rPr>
              <a:t>البيع التعس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 تذم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مستهلكين من أسلوب الضغط علي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8"/>
          <p:cNvSpPr/>
          <p:nvPr/>
        </p:nvSpPr>
        <p:spPr>
          <a:xfrm>
            <a:off x="428760" y="630360"/>
            <a:ext cx="8215200" cy="81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راحل تطور الفكر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مرحلة </a:t>
            </a:r>
            <a:r>
              <a:rPr b="0" lang="ar-SA" sz="4000" spc="-1" strike="noStrike" u="sng">
                <a:solidFill>
                  <a:srgbClr val="0070c0"/>
                </a:solidFill>
                <a:uFillTx/>
                <a:latin typeface="Arial"/>
                <a:cs typeface="PT Bold Heading"/>
              </a:rPr>
              <a:t>التوجه التسويقي 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ea typeface="PT Bold Heading"/>
              </a:rPr>
              <a:t>(</a:t>
            </a:r>
            <a:r>
              <a:rPr b="0" lang="ar-SA" sz="2200" spc="-1" strike="noStrike" u="sng">
                <a:solidFill>
                  <a:srgbClr val="ff0000"/>
                </a:solidFill>
                <a:uFillTx/>
                <a:latin typeface="Arial"/>
                <a:cs typeface="PT Bold Heading"/>
              </a:rPr>
              <a:t>المفهوم الحديث للتسويق</a:t>
            </a:r>
            <a:r>
              <a:rPr b="0" lang="ar-SA" sz="4400" spc="-1" strike="noStrike" u="sng">
                <a:solidFill>
                  <a:srgbClr val="0070c0"/>
                </a:solidFill>
                <a:uFillTx/>
                <a:latin typeface="Arial"/>
                <a:ea typeface="PT Bold Heading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cc00ff"/>
                </a:solidFill>
                <a:latin typeface="Arial"/>
                <a:cs typeface="PT Bold Heading"/>
              </a:rPr>
              <a:t>العميل أول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: التركيز على حاجات ورغبات 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>
                <a:solidFill>
                  <a:srgbClr val="00ff00"/>
                </a:solidFill>
                <a:latin typeface="Arial"/>
                <a:cs typeface="PT Bold Heading"/>
              </a:rPr>
              <a:t>أرباح المنظ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تحقق نتيجة لإرضاء 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أهمية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تكامل الأنشطة التسويق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واستمراريتها 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وتكاملها مع الأنشطة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سهم منحني إلى اليسار 4"/>
          <p:cNvSpPr/>
          <p:nvPr/>
        </p:nvSpPr>
        <p:spPr>
          <a:xfrm>
            <a:off x="8001000" y="3571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3198936"/>
                <a:lnTo>
                  <a:pt x="5400" y="21362"/>
                </a:lnTo>
                <a:lnTo>
                  <a:pt x="0" y="17182"/>
                </a:lnTo>
                <a:lnTo>
                  <a:pt x="5400" y="12526"/>
                </a:lnTo>
                <a:lnTo>
                  <a:pt x="5400" y="14735"/>
                </a:lnTo>
                <a:arcTo wR="21600" hR="7487" stAng="3198936" swAng="-2832376"/>
                <a:lnTo>
                  <a:pt x="20638" y="9696"/>
                </a:lnTo>
                <a:arcTo wR="21600" hR="7487" stAng="-366560" swAng="-5033440"/>
                <a:close/>
              </a:path>
              <a:path fill="darkenLess" w="21600" h="21600">
                <a:moveTo>
                  <a:pt x="0" y="0"/>
                </a:moveTo>
                <a:arcTo wR="21600" hR="7487" stAng="-5400000" swAng="5400000"/>
                <a:lnTo>
                  <a:pt x="21600" y="11905"/>
                </a:lnTo>
                <a:arcTo wR="21600" hR="7487" stAng="0" swAng="-366560"/>
                <a:lnTo>
                  <a:pt x="20638" y="9696"/>
                </a:lnTo>
                <a:arcTo wR="21600" hR="7487" stAng="-366560" swAng="-5033440"/>
                <a:close/>
              </a:path>
            </a:pathLst>
          </a:cu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8"/>
          <p:cNvSpPr/>
          <p:nvPr/>
        </p:nvSpPr>
        <p:spPr>
          <a:xfrm>
            <a:off x="1500120" y="64296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نموذج المفهوم الحديث للتسو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642960" y="1879560"/>
            <a:ext cx="478620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785880" y="4148280"/>
            <a:ext cx="2066760" cy="642600"/>
          </a:xfrm>
          <a:prstGeom prst="rect">
            <a:avLst/>
          </a:prstGeom>
          <a:solidFill>
            <a:srgbClr val="00b0f0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منظ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785880" y="2505240"/>
            <a:ext cx="2066760" cy="642600"/>
          </a:xfrm>
          <a:prstGeom prst="rect">
            <a:avLst/>
          </a:prstGeom>
          <a:solidFill>
            <a:srgbClr val="a6ddea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جه ب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مربع نص 16"/>
          <p:cNvSpPr/>
          <p:nvPr/>
        </p:nvSpPr>
        <p:spPr>
          <a:xfrm>
            <a:off x="3929040" y="2286000"/>
            <a:ext cx="1357200" cy="3018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cs typeface="PT Bold Heading"/>
              </a:rPr>
              <a:t>تكامل الأنشطة التسويق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مربع نص 17"/>
          <p:cNvSpPr/>
          <p:nvPr/>
        </p:nvSpPr>
        <p:spPr>
          <a:xfrm>
            <a:off x="6000840" y="3398760"/>
            <a:ext cx="1000080" cy="642600"/>
          </a:xfrm>
          <a:prstGeom prst="rect">
            <a:avLst/>
          </a:prstGeom>
          <a:solidFill>
            <a:srgbClr val="10ee3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رضاء 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مربع نص 18"/>
          <p:cNvSpPr/>
          <p:nvPr/>
        </p:nvSpPr>
        <p:spPr>
          <a:xfrm>
            <a:off x="7572240" y="3112920"/>
            <a:ext cx="1000440" cy="146556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نجاح المنظمة في تحقيق أهداف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رابط كسهم مستقيم 20"/>
          <p:cNvCxnSpPr>
            <a:stCxn id="600" idx="3"/>
            <a:endCxn id="604" idx="1"/>
          </p:cNvCxnSpPr>
          <p:nvPr/>
        </p:nvCxnSpPr>
        <p:spPr>
          <a:xfrm flipV="1">
            <a:off x="5429160" y="3722040"/>
            <a:ext cx="572400" cy="39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رابط كسهم مستقيم 22"/>
          <p:cNvCxnSpPr>
            <a:stCxn id="604" idx="3"/>
            <a:endCxn id="605" idx="1"/>
          </p:cNvCxnSpPr>
          <p:nvPr/>
        </p:nvCxnSpPr>
        <p:spPr>
          <a:xfrm flipV="1">
            <a:off x="7000560" y="3712320"/>
            <a:ext cx="572040" cy="104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مربع نص 24"/>
          <p:cNvSpPr/>
          <p:nvPr/>
        </p:nvSpPr>
        <p:spPr>
          <a:xfrm>
            <a:off x="1571760" y="29624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مربع نص 26"/>
          <p:cNvSpPr/>
          <p:nvPr/>
        </p:nvSpPr>
        <p:spPr>
          <a:xfrm>
            <a:off x="3214800" y="2962440"/>
            <a:ext cx="57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8:02Z</dcterms:modified>
  <cp:revision>219</cp:revision>
  <dc:subject/>
  <dc:title>الشريحة 1</dc:title>
</cp:coreProperties>
</file>