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069-8A61-4BA2-9201-9101B065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718-06C6-434C-A6C6-10704918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13D77-BF1F-4F24-B7CC-80E93652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7D6F6-D72F-4E08-9805-D9CF1E64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5A0BC-70D8-4EEC-81DB-8D6511F9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B6961-6D14-42B5-A2F0-22AEF0BD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2185A-F0D7-48A9-B079-24B7BA17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5FD8D-D77A-4352-A52C-77ADF83D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52CD4-3C44-4A4B-B244-1C9FB49B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09AC5-D72A-4295-879C-5131D8ED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6365C-BE82-4E32-B577-D6F0EE58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08F00-B82E-4E2E-8D8C-902BCB87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370-EEAD-4EBE-B655-E14F3A01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AB5A5-A10F-4D7A-9E9B-07C4F494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FDD30-D1BC-4787-9060-102C7A5F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FFB1B-7446-42FA-8656-DD06125A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C8C40-92F4-4175-BD7F-58ECD455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2DAB3-4644-4102-A3A4-B7840820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09B1C-C9CA-4AAD-B01F-614013CD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85086A-8924-4EFD-893B-D223467C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45AEE-A3B9-4C1D-A1B1-6379CA3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B2895-DB37-4F53-B900-CD85C6B2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EE09C-71D8-4D72-B004-BB269576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8FF-B84D-4921-88D6-BB5A92C00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3E97E-9513-4882-B70B-4BCCA17C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CAE6C-407D-417F-90A6-7403BD09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4BE3B-6069-49BF-BFDB-7C88CF7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ECB8E-583C-4FC2-887E-677259F6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9CD65-F178-4B6C-A75B-97E98AF8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BC2AD-150F-48E2-92E8-52BE9E58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9E654-6977-4C80-9CE0-C8A8D5A7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280A4-BC89-47FC-8198-C553095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16DAE-6EAA-492D-843B-AF88F4BF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90A04-D661-488E-A5FF-1B13CF89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D04F-C287-47AB-AC12-FBA5AF46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0E634-B26D-4269-B63E-F2DBA780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DEC56-5B36-4D37-9049-CCD8FB5E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655CE-D019-4B47-9727-FDD455D3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94097-EA55-4ADE-9259-66B9A16D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3C152-5086-4890-8733-9A5D0F4B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99534-6285-4713-9FEA-C20E284F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E4259-70C4-4A3E-9C08-C2039F76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B5210-5B82-402F-8BDC-7DE8F9AD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89209-7B92-4487-8DE0-83247D0D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B12B5-8B59-427B-894E-8A4AC09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77A8-4AE4-4A23-9428-58A7506E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A146D-ECD4-4E65-B5C8-900B0473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E6BB3-3C89-474B-B2D1-29A5A66B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0C2FA-276D-4598-A00C-5801BB8C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98B2D-141E-419C-BD6C-52D1A7F7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14CB1-A9DC-492E-AFE8-8CCF7976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AE72-FA51-46E0-9FB0-1F0CAC8D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20F2-0712-4609-9D85-97107191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5D5A-F8B0-4094-BACE-95913DA5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3B65-434C-4B83-A6FA-C3E7D2EE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1AC-9EB0-43D8-BAF6-EDA26A2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103-8DD9-4DE5-9BEC-91FCA120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FE3D-30FA-48B6-A7B1-AB850D6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EEB4-7238-4817-B0A3-8D566AE4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CDBD-5988-4B57-8DA9-DF3AD8D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797B-899F-4C88-8859-F9B1336C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1C08-8957-401A-A241-A32333B8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C75AE-CEFB-40EB-9E98-5178153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E525-5BE4-441A-8CC5-660A0C5E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6777-719F-4302-98CB-B71CCC3B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F22DB-75D1-4475-A0BE-8BF2D409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4D2A-1AD0-40C2-8BB7-31C911D8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D76-59C6-44EC-A198-AC015ED3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9DF8-7FC1-42D9-8EC5-A763CA51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ACF5-2C80-4929-B5EF-E01337CB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308C-2784-4236-A45E-158F2D4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89930-C3EB-469C-974E-989FA17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8760-14D0-4E6B-9392-BC90F603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E7A98-F0FA-49A0-8106-8F773BD6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D19EA-DFC2-4EB0-9335-3996CAD4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16E49-548E-48F5-8024-6C598A11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D684-7E87-4022-9E08-6EA95D7D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4473-569C-4516-96FA-EFC23EB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AA9-5EEC-409B-8A13-22C21F74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39BA0-C761-4161-91B8-92943B33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23BE-8C43-4EE9-8748-2C46C308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22AB-8F26-42E7-836E-0758E999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BD72C-3124-4086-8628-57EB755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C768-8556-465E-8B31-4D3CC2F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15F96-4B07-43F5-943B-D839110E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B597A-BFA4-4F5A-9EDE-2AABB7F0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BF2E7-66D8-4AD1-A727-6472D470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1DD6E-8CE0-4490-9B65-16C4CE78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84684-054E-4B7E-B03C-80C60C65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688-76B5-4D67-AD7B-48683D24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B510D-E523-480C-A428-C342A009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141F1-740A-42D7-8E1E-EEF0CFC3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A5EE5-0161-4AA9-8424-66AA4D84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C14BA-D94C-452A-9723-4AEA7C9B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9266-C45D-47C5-95E7-2DCA2993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B61E4-D130-4E8A-ADBF-3EB390FC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5608-D2D6-43CB-B617-F9033EF5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6DDA-5C17-445D-8C36-3AE97B1A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7B733-0085-44FF-BD98-DC0443C9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94319-D5B3-467B-AB7D-D6A088BBE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BDC-9521-40F9-820E-0C054214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C70C-741A-4D77-8E57-5BCD5E4A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A3C2C-5B85-4B00-B239-2CABE57A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7648F-D2F2-4D93-82C2-4D65D724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83ACF-A6B5-42AC-B9D8-F16C552C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9271A-910E-468A-80EA-88BD8022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7CFBF-6184-4110-A540-F80DBCA7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C612C-2E6D-4A1C-BB7F-44346C42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86E2-D209-40BE-9149-655B741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5C4D7-3517-4A36-83C8-6653496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E50B1-682F-46B8-B421-28B7DDAF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914-7303-4F40-8F16-069D545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B5757-F3A9-40C9-8E82-B8D85E18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DF47-1545-4E24-993A-4746C486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B77B-0B54-4306-B249-FD27C782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9BBE3-EC22-4731-B32A-858E9CCA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46E56-4D40-4FEF-B4D7-1DC0555B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857F6-257D-40A6-AB3E-10CB9656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96F84-9D95-4E3A-8348-BB2B2256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99A15-6CA0-4D38-82B1-0135C8B4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76133-EC93-4384-9512-8E7CEF1C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3DCBA-52E6-4D00-AAF8-A362C1E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7BE-A7F5-49EB-8C95-6F8F72F0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BAACF-CA1B-4034-90A8-CFBAD3F5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BBE33-59CB-4B69-8A39-7991E3F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BFBD9-3744-468C-BBA1-B00228CB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B6341-7084-4326-A02A-A6984AF5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29F2C-CC3F-4384-AA1D-F1939C1C6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27896-5127-4E82-BAEE-7505240C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6F30-5360-4F4A-BEEA-4441DBB3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F1EA6-32D5-45F4-81AE-2347AD76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19022-D6BC-4FE3-824E-3988FBA4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302CD-607B-4CFD-B0E1-8E1AC8D6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A9A3-77C8-47E4-B5E5-D50F37DF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C2DEC-AEC7-47AF-8636-49FC0FCC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2A82F-4E71-4E25-B3AB-FEA9DB7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0D4AB-ADF2-4F28-BB5B-4163AC14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50705-6006-42D6-A8A8-615B190E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7D916-3A81-459B-A78D-76B56025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53B11-AFD3-49D3-953C-B07D9867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79BB7-9462-49C6-AECF-9AD6E3FC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665B4-CDAF-49BC-A3FF-4C56E005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1C90D-1206-4BF9-8C9D-CF17D2F9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654A23-DCF1-4BE4-AEFC-03F2F53F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4B1-8C61-4B7E-B063-F4234C42C3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EFA6-B38D-4C16-B729-23B6F1CBC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F937-8581-4D8A-9B48-826E01AF56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5BDE-DFC5-4060-8BB3-29496D44A7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1C8B-5B07-4B8A-851C-91FCEECC5A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61C6-F2AC-4B84-83E2-B78F48BC35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2426-220A-4053-BDFD-39EECD6B86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2ABD-2491-4DDE-B651-1B5EDE8565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8DDF-D585-4ED4-88A0-BE449C9049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E7E2-5F04-42EA-99AD-7E4F97B02D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D75-9FF7-41D1-8D9E-75309C7DDC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E70B-DBB6-45EF-A14A-6AF52572EA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700200"/>
            <a:ext cx="544356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4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دار</a:t>
            </a:r>
            <a:r>
              <a:rPr b="0" lang="ar-SA" sz="8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 rot="20312400">
            <a:off x="678240" y="463752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3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مربع نص 4"/>
          <p:cNvSpPr/>
          <p:nvPr/>
        </p:nvSpPr>
        <p:spPr>
          <a:xfrm>
            <a:off x="669960" y="1857240"/>
            <a:ext cx="1071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8"/>
          <p:cNvSpPr/>
          <p:nvPr/>
        </p:nvSpPr>
        <p:spPr>
          <a:xfrm>
            <a:off x="428760" y="357120"/>
            <a:ext cx="821520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ة النشاط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428760" y="1429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نشاط التسويقي لا يعمل في فرا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428760" y="92880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من ثم فإن على النشاط التسويقي أن يضع برامجه التسويقية في إطار مراقبة مناخ العمل داخلياً وخارجي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428760" y="27860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لمــــــــــاذ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8"/>
          <p:cNvSpPr/>
          <p:nvPr/>
        </p:nvSpPr>
        <p:spPr>
          <a:xfrm>
            <a:off x="428760" y="35146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للاستفادة من </a:t>
            </a:r>
            <a:r>
              <a:rPr b="0" lang="ar-SA" sz="3600" spc="-1" strike="noStrike">
                <a:solidFill>
                  <a:srgbClr val="00b050"/>
                </a:solidFill>
                <a:latin typeface="Arial"/>
                <a:cs typeface="PT Bold Heading"/>
              </a:rPr>
              <a:t>الفرص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حتملة ، والحماية من 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خاطر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محتملة بهذا المنا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428760" y="488952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d1014"/>
                </a:solidFill>
                <a:latin typeface="Arial"/>
                <a:cs typeface="PT Bold Heading"/>
              </a:rPr>
              <a:t>كيــــــــــف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00ff"/>
                </a:solidFill>
                <a:latin typeface="Arial"/>
                <a:cs typeface="PT Bold Heading"/>
              </a:rPr>
              <a:t>المراقبة البيئ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سهم منحني إلى اليمين 17"/>
          <p:cNvSpPr/>
          <p:nvPr/>
        </p:nvSpPr>
        <p:spPr>
          <a:xfrm>
            <a:off x="2286000" y="5214960"/>
            <a:ext cx="571680" cy="1000080"/>
          </a:xfrm>
          <a:custGeom>
            <a:avLst/>
            <a:gdLst>
              <a:gd name="textAreaLeft" fmla="*/ 76320 w 571680"/>
              <a:gd name="textAreaRight" fmla="*/ 495360 w 571680"/>
              <a:gd name="textAreaTop" fmla="*/ 196200 h 1000080"/>
              <a:gd name="textAreaBottom" fmla="*/ 73224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86" stAng="-5400000" swAng="-5400000"/>
                <a:lnTo>
                  <a:pt x="0" y="11571"/>
                </a:lnTo>
                <a:arcTo wR="21600" hR="8486" stAng="10800000" swAng="-3401198"/>
                <a:lnTo>
                  <a:pt x="16200" y="21331"/>
                </a:lnTo>
                <a:lnTo>
                  <a:pt x="21600" y="18515"/>
                </a:lnTo>
                <a:lnTo>
                  <a:pt x="16200" y="15160"/>
                </a:lnTo>
                <a:lnTo>
                  <a:pt x="16200" y="16703"/>
                </a:lnTo>
                <a:arcTo wR="21600" hR="8486" stAng="7398802" swAng="3151980"/>
                <a:lnTo>
                  <a:pt x="360" y="10029"/>
                </a:lnTo>
                <a:arcTo wR="21600" hR="8486" stAng="-10550782" swAng="5150782"/>
                <a:close/>
              </a:path>
              <a:path fill="darkenLess" w="21600" h="21600">
                <a:moveTo>
                  <a:pt x="21600" y="0"/>
                </a:moveTo>
                <a:arcTo wR="21600" hR="8486" stAng="-5400000" swAng="-5400000"/>
                <a:lnTo>
                  <a:pt x="0" y="8486"/>
                </a:lnTo>
                <a:arcTo wR="21600" hR="8486" stAng="10800000" swAng="-249218"/>
                <a:lnTo>
                  <a:pt x="360" y="10029"/>
                </a:lnTo>
                <a:arcTo wR="21600" hR="8486" stAng="-10550782" swAng="5150782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428760" y="357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راقبة البيئ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428760" y="12142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جمع المعلومات من البيئتين الداخلية والخارجية التي تعمل الشركة في إطار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28760" y="26431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00"/>
                </a:solidFill>
                <a:latin typeface="Arial"/>
                <a:cs typeface="PT Bold Heading"/>
              </a:rPr>
              <a:t>وتحليل هذه المعلو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428760" y="371484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التنبؤ بتأثيراتها على أداء الش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428760" y="465768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واتخاذ القرارات التي تعمل على تحقيق أهداف الشركة في ضوء هذه التأثي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428760" y="4287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المراقبة البيئ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8"/>
          <p:cNvSpPr/>
          <p:nvPr/>
        </p:nvSpPr>
        <p:spPr>
          <a:xfrm>
            <a:off x="500040" y="1500120"/>
            <a:ext cx="82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توصلت دراسة على 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000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شركة كبي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أن الشركات التي لديها نظم متقدمة لمراقبة الأحداث البيئية ومتابع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3171e"/>
                </a:solidFill>
                <a:latin typeface="Arial"/>
                <a:cs typeface="PT Bold Heading"/>
              </a:rPr>
              <a:t>حققت نمواً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a3171e"/>
                </a:solidFill>
                <a:latin typeface="Arial"/>
                <a:cs typeface="PT Bold Heading"/>
              </a:rPr>
              <a:t>أكثر ارتفاعاً وأرباحاً من غيرها من الشركات التي لم يكن لديها مثل هذه النظ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428760" y="35712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وامل البيئية المؤثرة على النشاط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428760" y="1357200"/>
            <a:ext cx="8215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عوامل داخلية: 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تشمل الأنشطة الأخرى داخل الشركة بخل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      الأنشطة التسويقية مثل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التمويل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00b0f0"/>
                </a:solidFill>
                <a:latin typeface="Arial"/>
                <a:cs typeface="PT Bold Heading"/>
              </a:rPr>
              <a:t>الإنتاج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cc00ff"/>
                </a:solidFill>
                <a:latin typeface="Arial"/>
                <a:cs typeface="PT Bold Heading"/>
              </a:rPr>
              <a:t>الموارد البش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428760" y="2556000"/>
            <a:ext cx="821520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عوامل خارج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    أ – كلية: 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cs typeface="PT Bold Heading"/>
              </a:rPr>
              <a:t>تؤثر على جميع المؤسسات مثل العوامل </a:t>
            </a:r>
            <a:r>
              <a:rPr b="0" lang="ar-SA" sz="2400" spc="-1" strike="noStrike">
                <a:solidFill>
                  <a:srgbClr val="cc00ff"/>
                </a:solidFill>
                <a:latin typeface="Arial"/>
                <a:cs typeface="PT Bold Heading"/>
              </a:rPr>
              <a:t>الاقتصاد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              و</a:t>
            </a:r>
            <a:r>
              <a:rPr b="0" lang="ar-SA" sz="2400" spc="-1" strike="noStrike">
                <a:solidFill>
                  <a:srgbClr val="105766"/>
                </a:solidFill>
                <a:latin typeface="Arial"/>
                <a:cs typeface="PT Bold Heading"/>
              </a:rPr>
              <a:t>الاجتماع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0d0d0d"/>
                </a:solidFill>
                <a:latin typeface="Arial"/>
                <a:cs typeface="PT Bold Heading"/>
              </a:rPr>
              <a:t>الثقاف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1faecd"/>
                </a:solidFill>
                <a:latin typeface="Arial"/>
                <a:cs typeface="PT Bold Heading"/>
              </a:rPr>
              <a:t>السياس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00b050"/>
                </a:solidFill>
                <a:latin typeface="Arial"/>
                <a:cs typeface="PT Bold Heading"/>
              </a:rPr>
              <a:t>التشريعية</a:t>
            </a:r>
            <a:r>
              <a:rPr b="0" lang="ar-SA" sz="2400" spc="-1" strike="noStrike">
                <a:solidFill>
                  <a:srgbClr val="ff660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08de2c"/>
                </a:solidFill>
                <a:latin typeface="Arial"/>
                <a:cs typeface="PT Bold Heading"/>
              </a:rPr>
              <a:t>التكنولوج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8de2c"/>
                </a:solidFill>
                <a:latin typeface="Arial"/>
                <a:ea typeface="PT Bold Heading"/>
              </a:rPr>
              <a:t>               و</a:t>
            </a:r>
            <a:r>
              <a:rPr b="0" lang="ar-SA" sz="2400" spc="-1" strike="noStrike">
                <a:solidFill>
                  <a:srgbClr val="6d1014"/>
                </a:solidFill>
                <a:latin typeface="Arial"/>
                <a:cs typeface="PT Bold Heading"/>
              </a:rPr>
              <a:t>التناف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   ب- جزئية: 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تؤثر على مؤسسة بعينها في علاقتها بغيرها م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             المؤسسات ذات التأثير المباشر على نشاط المؤسسة وهم: </a:t>
            </a:r>
            <a:r>
              <a:rPr b="0" lang="ar-SA" sz="2400" spc="-1" strike="noStrike">
                <a:solidFill>
                  <a:srgbClr val="3f1e25"/>
                </a:solidFill>
                <a:latin typeface="Arial"/>
                <a:cs typeface="PT Bold Heading"/>
              </a:rPr>
              <a:t>العملاء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             و</a:t>
            </a:r>
            <a:r>
              <a:rPr b="0" lang="ar-SA" sz="24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وردون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و</a:t>
            </a:r>
            <a:r>
              <a:rPr b="0" lang="ar-SA" sz="2400" spc="-1" strike="noStrike">
                <a:solidFill>
                  <a:srgbClr val="7030a0"/>
                </a:solidFill>
                <a:latin typeface="Arial"/>
                <a:cs typeface="PT Bold Heading"/>
              </a:rPr>
              <a:t>الوسطاء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252360" y="71280"/>
            <a:ext cx="8748720" cy="36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دائرة مجوفة 7"/>
          <p:cNvSpPr/>
          <p:nvPr/>
        </p:nvSpPr>
        <p:spPr>
          <a:xfrm>
            <a:off x="2786040" y="1643040"/>
            <a:ext cx="3786120" cy="3786120"/>
          </a:xfrm>
          <a:prstGeom prst="pie">
            <a:avLst/>
          </a:prstGeom>
          <a:solidFill>
            <a:srgbClr val="2da2b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شكل بيضاوي 8"/>
          <p:cNvSpPr/>
          <p:nvPr/>
        </p:nvSpPr>
        <p:spPr>
          <a:xfrm>
            <a:off x="7429680" y="550080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Lucida Sans Unicode"/>
              </a:rPr>
              <a:t>التكنولوجي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شكل بيضاوي 10"/>
          <p:cNvSpPr/>
          <p:nvPr/>
        </p:nvSpPr>
        <p:spPr>
          <a:xfrm>
            <a:off x="4195800" y="599292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Lucida Sans Unicode"/>
              </a:rPr>
              <a:t>سياسية وتشريع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شكل بيضاوي 11"/>
          <p:cNvSpPr/>
          <p:nvPr/>
        </p:nvSpPr>
        <p:spPr>
          <a:xfrm>
            <a:off x="4176720" y="214200"/>
            <a:ext cx="1000080" cy="85752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Lucida Sans Unicode"/>
              </a:rPr>
              <a:t>ظروف اقتصاد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شكل بيضاوي 12"/>
          <p:cNvSpPr/>
          <p:nvPr/>
        </p:nvSpPr>
        <p:spPr>
          <a:xfrm>
            <a:off x="7429680" y="100008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Lucida Sans Unicode"/>
              </a:rPr>
              <a:t>المنافسة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شكل بيضاوي 13"/>
          <p:cNvSpPr/>
          <p:nvPr/>
        </p:nvSpPr>
        <p:spPr>
          <a:xfrm>
            <a:off x="1000080" y="100008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Lucida Sans Unicode"/>
              </a:rPr>
              <a:t>تركيبة سكا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شكل بيضاوي 14"/>
          <p:cNvSpPr/>
          <p:nvPr/>
        </p:nvSpPr>
        <p:spPr>
          <a:xfrm>
            <a:off x="1000080" y="5572080"/>
            <a:ext cx="1000080" cy="857160"/>
          </a:xfrm>
          <a:prstGeom prst="ellipse">
            <a:avLst/>
          </a:prstGeom>
          <a:solidFill>
            <a:srgbClr val="ffff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00" spc="-1" strike="noStrike">
                <a:solidFill>
                  <a:srgbClr val="000000"/>
                </a:solidFill>
                <a:latin typeface="Lucida Sans Unicode"/>
              </a:rPr>
              <a:t>اجتماعية وثقافي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7005600" y="3448080"/>
            <a:ext cx="781200" cy="520200"/>
          </a:xfrm>
          <a:prstGeom prst="rect">
            <a:avLst/>
          </a:prstGeom>
          <a:solidFill>
            <a:srgbClr val="a6ddea"/>
          </a:solidFill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وسطاء 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8258040" y="3541680"/>
            <a:ext cx="78120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1576440" y="3476520"/>
            <a:ext cx="780840" cy="520200"/>
          </a:xfrm>
          <a:prstGeom prst="rect">
            <a:avLst/>
          </a:prstGeom>
          <a:solidFill>
            <a:srgbClr val="a6ddea"/>
          </a:solidFill>
          <a:ln w="442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وسطاء 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312840" y="3594240"/>
            <a:ext cx="7808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5e2d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موردو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مربع نص 19"/>
          <p:cNvSpPr/>
          <p:nvPr/>
        </p:nvSpPr>
        <p:spPr>
          <a:xfrm>
            <a:off x="3700440" y="1785960"/>
            <a:ext cx="2000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برنام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التسو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مربع نص 20"/>
          <p:cNvSpPr/>
          <p:nvPr/>
        </p:nvSpPr>
        <p:spPr>
          <a:xfrm>
            <a:off x="3714840" y="487368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برنامج التسويق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رابط مستقيم 22"/>
          <p:cNvSpPr/>
          <p:nvPr/>
        </p:nvSpPr>
        <p:spPr>
          <a:xfrm>
            <a:off x="4613400" y="2214720"/>
            <a:ext cx="71280" cy="2643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رابط مستقيم 24"/>
          <p:cNvSpPr/>
          <p:nvPr/>
        </p:nvSpPr>
        <p:spPr>
          <a:xfrm flipH="1">
            <a:off x="3571560" y="2856960"/>
            <a:ext cx="2214360" cy="1285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رابط مستقيم 26"/>
          <p:cNvSpPr/>
          <p:nvPr/>
        </p:nvSpPr>
        <p:spPr>
          <a:xfrm>
            <a:off x="3571920" y="2857680"/>
            <a:ext cx="2214360" cy="1357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مربع نص 27"/>
          <p:cNvSpPr/>
          <p:nvPr/>
        </p:nvSpPr>
        <p:spPr>
          <a:xfrm>
            <a:off x="4643280" y="2568600"/>
            <a:ext cx="78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وارد ما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مربع نص 28"/>
          <p:cNvSpPr/>
          <p:nvPr/>
        </p:nvSpPr>
        <p:spPr>
          <a:xfrm>
            <a:off x="3857760" y="2630520"/>
            <a:ext cx="78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تسهيلات إنتا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مربع نص 29"/>
          <p:cNvSpPr/>
          <p:nvPr/>
        </p:nvSpPr>
        <p:spPr>
          <a:xfrm>
            <a:off x="4956120" y="321480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مربع نص 30"/>
          <p:cNvSpPr/>
          <p:nvPr/>
        </p:nvSpPr>
        <p:spPr>
          <a:xfrm>
            <a:off x="4572000" y="378612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صورة الشرك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مربع نص 31"/>
          <p:cNvSpPr/>
          <p:nvPr/>
        </p:nvSpPr>
        <p:spPr>
          <a:xfrm>
            <a:off x="3929040" y="3786120"/>
            <a:ext cx="7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بحوث وتطو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مربع نص 32"/>
          <p:cNvSpPr/>
          <p:nvPr/>
        </p:nvSpPr>
        <p:spPr>
          <a:xfrm>
            <a:off x="3571920" y="33447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وق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رابط كسهم مستقيم 34"/>
          <p:cNvCxnSpPr>
            <a:stCxn id="619" idx="4"/>
            <a:endCxn id="616" idx="8"/>
          </p:cNvCxnSpPr>
          <p:nvPr/>
        </p:nvCxnSpPr>
        <p:spPr>
          <a:xfrm>
            <a:off x="4675680" y="1071360"/>
            <a:ext cx="396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9" name="رابط كسهم مستقيم 36"/>
          <p:cNvCxnSpPr>
            <a:stCxn id="618" idx="0"/>
            <a:endCxn id="616" idx="9"/>
          </p:cNvCxnSpPr>
          <p:nvPr/>
        </p:nvCxnSpPr>
        <p:spPr>
          <a:xfrm flipH="1" flipV="1">
            <a:off x="4679640" y="5428800"/>
            <a:ext cx="16560" cy="564480"/>
          </a:xfrm>
          <a:prstGeom prst="straightConnector1">
            <a:avLst/>
          </a:prstGeom>
          <a:ln w="381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0" name="رابط كسهم مستقيم 58"/>
          <p:cNvCxnSpPr>
            <a:stCxn id="623" idx="1"/>
          </p:cNvCxnSpPr>
          <p:nvPr/>
        </p:nvCxnSpPr>
        <p:spPr>
          <a:xfrm flipH="1">
            <a:off x="6571800" y="3708360"/>
            <a:ext cx="434160" cy="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1" name="رابط كسهم مستقيم 64"/>
          <p:cNvCxnSpPr>
            <a:stCxn id="624" idx="1"/>
            <a:endCxn id="623" idx="3"/>
          </p:cNvCxnSpPr>
          <p:nvPr/>
        </p:nvCxnSpPr>
        <p:spPr>
          <a:xfrm flipH="1">
            <a:off x="7786080" y="3694680"/>
            <a:ext cx="471960" cy="1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2" name="رابط كسهم مستقيم 66"/>
          <p:cNvCxnSpPr>
            <a:endCxn id="625" idx="3"/>
          </p:cNvCxnSpPr>
          <p:nvPr/>
        </p:nvCxnSpPr>
        <p:spPr>
          <a:xfrm flipH="1">
            <a:off x="2356560" y="3714840"/>
            <a:ext cx="429480" cy="2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3" name="رابط كسهم مستقيم 68"/>
          <p:cNvCxnSpPr>
            <a:stCxn id="625" idx="1"/>
            <a:endCxn id="626" idx="3"/>
          </p:cNvCxnSpPr>
          <p:nvPr/>
        </p:nvCxnSpPr>
        <p:spPr>
          <a:xfrm flipH="1">
            <a:off x="1092960" y="3738600"/>
            <a:ext cx="483480" cy="10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44" name="رابط كسهم مستقيم 70"/>
          <p:cNvCxnSpPr/>
          <p:nvPr/>
        </p:nvCxnSpPr>
        <p:spPr>
          <a:xfrm flipV="1">
            <a:off x="5213880" y="2428200"/>
            <a:ext cx="143640" cy="21492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5" name="رابط كسهم مستقيم 72"/>
          <p:cNvCxnSpPr/>
          <p:nvPr/>
        </p:nvCxnSpPr>
        <p:spPr>
          <a:xfrm flipH="1" flipV="1">
            <a:off x="3963240" y="2428200"/>
            <a:ext cx="251640" cy="14364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6" name="رابط كسهم مستقيم 75"/>
          <p:cNvCxnSpPr>
            <a:stCxn id="634" idx="3"/>
          </p:cNvCxnSpPr>
          <p:nvPr/>
        </p:nvCxnSpPr>
        <p:spPr>
          <a:xfrm>
            <a:off x="5741640" y="3538080"/>
            <a:ext cx="259560" cy="3420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7" name="رابط كسهم مستقيم 77"/>
          <p:cNvCxnSpPr/>
          <p:nvPr/>
        </p:nvCxnSpPr>
        <p:spPr>
          <a:xfrm>
            <a:off x="5214600" y="4428720"/>
            <a:ext cx="214920" cy="14364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8" name="رابط كسهم مستقيم 79"/>
          <p:cNvCxnSpPr>
            <a:stCxn id="636" idx="2"/>
          </p:cNvCxnSpPr>
          <p:nvPr/>
        </p:nvCxnSpPr>
        <p:spPr>
          <a:xfrm flipH="1">
            <a:off x="4143240" y="4432320"/>
            <a:ext cx="178200" cy="20880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49" name="رابط كسهم مستقيم 84"/>
          <p:cNvCxnSpPr/>
          <p:nvPr/>
        </p:nvCxnSpPr>
        <p:spPr>
          <a:xfrm flipH="1" flipV="1">
            <a:off x="3357000" y="3571560"/>
            <a:ext cx="286200" cy="2160"/>
          </a:xfrm>
          <a:prstGeom prst="straightConnector1">
            <a:avLst/>
          </a:prstGeom>
          <a:ln w="38160">
            <a:solidFill>
              <a:srgbClr val="cc00ff"/>
            </a:solidFill>
            <a:miter/>
            <a:tailEnd len="med" type="arrow" w="med"/>
          </a:ln>
        </p:spPr>
      </p:cxnSp>
      <p:cxnSp>
        <p:nvCxnSpPr>
          <p:cNvPr id="650" name="رابط كسهم مستقيم 90"/>
          <p:cNvCxnSpPr>
            <a:stCxn id="621" idx="5"/>
          </p:cNvCxnSpPr>
          <p:nvPr/>
        </p:nvCxnSpPr>
        <p:spPr>
          <a:xfrm>
            <a:off x="1854360" y="1731960"/>
            <a:ext cx="1218240" cy="76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1" name="رابط كسهم مستقيم 93"/>
          <p:cNvCxnSpPr>
            <a:stCxn id="620" idx="3"/>
          </p:cNvCxnSpPr>
          <p:nvPr/>
        </p:nvCxnSpPr>
        <p:spPr>
          <a:xfrm flipH="1">
            <a:off x="6286320" y="1731960"/>
            <a:ext cx="1289520" cy="76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2" name="رابط كسهم مستقيم 99"/>
          <p:cNvCxnSpPr>
            <a:stCxn id="622" idx="7"/>
            <a:endCxn id="616" idx="10"/>
          </p:cNvCxnSpPr>
          <p:nvPr/>
        </p:nvCxnSpPr>
        <p:spPr>
          <a:xfrm flipV="1">
            <a:off x="1853280" y="4874760"/>
            <a:ext cx="1486440" cy="82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3" name="رابط كسهم مستقيم 102"/>
          <p:cNvCxnSpPr>
            <a:stCxn id="617" idx="1"/>
          </p:cNvCxnSpPr>
          <p:nvPr/>
        </p:nvCxnSpPr>
        <p:spPr>
          <a:xfrm flipH="1" flipV="1">
            <a:off x="6214680" y="4642920"/>
            <a:ext cx="1360800" cy="983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عنصر نائب للتذييل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البيئة التسويقية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عنصر نائب لرقم الشريحة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B14A-2346-4342-BCBE-B27CAB7F7EF1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58" name="Object 2"/>
          <p:cNvGraphicFramePr/>
          <p:nvPr/>
        </p:nvGraphicFramePr>
        <p:xfrm>
          <a:off x="0" y="0"/>
          <a:ext cx="9144000" cy="7066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9:53Z</dcterms:modified>
  <cp:revision>358</cp:revision>
  <dc:subject/>
  <dc:title>الشريحة 1</dc:title>
</cp:coreProperties>
</file>