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979-BEE8-4524-8DB9-C0ABEC2F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709-BEFE-43B0-A40F-96768B8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09F33-1C22-4119-B00F-0502437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A3D5F-0665-4AD4-BDB6-9064A790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51F98-C9BB-40DD-B154-B489B4EF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47B6A-52EF-4686-BDF2-BC53FB3E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1B075-ADEB-4BE0-ACFB-E6BEBAEA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043D7-88E6-41CB-8E0B-A79282CD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BCA4A-8023-4D72-80BD-8F349A6A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D0B04-8C4C-4497-84B3-862F0BBE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6C50C-A873-4FE7-9504-87C73FA3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52A92-234A-472A-93EA-1988DD28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D1B-035E-495C-84FC-BE4B2EFB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F60D6-1780-4894-BA14-AB34144A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23E07-1CD2-43E9-97A8-80D1978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78A4B-366F-45E6-B490-903E6300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5768D-EF06-4558-9591-47637DEA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76FE5-B06E-4152-BC11-45DC21BD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643BF-509C-4BD8-878B-9FEC66A2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12F30-7C86-44B8-86EE-7C11389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B6CDC-BC66-4746-AA22-50C3F7B8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BA13F-DBF5-450F-B3EA-9EB86FB8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6425C-E974-4B51-9623-6A1FE6B0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753-5857-4294-AB0B-29827575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9F0A7-22A6-4290-B3E9-DA7D3E13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C02D1-6D38-4887-9EA7-14D3C254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7B687-8586-41A7-AB33-9178AEA0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FB3D5-6CBD-4B7E-90C6-6B69550A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D1A5F-6F05-45FD-A365-4FC8018C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332FA-E268-4353-BF82-5D434E2E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24BA5-0DD0-4512-961F-E948D845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5C5C5-5035-4D7D-BC34-107AE69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BBA4A-16A1-4562-86D4-C68C0DA4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97F35-3979-41A2-861E-7587654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A819-C687-49FC-82D5-91B1F878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09566-BE0C-41B6-B1DC-8C1D2DE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4888B-D170-431D-817C-D03163D1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A00CB-8C52-42DF-BA17-7B424840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3DCB6-8C9E-484E-BE8A-947B04D4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5E899-3C43-484B-A728-B9126369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54CD2-1959-4C5E-B9A9-31844D5B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67AE8-CCA6-4FA4-B4C2-2D4A3375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FCF81-EF9D-433C-A825-2B568B4E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39D77-DFAB-4411-A889-5B08A0BA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3AF0A-2DB1-43EB-8F3A-A58A87F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7A75-44D7-48F7-AB7D-3DDD884C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F6BEA-78C4-4D1F-8F6E-F6CC9FDD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E5BCE-695F-444D-993B-72719C47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FAD3F-4961-48A7-B9C7-D7CAF2BA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DAF54-1103-44D2-848B-627BF6DB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D59DD-B1DA-44EF-8284-15021CB2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73AB-88E1-4128-BE38-9C2B6A73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57FC-EEFB-4655-96CA-C13C8C05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454C-B998-4624-8EB7-6ECCE032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C846-4FDC-4ACE-897E-199DB993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384B-78CB-49B5-9FA2-AB1CF4C6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3D6-BFE5-4753-8090-89ACA967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D084-F254-415E-AA00-EC37ECED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26F9-8928-4E3F-8F30-90847BA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8EE7-AD4F-49CA-A045-1E794518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FEB7-0FD3-4EEF-B8C1-FA56179C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0BBA-16A3-4898-80DE-5081A41A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096C-1519-4CA9-AE46-9E5EFD0C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4D60-C6AC-486B-8178-7F8F8AF1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13AF-3D6F-4B4B-A60F-D81366BF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8B99-128D-4F79-9392-561357FA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D374-2572-46E2-AAAA-49201006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BCE-923E-441F-B5F7-9825EB88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F0469-A108-4470-8C8F-2025280B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B111-8E70-444F-96DF-4405BE08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7308-B4AC-4541-89BE-0A7E07A0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7E62-4D5C-405E-8B3C-8D5FBA0F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49A9-D651-4116-9612-132B3BFF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5721-5A3F-4017-B34B-05353168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9C49-772A-4303-AE66-99CAE0BB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CC5B-CBE7-4FF5-8C0D-E7391307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F4691-BEE5-4777-B02C-0038E2CD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2FC97-8EDD-4F5B-87C3-EC1AFFFB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DB8-D977-4CBF-8D93-B0903FB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72E49-5FB3-4774-92E1-D3E861D6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EB50-9AEA-4FB7-91A0-6135B81D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CFB6-9941-4828-A4E8-2A8F9D9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19B11-1D71-452F-A231-BC083B31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3596-21D7-44F7-9C45-CFCA85F1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6AF5-459E-4F63-BDD1-5879FEE5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43AB-7D87-418E-BD57-216409FB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7B25-BB8B-49BE-93D2-7B5D25A9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06B1-4275-47A9-AA11-D771C3D8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4FF67-0393-4604-9B8C-637A20F7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F4E-4632-4F20-B65F-76A13C5E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27667-2D38-447C-83C1-E7DA7AC6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9FBD0-4D1E-4979-AF8F-7386928B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BF09-536D-4463-AB1F-CEE186C3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F33A-4263-47BA-848F-5DC901F5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FA63-28E7-477F-BB76-F43B5BB1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C2453-01B6-45F7-815F-54DC0359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5804F-2091-4F40-81CC-F4DD987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A2A94-B8C3-451E-BF24-ACDBFF99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6416-0B27-4184-A3D3-21B1094C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DF01-1BE5-415D-900A-B7F20D47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421-F299-41CE-ADF0-19E7D9D1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E992-1208-4811-949C-3ECEEBDB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1309E-1C34-492B-96F1-FC5C32EE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DA75E-2C3F-459D-B67C-0256182B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08A65-5842-4DF3-B058-3B1CF6D1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E3265-BA2A-467D-9330-4FFCAAAD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84EE-C00D-4F89-8181-D1F3FD4F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5A065-14C7-4158-9CF6-1A6DDFD9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2F41-327E-441E-97E2-5B54B8CF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2DC29-6AD0-4CB1-8542-4204CF74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66AC-E02B-43F5-99FD-1AD6CBA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B6E-BC92-4A34-968D-C29FA6CA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11D28-DBCE-4A79-AAC3-F365E780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95B3-41CF-4468-900C-5513D9F9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E72F-4498-47DA-9529-EA54D66E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92B41-4649-4B50-AA4D-667CC898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EEC4A-19BF-4CAC-B9D5-A01D688C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1D9B-23C6-42EB-A041-7CD71429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F57C4-C121-439D-B185-21C54D87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CBEE-2F60-4979-B96E-94BFA36A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7FA06-B9F2-4E67-87DB-A9965A86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0CC1B-29E6-4614-ABC1-5870706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065-F6BA-49D7-A52C-43543102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09C55-4A4B-4C13-AA31-3E63F34F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45CE1-2163-4810-9D47-DBE129A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35D8-6429-48F9-A5E2-EE56BDA5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FCE58-CE47-40C4-8631-4A37D6F5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870E-BA67-464F-9BBC-3B00D4CC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4ECD-2F55-4B1B-AE85-F6611E0B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B56DF-FBD9-4373-8C8F-3D5FE652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9B376-6B65-42B6-832E-FB359F43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F2388-ED07-4E5C-8844-8B042725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C0371-216F-4473-B06D-A1F5AF88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80E-2CA3-429F-98EB-763C1A9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C6C9-C64D-46F1-BBCC-134B8EA7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FE16-938A-4485-8A49-95EF6DC1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76858-0D28-4447-A024-9BDC92C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DADA2-793B-40FB-9B80-80B4AE7E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14ED1-B93B-44BE-A1FF-B6616DCB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25834-CC32-4BF4-83F2-2EC692D2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167D1-EAE6-47E6-9158-F3BACFB2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67C40-257C-4033-8BD3-E8E7A141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A8B08-BC14-41DE-B3A7-DC2AB347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4364A-2F1E-480D-AFD5-2C8DC70F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D8AC-DB2A-4E36-9E5B-10F08AFC81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79FC-C64F-43DA-AE58-86AB21B0F6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FB8C-7644-46AC-ACAF-ECDF5A6A2C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5738-89E1-41D6-90A8-5399460F18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ACD3-C8CB-417A-B147-D7ED0A5A5F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2719-A280-4170-94BD-366428F7E1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0E8C-4985-4E27-B1B8-46DD3BE2C6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BE53-DEA5-4F34-8A4D-EB82CEC779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4EB-9341-4F00-B5BB-DF53897E4E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3BFF-9FEB-4239-8E93-0D3C69963E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0514-36A5-45E2-915E-1C8EFD0471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1DC-465E-4FE2-A18C-1E8C25088B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700200"/>
            <a:ext cx="544356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4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دار</a:t>
            </a:r>
            <a:r>
              <a:rPr b="0" lang="ar-SA" sz="8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 rot="20312400">
            <a:off x="678240" y="463752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3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ربع نص 4"/>
          <p:cNvSpPr/>
          <p:nvPr/>
        </p:nvSpPr>
        <p:spPr>
          <a:xfrm>
            <a:off x="669960" y="1857240"/>
            <a:ext cx="1071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428760" y="357120"/>
            <a:ext cx="821520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ة النشاط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28760" y="1429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نشاط التسويقي لا يعمل في فرا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428760" y="92880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من ثم فإن على النشاط التسويقي أن يضع برامجه التسويقية في إطار مراقبة مناخ العمل داخلياً وخارجي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428760" y="2786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لمــــــــــاذ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428760" y="35146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للاستفادة من </a:t>
            </a:r>
            <a:r>
              <a:rPr b="0" lang="ar-SA" sz="3600" spc="-1" strike="noStrike">
                <a:solidFill>
                  <a:srgbClr val="00b050"/>
                </a:solidFill>
                <a:latin typeface="Arial"/>
                <a:cs typeface="PT Bold Heading"/>
              </a:rPr>
              <a:t>الفرص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حتملة ، والحماية من 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خاطر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حتملة بهذا المنا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428760" y="488952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d1014"/>
                </a:solidFill>
                <a:latin typeface="Arial"/>
                <a:cs typeface="PT Bold Heading"/>
              </a:rPr>
              <a:t>كيــــــــــف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ff"/>
                </a:solidFill>
                <a:latin typeface="Arial"/>
                <a:cs typeface="PT Bold Heading"/>
              </a:rPr>
              <a:t>المراقبة البيئ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سهم منحني إلى اليمين 17"/>
          <p:cNvSpPr/>
          <p:nvPr/>
        </p:nvSpPr>
        <p:spPr>
          <a:xfrm>
            <a:off x="2286000" y="5214960"/>
            <a:ext cx="571680" cy="1000080"/>
          </a:xfrm>
          <a:custGeom>
            <a:avLst/>
            <a:gdLst>
              <a:gd name="textAreaLeft" fmla="*/ 76320 w 571680"/>
              <a:gd name="textAreaRight" fmla="*/ 495360 w 571680"/>
              <a:gd name="textAreaTop" fmla="*/ 196200 h 1000080"/>
              <a:gd name="textAreaBottom" fmla="*/ 73224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86" stAng="-5400000" swAng="-5400000"/>
                <a:lnTo>
                  <a:pt x="0" y="11571"/>
                </a:lnTo>
                <a:arcTo wR="21600" hR="8486" stAng="10800000" swAng="-3401198"/>
                <a:lnTo>
                  <a:pt x="16200" y="21331"/>
                </a:lnTo>
                <a:lnTo>
                  <a:pt x="21600" y="18515"/>
                </a:lnTo>
                <a:lnTo>
                  <a:pt x="16200" y="15160"/>
                </a:lnTo>
                <a:lnTo>
                  <a:pt x="16200" y="16703"/>
                </a:lnTo>
                <a:arcTo wR="21600" hR="8486" stAng="7398802" swAng="3151980"/>
                <a:lnTo>
                  <a:pt x="360" y="10029"/>
                </a:lnTo>
                <a:arcTo wR="21600" hR="8486" stAng="-10550782" swAng="5150782"/>
                <a:close/>
              </a:path>
              <a:path fill="darkenLess" w="21600" h="21600">
                <a:moveTo>
                  <a:pt x="21600" y="0"/>
                </a:moveTo>
                <a:arcTo wR="21600" hR="8486" stAng="-5400000" swAng="-5400000"/>
                <a:lnTo>
                  <a:pt x="0" y="8486"/>
                </a:lnTo>
                <a:arcTo wR="21600" hR="8486" stAng="10800000" swAng="-249218"/>
                <a:lnTo>
                  <a:pt x="360" y="10029"/>
                </a:lnTo>
                <a:arcTo wR="21600" hR="8486" stAng="-10550782" swAng="5150782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428760" y="3571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راقبة البيئ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428760" y="12142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جمع المعلومات من البيئتين الداخلية والخارجية التي تعمل الشركة في إطار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28760" y="26431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PT Bold Heading"/>
              </a:rPr>
              <a:t>وتحليل هذه المعلو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428760" y="37148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التنبؤ بتأثيراتها على أداء الش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428760" y="46576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واتخاذ القرارات التي تعمل على تحقيق أهداف الشركة في ضوء هذه التأثير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428760" y="4287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المراقبة البيئ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500040" y="1500120"/>
            <a:ext cx="82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توصلت دراسة على 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000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شركة كبي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أن الشركات التي لديها نظم متقدمة لمراقبة الأحداث البيئية ومتابع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3171e"/>
                </a:solidFill>
                <a:latin typeface="Arial"/>
                <a:cs typeface="PT Bold Heading"/>
              </a:rPr>
              <a:t>حققت نموا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3171e"/>
                </a:solidFill>
                <a:latin typeface="Arial"/>
                <a:cs typeface="PT Bold Heading"/>
              </a:rPr>
              <a:t>أكثر ارتفاعاً وأرباحاً من غيرها من الشركات التي لم يكن لديها مثل هذه النظ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وامل البيئية المؤثرة على النشاط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428760" y="1357200"/>
            <a:ext cx="8215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عوامل داخلية: 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تشمل الأنشطة الأخرى داخل الشركة بخل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      الأنشطة التسويقية مثل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تمويل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00b0f0"/>
                </a:solidFill>
                <a:latin typeface="Arial"/>
                <a:cs typeface="PT Bold Heading"/>
              </a:rPr>
              <a:t>الإنتاج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cc00ff"/>
                </a:solidFill>
                <a:latin typeface="Arial"/>
                <a:cs typeface="PT Bold Heading"/>
              </a:rPr>
              <a:t>الموارد البش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428760" y="2556000"/>
            <a:ext cx="821520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عوامل خارج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    أ – كلية: 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cs typeface="PT Bold Heading"/>
              </a:rPr>
              <a:t>تؤثر على جميع المؤسسات مثل العوامل </a:t>
            </a:r>
            <a:r>
              <a:rPr b="0" lang="ar-SA" sz="2400" spc="-1" strike="noStrike">
                <a:solidFill>
                  <a:srgbClr val="cc00ff"/>
                </a:solidFill>
                <a:latin typeface="Arial"/>
                <a:cs typeface="PT Bold Heading"/>
              </a:rPr>
              <a:t>الاقتصاد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              و</a:t>
            </a:r>
            <a:r>
              <a:rPr b="0" lang="ar-SA" sz="2400" spc="-1" strike="noStrike">
                <a:solidFill>
                  <a:srgbClr val="105766"/>
                </a:solidFill>
                <a:latin typeface="Arial"/>
                <a:cs typeface="PT Bold Heading"/>
              </a:rPr>
              <a:t>الاجتماع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0d0d0d"/>
                </a:solidFill>
                <a:latin typeface="Arial"/>
                <a:cs typeface="PT Bold Heading"/>
              </a:rPr>
              <a:t>الثقاف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1faecd"/>
                </a:solidFill>
                <a:latin typeface="Arial"/>
                <a:cs typeface="PT Bold Heading"/>
              </a:rPr>
              <a:t>السياس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00b050"/>
                </a:solidFill>
                <a:latin typeface="Arial"/>
                <a:cs typeface="PT Bold Heading"/>
              </a:rPr>
              <a:t>التشريع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08de2c"/>
                </a:solidFill>
                <a:latin typeface="Arial"/>
                <a:cs typeface="PT Bold Heading"/>
              </a:rPr>
              <a:t>التكنولوج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8de2c"/>
                </a:solidFill>
                <a:latin typeface="Arial"/>
                <a:ea typeface="PT Bold Heading"/>
              </a:rPr>
              <a:t>               و</a:t>
            </a:r>
            <a:r>
              <a:rPr b="0" lang="ar-SA" sz="2400" spc="-1" strike="noStrike">
                <a:solidFill>
                  <a:srgbClr val="6d1014"/>
                </a:solidFill>
                <a:latin typeface="Arial"/>
                <a:cs typeface="PT Bold Heading"/>
              </a:rPr>
              <a:t>التناف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   ب- جزئية: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تؤثر على مؤسسة بعينها في علاقتها بغيرها 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             المؤسسات ذات التأثير المباشر على نشاط المؤسسة وهم: </a:t>
            </a:r>
            <a:r>
              <a:rPr b="0" lang="ar-SA" sz="2400" spc="-1" strike="noStrike">
                <a:solidFill>
                  <a:srgbClr val="3f1e25"/>
                </a:solidFill>
                <a:latin typeface="Arial"/>
                <a:cs typeface="PT Bold Heading"/>
              </a:rPr>
              <a:t>العملاء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             و</a:t>
            </a:r>
            <a:r>
              <a:rPr b="0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وردون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PT Bold Heading"/>
              </a:rPr>
              <a:t>الوسطاء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252360" y="71280"/>
            <a:ext cx="8748720" cy="36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دائرة مجوفة 7"/>
          <p:cNvSpPr/>
          <p:nvPr/>
        </p:nvSpPr>
        <p:spPr>
          <a:xfrm>
            <a:off x="2786040" y="1643040"/>
            <a:ext cx="3786120" cy="3786120"/>
          </a:xfrm>
          <a:prstGeom prst="pie">
            <a:avLst/>
          </a:prstGeom>
          <a:solidFill>
            <a:srgbClr val="2da2b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شكل بيضاوي 8"/>
          <p:cNvSpPr/>
          <p:nvPr/>
        </p:nvSpPr>
        <p:spPr>
          <a:xfrm>
            <a:off x="7429680" y="550080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Lucida Sans Unicode"/>
              </a:rPr>
              <a:t>التكنولوجي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شكل بيضاوي 10"/>
          <p:cNvSpPr/>
          <p:nvPr/>
        </p:nvSpPr>
        <p:spPr>
          <a:xfrm>
            <a:off x="4195800" y="599292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Lucida Sans Unicode"/>
              </a:rPr>
              <a:t>سياسية وتشريع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شكل بيضاوي 11"/>
          <p:cNvSpPr/>
          <p:nvPr/>
        </p:nvSpPr>
        <p:spPr>
          <a:xfrm>
            <a:off x="4176720" y="214200"/>
            <a:ext cx="1000080" cy="85752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Lucida Sans Unicode"/>
              </a:rPr>
              <a:t>ظروف اقتصاد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شكل بيضاوي 12"/>
          <p:cNvSpPr/>
          <p:nvPr/>
        </p:nvSpPr>
        <p:spPr>
          <a:xfrm>
            <a:off x="7429680" y="100008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Lucida Sans Unicode"/>
              </a:rPr>
              <a:t>المنافسة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شكل بيضاوي 13"/>
          <p:cNvSpPr/>
          <p:nvPr/>
        </p:nvSpPr>
        <p:spPr>
          <a:xfrm>
            <a:off x="1000080" y="100008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ركيبة سك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شكل بيضاوي 14"/>
          <p:cNvSpPr/>
          <p:nvPr/>
        </p:nvSpPr>
        <p:spPr>
          <a:xfrm>
            <a:off x="1000080" y="557208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Lucida Sans Unicode"/>
              </a:rPr>
              <a:t>اجتماعية وثقافي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7005600" y="3448080"/>
            <a:ext cx="781200" cy="520200"/>
          </a:xfrm>
          <a:prstGeom prst="rect">
            <a:avLst/>
          </a:prstGeom>
          <a:solidFill>
            <a:srgbClr val="a6ddea"/>
          </a:solidFill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وسطاء 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8258040" y="3541680"/>
            <a:ext cx="78120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1576440" y="3476520"/>
            <a:ext cx="780840" cy="520200"/>
          </a:xfrm>
          <a:prstGeom prst="rect">
            <a:avLst/>
          </a:prstGeom>
          <a:solidFill>
            <a:srgbClr val="a6ddea"/>
          </a:solidFill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وسطاء 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312840" y="3594240"/>
            <a:ext cx="7808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موردو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مربع نص 19"/>
          <p:cNvSpPr/>
          <p:nvPr/>
        </p:nvSpPr>
        <p:spPr>
          <a:xfrm>
            <a:off x="3700440" y="1785960"/>
            <a:ext cx="200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برنام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تسو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مربع نص 20"/>
          <p:cNvSpPr/>
          <p:nvPr/>
        </p:nvSpPr>
        <p:spPr>
          <a:xfrm>
            <a:off x="3714840" y="487368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برنامج التسويق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رابط مستقيم 22"/>
          <p:cNvSpPr/>
          <p:nvPr/>
        </p:nvSpPr>
        <p:spPr>
          <a:xfrm>
            <a:off x="4613400" y="2214720"/>
            <a:ext cx="71280" cy="2643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رابط مستقيم 24"/>
          <p:cNvSpPr/>
          <p:nvPr/>
        </p:nvSpPr>
        <p:spPr>
          <a:xfrm flipH="1">
            <a:off x="3571560" y="2856960"/>
            <a:ext cx="2214360" cy="1285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رابط مستقيم 26"/>
          <p:cNvSpPr/>
          <p:nvPr/>
        </p:nvSpPr>
        <p:spPr>
          <a:xfrm>
            <a:off x="3571920" y="2857680"/>
            <a:ext cx="2214360" cy="13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مربع نص 27"/>
          <p:cNvSpPr/>
          <p:nvPr/>
        </p:nvSpPr>
        <p:spPr>
          <a:xfrm>
            <a:off x="4643280" y="25686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وارد ما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مربع نص 28"/>
          <p:cNvSpPr/>
          <p:nvPr/>
        </p:nvSpPr>
        <p:spPr>
          <a:xfrm>
            <a:off x="3857760" y="2630520"/>
            <a:ext cx="78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تسهيلات إنتا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مربع نص 29"/>
          <p:cNvSpPr/>
          <p:nvPr/>
        </p:nvSpPr>
        <p:spPr>
          <a:xfrm>
            <a:off x="4956120" y="321480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مربع نص 30"/>
          <p:cNvSpPr/>
          <p:nvPr/>
        </p:nvSpPr>
        <p:spPr>
          <a:xfrm>
            <a:off x="4572000" y="378612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صورة الشرك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مربع نص 31"/>
          <p:cNvSpPr/>
          <p:nvPr/>
        </p:nvSpPr>
        <p:spPr>
          <a:xfrm>
            <a:off x="3929040" y="378612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حوث وتطو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مربع نص 32"/>
          <p:cNvSpPr/>
          <p:nvPr/>
        </p:nvSpPr>
        <p:spPr>
          <a:xfrm>
            <a:off x="3571920" y="33447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وق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رابط كسهم مستقيم 34"/>
          <p:cNvCxnSpPr>
            <a:stCxn id="619" idx="4"/>
            <a:endCxn id="616" idx="8"/>
          </p:cNvCxnSpPr>
          <p:nvPr/>
        </p:nvCxnSpPr>
        <p:spPr>
          <a:xfrm>
            <a:off x="4675680" y="1071360"/>
            <a:ext cx="396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9" name="رابط كسهم مستقيم 36"/>
          <p:cNvCxnSpPr>
            <a:stCxn id="618" idx="0"/>
            <a:endCxn id="616" idx="9"/>
          </p:cNvCxnSpPr>
          <p:nvPr/>
        </p:nvCxnSpPr>
        <p:spPr>
          <a:xfrm flipH="1" flipV="1">
            <a:off x="4679640" y="5428800"/>
            <a:ext cx="16560" cy="56448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0" name="رابط كسهم مستقيم 58"/>
          <p:cNvCxnSpPr>
            <a:stCxn id="623" idx="1"/>
          </p:cNvCxnSpPr>
          <p:nvPr/>
        </p:nvCxnSpPr>
        <p:spPr>
          <a:xfrm flipH="1">
            <a:off x="6571800" y="3708360"/>
            <a:ext cx="4341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1" name="رابط كسهم مستقيم 64"/>
          <p:cNvCxnSpPr>
            <a:stCxn id="624" idx="1"/>
            <a:endCxn id="623" idx="3"/>
          </p:cNvCxnSpPr>
          <p:nvPr/>
        </p:nvCxnSpPr>
        <p:spPr>
          <a:xfrm flipH="1">
            <a:off x="7786080" y="3694680"/>
            <a:ext cx="4719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2" name="رابط كسهم مستقيم 66"/>
          <p:cNvCxnSpPr>
            <a:endCxn id="625" idx="3"/>
          </p:cNvCxnSpPr>
          <p:nvPr/>
        </p:nvCxnSpPr>
        <p:spPr>
          <a:xfrm flipH="1">
            <a:off x="2356560" y="3714840"/>
            <a:ext cx="429480" cy="2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3" name="رابط كسهم مستقيم 68"/>
          <p:cNvCxnSpPr>
            <a:stCxn id="625" idx="1"/>
            <a:endCxn id="626" idx="3"/>
          </p:cNvCxnSpPr>
          <p:nvPr/>
        </p:nvCxnSpPr>
        <p:spPr>
          <a:xfrm flipH="1">
            <a:off x="1092960" y="3738600"/>
            <a:ext cx="483480" cy="1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4" name="رابط كسهم مستقيم 70"/>
          <p:cNvCxnSpPr/>
          <p:nvPr/>
        </p:nvCxnSpPr>
        <p:spPr>
          <a:xfrm flipV="1">
            <a:off x="5213880" y="2428200"/>
            <a:ext cx="143640" cy="21492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5" name="رابط كسهم مستقيم 72"/>
          <p:cNvCxnSpPr/>
          <p:nvPr/>
        </p:nvCxnSpPr>
        <p:spPr>
          <a:xfrm flipH="1" flipV="1">
            <a:off x="3963240" y="2428200"/>
            <a:ext cx="251640" cy="14364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6" name="رابط كسهم مستقيم 75"/>
          <p:cNvCxnSpPr>
            <a:stCxn id="634" idx="3"/>
          </p:cNvCxnSpPr>
          <p:nvPr/>
        </p:nvCxnSpPr>
        <p:spPr>
          <a:xfrm>
            <a:off x="5741640" y="3538080"/>
            <a:ext cx="259560" cy="3420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7" name="رابط كسهم مستقيم 77"/>
          <p:cNvCxnSpPr/>
          <p:nvPr/>
        </p:nvCxnSpPr>
        <p:spPr>
          <a:xfrm>
            <a:off x="5214600" y="4428720"/>
            <a:ext cx="214920" cy="14364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8" name="رابط كسهم مستقيم 79"/>
          <p:cNvCxnSpPr>
            <a:stCxn id="636" idx="2"/>
          </p:cNvCxnSpPr>
          <p:nvPr/>
        </p:nvCxnSpPr>
        <p:spPr>
          <a:xfrm flipH="1">
            <a:off x="4143240" y="4432320"/>
            <a:ext cx="178200" cy="20880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9" name="رابط كسهم مستقيم 84"/>
          <p:cNvCxnSpPr/>
          <p:nvPr/>
        </p:nvCxnSpPr>
        <p:spPr>
          <a:xfrm flipH="1" flipV="1">
            <a:off x="3357000" y="3571560"/>
            <a:ext cx="286200" cy="216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50" name="رابط كسهم مستقيم 90"/>
          <p:cNvCxnSpPr>
            <a:stCxn id="621" idx="5"/>
          </p:cNvCxnSpPr>
          <p:nvPr/>
        </p:nvCxnSpPr>
        <p:spPr>
          <a:xfrm>
            <a:off x="1854360" y="1731960"/>
            <a:ext cx="1218240" cy="76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1" name="رابط كسهم مستقيم 93"/>
          <p:cNvCxnSpPr>
            <a:stCxn id="620" idx="3"/>
          </p:cNvCxnSpPr>
          <p:nvPr/>
        </p:nvCxnSpPr>
        <p:spPr>
          <a:xfrm flipH="1">
            <a:off x="6286320" y="1731960"/>
            <a:ext cx="1289520" cy="76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2" name="رابط كسهم مستقيم 99"/>
          <p:cNvCxnSpPr>
            <a:stCxn id="622" idx="7"/>
            <a:endCxn id="616" idx="10"/>
          </p:cNvCxnSpPr>
          <p:nvPr/>
        </p:nvCxnSpPr>
        <p:spPr>
          <a:xfrm flipV="1">
            <a:off x="1853280" y="4874760"/>
            <a:ext cx="1486440" cy="82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3" name="رابط كسهم مستقيم 102"/>
          <p:cNvCxnSpPr>
            <a:stCxn id="617" idx="1"/>
          </p:cNvCxnSpPr>
          <p:nvPr/>
        </p:nvCxnSpPr>
        <p:spPr>
          <a:xfrm flipH="1" flipV="1">
            <a:off x="6214680" y="4642920"/>
            <a:ext cx="1360800" cy="983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عنصر نائب للتذييل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البيئة التسويقية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عنصر نائب لرقم الشريحة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D6D8-1FD1-4E87-BD20-7BDC82427E2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58" name="Object 2"/>
          <p:cNvGraphicFramePr/>
          <p:nvPr/>
        </p:nvGraphicFramePr>
        <p:xfrm>
          <a:off x="0" y="0"/>
          <a:ext cx="9144000" cy="7066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9:53Z</dcterms:modified>
  <cp:revision>358</cp:revision>
  <dc:subject/>
  <dc:title>الشريحة 1</dc:title>
</cp:coreProperties>
</file>