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1243-4ED0-47D3-A41F-14AA40450A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9E88-64C6-433A-821D-79C8EA8C49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356F-6BBC-46B9-BED5-1869806C41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FDE-12AD-4BE5-A5A1-82A0AB18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805-53E9-441B-B96C-D96E0B29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16A04-1F35-4ECD-BB5C-E048BB04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27129-E7DD-4413-8244-C4BDE9AF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36CFB-62AD-4F5C-B13A-E0161271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5055D-5BC9-4837-9803-2EC62988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98824-E4F8-4649-A405-FA0BA01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9C40F-EA52-473E-9D2F-845CF1D3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FBFF7-F658-4066-8CBD-E803613E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6F1E6-660B-439C-8393-3DE72470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0A119-7B3A-4E57-804E-0A8A4D72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2443F-F806-409C-A1FD-6EFC00BE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BAA-AA26-4E63-A1A9-B47531FA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21D22-FB6C-4D1E-979B-00B6BBB6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BB7F4-A32B-4465-85A5-9F76B565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33A8B-9165-44EB-B98B-A5362466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62C0C-586D-47FC-85FB-10D997AB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3FA04-93EE-4FBF-B3E2-EFCB5B52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BBAB3-CF0C-4616-9005-42A6201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0382F-604B-4F06-A9DF-477D383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AE2A2-15B9-4A87-BCA9-97BBDB12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9690E-06F5-4A8E-B898-E0E760B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B3BDC-4146-4425-A10D-823349F6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B47-5BAA-4802-BDD3-74CC7AC3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BC4B-8CCF-4C12-8DE7-07233B17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D8437-2D80-46A9-919D-DDABFFC3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8210C-3173-4A15-A9BF-A65A341F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E0055-8C8D-4221-9976-08C164C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F3C71-CCA3-4A58-A6CE-23056DFA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A4656-070E-4D0C-B4E3-7F88E3C8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57E21-E6F4-450F-9B5B-54B8119E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84EF2-CB83-4F6F-800B-CB64572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7C425-2538-4D14-80BE-837A5663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CD7A5-CF53-4408-954B-58E707AC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9204-BAF9-4983-820A-8868611E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FC092-FCFE-4618-97E2-75B6D5C2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0EF5A-C0B6-4054-9DC0-0E4DC7D4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6310D-A9E2-4853-A133-D79AE6B6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6A25B-B92C-4256-8CD6-F59C58AD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C6FE8-15DE-42F8-BD78-D6D7EDEA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52FB1-029E-441F-A297-35F7C8FA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838E6-CD49-4413-B591-C8E8C5E2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8DAFB-B325-41C9-8213-0B37775E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12BA3-424F-46F6-BC49-AB4A614D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FB16F-6E52-4545-9F4D-877664C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D002-CC6E-41F8-A302-94817043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B4A6F-ABB7-4028-80D6-282BDB7E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A0249-0071-4E18-96C8-730BD23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2C8AF-DA33-488E-8B24-6DA6482C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00DD0-C534-4BFB-BE28-299AC9CA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53796-BD9E-42F1-AE8F-FC57D43E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0DF0-432B-408A-8BE0-7C0CA56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6D02-5EFF-4D09-A26A-85AF3FA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1836-277F-415A-B3F1-C9FA0535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16A2-732C-428A-9284-E3D8EE01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FCA8-C933-4CEB-ADDC-C04D0759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083-B126-4F53-B33F-BD4ED3F9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38AB-6A94-4BE2-A624-3423B2B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CF01-11A6-4227-A947-FA5D0976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E80A-9B09-4E6B-9CA5-B74E3B62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4E91-B25B-4395-8DF2-4DDAAADE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266A-811B-4133-B9D6-63292C5D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F5E6-0A09-4964-B781-79FB0B54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1772-B72E-470B-A703-59B2E28C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2AD4-4A1E-49BC-A647-36BF89B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B725-A346-4BB8-B8BD-BFBCA063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C40B-AB60-4199-8575-AE47DBF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40E-A13A-4CD3-B6A8-BD8609E7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1D0E-D725-46D8-8475-46709715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80FC-0C82-463E-BE61-45B8D09C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9708-94C1-449A-9057-5F1FD042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B933-912F-4E94-BF95-5D08D71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4ECB-E02B-4107-A80F-996D9470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5DAA-E08F-4EB5-8C33-1AA11178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AE75-5335-4702-AD21-CBB52EC7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E208-9A9F-4450-810A-F7556CFE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CC79-64E4-42E2-A43B-ED61B86A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6D678-CC58-4F27-A3CD-4745D55C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3F9-6323-44A4-B1F9-B819F3D1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377B-E42A-497E-BD95-6DE48AD9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EC3B-3B58-436A-AAB7-7B46F1D6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DF95-A158-44FE-90A1-446BDD26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BFB9-2C0C-4BD0-A992-553A5F5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C98AE-0E8D-4580-8925-5F3EAA8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B2834-817E-47B1-9D3D-B3245D4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FF4C3-CC63-45F6-9090-CD493859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1351-A454-4D96-A4C8-BB04CE52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E951-1FF8-487A-92BC-4C3CD3B3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78FCC-8F1E-4AD5-A3F9-93A68EAB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8F6-78A9-42E1-86AE-F64A2ABE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1C8F5-FFB0-4594-8A0C-1CD8EE45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F03D3-0E53-4066-9AA7-66522637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6E606-2941-4CD2-B82F-EBCA09BD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61325-9565-4EBC-BC79-B04D6DB6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30943-EB42-4664-82AC-21376486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752C-BB0C-4995-A284-6C95C66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2B51-289A-487B-BB9C-9EB026AC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C113-CDCD-403D-9BB2-0858D7E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A2584-BA59-45A6-B465-8E05DDCE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BE6B-3F13-4E31-AA9C-81F068A7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28C-8170-4015-876F-561513A8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C8423-7D41-4B30-9480-D1EC562E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BE957-E45F-41B0-A94D-CC01E082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4E59E-8AD7-4895-BAD9-BFCC567C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77B43-4698-4FD1-BFD5-B0AC034D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41B5B-126C-49AC-A4A8-98781A87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9708F-88DC-43EF-8D9E-9E694D59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2947-606B-42F9-B3F1-9E77806E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D7F0-C161-4B39-A42E-69EC1E1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38C0-9234-498C-814B-8AD0CCDF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9790-8ABC-43BC-ABC7-10ED670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928-9C8F-436B-9284-D0CB14E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24ADB-EA51-468B-83C2-4BC2931D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EE4A-9ED9-4EB2-816C-C91266C3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80C25-243C-4DCC-924A-27C6272A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F5497-66C5-48C0-875C-64FF748D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58476-3B75-41A7-A043-FA885922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52109-BD05-4733-A22D-601BE5A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BC511-A879-41AA-AD10-67FF5E4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ACAA0-6CCE-43E0-A86A-634B87DA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96B40-8EDA-498F-B7BB-7CE204E5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D3420-7EC2-4813-B4D6-6C83EB4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E6D-650A-420C-9B79-6F98AA4E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C84E-D2F5-45D3-A560-2E646DA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00FB7-49FE-430A-8E6F-CB51F047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50963-44A3-4258-AEA5-FAECA6DF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56DDA-F074-4944-87B7-5F9A0873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2AE4A-69DF-453A-A76C-7F47E026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32AE2-3A91-4A70-BBD9-A759B1E7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73BF4-38E4-44BC-9BFD-4B7F0E9B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29058-E2D4-49F5-923D-8604C4F5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99467-A3DC-40C7-BEC0-E00F74F5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CC568-6084-456B-A1B7-3613B8EE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163-121D-4956-B39A-1B3596BD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1F57F-9C09-4CD1-A160-9CDBB0B6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625D-8491-4B45-89AE-5DB9B105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CA074-D290-453B-8D80-A21515C0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0857-791A-453D-A729-2595D822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01A87-9307-4DA8-B9CC-66A9C069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06998-78DD-45F6-9E7B-784A5F11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6CB23-B994-4104-8030-C1E8EC93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E0E3A-896C-4B90-B035-259742BE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F44C9-EEA6-4AA1-9848-197D4C66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6F174-E71C-446A-B232-14C02530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B556-2E4C-4F3F-9CA4-3208294430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2A82-2247-4592-858C-A9DE65BA81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CB20-B678-4F26-BD8B-881DB3C2B5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456D-6DA1-4D84-8834-380BF5E8E5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7302-5942-4C14-992F-F8FFAACD73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5A5C-51BE-4301-8039-33262BF8CA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8FCB-2443-4718-9A86-6B696A829C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8003-BBE1-4B86-B41C-2BD2ED0FB8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1AEA-6A9A-405C-9C90-659C366DE4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C98F-05F7-463F-B5D2-DA92BC9E94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A43F-A354-40EC-89FE-ABDDE46297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BDB-F0A0-4FCD-9C19-C9DC213E98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شكل بيضاوي 4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مربع نص 5"/>
          <p:cNvSpPr/>
          <p:nvPr/>
        </p:nvSpPr>
        <p:spPr>
          <a:xfrm>
            <a:off x="655560" y="1758960"/>
            <a:ext cx="10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8"/>
          <p:cNvSpPr/>
          <p:nvPr/>
        </p:nvSpPr>
        <p:spPr>
          <a:xfrm>
            <a:off x="1071720" y="9288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همية تجزئة الس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428760" y="214956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سوق المستهد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تحديداً دقيق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حسن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توزيع الموار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سوي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وضع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رنامج تسويق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مناسب للسوق المستهد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8"/>
          <p:cNvSpPr/>
          <p:nvPr/>
        </p:nvSpPr>
        <p:spPr>
          <a:xfrm>
            <a:off x="1071720" y="12924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خطوات تجزئة الس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428760" y="242892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حاجة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خصائ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ي تميز بين القط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حجم القطاع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نبؤ بالطلب داخل كل قطا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8"/>
          <p:cNvSpPr/>
          <p:nvPr/>
        </p:nvSpPr>
        <p:spPr>
          <a:xfrm>
            <a:off x="571680" y="2271600"/>
            <a:ext cx="8072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سوق المستهل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(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سوق الاستهلاكية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8"/>
          <p:cNvSpPr/>
          <p:nvPr/>
        </p:nvSpPr>
        <p:spPr>
          <a:xfrm>
            <a:off x="1071720" y="2905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استهلا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428760" y="1301760"/>
            <a:ext cx="81439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قسيم الجغراف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اط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د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كثافة السك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ا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8"/>
          <p:cNvSpPr/>
          <p:nvPr/>
        </p:nvSpPr>
        <p:spPr>
          <a:xfrm>
            <a:off x="1071720" y="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استهلا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428760" y="857160"/>
            <a:ext cx="814392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قسيم الديموجرافي (السكاني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ن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خ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ه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عل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حجم الأس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دورة حياة الأس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طبقة الاجتم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نسية (الأعرا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1" name="Object 2"/>
          <p:cNvGraphicFramePr/>
          <p:nvPr/>
        </p:nvGraphicFramePr>
        <p:xfrm>
          <a:off x="71280" y="0"/>
          <a:ext cx="9072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0"/>
                    <a:ext cx="9072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8"/>
          <p:cNvSpPr/>
          <p:nvPr/>
        </p:nvSpPr>
        <p:spPr>
          <a:xfrm>
            <a:off x="1071720" y="5778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استهلا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428760" y="1428840"/>
            <a:ext cx="8143920" cy="60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قسيم النفسي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شخصية الفرد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متحمس – متحفظ – منطوي – اجتماعي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 متسامح - عدواني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        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يتسم بصعوبة القياس وتجزئة الس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نمط الحياة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أنشطة – اهتمامات – آر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تجاهات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ميل إيجابي أو سلبي نحو المنت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قيم الثقافية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أصالة – الانتماء 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سهم منحني إلى اليسار 4"/>
          <p:cNvSpPr/>
          <p:nvPr/>
        </p:nvSpPr>
        <p:spPr>
          <a:xfrm>
            <a:off x="8215200" y="0"/>
            <a:ext cx="928800" cy="857160"/>
          </a:xfrm>
          <a:custGeom>
            <a:avLst/>
            <a:gdLst>
              <a:gd name="textAreaLeft" fmla="*/ 124200 w 928800"/>
              <a:gd name="textAreaRight" fmla="*/ 804600 w 92880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68072"/>
                <a:lnTo>
                  <a:pt x="4985" y="21418"/>
                </a:lnTo>
                <a:lnTo>
                  <a:pt x="0" y="16200"/>
                </a:lnTo>
                <a:lnTo>
                  <a:pt x="4985" y="10618"/>
                </a:lnTo>
                <a:lnTo>
                  <a:pt x="4985" y="13318"/>
                </a:lnTo>
                <a:arcTo wR="21600" hR="6750" stAng="3168072" swAng="-270208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10ee3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سهم إلى اليسار 7"/>
          <p:cNvSpPr/>
          <p:nvPr/>
        </p:nvSpPr>
        <p:spPr>
          <a:xfrm>
            <a:off x="5214960" y="3714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8"/>
          <p:cNvSpPr/>
          <p:nvPr/>
        </p:nvSpPr>
        <p:spPr>
          <a:xfrm>
            <a:off x="1071720" y="2142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استهلا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1214280"/>
            <a:ext cx="8143920" cy="83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قسيم السلوك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معدل استخدام السلعة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غير – ضعيف – متوسط – بكثاف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زايا (المنافع) التي يطلبها المستهلك من المنت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اقتصادية – مريحة – تحقق له مركز اجتماع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درجة الولاء لعلامة تجارية معينة (</a:t>
            </a:r>
            <a:r>
              <a:rPr b="0" lang="ar-SA" sz="1400" spc="-1" strike="noStrike">
                <a:solidFill>
                  <a:srgbClr val="006600"/>
                </a:solidFill>
                <a:latin typeface="Arial"/>
                <a:cs typeface="PT Bold Heading"/>
              </a:rPr>
              <a:t>مرتفعة – متوسطة – منخفضة – لا ول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درجة استعداد المستهلك للشراء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ضعيفة – متوسطة – قو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ساسية للجهود التسويقية (</a:t>
            </a:r>
            <a:r>
              <a:rPr b="1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سعر – الجودة –  الخدمة 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سهم منحني إلى اليسار 4"/>
          <p:cNvSpPr/>
          <p:nvPr/>
        </p:nvSpPr>
        <p:spPr>
          <a:xfrm>
            <a:off x="8215200" y="0"/>
            <a:ext cx="928800" cy="857160"/>
          </a:xfrm>
          <a:custGeom>
            <a:avLst/>
            <a:gdLst>
              <a:gd name="textAreaLeft" fmla="*/ 124200 w 928800"/>
              <a:gd name="textAreaRight" fmla="*/ 804600 w 92880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68072"/>
                <a:lnTo>
                  <a:pt x="4985" y="21418"/>
                </a:lnTo>
                <a:lnTo>
                  <a:pt x="0" y="16200"/>
                </a:lnTo>
                <a:lnTo>
                  <a:pt x="4985" y="10618"/>
                </a:lnTo>
                <a:lnTo>
                  <a:pt x="4985" y="13318"/>
                </a:lnTo>
                <a:arcTo wR="21600" hR="6750" stAng="3168072" swAng="-270208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10ee3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8"/>
          <p:cNvSpPr/>
          <p:nvPr/>
        </p:nvSpPr>
        <p:spPr>
          <a:xfrm>
            <a:off x="571680" y="2271600"/>
            <a:ext cx="8072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جزئة سوق المستخدم التج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(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سوق التجارية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8"/>
          <p:cNvSpPr/>
          <p:nvPr/>
        </p:nvSpPr>
        <p:spPr>
          <a:xfrm>
            <a:off x="571680" y="2271600"/>
            <a:ext cx="8072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سوق المستهلك التج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(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سوق التجارية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428760" y="71280"/>
            <a:ext cx="82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3643200" y="1071720"/>
            <a:ext cx="2067120" cy="30708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3643200" y="235728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3643200" y="3000240"/>
            <a:ext cx="2067120" cy="733320"/>
          </a:xfrm>
          <a:prstGeom prst="rect">
            <a:avLst/>
          </a:prstGeom>
          <a:solidFill>
            <a:srgbClr val="00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PT Bold Heading"/>
              </a:rPr>
              <a:t> تحديد القطاعات المستهدفة ودراسة 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رابط كسهم مستقيم 19"/>
          <p:cNvCxnSpPr>
            <a:stCxn id="596" idx="2"/>
          </p:cNvCxnSpPr>
          <p:nvPr/>
        </p:nvCxnSpPr>
        <p:spPr>
          <a:xfrm flipH="1">
            <a:off x="4672800" y="1379520"/>
            <a:ext cx="3960" cy="9784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رابط كسهم مستقيم 20"/>
          <p:cNvCxnSpPr/>
          <p:nvPr/>
        </p:nvCxnSpPr>
        <p:spPr>
          <a:xfrm flipH="1">
            <a:off x="4672800" y="264312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8" name="رابط كسهم مستقيم 27"/>
          <p:cNvCxnSpPr>
            <a:stCxn id="600" idx="0"/>
            <a:endCxn id="599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09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رابط كسهم مستقيم 48"/>
          <p:cNvCxnSpPr>
            <a:endCxn id="600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6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7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8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8"/>
          <p:cNvSpPr/>
          <p:nvPr/>
        </p:nvSpPr>
        <p:spPr>
          <a:xfrm>
            <a:off x="1071720" y="720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500040" y="1643040"/>
            <a:ext cx="8143920" cy="57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وقع الجغرافي للمستهلك التجار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ول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أسواق بالدول الأخرى في حالة الشركات المصدر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اطق (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تركز المستهلك في المنطقة الشمالية أو الشرقية أو الغربية أو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 الجنوبية من الدول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دن (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PT Bold Heading"/>
              </a:rPr>
              <a:t>تركز المستهلك في مدن معينة مثل المدن الصناعية أو الأسواق التجا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8"/>
          <p:cNvSpPr/>
          <p:nvPr/>
        </p:nvSpPr>
        <p:spPr>
          <a:xfrm>
            <a:off x="1071720" y="28584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428760" y="1217520"/>
            <a:ext cx="814392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نوع المستهلك التجار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ديد نوع الصناعة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ي ستوجه إليها الشركة منتج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ديد حجم الأعمال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عملاء كبار – عملاء صغا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على أساس حج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المبيعات أو عدد العامل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ديد هيكل المؤسسة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من يتخذ قرار الشراء داخل المنظمة؟ ه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  <a:ea typeface="PT Bold Heading"/>
              </a:rPr>
              <a:t>    إدارة المشتريات أم لجا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ديد معايير الشراء لدى المشترين (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ا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لسعر – الجودة – التسلي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سهم منحني إلى اليسار 4"/>
          <p:cNvSpPr/>
          <p:nvPr/>
        </p:nvSpPr>
        <p:spPr>
          <a:xfrm>
            <a:off x="8215200" y="0"/>
            <a:ext cx="928800" cy="857160"/>
          </a:xfrm>
          <a:custGeom>
            <a:avLst/>
            <a:gdLst>
              <a:gd name="textAreaLeft" fmla="*/ 124200 w 928800"/>
              <a:gd name="textAreaRight" fmla="*/ 804600 w 92880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68072"/>
                <a:lnTo>
                  <a:pt x="4985" y="21418"/>
                </a:lnTo>
                <a:lnTo>
                  <a:pt x="0" y="16200"/>
                </a:lnTo>
                <a:lnTo>
                  <a:pt x="4985" y="10618"/>
                </a:lnTo>
                <a:lnTo>
                  <a:pt x="4985" y="13318"/>
                </a:lnTo>
                <a:arcTo wR="21600" hR="6750" stAng="3168072" swAng="-270208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14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8"/>
          <p:cNvSpPr/>
          <p:nvPr/>
        </p:nvSpPr>
        <p:spPr>
          <a:xfrm>
            <a:off x="1071720" y="7920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428760" y="1631880"/>
            <a:ext cx="814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ظروف العملية التجار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واقف الشراء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جديد – مكرر – معد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عدل الاستخدام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غير – ضعيف – متوسط – مكث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جراءات الشراء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مناقصة عام – شراء مباش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تطلبات الخدمة (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PT Bold Heading"/>
              </a:rPr>
              <a:t>قليلة – متوسطة – كثير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سهم منحني إلى اليسار 4"/>
          <p:cNvSpPr/>
          <p:nvPr/>
        </p:nvSpPr>
        <p:spPr>
          <a:xfrm>
            <a:off x="8215200" y="0"/>
            <a:ext cx="928800" cy="857160"/>
          </a:xfrm>
          <a:custGeom>
            <a:avLst/>
            <a:gdLst>
              <a:gd name="textAreaLeft" fmla="*/ 124200 w 928800"/>
              <a:gd name="textAreaRight" fmla="*/ 804600 w 92880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68072"/>
                <a:lnTo>
                  <a:pt x="4985" y="21418"/>
                </a:lnTo>
                <a:lnTo>
                  <a:pt x="0" y="16200"/>
                </a:lnTo>
                <a:lnTo>
                  <a:pt x="4985" y="10618"/>
                </a:lnTo>
                <a:lnTo>
                  <a:pt x="4985" y="13318"/>
                </a:lnTo>
                <a:arcTo wR="21600" hR="6750" stAng="3168072" swAng="-270208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8"/>
          <p:cNvSpPr/>
          <p:nvPr/>
        </p:nvSpPr>
        <p:spPr>
          <a:xfrm>
            <a:off x="571680" y="28576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تنبؤ بالطل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Demand Fore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8"/>
          <p:cNvSpPr/>
          <p:nvPr/>
        </p:nvSpPr>
        <p:spPr>
          <a:xfrm>
            <a:off x="1071720" y="43488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ستويات التنبؤ بالطل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8"/>
          <p:cNvSpPr/>
          <p:nvPr/>
        </p:nvSpPr>
        <p:spPr>
          <a:xfrm>
            <a:off x="428760" y="1535040"/>
            <a:ext cx="81439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نبؤ بحجم السوق المرتقب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حجم المبيعات الإجمالي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الذي يمكن أن تحققه كل المؤسسات التي تبيع منتجاً خلال فتر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زمنية محددة في سوق معينة تحت ظروف مثلى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نبؤ بحجم المبيعات المرتقب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نسبة من حجم السو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المرتقبة التي تتوقع شركة معينة تحقيقها في ظل الظروف المثا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التنبؤ بالمبيع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قدير المبيعات المحتملة للعلامة التجار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لمنتج الشركة خلال فترة زمنية محددة في سوق محددة باستخد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خطط تسويقية محددة في ظل ظروف سوقية معين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8"/>
          <p:cNvSpPr/>
          <p:nvPr/>
        </p:nvSpPr>
        <p:spPr>
          <a:xfrm>
            <a:off x="1071720" y="1429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طرق التنبؤ بالمبي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428760" y="1206360"/>
            <a:ext cx="8143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 عامل السوق –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امل الرئيسي المؤث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شتقاق المباش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ستقصاء آراء العمل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عرف على حجم مشترياتهم المتوق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الاختبار التسويق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– </a:t>
            </a:r>
            <a:r>
              <a:rPr b="0" lang="ar-SA" sz="2000" spc="-1" strike="noStrike">
                <a:solidFill>
                  <a:srgbClr val="0070c0"/>
                </a:solidFill>
                <a:latin typeface="Arial"/>
                <a:cs typeface="PT Bold Heading"/>
              </a:rPr>
              <a:t>اختبار السو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في منطقة جغراف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ليل المبيعات السابقة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طور التاريخ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ركيب فريق المبيعات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قديرات مندوبي البي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ر المسئول التنفيذي بالشركة 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كم الشخص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8"/>
          <p:cNvSpPr/>
          <p:nvPr/>
        </p:nvSpPr>
        <p:spPr>
          <a:xfrm>
            <a:off x="571680" y="26589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ختيار السوق المستهد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1071720" y="3571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شروط اختيار السوق المستهدف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428760" y="1428840"/>
            <a:ext cx="814392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ن تكون السوق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قابلة للقياس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باستخدام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ن تكون القطاعات المستهدفة قطاعات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كبير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عط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احتمالات مؤكدة لتحقيق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إمكانية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وصو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لى القطاعات المحددة من خل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مؤسسات التسويق القائ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تجزئة السو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B3C3-8610-4166-95DE-BDCF78B0E32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PT Bold Heading"/>
              </a:rPr>
              <a:t>اختيار السوق المستهدفة</a:t>
            </a:r>
            <a:endParaRPr b="1" lang="en-US" sz="40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569880" y="1523880"/>
            <a:ext cx="2286000" cy="2508480"/>
            <a:chOff x="569880" y="1523880"/>
            <a:chExt cx="2286000" cy="2508480"/>
          </a:xfrm>
        </p:grpSpPr>
        <p:sp>
          <p:nvSpPr>
            <p:cNvPr id="742" name="Rectangle 4"/>
            <p:cNvSpPr/>
            <p:nvPr/>
          </p:nvSpPr>
          <p:spPr>
            <a:xfrm>
              <a:off x="1378080" y="2978280"/>
              <a:ext cx="672840" cy="520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5"/>
            <p:cNvGrpSpPr/>
            <p:nvPr/>
          </p:nvGrpSpPr>
          <p:grpSpPr>
            <a:xfrm>
              <a:off x="569880" y="1523880"/>
              <a:ext cx="2286000" cy="2508480"/>
              <a:chOff x="569880" y="1523880"/>
              <a:chExt cx="2286000" cy="2508480"/>
            </a:xfrm>
          </p:grpSpPr>
          <p:sp>
            <p:nvSpPr>
              <p:cNvPr id="744" name="Rectangle 6"/>
              <p:cNvSpPr/>
              <p:nvPr/>
            </p:nvSpPr>
            <p:spPr>
              <a:xfrm>
                <a:off x="569880" y="1523880"/>
                <a:ext cx="2286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0000"/>
                    </a:solidFill>
                    <a:latin typeface="Tahoma"/>
                    <a:cs typeface="Tahoma"/>
                  </a:rPr>
                  <a:t>التركيز على فئة واحد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7"/>
              <p:cNvSpPr/>
              <p:nvPr/>
            </p:nvSpPr>
            <p:spPr>
              <a:xfrm>
                <a:off x="1378080" y="2444760"/>
                <a:ext cx="672840" cy="520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8"/>
              <p:cNvSpPr/>
              <p:nvPr/>
            </p:nvSpPr>
            <p:spPr>
              <a:xfrm>
                <a:off x="2063880" y="2444760"/>
                <a:ext cx="672840" cy="520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9"/>
              <p:cNvSpPr/>
              <p:nvPr/>
            </p:nvSpPr>
            <p:spPr>
              <a:xfrm>
                <a:off x="2063880" y="2978280"/>
                <a:ext cx="672840" cy="520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0"/>
              <p:cNvSpPr/>
              <p:nvPr/>
            </p:nvSpPr>
            <p:spPr>
              <a:xfrm>
                <a:off x="692280" y="3511440"/>
                <a:ext cx="672840" cy="520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11"/>
              <p:cNvSpPr/>
              <p:nvPr/>
            </p:nvSpPr>
            <p:spPr>
              <a:xfrm>
                <a:off x="1378080" y="3511440"/>
                <a:ext cx="672840" cy="520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12"/>
              <p:cNvSpPr/>
              <p:nvPr/>
            </p:nvSpPr>
            <p:spPr>
              <a:xfrm>
                <a:off x="2063880" y="3511440"/>
                <a:ext cx="672840" cy="520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13"/>
              <p:cNvSpPr/>
              <p:nvPr/>
            </p:nvSpPr>
            <p:spPr>
              <a:xfrm>
                <a:off x="692280" y="2444760"/>
                <a:ext cx="672840" cy="520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14"/>
              <p:cNvSpPr/>
              <p:nvPr/>
            </p:nvSpPr>
            <p:spPr>
              <a:xfrm>
                <a:off x="692280" y="2978280"/>
                <a:ext cx="672840" cy="520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3" name="Group 15"/>
          <p:cNvGrpSpPr/>
          <p:nvPr/>
        </p:nvGrpSpPr>
        <p:grpSpPr>
          <a:xfrm>
            <a:off x="6477120" y="1523880"/>
            <a:ext cx="2666880" cy="2508480"/>
            <a:chOff x="6477120" y="1523880"/>
            <a:chExt cx="2666880" cy="2508480"/>
          </a:xfrm>
        </p:grpSpPr>
        <p:sp>
          <p:nvSpPr>
            <p:cNvPr id="754" name="Rectangle 16"/>
            <p:cNvSpPr/>
            <p:nvPr/>
          </p:nvSpPr>
          <p:spPr>
            <a:xfrm>
              <a:off x="6858000" y="1523880"/>
              <a:ext cx="2286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6600"/>
                  </a:solidFill>
                  <a:latin typeface="Tahoma"/>
                  <a:cs typeface="Tahoma"/>
                </a:rPr>
                <a:t>اختيار منتج واح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7"/>
            <p:cNvSpPr/>
            <p:nvPr/>
          </p:nvSpPr>
          <p:spPr>
            <a:xfrm>
              <a:off x="7010280" y="213372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8"/>
            <p:cNvSpPr/>
            <p:nvPr/>
          </p:nvSpPr>
          <p:spPr>
            <a:xfrm>
              <a:off x="6477120" y="2438280"/>
              <a:ext cx="45720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9"/>
            <p:cNvSpPr/>
            <p:nvPr/>
          </p:nvSpPr>
          <p:spPr>
            <a:xfrm>
              <a:off x="8312040" y="3511440"/>
              <a:ext cx="673200" cy="52092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0"/>
            <p:cNvSpPr/>
            <p:nvPr/>
          </p:nvSpPr>
          <p:spPr>
            <a:xfrm>
              <a:off x="7626240" y="3511440"/>
              <a:ext cx="673200" cy="52092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1"/>
            <p:cNvSpPr/>
            <p:nvPr/>
          </p:nvSpPr>
          <p:spPr>
            <a:xfrm>
              <a:off x="6940440" y="3511440"/>
              <a:ext cx="673200" cy="52092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2"/>
            <p:cNvSpPr/>
            <p:nvPr/>
          </p:nvSpPr>
          <p:spPr>
            <a:xfrm>
              <a:off x="8312040" y="2978280"/>
              <a:ext cx="673200" cy="52056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3"/>
            <p:cNvSpPr/>
            <p:nvPr/>
          </p:nvSpPr>
          <p:spPr>
            <a:xfrm>
              <a:off x="7626240" y="2978280"/>
              <a:ext cx="673200" cy="52056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4"/>
            <p:cNvSpPr/>
            <p:nvPr/>
          </p:nvSpPr>
          <p:spPr>
            <a:xfrm>
              <a:off x="6940440" y="2978280"/>
              <a:ext cx="673200" cy="52056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5"/>
            <p:cNvSpPr/>
            <p:nvPr/>
          </p:nvSpPr>
          <p:spPr>
            <a:xfrm>
              <a:off x="8312040" y="2444760"/>
              <a:ext cx="673200" cy="52056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6"/>
            <p:cNvSpPr/>
            <p:nvPr/>
          </p:nvSpPr>
          <p:spPr>
            <a:xfrm>
              <a:off x="7626240" y="2444760"/>
              <a:ext cx="673200" cy="52056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7"/>
            <p:cNvSpPr/>
            <p:nvPr/>
          </p:nvSpPr>
          <p:spPr>
            <a:xfrm>
              <a:off x="6940440" y="2444760"/>
              <a:ext cx="673200" cy="52056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8"/>
          <p:cNvGrpSpPr/>
          <p:nvPr/>
        </p:nvGrpSpPr>
        <p:grpSpPr>
          <a:xfrm>
            <a:off x="3200400" y="1535040"/>
            <a:ext cx="2633760" cy="2497320"/>
            <a:chOff x="3200400" y="1535040"/>
            <a:chExt cx="2633760" cy="2497320"/>
          </a:xfrm>
        </p:grpSpPr>
        <p:sp>
          <p:nvSpPr>
            <p:cNvPr id="767" name="Rectangle 29"/>
            <p:cNvSpPr/>
            <p:nvPr/>
          </p:nvSpPr>
          <p:spPr>
            <a:xfrm>
              <a:off x="3548160" y="1535040"/>
              <a:ext cx="2286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2060"/>
                  </a:solidFill>
                  <a:latin typeface="Tahoma"/>
                  <a:cs typeface="Tahoma"/>
                </a:rPr>
                <a:t>اختيار فئة من كل سو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30"/>
            <p:cNvSpPr/>
            <p:nvPr/>
          </p:nvSpPr>
          <p:spPr>
            <a:xfrm>
              <a:off x="3657600" y="2057400"/>
              <a:ext cx="205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31"/>
            <p:cNvSpPr/>
            <p:nvPr/>
          </p:nvSpPr>
          <p:spPr>
            <a:xfrm>
              <a:off x="3200400" y="2438280"/>
              <a:ext cx="45720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32"/>
            <p:cNvSpPr/>
            <p:nvPr/>
          </p:nvSpPr>
          <p:spPr>
            <a:xfrm>
              <a:off x="5035680" y="3511440"/>
              <a:ext cx="672840" cy="52092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33"/>
            <p:cNvSpPr/>
            <p:nvPr/>
          </p:nvSpPr>
          <p:spPr>
            <a:xfrm>
              <a:off x="4349880" y="3511440"/>
              <a:ext cx="672840" cy="520920"/>
            </a:xfrm>
            <a:prstGeom prst="rect">
              <a:avLst/>
            </a:prstGeom>
            <a:solidFill>
              <a:srgbClr val="3f007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34"/>
            <p:cNvSpPr/>
            <p:nvPr/>
          </p:nvSpPr>
          <p:spPr>
            <a:xfrm>
              <a:off x="5035680" y="2901960"/>
              <a:ext cx="672840" cy="59688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35"/>
            <p:cNvSpPr/>
            <p:nvPr/>
          </p:nvSpPr>
          <p:spPr>
            <a:xfrm>
              <a:off x="4349880" y="2978280"/>
              <a:ext cx="672840" cy="52056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6"/>
            <p:cNvSpPr/>
            <p:nvPr/>
          </p:nvSpPr>
          <p:spPr>
            <a:xfrm>
              <a:off x="3664080" y="3511440"/>
              <a:ext cx="672840" cy="52092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7"/>
            <p:cNvSpPr/>
            <p:nvPr/>
          </p:nvSpPr>
          <p:spPr>
            <a:xfrm>
              <a:off x="3664080" y="2978280"/>
              <a:ext cx="672840" cy="520560"/>
            </a:xfrm>
            <a:prstGeom prst="rect">
              <a:avLst/>
            </a:prstGeom>
            <a:solidFill>
              <a:srgbClr val="3f007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8"/>
            <p:cNvSpPr/>
            <p:nvPr/>
          </p:nvSpPr>
          <p:spPr>
            <a:xfrm>
              <a:off x="5035680" y="2444760"/>
              <a:ext cx="672840" cy="520560"/>
            </a:xfrm>
            <a:prstGeom prst="rect">
              <a:avLst/>
            </a:prstGeom>
            <a:solidFill>
              <a:srgbClr val="3f007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9"/>
            <p:cNvSpPr/>
            <p:nvPr/>
          </p:nvSpPr>
          <p:spPr>
            <a:xfrm>
              <a:off x="4349880" y="2444760"/>
              <a:ext cx="672840" cy="52056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40"/>
            <p:cNvSpPr/>
            <p:nvPr/>
          </p:nvSpPr>
          <p:spPr>
            <a:xfrm>
              <a:off x="3664080" y="2444760"/>
              <a:ext cx="672840" cy="52056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41"/>
          <p:cNvGrpSpPr/>
          <p:nvPr/>
        </p:nvGrpSpPr>
        <p:grpSpPr>
          <a:xfrm>
            <a:off x="6505560" y="4206960"/>
            <a:ext cx="2470320" cy="2351160"/>
            <a:chOff x="6505560" y="4206960"/>
            <a:chExt cx="2470320" cy="2351160"/>
          </a:xfrm>
        </p:grpSpPr>
        <p:sp>
          <p:nvSpPr>
            <p:cNvPr id="780" name="Rectangle 42"/>
            <p:cNvSpPr/>
            <p:nvPr/>
          </p:nvSpPr>
          <p:spPr>
            <a:xfrm>
              <a:off x="6848640" y="4653000"/>
              <a:ext cx="205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43"/>
            <p:cNvSpPr/>
            <p:nvPr/>
          </p:nvSpPr>
          <p:spPr>
            <a:xfrm>
              <a:off x="6967440" y="4206960"/>
              <a:ext cx="198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ahoma"/>
                  <a:cs typeface="Tahoma"/>
                </a:rPr>
                <a:t>تغطية كام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44"/>
            <p:cNvSpPr/>
            <p:nvPr/>
          </p:nvSpPr>
          <p:spPr>
            <a:xfrm>
              <a:off x="8302680" y="603108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45"/>
            <p:cNvSpPr/>
            <p:nvPr/>
          </p:nvSpPr>
          <p:spPr>
            <a:xfrm>
              <a:off x="8302680" y="549756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6"/>
            <p:cNvSpPr/>
            <p:nvPr/>
          </p:nvSpPr>
          <p:spPr>
            <a:xfrm>
              <a:off x="8302680" y="4964040"/>
              <a:ext cx="673200" cy="52092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7"/>
            <p:cNvSpPr/>
            <p:nvPr/>
          </p:nvSpPr>
          <p:spPr>
            <a:xfrm>
              <a:off x="7616880" y="603108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48"/>
            <p:cNvSpPr/>
            <p:nvPr/>
          </p:nvSpPr>
          <p:spPr>
            <a:xfrm>
              <a:off x="7616880" y="549756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9"/>
            <p:cNvSpPr/>
            <p:nvPr/>
          </p:nvSpPr>
          <p:spPr>
            <a:xfrm>
              <a:off x="7616880" y="4964040"/>
              <a:ext cx="673200" cy="52092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50"/>
            <p:cNvSpPr/>
            <p:nvPr/>
          </p:nvSpPr>
          <p:spPr>
            <a:xfrm>
              <a:off x="6931080" y="4964040"/>
              <a:ext cx="673200" cy="52092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51"/>
            <p:cNvSpPr/>
            <p:nvPr/>
          </p:nvSpPr>
          <p:spPr>
            <a:xfrm>
              <a:off x="6931080" y="549756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52"/>
            <p:cNvSpPr/>
            <p:nvPr/>
          </p:nvSpPr>
          <p:spPr>
            <a:xfrm>
              <a:off x="6931080" y="603108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53"/>
            <p:cNvSpPr/>
            <p:nvPr/>
          </p:nvSpPr>
          <p:spPr>
            <a:xfrm>
              <a:off x="6505560" y="5033880"/>
              <a:ext cx="3808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54"/>
          <p:cNvGrpSpPr/>
          <p:nvPr/>
        </p:nvGrpSpPr>
        <p:grpSpPr>
          <a:xfrm>
            <a:off x="3348000" y="4149720"/>
            <a:ext cx="2590920" cy="2437920"/>
            <a:chOff x="3348000" y="4149720"/>
            <a:chExt cx="2590920" cy="2437920"/>
          </a:xfrm>
        </p:grpSpPr>
        <p:sp>
          <p:nvSpPr>
            <p:cNvPr id="793" name="Rectangle 55"/>
            <p:cNvSpPr/>
            <p:nvPr/>
          </p:nvSpPr>
          <p:spPr>
            <a:xfrm>
              <a:off x="3881520" y="4149720"/>
              <a:ext cx="2057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ahoma"/>
                  <a:cs typeface="Tahoma"/>
                </a:rPr>
                <a:t>اختيار سو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ahoma"/>
                  <a:cs typeface="Tahoma"/>
                </a:rPr>
                <a:t>واحد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56"/>
            <p:cNvSpPr/>
            <p:nvPr/>
          </p:nvSpPr>
          <p:spPr>
            <a:xfrm>
              <a:off x="5259240" y="6060960"/>
              <a:ext cx="673200" cy="520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7"/>
            <p:cNvSpPr/>
            <p:nvPr/>
          </p:nvSpPr>
          <p:spPr>
            <a:xfrm>
              <a:off x="5259240" y="5527440"/>
              <a:ext cx="673200" cy="520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8"/>
            <p:cNvSpPr/>
            <p:nvPr/>
          </p:nvSpPr>
          <p:spPr>
            <a:xfrm>
              <a:off x="5259240" y="4993920"/>
              <a:ext cx="673200" cy="520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9"/>
            <p:cNvSpPr/>
            <p:nvPr/>
          </p:nvSpPr>
          <p:spPr>
            <a:xfrm>
              <a:off x="4573440" y="6060960"/>
              <a:ext cx="673200" cy="520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60"/>
            <p:cNvSpPr/>
            <p:nvPr/>
          </p:nvSpPr>
          <p:spPr>
            <a:xfrm>
              <a:off x="4573440" y="5527440"/>
              <a:ext cx="673200" cy="520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61"/>
            <p:cNvSpPr/>
            <p:nvPr/>
          </p:nvSpPr>
          <p:spPr>
            <a:xfrm>
              <a:off x="3887640" y="4993920"/>
              <a:ext cx="673200" cy="5205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62"/>
            <p:cNvSpPr/>
            <p:nvPr/>
          </p:nvSpPr>
          <p:spPr>
            <a:xfrm>
              <a:off x="4573440" y="4993920"/>
              <a:ext cx="673200" cy="520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63"/>
            <p:cNvSpPr/>
            <p:nvPr/>
          </p:nvSpPr>
          <p:spPr>
            <a:xfrm>
              <a:off x="3887640" y="5527440"/>
              <a:ext cx="673200" cy="5202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3887640" y="6060960"/>
              <a:ext cx="673200" cy="5202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65"/>
            <p:cNvSpPr/>
            <p:nvPr/>
          </p:nvSpPr>
          <p:spPr>
            <a:xfrm>
              <a:off x="3881520" y="468288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6"/>
            <p:cNvSpPr/>
            <p:nvPr/>
          </p:nvSpPr>
          <p:spPr>
            <a:xfrm>
              <a:off x="3348000" y="5063760"/>
              <a:ext cx="380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7"/>
          <p:cNvGrpSpPr/>
          <p:nvPr/>
        </p:nvGrpSpPr>
        <p:grpSpPr>
          <a:xfrm>
            <a:off x="228600" y="2133720"/>
            <a:ext cx="2514600" cy="3657600"/>
            <a:chOff x="228600" y="2133720"/>
            <a:chExt cx="2514600" cy="3657600"/>
          </a:xfrm>
        </p:grpSpPr>
        <p:sp>
          <p:nvSpPr>
            <p:cNvPr id="806" name="Rectangle 68"/>
            <p:cNvSpPr/>
            <p:nvPr/>
          </p:nvSpPr>
          <p:spPr>
            <a:xfrm>
              <a:off x="228600" y="2438280"/>
              <a:ext cx="3808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9"/>
            <p:cNvSpPr/>
            <p:nvPr/>
          </p:nvSpPr>
          <p:spPr>
            <a:xfrm>
              <a:off x="685800" y="213372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70"/>
            <p:cNvSpPr/>
            <p:nvPr/>
          </p:nvSpPr>
          <p:spPr>
            <a:xfrm>
              <a:off x="685800" y="525780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 = </a:t>
              </a:r>
              <a:r>
                <a:rPr b="1" lang="ar-SA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منت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 = </a:t>
              </a:r>
              <a:r>
                <a:rPr b="1" lang="ar-SA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سو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8"/>
          <p:cNvSpPr/>
          <p:nvPr/>
        </p:nvSpPr>
        <p:spPr>
          <a:xfrm>
            <a:off x="1504800" y="2857680"/>
            <a:ext cx="60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2060"/>
                </a:solidFill>
                <a:latin typeface="Arial"/>
                <a:cs typeface="PT Bold Heading"/>
              </a:rPr>
              <a:t>تجزئة السو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8"/>
          <p:cNvSpPr/>
          <p:nvPr/>
        </p:nvSpPr>
        <p:spPr>
          <a:xfrm>
            <a:off x="1643040" y="0"/>
            <a:ext cx="60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عريف السو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1158840" y="960480"/>
            <a:ext cx="6781680" cy="6673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جموعة من المستهلكين 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حتاج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و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راغب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و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قادر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على شراء السلع المعروضة عليهم ، ولديهم 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سلطة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في اتخاذ القرار بالشر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1071720" y="428760"/>
            <a:ext cx="714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شروط الواجب توافرها في المستهلكين لكي يطلق عليهم س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500040" y="2077920"/>
            <a:ext cx="814392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حاج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للمنتج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مدرج ماسلو للحاجات الإنساني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رغب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في الشراء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رغبة هي وسيلة إشباع الحاج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قدر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على الشراء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تشكل الطلب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سلط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اتخاذ القرار بالشراء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متخذ القرار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8"/>
          <p:cNvSpPr/>
          <p:nvPr/>
        </p:nvSpPr>
        <p:spPr>
          <a:xfrm>
            <a:off x="1000080" y="1496880"/>
            <a:ext cx="7000920" cy="642600"/>
          </a:xfrm>
          <a:prstGeom prst="rect">
            <a:avLst/>
          </a:prstGeom>
          <a:solidFill>
            <a:srgbClr val="ffc000"/>
          </a:solidFill>
          <a:ln w="442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سو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6620040" y="3711600"/>
            <a:ext cx="206676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سوق المستهلك النهائ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285840" y="3714840"/>
            <a:ext cx="220968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سوق المستهلك التج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رابط كسهم مستقيم 31"/>
          <p:cNvCxnSpPr/>
          <p:nvPr/>
        </p:nvCxnSpPr>
        <p:spPr>
          <a:xfrm>
            <a:off x="7609320" y="2142720"/>
            <a:ext cx="34200" cy="15692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رابط كسهم مستقيم 32"/>
          <p:cNvCxnSpPr/>
          <p:nvPr/>
        </p:nvCxnSpPr>
        <p:spPr>
          <a:xfrm>
            <a:off x="1428840" y="2142720"/>
            <a:ext cx="33840" cy="15692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عنصر نائب لرقم الشريحة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E4B4-5C99-44C6-813B-4ED7BD289DD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57200" y="2157480"/>
            <a:ext cx="8229600" cy="39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35520" indent="-235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4800" spc="-1" strike="noStrike">
                <a:solidFill>
                  <a:srgbClr val="a3171e"/>
                </a:solidFill>
                <a:latin typeface="Tahoma"/>
                <a:cs typeface="PT Bold Heading"/>
              </a:rPr>
              <a:t>عدم التجزئة </a:t>
            </a: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PT Bold Heading"/>
              </a:rPr>
              <a:t>(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ea typeface="PT Bold Heading"/>
              </a:rPr>
              <a:t> الأسواق الموحدة</a:t>
            </a: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PT Bold Heading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ahoma"/>
                <a:cs typeface="PT Bold Heading"/>
              </a:rPr>
              <a:t>تجزئة الســوق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PT Bold Heading"/>
              </a:rPr>
              <a:t> </a:t>
            </a:r>
            <a:r>
              <a:rPr b="1" lang="ar-SA" sz="4800" spc="-1" strike="noStrike">
                <a:solidFill>
                  <a:srgbClr val="006600"/>
                </a:solidFill>
                <a:latin typeface="Tahoma"/>
                <a:cs typeface="PT Bold Heading"/>
              </a:rPr>
              <a:t>استراتيجية التركيــز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PT Bold Heading"/>
              </a:rPr>
              <a:t>استرايتجيات التعامل مع الأسواق</a:t>
            </a:r>
            <a:endParaRPr b="1" lang="en-US" sz="40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تجزئة السو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C84F-F572-4824-B0A8-3E66B37D9FC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"/>
          <p:cNvSpPr/>
          <p:nvPr/>
        </p:nvSpPr>
        <p:spPr>
          <a:xfrm rot="5400000">
            <a:off x="6448320" y="2152440"/>
            <a:ext cx="561960" cy="2695680"/>
          </a:xfrm>
          <a:prstGeom prst="cube">
            <a:avLst>
              <a:gd name="adj" fmla="val 16074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"/>
          <p:cNvSpPr/>
          <p:nvPr/>
        </p:nvSpPr>
        <p:spPr>
          <a:xfrm rot="5400000">
            <a:off x="6450120" y="2623680"/>
            <a:ext cx="558720" cy="2695680"/>
          </a:xfrm>
          <a:prstGeom prst="cube">
            <a:avLst>
              <a:gd name="adj" fmla="val 16074"/>
            </a:avLst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4"/>
          <p:cNvSpPr/>
          <p:nvPr/>
        </p:nvSpPr>
        <p:spPr>
          <a:xfrm rot="5400000">
            <a:off x="6476400" y="3069360"/>
            <a:ext cx="506160" cy="2695680"/>
          </a:xfrm>
          <a:prstGeom prst="cube">
            <a:avLst>
              <a:gd name="adj" fmla="val 16074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5"/>
          <p:cNvSpPr/>
          <p:nvPr/>
        </p:nvSpPr>
        <p:spPr>
          <a:xfrm rot="5400000">
            <a:off x="6450120" y="3986280"/>
            <a:ext cx="558720" cy="2695680"/>
          </a:xfrm>
          <a:prstGeom prst="cube">
            <a:avLst>
              <a:gd name="adj" fmla="val 16074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6"/>
          <p:cNvSpPr/>
          <p:nvPr/>
        </p:nvSpPr>
        <p:spPr>
          <a:xfrm rot="5400000">
            <a:off x="6450120" y="4459320"/>
            <a:ext cx="558720" cy="2695680"/>
          </a:xfrm>
          <a:prstGeom prst="cube">
            <a:avLst>
              <a:gd name="adj" fmla="val 16074"/>
            </a:avLst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7"/>
          <p:cNvSpPr/>
          <p:nvPr/>
        </p:nvSpPr>
        <p:spPr>
          <a:xfrm rot="5400000">
            <a:off x="6469200" y="4910040"/>
            <a:ext cx="520560" cy="2695680"/>
          </a:xfrm>
          <a:prstGeom prst="cube">
            <a:avLst>
              <a:gd name="adj" fmla="val 16074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 rot="5400000">
            <a:off x="1694160" y="995760"/>
            <a:ext cx="946080" cy="2643480"/>
          </a:xfrm>
          <a:prstGeom prst="cube">
            <a:avLst>
              <a:gd name="adj" fmla="val 10384"/>
            </a:avLst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لمزيج التسو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9"/>
          <p:cNvSpPr/>
          <p:nvPr/>
        </p:nvSpPr>
        <p:spPr>
          <a:xfrm rot="5400000">
            <a:off x="1482840" y="4432320"/>
            <a:ext cx="1404720" cy="2643120"/>
          </a:xfrm>
          <a:prstGeom prst="cube">
            <a:avLst>
              <a:gd name="adj" fmla="val 10384"/>
            </a:avLst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لمزيج التسو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/>
          <p:cNvSpPr/>
          <p:nvPr/>
        </p:nvSpPr>
        <p:spPr>
          <a:xfrm rot="5400000">
            <a:off x="1900800" y="2108880"/>
            <a:ext cx="622440" cy="2697120"/>
          </a:xfrm>
          <a:prstGeom prst="cube">
            <a:avLst>
              <a:gd name="adj" fmla="val 16074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مزيج تسويقي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1"/>
          <p:cNvSpPr/>
          <p:nvPr/>
        </p:nvSpPr>
        <p:spPr>
          <a:xfrm rot="5400000">
            <a:off x="1931040" y="2612160"/>
            <a:ext cx="561960" cy="2697120"/>
          </a:xfrm>
          <a:prstGeom prst="cube">
            <a:avLst>
              <a:gd name="adj" fmla="val 16074"/>
            </a:avLst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مزيج تسويقي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2"/>
          <p:cNvSpPr/>
          <p:nvPr/>
        </p:nvSpPr>
        <p:spPr>
          <a:xfrm rot="5400000">
            <a:off x="1938960" y="3078720"/>
            <a:ext cx="546120" cy="2697120"/>
          </a:xfrm>
          <a:prstGeom prst="cube">
            <a:avLst>
              <a:gd name="adj" fmla="val 16074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مزيج تسويقي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 rot="5400000">
            <a:off x="6204960" y="987120"/>
            <a:ext cx="961920" cy="2644920"/>
          </a:xfrm>
          <a:prstGeom prst="cube">
            <a:avLst>
              <a:gd name="adj" fmla="val 10384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لسو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4"/>
          <p:cNvSpPr/>
          <p:nvPr/>
        </p:nvSpPr>
        <p:spPr>
          <a:xfrm>
            <a:off x="3390840" y="2394000"/>
            <a:ext cx="1968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5"/>
          <p:cNvSpPr/>
          <p:nvPr/>
        </p:nvSpPr>
        <p:spPr>
          <a:xfrm>
            <a:off x="3495600" y="3484440"/>
            <a:ext cx="188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6"/>
          <p:cNvSpPr/>
          <p:nvPr/>
        </p:nvSpPr>
        <p:spPr>
          <a:xfrm>
            <a:off x="3495600" y="3921120"/>
            <a:ext cx="188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7"/>
          <p:cNvSpPr/>
          <p:nvPr/>
        </p:nvSpPr>
        <p:spPr>
          <a:xfrm>
            <a:off x="3495600" y="4402080"/>
            <a:ext cx="188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3373560" y="5754600"/>
            <a:ext cx="2003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3838680" y="1857240"/>
            <a:ext cx="1338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  <a:cs typeface="Tahoma"/>
              </a:rPr>
              <a:t>عدم التجزئ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3709440" y="3071880"/>
            <a:ext cx="14421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  <a:cs typeface="Tahoma"/>
              </a:rPr>
              <a:t>تجزئة السو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4034880" y="5286240"/>
            <a:ext cx="84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  <a:cs typeface="Tahoma"/>
              </a:rPr>
              <a:t>التركي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سترايتجيات التعامل مع الأسواق</a:t>
            </a:r>
            <a:endParaRPr b="1" lang="en-US" sz="36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8"/>
          <p:cNvSpPr/>
          <p:nvPr/>
        </p:nvSpPr>
        <p:spPr>
          <a:xfrm>
            <a:off x="1643040" y="3071880"/>
            <a:ext cx="60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أهمية تجزئة السو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40:12Z</dcterms:modified>
  <cp:revision>317</cp:revision>
  <dc:subject/>
  <dc:title>الشريحة 1</dc:title>
</cp:coreProperties>
</file>