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CHIMES.WAV" ContentType="audio/x-wav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2B15-9AA0-48AA-BB56-8DAABC92AB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A3A4-1FAB-4F64-A38B-3BD69F06B8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72C9-1FD8-4E66-AE8B-638E29A141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22F0-E928-48E3-862E-523A9D28E1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B49-20C6-4BBC-8F57-2ED336F6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16E-1A04-48F0-AB6B-CA0453E6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FA750-C12C-4929-BD6C-9CAB3682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AF9CC-5F4E-43AE-946B-740FB8ED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78DF0-3C54-42E6-996D-2EEFE88A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1CEBF-B7B3-4B62-B441-D917C787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B72D9-4891-40B0-9D31-16409AF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2183C-4008-4A67-BBF0-487B5B86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D3F0A-44DC-4424-A033-E4F3F44F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8A361-2394-49B8-B13A-E5784BC5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4B430-51AE-4375-AC5D-A88C47B5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EFC6B-0299-450F-9508-EAAED35B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E52-35C2-4C33-86B6-970C9532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FF20E-2B3B-4D52-9245-42BD1905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B4728-B5AC-4BDA-AA65-7B9F4937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1E099-9ADC-47FF-BE25-00CA7868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39E58-FE48-4A16-AD48-B5C59DA7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F0934-1756-449D-A423-E9566B10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17C2D-60E0-4FA2-A4D9-4F513DE9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BB8EB-5B43-40D4-B2E9-41DBD53B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990BB-3CC9-453F-A7D8-582B718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9F682-7012-4B0C-A1EB-AE3F20E7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D9972-DE1D-4EA2-99CB-C0465928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6CF-5B79-4429-9EF9-284DE429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CFB99-D1FA-47EA-8D45-62530D3E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054C6-CD1B-4B08-BFCF-4E253C4E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4CD7E-451E-4405-8C0E-71C3F4C4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C5A29-ED60-4F04-850F-35249786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9BAC4-F99A-44B5-9427-C4B82916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D2A25-5565-44C6-A669-97D40BED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8FC34-D264-44B8-874D-C497F49E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5AC9F-B212-44B5-9E08-C38913DA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18015-D6AB-4A69-8B2A-20FA46E7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72B03-755E-4F20-BE22-CC04BE5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9969-3748-4642-8A1A-62BC3080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44B7C-9A40-4441-9DCE-F3FE1FC7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F3D0E-CC99-4269-8B25-7FCB297C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9C071-152F-48CA-A0F7-65BF04D4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703AE-0225-4160-8B77-1A2FEFD0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F59DA-4D33-43B4-9F84-093B6AB2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E5A3-7339-4419-9ED5-C42DB82D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FB762-AB56-40FD-9CC6-FF9880F1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6ADFF-FF7D-40FE-A02F-C638FAE5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38C1E-BACE-4C79-B769-4856004A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EE1EF-A88A-4172-82FD-E4B013E6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EB52-F6A9-4336-919D-4F82AB79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E29E5-139F-4465-9482-6B52EEA0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1D6DE-3445-4B05-A073-24F465FB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FDB04-C5D1-44AE-AADE-A83E8F3A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EF567-D659-460A-96AD-12000A2A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DCEF0-B882-42CA-AD30-CC8423A2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AC79-2DF0-485D-A2F5-22B40442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961E-739A-4F42-9C46-8F112070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277E-EA1C-4DE7-943A-052576DC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9F8A-BFCF-4CDA-9D28-C11D2764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B537-83AF-4A1E-AC2B-531A45E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E28-014F-4BA4-8077-1CC0979F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5F5A-1D66-479D-A4F0-12606F3A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7F9A-864A-4D2A-AA0C-ADCF9AA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35FE-848B-4091-BE53-9684C5F5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1E5C-13D1-4125-8BF1-52E9B2E8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EFDB-46D7-47EA-B5BB-17225B88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E485-0473-4DF8-A0B6-1C2C5418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1B09-0B58-4789-81CB-847B8F2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14F8-5518-4CA0-9F80-E5C72B48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1459-8197-485D-981F-716EB02F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6579-35C8-4478-B662-E81FE601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2CE-C00B-4596-A0D6-BFFDCD51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1444-8AE5-4A24-A354-A13C84A9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889DD-5E42-4954-9E0E-FDFDAFC1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4B02-89BD-4693-8013-EB82245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6776-B41C-417A-945C-4D98395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E944-87CD-434B-9D72-40446665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B9F5-B23B-4E2D-8202-EF545E6C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FC81-A1F5-4B03-B0A6-72132069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02A6-3CCF-432A-91E1-73DFFF09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A90E-E343-43C4-861B-D1283714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7C819-512D-4242-87C5-4C51B17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D31-F471-4D88-8C4E-AA54877E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F5F9F-B6B1-45BB-8F0C-D2CB6364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04AE-F99D-463F-A5F0-FB8185B7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354F-C75E-475C-A2E6-11E3B76B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81DF-FE77-4CC2-A72D-062193F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76F7-61F2-42DA-9E18-251FD08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7C2D-F364-4322-BB42-523E84A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A084-C855-4B0D-B1E5-49FB8573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7226-98C2-40AB-B399-05255B80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FAD78-422C-4B07-A5BB-AA43F4FD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FEE8C-7DEF-4822-8EF5-BE9D98C2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AC3-B6BC-4BD5-B4EE-8B5F79B6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6B44-34C5-4DDC-95DD-6D2F76F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0CCA-7F81-4A73-96D4-DC6653BF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5D83D-B295-4C69-985C-69966326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3D3F-2028-4250-AFA6-A142EAB3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CF67A-EF3C-49E6-BF99-69416683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97DFE-2326-4972-9443-4A79E637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4DF2-C393-4876-AF60-59EE2FF0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4814-DB37-4BA2-B97F-577D9D9F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2483-ABD6-40C2-B8C0-C7AB837E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A7B30-4AC4-42D6-B908-D784A3F7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E39-A5C7-4BD8-8949-9FD7C62A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0642-03E5-4CE1-BD3E-58C44EEB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29BBF-26CB-4D61-A87C-C8D49305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A5D76-6921-4F36-B4A6-98727255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706D-EE03-4235-8AD9-8A948BC5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E56D-05CE-4CD3-8D00-14F1DD42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ECF7-2992-40B0-9897-36A66FE4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8C86A-72D5-43F5-8905-C1BCE66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09CD6-065A-4D2F-B8AE-2C8ED848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5176-CEA7-4902-B83F-4868A304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D3FB6-F26E-4EFA-BB09-0C5B00B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0AE-B40A-45DE-9B68-DDF2E842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DDEEC-A165-47D7-8313-699A0FCD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68414-D0FA-4454-A40A-9E07B4BB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984C4-D9AC-442E-B9C0-0117B230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C8248-EFBE-45CA-9A90-AE5185B5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D7EE9-1F52-452F-B671-073E4688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801C-AA47-47C1-9ABC-25A5D889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209C4-CE78-435A-AC02-0B18E556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F5E2E-A3C8-4137-9D78-34EE311B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300B0-49C7-465B-AF5B-B9A261E4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2151B-5FA3-42B5-AECA-73D9D030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3FE-476E-4451-AD78-D481965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CC9F2-FEC6-4CB0-9F6C-E068E11A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966E-7C94-413D-BA31-4BEF36AB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3592-CE31-4A59-AB14-3F1C25BC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74BD-8DE0-41D8-8442-F14326A3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1E980-FDE9-40E6-8960-4D2F6A2C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C98A2-3BAE-4F85-AE5D-399E2462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B6385-266D-4093-AF28-B2AB201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B8C10-8595-4AB3-94CE-422EE4C9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45477-99B8-43B0-8E19-01D68D71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F7396-3A5A-447D-A8D4-CC4C3CFB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528-0571-4BEE-95AB-F475D7A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E2A08-314F-4265-97EC-3D666938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872D4-5B03-44A7-B216-BB12108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814CC-9191-43A0-BEF8-F7CC0F5E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D6B37-7575-47AD-9825-1D98D220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B1956-185E-483A-9023-3DD4CEEE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8761-987C-4646-8FB2-3CB3DFF2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5C77F-0B1D-453D-99D2-247181A2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7F98B-67AE-4161-BDD5-C3DB18F3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FEB1D-B208-42A0-93E5-0884CE7E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6770C-39EE-4E38-9370-C4B7E8D1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A5E5-6914-4FFB-9822-E7235CF02E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ED15-1496-434B-891E-69C53B5893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11C4-FF47-4E72-A723-6B0A3372EA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77CF-00F9-4748-B157-F39336C135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95C5-5187-40FA-8210-85714419BC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C35-3719-4816-B289-5C919FECCE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E662-B224-483C-A239-DA3B41EED0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972-95E5-4F23-B21A-6BA75255E6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5C8B-0683-4934-8C41-C7AAB29F65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23FA-FBB9-4D5F-9CBF-D5A541A6ED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FE2C-4FCA-4B89-BFE1-77FDFDDB75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77AA-CACD-4A9F-AD14-C3B1F8DAFB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شكل بيضاوي 4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مربع نص 5"/>
          <p:cNvSpPr/>
          <p:nvPr/>
        </p:nvSpPr>
        <p:spPr>
          <a:xfrm>
            <a:off x="655560" y="1758960"/>
            <a:ext cx="10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8"/>
          <p:cNvSpPr/>
          <p:nvPr/>
        </p:nvSpPr>
        <p:spPr>
          <a:xfrm>
            <a:off x="1714680" y="434880"/>
            <a:ext cx="60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فرق بين المستهلك والعمي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1357200" y="1459080"/>
            <a:ext cx="6782040" cy="916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هل كل مستهلك عميل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1362240" y="3465360"/>
            <a:ext cx="67816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عمي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هو الذي يشتري المنتج بصفة منتظمة من محل معين ، وبالتالي فهو عميل (زبون المحل) 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ما </a:t>
            </a: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ستهلك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فهو أيضاً يشتري المنتج ، ولكنه ليس لديه ولاء لمحل معين عندما يقوم ب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1357200" y="2503440"/>
            <a:ext cx="6782040" cy="916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لا .. لا .. ل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show_file3"/>
          <p:cNvPicPr/>
          <p:nvPr/>
        </p:nvPicPr>
        <p:blipFill>
          <a:blip r:embed="rId1"/>
          <a:stretch/>
        </p:blipFill>
        <p:spPr>
          <a:xfrm>
            <a:off x="-542880" y="-469800"/>
            <a:ext cx="10229760" cy="77976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8"/>
          <p:cNvSpPr/>
          <p:nvPr/>
        </p:nvSpPr>
        <p:spPr>
          <a:xfrm>
            <a:off x="1000080" y="603360"/>
            <a:ext cx="70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فهم سلوك (السوق) المستهلك هو أحد الأسس التي يعتمد عليها نجاح العلاقة التبادلية في التسوي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1362240" y="2500200"/>
            <a:ext cx="67816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حيث يساهم في بناء الاستراتيجيات التسويقية المتعلقة بالمنتج والسعر والتوزيع و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بما يحقق رضاء المستهلك (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PT Bold Heading"/>
              </a:rPr>
              <a:t>الملك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14384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8"/>
          <p:cNvSpPr/>
          <p:nvPr/>
        </p:nvSpPr>
        <p:spPr>
          <a:xfrm>
            <a:off x="1719360" y="28584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تعريف سلوك المستهل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1214280" y="1293840"/>
            <a:ext cx="67820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سلوك المستهلك ه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2d050"/>
                </a:solidFill>
                <a:latin typeface="Arial"/>
                <a:cs typeface="PT Bold Heading"/>
              </a:rPr>
              <a:t>تصرفات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ستهل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عند </a:t>
            </a:r>
            <a:r>
              <a:rPr b="0" lang="ar-SA" sz="4000" spc="-1" strike="noStrike">
                <a:solidFill>
                  <a:srgbClr val="00b0f0"/>
                </a:solidFill>
                <a:latin typeface="Arial"/>
                <a:cs typeface="PT Bold Heading"/>
              </a:rPr>
              <a:t>البحث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أو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4000" spc="-1" strike="noStrike">
                <a:solidFill>
                  <a:srgbClr val="e61893"/>
                </a:solidFill>
                <a:latin typeface="Arial"/>
                <a:cs typeface="PT Bold Heading"/>
              </a:rPr>
              <a:t>الشراء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أو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4000" spc="-1" strike="noStrike">
                <a:solidFill>
                  <a:srgbClr val="00b050"/>
                </a:solidFill>
                <a:latin typeface="Arial"/>
                <a:cs typeface="PT Bold Heading"/>
              </a:rPr>
              <a:t>الاستخدام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أو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4000" spc="-1" strike="noStrike">
                <a:solidFill>
                  <a:srgbClr val="d27d00"/>
                </a:solidFill>
                <a:latin typeface="Arial"/>
                <a:cs typeface="PT Bold Heading"/>
              </a:rPr>
              <a:t>التقييم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للمنتجات التي يتوقع منها أن تشبع حاجاته ورغباته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وكذلك كيفية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4000" spc="-1" strike="noStrike">
                <a:solidFill>
                  <a:srgbClr val="7030a0"/>
                </a:solidFill>
                <a:latin typeface="Arial"/>
                <a:cs typeface="PT Bold Heading"/>
              </a:rPr>
              <a:t>تخلصه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منها بعد ذلك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8"/>
          <p:cNvSpPr/>
          <p:nvPr/>
        </p:nvSpPr>
        <p:spPr>
          <a:xfrm>
            <a:off x="642960" y="157320"/>
            <a:ext cx="78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أسئلة التي تجيب عليها دراسة سلوك المستهل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1214280" y="1428840"/>
            <a:ext cx="67820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ن الذي يشتري؟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تحديد العميل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اذا يشتري؟ (ا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لمنتجات التي يستخدمها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لماذا يشتري منتجات بعينها؟ (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دوافع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كيف يشتري؟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فردياً أم جماعياً؟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نقداً أم تقسيطاً؟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متى يشتري؟ (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صباحا/مساء/ في العطلات/ في المناسبات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ين يشتري؟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أي الأسواق أو المحلات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كيف يستخدم المنتج؟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هل من استخدامات جديد؟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كيف يقيم المنتج؟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معايير التقييم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كيف يتخلص من المنتج؟ ولماذا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 rot="20398800">
            <a:off x="390240" y="546480"/>
            <a:ext cx="12308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سؤا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1933560" y="1143000"/>
            <a:ext cx="60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هل السلوك الإنساني عشوائياً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1214280" y="2286000"/>
            <a:ext cx="67820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c00000"/>
                </a:solidFill>
                <a:latin typeface="Arial"/>
                <a:cs typeface="PT Bold Heading"/>
              </a:rPr>
              <a:t>لا .. لا.. ل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70c0"/>
                </a:solidFill>
                <a:latin typeface="Arial"/>
                <a:cs typeface="PT Bold Heading"/>
              </a:rPr>
              <a:t>السلوك الإنساني نشاط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غائي</a:t>
            </a:r>
            <a:r>
              <a:rPr b="0" lang="ar-SA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، يستهدف تحقيق غاية وهي إشباع حاجات المستهلك ورغبات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8"/>
          <p:cNvSpPr/>
          <p:nvPr/>
        </p:nvSpPr>
        <p:spPr>
          <a:xfrm>
            <a:off x="1576440" y="1357200"/>
            <a:ext cx="606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مراحل عملية اتخاذ القرار الشرائي والاستهلاكي والعوامل المؤثرة على سلوك المستهل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مجموعة 40"/>
          <p:cNvGrpSpPr/>
          <p:nvPr/>
        </p:nvGrpSpPr>
        <p:grpSpPr>
          <a:xfrm>
            <a:off x="0" y="11160"/>
            <a:ext cx="10001160" cy="7275600"/>
            <a:chOff x="0" y="11160"/>
            <a:chExt cx="10001160" cy="7275600"/>
          </a:xfrm>
        </p:grpSpPr>
        <p:pic>
          <p:nvPicPr>
            <p:cNvPr id="687" name="Picture 5" descr="show_file3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10001160" cy="72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8"/>
            <p:cNvSpPr/>
            <p:nvPr/>
          </p:nvSpPr>
          <p:spPr>
            <a:xfrm>
              <a:off x="1710720" y="188280"/>
              <a:ext cx="598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نموذج سلوك المستهلك النهائ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3734640" y="1126440"/>
              <a:ext cx="2042640" cy="2040840"/>
            </a:xfrm>
            <a:prstGeom prst="rect">
              <a:avLst/>
            </a:prstGeom>
            <a:solidFill>
              <a:srgbClr val="f2a4a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وامل السيكولوجية (النفسية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دواف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درا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تعل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شخص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اتجاه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8"/>
            <p:cNvSpPr/>
            <p:nvPr/>
          </p:nvSpPr>
          <p:spPr>
            <a:xfrm>
              <a:off x="1128600" y="732240"/>
              <a:ext cx="2122200" cy="2040840"/>
            </a:xfrm>
            <a:prstGeom prst="rect">
              <a:avLst/>
            </a:prstGeom>
            <a:solidFill>
              <a:srgbClr val="d3ee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وامل الاجتماع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أسر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طبقة الاجتماع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جماعات المرجع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قادة الرأ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مستهلكون الابتكاريو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5988600" y="1208880"/>
              <a:ext cx="2530800" cy="155412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وامل الثقاف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ثقافة العامة للمجتم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ثقافات الفرعية للمجتم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8"/>
            <p:cNvSpPr/>
            <p:nvPr/>
          </p:nvSpPr>
          <p:spPr>
            <a:xfrm>
              <a:off x="6904080" y="4654080"/>
              <a:ext cx="1986120" cy="16765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وامل الموقف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</a:t>
              </a:r>
              <a:r>
                <a:rPr b="0" lang="ar-SA" sz="14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وقت الشرا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بيئة الشرا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شروط الشرا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حالة المزاجية للمستهل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8"/>
            <p:cNvSpPr/>
            <p:nvPr/>
          </p:nvSpPr>
          <p:spPr>
            <a:xfrm>
              <a:off x="2889360" y="4219560"/>
              <a:ext cx="3695400" cy="2197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6600"/>
                  </a:solidFill>
                  <a:latin typeface="Arial"/>
                  <a:cs typeface="PT Bold Heading"/>
                </a:rPr>
                <a:t>القرار الشرائي للمستهل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3d6aa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3d6aa8"/>
                  </a:solidFill>
                  <a:latin typeface="Arial"/>
                  <a:ea typeface="PT Bold Heading"/>
                </a:rPr>
                <a:t> </a:t>
              </a: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إدراك الحاج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تحديد البدائل المتاحة وتقييم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اتخاذ قرار الشر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الشراء الفع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ما بعد الشر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4" name="رابط كسهم مستقيم 23"/>
            <p:cNvCxnSpPr>
              <a:stCxn id="689" idx="2"/>
            </p:cNvCxnSpPr>
            <p:nvPr/>
          </p:nvCxnSpPr>
          <p:spPr>
            <a:xfrm>
              <a:off x="4755600" y="3150360"/>
              <a:ext cx="34920" cy="1040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5" name="رابط كسهم مستقيم 25"/>
            <p:cNvCxnSpPr>
              <a:stCxn id="691" idx="2"/>
            </p:cNvCxnSpPr>
            <p:nvPr/>
          </p:nvCxnSpPr>
          <p:spPr>
            <a:xfrm flipH="1">
              <a:off x="5917320" y="2750040"/>
              <a:ext cx="1337400" cy="1454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رابط كسهم مستقيم 27"/>
            <p:cNvCxnSpPr/>
            <p:nvPr/>
          </p:nvCxnSpPr>
          <p:spPr>
            <a:xfrm flipH="1" flipV="1">
              <a:off x="6551640" y="5379840"/>
              <a:ext cx="3528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7" name="رابط كسهم مستقيم 29"/>
            <p:cNvCxnSpPr>
              <a:stCxn id="690" idx="2"/>
            </p:cNvCxnSpPr>
            <p:nvPr/>
          </p:nvCxnSpPr>
          <p:spPr>
            <a:xfrm>
              <a:off x="2188800" y="2514960"/>
              <a:ext cx="1616040" cy="1675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8" name="رابط مستقيم 63"/>
          <p:cNvSpPr/>
          <p:nvPr/>
        </p:nvSpPr>
        <p:spPr>
          <a:xfrm flipH="1" flipV="1">
            <a:off x="6000840" y="1571760"/>
            <a:ext cx="2571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رابط مستقيم 65"/>
          <p:cNvSpPr/>
          <p:nvPr/>
        </p:nvSpPr>
        <p:spPr>
          <a:xfrm flipH="1" flipV="1">
            <a:off x="3786120" y="1642680"/>
            <a:ext cx="20001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رابط مستقيم 67"/>
          <p:cNvSpPr/>
          <p:nvPr/>
        </p:nvSpPr>
        <p:spPr>
          <a:xfrm flipH="1" flipV="1">
            <a:off x="1071360" y="1071360"/>
            <a:ext cx="214308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رابط مستقيم 70"/>
          <p:cNvSpPr/>
          <p:nvPr/>
        </p:nvSpPr>
        <p:spPr>
          <a:xfrm flipH="1">
            <a:off x="6928920" y="5214960"/>
            <a:ext cx="200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رابط مستقيم 80"/>
          <p:cNvSpPr/>
          <p:nvPr/>
        </p:nvSpPr>
        <p:spPr>
          <a:xfrm flipH="1" flipV="1">
            <a:off x="2857680" y="4714920"/>
            <a:ext cx="3714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326880" y="4676760"/>
            <a:ext cx="2071800" cy="1310760"/>
          </a:xfrm>
          <a:prstGeom prst="rect">
            <a:avLst/>
          </a:prstGeom>
          <a:solidFill>
            <a:srgbClr val="92d05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62626"/>
                </a:solidFill>
                <a:latin typeface="Arial"/>
                <a:cs typeface="PT Bold Heading"/>
              </a:rPr>
              <a:t>المعل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مصادر تجار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مصادر اجتماع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رابط مستقيم 26"/>
          <p:cNvSpPr/>
          <p:nvPr/>
        </p:nvSpPr>
        <p:spPr>
          <a:xfrm flipH="1" flipV="1">
            <a:off x="357120" y="5070600"/>
            <a:ext cx="2000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رابط كسهم مستقيم 28"/>
          <p:cNvCxnSpPr/>
          <p:nvPr/>
        </p:nvCxnSpPr>
        <p:spPr>
          <a:xfrm flipV="1">
            <a:off x="2398320" y="5357520"/>
            <a:ext cx="459720" cy="1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8"/>
          <p:cNvSpPr/>
          <p:nvPr/>
        </p:nvSpPr>
        <p:spPr>
          <a:xfrm>
            <a:off x="1785960" y="428760"/>
            <a:ext cx="60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مراحل القرار الشرائي والاستهلاك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642960" y="256716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d6a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d6aa8"/>
                </a:solidFill>
                <a:latin typeface="Arial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إدراك الحاج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تحديد البدائل المتاحة وتقييم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اتخاذ قرار الشر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شراء الفع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ما بعد الشر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8"/>
          <p:cNvSpPr/>
          <p:nvPr/>
        </p:nvSpPr>
        <p:spPr>
          <a:xfrm>
            <a:off x="1719360" y="14292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ً: العوامل السيكول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1214280" y="9288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دواف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1214280" y="1571760"/>
            <a:ext cx="678204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دوافع هي المحرك لإشباع الحاجة وهي مرحلة وسط بين الشعور بالحاجة والسلوك الشر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1214280" y="3286080"/>
            <a:ext cx="6782040" cy="204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فعندما ينقص مستوى إشباع الحاجة لدى الفرد يتحرك الدافع لدى المستهلك بالبحث عن السلع والخدمات التي تشبع هذه الحاج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1214280" y="5000760"/>
            <a:ext cx="6782040" cy="204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وتتعدد الحاجات الإنسانية: حاجات أساسية – الحاجة للأمن – الحاجات الاجتماعية – الحاجة للاحترام – الحاجة لتقدير الذات (ماسل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AD40-64F0-4732-8AEB-4FC4A9C8CAD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900" spc="-1" strike="noStrike">
                <a:solidFill>
                  <a:srgbClr val="002060"/>
                </a:solidFill>
                <a:latin typeface="Lucida Sans Unicode"/>
              </a:rPr>
              <a:t>مدرج ماسلو للحاجات الإنسانية</a:t>
            </a:r>
            <a:endParaRPr b="1" lang="en-US" sz="59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20" name="Group 3"/>
          <p:cNvGrpSpPr/>
          <p:nvPr/>
        </p:nvGrpSpPr>
        <p:grpSpPr>
          <a:xfrm>
            <a:off x="196920" y="5797080"/>
            <a:ext cx="8750160" cy="901800"/>
            <a:chOff x="196920" y="5797080"/>
            <a:chExt cx="8750160" cy="901800"/>
          </a:xfrm>
        </p:grpSpPr>
        <p:sp>
          <p:nvSpPr>
            <p:cNvPr id="721" name="AutoShape 4"/>
            <p:cNvSpPr/>
            <p:nvPr/>
          </p:nvSpPr>
          <p:spPr>
            <a:xfrm flipV="1">
              <a:off x="196920" y="5796360"/>
              <a:ext cx="8750160" cy="901800"/>
            </a:xfrm>
            <a:prstGeom prst="pi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Psychologic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حاجات فسي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5"/>
            <p:cNvSpPr/>
            <p:nvPr/>
          </p:nvSpPr>
          <p:spPr>
            <a:xfrm>
              <a:off x="762120" y="6095880"/>
              <a:ext cx="44424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6"/>
          <p:cNvGrpSpPr/>
          <p:nvPr/>
        </p:nvGrpSpPr>
        <p:grpSpPr>
          <a:xfrm>
            <a:off x="920880" y="4882680"/>
            <a:ext cx="7302240" cy="901800"/>
            <a:chOff x="920880" y="4882680"/>
            <a:chExt cx="7302240" cy="901800"/>
          </a:xfrm>
        </p:grpSpPr>
        <p:sp>
          <p:nvSpPr>
            <p:cNvPr id="724" name="AutoShape 7"/>
            <p:cNvSpPr/>
            <p:nvPr/>
          </p:nvSpPr>
          <p:spPr>
            <a:xfrm flipV="1">
              <a:off x="920880" y="4881960"/>
              <a:ext cx="7302240" cy="901800"/>
            </a:xfrm>
            <a:prstGeom prst="pie">
              <a:avLst/>
            </a:prstGeom>
            <a:solidFill>
              <a:srgbClr val="01ffea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afet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أمـــ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1523880" y="51055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9"/>
          <p:cNvGrpSpPr/>
          <p:nvPr/>
        </p:nvGrpSpPr>
        <p:grpSpPr>
          <a:xfrm>
            <a:off x="1758960" y="3968280"/>
            <a:ext cx="5626080" cy="901800"/>
            <a:chOff x="1758960" y="3968280"/>
            <a:chExt cx="5626080" cy="901800"/>
          </a:xfrm>
        </p:grpSpPr>
        <p:sp>
          <p:nvSpPr>
            <p:cNvPr id="727" name="AutoShape 10"/>
            <p:cNvSpPr/>
            <p:nvPr/>
          </p:nvSpPr>
          <p:spPr>
            <a:xfrm flipV="1">
              <a:off x="1758960" y="3967560"/>
              <a:ext cx="5626080" cy="90180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oci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انتمــ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2209680" y="42670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2521080" y="3053880"/>
            <a:ext cx="4101840" cy="901800"/>
            <a:chOff x="2521080" y="3053880"/>
            <a:chExt cx="4101840" cy="901800"/>
          </a:xfrm>
        </p:grpSpPr>
        <p:sp>
          <p:nvSpPr>
            <p:cNvPr id="730" name="AutoShape 13"/>
            <p:cNvSpPr/>
            <p:nvPr/>
          </p:nvSpPr>
          <p:spPr>
            <a:xfrm flipV="1">
              <a:off x="2521080" y="3053520"/>
              <a:ext cx="4101840" cy="901800"/>
            </a:xfrm>
            <a:prstGeom prst="pie">
              <a:avLst/>
            </a:prstGeom>
            <a:solidFill>
              <a:srgbClr val="da1f28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Esteem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تحقيق المكان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3079800" y="31543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5"/>
          <p:cNvGrpSpPr/>
          <p:nvPr/>
        </p:nvGrpSpPr>
        <p:grpSpPr>
          <a:xfrm>
            <a:off x="3282840" y="1301760"/>
            <a:ext cx="2578320" cy="1739880"/>
            <a:chOff x="3282840" y="1301760"/>
            <a:chExt cx="2578320" cy="1739880"/>
          </a:xfrm>
        </p:grpSpPr>
        <p:sp>
          <p:nvSpPr>
            <p:cNvPr id="733" name="AutoShape 16"/>
            <p:cNvSpPr/>
            <p:nvPr/>
          </p:nvSpPr>
          <p:spPr>
            <a:xfrm>
              <a:off x="3282840" y="1301760"/>
              <a:ext cx="2578320" cy="1739880"/>
            </a:xfrm>
            <a:prstGeom prst="triangle">
              <a:avLst>
                <a:gd name="adj" fmla="val 49995"/>
              </a:avLst>
            </a:prstGeom>
            <a:solidFill>
              <a:srgbClr val="fcfeb9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elf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e0f04"/>
                  </a:solidFill>
                  <a:latin typeface="Tahoma"/>
                  <a:cs typeface="Tahoma"/>
                </a:rPr>
                <a:t>تحقيق الذ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4343400" y="15238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1214280" y="1500120"/>
            <a:ext cx="6782040" cy="5031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تتحول الحاجات غير المشبعة إلى منافع تشبع هذه الحاجة ثم يبحث المستهلك عن منتجات تحقق هذه المناف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1719360" y="14292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حويل الحاجات إلى مناف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رابط كسهم مستقيم 19"/>
          <p:cNvCxnSpPr>
            <a:stCxn id="594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رابط كسهم مستقيم 27"/>
          <p:cNvCxnSpPr>
            <a:stCxn id="598" idx="0"/>
            <a:endCxn id="597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07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5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رابط كسهم مستقيم 48"/>
          <p:cNvCxnSpPr>
            <a:endCxn id="598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4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5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6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BEF4-A2AD-4078-8F09-8C99F763369F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Lucida Sans Unicode"/>
              </a:rPr>
              <a:t>مدرج ماسلو للحاجات</a:t>
            </a:r>
            <a:endParaRPr b="1" lang="en-US" sz="48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196920" y="5797080"/>
            <a:ext cx="8750160" cy="901800"/>
            <a:chOff x="196920" y="5797080"/>
            <a:chExt cx="8750160" cy="901800"/>
          </a:xfrm>
        </p:grpSpPr>
        <p:sp>
          <p:nvSpPr>
            <p:cNvPr id="742" name="AutoShape 4"/>
            <p:cNvSpPr/>
            <p:nvPr/>
          </p:nvSpPr>
          <p:spPr>
            <a:xfrm flipV="1">
              <a:off x="196920" y="5796360"/>
              <a:ext cx="8750160" cy="901800"/>
            </a:xfrm>
            <a:prstGeom prst="pi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Psychologic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حاجات فسي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5"/>
            <p:cNvSpPr/>
            <p:nvPr/>
          </p:nvSpPr>
          <p:spPr>
            <a:xfrm>
              <a:off x="762120" y="6095880"/>
              <a:ext cx="44424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6"/>
          <p:cNvGrpSpPr/>
          <p:nvPr/>
        </p:nvGrpSpPr>
        <p:grpSpPr>
          <a:xfrm>
            <a:off x="920880" y="4882680"/>
            <a:ext cx="7302240" cy="901800"/>
            <a:chOff x="920880" y="4882680"/>
            <a:chExt cx="7302240" cy="901800"/>
          </a:xfrm>
        </p:grpSpPr>
        <p:sp>
          <p:nvSpPr>
            <p:cNvPr id="745" name="AutoShape 7"/>
            <p:cNvSpPr/>
            <p:nvPr/>
          </p:nvSpPr>
          <p:spPr>
            <a:xfrm flipV="1">
              <a:off x="920880" y="4881960"/>
              <a:ext cx="7302240" cy="901800"/>
            </a:xfrm>
            <a:prstGeom prst="pie">
              <a:avLst/>
            </a:prstGeom>
            <a:solidFill>
              <a:srgbClr val="01ffea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afet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أمـــ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1523880" y="51055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9"/>
          <p:cNvGrpSpPr/>
          <p:nvPr/>
        </p:nvGrpSpPr>
        <p:grpSpPr>
          <a:xfrm>
            <a:off x="1758960" y="3968280"/>
            <a:ext cx="5626080" cy="901800"/>
            <a:chOff x="1758960" y="3968280"/>
            <a:chExt cx="5626080" cy="901800"/>
          </a:xfrm>
        </p:grpSpPr>
        <p:sp>
          <p:nvSpPr>
            <p:cNvPr id="748" name="AutoShape 10"/>
            <p:cNvSpPr/>
            <p:nvPr/>
          </p:nvSpPr>
          <p:spPr>
            <a:xfrm flipV="1">
              <a:off x="1758960" y="3967560"/>
              <a:ext cx="5626080" cy="90180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oci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انتمــ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2209680" y="42670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2"/>
          <p:cNvGrpSpPr/>
          <p:nvPr/>
        </p:nvGrpSpPr>
        <p:grpSpPr>
          <a:xfrm>
            <a:off x="2521080" y="3053880"/>
            <a:ext cx="4101840" cy="901800"/>
            <a:chOff x="2521080" y="3053880"/>
            <a:chExt cx="4101840" cy="901800"/>
          </a:xfrm>
        </p:grpSpPr>
        <p:sp>
          <p:nvSpPr>
            <p:cNvPr id="751" name="AutoShape 13"/>
            <p:cNvSpPr/>
            <p:nvPr/>
          </p:nvSpPr>
          <p:spPr>
            <a:xfrm flipV="1">
              <a:off x="2521080" y="3053520"/>
              <a:ext cx="4101840" cy="901800"/>
            </a:xfrm>
            <a:prstGeom prst="pie">
              <a:avLst/>
            </a:prstGeom>
            <a:solidFill>
              <a:srgbClr val="da1f28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Esteem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تحقيق المكان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3079800" y="31543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5"/>
          <p:cNvGrpSpPr/>
          <p:nvPr/>
        </p:nvGrpSpPr>
        <p:grpSpPr>
          <a:xfrm>
            <a:off x="3282840" y="1301760"/>
            <a:ext cx="2578320" cy="1739880"/>
            <a:chOff x="3282840" y="1301760"/>
            <a:chExt cx="2578320" cy="1739880"/>
          </a:xfrm>
        </p:grpSpPr>
        <p:sp>
          <p:nvSpPr>
            <p:cNvPr id="754" name="AutoShape 16"/>
            <p:cNvSpPr/>
            <p:nvPr/>
          </p:nvSpPr>
          <p:spPr>
            <a:xfrm>
              <a:off x="3282840" y="1301760"/>
              <a:ext cx="2578320" cy="1739880"/>
            </a:xfrm>
            <a:prstGeom prst="triangle">
              <a:avLst>
                <a:gd name="adj" fmla="val 49995"/>
              </a:avLst>
            </a:prstGeom>
            <a:solidFill>
              <a:srgbClr val="fcfeb9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elf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e0f04"/>
                  </a:solidFill>
                  <a:latin typeface="Tahoma"/>
                  <a:cs typeface="Tahoma"/>
                </a:rPr>
                <a:t>تحقيق الذ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4343400" y="15238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6B6F-CAF0-4B2C-87CA-90FDBE69A93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900" spc="-1" strike="noStrike">
                <a:solidFill>
                  <a:srgbClr val="002060"/>
                </a:solidFill>
                <a:latin typeface="Lucida Sans Unicode"/>
              </a:rPr>
              <a:t>مدرج ماسلو للحاجات الإنسانية</a:t>
            </a:r>
            <a:endParaRPr b="1" lang="en-US" sz="59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59" name="Group 3"/>
          <p:cNvGrpSpPr/>
          <p:nvPr/>
        </p:nvGrpSpPr>
        <p:grpSpPr>
          <a:xfrm>
            <a:off x="196920" y="5797080"/>
            <a:ext cx="8750160" cy="901800"/>
            <a:chOff x="196920" y="5797080"/>
            <a:chExt cx="8750160" cy="901800"/>
          </a:xfrm>
        </p:grpSpPr>
        <p:sp>
          <p:nvSpPr>
            <p:cNvPr id="760" name="AutoShape 4"/>
            <p:cNvSpPr/>
            <p:nvPr/>
          </p:nvSpPr>
          <p:spPr>
            <a:xfrm flipV="1">
              <a:off x="196920" y="5796360"/>
              <a:ext cx="8750160" cy="901800"/>
            </a:xfrm>
            <a:prstGeom prst="pi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Psychologic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حاجات فسي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5"/>
            <p:cNvSpPr/>
            <p:nvPr/>
          </p:nvSpPr>
          <p:spPr>
            <a:xfrm>
              <a:off x="762120" y="6095880"/>
              <a:ext cx="44424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6"/>
          <p:cNvGrpSpPr/>
          <p:nvPr/>
        </p:nvGrpSpPr>
        <p:grpSpPr>
          <a:xfrm>
            <a:off x="920880" y="4882680"/>
            <a:ext cx="7302240" cy="901800"/>
            <a:chOff x="920880" y="4882680"/>
            <a:chExt cx="7302240" cy="901800"/>
          </a:xfrm>
        </p:grpSpPr>
        <p:sp>
          <p:nvSpPr>
            <p:cNvPr id="763" name="AutoShape 7"/>
            <p:cNvSpPr/>
            <p:nvPr/>
          </p:nvSpPr>
          <p:spPr>
            <a:xfrm flipV="1">
              <a:off x="920880" y="4881960"/>
              <a:ext cx="7302240" cy="901800"/>
            </a:xfrm>
            <a:prstGeom prst="pie">
              <a:avLst/>
            </a:prstGeom>
            <a:solidFill>
              <a:srgbClr val="01ffea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afet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أمـــ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1523880" y="51055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1758960" y="3968280"/>
            <a:ext cx="5626080" cy="901800"/>
            <a:chOff x="1758960" y="3968280"/>
            <a:chExt cx="5626080" cy="901800"/>
          </a:xfrm>
        </p:grpSpPr>
        <p:sp>
          <p:nvSpPr>
            <p:cNvPr id="766" name="AutoShape 10"/>
            <p:cNvSpPr/>
            <p:nvPr/>
          </p:nvSpPr>
          <p:spPr>
            <a:xfrm flipV="1">
              <a:off x="1758960" y="3967560"/>
              <a:ext cx="5626080" cy="90180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oci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انتمــ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2209680" y="42670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12"/>
          <p:cNvGrpSpPr/>
          <p:nvPr/>
        </p:nvGrpSpPr>
        <p:grpSpPr>
          <a:xfrm>
            <a:off x="2521080" y="3053880"/>
            <a:ext cx="4101840" cy="901800"/>
            <a:chOff x="2521080" y="3053880"/>
            <a:chExt cx="4101840" cy="901800"/>
          </a:xfrm>
        </p:grpSpPr>
        <p:sp>
          <p:nvSpPr>
            <p:cNvPr id="769" name="AutoShape 13"/>
            <p:cNvSpPr/>
            <p:nvPr/>
          </p:nvSpPr>
          <p:spPr>
            <a:xfrm flipV="1">
              <a:off x="2521080" y="3053520"/>
              <a:ext cx="4101840" cy="901800"/>
            </a:xfrm>
            <a:prstGeom prst="pie">
              <a:avLst/>
            </a:prstGeom>
            <a:solidFill>
              <a:srgbClr val="da1f28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Esteem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تحقيق المكان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3079800" y="31543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15"/>
          <p:cNvGrpSpPr/>
          <p:nvPr/>
        </p:nvGrpSpPr>
        <p:grpSpPr>
          <a:xfrm>
            <a:off x="3282840" y="1301760"/>
            <a:ext cx="2578320" cy="1739880"/>
            <a:chOff x="3282840" y="1301760"/>
            <a:chExt cx="2578320" cy="1739880"/>
          </a:xfrm>
        </p:grpSpPr>
        <p:sp>
          <p:nvSpPr>
            <p:cNvPr id="772" name="AutoShape 16"/>
            <p:cNvSpPr/>
            <p:nvPr/>
          </p:nvSpPr>
          <p:spPr>
            <a:xfrm>
              <a:off x="3282840" y="1301760"/>
              <a:ext cx="2578320" cy="1739880"/>
            </a:xfrm>
            <a:prstGeom prst="triangle">
              <a:avLst>
                <a:gd name="adj" fmla="val 49995"/>
              </a:avLst>
            </a:prstGeom>
            <a:solidFill>
              <a:srgbClr val="fcfeb9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elf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e0f04"/>
                  </a:solidFill>
                  <a:latin typeface="Tahoma"/>
                  <a:cs typeface="Tahoma"/>
                </a:rPr>
                <a:t>تحقيق الذ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4343400" y="15238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8"/>
          <p:cNvSpPr/>
          <p:nvPr/>
        </p:nvSpPr>
        <p:spPr>
          <a:xfrm>
            <a:off x="928800" y="14292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حويل الحاجات إلى منافع ومنتج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500040" y="1214280"/>
          <a:ext cx="8143920" cy="5434200"/>
        </p:xfrm>
        <a:graphic>
          <a:graphicData uri="http://schemas.openxmlformats.org/drawingml/2006/table">
            <a:tbl>
              <a:tblPr/>
              <a:tblGrid>
                <a:gridCol w="3130560"/>
                <a:gridCol w="2298600"/>
                <a:gridCol w="2714760"/>
              </a:tblGrid>
              <a:tr h="93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نت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نف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ياه - مشرو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رتواء من العط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 إلى الشرا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نظم الأمان – أحزمة الأ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فظ النف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 إلى الأ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نوادي – الموباي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داقة (مثلا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ات الاجتماع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سيارات الفخمة – المجوهر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نيل احترام النا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 إلى المكا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كتب – التعل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بتك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 إلى تحقيق الذ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9C3E-FB72-4520-9EA6-6379E4D3746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900" spc="-1" strike="noStrike">
                <a:solidFill>
                  <a:srgbClr val="002060"/>
                </a:solidFill>
                <a:latin typeface="Lucida Sans Unicode"/>
              </a:rPr>
              <a:t>مدرج ماسلو للحاجات الإنسانية</a:t>
            </a:r>
            <a:endParaRPr b="1" lang="en-US" sz="59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196920" y="5797080"/>
            <a:ext cx="8750160" cy="901800"/>
            <a:chOff x="196920" y="5797080"/>
            <a:chExt cx="8750160" cy="901800"/>
          </a:xfrm>
        </p:grpSpPr>
        <p:sp>
          <p:nvSpPr>
            <p:cNvPr id="781" name="AutoShape 4"/>
            <p:cNvSpPr/>
            <p:nvPr/>
          </p:nvSpPr>
          <p:spPr>
            <a:xfrm flipV="1">
              <a:off x="196920" y="5796360"/>
              <a:ext cx="8750160" cy="901800"/>
            </a:xfrm>
            <a:prstGeom prst="pi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Psychologic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حاجات فسي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5"/>
            <p:cNvSpPr/>
            <p:nvPr/>
          </p:nvSpPr>
          <p:spPr>
            <a:xfrm>
              <a:off x="762120" y="6095880"/>
              <a:ext cx="44424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6"/>
          <p:cNvGrpSpPr/>
          <p:nvPr/>
        </p:nvGrpSpPr>
        <p:grpSpPr>
          <a:xfrm>
            <a:off x="920880" y="4882680"/>
            <a:ext cx="7302240" cy="901800"/>
            <a:chOff x="920880" y="4882680"/>
            <a:chExt cx="7302240" cy="901800"/>
          </a:xfrm>
        </p:grpSpPr>
        <p:sp>
          <p:nvSpPr>
            <p:cNvPr id="784" name="AutoShape 7"/>
            <p:cNvSpPr/>
            <p:nvPr/>
          </p:nvSpPr>
          <p:spPr>
            <a:xfrm flipV="1">
              <a:off x="920880" y="4881960"/>
              <a:ext cx="7302240" cy="901800"/>
            </a:xfrm>
            <a:prstGeom prst="pie">
              <a:avLst/>
            </a:prstGeom>
            <a:solidFill>
              <a:srgbClr val="01ffea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afet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أمـــ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8"/>
            <p:cNvSpPr/>
            <p:nvPr/>
          </p:nvSpPr>
          <p:spPr>
            <a:xfrm>
              <a:off x="1523880" y="51055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9"/>
          <p:cNvGrpSpPr/>
          <p:nvPr/>
        </p:nvGrpSpPr>
        <p:grpSpPr>
          <a:xfrm>
            <a:off x="1758960" y="3968280"/>
            <a:ext cx="5626080" cy="901800"/>
            <a:chOff x="1758960" y="3968280"/>
            <a:chExt cx="5626080" cy="901800"/>
          </a:xfrm>
        </p:grpSpPr>
        <p:sp>
          <p:nvSpPr>
            <p:cNvPr id="787" name="AutoShape 10"/>
            <p:cNvSpPr/>
            <p:nvPr/>
          </p:nvSpPr>
          <p:spPr>
            <a:xfrm flipV="1">
              <a:off x="1758960" y="3967560"/>
              <a:ext cx="5626080" cy="90180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oci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انتمــ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1"/>
            <p:cNvSpPr/>
            <p:nvPr/>
          </p:nvSpPr>
          <p:spPr>
            <a:xfrm>
              <a:off x="2209680" y="42670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2"/>
          <p:cNvGrpSpPr/>
          <p:nvPr/>
        </p:nvGrpSpPr>
        <p:grpSpPr>
          <a:xfrm>
            <a:off x="2521080" y="3053880"/>
            <a:ext cx="4101840" cy="901800"/>
            <a:chOff x="2521080" y="3053880"/>
            <a:chExt cx="4101840" cy="901800"/>
          </a:xfrm>
        </p:grpSpPr>
        <p:sp>
          <p:nvSpPr>
            <p:cNvPr id="790" name="AutoShape 13"/>
            <p:cNvSpPr/>
            <p:nvPr/>
          </p:nvSpPr>
          <p:spPr>
            <a:xfrm flipV="1">
              <a:off x="2521080" y="3053520"/>
              <a:ext cx="4101840" cy="901800"/>
            </a:xfrm>
            <a:prstGeom prst="pie">
              <a:avLst/>
            </a:prstGeom>
            <a:solidFill>
              <a:srgbClr val="da1f28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Esteem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تحقيق المكان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4"/>
            <p:cNvSpPr/>
            <p:nvPr/>
          </p:nvSpPr>
          <p:spPr>
            <a:xfrm>
              <a:off x="3079800" y="31543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15"/>
          <p:cNvGrpSpPr/>
          <p:nvPr/>
        </p:nvGrpSpPr>
        <p:grpSpPr>
          <a:xfrm>
            <a:off x="3282840" y="1301760"/>
            <a:ext cx="2578320" cy="1739880"/>
            <a:chOff x="3282840" y="1301760"/>
            <a:chExt cx="2578320" cy="1739880"/>
          </a:xfrm>
        </p:grpSpPr>
        <p:sp>
          <p:nvSpPr>
            <p:cNvPr id="793" name="AutoShape 16"/>
            <p:cNvSpPr/>
            <p:nvPr/>
          </p:nvSpPr>
          <p:spPr>
            <a:xfrm>
              <a:off x="3282840" y="1301760"/>
              <a:ext cx="2578320" cy="1739880"/>
            </a:xfrm>
            <a:prstGeom prst="triangle">
              <a:avLst>
                <a:gd name="adj" fmla="val 49995"/>
              </a:avLst>
            </a:prstGeom>
            <a:solidFill>
              <a:srgbClr val="fcfeb9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elf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e0f04"/>
                  </a:solidFill>
                  <a:latin typeface="Tahoma"/>
                  <a:cs typeface="Tahoma"/>
                </a:rPr>
                <a:t>تحقيق الذ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7"/>
            <p:cNvSpPr/>
            <p:nvPr/>
          </p:nvSpPr>
          <p:spPr>
            <a:xfrm>
              <a:off x="4343400" y="15238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8"/>
          <p:cNvSpPr/>
          <p:nvPr/>
        </p:nvSpPr>
        <p:spPr>
          <a:xfrm>
            <a:off x="1719360" y="142920"/>
            <a:ext cx="60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دور الدافع في عملية إشباع الحاج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1214280" y="1714680"/>
            <a:ext cx="6782040" cy="5031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ستهلك عندما تنشأ لديه حاجة غير مشبعة يتكون لديه </a:t>
            </a: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دافع</a:t>
            </a: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PT Bold Heading"/>
              </a:rPr>
              <a:t> للبحث عن منتجات تحقق المنافع التي تشبع هذه الحا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عنصر نائب لرقم الشريحة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1675-C09C-4458-9F1D-DCA8B8F0BDA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0080" y="341280"/>
            <a:ext cx="714852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Tahoma"/>
                <a:cs typeface="Tahoma"/>
              </a:rPr>
              <a:t>أنواع الدوافع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أولية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انتقائية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عقلية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عاطفية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تعامل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01" name="Picture 4" descr="PE01682_"/>
          <p:cNvPicPr/>
          <p:nvPr/>
        </p:nvPicPr>
        <p:blipFill>
          <a:blip r:embed="rId1"/>
          <a:stretch/>
        </p:blipFill>
        <p:spPr>
          <a:xfrm>
            <a:off x="507960" y="1295280"/>
            <a:ext cx="3911760" cy="5276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8"/>
          <p:cNvSpPr/>
          <p:nvPr/>
        </p:nvSpPr>
        <p:spPr>
          <a:xfrm>
            <a:off x="357120" y="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61893"/>
                </a:solidFill>
                <a:latin typeface="Arial"/>
                <a:cs typeface="PT Bold Heading"/>
              </a:rPr>
              <a:t>النفس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1719360" y="785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دراك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1214280" y="1428840"/>
            <a:ext cx="6782040" cy="100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لإدراك هو عملية تلقي المعلومات وتنظيمها وتحديد معنى ل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"/>
          <p:cNvSpPr/>
          <p:nvPr/>
        </p:nvSpPr>
        <p:spPr>
          <a:xfrm>
            <a:off x="1214280" y="2643120"/>
            <a:ext cx="678204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يعتمد إدراكنا لما نتلقاه من رسائل على خبراتنا الساب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1214280" y="3786120"/>
            <a:ext cx="6782040" cy="3263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نحن ندرك الرسائل التسويقية التي تصل إليها بشكل انتقائي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إدراك الانتقائي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)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ويعني ذلك: الانتباه للمثيرات القوية – إدراك ما يتفق مع ما نعرفه من معلومات – الاحتفاظ بجزء يسير من هذه الرسائل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احتفاظ الانتقائي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) – كما أن المستهلك قد يفهم الرسالة على غير ما قصده المسوق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خلل الانتقائي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) لذا يحرص المسوقون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أن يكون الخلل عند حده الأد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سهم منحني إلى اليسار 11"/>
          <p:cNvSpPr/>
          <p:nvPr/>
        </p:nvSpPr>
        <p:spPr>
          <a:xfrm>
            <a:off x="8429760" y="0"/>
            <a:ext cx="928440" cy="1143000"/>
          </a:xfrm>
          <a:custGeom>
            <a:avLst/>
            <a:gdLst>
              <a:gd name="textAreaLeft" fmla="*/ 124200 w 928440"/>
              <a:gd name="textAreaRight" fmla="*/ 804240 w 92844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solidFill>
            <a:srgbClr val="08de2c"/>
          </a:solidFill>
          <a:ln w="381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Lucida Sans Unicode"/>
              </a:rPr>
              <a:t>نستنتج مما سبق اختلاف الأفراد في طريقة إدراك نفس المثير وبالتالي في رد الفعل اتجاه هذا المثير حسب: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AutoShape 4"/>
          <p:cNvSpPr/>
          <p:nvPr/>
        </p:nvSpPr>
        <p:spPr>
          <a:xfrm>
            <a:off x="4356000" y="2281320"/>
            <a:ext cx="3745080" cy="718920"/>
          </a:xfrm>
          <a:prstGeom prst="roundRect">
            <a:avLst>
              <a:gd name="adj" fmla="val 16667"/>
            </a:avLst>
          </a:prstGeom>
          <a:solidFill>
            <a:srgbClr val="9f6b03"/>
          </a:solidFill>
          <a:ln w="101520">
            <a:solidFill>
              <a:srgbClr val="ffcc00"/>
            </a:solidFill>
            <a:miter/>
          </a:ln>
          <a:effectLst>
            <a:outerShdw dist="107932" dir="2700000" blurRad="0" rotWithShape="0">
              <a:srgbClr val="4646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عمليات الإدراك الثلاث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5"/>
          <p:cNvSpPr/>
          <p:nvPr/>
        </p:nvSpPr>
        <p:spPr>
          <a:xfrm>
            <a:off x="3348000" y="5210280"/>
            <a:ext cx="3745080" cy="647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101520">
            <a:solidFill>
              <a:srgbClr val="ffcc00"/>
            </a:solidFill>
            <a:miter/>
          </a:ln>
          <a:effectLst>
            <a:outerShdw dist="107932" dir="2700000" blurRad="0" rotWithShape="0">
              <a:srgbClr val="4646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خلل الانتقائي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6"/>
          <p:cNvSpPr/>
          <p:nvPr/>
        </p:nvSpPr>
        <p:spPr>
          <a:xfrm>
            <a:off x="3348000" y="3281400"/>
            <a:ext cx="3745080" cy="647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01520">
            <a:solidFill>
              <a:srgbClr val="ffcc00"/>
            </a:solidFill>
            <a:miter/>
          </a:ln>
          <a:effectLst>
            <a:outerShdw dist="107932" dir="2700000" blurRad="0" rotWithShape="0">
              <a:srgbClr val="4646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إدراك الانتق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7"/>
          <p:cNvSpPr/>
          <p:nvPr/>
        </p:nvSpPr>
        <p:spPr>
          <a:xfrm>
            <a:off x="3348000" y="4208400"/>
            <a:ext cx="3745080" cy="72072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101520">
            <a:solidFill>
              <a:srgbClr val="ffcc00"/>
            </a:solidFill>
            <a:miter/>
          </a:ln>
          <a:effectLst>
            <a:outerShdw dist="107932" dir="2700000" blurRad="0" rotWithShape="0">
              <a:srgbClr val="4646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احتفاظ الانتقائ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14200" y="-214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8"/>
          <p:cNvSpPr/>
          <p:nvPr/>
        </p:nvSpPr>
        <p:spPr>
          <a:xfrm>
            <a:off x="357120" y="29196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61893"/>
                </a:solidFill>
                <a:latin typeface="Arial"/>
                <a:cs typeface="PT Bold Heading"/>
              </a:rPr>
              <a:t>النفس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8"/>
          <p:cNvSpPr/>
          <p:nvPr/>
        </p:nvSpPr>
        <p:spPr>
          <a:xfrm>
            <a:off x="1719360" y="15588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علم </a:t>
            </a:r>
            <a:r>
              <a:rPr b="0" lang="en-US" sz="3200" spc="-1" strike="noStrike">
                <a:solidFill>
                  <a:srgbClr val="23263c"/>
                </a:solidFill>
                <a:latin typeface="Arial"/>
                <a:ea typeface="PT Bold Heading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8"/>
          <p:cNvSpPr/>
          <p:nvPr/>
        </p:nvSpPr>
        <p:spPr>
          <a:xfrm>
            <a:off x="1214280" y="2779560"/>
            <a:ext cx="678204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يهدف المسوقون إلى ترك خبرات موجبة لدى المستهلك عن منتجاتهم (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تعلم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8"/>
          <p:cNvSpPr/>
          <p:nvPr/>
        </p:nvSpPr>
        <p:spPr>
          <a:xfrm>
            <a:off x="1214280" y="4259160"/>
            <a:ext cx="6782040" cy="180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تتحول هذه الخبرات الموجبة (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عاد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) مع الوقت إلى سلوك يدعم اتخاذ القرارات نحو شراء منتجات الشركة التي قامت بتعليم المسته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سهم منحني إلى اليسار 6"/>
          <p:cNvSpPr/>
          <p:nvPr/>
        </p:nvSpPr>
        <p:spPr>
          <a:xfrm>
            <a:off x="8429760" y="285840"/>
            <a:ext cx="928440" cy="1143000"/>
          </a:xfrm>
          <a:custGeom>
            <a:avLst/>
            <a:gdLst>
              <a:gd name="textAreaLeft" fmla="*/ 124200 w 928440"/>
              <a:gd name="textAreaRight" fmla="*/ 804240 w 92844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8"/>
          <p:cNvSpPr/>
          <p:nvPr/>
        </p:nvSpPr>
        <p:spPr>
          <a:xfrm>
            <a:off x="357120" y="29196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61893"/>
                </a:solidFill>
                <a:latin typeface="Arial"/>
                <a:cs typeface="PT Bold Heading"/>
              </a:rPr>
              <a:t>النفس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1719360" y="1214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اتجاهات </a:t>
            </a:r>
            <a:r>
              <a:rPr b="0" lang="en-US" sz="3200" spc="-1" strike="noStrike">
                <a:solidFill>
                  <a:srgbClr val="23263c"/>
                </a:solidFill>
                <a:latin typeface="Arial"/>
                <a:ea typeface="PT Bold Heading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8"/>
          <p:cNvSpPr/>
          <p:nvPr/>
        </p:nvSpPr>
        <p:spPr>
          <a:xfrm>
            <a:off x="1214280" y="1965240"/>
            <a:ext cx="67820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اتجاه هو استعداد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مكتسب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يجعل الفرد يقبل أو يرفض شيء معين بشكل ثا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1214280" y="3260880"/>
            <a:ext cx="6782040" cy="137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بصفة عامة تؤثر اتجاهات الفرد على سلوكه الشرائي حيث يميل الفرد إلى شراء ما يتوافق مع اتجاها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1214280" y="4429080"/>
            <a:ext cx="6782040" cy="308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من خصائص الاتجاه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للاتجاه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هدف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وهو الشيء الذين يتكون حوله الاتج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تميل الاتجاهات إلى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الاستقرار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وصعوبة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أنها قابلة ل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لتعم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يمكن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تغيير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اتجاهات ولكن تحتاج لوقت طو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سهم منحني إلى اليسار 9"/>
          <p:cNvSpPr/>
          <p:nvPr/>
        </p:nvSpPr>
        <p:spPr>
          <a:xfrm>
            <a:off x="8501040" y="214200"/>
            <a:ext cx="928800" cy="1143000"/>
          </a:xfrm>
          <a:custGeom>
            <a:avLst/>
            <a:gdLst>
              <a:gd name="textAreaLeft" fmla="*/ 124200 w 928800"/>
              <a:gd name="textAreaRight" fmla="*/ 804600 w 92880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عنصر نائب لرقم الشريحة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E7B9-10D5-4EB3-BE42-F61301C21935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2"/>
          <p:cNvGrpSpPr/>
          <p:nvPr/>
        </p:nvGrpSpPr>
        <p:grpSpPr>
          <a:xfrm>
            <a:off x="2195640" y="4076640"/>
            <a:ext cx="2539800" cy="2406600"/>
            <a:chOff x="2195640" y="4076640"/>
            <a:chExt cx="2539800" cy="2406600"/>
          </a:xfrm>
        </p:grpSpPr>
        <p:sp>
          <p:nvSpPr>
            <p:cNvPr id="829" name="Oval 3"/>
            <p:cNvSpPr/>
            <p:nvPr/>
          </p:nvSpPr>
          <p:spPr>
            <a:xfrm>
              <a:off x="2195640" y="4076640"/>
              <a:ext cx="2539800" cy="2406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ffff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4"/>
            <p:cNvSpPr/>
            <p:nvPr/>
          </p:nvSpPr>
          <p:spPr>
            <a:xfrm>
              <a:off x="2571840" y="5122800"/>
              <a:ext cx="1773000" cy="942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ffff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قابلة للتعم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5"/>
          <p:cNvGrpSpPr/>
          <p:nvPr/>
        </p:nvGrpSpPr>
        <p:grpSpPr>
          <a:xfrm>
            <a:off x="5435640" y="2133720"/>
            <a:ext cx="2463840" cy="2406600"/>
            <a:chOff x="5435640" y="2133720"/>
            <a:chExt cx="2463840" cy="2406600"/>
          </a:xfrm>
        </p:grpSpPr>
        <p:sp>
          <p:nvSpPr>
            <p:cNvPr id="832" name="Oval 6"/>
            <p:cNvSpPr/>
            <p:nvPr/>
          </p:nvSpPr>
          <p:spPr>
            <a:xfrm>
              <a:off x="5435640" y="2133720"/>
              <a:ext cx="2463840" cy="24066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ad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cc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7"/>
            <p:cNvSpPr/>
            <p:nvPr/>
          </p:nvSpPr>
          <p:spPr>
            <a:xfrm>
              <a:off x="5926320" y="3098880"/>
              <a:ext cx="141912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كتسـب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8"/>
          <p:cNvGrpSpPr/>
          <p:nvPr/>
        </p:nvGrpSpPr>
        <p:grpSpPr>
          <a:xfrm>
            <a:off x="4643280" y="4149720"/>
            <a:ext cx="2463840" cy="3076200"/>
            <a:chOff x="4643280" y="4149720"/>
            <a:chExt cx="2463840" cy="3076200"/>
          </a:xfrm>
        </p:grpSpPr>
        <p:sp>
          <p:nvSpPr>
            <p:cNvPr id="835" name="Oval 9"/>
            <p:cNvSpPr/>
            <p:nvPr/>
          </p:nvSpPr>
          <p:spPr>
            <a:xfrm>
              <a:off x="4643280" y="4149720"/>
              <a:ext cx="2463840" cy="24066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6db6b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8080"/>
              </a:solidFill>
              <a:miter/>
            </a:ln>
            <a:effectLst>
              <a:outerShdw dist="107932" dir="2700000" blurRad="0" rotWithShape="0">
                <a:srgbClr val="0099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0"/>
            <p:cNvSpPr/>
            <p:nvPr/>
          </p:nvSpPr>
          <p:spPr>
            <a:xfrm>
              <a:off x="4890960" y="4576680"/>
              <a:ext cx="17528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تخص شيء      معين (الهدف) ولها قوة ومسار نحوه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11"/>
          <p:cNvSpPr/>
          <p:nvPr/>
        </p:nvSpPr>
        <p:spPr>
          <a:xfrm>
            <a:off x="1619280" y="620640"/>
            <a:ext cx="7315200" cy="70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4646"/>
                </a:solidFill>
                <a:latin typeface="Arial"/>
                <a:cs typeface="Simplified Arabic"/>
              </a:rPr>
              <a:t>خصائص الاتجاهات</a:t>
            </a:r>
            <a:r>
              <a:rPr b="1" lang="en-US" sz="4400" spc="-1" strike="noStrike">
                <a:solidFill>
                  <a:srgbClr val="464646"/>
                </a:solidFill>
                <a:latin typeface="Arial"/>
                <a:ea typeface="Simplified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12"/>
          <p:cNvGrpSpPr/>
          <p:nvPr/>
        </p:nvGrpSpPr>
        <p:grpSpPr>
          <a:xfrm>
            <a:off x="3059280" y="1989000"/>
            <a:ext cx="2463480" cy="2406600"/>
            <a:chOff x="3059280" y="1989000"/>
            <a:chExt cx="2463480" cy="2406600"/>
          </a:xfrm>
        </p:grpSpPr>
        <p:sp>
          <p:nvSpPr>
            <p:cNvPr id="839" name="Oval 13"/>
            <p:cNvSpPr/>
            <p:nvPr/>
          </p:nvSpPr>
          <p:spPr>
            <a:xfrm>
              <a:off x="3059280" y="1989000"/>
              <a:ext cx="2463480" cy="2406600"/>
            </a:xfrm>
            <a:prstGeom prst="ellipse">
              <a:avLst/>
            </a:prstGeom>
            <a:gradFill rotWithShape="0">
              <a:gsLst>
                <a:gs pos="0">
                  <a:srgbClr val="2da2bf"/>
                </a:gs>
                <a:gs pos="100000">
                  <a:srgbClr val="b8e0e9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2da2bf"/>
              </a:solidFill>
              <a:miter/>
            </a:ln>
            <a:effectLst>
              <a:outerShdw dist="107932" dir="2700000" blurRad="0" rotWithShape="0">
                <a:srgbClr val="2da2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4"/>
            <p:cNvSpPr/>
            <p:nvPr/>
          </p:nvSpPr>
          <p:spPr>
            <a:xfrm>
              <a:off x="3319560" y="2857320"/>
              <a:ext cx="175212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تتصف بالثبات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def5fa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8"/>
          <p:cNvSpPr/>
          <p:nvPr/>
        </p:nvSpPr>
        <p:spPr>
          <a:xfrm>
            <a:off x="357120" y="36360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b641b"/>
                </a:solidFill>
                <a:latin typeface="Arial"/>
                <a:cs typeface="PT Bold Heading"/>
              </a:rPr>
              <a:t>الموقف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1214280" y="1558800"/>
            <a:ext cx="73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وقف الزمني للشراء (توقيت الشرا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1214280" y="2573280"/>
            <a:ext cx="678204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يتأثر قرار الشراء بتوقيت الشراء (</a:t>
            </a:r>
            <a:r>
              <a:rPr b="0" lang="ar-SA" sz="2000" spc="-1" strike="noStrike">
                <a:solidFill>
                  <a:srgbClr val="e61893"/>
                </a:solidFill>
                <a:latin typeface="Arial"/>
                <a:cs typeface="PT Bold Heading"/>
              </a:rPr>
              <a:t>موسم – أسبوع – يوم – ساعة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) حيث تؤثر أوقات الشراء على حجم الطلب على المنتج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1214280" y="4502160"/>
            <a:ext cx="6782040" cy="204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يؤثر الوقت المتاح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ضغوط الوقت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) على القرارات الشرائية للفرد : مثل الإقبال على الوجبات الجاهزة في حالة الاستعج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57120" y="-214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1504800" y="2857680"/>
            <a:ext cx="606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2060"/>
                </a:solidFill>
                <a:latin typeface="Arial"/>
                <a:cs typeface="PT Bold Heading"/>
              </a:rPr>
              <a:t>سلوك المستهلك النهائ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8"/>
          <p:cNvSpPr/>
          <p:nvPr/>
        </p:nvSpPr>
        <p:spPr>
          <a:xfrm>
            <a:off x="357120" y="36360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4000" spc="-1" strike="noStrike">
                <a:solidFill>
                  <a:srgbClr val="eb641b"/>
                </a:solidFill>
                <a:latin typeface="Arial"/>
                <a:cs typeface="PT Bold Heading"/>
              </a:rPr>
              <a:t>الموقف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1214280" y="1344600"/>
            <a:ext cx="735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عوامل المادية المحيطة بالموقف الشر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8"/>
          <p:cNvSpPr/>
          <p:nvPr/>
        </p:nvSpPr>
        <p:spPr>
          <a:xfrm>
            <a:off x="1214280" y="2287440"/>
            <a:ext cx="6782040" cy="423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تؤثر الظروف المادية المحيطة بالموقف بالمستهلك في موقف الشراء على القرارات الشرائية للمستهلك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ه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زح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ضوض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وسيق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سهم منحني إلى اليسار 5"/>
          <p:cNvSpPr/>
          <p:nvPr/>
        </p:nvSpPr>
        <p:spPr>
          <a:xfrm>
            <a:off x="8429760" y="0"/>
            <a:ext cx="928440" cy="1143000"/>
          </a:xfrm>
          <a:custGeom>
            <a:avLst/>
            <a:gdLst>
              <a:gd name="textAreaLeft" fmla="*/ 124200 w 928440"/>
              <a:gd name="textAreaRight" fmla="*/ 804240 w 92844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8"/>
          <p:cNvSpPr/>
          <p:nvPr/>
        </p:nvSpPr>
        <p:spPr>
          <a:xfrm>
            <a:off x="357120" y="36360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b641b"/>
                </a:solidFill>
                <a:latin typeface="Arial"/>
                <a:cs typeface="PT Bold Heading"/>
              </a:rPr>
              <a:t>الموقف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1214280" y="1344600"/>
            <a:ext cx="73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شروط الشر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8"/>
          <p:cNvSpPr/>
          <p:nvPr/>
        </p:nvSpPr>
        <p:spPr>
          <a:xfrm>
            <a:off x="1214280" y="2287440"/>
            <a:ext cx="6782040" cy="32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تؤثر شروط الشراء ومدى قبول المستهلك لها في موقف الشراء على القرارات الشرائية للمستهلك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ستخدام بطاقات الائتم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استعداد المستهلك لخدمة نفسه 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 المتج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سهم منحني إلى اليسار 5"/>
          <p:cNvSpPr/>
          <p:nvPr/>
        </p:nvSpPr>
        <p:spPr>
          <a:xfrm>
            <a:off x="8501040" y="285840"/>
            <a:ext cx="928800" cy="1143000"/>
          </a:xfrm>
          <a:custGeom>
            <a:avLst/>
            <a:gdLst>
              <a:gd name="textAreaLeft" fmla="*/ 124200 w 928800"/>
              <a:gd name="textAreaRight" fmla="*/ 804600 w 92880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8"/>
          <p:cNvSpPr/>
          <p:nvPr/>
        </p:nvSpPr>
        <p:spPr>
          <a:xfrm>
            <a:off x="357120" y="36360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4000" spc="-1" strike="noStrike">
                <a:solidFill>
                  <a:srgbClr val="eb641b"/>
                </a:solidFill>
                <a:latin typeface="Arial"/>
                <a:cs typeface="PT Bold Heading"/>
              </a:rPr>
              <a:t>الموقف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8"/>
          <p:cNvSpPr/>
          <p:nvPr/>
        </p:nvSpPr>
        <p:spPr>
          <a:xfrm>
            <a:off x="1214280" y="1344600"/>
            <a:ext cx="73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حالة المزاجية للمستهلك عند الشر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8"/>
          <p:cNvSpPr/>
          <p:nvPr/>
        </p:nvSpPr>
        <p:spPr>
          <a:xfrm>
            <a:off x="1214280" y="2214720"/>
            <a:ext cx="6782040" cy="423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تؤثر الحالة المزاجية للمستهلك في موقف الشراء على القرارات الشرائية للمستهلك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ع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عج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غض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ف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قل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سهم منحني إلى اليسار 5"/>
          <p:cNvSpPr/>
          <p:nvPr/>
        </p:nvSpPr>
        <p:spPr>
          <a:xfrm>
            <a:off x="8429760" y="0"/>
            <a:ext cx="928440" cy="1143000"/>
          </a:xfrm>
          <a:custGeom>
            <a:avLst/>
            <a:gdLst>
              <a:gd name="textAreaLeft" fmla="*/ 124200 w 928440"/>
              <a:gd name="textAreaRight" fmla="*/ 804240 w 92844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9"/>
          <p:cNvSpPr/>
          <p:nvPr/>
        </p:nvSpPr>
        <p:spPr>
          <a:xfrm>
            <a:off x="5670720" y="3648240"/>
            <a:ext cx="176364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نت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1785960" y="85716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يعتمد نجاح التسويق على نجاح العلاقة التبادلية بين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2571840" y="3643200"/>
            <a:ext cx="176364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سو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رابط منحني 68"/>
          <p:cNvCxnSpPr>
            <a:stCxn id="631" idx="0"/>
            <a:endCxn id="633" idx="0"/>
          </p:cNvCxnSpPr>
          <p:nvPr/>
        </p:nvCxnSpPr>
        <p:spPr>
          <a:xfrm flipV="1" rot="16200000">
            <a:off x="5000760" y="2095920"/>
            <a:ext cx="5760" cy="3099240"/>
          </a:xfrm>
          <a:prstGeom prst="curvedConnector5">
            <a:avLst>
              <a:gd name="adj1" fmla="val 4900000"/>
              <a:gd name="adj2" fmla="val 50000"/>
              <a:gd name="adj3" fmla="val 4900000"/>
            </a:avLst>
          </a:prstGeom>
          <a:ln w="55080">
            <a:solidFill>
              <a:srgbClr val="da1f28"/>
            </a:solidFill>
            <a:miter/>
            <a:tailEnd len="med" type="triangle" w="med"/>
          </a:ln>
        </p:spPr>
      </p:cxnSp>
      <p:cxnSp>
        <p:nvCxnSpPr>
          <p:cNvPr id="635" name="رابط منحني 71"/>
          <p:cNvCxnSpPr>
            <a:stCxn id="633" idx="2"/>
            <a:endCxn id="631" idx="2"/>
          </p:cNvCxnSpPr>
          <p:nvPr/>
        </p:nvCxnSpPr>
        <p:spPr>
          <a:xfrm flipH="1" rot="16200000">
            <a:off x="4965480" y="2985120"/>
            <a:ext cx="75240" cy="3099240"/>
          </a:xfrm>
          <a:prstGeom prst="curvedConnector5">
            <a:avLst>
              <a:gd name="adj1" fmla="val 406250"/>
              <a:gd name="adj2" fmla="val 50000"/>
              <a:gd name="adj3" fmla="val 406250"/>
            </a:avLst>
          </a:prstGeom>
          <a:ln w="5508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636" name="Text Box 9"/>
          <p:cNvSpPr/>
          <p:nvPr/>
        </p:nvSpPr>
        <p:spPr>
          <a:xfrm>
            <a:off x="2928960" y="2428920"/>
            <a:ext cx="412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سلع –خدمات - أفك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2928960" y="5241960"/>
            <a:ext cx="412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مقابل مادي أو معن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1504800" y="2678040"/>
            <a:ext cx="60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2060"/>
                </a:solidFill>
                <a:latin typeface="Arial"/>
                <a:cs typeface="PT Bold Heading"/>
              </a:rPr>
              <a:t>ما هو السوق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8"/>
          <p:cNvSpPr/>
          <p:nvPr/>
        </p:nvSpPr>
        <p:spPr>
          <a:xfrm>
            <a:off x="1643040" y="0"/>
            <a:ext cx="60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عريف السو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1158840" y="960480"/>
            <a:ext cx="6781680" cy="6673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جموعة من المستهلكين 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حتاج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و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راغب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و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قادر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على شراء السلع المعروضة عليهم ، ولديهم 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سلطة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في اتخاذ القرار بالشر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8"/>
          <p:cNvSpPr/>
          <p:nvPr/>
        </p:nvSpPr>
        <p:spPr>
          <a:xfrm>
            <a:off x="1071720" y="428760"/>
            <a:ext cx="714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شروط الواجب توافرها في المستهلكين لكي يطلق عليهم س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500040" y="2077920"/>
            <a:ext cx="814392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حاج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للمنتج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مدرج ماسلو للحاجات الإنساني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رغب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في الشراء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رغبة هي وسيلة إشباع الحاج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قدر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على الشراء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تشكل الطلب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سلط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اتخاذ القرار بالشراء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متخذ القرار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7"/>
          <p:cNvSpPr/>
          <p:nvPr/>
        </p:nvSpPr>
        <p:spPr>
          <a:xfrm rot="20398800">
            <a:off x="390240" y="546480"/>
            <a:ext cx="12308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سؤا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2076480" y="64296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ن هو المسته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1214280" y="2041560"/>
            <a:ext cx="67820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ستهلك هو مشتري السلعة أو الخد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(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ستهلك بصفة عامة هو من يقوم بشراء المنتجات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8"/>
          <p:cNvSpPr/>
          <p:nvPr/>
        </p:nvSpPr>
        <p:spPr>
          <a:xfrm>
            <a:off x="2000160" y="74124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مستهلك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1357200" y="2127240"/>
            <a:ext cx="67820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ستهلك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نهائي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ن يشتري المنتج بغرض الاستخدام الشخصي أو العائ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1362240" y="3786120"/>
            <a:ext cx="6781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ستهلك </a:t>
            </a:r>
            <a:r>
              <a:rPr b="0" lang="ar-SA" sz="3600" spc="-1" strike="noStrike">
                <a:solidFill>
                  <a:srgbClr val="d27d00"/>
                </a:solidFill>
                <a:latin typeface="Arial"/>
                <a:cs typeface="PT Bold Heading"/>
              </a:rPr>
              <a:t>التجاري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ن يشتري المنتج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بغرض التشغيل في العمليات الصناعية والزراعية والتجارية والخد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3:01Z</dcterms:modified>
  <cp:revision>339</cp:revision>
  <dc:subject/>
  <dc:title>الشريحة 1</dc:title>
</cp:coreProperties>
</file>