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CHIMES.WAV" ContentType="audio/x-wav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1BFD-C666-4F86-9B6B-2D35EAD383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EC73-FE9E-466B-9F11-D0B75E0B40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A61F-B64B-41B0-A595-821A110D14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F8BC-8ED2-42F0-A7C3-E0EDD913B8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E35-F4CF-4F6F-8438-78C0C0A9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A858-753C-43ED-857C-CE9FD6E6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D3472-EC19-41F3-9B44-27859870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42A2C-67F3-4FB9-BDA4-D2D282E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27557-C678-46E9-AF0C-A9116AE5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51365-04C1-4CDF-A1D6-5531059B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57A72-DAF1-45AC-983E-A2C98939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73693-E914-4AFB-8993-E9E05CAB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FBA00-F70A-4120-85B6-96026C5D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39086-AC2D-4670-B77C-67212E5F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F022D-B35F-4C6E-8824-F747EA1F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40360-BB8B-46AA-A6C0-308EB6C9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A55F-8D38-4CFF-9DC0-DB6E788B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F0D31-E9C2-41E3-823E-8D750F17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D863C-E769-4023-94EA-7E0B01A1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D6444-2505-42D4-8D8B-20A5DF6E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2E7D3-1503-4E73-804E-6450A2B2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8B256-D46B-45A9-B48A-66C49C9A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93AEAD-D0D0-4E21-AF68-47E9AA9E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306B8-2E31-42D9-AA85-C4D65D91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2B0B9-5AD3-4696-8903-6745987A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AF523-222B-4174-94CB-7317D2A6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DDBEF-C7D4-4BE1-8E32-6AAAECAC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1D5-C385-47E9-8F74-5B691668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4A4BE-4E84-4E20-B739-1A00B9D2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06E1B-6693-4D4E-B00F-4BF0A5F1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3DECC-C806-4BC9-9F9E-465775E9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E4B41-FCFD-4F36-B6DC-3699B444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97A28-6FDE-4DCC-B32B-ED4F3378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5EA78-7DFA-4A97-A0B2-1200765C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324B7-0C95-4227-892E-1FA53426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99497-B1A2-49F1-9C42-4200BD0D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81715-AE12-4516-89F8-2FA166B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05413-65EB-4982-AAEF-9A0B0C98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A78A-5C17-4242-9744-4A216BE1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E3DE9-3F1B-41ED-AC13-6328B947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D2E84-79C0-4947-B442-5F5DF0EE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CD053-BAD3-4B93-BE1B-9A03D3F9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6181C-3F07-4435-8602-316148AF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77E25-BB00-425A-8CF6-335AE361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C0997-A7B1-4985-94C2-DD5F2FA0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68A91-8D41-424D-A727-E3A84A99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B070F-100C-4C91-98F8-62EEEB3D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9D44C-2BC2-4B4E-930C-8733D2FD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D13BF-7AD3-4FF1-B50E-F5D34701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3123-CF03-4B75-9539-55FB96F1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A4DAE-1CB1-48E5-A097-61B85503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0BB07-9C3A-43B7-92D7-EE24C7DA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B5674-16A8-4069-9C9C-E2D90E4F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40FB3-1EAF-43D6-9F02-5DED29B4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8BAB8-80F9-4F20-B16F-08260488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F78F-A481-41F7-92A5-D3A19A6E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DC9B-AC24-4504-AF90-DE392946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A4F6-6C02-49F8-B0F5-05F5278A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E54E-F332-469A-A9A1-58955797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D7CF-8E95-4448-8EA5-A0D7C037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8C6-ACC0-4112-89F1-A3BC572E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0914-69C7-48B3-A8F8-58424BE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9940-7361-4564-9037-70FFD43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7B84-FE4D-46F7-9045-E35CAAC2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1206-13A6-4B2C-842F-5B0C2B68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29BD-AB74-4A35-A7A9-A48F3AAF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5ECF0-1D37-4A70-A80D-848DAA2C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B935-B724-40CC-BE62-59189241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0BA9-AC60-4E6D-BA4F-C4B530E3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111F-6EDD-4B6C-8BF2-EF2CC41E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80AB-4DBC-4B15-A96E-A141F6B9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8EC-53A8-4835-B70F-C624D904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BF83-9D90-4ECB-8053-89A138E8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7A884-C451-4273-8CA6-EE5F524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832F-C471-43FF-8177-08A1E4C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17B4-7607-43D2-AAEB-4E07BECC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E3BD-6EFA-4879-8014-59C738B8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A9C80-7251-429A-AEA7-27E174F2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36CE3-E4FD-41FD-A38B-BFFBA24C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65B1-42C4-442A-A45B-540AF114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BACB6-8E73-4F33-AE5B-4E96F73F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E9FF4-C94F-453D-BA7F-6F22E418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00A-0142-47D5-8F98-B2ABB887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C8767-31DF-401C-9BEF-0654665F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A5B08-DBAA-4BF1-8DE0-CC2FA1BA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7561-8907-4E14-89EF-6463F712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A01B-B8F6-4810-AF1C-024A57D3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9B477-9361-49B0-8B7D-7950D90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38E6-7544-4445-8CB1-C7D1DC2F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5C8FF-84E8-4454-B62C-3FC95B2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8B202-81C4-4529-A80F-A5162C45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A864D-FE12-4E4F-9FA1-5B124290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A6397-7E72-4CD7-BED3-A6C72515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2E9-9B3B-4007-8C0F-7EBF8E2E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7C46F-19A4-478C-8826-605FD3C1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070A8-CDE3-4FBB-8E2D-07D24D0F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79833-593A-4138-8D6C-C4EAF547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2378E-BA51-46B8-8262-E67BFE14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B234F-A7F3-40DB-9B28-7885D28A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7851-61FD-4BC7-921C-E6258CEE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262E0-60EF-4930-83F4-529BAD3C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64B29-C1B5-41DE-919C-9060E3D7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4C36-8765-4D0C-B1A0-631246A4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4D1AF-EB86-4BB0-972A-D8C7D731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96C-877E-48F6-916A-B8DB408A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5B519-DA83-4E07-96C6-50C92B57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B9AB6-B268-4D74-97FC-971DC692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4D3B6-1E77-4EBA-95AC-61E72A6F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4B618-077F-4CC1-B709-F821080B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0435A-59C3-4C27-B077-52FFE770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7DEF1-AFCE-4325-9B39-7099F34C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A682-7A8E-4BC0-926F-7DF00848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BD31D-5B0D-46DE-8FF9-99CC0095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BF4C7-AC25-4A90-9F9A-A71C5E2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410E1-1AFD-4CD1-97F2-D3A271BD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4A3-35AA-4230-8F3B-F7B3963C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BBAE3-248C-451D-B356-F77937AF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54711-ACC2-4989-8512-2083A502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6A08D-2D58-4A1E-8C54-C0AB53C7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A0D72-869E-478A-9D72-EAA29916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955FB-A5F1-4826-9A3A-E708D17D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F86C7-007F-4845-8CA2-EDCB1A8B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B728F-7904-491D-818A-B653A10A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81E95-2E10-40B3-A6DE-DC64DEA3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B3186-ECF9-4B8C-AD0B-10A61B31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5D1E1-74FE-4B78-88DF-4F8C9B7E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3E9-D9C6-493F-8F93-DB1B99D4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B618C-0200-4547-A5F3-671B797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EB358-527E-4223-9AE0-21F6FC1C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5EE3A-C615-44AD-9868-02E2C540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70CB9-6810-4C84-AFAA-F2065C2B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FF582-320A-432B-A745-FF65847A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2516D-0A93-4996-BC93-7D196486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F0E9-EA0F-49F3-BADE-87120C2F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33B4E-F4E4-49BC-94EA-ED498FCA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6977B5-2D38-4866-9A1C-0606BB7A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6ED0C-2299-4484-BF1D-3085C13A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55D-6C64-4A4C-A3AE-513F7290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DF6D9-B54D-4DC3-84A6-9287F48E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BD70D-1EA7-4830-915C-1B0283F9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8538E-B82C-49FE-AB78-7CAF455F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3B118-7480-4F3A-A47B-C44DAC43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5D4E8-E1C6-4D13-887F-3325773F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59B0-D981-470E-B983-F34A8C55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509EF-AC20-4130-A355-C2BB4628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93B65-44EC-4285-8438-8A7128F48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BEBED-C511-49A9-AE9B-3F603496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861C5-43FE-419C-9FE5-A4790D5B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240A-5475-46D0-B7AA-C6DA08FA53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054F-FF12-4DEC-9BC6-C7752D1DCC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8674-E1C9-4AF6-9E14-1176ADCDBA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C4C1-3DB4-45A9-8B52-17C032004D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8F50-8AE8-45E0-9234-6B24A2ACC8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51BA-E2DE-4CEF-981A-9E5CAF4584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748D-398D-4BCA-A6A8-3B605CCC64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32F3-24EE-4F7E-9FB9-CB21122A92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109B-7E74-4E9A-BC1F-C9A8A71490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3188-2FDC-40D5-9127-E0F7AADFD7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C8B5-528B-460B-852B-BE19846D75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1199-CD2F-4D7B-83DB-9DF1DA20F4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شكل بيضاوي 4"/>
          <p:cNvSpPr/>
          <p:nvPr/>
        </p:nvSpPr>
        <p:spPr>
          <a:xfrm>
            <a:off x="357120" y="1928880"/>
            <a:ext cx="1714680" cy="1857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مربع نص 5"/>
          <p:cNvSpPr/>
          <p:nvPr/>
        </p:nvSpPr>
        <p:spPr>
          <a:xfrm>
            <a:off x="655560" y="1758960"/>
            <a:ext cx="10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8"/>
          <p:cNvSpPr/>
          <p:nvPr/>
        </p:nvSpPr>
        <p:spPr>
          <a:xfrm>
            <a:off x="1714680" y="434880"/>
            <a:ext cx="60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الفرق بين المستهلك والعمي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8"/>
          <p:cNvSpPr/>
          <p:nvPr/>
        </p:nvSpPr>
        <p:spPr>
          <a:xfrm>
            <a:off x="1357200" y="1459080"/>
            <a:ext cx="6782040" cy="916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هل كل مستهلك عميل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8"/>
          <p:cNvSpPr/>
          <p:nvPr/>
        </p:nvSpPr>
        <p:spPr>
          <a:xfrm>
            <a:off x="1362240" y="3465360"/>
            <a:ext cx="67816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عمي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هو الذي يشتري المنتج بصفة منتظمة من محل معين ، وبالتالي فهو عميل (زبون المحل) 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ما </a:t>
            </a:r>
            <a:r>
              <a:rPr b="0" lang="ar-SA" sz="28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ستهلك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فهو أيضاً يشتري المنتج ، ولكنه ليس لديه ولاء لمحل معين عندما يقوم با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8"/>
          <p:cNvSpPr/>
          <p:nvPr/>
        </p:nvSpPr>
        <p:spPr>
          <a:xfrm>
            <a:off x="1357200" y="2503440"/>
            <a:ext cx="6782040" cy="916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لا .. لا .. ل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show_file3"/>
          <p:cNvPicPr/>
          <p:nvPr/>
        </p:nvPicPr>
        <p:blipFill>
          <a:blip r:embed="rId1"/>
          <a:stretch/>
        </p:blipFill>
        <p:spPr>
          <a:xfrm>
            <a:off x="-542880" y="-469800"/>
            <a:ext cx="10229760" cy="77976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8"/>
          <p:cNvSpPr/>
          <p:nvPr/>
        </p:nvSpPr>
        <p:spPr>
          <a:xfrm>
            <a:off x="1000080" y="603360"/>
            <a:ext cx="70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فهم سلوك (السوق) المستهلك هو أحد الأسس التي يعتمد عليها نجاح العلاقة التبادلية في التسوي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1362240" y="2500200"/>
            <a:ext cx="67816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حيث يساهم في بناء الاستراتيجيات التسويقية المتعلقة بالمنتج والسعر والتوزيع و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بما يحقق رضاء المستهلك (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PT Bold Heading"/>
              </a:rPr>
              <a:t>الملك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14384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8"/>
          <p:cNvSpPr/>
          <p:nvPr/>
        </p:nvSpPr>
        <p:spPr>
          <a:xfrm>
            <a:off x="1719360" y="28584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تعريف سلوك المستهل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1214280" y="1293840"/>
            <a:ext cx="67820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سلوك المستهلك ه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2d050"/>
                </a:solidFill>
                <a:latin typeface="Arial"/>
                <a:cs typeface="PT Bold Heading"/>
              </a:rPr>
              <a:t>تصرفات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ستهل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عند </a:t>
            </a:r>
            <a:r>
              <a:rPr b="0" lang="ar-SA" sz="4000" spc="-1" strike="noStrike">
                <a:solidFill>
                  <a:srgbClr val="00b0f0"/>
                </a:solidFill>
                <a:latin typeface="Arial"/>
                <a:cs typeface="PT Bold Heading"/>
              </a:rPr>
              <a:t>البحث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أو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4000" spc="-1" strike="noStrike">
                <a:solidFill>
                  <a:srgbClr val="e61893"/>
                </a:solidFill>
                <a:latin typeface="Arial"/>
                <a:cs typeface="PT Bold Heading"/>
              </a:rPr>
              <a:t>الشراء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أو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4000" spc="-1" strike="noStrike">
                <a:solidFill>
                  <a:srgbClr val="00b050"/>
                </a:solidFill>
                <a:latin typeface="Arial"/>
                <a:cs typeface="PT Bold Heading"/>
              </a:rPr>
              <a:t>الاستخدام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أو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4000" spc="-1" strike="noStrike">
                <a:solidFill>
                  <a:srgbClr val="d27d00"/>
                </a:solidFill>
                <a:latin typeface="Arial"/>
                <a:cs typeface="PT Bold Heading"/>
              </a:rPr>
              <a:t>التقييم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للمنتجات التي يتوقع منها أن تشبع حاجاته ورغباته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وكذلك كيفية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4000" spc="-1" strike="noStrike">
                <a:solidFill>
                  <a:srgbClr val="7030a0"/>
                </a:solidFill>
                <a:latin typeface="Arial"/>
                <a:cs typeface="PT Bold Heading"/>
              </a:rPr>
              <a:t>تخلصه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منها بعد ذلك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8"/>
          <p:cNvSpPr/>
          <p:nvPr/>
        </p:nvSpPr>
        <p:spPr>
          <a:xfrm>
            <a:off x="642960" y="157320"/>
            <a:ext cx="785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أسئلة التي تجيب عليها دراسة سلوك المستهل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1214280" y="1428840"/>
            <a:ext cx="67820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ن الذي يشتري؟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تحديد العميل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اذا يشتري؟ (ا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لمنتجات التي يستخدمها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لماذا يشتري منتجات بعينها؟ (</a:t>
            </a:r>
            <a:r>
              <a:rPr b="0" lang="ar-SA" sz="1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دوافع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كيف يشتري؟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فردياً أم جماعياً؟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نقداً أم تقسيطاً؟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متى يشتري؟ (</a:t>
            </a:r>
            <a:r>
              <a:rPr b="0" lang="ar-SA" sz="1600" spc="-1" strike="noStrike">
                <a:solidFill>
                  <a:srgbClr val="006600"/>
                </a:solidFill>
                <a:latin typeface="Arial"/>
                <a:cs typeface="PT Bold Heading"/>
              </a:rPr>
              <a:t>صباحا/مساء/ في العطلات/ في المناسبات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ين يشتري؟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أي الأسواق أو المحلات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كيف يستخدم المنتج؟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هل من استخدامات جديد؟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كيف يقيم المنتج؟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معايير التقييم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كيف يتخلص من المنتج؟ ولماذا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7"/>
          <p:cNvSpPr/>
          <p:nvPr/>
        </p:nvSpPr>
        <p:spPr>
          <a:xfrm rot="20398800">
            <a:off x="390240" y="546480"/>
            <a:ext cx="12308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سؤا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1933560" y="1143000"/>
            <a:ext cx="60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هل السلوك الإنساني عشوائياً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1214280" y="2286000"/>
            <a:ext cx="678204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c00000"/>
                </a:solidFill>
                <a:latin typeface="Arial"/>
                <a:cs typeface="PT Bold Heading"/>
              </a:rPr>
              <a:t>لا .. لا.. ل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70c0"/>
                </a:solidFill>
                <a:latin typeface="Arial"/>
                <a:cs typeface="PT Bold Heading"/>
              </a:rPr>
              <a:t>السلوك الإنساني نشاط 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غائي</a:t>
            </a:r>
            <a:r>
              <a:rPr b="0" lang="ar-SA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 ، يستهدف تحقيق غاية وهي إشباع حاجات المستهلك ورغبات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8"/>
          <p:cNvSpPr/>
          <p:nvPr/>
        </p:nvSpPr>
        <p:spPr>
          <a:xfrm>
            <a:off x="1576440" y="1357200"/>
            <a:ext cx="606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مراحل عملية اتخاذ القرار الشرائي والاستهلاكي والعوامل المؤثرة على سلوك المستهل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مجموعة 40"/>
          <p:cNvGrpSpPr/>
          <p:nvPr/>
        </p:nvGrpSpPr>
        <p:grpSpPr>
          <a:xfrm>
            <a:off x="0" y="11160"/>
            <a:ext cx="10001160" cy="7275600"/>
            <a:chOff x="0" y="11160"/>
            <a:chExt cx="10001160" cy="7275600"/>
          </a:xfrm>
        </p:grpSpPr>
        <p:pic>
          <p:nvPicPr>
            <p:cNvPr id="687" name="Picture 5" descr="show_file3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10001160" cy="72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8"/>
            <p:cNvSpPr/>
            <p:nvPr/>
          </p:nvSpPr>
          <p:spPr>
            <a:xfrm>
              <a:off x="1710720" y="188280"/>
              <a:ext cx="598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نموذج سلوك المستهلك النهائ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8"/>
            <p:cNvSpPr/>
            <p:nvPr/>
          </p:nvSpPr>
          <p:spPr>
            <a:xfrm>
              <a:off x="3734640" y="1126440"/>
              <a:ext cx="2042640" cy="2040840"/>
            </a:xfrm>
            <a:prstGeom prst="rect">
              <a:avLst/>
            </a:prstGeom>
            <a:solidFill>
              <a:srgbClr val="f2a4a7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العوامل السيكولوجية (النفسية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دواف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إدرا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تعل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شخص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اتجاه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Text Box 8"/>
            <p:cNvSpPr/>
            <p:nvPr/>
          </p:nvSpPr>
          <p:spPr>
            <a:xfrm>
              <a:off x="1128600" y="732240"/>
              <a:ext cx="2122200" cy="2040840"/>
            </a:xfrm>
            <a:prstGeom prst="rect">
              <a:avLst/>
            </a:prstGeom>
            <a:solidFill>
              <a:srgbClr val="d3eef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العوامل الاجتماع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أسر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طبقة الاجتماع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جماعات المرجع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قادة الرأ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مستهلكون الابتكاريو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5988600" y="1208880"/>
              <a:ext cx="2530800" cy="155412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العوامل الثقاف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ثقافة العامة للمجتم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ثقافات الفرعية للمجتم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8"/>
            <p:cNvSpPr/>
            <p:nvPr/>
          </p:nvSpPr>
          <p:spPr>
            <a:xfrm>
              <a:off x="6904080" y="4654080"/>
              <a:ext cx="1986120" cy="16765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العوامل الموقف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</a:t>
              </a:r>
              <a:r>
                <a:rPr b="0" lang="ar-SA" sz="14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وقت الشرا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بيئة الشرا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شروط الشرا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حالة المزاجية للمستهل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8"/>
            <p:cNvSpPr/>
            <p:nvPr/>
          </p:nvSpPr>
          <p:spPr>
            <a:xfrm>
              <a:off x="2889360" y="4219560"/>
              <a:ext cx="3695400" cy="2197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6600"/>
                  </a:solidFill>
                  <a:latin typeface="Arial"/>
                  <a:cs typeface="PT Bold Heading"/>
                </a:rPr>
                <a:t>القرار الشرائي للمستهل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3d6aa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3d6aa8"/>
                  </a:solidFill>
                  <a:latin typeface="Arial"/>
                  <a:ea typeface="PT Bold Heading"/>
                </a:rPr>
                <a:t> </a:t>
              </a: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إدراك الحاج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تحديد البدائل المتاحة وتقييم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اتخاذ قرار الشر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الشراء الفع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ما بعد الشر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4" name="رابط كسهم مستقيم 23"/>
            <p:cNvCxnSpPr>
              <a:stCxn id="689" idx="2"/>
            </p:cNvCxnSpPr>
            <p:nvPr/>
          </p:nvCxnSpPr>
          <p:spPr>
            <a:xfrm>
              <a:off x="4755600" y="3150360"/>
              <a:ext cx="34920" cy="1040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5" name="رابط كسهم مستقيم 25"/>
            <p:cNvCxnSpPr>
              <a:stCxn id="691" idx="2"/>
            </p:cNvCxnSpPr>
            <p:nvPr/>
          </p:nvCxnSpPr>
          <p:spPr>
            <a:xfrm flipH="1">
              <a:off x="5917320" y="2750040"/>
              <a:ext cx="1337400" cy="1454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رابط كسهم مستقيم 27"/>
            <p:cNvCxnSpPr/>
            <p:nvPr/>
          </p:nvCxnSpPr>
          <p:spPr>
            <a:xfrm flipH="1" flipV="1">
              <a:off x="6551640" y="5379840"/>
              <a:ext cx="3528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7" name="رابط كسهم مستقيم 29"/>
            <p:cNvCxnSpPr>
              <a:stCxn id="690" idx="2"/>
            </p:cNvCxnSpPr>
            <p:nvPr/>
          </p:nvCxnSpPr>
          <p:spPr>
            <a:xfrm>
              <a:off x="2188800" y="2514960"/>
              <a:ext cx="1616040" cy="1675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8" name="رابط مستقيم 63"/>
          <p:cNvSpPr/>
          <p:nvPr/>
        </p:nvSpPr>
        <p:spPr>
          <a:xfrm flipH="1" flipV="1">
            <a:off x="6000840" y="1571760"/>
            <a:ext cx="2571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رابط مستقيم 65"/>
          <p:cNvSpPr/>
          <p:nvPr/>
        </p:nvSpPr>
        <p:spPr>
          <a:xfrm flipH="1" flipV="1">
            <a:off x="3786120" y="1642680"/>
            <a:ext cx="2000160" cy="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رابط مستقيم 67"/>
          <p:cNvSpPr/>
          <p:nvPr/>
        </p:nvSpPr>
        <p:spPr>
          <a:xfrm flipH="1" flipV="1">
            <a:off x="1071360" y="1071360"/>
            <a:ext cx="214308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رابط مستقيم 70"/>
          <p:cNvSpPr/>
          <p:nvPr/>
        </p:nvSpPr>
        <p:spPr>
          <a:xfrm flipH="1">
            <a:off x="6928920" y="5214960"/>
            <a:ext cx="200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رابط مستقيم 80"/>
          <p:cNvSpPr/>
          <p:nvPr/>
        </p:nvSpPr>
        <p:spPr>
          <a:xfrm flipH="1" flipV="1">
            <a:off x="2857680" y="4714920"/>
            <a:ext cx="3714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326880" y="4676760"/>
            <a:ext cx="2071800" cy="1310760"/>
          </a:xfrm>
          <a:prstGeom prst="rect">
            <a:avLst/>
          </a:prstGeom>
          <a:solidFill>
            <a:srgbClr val="92d050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262626"/>
                </a:solidFill>
                <a:latin typeface="Arial"/>
                <a:cs typeface="PT Bold Heading"/>
              </a:rPr>
              <a:t>المعلوما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ea typeface="PT Bold Heading"/>
              </a:rPr>
              <a:t> مصادر تجار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ea typeface="PT Bold Heading"/>
              </a:rPr>
              <a:t> مصادر اجتماع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رابط مستقيم 26"/>
          <p:cNvSpPr/>
          <p:nvPr/>
        </p:nvSpPr>
        <p:spPr>
          <a:xfrm flipH="1" flipV="1">
            <a:off x="357120" y="5070600"/>
            <a:ext cx="2000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رابط كسهم مستقيم 28"/>
          <p:cNvCxnSpPr/>
          <p:nvPr/>
        </p:nvCxnSpPr>
        <p:spPr>
          <a:xfrm flipV="1">
            <a:off x="2398320" y="5357520"/>
            <a:ext cx="459720" cy="1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8"/>
          <p:cNvSpPr/>
          <p:nvPr/>
        </p:nvSpPr>
        <p:spPr>
          <a:xfrm>
            <a:off x="1785960" y="428760"/>
            <a:ext cx="606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  <a:cs typeface="PT Bold Heading"/>
              </a:rPr>
              <a:t>مراحل القرار الشرائي والاستهلاك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642960" y="2567160"/>
            <a:ext cx="8072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3d6a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d6aa8"/>
                </a:solidFill>
                <a:latin typeface="Arial"/>
                <a:ea typeface="PT Bold Heading"/>
              </a:rPr>
              <a:t> 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إدراك الحاج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تحديد البدائل المتاحة وتقييم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اتخاذ قرار الشرا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شراء الفع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ما بعد الشرا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8"/>
          <p:cNvSpPr/>
          <p:nvPr/>
        </p:nvSpPr>
        <p:spPr>
          <a:xfrm>
            <a:off x="1719360" y="14292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ً: العوامل السيكولوج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1214280" y="9288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دواف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1214280" y="1571760"/>
            <a:ext cx="6782040" cy="155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لدوافع هي المحرك لإشباع الحاجة وهي مرحلة وسط بين الشعور بالحاجة والسلوك الشرائ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1214280" y="3286080"/>
            <a:ext cx="6782040" cy="204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فعندما ينقص مستوى إشباع الحاجة لدى الفرد يتحرك الدافع لدى المستهلك بالبحث عن السلع والخدمات التي تشبع هذه الحاج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1214280" y="5000760"/>
            <a:ext cx="6782040" cy="204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وتتعدد الحاجات الإنسانية: حاجات أساسية – الحاجة للأمن – الحاجات الاجتماعية – الحاجة للاحترام – الحاجة لتقدير الذات (ماسل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سلوك المستهل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C93D-BA42-4662-90E6-D00447A2D67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900" spc="-1" strike="noStrike">
                <a:solidFill>
                  <a:srgbClr val="002060"/>
                </a:solidFill>
                <a:latin typeface="Lucida Sans Unicode"/>
              </a:rPr>
              <a:t>مدرج ماسلو للحاجات الإنسانية</a:t>
            </a:r>
            <a:endParaRPr b="1" lang="en-US" sz="59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720" name="Group 3"/>
          <p:cNvGrpSpPr/>
          <p:nvPr/>
        </p:nvGrpSpPr>
        <p:grpSpPr>
          <a:xfrm>
            <a:off x="196920" y="5797080"/>
            <a:ext cx="8750160" cy="901800"/>
            <a:chOff x="196920" y="5797080"/>
            <a:chExt cx="8750160" cy="901800"/>
          </a:xfrm>
        </p:grpSpPr>
        <p:sp>
          <p:nvSpPr>
            <p:cNvPr id="721" name="AutoShape 4"/>
            <p:cNvSpPr/>
            <p:nvPr/>
          </p:nvSpPr>
          <p:spPr>
            <a:xfrm flipV="1">
              <a:off x="196920" y="5796360"/>
              <a:ext cx="8750160" cy="901800"/>
            </a:xfrm>
            <a:prstGeom prst="pi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Psychologic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حاجات فسي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5"/>
            <p:cNvSpPr/>
            <p:nvPr/>
          </p:nvSpPr>
          <p:spPr>
            <a:xfrm>
              <a:off x="762120" y="6095880"/>
              <a:ext cx="44424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Group 6"/>
          <p:cNvGrpSpPr/>
          <p:nvPr/>
        </p:nvGrpSpPr>
        <p:grpSpPr>
          <a:xfrm>
            <a:off x="920880" y="4882680"/>
            <a:ext cx="7302240" cy="901800"/>
            <a:chOff x="920880" y="4882680"/>
            <a:chExt cx="7302240" cy="901800"/>
          </a:xfrm>
        </p:grpSpPr>
        <p:sp>
          <p:nvSpPr>
            <p:cNvPr id="724" name="AutoShape 7"/>
            <p:cNvSpPr/>
            <p:nvPr/>
          </p:nvSpPr>
          <p:spPr>
            <a:xfrm flipV="1">
              <a:off x="920880" y="4881960"/>
              <a:ext cx="7302240" cy="901800"/>
            </a:xfrm>
            <a:prstGeom prst="pie">
              <a:avLst/>
            </a:prstGeom>
            <a:solidFill>
              <a:srgbClr val="01ffea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afety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أمـــ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1523880" y="51055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9"/>
          <p:cNvGrpSpPr/>
          <p:nvPr/>
        </p:nvGrpSpPr>
        <p:grpSpPr>
          <a:xfrm>
            <a:off x="1758960" y="3968280"/>
            <a:ext cx="5626080" cy="901800"/>
            <a:chOff x="1758960" y="3968280"/>
            <a:chExt cx="5626080" cy="901800"/>
          </a:xfrm>
        </p:grpSpPr>
        <p:sp>
          <p:nvSpPr>
            <p:cNvPr id="727" name="AutoShape 10"/>
            <p:cNvSpPr/>
            <p:nvPr/>
          </p:nvSpPr>
          <p:spPr>
            <a:xfrm flipV="1">
              <a:off x="1758960" y="3967560"/>
              <a:ext cx="5626080" cy="90180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oci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انتمــ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2209680" y="42670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2521080" y="3053880"/>
            <a:ext cx="4101840" cy="901800"/>
            <a:chOff x="2521080" y="3053880"/>
            <a:chExt cx="4101840" cy="901800"/>
          </a:xfrm>
        </p:grpSpPr>
        <p:sp>
          <p:nvSpPr>
            <p:cNvPr id="730" name="AutoShape 13"/>
            <p:cNvSpPr/>
            <p:nvPr/>
          </p:nvSpPr>
          <p:spPr>
            <a:xfrm flipV="1">
              <a:off x="2521080" y="3053520"/>
              <a:ext cx="4101840" cy="901800"/>
            </a:xfrm>
            <a:prstGeom prst="pie">
              <a:avLst/>
            </a:prstGeom>
            <a:solidFill>
              <a:srgbClr val="da1f28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Esteem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تحقيق المكان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3079800" y="31543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15"/>
          <p:cNvGrpSpPr/>
          <p:nvPr/>
        </p:nvGrpSpPr>
        <p:grpSpPr>
          <a:xfrm>
            <a:off x="3282840" y="1301760"/>
            <a:ext cx="2578320" cy="1739880"/>
            <a:chOff x="3282840" y="1301760"/>
            <a:chExt cx="2578320" cy="1739880"/>
          </a:xfrm>
        </p:grpSpPr>
        <p:sp>
          <p:nvSpPr>
            <p:cNvPr id="733" name="AutoShape 16"/>
            <p:cNvSpPr/>
            <p:nvPr/>
          </p:nvSpPr>
          <p:spPr>
            <a:xfrm>
              <a:off x="3282840" y="1301760"/>
              <a:ext cx="2578320" cy="1739880"/>
            </a:xfrm>
            <a:prstGeom prst="triangle">
              <a:avLst>
                <a:gd name="adj" fmla="val 49995"/>
              </a:avLst>
            </a:prstGeom>
            <a:solidFill>
              <a:srgbClr val="fcfeb9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elf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act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e0f04"/>
                  </a:solidFill>
                  <a:latin typeface="Tahoma"/>
                  <a:cs typeface="Tahoma"/>
                </a:rPr>
                <a:t>تحقيق الذ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4343400" y="15238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1214280" y="1500120"/>
            <a:ext cx="6782040" cy="5031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تتحول الحاجات غير المشبعة إلى منافع تشبع هذه الحاجة ثم يبحث المستهلك عن منتجات تحقق هذه المناف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1719360" y="14292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حويل الحاجات إلى مناف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8"/>
          <p:cNvSpPr/>
          <p:nvPr/>
        </p:nvSpPr>
        <p:spPr>
          <a:xfrm>
            <a:off x="428760" y="357120"/>
            <a:ext cx="8243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3643200" y="1263600"/>
            <a:ext cx="2067120" cy="3070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643200" y="257184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3643200" y="3214800"/>
            <a:ext cx="2067120" cy="520200"/>
          </a:xfrm>
          <a:prstGeom prst="rect">
            <a:avLst/>
          </a:prstGeom>
          <a:solidFill>
            <a:srgbClr val="ff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قطاعات المستهد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رابط كسهم مستقيم 19"/>
          <p:cNvCxnSpPr>
            <a:stCxn id="594" idx="2"/>
          </p:cNvCxnSpPr>
          <p:nvPr/>
        </p:nvCxnSpPr>
        <p:spPr>
          <a:xfrm flipH="1">
            <a:off x="4672800" y="1571760"/>
            <a:ext cx="3960" cy="1000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رابط كسهم مستقيم 20"/>
          <p:cNvCxnSpPr/>
          <p:nvPr/>
        </p:nvCxnSpPr>
        <p:spPr>
          <a:xfrm flipH="1">
            <a:off x="4672800" y="285768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6" name="رابط كسهم مستقيم 27"/>
          <p:cNvCxnSpPr>
            <a:stCxn id="598" idx="0"/>
            <a:endCxn id="597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607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5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رابط كسهم مستقيم 48"/>
          <p:cNvCxnSpPr>
            <a:endCxn id="598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4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5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6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سلوك المستهل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222B-D2EB-4993-9A5C-A3B6F18D33B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Lucida Sans Unicode"/>
              </a:rPr>
              <a:t>مدرج ماسلو للحاجات</a:t>
            </a:r>
            <a:endParaRPr b="1" lang="en-US" sz="48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196920" y="5797080"/>
            <a:ext cx="8750160" cy="901800"/>
            <a:chOff x="196920" y="5797080"/>
            <a:chExt cx="8750160" cy="901800"/>
          </a:xfrm>
        </p:grpSpPr>
        <p:sp>
          <p:nvSpPr>
            <p:cNvPr id="742" name="AutoShape 4"/>
            <p:cNvSpPr/>
            <p:nvPr/>
          </p:nvSpPr>
          <p:spPr>
            <a:xfrm flipV="1">
              <a:off x="196920" y="5796360"/>
              <a:ext cx="8750160" cy="901800"/>
            </a:xfrm>
            <a:prstGeom prst="pi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Psychologic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حاجات فسي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5"/>
            <p:cNvSpPr/>
            <p:nvPr/>
          </p:nvSpPr>
          <p:spPr>
            <a:xfrm>
              <a:off x="762120" y="6095880"/>
              <a:ext cx="44424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6"/>
          <p:cNvGrpSpPr/>
          <p:nvPr/>
        </p:nvGrpSpPr>
        <p:grpSpPr>
          <a:xfrm>
            <a:off x="920880" y="4882680"/>
            <a:ext cx="7302240" cy="901800"/>
            <a:chOff x="920880" y="4882680"/>
            <a:chExt cx="7302240" cy="901800"/>
          </a:xfrm>
        </p:grpSpPr>
        <p:sp>
          <p:nvSpPr>
            <p:cNvPr id="745" name="AutoShape 7"/>
            <p:cNvSpPr/>
            <p:nvPr/>
          </p:nvSpPr>
          <p:spPr>
            <a:xfrm flipV="1">
              <a:off x="920880" y="4881960"/>
              <a:ext cx="7302240" cy="901800"/>
            </a:xfrm>
            <a:prstGeom prst="pie">
              <a:avLst/>
            </a:prstGeom>
            <a:solidFill>
              <a:srgbClr val="01ffea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afety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أمـــ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1523880" y="51055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9"/>
          <p:cNvGrpSpPr/>
          <p:nvPr/>
        </p:nvGrpSpPr>
        <p:grpSpPr>
          <a:xfrm>
            <a:off x="1758960" y="3968280"/>
            <a:ext cx="5626080" cy="901800"/>
            <a:chOff x="1758960" y="3968280"/>
            <a:chExt cx="5626080" cy="901800"/>
          </a:xfrm>
        </p:grpSpPr>
        <p:sp>
          <p:nvSpPr>
            <p:cNvPr id="748" name="AutoShape 10"/>
            <p:cNvSpPr/>
            <p:nvPr/>
          </p:nvSpPr>
          <p:spPr>
            <a:xfrm flipV="1">
              <a:off x="1758960" y="3967560"/>
              <a:ext cx="5626080" cy="90180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oci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انتمــ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2209680" y="42670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12"/>
          <p:cNvGrpSpPr/>
          <p:nvPr/>
        </p:nvGrpSpPr>
        <p:grpSpPr>
          <a:xfrm>
            <a:off x="2521080" y="3053880"/>
            <a:ext cx="4101840" cy="901800"/>
            <a:chOff x="2521080" y="3053880"/>
            <a:chExt cx="4101840" cy="901800"/>
          </a:xfrm>
        </p:grpSpPr>
        <p:sp>
          <p:nvSpPr>
            <p:cNvPr id="751" name="AutoShape 13"/>
            <p:cNvSpPr/>
            <p:nvPr/>
          </p:nvSpPr>
          <p:spPr>
            <a:xfrm flipV="1">
              <a:off x="2521080" y="3053520"/>
              <a:ext cx="4101840" cy="901800"/>
            </a:xfrm>
            <a:prstGeom prst="pie">
              <a:avLst/>
            </a:prstGeom>
            <a:solidFill>
              <a:srgbClr val="da1f28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Esteem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تحقيق المكان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3079800" y="31543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15"/>
          <p:cNvGrpSpPr/>
          <p:nvPr/>
        </p:nvGrpSpPr>
        <p:grpSpPr>
          <a:xfrm>
            <a:off x="3282840" y="1301760"/>
            <a:ext cx="2578320" cy="1739880"/>
            <a:chOff x="3282840" y="1301760"/>
            <a:chExt cx="2578320" cy="1739880"/>
          </a:xfrm>
        </p:grpSpPr>
        <p:sp>
          <p:nvSpPr>
            <p:cNvPr id="754" name="AutoShape 16"/>
            <p:cNvSpPr/>
            <p:nvPr/>
          </p:nvSpPr>
          <p:spPr>
            <a:xfrm>
              <a:off x="3282840" y="1301760"/>
              <a:ext cx="2578320" cy="1739880"/>
            </a:xfrm>
            <a:prstGeom prst="triangle">
              <a:avLst>
                <a:gd name="adj" fmla="val 49995"/>
              </a:avLst>
            </a:prstGeom>
            <a:solidFill>
              <a:srgbClr val="fcfeb9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elf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act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e0f04"/>
                  </a:solidFill>
                  <a:latin typeface="Tahoma"/>
                  <a:cs typeface="Tahoma"/>
                </a:rPr>
                <a:t>تحقيق الذ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4343400" y="15238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سلوك المستهل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597C-382C-4BF9-B7FE-6905885B518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900" spc="-1" strike="noStrike">
                <a:solidFill>
                  <a:srgbClr val="002060"/>
                </a:solidFill>
                <a:latin typeface="Lucida Sans Unicode"/>
              </a:rPr>
              <a:t>مدرج ماسلو للحاجات الإنسانية</a:t>
            </a:r>
            <a:endParaRPr b="1" lang="en-US" sz="59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759" name="Group 3"/>
          <p:cNvGrpSpPr/>
          <p:nvPr/>
        </p:nvGrpSpPr>
        <p:grpSpPr>
          <a:xfrm>
            <a:off x="196920" y="5797080"/>
            <a:ext cx="8750160" cy="901800"/>
            <a:chOff x="196920" y="5797080"/>
            <a:chExt cx="8750160" cy="901800"/>
          </a:xfrm>
        </p:grpSpPr>
        <p:sp>
          <p:nvSpPr>
            <p:cNvPr id="760" name="AutoShape 4"/>
            <p:cNvSpPr/>
            <p:nvPr/>
          </p:nvSpPr>
          <p:spPr>
            <a:xfrm flipV="1">
              <a:off x="196920" y="5796360"/>
              <a:ext cx="8750160" cy="901800"/>
            </a:xfrm>
            <a:prstGeom prst="pi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Psychologic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حاجات فسي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5"/>
            <p:cNvSpPr/>
            <p:nvPr/>
          </p:nvSpPr>
          <p:spPr>
            <a:xfrm>
              <a:off x="762120" y="6095880"/>
              <a:ext cx="44424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6"/>
          <p:cNvGrpSpPr/>
          <p:nvPr/>
        </p:nvGrpSpPr>
        <p:grpSpPr>
          <a:xfrm>
            <a:off x="920880" y="4882680"/>
            <a:ext cx="7302240" cy="901800"/>
            <a:chOff x="920880" y="4882680"/>
            <a:chExt cx="7302240" cy="901800"/>
          </a:xfrm>
        </p:grpSpPr>
        <p:sp>
          <p:nvSpPr>
            <p:cNvPr id="763" name="AutoShape 7"/>
            <p:cNvSpPr/>
            <p:nvPr/>
          </p:nvSpPr>
          <p:spPr>
            <a:xfrm flipV="1">
              <a:off x="920880" y="4881960"/>
              <a:ext cx="7302240" cy="901800"/>
            </a:xfrm>
            <a:prstGeom prst="pie">
              <a:avLst/>
            </a:prstGeom>
            <a:solidFill>
              <a:srgbClr val="01ffea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afety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أمـــ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1523880" y="51055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9"/>
          <p:cNvGrpSpPr/>
          <p:nvPr/>
        </p:nvGrpSpPr>
        <p:grpSpPr>
          <a:xfrm>
            <a:off x="1758960" y="3968280"/>
            <a:ext cx="5626080" cy="901800"/>
            <a:chOff x="1758960" y="3968280"/>
            <a:chExt cx="5626080" cy="901800"/>
          </a:xfrm>
        </p:grpSpPr>
        <p:sp>
          <p:nvSpPr>
            <p:cNvPr id="766" name="AutoShape 10"/>
            <p:cNvSpPr/>
            <p:nvPr/>
          </p:nvSpPr>
          <p:spPr>
            <a:xfrm flipV="1">
              <a:off x="1758960" y="3967560"/>
              <a:ext cx="5626080" cy="90180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oci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انتمــ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2209680" y="42670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12"/>
          <p:cNvGrpSpPr/>
          <p:nvPr/>
        </p:nvGrpSpPr>
        <p:grpSpPr>
          <a:xfrm>
            <a:off x="2521080" y="3053880"/>
            <a:ext cx="4101840" cy="901800"/>
            <a:chOff x="2521080" y="3053880"/>
            <a:chExt cx="4101840" cy="901800"/>
          </a:xfrm>
        </p:grpSpPr>
        <p:sp>
          <p:nvSpPr>
            <p:cNvPr id="769" name="AutoShape 13"/>
            <p:cNvSpPr/>
            <p:nvPr/>
          </p:nvSpPr>
          <p:spPr>
            <a:xfrm flipV="1">
              <a:off x="2521080" y="3053520"/>
              <a:ext cx="4101840" cy="901800"/>
            </a:xfrm>
            <a:prstGeom prst="pie">
              <a:avLst/>
            </a:prstGeom>
            <a:solidFill>
              <a:srgbClr val="da1f28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Esteem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تحقيق المكان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3079800" y="31543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15"/>
          <p:cNvGrpSpPr/>
          <p:nvPr/>
        </p:nvGrpSpPr>
        <p:grpSpPr>
          <a:xfrm>
            <a:off x="3282840" y="1301760"/>
            <a:ext cx="2578320" cy="1739880"/>
            <a:chOff x="3282840" y="1301760"/>
            <a:chExt cx="2578320" cy="1739880"/>
          </a:xfrm>
        </p:grpSpPr>
        <p:sp>
          <p:nvSpPr>
            <p:cNvPr id="772" name="AutoShape 16"/>
            <p:cNvSpPr/>
            <p:nvPr/>
          </p:nvSpPr>
          <p:spPr>
            <a:xfrm>
              <a:off x="3282840" y="1301760"/>
              <a:ext cx="2578320" cy="1739880"/>
            </a:xfrm>
            <a:prstGeom prst="triangle">
              <a:avLst>
                <a:gd name="adj" fmla="val 49995"/>
              </a:avLst>
            </a:prstGeom>
            <a:solidFill>
              <a:srgbClr val="fcfeb9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elf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act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e0f04"/>
                  </a:solidFill>
                  <a:latin typeface="Tahoma"/>
                  <a:cs typeface="Tahoma"/>
                </a:rPr>
                <a:t>تحقيق الذ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4343400" y="15238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8"/>
          <p:cNvSpPr/>
          <p:nvPr/>
        </p:nvSpPr>
        <p:spPr>
          <a:xfrm>
            <a:off x="928800" y="14292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حويل الحاجات إلى منافع ومنتج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"/>
          <p:cNvGraphicFramePr/>
          <p:nvPr/>
        </p:nvGraphicFramePr>
        <p:xfrm>
          <a:off x="500040" y="1214280"/>
          <a:ext cx="8143920" cy="5434200"/>
        </p:xfrm>
        <a:graphic>
          <a:graphicData uri="http://schemas.openxmlformats.org/drawingml/2006/table">
            <a:tbl>
              <a:tblPr/>
              <a:tblGrid>
                <a:gridCol w="3130560"/>
                <a:gridCol w="2298600"/>
                <a:gridCol w="2714760"/>
              </a:tblGrid>
              <a:tr h="93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نت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نف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ياه - مشروب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رتواء من العط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ة إلى الشرا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نظم الأمان – أحزمة الأ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حفظ النف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ة إلى الأ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نوادي – الموباي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صداقة (مثلا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ات الاجتماع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سيارات الفخمة – المجوهر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نيل احترام النا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ة إلى المكا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كتب – التعل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بتكا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حاجة إلى تحقيق الذ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سلوك المستهل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1A30-3D1C-4E34-861B-976447D6C5C0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900" spc="-1" strike="noStrike">
                <a:solidFill>
                  <a:srgbClr val="002060"/>
                </a:solidFill>
                <a:latin typeface="Lucida Sans Unicode"/>
              </a:rPr>
              <a:t>مدرج ماسلو للحاجات الإنسانية</a:t>
            </a:r>
            <a:endParaRPr b="1" lang="en-US" sz="59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780" name="Group 3"/>
          <p:cNvGrpSpPr/>
          <p:nvPr/>
        </p:nvGrpSpPr>
        <p:grpSpPr>
          <a:xfrm>
            <a:off x="196920" y="5797080"/>
            <a:ext cx="8750160" cy="901800"/>
            <a:chOff x="196920" y="5797080"/>
            <a:chExt cx="8750160" cy="901800"/>
          </a:xfrm>
        </p:grpSpPr>
        <p:sp>
          <p:nvSpPr>
            <p:cNvPr id="781" name="AutoShape 4"/>
            <p:cNvSpPr/>
            <p:nvPr/>
          </p:nvSpPr>
          <p:spPr>
            <a:xfrm flipV="1">
              <a:off x="196920" y="5796360"/>
              <a:ext cx="8750160" cy="901800"/>
            </a:xfrm>
            <a:prstGeom prst="pi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Psychologic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حاجات فسي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5"/>
            <p:cNvSpPr/>
            <p:nvPr/>
          </p:nvSpPr>
          <p:spPr>
            <a:xfrm>
              <a:off x="762120" y="6095880"/>
              <a:ext cx="44424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6"/>
          <p:cNvGrpSpPr/>
          <p:nvPr/>
        </p:nvGrpSpPr>
        <p:grpSpPr>
          <a:xfrm>
            <a:off x="920880" y="4882680"/>
            <a:ext cx="7302240" cy="901800"/>
            <a:chOff x="920880" y="4882680"/>
            <a:chExt cx="7302240" cy="901800"/>
          </a:xfrm>
        </p:grpSpPr>
        <p:sp>
          <p:nvSpPr>
            <p:cNvPr id="784" name="AutoShape 7"/>
            <p:cNvSpPr/>
            <p:nvPr/>
          </p:nvSpPr>
          <p:spPr>
            <a:xfrm flipV="1">
              <a:off x="920880" y="4881960"/>
              <a:ext cx="7302240" cy="901800"/>
            </a:xfrm>
            <a:prstGeom prst="pie">
              <a:avLst/>
            </a:prstGeom>
            <a:solidFill>
              <a:srgbClr val="01ffea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afety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أمـــ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8"/>
            <p:cNvSpPr/>
            <p:nvPr/>
          </p:nvSpPr>
          <p:spPr>
            <a:xfrm>
              <a:off x="1523880" y="51055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9"/>
          <p:cNvGrpSpPr/>
          <p:nvPr/>
        </p:nvGrpSpPr>
        <p:grpSpPr>
          <a:xfrm>
            <a:off x="1758960" y="3968280"/>
            <a:ext cx="5626080" cy="901800"/>
            <a:chOff x="1758960" y="3968280"/>
            <a:chExt cx="5626080" cy="901800"/>
          </a:xfrm>
        </p:grpSpPr>
        <p:sp>
          <p:nvSpPr>
            <p:cNvPr id="787" name="AutoShape 10"/>
            <p:cNvSpPr/>
            <p:nvPr/>
          </p:nvSpPr>
          <p:spPr>
            <a:xfrm flipV="1">
              <a:off x="1758960" y="3967560"/>
              <a:ext cx="5626080" cy="90180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ocial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640454"/>
                  </a:solidFill>
                  <a:latin typeface="Arial"/>
                  <a:cs typeface="Tahoma"/>
                </a:rPr>
                <a:t>الانتمــ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1"/>
            <p:cNvSpPr/>
            <p:nvPr/>
          </p:nvSpPr>
          <p:spPr>
            <a:xfrm>
              <a:off x="2209680" y="42670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2"/>
          <p:cNvGrpSpPr/>
          <p:nvPr/>
        </p:nvGrpSpPr>
        <p:grpSpPr>
          <a:xfrm>
            <a:off x="2521080" y="3053880"/>
            <a:ext cx="4101840" cy="901800"/>
            <a:chOff x="2521080" y="3053880"/>
            <a:chExt cx="4101840" cy="901800"/>
          </a:xfrm>
        </p:grpSpPr>
        <p:sp>
          <p:nvSpPr>
            <p:cNvPr id="790" name="AutoShape 13"/>
            <p:cNvSpPr/>
            <p:nvPr/>
          </p:nvSpPr>
          <p:spPr>
            <a:xfrm flipV="1">
              <a:off x="2521080" y="3053520"/>
              <a:ext cx="4101840" cy="901800"/>
            </a:xfrm>
            <a:prstGeom prst="pie">
              <a:avLst/>
            </a:prstGeom>
            <a:solidFill>
              <a:srgbClr val="da1f28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Esteem nee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Tahoma"/>
                </a:rPr>
                <a:t>تحقيق المكان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4"/>
            <p:cNvSpPr/>
            <p:nvPr/>
          </p:nvSpPr>
          <p:spPr>
            <a:xfrm>
              <a:off x="3079800" y="315432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15"/>
          <p:cNvGrpSpPr/>
          <p:nvPr/>
        </p:nvGrpSpPr>
        <p:grpSpPr>
          <a:xfrm>
            <a:off x="3282840" y="1301760"/>
            <a:ext cx="2578320" cy="1739880"/>
            <a:chOff x="3282840" y="1301760"/>
            <a:chExt cx="2578320" cy="1739880"/>
          </a:xfrm>
        </p:grpSpPr>
        <p:sp>
          <p:nvSpPr>
            <p:cNvPr id="793" name="AutoShape 16"/>
            <p:cNvSpPr/>
            <p:nvPr/>
          </p:nvSpPr>
          <p:spPr>
            <a:xfrm>
              <a:off x="3282840" y="1301760"/>
              <a:ext cx="2578320" cy="1739880"/>
            </a:xfrm>
            <a:prstGeom prst="triangle">
              <a:avLst>
                <a:gd name="adj" fmla="val 49995"/>
              </a:avLst>
            </a:prstGeom>
            <a:solidFill>
              <a:srgbClr val="fcfeb9"/>
            </a:solidFill>
            <a:ln w="1260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46464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Self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101"/>
                  </a:solidFill>
                  <a:latin typeface="Arial"/>
                  <a:ea typeface="Times New Roman"/>
                </a:rPr>
                <a:t>act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4e0f04"/>
                  </a:solidFill>
                  <a:latin typeface="Tahoma"/>
                  <a:cs typeface="Tahoma"/>
                </a:rPr>
                <a:t>تحقيق الذ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7"/>
            <p:cNvSpPr/>
            <p:nvPr/>
          </p:nvSpPr>
          <p:spPr>
            <a:xfrm>
              <a:off x="4343400" y="1523880"/>
              <a:ext cx="44460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64646"/>
                  </a:solidFill>
                  <a:latin typeface="Arial"/>
                  <a:ea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8"/>
          <p:cNvSpPr/>
          <p:nvPr/>
        </p:nvSpPr>
        <p:spPr>
          <a:xfrm>
            <a:off x="1719360" y="142920"/>
            <a:ext cx="606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دور الدافع في عملية إشباع الحاج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1214280" y="1714680"/>
            <a:ext cx="6782040" cy="5031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6600"/>
                </a:solidFill>
                <a:latin typeface="Arial"/>
                <a:cs typeface="PT Bold Heading"/>
              </a:rPr>
              <a:t>المستهلك عندما تنشأ لديه حاجة غير مشبعة يتكون لديه </a:t>
            </a: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دافع</a:t>
            </a:r>
            <a:r>
              <a:rPr b="0" lang="ar-SA" sz="5400" spc="-1" strike="noStrike">
                <a:solidFill>
                  <a:srgbClr val="006600"/>
                </a:solidFill>
                <a:latin typeface="Arial"/>
                <a:ea typeface="PT Bold Heading"/>
              </a:rPr>
              <a:t> للبحث عن منتجات تحقق المنافع التي تشبع هذه الحا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عنصر نائب لرقم الشريحة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3C0C-3B4B-4590-A84F-5BDC88369A6D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0080" y="341280"/>
            <a:ext cx="7148520" cy="9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Tahoma"/>
                <a:cs typeface="Tahoma"/>
              </a:rPr>
              <a:t>أنواع الدوافع</a:t>
            </a: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39480" indent="-237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40454"/>
                </a:solidFill>
                <a:latin typeface="Tahoma"/>
              </a:rPr>
              <a:t> </a:t>
            </a:r>
            <a:r>
              <a:rPr b="1" lang="ar-SA" sz="6000" spc="-1" strike="noStrike">
                <a:solidFill>
                  <a:srgbClr val="640454"/>
                </a:solidFill>
                <a:latin typeface="Tahoma"/>
              </a:rPr>
              <a:t>أولية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40454"/>
                </a:solidFill>
                <a:latin typeface="Tahoma"/>
              </a:rPr>
              <a:t> </a:t>
            </a:r>
            <a:r>
              <a:rPr b="1" lang="ar-SA" sz="6000" spc="-1" strike="noStrike">
                <a:solidFill>
                  <a:srgbClr val="640454"/>
                </a:solidFill>
                <a:latin typeface="Tahoma"/>
              </a:rPr>
              <a:t>انتقائية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40454"/>
                </a:solidFill>
                <a:latin typeface="Tahoma"/>
              </a:rPr>
              <a:t> </a:t>
            </a:r>
            <a:r>
              <a:rPr b="1" lang="ar-SA" sz="6000" spc="-1" strike="noStrike">
                <a:solidFill>
                  <a:srgbClr val="640454"/>
                </a:solidFill>
                <a:latin typeface="Tahoma"/>
              </a:rPr>
              <a:t>عقلية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40454"/>
                </a:solidFill>
                <a:latin typeface="Tahoma"/>
              </a:rPr>
              <a:t> </a:t>
            </a:r>
            <a:r>
              <a:rPr b="1" lang="ar-SA" sz="6000" spc="-1" strike="noStrike">
                <a:solidFill>
                  <a:srgbClr val="640454"/>
                </a:solidFill>
                <a:latin typeface="Tahoma"/>
              </a:rPr>
              <a:t>عاطفية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 algn="r" rtl="1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40454"/>
                </a:solidFill>
                <a:latin typeface="Tahoma"/>
              </a:rPr>
              <a:t> </a:t>
            </a:r>
            <a:r>
              <a:rPr b="1" lang="ar-SA" sz="6000" spc="-1" strike="noStrike">
                <a:solidFill>
                  <a:srgbClr val="640454"/>
                </a:solidFill>
                <a:latin typeface="Tahoma"/>
              </a:rPr>
              <a:t>تعامل</a:t>
            </a:r>
            <a:endParaRPr b="0" lang="en-US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01" name="Picture 4" descr="PE01682_"/>
          <p:cNvPicPr/>
          <p:nvPr/>
        </p:nvPicPr>
        <p:blipFill>
          <a:blip r:embed="rId1"/>
          <a:stretch/>
        </p:blipFill>
        <p:spPr>
          <a:xfrm>
            <a:off x="507960" y="1295280"/>
            <a:ext cx="3911760" cy="5276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8"/>
          <p:cNvSpPr/>
          <p:nvPr/>
        </p:nvSpPr>
        <p:spPr>
          <a:xfrm>
            <a:off x="357120" y="0"/>
            <a:ext cx="8429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5400" spc="-1" strike="noStrike">
                <a:solidFill>
                  <a:srgbClr val="e61893"/>
                </a:solidFill>
                <a:latin typeface="Arial"/>
                <a:cs typeface="PT Bold Heading"/>
              </a:rPr>
              <a:t>النفس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1719360" y="7858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دراك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1214280" y="1428840"/>
            <a:ext cx="6782040" cy="100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لإدراك هو عملية تلقي المعلومات وتنظيمها وتحديد معنى ل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"/>
          <p:cNvSpPr/>
          <p:nvPr/>
        </p:nvSpPr>
        <p:spPr>
          <a:xfrm>
            <a:off x="1214280" y="2643120"/>
            <a:ext cx="6782040" cy="947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يعتمد إدراكنا لما نتلقاه من رسائل على خبراتنا الساب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1214280" y="3786120"/>
            <a:ext cx="6782040" cy="3263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نحن ندرك الرسائل التسويقية التي تصل إليها بشكل انتقائي (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إدراك الانتقائي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)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ويعني ذلك: الانتباه للمثيرات القوية – إدراك ما يتفق مع ما نعرفه من معلومات – الاحتفاظ بجزء يسير من هذه الرسائل (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احتفاظ الانتقائي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) – كما أن المستهلك قد يفهم الرسالة على غير ما قصده المسوق (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خلل الانتقائي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) لذا يحرص المسوقون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أن يكون الخلل عند حده الأد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سهم منحني إلى اليسار 11"/>
          <p:cNvSpPr/>
          <p:nvPr/>
        </p:nvSpPr>
        <p:spPr>
          <a:xfrm>
            <a:off x="8429760" y="0"/>
            <a:ext cx="928440" cy="1143000"/>
          </a:xfrm>
          <a:custGeom>
            <a:avLst/>
            <a:gdLst>
              <a:gd name="textAreaLeft" fmla="*/ 124200 w 928440"/>
              <a:gd name="textAreaRight" fmla="*/ 804240 w 92844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85640" y="428400"/>
            <a:ext cx="8229600" cy="1143000"/>
          </a:xfrm>
          <a:prstGeom prst="rect">
            <a:avLst/>
          </a:prstGeom>
          <a:solidFill>
            <a:srgbClr val="08de2c"/>
          </a:solidFill>
          <a:ln w="381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Lucida Sans Unicode"/>
              </a:rPr>
              <a:t>نستنتج مما سبق اختلاف الأفراد في طريقة إدراك نفس المثير وبالتالي في رد الفعل اتجاه هذا المثير حسب: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AutoShape 4"/>
          <p:cNvSpPr/>
          <p:nvPr/>
        </p:nvSpPr>
        <p:spPr>
          <a:xfrm>
            <a:off x="4356000" y="2281320"/>
            <a:ext cx="3745080" cy="718920"/>
          </a:xfrm>
          <a:prstGeom prst="roundRect">
            <a:avLst>
              <a:gd name="adj" fmla="val 16667"/>
            </a:avLst>
          </a:prstGeom>
          <a:solidFill>
            <a:srgbClr val="9f6b03"/>
          </a:solidFill>
          <a:ln w="101520">
            <a:solidFill>
              <a:srgbClr val="ffcc00"/>
            </a:solidFill>
            <a:miter/>
          </a:ln>
          <a:effectLst>
            <a:outerShdw dist="107932" dir="2700000" blurRad="0" rotWithShape="0">
              <a:srgbClr val="4646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عمليات الإدراك الثلاث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5"/>
          <p:cNvSpPr/>
          <p:nvPr/>
        </p:nvSpPr>
        <p:spPr>
          <a:xfrm>
            <a:off x="3348000" y="5210280"/>
            <a:ext cx="3745080" cy="647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101520">
            <a:solidFill>
              <a:srgbClr val="ffcc00"/>
            </a:solidFill>
            <a:miter/>
          </a:ln>
          <a:effectLst>
            <a:outerShdw dist="107932" dir="2700000" blurRad="0" rotWithShape="0">
              <a:srgbClr val="4646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خلل الانتقائي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6"/>
          <p:cNvSpPr/>
          <p:nvPr/>
        </p:nvSpPr>
        <p:spPr>
          <a:xfrm>
            <a:off x="3348000" y="3281400"/>
            <a:ext cx="3745080" cy="647640"/>
          </a:xfrm>
          <a:prstGeom prst="roundRect">
            <a:avLst>
              <a:gd name="adj" fmla="val 16667"/>
            </a:avLst>
          </a:prstGeom>
          <a:solidFill>
            <a:srgbClr val="006600"/>
          </a:solidFill>
          <a:ln w="101520">
            <a:solidFill>
              <a:srgbClr val="ffcc00"/>
            </a:solidFill>
            <a:miter/>
          </a:ln>
          <a:effectLst>
            <a:outerShdw dist="107932" dir="2700000" blurRad="0" rotWithShape="0">
              <a:srgbClr val="4646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إدراك الانتق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7"/>
          <p:cNvSpPr/>
          <p:nvPr/>
        </p:nvSpPr>
        <p:spPr>
          <a:xfrm>
            <a:off x="3348000" y="4208400"/>
            <a:ext cx="3745080" cy="72072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 w="101520">
            <a:solidFill>
              <a:srgbClr val="ffcc00"/>
            </a:solidFill>
            <a:miter/>
          </a:ln>
          <a:effectLst>
            <a:outerShdw dist="107932" dir="2700000" blurRad="0" rotWithShape="0">
              <a:srgbClr val="4646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احتفاظ الانتقائي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14200" y="-214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8"/>
          <p:cNvSpPr/>
          <p:nvPr/>
        </p:nvSpPr>
        <p:spPr>
          <a:xfrm>
            <a:off x="357120" y="291960"/>
            <a:ext cx="8429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5400" spc="-1" strike="noStrike">
                <a:solidFill>
                  <a:srgbClr val="e61893"/>
                </a:solidFill>
                <a:latin typeface="Arial"/>
                <a:cs typeface="PT Bold Heading"/>
              </a:rPr>
              <a:t>النفس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8"/>
          <p:cNvSpPr/>
          <p:nvPr/>
        </p:nvSpPr>
        <p:spPr>
          <a:xfrm>
            <a:off x="1719360" y="15588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علم </a:t>
            </a:r>
            <a:r>
              <a:rPr b="0" lang="en-US" sz="3200" spc="-1" strike="noStrike">
                <a:solidFill>
                  <a:srgbClr val="23263c"/>
                </a:solidFill>
                <a:latin typeface="Arial"/>
                <a:ea typeface="PT Bold Heading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8"/>
          <p:cNvSpPr/>
          <p:nvPr/>
        </p:nvSpPr>
        <p:spPr>
          <a:xfrm>
            <a:off x="1214280" y="2779560"/>
            <a:ext cx="6782040" cy="155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يهدف المسوقون إلى ترك خبرات موجبة لدى المستهلك عن منتجاتهم (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تعلم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8"/>
          <p:cNvSpPr/>
          <p:nvPr/>
        </p:nvSpPr>
        <p:spPr>
          <a:xfrm>
            <a:off x="1214280" y="4259160"/>
            <a:ext cx="6782040" cy="1800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تتحول هذه الخبرات الموجبة (</a:t>
            </a: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عادة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) مع الوقت إلى سلوك يدعم اتخاذ القرارات نحو شراء منتجات الشركة التي قامت بتعليم المسته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سهم منحني إلى اليسار 6"/>
          <p:cNvSpPr/>
          <p:nvPr/>
        </p:nvSpPr>
        <p:spPr>
          <a:xfrm>
            <a:off x="8429760" y="285840"/>
            <a:ext cx="928440" cy="1143000"/>
          </a:xfrm>
          <a:custGeom>
            <a:avLst/>
            <a:gdLst>
              <a:gd name="textAreaLeft" fmla="*/ 124200 w 928440"/>
              <a:gd name="textAreaRight" fmla="*/ 804240 w 92844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1" name="Text Box 8"/>
          <p:cNvSpPr/>
          <p:nvPr/>
        </p:nvSpPr>
        <p:spPr>
          <a:xfrm>
            <a:off x="357120" y="291960"/>
            <a:ext cx="8429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5400" spc="-1" strike="noStrike">
                <a:solidFill>
                  <a:srgbClr val="e61893"/>
                </a:solidFill>
                <a:latin typeface="Arial"/>
                <a:cs typeface="PT Bold Heading"/>
              </a:rPr>
              <a:t>النفس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1719360" y="12142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اتجاهات </a:t>
            </a:r>
            <a:r>
              <a:rPr b="0" lang="en-US" sz="3200" spc="-1" strike="noStrike">
                <a:solidFill>
                  <a:srgbClr val="23263c"/>
                </a:solidFill>
                <a:latin typeface="Arial"/>
                <a:ea typeface="PT Bold Heading"/>
              </a:rPr>
              <a:t>At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8"/>
          <p:cNvSpPr/>
          <p:nvPr/>
        </p:nvSpPr>
        <p:spPr>
          <a:xfrm>
            <a:off x="1214280" y="1965240"/>
            <a:ext cx="6782040" cy="106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لاتجاه هو استعداد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مكتسب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يجعل الفرد يقبل أو يرفض شيء معين بشكل ثا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8"/>
          <p:cNvSpPr/>
          <p:nvPr/>
        </p:nvSpPr>
        <p:spPr>
          <a:xfrm>
            <a:off x="1214280" y="3260880"/>
            <a:ext cx="6782040" cy="1373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بصفة عامة تؤثر اتجاهات الفرد على سلوكه الشرائي حيث يميل الفرد إلى شراء ما يتوافق مع اتجاها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1214280" y="4429080"/>
            <a:ext cx="6782040" cy="3080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من خصائص الاتجاه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للاتجاه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هدف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وهو الشيء الذين يتكون حوله الاتج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تميل الاتجاهات إلى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الاستقرار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وصعوبة التغي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أنها قابلة ل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لتعم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يمكن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تغيير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اتجاهات ولكن تحتاج لوقت طوي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سهم منحني إلى اليسار 9"/>
          <p:cNvSpPr/>
          <p:nvPr/>
        </p:nvSpPr>
        <p:spPr>
          <a:xfrm>
            <a:off x="8501040" y="214200"/>
            <a:ext cx="928800" cy="1143000"/>
          </a:xfrm>
          <a:custGeom>
            <a:avLst/>
            <a:gdLst>
              <a:gd name="textAreaLeft" fmla="*/ 124200 w 928800"/>
              <a:gd name="textAreaRight" fmla="*/ 804600 w 92880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عنصر نائب لرقم الشريحة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8D91-E8AD-4932-B9A8-08C6210D5C1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2"/>
          <p:cNvGrpSpPr/>
          <p:nvPr/>
        </p:nvGrpSpPr>
        <p:grpSpPr>
          <a:xfrm>
            <a:off x="2195640" y="4076640"/>
            <a:ext cx="2539800" cy="2406600"/>
            <a:chOff x="2195640" y="4076640"/>
            <a:chExt cx="2539800" cy="2406600"/>
          </a:xfrm>
        </p:grpSpPr>
        <p:sp>
          <p:nvSpPr>
            <p:cNvPr id="829" name="Oval 3"/>
            <p:cNvSpPr/>
            <p:nvPr/>
          </p:nvSpPr>
          <p:spPr>
            <a:xfrm>
              <a:off x="2195640" y="4076640"/>
              <a:ext cx="2539800" cy="24066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7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ffff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4"/>
            <p:cNvSpPr/>
            <p:nvPr/>
          </p:nvSpPr>
          <p:spPr>
            <a:xfrm>
              <a:off x="2571840" y="5122800"/>
              <a:ext cx="1773000" cy="9421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ffff6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قابلة للتعمي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Group 5"/>
          <p:cNvGrpSpPr/>
          <p:nvPr/>
        </p:nvGrpSpPr>
        <p:grpSpPr>
          <a:xfrm>
            <a:off x="5435640" y="2133720"/>
            <a:ext cx="2463840" cy="2406600"/>
            <a:chOff x="5435640" y="2133720"/>
            <a:chExt cx="2463840" cy="2406600"/>
          </a:xfrm>
        </p:grpSpPr>
        <p:sp>
          <p:nvSpPr>
            <p:cNvPr id="832" name="Oval 6"/>
            <p:cNvSpPr/>
            <p:nvPr/>
          </p:nvSpPr>
          <p:spPr>
            <a:xfrm>
              <a:off x="5435640" y="2133720"/>
              <a:ext cx="2463840" cy="24066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ad7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6600"/>
              </a:solidFill>
              <a:miter/>
            </a:ln>
            <a:effectLst>
              <a:outerShdw dist="107932" dir="2700000" blurRad="0" rotWithShape="0">
                <a:srgbClr val="cc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7"/>
            <p:cNvSpPr/>
            <p:nvPr/>
          </p:nvSpPr>
          <p:spPr>
            <a:xfrm>
              <a:off x="5926320" y="3098880"/>
              <a:ext cx="141912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مكتسـب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Group 8"/>
          <p:cNvGrpSpPr/>
          <p:nvPr/>
        </p:nvGrpSpPr>
        <p:grpSpPr>
          <a:xfrm>
            <a:off x="4643280" y="4149720"/>
            <a:ext cx="2463840" cy="3076200"/>
            <a:chOff x="4643280" y="4149720"/>
            <a:chExt cx="2463840" cy="3076200"/>
          </a:xfrm>
        </p:grpSpPr>
        <p:sp>
          <p:nvSpPr>
            <p:cNvPr id="835" name="Oval 9"/>
            <p:cNvSpPr/>
            <p:nvPr/>
          </p:nvSpPr>
          <p:spPr>
            <a:xfrm>
              <a:off x="4643280" y="4149720"/>
              <a:ext cx="2463840" cy="240660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6db6b6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8080"/>
              </a:solidFill>
              <a:miter/>
            </a:ln>
            <a:effectLst>
              <a:outerShdw dist="107932" dir="2700000" blurRad="0" rotWithShape="0">
                <a:srgbClr val="0099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0"/>
            <p:cNvSpPr/>
            <p:nvPr/>
          </p:nvSpPr>
          <p:spPr>
            <a:xfrm>
              <a:off x="4890960" y="4576680"/>
              <a:ext cx="175284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تخص شيء      معين (الهدف) ولها قوة ومسار نحوه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11"/>
          <p:cNvSpPr/>
          <p:nvPr/>
        </p:nvSpPr>
        <p:spPr>
          <a:xfrm>
            <a:off x="1619280" y="620640"/>
            <a:ext cx="7315200" cy="70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7520" rIns="47520" tIns="19080" bIns="190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464646"/>
                </a:solidFill>
                <a:latin typeface="Arial"/>
                <a:cs typeface="Simplified Arabic"/>
              </a:rPr>
              <a:t>خصائص الاتجاهات</a:t>
            </a:r>
            <a:r>
              <a:rPr b="1" lang="en-US" sz="4400" spc="-1" strike="noStrike">
                <a:solidFill>
                  <a:srgbClr val="464646"/>
                </a:solidFill>
                <a:latin typeface="Arial"/>
                <a:ea typeface="Simplified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12"/>
          <p:cNvGrpSpPr/>
          <p:nvPr/>
        </p:nvGrpSpPr>
        <p:grpSpPr>
          <a:xfrm>
            <a:off x="3059280" y="1989000"/>
            <a:ext cx="2463480" cy="2406600"/>
            <a:chOff x="3059280" y="1989000"/>
            <a:chExt cx="2463480" cy="2406600"/>
          </a:xfrm>
        </p:grpSpPr>
        <p:sp>
          <p:nvSpPr>
            <p:cNvPr id="839" name="Oval 13"/>
            <p:cNvSpPr/>
            <p:nvPr/>
          </p:nvSpPr>
          <p:spPr>
            <a:xfrm>
              <a:off x="3059280" y="1989000"/>
              <a:ext cx="2463480" cy="2406600"/>
            </a:xfrm>
            <a:prstGeom prst="ellipse">
              <a:avLst/>
            </a:prstGeom>
            <a:gradFill rotWithShape="0">
              <a:gsLst>
                <a:gs pos="0">
                  <a:srgbClr val="2da2bf"/>
                </a:gs>
                <a:gs pos="100000">
                  <a:srgbClr val="b8e0e9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2da2bf"/>
              </a:solidFill>
              <a:miter/>
            </a:ln>
            <a:effectLst>
              <a:outerShdw dist="107932" dir="2700000" blurRad="0" rotWithShape="0">
                <a:srgbClr val="2da2b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4"/>
            <p:cNvSpPr/>
            <p:nvPr/>
          </p:nvSpPr>
          <p:spPr>
            <a:xfrm>
              <a:off x="3319560" y="2857320"/>
              <a:ext cx="175212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 rtl="1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Simplified Arabic"/>
                </a:rPr>
                <a:t>تتصف بالثبات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def5fa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2" name="Text Box 8"/>
          <p:cNvSpPr/>
          <p:nvPr/>
        </p:nvSpPr>
        <p:spPr>
          <a:xfrm>
            <a:off x="357120" y="363600"/>
            <a:ext cx="8429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5400" spc="-1" strike="noStrike">
                <a:solidFill>
                  <a:srgbClr val="eb641b"/>
                </a:solidFill>
                <a:latin typeface="Arial"/>
                <a:cs typeface="PT Bold Heading"/>
              </a:rPr>
              <a:t>الموقف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1214280" y="1558800"/>
            <a:ext cx="73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موقف الزمني للشراء (توقيت الشرا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1214280" y="2573280"/>
            <a:ext cx="6782040" cy="1556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يتأثر قرار الشراء بتوقيت الشراء (</a:t>
            </a:r>
            <a:r>
              <a:rPr b="0" lang="ar-SA" sz="2000" spc="-1" strike="noStrike">
                <a:solidFill>
                  <a:srgbClr val="e61893"/>
                </a:solidFill>
                <a:latin typeface="Arial"/>
                <a:cs typeface="PT Bold Heading"/>
              </a:rPr>
              <a:t>موسم – أسبوع – يوم – ساعة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) حيث تؤثر أوقات الشراء على حجم الطلب على المنتج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1214280" y="4502160"/>
            <a:ext cx="6782040" cy="2043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يؤثر الوقت المتاح (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ضغوط الوقت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) على القرارات الشرائية للفرد : مثل الإقبال على الوجبات الجاهزة في حالة الاستعج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57120" y="-214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8"/>
          <p:cNvSpPr/>
          <p:nvPr/>
        </p:nvSpPr>
        <p:spPr>
          <a:xfrm>
            <a:off x="1504800" y="2857680"/>
            <a:ext cx="606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2060"/>
                </a:solidFill>
                <a:latin typeface="Arial"/>
                <a:cs typeface="PT Bold Heading"/>
              </a:rPr>
              <a:t>سلوك المستهلك النهائ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7" name="Text Box 8"/>
          <p:cNvSpPr/>
          <p:nvPr/>
        </p:nvSpPr>
        <p:spPr>
          <a:xfrm>
            <a:off x="357120" y="36360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4000" spc="-1" strike="noStrike">
                <a:solidFill>
                  <a:srgbClr val="eb641b"/>
                </a:solidFill>
                <a:latin typeface="Arial"/>
                <a:cs typeface="PT Bold Heading"/>
              </a:rPr>
              <a:t>الموقف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8"/>
          <p:cNvSpPr/>
          <p:nvPr/>
        </p:nvSpPr>
        <p:spPr>
          <a:xfrm>
            <a:off x="1214280" y="1344600"/>
            <a:ext cx="7358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عوامل المادية المحيطة بالموقف الشرائ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8"/>
          <p:cNvSpPr/>
          <p:nvPr/>
        </p:nvSpPr>
        <p:spPr>
          <a:xfrm>
            <a:off x="1214280" y="2287440"/>
            <a:ext cx="6782040" cy="423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تؤثر الظروف المادية المحيطة بالموقف بالمستهلك في موقف الشراء على القرارات الشرائية للمستهلك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ه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ضاء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زح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ضوض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موسيق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سهم منحني إلى اليسار 5"/>
          <p:cNvSpPr/>
          <p:nvPr/>
        </p:nvSpPr>
        <p:spPr>
          <a:xfrm>
            <a:off x="8429760" y="0"/>
            <a:ext cx="928440" cy="1143000"/>
          </a:xfrm>
          <a:custGeom>
            <a:avLst/>
            <a:gdLst>
              <a:gd name="textAreaLeft" fmla="*/ 124200 w 928440"/>
              <a:gd name="textAreaRight" fmla="*/ 804240 w 92844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8"/>
          <p:cNvSpPr/>
          <p:nvPr/>
        </p:nvSpPr>
        <p:spPr>
          <a:xfrm>
            <a:off x="357120" y="363600"/>
            <a:ext cx="842976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5400" spc="-1" strike="noStrike">
                <a:solidFill>
                  <a:srgbClr val="eb641b"/>
                </a:solidFill>
                <a:latin typeface="Arial"/>
                <a:cs typeface="PT Bold Heading"/>
              </a:rPr>
              <a:t>الموقف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8"/>
          <p:cNvSpPr/>
          <p:nvPr/>
        </p:nvSpPr>
        <p:spPr>
          <a:xfrm>
            <a:off x="1214280" y="1344600"/>
            <a:ext cx="73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شروط الشر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8"/>
          <p:cNvSpPr/>
          <p:nvPr/>
        </p:nvSpPr>
        <p:spPr>
          <a:xfrm>
            <a:off x="1214280" y="2287440"/>
            <a:ext cx="6782040" cy="32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تؤثر شروط الشراء ومدى قبول المستهلك لها في موقف الشراء على القرارات الشرائية للمستهلك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ستخدام بطاقات الائتم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استعداد المستهلك لخدمة نفسه داخ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 المتج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سهم منحني إلى اليسار 5"/>
          <p:cNvSpPr/>
          <p:nvPr/>
        </p:nvSpPr>
        <p:spPr>
          <a:xfrm>
            <a:off x="8501040" y="285840"/>
            <a:ext cx="928800" cy="1143000"/>
          </a:xfrm>
          <a:custGeom>
            <a:avLst/>
            <a:gdLst>
              <a:gd name="textAreaLeft" fmla="*/ 124200 w 928800"/>
              <a:gd name="textAreaRight" fmla="*/ 804600 w 92880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7" name="Text Box 8"/>
          <p:cNvSpPr/>
          <p:nvPr/>
        </p:nvSpPr>
        <p:spPr>
          <a:xfrm>
            <a:off x="357120" y="363600"/>
            <a:ext cx="842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أثير العوامل </a:t>
            </a:r>
            <a:r>
              <a:rPr b="0" lang="ar-SA" sz="4000" spc="-1" strike="noStrike">
                <a:solidFill>
                  <a:srgbClr val="eb641b"/>
                </a:solidFill>
                <a:latin typeface="Arial"/>
                <a:cs typeface="PT Bold Heading"/>
              </a:rPr>
              <a:t>الموقف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على قرارات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8"/>
          <p:cNvSpPr/>
          <p:nvPr/>
        </p:nvSpPr>
        <p:spPr>
          <a:xfrm>
            <a:off x="1214280" y="1344600"/>
            <a:ext cx="73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حالة المزاجية للمستهلك عند الشر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8"/>
          <p:cNvSpPr/>
          <p:nvPr/>
        </p:nvSpPr>
        <p:spPr>
          <a:xfrm>
            <a:off x="1214280" y="2214720"/>
            <a:ext cx="6782040" cy="423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تؤثر الحالة المزاجية للمستهلك في موقف الشراء على القرارات الشرائية للمستهلك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ع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عج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غض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فر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قل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سهم منحني إلى اليسار 5"/>
          <p:cNvSpPr/>
          <p:nvPr/>
        </p:nvSpPr>
        <p:spPr>
          <a:xfrm>
            <a:off x="8429760" y="0"/>
            <a:ext cx="928440" cy="1143000"/>
          </a:xfrm>
          <a:custGeom>
            <a:avLst/>
            <a:gdLst>
              <a:gd name="textAreaLeft" fmla="*/ 124200 w 928440"/>
              <a:gd name="textAreaRight" fmla="*/ 804240 w 928440"/>
              <a:gd name="textAreaTop" fmla="*/ 198720 h 1143000"/>
              <a:gd name="textAreaBottom" fmla="*/ 828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3203986"/>
                <a:lnTo>
                  <a:pt x="5400" y="21362"/>
                </a:lnTo>
                <a:lnTo>
                  <a:pt x="0" y="17213"/>
                </a:lnTo>
                <a:lnTo>
                  <a:pt x="5400" y="12587"/>
                </a:lnTo>
                <a:lnTo>
                  <a:pt x="5400" y="14781"/>
                </a:lnTo>
                <a:arcTo wR="21600" hR="7510" stAng="3203986" swAng="-2840323"/>
                <a:lnTo>
                  <a:pt x="20658" y="9703"/>
                </a:lnTo>
                <a:arcTo wR="21600" hR="7510" stAng="-363663" swAng="-5036337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897"/>
                </a:lnTo>
                <a:arcTo wR="21600" hR="7510" stAng="0" swAng="-363663"/>
                <a:lnTo>
                  <a:pt x="20658" y="9703"/>
                </a:lnTo>
                <a:arcTo wR="21600" hR="7510" stAng="-363663" swAng="-5036337"/>
                <a:close/>
              </a:path>
            </a:pathLst>
          </a:custGeom>
          <a:solidFill>
            <a:srgbClr val="2da2bf"/>
          </a:solidFill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9"/>
          <p:cNvSpPr/>
          <p:nvPr/>
        </p:nvSpPr>
        <p:spPr>
          <a:xfrm>
            <a:off x="5670720" y="3648240"/>
            <a:ext cx="176364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نت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8"/>
          <p:cNvSpPr/>
          <p:nvPr/>
        </p:nvSpPr>
        <p:spPr>
          <a:xfrm>
            <a:off x="1785960" y="85716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يعتمد نجاح التسويق على نجاح العلاقة التبادلية بين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9"/>
          <p:cNvSpPr/>
          <p:nvPr/>
        </p:nvSpPr>
        <p:spPr>
          <a:xfrm>
            <a:off x="2571840" y="3643200"/>
            <a:ext cx="176364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سو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4" name="رابط منحني 68"/>
          <p:cNvCxnSpPr>
            <a:stCxn id="631" idx="0"/>
            <a:endCxn id="633" idx="0"/>
          </p:cNvCxnSpPr>
          <p:nvPr/>
        </p:nvCxnSpPr>
        <p:spPr>
          <a:xfrm flipV="1" rot="16200000">
            <a:off x="5000760" y="2095920"/>
            <a:ext cx="5760" cy="3099240"/>
          </a:xfrm>
          <a:prstGeom prst="curvedConnector5">
            <a:avLst>
              <a:gd name="adj1" fmla="val 4900000"/>
              <a:gd name="adj2" fmla="val 50000"/>
              <a:gd name="adj3" fmla="val 4900000"/>
            </a:avLst>
          </a:prstGeom>
          <a:ln w="55080">
            <a:solidFill>
              <a:srgbClr val="da1f28"/>
            </a:solidFill>
            <a:miter/>
            <a:tailEnd len="med" type="triangle" w="med"/>
          </a:ln>
        </p:spPr>
      </p:cxnSp>
      <p:cxnSp>
        <p:nvCxnSpPr>
          <p:cNvPr id="635" name="رابط منحني 71"/>
          <p:cNvCxnSpPr>
            <a:stCxn id="633" idx="2"/>
            <a:endCxn id="631" idx="2"/>
          </p:cNvCxnSpPr>
          <p:nvPr/>
        </p:nvCxnSpPr>
        <p:spPr>
          <a:xfrm flipH="1" rot="16200000">
            <a:off x="4965480" y="2985120"/>
            <a:ext cx="75240" cy="3099240"/>
          </a:xfrm>
          <a:prstGeom prst="curvedConnector5">
            <a:avLst>
              <a:gd name="adj1" fmla="val 406250"/>
              <a:gd name="adj2" fmla="val 50000"/>
              <a:gd name="adj3" fmla="val 406250"/>
            </a:avLst>
          </a:prstGeom>
          <a:ln w="5508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636" name="Text Box 9"/>
          <p:cNvSpPr/>
          <p:nvPr/>
        </p:nvSpPr>
        <p:spPr>
          <a:xfrm>
            <a:off x="2928960" y="2428920"/>
            <a:ext cx="412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030a0"/>
                </a:solidFill>
                <a:latin typeface="Arial"/>
                <a:cs typeface="PT Bold Heading"/>
              </a:rPr>
              <a:t>سلع –خدمات - أفك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2928960" y="5241960"/>
            <a:ext cx="412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030a0"/>
                </a:solidFill>
                <a:latin typeface="Arial"/>
                <a:cs typeface="PT Bold Heading"/>
              </a:rPr>
              <a:t>مقابل مادي أو معنو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8"/>
          <p:cNvSpPr/>
          <p:nvPr/>
        </p:nvSpPr>
        <p:spPr>
          <a:xfrm>
            <a:off x="1504800" y="2678040"/>
            <a:ext cx="606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2060"/>
                </a:solidFill>
                <a:latin typeface="Arial"/>
                <a:cs typeface="PT Bold Heading"/>
              </a:rPr>
              <a:t>ما هو السوق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8"/>
          <p:cNvSpPr/>
          <p:nvPr/>
        </p:nvSpPr>
        <p:spPr>
          <a:xfrm>
            <a:off x="1643040" y="0"/>
            <a:ext cx="60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تعريف السو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1158840" y="960480"/>
            <a:ext cx="6781680" cy="66733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جموعة من المستهلكين 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محتاج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و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راغب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و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قادر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على شراء السلع المعروضة عليهم ، ولديهم 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سلطة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في اتخاذ القرار بالشر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8"/>
          <p:cNvSpPr/>
          <p:nvPr/>
        </p:nvSpPr>
        <p:spPr>
          <a:xfrm>
            <a:off x="1071720" y="428760"/>
            <a:ext cx="714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الشروط الواجب توافرها في المستهلكين لكي يطلق عليهم سو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8"/>
          <p:cNvSpPr/>
          <p:nvPr/>
        </p:nvSpPr>
        <p:spPr>
          <a:xfrm>
            <a:off x="500040" y="2077920"/>
            <a:ext cx="814392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حاج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للمنتج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مدرج ماسلو للحاجات الإنساني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رغب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في الشراء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رغبة هي وسيلة إشباع الحاج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قدر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على الشراء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تشكل الطلب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سلط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اتخاذ القرار بالشراء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متخذ القرار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7"/>
          <p:cNvSpPr/>
          <p:nvPr/>
        </p:nvSpPr>
        <p:spPr>
          <a:xfrm rot="20398800">
            <a:off x="390240" y="546480"/>
            <a:ext cx="12308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سؤال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2076480" y="64296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ن هو المستهلك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1214280" y="2041560"/>
            <a:ext cx="678204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ستهلك هو مشتري السلعة أو الخد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(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ستهلك بصفة عامة هو من يقوم بشراء المنتجات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8"/>
          <p:cNvSpPr/>
          <p:nvPr/>
        </p:nvSpPr>
        <p:spPr>
          <a:xfrm>
            <a:off x="2000160" y="741240"/>
            <a:ext cx="60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2060"/>
                </a:solidFill>
                <a:latin typeface="Arial"/>
                <a:cs typeface="PT Bold Heading"/>
              </a:rPr>
              <a:t>أنواع المستهلك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1357200" y="2127240"/>
            <a:ext cx="67820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مستهلك 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نهائي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ن يشتري المنتج بغرض الاستخدام الشخصي أو العائ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1362240" y="3786120"/>
            <a:ext cx="6781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مستهلك </a:t>
            </a:r>
            <a:r>
              <a:rPr b="0" lang="ar-SA" sz="3600" spc="-1" strike="noStrike">
                <a:solidFill>
                  <a:srgbClr val="d27d00"/>
                </a:solidFill>
                <a:latin typeface="Arial"/>
                <a:cs typeface="PT Bold Heading"/>
              </a:rPr>
              <a:t>التجاري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ن يشتري المنتج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بغرض التشغيل في العمليات الصناعية والزراعية والتجارية والخد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3:01Z</dcterms:modified>
  <cp:revision>339</cp:revision>
  <dc:subject/>
  <dc:title>الشريحة 1</dc:title>
</cp:coreProperties>
</file>