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99AE-09DD-45A0-8C06-A8FC7B96C2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D5D0-261E-4243-983B-FF2D6F2FD73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55A1-49D5-4FF9-AAA1-062B7849B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17840"/>
            <a:ext cx="50292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066F-31B2-4FBD-9076-D66A25AE766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87C-06F4-43D9-AE0E-C7255E29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E10-E63A-4A62-8690-3A590322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C52E6-0BE6-4223-A04E-F0551583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6E8C7-FFD3-4910-BF32-674FDFB3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9F8A1-195E-41A6-B4B3-9048EDAB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1AB76-1737-4430-BED2-71A2BDA5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C8531-D89F-444D-AB47-058D2BDD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28638-80ED-4C41-8713-B5F11402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1C9FC-0E8C-4012-A9ED-25FC789B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51B40-D09F-48E4-BA10-925BF5F2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7CB24-CE0F-4051-AEC6-9617C683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6F0C8-F992-4B3B-96D6-CA17E576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D4E-65C9-4D1E-8BA3-E5A346C6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1AD71-DBB3-488F-843F-51EC988D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B81D8-DC0F-4994-AED2-7E4EB355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F8D37-4894-4B97-B1A9-9FED6F8B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48E13-3ECD-41AA-BE97-3D64E412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B3D9C-14F3-4EE2-A812-A9331A12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DD4E6-6BE4-47FE-B913-8639DA54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89856-F954-4971-97D8-6DE0B17F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D8F95-EE51-4C06-B3C3-245AA7C8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18B5E-0543-4F6A-9891-AE2BE0E0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3C06F-A17B-40F1-9AA0-A7AB0720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0FC-8449-4594-BA42-43623ADC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38841-3EF9-49AE-8CC7-1593F364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915AE-0309-4D13-AB85-37287A4B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C679A-8BE9-47CF-ADE5-9FC65419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F0946-1769-4CFC-AD54-6DACC7A9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D7E04-7D17-4060-ADC1-A9548C36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E81ED-D754-43CF-A807-3F17B8E9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0BA5C-729B-402B-9AE1-8D34A525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D8A6B-5E24-4048-810C-D1322209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A787C-4E43-433F-B2AE-EF750B2A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83A6E-09C4-43A6-A04D-87C33E51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EB0C-0D0F-4AC4-B350-CEB7566E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D4CC1-13BC-420C-8EBE-2537754E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D5D91-7A4B-4FB1-A140-5313D61F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E5772-0081-4952-AA96-79004D19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02C73-0373-43BA-ACA0-FD2732A0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2A495-E3F8-4648-8ABC-530C8B99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8CAB8-C493-455C-8B2B-15A2765A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6D769-67C1-4A31-9BB9-EDCA990E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59A92-717E-43EB-8BD3-128B4245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5B547-D809-4C1A-9A87-ED958BC2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AB23D-612F-4A43-A744-7C724C83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38EC-8395-4927-83DE-ACC12492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AD407-23C8-4705-AC20-37E192C4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FBC75-AF5F-4991-8963-C4064B65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9EEA4-8562-4EF6-906C-0190C127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BF0B5-BEF0-4763-B617-53365BE4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FA392-436C-4D42-903E-FDEC6615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64A1-6552-44AA-A424-BC779405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00DC-9F49-4697-A4C1-48941C81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5263-D60D-40E9-AEA5-E902E0B9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6151-58A7-4360-B2C5-06DF57FA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3B25-A4A6-41F9-9CE9-4A6808DD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2BB-1F6C-4830-AB42-0FF5A998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80BE-AC89-4373-8B56-FD9EE962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FE30-E4CB-48DB-A81C-BC1ABF08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5256-29F8-46E6-A837-FB493C0E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6A50-91F9-42E7-B01B-174172B0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4EF3-A956-4E55-8D8F-93FBD2CF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9CECF-0DD1-463F-83DD-F69A775A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0B38E-36B4-4904-86D1-B7F89815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214D5-183E-4737-958D-75C49B51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EEB07-FE7F-4DA4-82F6-27568801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E26A8-514D-4459-9CD1-A6BB7431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F6F-EF40-4318-AD2D-9C513D17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EACA-82CD-4C53-B0D6-12A4080A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06BC2-F741-4A7A-8DAA-38305785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998C-8072-4F1A-A981-9180619E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8C743-A461-4056-BD35-0F71BF4E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5DD4-E18D-4E6C-980D-848ADDB2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4A2D-50A6-49FF-8D10-B3753685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04D60-B2AC-4CA1-BA20-E421C460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849B9-2F37-439F-8422-798E38FB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B586C-7366-4DA2-9A6A-464D7F53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3750B-309A-48B2-9E6B-9589E3C0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AB5-110B-4F98-BD1A-BCBA669F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53A5C-AC6E-47FD-93D0-D64C6022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78D05-01E7-4E62-B1E6-469609F8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E640D-1A87-4A98-A0BE-FC07F20B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CF8C4-6D8D-485F-AE5F-3DB07695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F8E0-EF27-4537-BE97-54251E3F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2C367-E509-4DE7-B70A-E7CF4A43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3F20B-3275-46F7-BEBA-85A5BED3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2E63-E04E-4B4C-8AAE-53202DB9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7E19-D2CB-4C6C-B76C-CEED8CC3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60B6B-2021-4444-ACC4-4D167A25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0F3-68D5-4B7A-9C39-F930BD3B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FEBC2-5CC3-4CF5-A284-8C648CE2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A76E8-F67D-4C0D-92BA-C4BCA36D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2FB01-A8D8-49D3-A842-FA8BD69C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ACD06-2E8B-463C-8F21-AA2C80A8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47770-27AD-46B4-AC7C-71774C32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4CE8A-C1D7-4D10-91AC-9C6AF3DC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3334B-6187-4EFF-A8CA-88D0CE81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C8EA9-9B71-492C-9F2F-88B5BAED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24C29-4FFC-49C0-AB4D-0B8BE0E9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3CF0B-EDF2-461E-9F67-781ED817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A1F-4E48-41E7-951E-8EE95252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D4285-1E94-4EB3-A231-8BE07A2F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59E96-53CB-44A6-942F-2D614506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110E4-E409-4893-9492-3669722F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A855B-172A-4635-A9D4-E77704F6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29E54-16AC-4D1C-85B1-080DDF54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A2709-6121-4D86-8593-88E7E161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07E1C-1ABD-43D4-B8AC-92A7A402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E36D4-3182-47C2-AE7B-A9D061F4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BAC47-F4D5-4B2D-95DE-1DEA546E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08DAC-A7AD-4BCB-A6A0-95D5D118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0E3-6F8C-418B-8A32-CF81B397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4C7ED-9DB0-4F5E-BB31-91E9495E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01FD0-49E2-4786-B3CE-15D8D2C0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8BEE6-06DB-4524-AA93-E1D0928B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1476D-832D-4B3A-9336-D4D91226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3EFE3-1E79-4F02-8231-DEB01201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FBCC5-6866-4035-A890-E1B2AD43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EDB92-83E4-4BA8-AA8B-C6B92C80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82624-4A85-4FEC-B204-8081AE4F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DAA51-17F7-4292-A8A7-AC424F63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E3EE6-F054-4875-BDF5-7B223674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06F-33BF-45FE-A6DE-41E05C2A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E8E39-3B02-4402-9310-D0755FD5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8AAA2-6F83-4B2B-9B2A-7F8854FA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1B710-7716-4FC4-866E-F945F5A5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DCC96-781F-4898-B147-E5475A6C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A9CA9-5E54-4104-A119-36A6DCC1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0F88E-CD6F-47CE-851A-51BFA108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D5287-7F79-4EC0-A06A-1E0B1CCD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86D86-1140-4156-9545-C422B47A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5CDFF-362C-4FB1-8018-D41FC06E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E0832-2E49-4DF8-84E1-596654E9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347-78D9-4055-BDE8-359730DC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2F9BF-93B6-4ACB-9836-9F8A1C97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B6080-9DFA-4BA7-BBD8-18B7351B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826B7-9F9E-423B-8416-399748F0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36DAE-B527-4768-8527-E3E85897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5949C-7DDA-4DC6-8D5D-DD73F015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E9E69-D6E5-4EB2-B716-0F733DC4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9A0AB-7C66-451E-9834-FF3DCB2F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C2C69-3081-438D-979E-34887737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5E971-84D0-49BE-8533-4A69AAD1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2E7C9-03CD-499E-BB37-FCC1E8BB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66D3-E68F-4328-B306-4E35A89B00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70FF-B5AB-45B1-949E-E9557C3762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A613-E6D1-4DA0-ADBD-AEBAFB55ED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AF3E-C8A0-4AF2-80CF-0A9574062A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9697-7C2C-4FF9-A79D-5A4C4D5BE6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9E82-8847-431C-A6F4-B27ECE04C0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4A72-BDFE-4DDA-B06A-A7B6A98A78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FA69-C95A-4F5B-A5D0-C4E107DCE8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55CD-5DE2-4CE2-A85F-535EDE81B0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200B-7D3B-4A4F-B80E-48EB86029D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335D-AD51-4408-AC42-C38C144C7B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81E7-6D70-411C-BC08-A34832292B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2771640" y="1174680"/>
            <a:ext cx="54435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شكل بيضاوي 5"/>
          <p:cNvSpPr/>
          <p:nvPr/>
        </p:nvSpPr>
        <p:spPr>
          <a:xfrm>
            <a:off x="714240" y="1928880"/>
            <a:ext cx="1714680" cy="185724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مربع نص 4"/>
          <p:cNvSpPr/>
          <p:nvPr/>
        </p:nvSpPr>
        <p:spPr>
          <a:xfrm>
            <a:off x="1000080" y="1785960"/>
            <a:ext cx="10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aec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مجموعة 40"/>
          <p:cNvGrpSpPr/>
          <p:nvPr/>
        </p:nvGrpSpPr>
        <p:grpSpPr>
          <a:xfrm>
            <a:off x="0" y="11160"/>
            <a:ext cx="10001160" cy="7275600"/>
            <a:chOff x="0" y="11160"/>
            <a:chExt cx="10001160" cy="7275600"/>
          </a:xfrm>
        </p:grpSpPr>
        <p:pic>
          <p:nvPicPr>
            <p:cNvPr id="648" name="Picture 5" descr="show_file3"/>
            <p:cNvPicPr/>
            <p:nvPr/>
          </p:nvPicPr>
          <p:blipFill>
            <a:blip r:embed="rId1"/>
            <a:stretch/>
          </p:blipFill>
          <p:spPr>
            <a:xfrm>
              <a:off x="0" y="11160"/>
              <a:ext cx="10001160" cy="72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8"/>
            <p:cNvSpPr/>
            <p:nvPr/>
          </p:nvSpPr>
          <p:spPr>
            <a:xfrm>
              <a:off x="1710720" y="188280"/>
              <a:ext cx="598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2060"/>
                  </a:solidFill>
                  <a:latin typeface="Arial"/>
                  <a:cs typeface="PT Bold Heading"/>
                </a:rPr>
                <a:t>العوامل المؤثرة على سلوك المستهلك التجار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8"/>
            <p:cNvSpPr/>
            <p:nvPr/>
          </p:nvSpPr>
          <p:spPr>
            <a:xfrm>
              <a:off x="3734640" y="1126440"/>
              <a:ext cx="2042640" cy="2893320"/>
            </a:xfrm>
            <a:prstGeom prst="rect">
              <a:avLst/>
            </a:prstGeom>
            <a:solidFill>
              <a:srgbClr val="f2a4a7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ممارسات الشر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شراء المباش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معدل تكرار عملية الشرا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حجم الطل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مفاوضات والمسا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مقايض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وقعات الخدم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أمانة التوريد ومصداقيت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استئجا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8"/>
            <p:cNvSpPr/>
            <p:nvPr/>
          </p:nvSpPr>
          <p:spPr>
            <a:xfrm>
              <a:off x="1128600" y="732240"/>
              <a:ext cx="2122200" cy="2040840"/>
            </a:xfrm>
            <a:prstGeom prst="rect">
              <a:avLst/>
            </a:prstGeom>
            <a:solidFill>
              <a:srgbClr val="d3eef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مركز الشر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المستخدمو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المؤثرو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متخذو القرار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المراقبو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المتخصصون في الشر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8"/>
            <p:cNvSpPr/>
            <p:nvPr/>
          </p:nvSpPr>
          <p:spPr>
            <a:xfrm>
              <a:off x="5988600" y="1208880"/>
              <a:ext cx="2530800" cy="179748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دوافع الشر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دوافع مؤسس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دوافع شخصية للقائم بالشر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8"/>
            <p:cNvSpPr/>
            <p:nvPr/>
          </p:nvSpPr>
          <p:spPr>
            <a:xfrm>
              <a:off x="7118640" y="4540680"/>
              <a:ext cx="1616760" cy="1310760"/>
            </a:xfrm>
            <a:prstGeom prst="rect">
              <a:avLst/>
            </a:prstGeom>
            <a:solidFill>
              <a:srgbClr val="def5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أنواع القرارات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شراء جدي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شراء روتي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شراء معد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8"/>
            <p:cNvSpPr/>
            <p:nvPr/>
          </p:nvSpPr>
          <p:spPr>
            <a:xfrm>
              <a:off x="494640" y="4610520"/>
              <a:ext cx="2197440" cy="13107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العلاقة بين البائع والمشتر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سلسلة القيم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الول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8"/>
            <p:cNvSpPr/>
            <p:nvPr/>
          </p:nvSpPr>
          <p:spPr>
            <a:xfrm>
              <a:off x="3067920" y="4190040"/>
              <a:ext cx="3695400" cy="22892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6600"/>
                  </a:solidFill>
                  <a:latin typeface="Arial"/>
                  <a:cs typeface="PT Bold Heading"/>
                </a:rPr>
                <a:t>عملية اتخاذ القرار الشرائ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3d6aa8"/>
                  </a:solidFill>
                  <a:latin typeface="Arial"/>
                  <a:ea typeface="PT Bold Heading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cs typeface="PT Bold Heading"/>
                </a:rPr>
                <a:t>تحديد الحاج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ea typeface="PT Bold Heading"/>
                </a:rPr>
                <a:t> تحديد البدائل المتاحة وتقييمه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ea typeface="PT Bold Heading"/>
                </a:rPr>
                <a:t> اتخاذ قرار الشرا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cs typeface="PT Bold Heading"/>
                </a:rPr>
                <a:t>الشراء الفع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ea typeface="PT Bold Heading"/>
                </a:rPr>
                <a:t> سلوك ما بعد الشرا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6" name="رابط كسهم مستقيم 23"/>
            <p:cNvCxnSpPr>
              <a:stCxn id="650" idx="2"/>
              <a:endCxn id="655" idx="0"/>
            </p:cNvCxnSpPr>
            <p:nvPr/>
          </p:nvCxnSpPr>
          <p:spPr>
            <a:xfrm>
              <a:off x="4755600" y="3543120"/>
              <a:ext cx="158760" cy="647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7" name="رابط كسهم مستقيم 25"/>
            <p:cNvCxnSpPr>
              <a:stCxn id="652" idx="2"/>
            </p:cNvCxnSpPr>
            <p:nvPr/>
          </p:nvCxnSpPr>
          <p:spPr>
            <a:xfrm flipH="1">
              <a:off x="5917320" y="2750040"/>
              <a:ext cx="1337400" cy="1454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8" name="رابط كسهم مستقيم 27"/>
            <p:cNvCxnSpPr/>
            <p:nvPr/>
          </p:nvCxnSpPr>
          <p:spPr>
            <a:xfrm flipH="1" flipV="1">
              <a:off x="6762960" y="5523480"/>
              <a:ext cx="3528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9" name="رابط كسهم مستقيم 29"/>
            <p:cNvCxnSpPr/>
            <p:nvPr/>
          </p:nvCxnSpPr>
          <p:spPr>
            <a:xfrm>
              <a:off x="1409040" y="2507040"/>
              <a:ext cx="2320200" cy="1605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60" name="رابط كسهم مستقيم 34"/>
            <p:cNvCxnSpPr>
              <a:stCxn id="654" idx="3"/>
            </p:cNvCxnSpPr>
            <p:nvPr/>
          </p:nvCxnSpPr>
          <p:spPr>
            <a:xfrm>
              <a:off x="2692080" y="5138640"/>
              <a:ext cx="408960" cy="243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61" name="رابط مستقيم 63"/>
          <p:cNvSpPr/>
          <p:nvPr/>
        </p:nvSpPr>
        <p:spPr>
          <a:xfrm flipH="1" flipV="1">
            <a:off x="6000840" y="1571760"/>
            <a:ext cx="2571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رابط مستقيم 65"/>
          <p:cNvSpPr/>
          <p:nvPr/>
        </p:nvSpPr>
        <p:spPr>
          <a:xfrm flipH="1" flipV="1">
            <a:off x="3714840" y="1499760"/>
            <a:ext cx="207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رابط مستقيم 67"/>
          <p:cNvSpPr/>
          <p:nvPr/>
        </p:nvSpPr>
        <p:spPr>
          <a:xfrm flipH="1" flipV="1">
            <a:off x="1071360" y="1071360"/>
            <a:ext cx="214308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رابط مستقيم 70"/>
          <p:cNvSpPr/>
          <p:nvPr/>
        </p:nvSpPr>
        <p:spPr>
          <a:xfrm flipH="1" flipV="1">
            <a:off x="471240" y="502776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رابط مستقيم 78"/>
          <p:cNvSpPr/>
          <p:nvPr/>
        </p:nvSpPr>
        <p:spPr>
          <a:xfrm flipH="1">
            <a:off x="7143840" y="5072040"/>
            <a:ext cx="164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رابط مستقيم 80"/>
          <p:cNvSpPr/>
          <p:nvPr/>
        </p:nvSpPr>
        <p:spPr>
          <a:xfrm flipH="1" flipV="1">
            <a:off x="3071520" y="4784760"/>
            <a:ext cx="3714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8"/>
          <p:cNvSpPr/>
          <p:nvPr/>
        </p:nvSpPr>
        <p:spPr>
          <a:xfrm>
            <a:off x="1504800" y="2500200"/>
            <a:ext cx="606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تحديد الوضع التنافس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PT Bold Heading"/>
              </a:rPr>
              <a:t>Positi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8"/>
          <p:cNvSpPr/>
          <p:nvPr/>
        </p:nvSpPr>
        <p:spPr>
          <a:xfrm>
            <a:off x="1643040" y="71280"/>
            <a:ext cx="60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مفهوم الوضع التنافس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Pos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1158840" y="1785960"/>
            <a:ext cx="6781680" cy="2287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Arial"/>
                <a:cs typeface="PT Bold Heading"/>
              </a:rPr>
              <a:t>بعد تحديد السوق المستهدفة على الشركة تحديد مركز تنافسي لمنتجها داخل هذه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"/>
          <p:cNvSpPr/>
          <p:nvPr/>
        </p:nvSpPr>
        <p:spPr>
          <a:xfrm>
            <a:off x="1143000" y="4286160"/>
            <a:ext cx="6781680" cy="3018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يمثل المركز (الوضع) التنافسي الصورة الذهنية لدى العملاء عن وضع منتج الشركة مقارنة بالمنتجات المنافسة في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8"/>
          <p:cNvSpPr/>
          <p:nvPr/>
        </p:nvSpPr>
        <p:spPr>
          <a:xfrm>
            <a:off x="1643040" y="71280"/>
            <a:ext cx="60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مجال التركيز في بناء الوضع التنافس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1158840" y="2000160"/>
            <a:ext cx="6781680" cy="5121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يجب أن يركز بناء الوضع التنافسي للشركة على </a:t>
            </a:r>
            <a:r>
              <a:rPr b="1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مزايا</a:t>
            </a:r>
            <a:r>
              <a:rPr b="1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يرغبها المستهلك من المنتج غير موجودة في المنتجات المنافس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8"/>
          <p:cNvSpPr/>
          <p:nvPr/>
        </p:nvSpPr>
        <p:spPr>
          <a:xfrm>
            <a:off x="1643040" y="71280"/>
            <a:ext cx="606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إعادة بناء الوضع التنافس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Repos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1143000" y="1928880"/>
            <a:ext cx="6781680" cy="5578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ركز التنافسي للشركة 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لا يتصف بالثبات</a:t>
            </a:r>
            <a:r>
              <a:rPr b="0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 ، فقد يتغير بتغير أذواق المستهلكين أو غلبة المنافسة ، عندئذ تكون هناك حاجة لإعادة بناء المركز التنافس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8"/>
          <p:cNvSpPr/>
          <p:nvPr/>
        </p:nvSpPr>
        <p:spPr>
          <a:xfrm>
            <a:off x="1071720" y="3571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مراحل عملية تحديد الوضع التنافس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8"/>
          <p:cNvSpPr/>
          <p:nvPr/>
        </p:nvSpPr>
        <p:spPr>
          <a:xfrm>
            <a:off x="428760" y="2039760"/>
            <a:ext cx="814392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حديد (الوضع)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المرك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تنافسي ( 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المتانة – الراحة – سهولة الاستخدام – الأمان – انخفاض السع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في ضوء التعرف على الأوضاع التنافسية للمنتجات المنافسة في ذهن المستهلك لتحديد الفجوة التي ستركز عليها الشركة (رسم خريطة إدراكية للمنتجات المنافس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صميم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ميز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لإيصال المركز التنافسي للمستهلك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مثل اسم المنتج أو علامته التجارية .... زيت عافية بصحة وعافية (للدلالة على أن زيت عافية زيت صح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إعداد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مزيج تسويق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متكامل قادر على إيص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 المنتج ذو المركز التنافسي المحدد للمستهل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19120" y="1303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c00000"/>
                </a:solidFill>
                <a:latin typeface="Lucida Sans Unicode"/>
                <a:cs typeface="PT Bold Heading"/>
              </a:rPr>
              <a:t>الخريطة الإدراكية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Lucida Sans Unicode"/>
                <a:cs typeface="PT Bold Heading"/>
              </a:rPr>
              <a:t>هي وسيلة تمكن من التعرف على الطريقة التي ينظر بها العميل إلى منتجاتنا ومنتجات المنافسين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86" name="Picture 6" descr="j0411678"/>
          <p:cNvPicPr/>
          <p:nvPr/>
        </p:nvPicPr>
        <p:blipFill>
          <a:blip r:embed="rId1"/>
          <a:stretch/>
        </p:blipFill>
        <p:spPr>
          <a:xfrm>
            <a:off x="1928880" y="2403360"/>
            <a:ext cx="57610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c00000"/>
                </a:solidFill>
                <a:latin typeface="Lucida Sans Unicode"/>
                <a:cs typeface="PT Bold Heading"/>
              </a:rPr>
              <a:t>خطوات رسم الخريطة الإدراكية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02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 algn="r" rtl="1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تحديد </a:t>
            </a:r>
            <a:r>
              <a:rPr b="0" lang="ar-SA" sz="2700" spc="-1" strike="noStrike">
                <a:solidFill>
                  <a:srgbClr val="c00000"/>
                </a:solidFill>
                <a:latin typeface="Lucida Sans Unicode"/>
                <a:cs typeface="PT Bold Heading"/>
              </a:rPr>
              <a:t>المواصفات الحاسمة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في قرار الشراء لدى العمي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تحديد </a:t>
            </a:r>
            <a:r>
              <a:rPr b="0" lang="ar-SA" sz="2700" spc="-1" strike="noStrike">
                <a:solidFill>
                  <a:srgbClr val="c00000"/>
                </a:solidFill>
                <a:latin typeface="Lucida Sans Unicode"/>
                <a:cs typeface="PT Bold Heading"/>
              </a:rPr>
              <a:t>تفضيلات العملاء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ونسبتهم على الخريط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تحديد </a:t>
            </a:r>
            <a:r>
              <a:rPr b="0" lang="ar-SA" sz="2700" spc="-1" strike="noStrike">
                <a:solidFill>
                  <a:srgbClr val="c00000"/>
                </a:solidFill>
                <a:latin typeface="Lucida Sans Unicode"/>
                <a:cs typeface="PT Bold Heading"/>
              </a:rPr>
              <a:t>مواقع المنافسين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على الخريطة و أحجامه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وضع المنتج في المكان المناسب </a:t>
            </a:r>
            <a:r>
              <a:rPr b="0" lang="ar-SA" sz="2700" spc="-1" strike="noStrike">
                <a:solidFill>
                  <a:srgbClr val="c00000"/>
                </a:solidFill>
                <a:latin typeface="Lucida Sans Unicode"/>
                <a:cs typeface="PT Bold Heading"/>
              </a:rPr>
              <a:t>بعيدا عن المنافسين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وفي مناطق رغبات العملاء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Lucida Sans Unicode"/>
                <a:cs typeface="PT Bold Heading"/>
              </a:rPr>
              <a:t>الخريطة الإدراكية</a:t>
            </a:r>
            <a:endParaRPr b="1" lang="en-US" sz="3200" spc="-1" strike="noStrike">
              <a:solidFill>
                <a:srgbClr val="def5fa"/>
              </a:solidFill>
              <a:latin typeface="Lucida Sans Unicode"/>
            </a:endParaRPr>
          </a:p>
        </p:txBody>
      </p:sp>
      <p:grpSp>
        <p:nvGrpSpPr>
          <p:cNvPr id="690" name="Group 29"/>
          <p:cNvGrpSpPr/>
          <p:nvPr/>
        </p:nvGrpSpPr>
        <p:grpSpPr>
          <a:xfrm>
            <a:off x="1022400" y="1000080"/>
            <a:ext cx="7737120" cy="5685120"/>
            <a:chOff x="1022400" y="1000080"/>
            <a:chExt cx="7737120" cy="5685120"/>
          </a:xfrm>
        </p:grpSpPr>
        <p:sp>
          <p:nvSpPr>
            <p:cNvPr id="691" name="Line 3"/>
            <p:cNvSpPr/>
            <p:nvPr/>
          </p:nvSpPr>
          <p:spPr>
            <a:xfrm>
              <a:off x="4317120" y="2020680"/>
              <a:ext cx="5400" cy="432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4"/>
            <p:cNvSpPr/>
            <p:nvPr/>
          </p:nvSpPr>
          <p:spPr>
            <a:xfrm flipV="1">
              <a:off x="1657080" y="3986280"/>
              <a:ext cx="5482440" cy="2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5"/>
            <p:cNvSpPr/>
            <p:nvPr/>
          </p:nvSpPr>
          <p:spPr>
            <a:xfrm>
              <a:off x="3670200" y="1000080"/>
              <a:ext cx="12610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 rtl="1">
                <a:tabLst>
                  <a:tab algn="l" pos="0"/>
                  <a:tab algn="l" pos="3657600"/>
                  <a:tab algn="l" pos="73152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سع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6"/>
            <p:cNvSpPr/>
            <p:nvPr/>
          </p:nvSpPr>
          <p:spPr>
            <a:xfrm>
              <a:off x="7562520" y="3674520"/>
              <a:ext cx="1197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 rtl="1">
                <a:tabLst>
                  <a:tab algn="l" pos="0"/>
                  <a:tab algn="l" pos="3657600"/>
                  <a:tab algn="l" pos="73152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جود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7"/>
            <p:cNvSpPr/>
            <p:nvPr/>
          </p:nvSpPr>
          <p:spPr>
            <a:xfrm>
              <a:off x="3949200" y="1281960"/>
              <a:ext cx="72612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 rtl="1">
                <a:tabLst>
                  <a:tab algn="l" pos="0"/>
                  <a:tab algn="l" pos="3657600"/>
                  <a:tab algn="l" pos="7315200"/>
                </a:tabLst>
              </a:pPr>
              <a:r>
                <a:rPr b="1" lang="en-US" sz="4800" spc="-1" strike="noStrike">
                  <a:solidFill>
                    <a:srgbClr val="c00000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8"/>
            <p:cNvSpPr/>
            <p:nvPr/>
          </p:nvSpPr>
          <p:spPr>
            <a:xfrm>
              <a:off x="3844800" y="5769360"/>
              <a:ext cx="101556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4320" rIns="184320" tIns="92160" bIns="92160" anchor="t">
              <a:spAutoFit/>
            </a:bodyPr>
            <a:p>
              <a:pPr algn="ctr" rtl="1">
                <a:tabLst>
                  <a:tab algn="l" pos="0"/>
                  <a:tab algn="l" pos="3657600"/>
                  <a:tab algn="l" pos="7315200"/>
                </a:tabLst>
              </a:pPr>
              <a:r>
                <a:rPr b="1" lang="ar-SA" sz="4800" spc="-1" strike="noStrike">
                  <a:solidFill>
                    <a:srgbClr val="c00000"/>
                  </a:solidFill>
                  <a:latin typeface="Arial"/>
                </a:rPr>
                <a:t>_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9"/>
            <p:cNvSpPr/>
            <p:nvPr/>
          </p:nvSpPr>
          <p:spPr>
            <a:xfrm>
              <a:off x="1022400" y="3171600"/>
              <a:ext cx="690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4320" rIns="184320" tIns="92160" bIns="92160" anchor="t">
              <a:spAutoFit/>
            </a:bodyPr>
            <a:p>
              <a:pPr algn="ctr" rtl="1">
                <a:tabLst>
                  <a:tab algn="l" pos="0"/>
                  <a:tab algn="l" pos="3657600"/>
                  <a:tab algn="l" pos="7315200"/>
                </a:tabLst>
              </a:pPr>
              <a:r>
                <a:rPr b="1" lang="ar-SA" sz="4800" spc="-1" strike="noStrike">
                  <a:solidFill>
                    <a:srgbClr val="c00000"/>
                  </a:solidFill>
                  <a:latin typeface="Arial"/>
                </a:rPr>
                <a:t>_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0"/>
            <p:cNvSpPr/>
            <p:nvPr/>
          </p:nvSpPr>
          <p:spPr>
            <a:xfrm>
              <a:off x="7002000" y="3499920"/>
              <a:ext cx="72612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 rtl="1">
                <a:tabLst>
                  <a:tab algn="l" pos="0"/>
                  <a:tab algn="l" pos="3657600"/>
                  <a:tab algn="l" pos="7315200"/>
                </a:tabLst>
              </a:pPr>
              <a:r>
                <a:rPr b="1" lang="en-US" sz="4800" spc="-1" strike="noStrike">
                  <a:solidFill>
                    <a:srgbClr val="c00000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24"/>
            <p:cNvSpPr/>
            <p:nvPr/>
          </p:nvSpPr>
          <p:spPr>
            <a:xfrm>
              <a:off x="1433160" y="5320800"/>
              <a:ext cx="1101600" cy="524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25"/>
            <p:cNvSpPr/>
            <p:nvPr/>
          </p:nvSpPr>
          <p:spPr>
            <a:xfrm>
              <a:off x="5585760" y="3300480"/>
              <a:ext cx="1101960" cy="52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26"/>
            <p:cNvSpPr/>
            <p:nvPr/>
          </p:nvSpPr>
          <p:spPr>
            <a:xfrm>
              <a:off x="4569840" y="2403360"/>
              <a:ext cx="1101600" cy="52416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ج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27"/>
            <p:cNvSpPr/>
            <p:nvPr/>
          </p:nvSpPr>
          <p:spPr>
            <a:xfrm>
              <a:off x="2789280" y="4347720"/>
              <a:ext cx="1101960" cy="524160"/>
            </a:xfrm>
            <a:prstGeom prst="ellipse">
              <a:avLst/>
            </a:prstGeom>
            <a:solidFill>
              <a:srgbClr val="e618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8"/>
          <p:cNvSpPr/>
          <p:nvPr/>
        </p:nvSpPr>
        <p:spPr>
          <a:xfrm>
            <a:off x="428760" y="357120"/>
            <a:ext cx="8243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d314e"/>
                </a:solidFill>
                <a:latin typeface="Arial"/>
                <a:cs typeface="PT Bold Heading"/>
              </a:rPr>
              <a:t>مكونات البرنامج التسو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3643200" y="1263600"/>
            <a:ext cx="2067120" cy="30708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جزئة السو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643200" y="2571840"/>
            <a:ext cx="2067120" cy="307080"/>
          </a:xfrm>
          <a:prstGeom prst="rect">
            <a:avLst/>
          </a:prstGeom>
          <a:solidFill>
            <a:srgbClr val="d5a7b1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تنبؤ بالطل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3643200" y="3214800"/>
            <a:ext cx="2067120" cy="520200"/>
          </a:xfrm>
          <a:prstGeom prst="rect">
            <a:avLst/>
          </a:prstGeom>
          <a:solidFill>
            <a:srgbClr val="ff66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قطاعات المستهدف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3643200" y="3857760"/>
            <a:ext cx="206712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وضع التنافس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654280" y="4572000"/>
            <a:ext cx="4068720" cy="3660120"/>
          </a:xfrm>
          <a:prstGeom prst="rect">
            <a:avLst/>
          </a:prstGeom>
          <a:solidFill>
            <a:srgbClr val="ead3d8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4214880" y="492912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منت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4221000" y="585792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5429160" y="542916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عي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3000240" y="542916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رابط كسهم مستقيم 19"/>
          <p:cNvCxnSpPr>
            <a:stCxn id="594" idx="2"/>
          </p:cNvCxnSpPr>
          <p:nvPr/>
        </p:nvCxnSpPr>
        <p:spPr>
          <a:xfrm flipH="1">
            <a:off x="4672800" y="1571760"/>
            <a:ext cx="3960" cy="10008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رابط كسهم مستقيم 20"/>
          <p:cNvCxnSpPr/>
          <p:nvPr/>
        </p:nvCxnSpPr>
        <p:spPr>
          <a:xfrm flipH="1">
            <a:off x="4672800" y="2857680"/>
            <a:ext cx="2520" cy="357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رابط كسهم مستقيم 21"/>
          <p:cNvCxnSpPr/>
          <p:nvPr/>
        </p:nvCxnSpPr>
        <p:spPr>
          <a:xfrm flipH="1">
            <a:off x="4672800" y="3499920"/>
            <a:ext cx="2520" cy="358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6" name="رابط كسهم مستقيم 27"/>
          <p:cNvCxnSpPr>
            <a:stCxn id="598" idx="0"/>
            <a:endCxn id="597" idx="2"/>
          </p:cNvCxnSpPr>
          <p:nvPr/>
        </p:nvCxnSpPr>
        <p:spPr>
          <a:xfrm flipH="1" flipV="1">
            <a:off x="4676040" y="4164840"/>
            <a:ext cx="13320" cy="4071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607" name="رابط مستقيم 29"/>
          <p:cNvSpPr/>
          <p:nvPr/>
        </p:nvSpPr>
        <p:spPr>
          <a:xfrm flipH="1" flipV="1">
            <a:off x="4000680" y="5583240"/>
            <a:ext cx="142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رابط مستقيم 31"/>
          <p:cNvSpPr/>
          <p:nvPr/>
        </p:nvSpPr>
        <p:spPr>
          <a:xfrm>
            <a:off x="4714920" y="5237280"/>
            <a:ext cx="648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رابط مستقيم 33"/>
          <p:cNvSpPr/>
          <p:nvPr/>
        </p:nvSpPr>
        <p:spPr>
          <a:xfrm>
            <a:off x="5214960" y="5083200"/>
            <a:ext cx="7142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رابط مستقيم 35"/>
          <p:cNvSpPr/>
          <p:nvPr/>
        </p:nvSpPr>
        <p:spPr>
          <a:xfrm flipH="1">
            <a:off x="5221440" y="5737320"/>
            <a:ext cx="7077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رابط مستقيم 37"/>
          <p:cNvSpPr/>
          <p:nvPr/>
        </p:nvSpPr>
        <p:spPr>
          <a:xfrm>
            <a:off x="3500280" y="5737320"/>
            <a:ext cx="72072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رابط مستقيم 39"/>
          <p:cNvSpPr/>
          <p:nvPr/>
        </p:nvSpPr>
        <p:spPr>
          <a:xfrm flipH="1">
            <a:off x="3499920" y="5082480"/>
            <a:ext cx="71460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6616800" y="3835440"/>
            <a:ext cx="1643040" cy="520200"/>
          </a:xfrm>
          <a:prstGeom prst="rect">
            <a:avLst/>
          </a:prstGeom>
          <a:solidFill>
            <a:srgbClr val="00b0f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داخ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رابط كسهم مستقيم 28"/>
          <p:cNvCxnSpPr/>
          <p:nvPr/>
        </p:nvCxnSpPr>
        <p:spPr>
          <a:xfrm flipH="1" flipV="1">
            <a:off x="6714360" y="5500440"/>
            <a:ext cx="7866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5" name="رابط مستقيم 42"/>
          <p:cNvSpPr/>
          <p:nvPr/>
        </p:nvSpPr>
        <p:spPr>
          <a:xfrm>
            <a:off x="7436880" y="4359240"/>
            <a:ext cx="36360" cy="1141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1027080" y="3833640"/>
            <a:ext cx="1643040" cy="520200"/>
          </a:xfrm>
          <a:prstGeom prst="rect">
            <a:avLst/>
          </a:prstGeom>
          <a:solidFill>
            <a:srgbClr val="f3a27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خارج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رابط مستقيم 46"/>
          <p:cNvSpPr/>
          <p:nvPr/>
        </p:nvSpPr>
        <p:spPr>
          <a:xfrm>
            <a:off x="1848600" y="4357800"/>
            <a:ext cx="34920" cy="1143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رابط كسهم مستقيم 48"/>
          <p:cNvCxnSpPr>
            <a:endCxn id="598" idx="1"/>
          </p:cNvCxnSpPr>
          <p:nvPr/>
        </p:nvCxnSpPr>
        <p:spPr>
          <a:xfrm flipV="1">
            <a:off x="1857240" y="5490360"/>
            <a:ext cx="797760" cy="10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Text Box 8"/>
          <p:cNvSpPr/>
          <p:nvPr/>
        </p:nvSpPr>
        <p:spPr>
          <a:xfrm>
            <a:off x="620568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حلي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215040" y="6108840"/>
            <a:ext cx="438120" cy="33732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خطي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273060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رقاب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2714760" y="610884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نفي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رابط كسهم مستقيم 41"/>
          <p:cNvCxnSpPr/>
          <p:nvPr/>
        </p:nvCxnSpPr>
        <p:spPr>
          <a:xfrm>
            <a:off x="3168720" y="4722840"/>
            <a:ext cx="303768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4" name="رابط كسهم مستقيم 45"/>
          <p:cNvCxnSpPr/>
          <p:nvPr/>
        </p:nvCxnSpPr>
        <p:spPr>
          <a:xfrm>
            <a:off x="6525000" y="4858920"/>
            <a:ext cx="1044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5" name="رابط كسهم مستقيم 49"/>
          <p:cNvCxnSpPr/>
          <p:nvPr/>
        </p:nvCxnSpPr>
        <p:spPr>
          <a:xfrm flipH="1" flipV="1">
            <a:off x="3152520" y="6284160"/>
            <a:ext cx="3062880" cy="25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6" name="رابط كسهم مستقيم 51"/>
          <p:cNvCxnSpPr/>
          <p:nvPr/>
        </p:nvCxnSpPr>
        <p:spPr>
          <a:xfrm flipH="1" flipV="1">
            <a:off x="2866320" y="4858560"/>
            <a:ext cx="540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8"/>
          <p:cNvSpPr/>
          <p:nvPr/>
        </p:nvSpPr>
        <p:spPr>
          <a:xfrm>
            <a:off x="571680" y="294480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تحليل سلوك المستهل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Consumer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8"/>
          <p:cNvSpPr/>
          <p:nvPr/>
        </p:nvSpPr>
        <p:spPr>
          <a:xfrm>
            <a:off x="571680" y="262584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تحليل سلو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ستهلك التج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8"/>
          <p:cNvSpPr/>
          <p:nvPr/>
        </p:nvSpPr>
        <p:spPr>
          <a:xfrm>
            <a:off x="1090440" y="4428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مكونات سوق الأعمال التج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8"/>
          <p:cNvSpPr/>
          <p:nvPr/>
        </p:nvSpPr>
        <p:spPr>
          <a:xfrm>
            <a:off x="428760" y="1357200"/>
            <a:ext cx="81439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سوق الصناع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سوق الزر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سوق إعادة البيع (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سواء لشركات أخرى أو للمستهلك النهائي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سوق  الحكو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سوق الخد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6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سوق الأعمال غير التج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7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سوق الدو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8"/>
          <p:cNvSpPr/>
          <p:nvPr/>
        </p:nvSpPr>
        <p:spPr>
          <a:xfrm>
            <a:off x="1090440" y="21420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خصائص الطلب سوق الأعمال التج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28760" y="1071720"/>
            <a:ext cx="8143920" cy="73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طلب المؤسسات التجارية على المنتجات طلب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شت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طلب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جامد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(طلب المؤسسات التجارية عل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   المنتجات هو طلب منخفض المرونة السعرية) بسبب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غيرات السعرية تشمل الصناعة كك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تعاقد المنتجين على المواد في الأجل الطو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معظم سلع المستهلك النهائي ذات تكلفة موزعة على عدد كبير من الأصن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تذبذب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طلب التجاري بشكل كبير (</a:t>
            </a:r>
            <a:r>
              <a:rPr b="0" lang="ar-SA" sz="1600" spc="-1" strike="noStrike">
                <a:solidFill>
                  <a:srgbClr val="c00000"/>
                </a:solidFill>
                <a:latin typeface="Arial"/>
                <a:cs typeface="PT Bold Heading"/>
              </a:rPr>
              <a:t>لأسباب غير السعر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ذات دوافع شراء عقلية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(</a:t>
            </a:r>
            <a:r>
              <a:rPr b="0" lang="ar-SA" sz="1400" spc="-1" strike="noStrike">
                <a:solidFill>
                  <a:srgbClr val="006600"/>
                </a:solidFill>
                <a:latin typeface="Arial"/>
                <a:cs typeface="PT Bold Heading"/>
              </a:rPr>
              <a:t>تستند إلى معايير التكلفة والعائد والطاقة الإنتاجية ...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5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يتم فيها اتخاذ قرار الشراء بشك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جماعي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(</a:t>
            </a:r>
            <a:r>
              <a:rPr b="0" lang="ar-SA" sz="1600" spc="-1" strike="noStrike">
                <a:solidFill>
                  <a:srgbClr val="006600"/>
                </a:solidFill>
                <a:latin typeface="Arial"/>
                <a:cs typeface="PT Bold Heading"/>
              </a:rPr>
              <a:t>عن طريق لجان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يت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إعلام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المشترين التجاريين بشكل جيد ع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   المنتج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8"/>
          <p:cNvSpPr/>
          <p:nvPr/>
        </p:nvSpPr>
        <p:spPr>
          <a:xfrm>
            <a:off x="1090440" y="21420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راحل التي تمر بها عملية شراء المشتري التج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428760" y="911160"/>
            <a:ext cx="81439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تحديد </a:t>
            </a:r>
            <a:r>
              <a:rPr b="0" lang="ar-SA" sz="2800" spc="-1" strike="noStrike">
                <a:solidFill>
                  <a:srgbClr val="0070c0"/>
                </a:solidFill>
                <a:latin typeface="Arial"/>
                <a:cs typeface="PT Bold Heading"/>
              </a:rPr>
              <a:t>الحاجة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إلى السلعة (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  <a:cs typeface="PT Bold Heading"/>
              </a:rPr>
              <a:t>من: المخازن – الأقسام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إصدار </a:t>
            </a:r>
            <a:r>
              <a:rPr b="0" lang="ar-SA" sz="2800" spc="-1" strike="noStrike">
                <a:solidFill>
                  <a:srgbClr val="0070c0"/>
                </a:solidFill>
                <a:latin typeface="Arial"/>
                <a:cs typeface="PT Bold Heading"/>
              </a:rPr>
              <a:t>طلب شراء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لإدارة المشتريات بالمنشأ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بحث عن </a:t>
            </a:r>
            <a:r>
              <a:rPr b="0" lang="ar-SA" sz="2800" spc="-1" strike="noStrike">
                <a:solidFill>
                  <a:srgbClr val="0070c0"/>
                </a:solidFill>
                <a:latin typeface="Arial"/>
                <a:cs typeface="PT Bold Heading"/>
              </a:rPr>
              <a:t>موردين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لتوريد السلع المطلوبة (</a:t>
            </a:r>
            <a:r>
              <a:rPr b="0" lang="ar-SA" sz="1600" spc="-1" strike="noStrike">
                <a:solidFill>
                  <a:srgbClr val="006600"/>
                </a:solidFill>
                <a:latin typeface="Arial"/>
                <a:cs typeface="PT Bold Heading"/>
              </a:rPr>
              <a:t>عن طريق لجنة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0070c0"/>
                </a:solidFill>
                <a:latin typeface="Arial"/>
                <a:cs typeface="PT Bold Heading"/>
              </a:rPr>
              <a:t>المفاضلة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بين الموردين واختيار أحد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0070c0"/>
                </a:solidFill>
                <a:latin typeface="Arial"/>
                <a:cs typeface="PT Bold Heading"/>
              </a:rPr>
              <a:t>التعاقد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مع المورد الذي تم اختياره وإصدار أمر التوري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فحص واستلام 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أصناف الموردة وتسليمها للمخاز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محاسبة المورد عن توريد الأصناف (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سداد قيمة البضاعة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0070c0"/>
                </a:solidFill>
                <a:latin typeface="Arial"/>
                <a:cs typeface="PT Bold Heading"/>
              </a:rPr>
              <a:t>تقييم أداء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نتجات المشتر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8"/>
          <p:cNvSpPr/>
          <p:nvPr/>
        </p:nvSpPr>
        <p:spPr>
          <a:xfrm>
            <a:off x="1090440" y="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نواع المنتجات المشتراة من قبل المستهلك التج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428760" y="2500200"/>
            <a:ext cx="8143920" cy="42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شراء منتج 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00000"/>
                </a:solidFill>
                <a:latin typeface="Arial"/>
                <a:ea typeface="PT Bold Heading"/>
              </a:rPr>
              <a:t>         منتج يتم شراؤه لأول مرة : يحتاج لدقة عالية في اتخاذ قرار الشراء لاختيار المنتج المناس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شراء روتي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00000"/>
                </a:solidFill>
                <a:latin typeface="Arial"/>
                <a:ea typeface="PT Bold Heading"/>
              </a:rPr>
              <a:t>         إعادة شراء منتجات سبق شراؤها ، حيث تأكدت مناسبة هذا المنت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شراء معد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00000"/>
                </a:solidFill>
                <a:latin typeface="Arial"/>
                <a:ea typeface="PT Bold Heading"/>
              </a:rPr>
              <a:t>         تعديل مواصفات المنتجات التي تم شراؤها من قب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1071720" y="1571760"/>
            <a:ext cx="714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Arial"/>
                <a:cs typeface="PT Bold Heading"/>
              </a:rPr>
              <a:t>يتم شراء الآلات والمعدات والعدد والآلات وقطع الغيار والمواد الخام ومهمات التشغيل كما ي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8"/>
          <p:cNvSpPr/>
          <p:nvPr/>
        </p:nvSpPr>
        <p:spPr>
          <a:xfrm>
            <a:off x="1090440" y="44280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مفاضلة المستهلك التجاري بين الشراء والتأج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428760" y="1500120"/>
            <a:ext cx="8143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قد تقرر المنشأة تأجير المعدات – وخاصة الآلات غالية الثمن – بدلاً من شرائها للأسباب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سرعة التطور التكنولوجي ومن ثم تقادم المعد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انخفاض المخاطر الناجمة عن الاستثمار في الشر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 بقيمة مرتف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قد تحتاج بعض المنشآت تأجير بعض المعدات بشكل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موسمي (مثل شركات المقاول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32:29Z</dcterms:modified>
  <cp:revision>528</cp:revision>
  <dc:subject/>
  <dc:title>الشريحة 1</dc:title>
</cp:coreProperties>
</file>