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A115-D003-4005-A2E4-8082563A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103-FC93-4717-B0E9-0BAA0BD8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29FBE-CB8C-4CF0-9ECD-EC40659A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E09FE-E68D-4CE8-B1DF-1019CDE8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FC3B6-2602-4370-8D68-40BF876C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82F13-1EF6-4D66-8715-E857FA7A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C6787-F390-4198-AF77-82BD0155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AA104-BC24-4C09-9CC4-26E9EA3B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FA8FE-2966-4A5A-9754-CC9C02D4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90EFD-A6B7-43B9-9351-2DA45713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593A3-154C-4E81-A468-F73C7DDF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01E3F-1CDF-4ACC-BECF-14493432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BC4-2681-41C4-A74C-6F5B4B6F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1F570-A724-42C7-98E2-64D79EBD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E6671-159A-49FA-9C3A-42BA85B8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10AA3-8649-4A78-A0EF-2EB5D135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847CD-D076-452D-80DE-F6B8692B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E5EFD-4C50-4030-BE8F-C53B4BF0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1CA18-176F-4682-A6FA-DFD65152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E7526-8882-49F1-BBB5-B057A61C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378D5-57C0-4D9F-BA29-6885D806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D5FDF-701B-461D-ADB1-F9C06BE6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A7331-77A3-46E5-A583-A054490C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C54-78CE-46AE-9EF5-6E470BCE1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28FE6-4791-4505-8189-BD276007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F5B04-598F-40D4-B71E-A8061AF3D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0425A-B4A3-4254-B8C4-32FE6F27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5C89E-C3A8-46DB-B354-F1802D3B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31078-0F9D-4743-A57A-EDA461BA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77610-67CD-4E15-ADA6-BA8E7CA6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13076-C636-4D8F-A3AA-0FBA1131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16C44-EDFF-46C4-A5A4-29851460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7101A-530F-479B-A6A1-75C68203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22382-AAE0-4B09-90E6-FDA6FC97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E46B-CB04-4C20-86F5-9CECC864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0712F-0F8E-4D64-8A4C-E195B85A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C5341-1A41-4B6E-9099-2BBB1AFF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2265B-FF05-43A7-BC76-124A476C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30680-C6E3-43AF-9B06-EA8255E6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6FC03-C679-46C0-B811-CFB9D2EE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9B0ED-A331-42BF-8B90-4F1E2B82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D81AB-F9E1-4D2A-80C3-8656D057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629A3-23F0-42A2-99DE-7B9B60FF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801B5-40A2-4AD3-B9C3-FE216E1C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0E4ED4-3A51-4951-88A9-2AF89F14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737D-2D13-4F4F-86B0-8842BD55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0D2A1-D2E7-4707-8D3C-BC7CF249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4AC0A-8A9F-491D-B0A4-61FCE620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6582B-9D9D-426D-A374-8F9A378F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51526-8455-4AB5-A43F-C612D166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2037A-0D28-48AE-86CC-7015145C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66462-B3E6-4469-8C37-3BC7BC94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BF66B-21C8-48FB-B2B0-7963E109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75F97-E013-48AA-85F7-0BEABDE7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4A5898-4FE4-47F0-9FB2-35887E70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374D7-BCA4-4BDB-82D0-6E09C064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DFFA-0ECB-4E14-8DA6-06EF7FFE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B6FEC-B80C-4B92-879B-78F657E6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CFD41-7BCC-4190-89B5-E7CD4BF5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5E831-F568-4D2A-9E32-E2EC5D9B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E0FED6-6D92-4BED-8FAC-236B5E9A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E92D52-DF52-4805-9D00-2FF1AFFC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DBC54-4E2D-4E97-A097-A26F82A6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4AE55-DD30-4417-A650-A3B9D1EA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5F3B-FD20-4571-AF59-46DB4EB5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9720-3D52-412B-88DB-4E0E9884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81AB-0A01-4F11-9461-7C1DE66A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D04C-80AC-4C78-9E8D-55659310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52A-94B6-42D4-8C90-CE33E45A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7DFF-B9DE-44C7-BBEB-1ACCEBE2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06AD-883D-4E32-97C2-29041A16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FE4D-5AFF-4826-B610-8403CC01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951B-B555-43E0-AF3E-D00E08E6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433E-2032-4F9C-8489-77066590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E188-50C9-4911-BA99-CD7E32B6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F3DF9-7CF7-49D6-A685-120F58FE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7772-EC15-4DAD-9FA1-589973CC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A67F-412F-41F7-9E25-D55D8920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76A0-D8FD-49FC-BB5F-B763BBA5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DE35-FE5E-4B5C-9464-E26657BF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11C1E-2614-4935-9D20-303A4FEC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5D24C-D904-40FB-8D5E-7D3D120F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E5CED-E500-4A59-9FA7-6E5BCF34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7A4AB-5B18-44D4-A07B-FAF63528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0D164-FC38-4262-A964-BA52B3C2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3DCA0-775D-4CB2-BE84-35752B32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A5F20-67E2-4DE3-887B-7423ED33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AC72B-6F34-4292-A63F-86115113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695D0-CAA6-48E9-961D-8293E82B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A76FC-6879-4CB3-9717-E051E95F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B56-F7B3-408D-BC37-95D524DF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D5902-2326-4FC6-AC4E-F0351D8B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A333C-F570-45FB-979B-E80D8C5D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6E7C7-5749-49AA-8D12-9EB7EA47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2D4C-A07E-46F3-87E8-6837467E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ADCFB-DDD8-41C0-99B2-EAA2ED3B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12002-0451-405F-AFBE-12FECEFF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E1662-3460-4B62-AE14-B265EE43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AB306-39F7-4139-A905-52597717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FD7A0-28CC-4EE3-B21A-A708B222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D0967-C174-45F3-A922-4D6F1D32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3DC-7E83-4C7F-AAE6-614BF2B2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D905C-414A-4EFE-BAD3-38EFE470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1A7B3-F635-4B3C-8AE4-D4BDE7BD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F7CB0-C805-40BA-9641-B02004FB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B16E6-3E23-44C9-94F0-9DC1D065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24E5F-B21B-4844-8F3C-EC26D0BE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6F950-2206-4411-BAF7-4431D401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F4076-968D-4C8F-B2E3-4E86C54A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4F264-EF2D-4692-A95E-9CA8CDCC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E43DF-60A8-4009-9C74-E3013FBB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2307E-5A6B-4A1C-A8F8-4754055B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E860-2A23-48C4-8D41-DFCEA44E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63E32-DF06-453E-B6B4-C09E1854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29107-69B8-46BF-888D-FEDF2519C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0C601-E58E-44F0-BF5E-4B2A8918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C4C7A-9A2C-42FE-A0B4-86339C4A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AED99-4004-448D-B223-CB2AB4C9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AF20B-BF9B-4125-AD98-B54EC76A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5A59C-E388-4D69-8747-EF778BD6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1D0AC-EBC1-4BA9-8AA7-905E43DF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4439C-08FE-40F4-9957-8BFB9026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7F28F-527A-4159-A205-F1377C9E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60B-DFB0-4951-A615-D4585192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A08C6-AA5A-4312-BD23-65286CD1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1A945-7017-46C6-A159-3D8F61A2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980D6-B9D7-484F-848D-95E1B4C6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0B749-A7C2-4465-BC11-17F78A53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BB7FB-3B0F-49E4-A127-D2D523B4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07A14-3E5B-4155-8707-E87AA348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A95BA-89CA-43BC-A20F-7024306B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22CD5-322A-4052-B2BA-72C814F5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7351A-31EC-479A-BA7B-43378851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A1ACB-AA4B-4184-BBBA-445FC6A8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63D-C8C1-42E6-8740-634E249C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5E1BB-115E-42CD-BB8A-7498F14D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673FC-40AB-402F-8A0C-73AFF9DC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47187-0043-47AB-A1EA-F119FB56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54CAA-D2DE-41C5-8F81-A78B2757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C591E-AA4E-4450-AA27-A0DCD34F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16086-9B2E-4DF3-8EE3-64886FDBE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A3E15-787D-4F22-9E49-35A7F57E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0A299-525A-4D41-A413-925B79E3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ED9D2-4FC9-405D-9911-D4E0BE45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12CC5-33AA-4AC2-830A-A595EBFB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B60-E777-42BC-B993-765D585A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6B09F-9AE5-4D68-8525-0C0E7E15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DF168-03CB-4BCD-8393-03CD0426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E5B15-6999-466C-8278-253E405C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39FE9-5698-4970-A353-3367570D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BFB1B-93C8-423C-BA94-5399339C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29C44-7DBA-4CBF-8E3E-EEB1D9D0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B6C17D-BEDB-447D-A6BA-33AC1364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19604-6BD8-443F-BD2E-9DD9D4B1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1A559-D7A1-4BDE-A8AC-0B626E0D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8AAE0-DE3A-4612-B64A-88D4F739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EB84-5533-47BD-BEC7-B998D3D689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32DA-9751-4F4B-A8AE-A87AD88965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6BC5-1DBF-46A8-889D-E5D36BF3A8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3A64-870F-45F8-ABF0-902EF37895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8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37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38"/>
          </p:nvPr>
        </p:nvSpPr>
        <p:spPr>
          <a:xfrm>
            <a:off x="1476000" y="6248520"/>
            <a:ext cx="727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31313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313131"/>
                </a:solidFill>
                <a:latin typeface="Times New Roman"/>
              </a:rPr>
              <a:t>	</a:t>
            </a:r>
            <a:r>
              <a:rPr b="0" lang="ar-SA" sz="1000" spc="-1" strike="noStrike">
                <a:solidFill>
                  <a:srgbClr val="313131"/>
                </a:solidFill>
                <a:latin typeface="Times New Roman"/>
              </a:rPr>
              <a:t>د. صالح القحطاني</a:t>
            </a:r>
            <a:r>
              <a:rPr b="0" lang="ar-SA" sz="1000" spc="-1" strike="noStrike">
                <a:solidFill>
                  <a:srgbClr val="313131"/>
                </a:solidFill>
                <a:latin typeface="Times New Roman"/>
              </a:rPr>
              <a:t>	</a:t>
            </a:r>
            <a:r>
              <a:rPr b="0" lang="ar-SA" sz="1000" spc="-1" strike="noStrike">
                <a:solidFill>
                  <a:srgbClr val="313131"/>
                </a:solidFill>
                <a:latin typeface="Times New Roman"/>
              </a:rPr>
              <a:t>	</a:t>
            </a:r>
            <a:r>
              <a:rPr b="0" lang="ar-SA" sz="1000" spc="-1" strike="noStrike">
                <a:solidFill>
                  <a:srgbClr val="313131"/>
                </a:solidFill>
                <a:latin typeface="Times New Roman"/>
              </a:rPr>
              <a:t>	</a:t>
            </a:r>
            <a:r>
              <a:rPr b="0" lang="ar-SA" sz="1000" spc="-1" strike="noStrike">
                <a:solidFill>
                  <a:srgbClr val="313131"/>
                </a:solidFill>
                <a:latin typeface="Times New Roman"/>
              </a:rPr>
              <a:t>	</a:t>
            </a:r>
            <a:r>
              <a:rPr b="0" lang="ar-SA" sz="1000" spc="-1" strike="noStrike">
                <a:solidFill>
                  <a:srgbClr val="313131"/>
                </a:solidFill>
                <a:latin typeface="Times New Roman"/>
              </a:rPr>
              <a:t>	</a:t>
            </a:r>
            <a:r>
              <a:rPr b="0" lang="ar-SA" sz="1000" spc="-1" strike="noStrike">
                <a:solidFill>
                  <a:srgbClr val="313131"/>
                </a:solidFill>
                <a:latin typeface="Times New Roman"/>
              </a:rPr>
              <a:t>المنتجا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39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6D52-85B0-47D1-BCC1-3CFCF3DBD57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D5C1-5E40-444A-9012-4E899CE4E5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ECE0-11B4-4645-8C78-62ACC834C7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153D-43C4-4077-8E48-22F396F32E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23B6-E2AF-4473-B70B-BF09B1BA5C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C58C-DF9D-48DC-8606-4CB0B72DED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A7B3-F05A-4A8B-A177-76DAADEF9B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E968-FAF1-4EE2-B2DD-BD9C479F30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79DD-B813-4056-BB2E-F50AFED116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halalfoods.files.wordpress.com/2009/04/m_mcdonalds-logo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m.sa/imgres?imgurl=http://www.nufooz.com/media/thumbnail/post-image/411-248/0181984cf997213c0eebf02a7a0fb053/20100128_nike-logo-1264324417.jpg&amp;imgrefurl=http://www.nufooz.com/ar/article/content/miscellaneous-news/industries/nike-safari-super.html&amp;usg=__3qKZLYCfVH_ZwLxqptYv-SV3Pds=&amp;h=248&amp;w=411&amp;sz=17&amp;hl=ar&amp;start=11&amp;zoom=1&amp;itbs=1&amp;tbnid=Ru6S5AOZwb4XLM:&amp;tbnh=75&amp;tbnw=125&amp;prev=/images?q=&#1588;&#1593;&#1575;&#1585;+&#1606;&#1575;&#1610;&#1603;&#1610;&amp;hl=ar&amp;safe=active&amp;gbv=2&amp;tbs=isch: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google.com.sa/imgres?imgurl=http://img689.imageshack.us/img689/619/mercedeslogoo.gif&amp;imgrefurl=http://www.knowledgeoman.com/arabic/forums/showthread.php?p=108374&amp;usg=__BEvhK_dAawU9htpZOMgomFXLQBY=&amp;h=400&amp;w=400&amp;sz=18&amp;hl=ar&amp;start=10&amp;zoom=1&amp;itbs=1&amp;tbnid=2mDyLEc9yYyn_M:&amp;tbnh=124&amp;tbnw=124&amp;prev=/images?q=&#1588;&#1593;&#1575;&#1585;+&#1605;&#1585;&#1587;&#1610;&#1583;&#1587;&amp;hl=ar&amp;safe=active&amp;gbv=2&amp;tbs=isch: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google.com.sa/imgres?imgurl=http://2.bp.blogspot.com/_rTJ1M07yw3w/SWq_YYZMZ0I/AAAAAAAAAmA/oGHcznygL-Y/s320/apple_logo_rainbow.jpg&amp;imgrefurl=http://www.kll1.com/vb/t38509.html&amp;usg=__GNyG2-zItD2I4Fn-MZMhZA4bHW8=&amp;h=320&amp;w=278&amp;sz=14&amp;hl=ar&amp;start=5&amp;zoom=1&amp;itbs=1&amp;tbnid=dc44afamYHDacM:&amp;tbnh=118&amp;tbnw=103&amp;prev=/images?q=&#1588;&#1593;&#1575;&#1585;+&#1575;&#1576;&#1604;&amp;hl=ar&amp;safe=active&amp;gbv=2&amp;tbs=isch:1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www.google.com.sa/imgres?imgurl=http://www.searchengine.co.za/wp-content/uploads/2008/08/kfc-logo-high-quality-300x299.jpg&amp;imgrefurl=http://www.altaj3.com/dxn/t2533.html&amp;usg=__M79LwdPqvzrzaJMxGvlq4r9v9-A=&amp;h=299&amp;w=300&amp;sz=24&amp;hl=ar&amp;start=5&amp;zoom=1&amp;itbs=1&amp;tbnid=TW-leV_ZccTHCM:&amp;tbnh=116&amp;tbnw=116&amp;prev=/images?q=&#1588;&#1593;&#1575;&#1585;+&#1603;&#1606;&#1578;&#1575;&#1603;&#1610;&amp;hl=ar&amp;safe=active&amp;gbv=2&amp;tbs=isch:1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www.google.com.sa/imgres?imgurl=http://www.air.flyingway.com/airlogo/pic/sv_logo.gif&amp;imgrefurl=http://www.flyingway.com/vb/showthread.php?t=60621&amp;usg=__k9qQJqZ2nOPolpsXfbReELbkHVA=&amp;h=218&amp;w=200&amp;sz=12&amp;hl=ar&amp;start=5&amp;zoom=1&amp;itbs=1&amp;tbnid=4iu_xn04hdGkBM:&amp;tbnh=107&amp;tbnw=98&amp;prev=/images?q=&#1588;&#1593;&#1575;&#1585;+&#1575;&#1604;&#1582;&#1591;&#1608;&#1591;+&#1575;&#1604;&#1587;&#1593;&#1608;&#1583;&#1610;&#1577;&amp;hl=ar&amp;safe=active&amp;gbv=2&amp;tbs=isch:1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www.mobiletopsoft.com/images/news/nokia_logo2.jpg&amp;imgrefurl=http://al-web.net/vb/t6215.html&amp;usg=__e24hleDWILcI3j5qRYHaG7Z38Xk=&amp;h=400&amp;w=400&amp;sz=11&amp;hl=ar&amp;start=10&amp;zoom=1&amp;itbs=1&amp;tbnid=0IUvC4d7z6e2UM:&amp;tbnh=124&amp;tbnw=124&amp;prev=/images?q=&#1588;&#1593;&#1575;&#1585;+&#1606;&#1608;&#1603;&#1610;&#1575;&amp;hl=ar&amp;safe=active&amp;gbv=2&amp;tbs=isch:1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oogle.com.sa/imgres?imgurl=http://www.hotelfurnitureguy.com/images/logos/hilton-logo.jpg&amp;imgrefurl=http://www.hotelfurnitureguy.com/&amp;usg=__SPnKz4AaorhF8NzKW5CbSfFKPK8=&amp;h=674&amp;w=979&amp;sz=65&amp;hl=ar&amp;start=11&amp;zoom=1&amp;itbs=1&amp;tbnid=YLJa6BxJxY3inM:&amp;tbnh=103&amp;tbnw=149&amp;prev=/images?q=&#1588;&#1593;&#1575;&#1585;+&#1607;&#1610;&#1604;&#1578;&#1608;&#1606;&amp;hl=ar&amp;safe=active&amp;gbv=2&amp;tbs=isch:1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www.google.com.sa/imgres?imgurl=http://hikuwait.com/wp-content/uploads/2010/04/subway_eat_fresh.jpg&amp;imgrefurl=http://hikuwait.com/index.php/tag/&#1575;&#1582;&#1590;&#1585;/&amp;usg=__gk1GJ26fTs4l1nWw9JlefxqBB3g=&amp;h=320&amp;w=320&amp;sz=14&amp;hl=ar&amp;start=7&amp;zoom=1&amp;itbs=1&amp;tbnid=92gWVDc4h4xQiM:&amp;tbnh=118&amp;tbnw=118&amp;prev=/images?q=&#1588;&#1593;&#1575;&#1585;+&#1575;&#1604;&#1591;&#1575;&#1586;&#1580;&amp;hl=ar&amp;safe=active&amp;gbv=2&amp;tbs=isch:1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www.google.com.sa/imgres?imgurl=http://www.sptechs.com/emarket/thumbs/pics/item128566.gif&amp;imgrefurl=http://www.rnon.com/vb/showthread.php?t=4594&amp;usg=__83NQDN5WbXSf7L2Jmq-QUsw6ipc=&amp;h=610&amp;w=432&amp;sz=104&amp;hl=ar&amp;start=4&amp;zoom=1&amp;itbs=1&amp;tbnid=6PhGesgsDVpq9M:&amp;tbnh=136&amp;tbnw=96&amp;prev=/images?q=&#1588;&#1593;&#1575;&#1585;+&#1586;&#1610;&#1606;&amp;hl=ar&amp;safe=active&amp;gbv=2&amp;tbs=isch:1" TargetMode="External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4"/>
          <p:cNvSpPr/>
          <p:nvPr/>
        </p:nvSpPr>
        <p:spPr>
          <a:xfrm>
            <a:off x="2771640" y="1174680"/>
            <a:ext cx="54435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"/>
          <p:cNvSpPr/>
          <p:nvPr/>
        </p:nvSpPr>
        <p:spPr>
          <a:xfrm rot="20312400">
            <a:off x="1749960" y="376596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شكل بيضاوي 5"/>
          <p:cNvSpPr/>
          <p:nvPr/>
        </p:nvSpPr>
        <p:spPr>
          <a:xfrm>
            <a:off x="714240" y="1928880"/>
            <a:ext cx="1714680" cy="185724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مربع نص 4"/>
          <p:cNvSpPr/>
          <p:nvPr/>
        </p:nvSpPr>
        <p:spPr>
          <a:xfrm>
            <a:off x="1071720" y="1785960"/>
            <a:ext cx="1071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8"/>
          <p:cNvSpPr/>
          <p:nvPr/>
        </p:nvSpPr>
        <p:spPr>
          <a:xfrm>
            <a:off x="1090440" y="-6660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نفعة الأساسية للمنت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1000080" y="1000080"/>
            <a:ext cx="7143840" cy="3978360"/>
          </a:xfrm>
          <a:prstGeom prst="rect">
            <a:avLst/>
          </a:prstGeom>
          <a:solidFill>
            <a:srgbClr val="d7d8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هذه المنفعة هي سبب تفكير المستهلك في شراء المنتج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(لماذا يشتري المنتج؟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4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وتكون دوافع شراء المستهلك لهذه المنافع </a:t>
            </a:r>
            <a:r>
              <a:rPr b="0" lang="ar-SA" sz="4400" spc="-1" strike="noStrike">
                <a:solidFill>
                  <a:srgbClr val="e61893"/>
                </a:solidFill>
                <a:latin typeface="Arial"/>
                <a:cs typeface="PT Bold Heading"/>
              </a:rPr>
              <a:t>دوافع شراء أولية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دون تحديد ماركة محد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8"/>
          <p:cNvSpPr/>
          <p:nvPr/>
        </p:nvSpPr>
        <p:spPr>
          <a:xfrm>
            <a:off x="1000080" y="5214960"/>
            <a:ext cx="7143840" cy="1556280"/>
          </a:xfrm>
          <a:prstGeom prst="rect">
            <a:avLst/>
          </a:prstGeom>
          <a:solidFill>
            <a:srgbClr val="1faec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لذا لابد عند تصميم المنتج من تحديد المنافع التي يبحث عنها المستهلك من استهلاكه للمنت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8"/>
          <p:cNvSpPr/>
          <p:nvPr/>
        </p:nvSpPr>
        <p:spPr>
          <a:xfrm>
            <a:off x="1090440" y="712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خصائص المادية للمنت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8"/>
          <p:cNvSpPr/>
          <p:nvPr/>
        </p:nvSpPr>
        <p:spPr>
          <a:xfrm>
            <a:off x="1071720" y="1357200"/>
            <a:ext cx="7143480" cy="6175080"/>
          </a:xfrm>
          <a:prstGeom prst="rect">
            <a:avLst/>
          </a:prstGeom>
          <a:solidFill>
            <a:srgbClr val="92d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  <a:cs typeface="PT Bold Heading"/>
              </a:rPr>
              <a:t>تمثل المنتج الحقيقي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Actual product</a:t>
            </a:r>
            <a:r>
              <a:rPr b="0" lang="ar-SA" sz="50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ذي يشتريه المستهل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وتكون دوافع شراء المستهلك لهذه للمنتج الذي يحمل خصائص معينة </a:t>
            </a:r>
            <a:r>
              <a:rPr b="0" lang="ar-SA" sz="4400" spc="-1" strike="noStrike">
                <a:solidFill>
                  <a:srgbClr val="e61893"/>
                </a:solidFill>
                <a:latin typeface="Arial"/>
                <a:cs typeface="PT Bold Heading"/>
              </a:rPr>
              <a:t>دوافع شراء انتقائية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(مقارنة بين المنتجات البديل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8"/>
          <p:cNvSpPr/>
          <p:nvPr/>
        </p:nvSpPr>
        <p:spPr>
          <a:xfrm>
            <a:off x="1090440" y="7128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خدمات المصاحبة للمنت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8"/>
          <p:cNvSpPr/>
          <p:nvPr/>
        </p:nvSpPr>
        <p:spPr>
          <a:xfrm>
            <a:off x="1000080" y="1293840"/>
            <a:ext cx="7143840" cy="5108760"/>
          </a:xfrm>
          <a:prstGeom prst="rect">
            <a:avLst/>
          </a:prstGeom>
          <a:solidFill>
            <a:srgbClr val="f9d1d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PT Bold Heading"/>
              </a:rPr>
              <a:t>وهي الخدمات التي يقدمها البائع أثناء وبعد بيع المنتج 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4600" spc="-1" strike="noStrike">
                <a:solidFill>
                  <a:srgbClr val="000000"/>
                </a:solidFill>
                <a:latin typeface="Arial"/>
                <a:cs typeface="PT Bold Heading"/>
              </a:rPr>
              <a:t>للمستهلك (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خدمات ما بعد البيع</a:t>
            </a:r>
            <a:r>
              <a:rPr b="0" lang="ar-SA" sz="46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وتكون دوافع شراء المستهلك للمنتج من بائع يقدم خدمات معينة </a:t>
            </a:r>
            <a:r>
              <a:rPr b="0" lang="ar-SA" sz="4400" spc="-1" strike="noStrike">
                <a:solidFill>
                  <a:srgbClr val="e61893"/>
                </a:solidFill>
                <a:latin typeface="Arial"/>
                <a:cs typeface="PT Bold Heading"/>
              </a:rPr>
              <a:t>دوافع تعام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مقارنة بالخدمات التي يقدمها غيره من البائع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8"/>
          <p:cNvSpPr/>
          <p:nvPr/>
        </p:nvSpPr>
        <p:spPr>
          <a:xfrm>
            <a:off x="1090440" y="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8"/>
          <p:cNvSpPr/>
          <p:nvPr/>
        </p:nvSpPr>
        <p:spPr>
          <a:xfrm>
            <a:off x="500040" y="1446120"/>
            <a:ext cx="814392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تصميم المنت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الخصائص الشكلية للمنت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الجو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تمييز المنتج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التعبئة والتغلي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التبي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8"/>
          <p:cNvSpPr/>
          <p:nvPr/>
        </p:nvSpPr>
        <p:spPr>
          <a:xfrm>
            <a:off x="1090440" y="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00040" y="144612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تصميم ا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8"/>
          <p:cNvSpPr/>
          <p:nvPr/>
        </p:nvSpPr>
        <p:spPr>
          <a:xfrm>
            <a:off x="500040" y="2266920"/>
            <a:ext cx="81439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يركز على </a:t>
            </a:r>
            <a:r>
              <a:rPr b="0" lang="ar-SA" sz="4000" spc="-1" strike="noStrike">
                <a:solidFill>
                  <a:srgbClr val="e61893"/>
                </a:solidFill>
                <a:latin typeface="Arial"/>
                <a:cs typeface="PT Bold Heading"/>
              </a:rPr>
              <a:t>مكونات المنتج وتفاعلها 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مع بعضها البعض أو تكاملها بما يؤدي في النهاية إلى تحقيق </a:t>
            </a:r>
            <a:r>
              <a:rPr b="0" lang="ar-SA" sz="4000" spc="-1" strike="noStrike">
                <a:solidFill>
                  <a:srgbClr val="ff6600"/>
                </a:solidFill>
                <a:latin typeface="Arial"/>
                <a:cs typeface="PT Bold Heading"/>
              </a:rPr>
              <a:t>المنفع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المطلوبة أو أداء الوظيفة التي يؤديها المنت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8"/>
          <p:cNvSpPr/>
          <p:nvPr/>
        </p:nvSpPr>
        <p:spPr>
          <a:xfrm>
            <a:off x="1090440" y="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8"/>
          <p:cNvSpPr/>
          <p:nvPr/>
        </p:nvSpPr>
        <p:spPr>
          <a:xfrm>
            <a:off x="500040" y="144612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خصائص الشكل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500040" y="2266920"/>
            <a:ext cx="814392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يمثل الصورة التي يكون عليها المنتج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عند طرحه للبي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من هيئة وألوان وأبعاد ...ال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8"/>
          <p:cNvSpPr/>
          <p:nvPr/>
        </p:nvSpPr>
        <p:spPr>
          <a:xfrm>
            <a:off x="1090440" y="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8"/>
          <p:cNvSpPr/>
          <p:nvPr/>
        </p:nvSpPr>
        <p:spPr>
          <a:xfrm>
            <a:off x="500040" y="144612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جود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500040" y="2266920"/>
            <a:ext cx="8143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تعني توافر مواصفات معينة في المنت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8"/>
          <p:cNvSpPr/>
          <p:nvPr/>
        </p:nvSpPr>
        <p:spPr>
          <a:xfrm>
            <a:off x="500040" y="3348000"/>
            <a:ext cx="814392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مثال: تعني جودة المنتجات الدوائية توافر عاملي سلامة وفعالية الدواء مع تقليل آثاره الجانبية بقدر الإمك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8"/>
          <p:cNvSpPr/>
          <p:nvPr/>
        </p:nvSpPr>
        <p:spPr>
          <a:xfrm>
            <a:off x="500040" y="92880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تمييز المنتجات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Product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Text Box 8" descr=""/>
          <p:cNvPicPr/>
          <p:nvPr/>
        </p:nvPicPr>
        <p:blipFill>
          <a:blip r:embed="rId2"/>
          <a:stretch/>
        </p:blipFill>
        <p:spPr>
          <a:xfrm>
            <a:off x="476280" y="1542960"/>
            <a:ext cx="8369280" cy="258444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8"/>
          <p:cNvSpPr/>
          <p:nvPr/>
        </p:nvSpPr>
        <p:spPr>
          <a:xfrm>
            <a:off x="500040" y="4330800"/>
            <a:ext cx="8143920" cy="2150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أسباب تمييز المنتج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سهولة تعرف العملاء على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حماية المنتجات من التقليد والغ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سهولة الإعلان والترويج عن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2" descr="m_mcdonalds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3048120"/>
            <a:ext cx="2171880" cy="193356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4" descr="http://t2.gstatic.com/images?q=tbn:Ru6S5AOZwb4XLM:http://www.nufooz.com/media/thumbnail/post-image/411-248/0181984cf997213c0eebf02a7a0fb053/20100128_nike-logo-126432441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3880" y="2438280"/>
            <a:ext cx="1190880" cy="7146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6" descr="http://t2.gstatic.com/images?q=tbn:2mDyLEc9yYyn_M:http://img689.imageshack.us/img689/619/mercedeslogoo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236232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8" descr="http://t0.gstatic.com/images?q=tbn:dc44afamYHDacM:http://2.bp.blogspot.com/_rTJ1M07yw3w/SWq_YYZMZ0I/AAAAAAAAAmA/oGHcznygL-Y/s320/apple_logo_rainbow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981080" y="4038480"/>
            <a:ext cx="981360" cy="112392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0" descr="http://t1.gstatic.com/images?q=tbn:TW-leV_ZccTHCM:http://www.searchengine.co.za/wp-content/uploads/2008/08/kfc-logo-high-quality-300x299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629400" y="15238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2" descr="http://t3.gstatic.com/images?q=tbn:4iu_xn04hdGkBM:http://www.air.flyingway.com/airlogo/pic/sv_logo.gif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09880" y="4724280"/>
            <a:ext cx="9334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2" descr="http://t3.gstatic.com/images?q=tbn:0IUvC4d7z6e2UM:http://www.mobiletopsoft.com/images/news/nokia_logo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438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4" descr="http://t2.gstatic.com/images?q=tbn:YLJa6BxJxY3inM:http://www.hotelfurnitureguy.com/images/logos/hilton-logo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95280" y="2819520"/>
            <a:ext cx="1419480" cy="9810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6" descr="http://t2.gstatic.com/images?q=tbn:92gWVDc4h4xQiM:http://hikuwait.com/wp-content/uploads/2010/04/subway_eat_fresh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86200" y="38862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8" descr="http://t2.gstatic.com/images?q=tbn:6PhGesgsDVpq9M:http://www.sptechs.com/emarket/thumbs/pics/item128566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00800" y="3543480"/>
            <a:ext cx="1371600" cy="19429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0" descr="http://t3.gstatic.com/images?q=tbn:3qurl_N_kW4WLM:http://upload.wikimedia.org/wikipedia/ar/b/b7/%D8%B4%D8%B9%D8%A7%D8%B1_%D8%A8%D9%86%D8%AF%D9%87.jpg"/>
          <p:cNvPicPr/>
          <p:nvPr/>
        </p:nvPicPr>
        <p:blipFill>
          <a:blip r:embed="rId9"/>
          <a:stretch/>
        </p:blipFill>
        <p:spPr>
          <a:xfrm>
            <a:off x="685800" y="4419720"/>
            <a:ext cx="2962440" cy="10191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2" descr="http://t1.gstatic.com/images?q=tbn:qDgZ9kgzrrhWRM:http://www.cellphones.ca/news/upload/Rolex%2520Logo.jpg"/>
          <p:cNvPicPr/>
          <p:nvPr/>
        </p:nvPicPr>
        <p:blipFill>
          <a:blip r:embed="rId10"/>
          <a:stretch/>
        </p:blipFill>
        <p:spPr>
          <a:xfrm>
            <a:off x="2895480" y="2209680"/>
            <a:ext cx="1828800" cy="12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8"/>
          <p:cNvSpPr/>
          <p:nvPr/>
        </p:nvSpPr>
        <p:spPr>
          <a:xfrm>
            <a:off x="428760" y="357120"/>
            <a:ext cx="82436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d314e"/>
                </a:solidFill>
                <a:latin typeface="Arial"/>
                <a:cs typeface="PT Bold Heading"/>
              </a:rPr>
              <a:t>مكونات البرنامج التسوي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3643200" y="1263600"/>
            <a:ext cx="2067120" cy="30708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جزئة السو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3643200" y="2571840"/>
            <a:ext cx="2067120" cy="307080"/>
          </a:xfrm>
          <a:prstGeom prst="rect">
            <a:avLst/>
          </a:prstGeom>
          <a:solidFill>
            <a:srgbClr val="d5a7b1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تنبؤ بالطل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3643200" y="3214800"/>
            <a:ext cx="2067120" cy="520200"/>
          </a:xfrm>
          <a:prstGeom prst="rect">
            <a:avLst/>
          </a:prstGeom>
          <a:solidFill>
            <a:srgbClr val="ff66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قطاعات المستهدف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3643200" y="3857760"/>
            <a:ext cx="206712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وضع التنافس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2654280" y="4572000"/>
            <a:ext cx="4068720" cy="3660120"/>
          </a:xfrm>
          <a:prstGeom prst="rect">
            <a:avLst/>
          </a:prstGeom>
          <a:solidFill>
            <a:srgbClr val="ead3d8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8"/>
          <p:cNvSpPr/>
          <p:nvPr/>
        </p:nvSpPr>
        <p:spPr>
          <a:xfrm>
            <a:off x="4214880" y="492912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منت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"/>
          <p:cNvSpPr/>
          <p:nvPr/>
        </p:nvSpPr>
        <p:spPr>
          <a:xfrm>
            <a:off x="4221000" y="585792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روي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8"/>
          <p:cNvSpPr/>
          <p:nvPr/>
        </p:nvSpPr>
        <p:spPr>
          <a:xfrm>
            <a:off x="5429160" y="542916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سعي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"/>
          <p:cNvSpPr/>
          <p:nvPr/>
        </p:nvSpPr>
        <p:spPr>
          <a:xfrm>
            <a:off x="3000240" y="542916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وزي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3" name="رابط كسهم مستقيم 19"/>
          <p:cNvCxnSpPr>
            <a:stCxn id="634" idx="2"/>
          </p:cNvCxnSpPr>
          <p:nvPr/>
        </p:nvCxnSpPr>
        <p:spPr>
          <a:xfrm flipH="1">
            <a:off x="4672800" y="1571760"/>
            <a:ext cx="3960" cy="10008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4" name="رابط كسهم مستقيم 20"/>
          <p:cNvCxnSpPr/>
          <p:nvPr/>
        </p:nvCxnSpPr>
        <p:spPr>
          <a:xfrm flipH="1">
            <a:off x="4672800" y="2857680"/>
            <a:ext cx="2520" cy="357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5" name="رابط كسهم مستقيم 21"/>
          <p:cNvCxnSpPr/>
          <p:nvPr/>
        </p:nvCxnSpPr>
        <p:spPr>
          <a:xfrm flipH="1">
            <a:off x="4672800" y="3499920"/>
            <a:ext cx="2520" cy="358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6" name="رابط كسهم مستقيم 27"/>
          <p:cNvCxnSpPr>
            <a:stCxn id="638" idx="0"/>
            <a:endCxn id="637" idx="2"/>
          </p:cNvCxnSpPr>
          <p:nvPr/>
        </p:nvCxnSpPr>
        <p:spPr>
          <a:xfrm flipH="1" flipV="1">
            <a:off x="4676040" y="4164840"/>
            <a:ext cx="13320" cy="40716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647" name="رابط مستقيم 29"/>
          <p:cNvSpPr/>
          <p:nvPr/>
        </p:nvSpPr>
        <p:spPr>
          <a:xfrm flipH="1" flipV="1">
            <a:off x="4000680" y="5583240"/>
            <a:ext cx="142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رابط مستقيم 31"/>
          <p:cNvSpPr/>
          <p:nvPr/>
        </p:nvSpPr>
        <p:spPr>
          <a:xfrm>
            <a:off x="4714920" y="5237280"/>
            <a:ext cx="648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رابط مستقيم 33"/>
          <p:cNvSpPr/>
          <p:nvPr/>
        </p:nvSpPr>
        <p:spPr>
          <a:xfrm>
            <a:off x="5214960" y="5083200"/>
            <a:ext cx="71424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رابط مستقيم 35"/>
          <p:cNvSpPr/>
          <p:nvPr/>
        </p:nvSpPr>
        <p:spPr>
          <a:xfrm flipH="1">
            <a:off x="5221440" y="5737320"/>
            <a:ext cx="7077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رابط مستقيم 37"/>
          <p:cNvSpPr/>
          <p:nvPr/>
        </p:nvSpPr>
        <p:spPr>
          <a:xfrm>
            <a:off x="3500280" y="5737320"/>
            <a:ext cx="72072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رابط مستقيم 39"/>
          <p:cNvSpPr/>
          <p:nvPr/>
        </p:nvSpPr>
        <p:spPr>
          <a:xfrm flipH="1">
            <a:off x="3499920" y="5082480"/>
            <a:ext cx="71460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6616800" y="3835440"/>
            <a:ext cx="1643040" cy="520200"/>
          </a:xfrm>
          <a:prstGeom prst="rect">
            <a:avLst/>
          </a:prstGeom>
          <a:solidFill>
            <a:srgbClr val="00b0f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داخ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رابط كسهم مستقيم 28"/>
          <p:cNvCxnSpPr/>
          <p:nvPr/>
        </p:nvCxnSpPr>
        <p:spPr>
          <a:xfrm flipH="1" flipV="1">
            <a:off x="6714360" y="5500440"/>
            <a:ext cx="7866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5" name="رابط مستقيم 42"/>
          <p:cNvSpPr/>
          <p:nvPr/>
        </p:nvSpPr>
        <p:spPr>
          <a:xfrm>
            <a:off x="7436880" y="4359240"/>
            <a:ext cx="36360" cy="1141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1027080" y="3833640"/>
            <a:ext cx="1643040" cy="520200"/>
          </a:xfrm>
          <a:prstGeom prst="rect">
            <a:avLst/>
          </a:prstGeom>
          <a:solidFill>
            <a:srgbClr val="f3a27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خارج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رابط مستقيم 46"/>
          <p:cNvSpPr/>
          <p:nvPr/>
        </p:nvSpPr>
        <p:spPr>
          <a:xfrm>
            <a:off x="1848600" y="4357800"/>
            <a:ext cx="34920" cy="1143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8" name="رابط كسهم مستقيم 48"/>
          <p:cNvCxnSpPr>
            <a:endCxn id="638" idx="1"/>
          </p:cNvCxnSpPr>
          <p:nvPr/>
        </p:nvCxnSpPr>
        <p:spPr>
          <a:xfrm flipV="1">
            <a:off x="1857240" y="5490360"/>
            <a:ext cx="797760" cy="10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9" name="Text Box 8"/>
          <p:cNvSpPr/>
          <p:nvPr/>
        </p:nvSpPr>
        <p:spPr>
          <a:xfrm>
            <a:off x="620568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حلي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6215040" y="6108840"/>
            <a:ext cx="438120" cy="33732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خطي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273060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رقاب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8"/>
          <p:cNvSpPr/>
          <p:nvPr/>
        </p:nvSpPr>
        <p:spPr>
          <a:xfrm>
            <a:off x="2714760" y="610884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نفي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3" name="رابط كسهم مستقيم 41"/>
          <p:cNvCxnSpPr/>
          <p:nvPr/>
        </p:nvCxnSpPr>
        <p:spPr>
          <a:xfrm>
            <a:off x="3168720" y="4722840"/>
            <a:ext cx="303768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64" name="رابط كسهم مستقيم 45"/>
          <p:cNvCxnSpPr/>
          <p:nvPr/>
        </p:nvCxnSpPr>
        <p:spPr>
          <a:xfrm>
            <a:off x="6525000" y="4858920"/>
            <a:ext cx="1044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65" name="رابط كسهم مستقيم 49"/>
          <p:cNvCxnSpPr/>
          <p:nvPr/>
        </p:nvCxnSpPr>
        <p:spPr>
          <a:xfrm flipH="1" flipV="1">
            <a:off x="3152520" y="6284160"/>
            <a:ext cx="3062880" cy="25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66" name="رابط كسهم مستقيم 51"/>
          <p:cNvCxnSpPr/>
          <p:nvPr/>
        </p:nvCxnSpPr>
        <p:spPr>
          <a:xfrm flipH="1" flipV="1">
            <a:off x="2866320" y="4858560"/>
            <a:ext cx="540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8"/>
          <p:cNvSpPr/>
          <p:nvPr/>
        </p:nvSpPr>
        <p:spPr>
          <a:xfrm>
            <a:off x="1090440" y="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00040" y="116532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تمييز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8"/>
          <p:cNvSpPr/>
          <p:nvPr/>
        </p:nvSpPr>
        <p:spPr>
          <a:xfrm>
            <a:off x="500040" y="1785960"/>
            <a:ext cx="8143920" cy="6049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واصفات التي يجب توافرها في الاس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ts val="4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Arial"/>
                <a:cs typeface="PT Bold Heading"/>
              </a:rPr>
              <a:t>سهولة النط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ts val="4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Arial"/>
                <a:cs typeface="PT Bold Heading"/>
              </a:rPr>
              <a:t>سهولة الكتا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ts val="4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Arial"/>
                <a:cs typeface="PT Bold Heading"/>
              </a:rPr>
              <a:t>سهولة التذك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ts val="4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Arial"/>
                <a:cs typeface="PT Bold Heading"/>
              </a:rPr>
              <a:t>التفرد عن السلع المناف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ts val="4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Arial"/>
                <a:cs typeface="PT Bold Heading"/>
              </a:rPr>
              <a:t>يعبر عن الخصائص الخاصة بالمنتج (كوي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ts val="4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030a0"/>
                </a:solidFill>
                <a:latin typeface="Arial"/>
                <a:cs typeface="PT Bold Heading"/>
              </a:rPr>
              <a:t>يعبر عن المنافع الأساسية للمنتج (زيت عاف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ts val="4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8"/>
          <p:cNvSpPr/>
          <p:nvPr/>
        </p:nvSpPr>
        <p:spPr>
          <a:xfrm>
            <a:off x="500040" y="102060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تمييز المنتجات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Product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8"/>
          <p:cNvSpPr/>
          <p:nvPr/>
        </p:nvSpPr>
        <p:spPr>
          <a:xfrm>
            <a:off x="500040" y="2000160"/>
            <a:ext cx="8143920" cy="526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سياسات تمييز المنتج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مييز الفردي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PT Bold Heading"/>
              </a:rPr>
              <a:t>وضع </a:t>
            </a:r>
            <a:r>
              <a:rPr b="0" lang="ar-SA" sz="2400" spc="-1" strike="noStrike">
                <a:solidFill>
                  <a:srgbClr val="e61893"/>
                </a:solidFill>
                <a:latin typeface="Arial"/>
                <a:cs typeface="PT Bold Heading"/>
              </a:rPr>
              <a:t>اسم وعلامة خاصة لكل منتج 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PT Bold Heading"/>
              </a:rPr>
              <a:t>من منتجات الشركة كل على ح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مثال: </a:t>
            </a:r>
            <a:r>
              <a:rPr b="0" lang="ar-SA" sz="2400" spc="-1" strike="noStrike">
                <a:solidFill>
                  <a:srgbClr val="7030a0"/>
                </a:solidFill>
                <a:latin typeface="Arial"/>
                <a:cs typeface="PT Bold Heading"/>
              </a:rPr>
              <a:t>تستخدم شركة بروكتور أند جامبل أسماء مميزة فردية لكل منتج من منتجاتها (كريست – إريال – كامى – تاي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لمزايا: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وسيلة لتنويع المخاطر ، إذا فشل أحد المنتجات لا يؤثر ذلك عل المنتجات الأخر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0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8"/>
          <p:cNvSpPr/>
          <p:nvPr/>
        </p:nvSpPr>
        <p:spPr>
          <a:xfrm>
            <a:off x="500040" y="102060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تمييز المنتجات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Product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8"/>
          <p:cNvSpPr/>
          <p:nvPr/>
        </p:nvSpPr>
        <p:spPr>
          <a:xfrm>
            <a:off x="500040" y="1643040"/>
            <a:ext cx="8143920" cy="5522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سياسات تمييز المنتج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مييز العائلي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PT Bold Heading"/>
              </a:rPr>
              <a:t>استخدام </a:t>
            </a:r>
            <a:r>
              <a:rPr b="0" lang="ar-SA" sz="2400" spc="-1" strike="noStrike">
                <a:solidFill>
                  <a:srgbClr val="e61893"/>
                </a:solidFill>
                <a:latin typeface="Arial"/>
                <a:cs typeface="PT Bold Heading"/>
              </a:rPr>
              <a:t>اسم وعلامة الشركة لتمييز جميع منتجات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مثال: </a:t>
            </a:r>
            <a:r>
              <a:rPr b="0" lang="ar-SA" sz="2400" spc="-1" strike="noStrike">
                <a:solidFill>
                  <a:srgbClr val="7030a0"/>
                </a:solidFill>
                <a:latin typeface="Arial"/>
                <a:cs typeface="PT Bold Heading"/>
              </a:rPr>
              <a:t>شركة سوني – شركة باناسوني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زايا: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تحقيق الترابط في ذهن العملاء بين هذه المنتجات ، وأنها ذات جودة واحدة ، حيث يساهم كل منتج في الترويج للمنتجات الأخرى ، ومن ثم انخفاض تكلفة الترويج الكل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عيوب: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إخفاق منتج يؤثر سلباً على مبيعات المنتجات الأخرى من نفس العائ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4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500040" y="109224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تمييز المنتجات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Product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8"/>
          <p:cNvSpPr/>
          <p:nvPr/>
        </p:nvSpPr>
        <p:spPr>
          <a:xfrm>
            <a:off x="500040" y="1994040"/>
            <a:ext cx="8143920" cy="469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سياسات تمييز المنتج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مييز المختلط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PT Bold Heading"/>
              </a:rPr>
              <a:t>استخدام </a:t>
            </a:r>
            <a:r>
              <a:rPr b="0" lang="ar-SA" sz="2400" spc="-1" strike="noStrike">
                <a:solidFill>
                  <a:srgbClr val="e61893"/>
                </a:solidFill>
                <a:latin typeface="Arial"/>
                <a:cs typeface="PT Bold Heading"/>
              </a:rPr>
              <a:t>اسم وعلامة الشركة لتمييز جميع منتجاتها ، وفي نفس الوقت تمييز كل منتج باسم وعلامة خاص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مثال: </a:t>
            </a:r>
            <a:r>
              <a:rPr b="0" lang="ar-SA" sz="2400" spc="-1" strike="noStrike">
                <a:solidFill>
                  <a:srgbClr val="7030a0"/>
                </a:solidFill>
                <a:latin typeface="Arial"/>
                <a:cs typeface="PT Bold Heading"/>
              </a:rPr>
              <a:t>تويوت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زايا: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ستفادة المنتجات من سمعة بعضها البعض ، وفي نفس الوقت تسمح فيه للسلعة بالاستقلالية عن بقية المنتج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8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8"/>
          <p:cNvSpPr/>
          <p:nvPr/>
        </p:nvSpPr>
        <p:spPr>
          <a:xfrm>
            <a:off x="500040" y="100008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عبئة والتغليف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P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8"/>
          <p:cNvSpPr/>
          <p:nvPr/>
        </p:nvSpPr>
        <p:spPr>
          <a:xfrm>
            <a:off x="500040" y="1709640"/>
            <a:ext cx="8143920" cy="4816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العبوة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هي الحاوية التي توضع فيها السلعة ، أما </a:t>
            </a:r>
            <a:r>
              <a:rPr b="0" lang="ar-SA" sz="2800" spc="-1" strike="noStrike">
                <a:solidFill>
                  <a:srgbClr val="006600"/>
                </a:solidFill>
                <a:latin typeface="Arial"/>
                <a:cs typeface="PT Bold Heading"/>
              </a:rPr>
              <a:t>الغلاف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فهو التصميم الخارجي للأشكال والألوان الخاصة بالعلبة التي توضع فيها العبوة أو تلصق علي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الغلاف والعبوة كلاهما </a:t>
            </a:r>
            <a:r>
              <a:rPr b="0" lang="ar-SA" sz="2800" spc="-1" strike="noStrike">
                <a:solidFill>
                  <a:srgbClr val="e61893"/>
                </a:solidFill>
                <a:latin typeface="Arial"/>
                <a:cs typeface="PT Bold Heading"/>
              </a:rPr>
              <a:t>مكمل للآخر 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، والفارق الأساسي بينهما بينهما أن للعبوة مهمتان أساسيتان (فنية – تسويقية) أما الغلاف فمهمته تسويقية فق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8"/>
          <p:cNvSpPr/>
          <p:nvPr/>
        </p:nvSpPr>
        <p:spPr>
          <a:xfrm>
            <a:off x="500040" y="100008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عبئة والتغليف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P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8"/>
          <p:cNvSpPr/>
          <p:nvPr/>
        </p:nvSpPr>
        <p:spPr>
          <a:xfrm>
            <a:off x="500040" y="1709640"/>
            <a:ext cx="8143920" cy="4930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أ- مهمة العبو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Arial"/>
                <a:cs typeface="PT Bold Heading"/>
              </a:rPr>
              <a:t>مهمة فنية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: الحفاظ على المنتج ومحتوياته من التلف أثن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 النقل والتخز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56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Arial"/>
                <a:cs typeface="PT Bold Heading"/>
              </a:rPr>
              <a:t>مهمة تسويقية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: سهولة تعرف المستهلك على المنت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ب- مهمة الغلاف (مهمة </a:t>
            </a:r>
            <a:r>
              <a:rPr b="0" lang="ar-SA" sz="2800" spc="-1" strike="noStrike">
                <a:solidFill>
                  <a:srgbClr val="006600"/>
                </a:solidFill>
                <a:latin typeface="Arial"/>
                <a:cs typeface="PT Bold Heading"/>
              </a:rPr>
              <a:t>تسويقية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فقط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    </a:t>
            </a:r>
            <a:r>
              <a:rPr b="0" lang="ar-SA" sz="2800" spc="-1" strike="noStrike">
                <a:solidFill>
                  <a:srgbClr val="0070c0"/>
                </a:solidFill>
                <a:latin typeface="Arial"/>
                <a:cs typeface="PT Bold Heading"/>
              </a:rPr>
              <a:t>جذب اهتمام المستهلك بالسلعة وإثارة اهتمام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Arial"/>
                <a:ea typeface="PT Bold Heading"/>
              </a:rPr>
              <a:t>     بمحتوياتها،  فيقبل على شرائه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6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8"/>
          <p:cNvSpPr/>
          <p:nvPr/>
        </p:nvSpPr>
        <p:spPr>
          <a:xfrm>
            <a:off x="500040" y="100008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عبئة والتغليف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P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500040" y="1785960"/>
            <a:ext cx="8143920" cy="5895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خصائص جودة التعبئة والتغلي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buClr>
                <a:srgbClr val="c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الاقتصاد (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PT Bold Heading"/>
              </a:rPr>
              <a:t>في استخدام الموارد لتخفيض التكلفة ومن ثم السعر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ب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حماية (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PT Bold Heading"/>
              </a:rPr>
              <a:t>حماية السلعة من التلف أو الكسر أثناء النقل أو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      التخزين أو الاستعمال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ج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رويج للسلع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- سهولة استعمال السل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ه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- حماية الصالح الاجتماعي (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مثل الحفاظ على البيئة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8"/>
          <p:cNvSpPr/>
          <p:nvPr/>
        </p:nvSpPr>
        <p:spPr>
          <a:xfrm>
            <a:off x="500040" y="100008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عبئة والتغليف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P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500040" y="1785960"/>
            <a:ext cx="8143920" cy="471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دور الاستراتيجي للعبوة هو زياد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PT Bold Heading"/>
              </a:rPr>
              <a:t>القدرة التنافس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للمنتج من خلا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buClr>
                <a:srgbClr val="e61893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61893"/>
                </a:solidFill>
                <a:latin typeface="Arial"/>
                <a:cs typeface="PT Bold Heading"/>
              </a:rPr>
              <a:t>الابتكارية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في التعبئة والتغليف (الأمان – سهولة الاستخدام – حماية السلع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ب- العبوة </a:t>
            </a:r>
            <a:r>
              <a:rPr b="0" lang="ar-SA" sz="2800" spc="-1" strike="noStrike">
                <a:solidFill>
                  <a:srgbClr val="e61893"/>
                </a:solidFill>
                <a:latin typeface="Arial"/>
                <a:cs typeface="PT Bold Heading"/>
              </a:rPr>
              <a:t>متعددة الاستخدامات 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(في أغراض أخرى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ج- </a:t>
            </a:r>
            <a:r>
              <a:rPr b="0" lang="ar-SA" sz="2800" spc="-1" strike="noStrike">
                <a:solidFill>
                  <a:srgbClr val="e61893"/>
                </a:solidFill>
                <a:latin typeface="Arial"/>
                <a:cs typeface="PT Bold Heading"/>
              </a:rPr>
              <a:t>تعدد الوحدات </a:t>
            </a: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اخل نفس العبوة أو الغلاف (لزيا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   المبيعات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4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500040" y="109224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بيين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Lab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500040" y="2011320"/>
            <a:ext cx="8143920" cy="4947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ts val="5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يقصد بالتبيين ذلك الجزء من العبوة أو الغلا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5698"/>
              </a:lnSpc>
              <a:buClr>
                <a:srgbClr val="e618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يلعب التبيين دوراً 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إخبارياً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و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ترويجياً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، حيث يمكن للتبيين تزويد المستهلك بمعلومات عن السلعة وخصائصها ، وبالتالي مساعدته وتشجيعه على اتخاذ قرار الشر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8" name="Text Box 8"/>
          <p:cNvSpPr/>
          <p:nvPr/>
        </p:nvSpPr>
        <p:spPr>
          <a:xfrm>
            <a:off x="1090440" y="-712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مكونات الخصائص المادية ل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8"/>
          <p:cNvSpPr/>
          <p:nvPr/>
        </p:nvSpPr>
        <p:spPr>
          <a:xfrm>
            <a:off x="500040" y="1092240"/>
            <a:ext cx="814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بيين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Lab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8"/>
          <p:cNvSpPr/>
          <p:nvPr/>
        </p:nvSpPr>
        <p:spPr>
          <a:xfrm>
            <a:off x="500040" y="1928880"/>
            <a:ext cx="8143920" cy="462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ts val="5698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من أهم المعلومات التي يتضمنها التبيين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اسم المنتج وعنو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اسم السل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بلد الصن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خصائص الأساسية للمنت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المحتوي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الوز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تاريخ الصن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تاريخ انتهاء الصلا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سع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2999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طريقة الاستخد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8"/>
          <p:cNvSpPr/>
          <p:nvPr/>
        </p:nvSpPr>
        <p:spPr>
          <a:xfrm>
            <a:off x="571680" y="294480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ستراتيجية المنت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Product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2" name="Text Box 8"/>
          <p:cNvSpPr/>
          <p:nvPr/>
        </p:nvSpPr>
        <p:spPr>
          <a:xfrm>
            <a:off x="571680" y="294480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أنواع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Product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8"/>
          <p:cNvSpPr/>
          <p:nvPr/>
        </p:nvSpPr>
        <p:spPr>
          <a:xfrm>
            <a:off x="1042920" y="1496880"/>
            <a:ext cx="7000920" cy="1739880"/>
          </a:xfrm>
          <a:prstGeom prst="rect">
            <a:avLst/>
          </a:prstGeom>
          <a:solidFill>
            <a:srgbClr val="ffc000"/>
          </a:solidFill>
          <a:ln w="442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أنواع المنتج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5522760" y="4869000"/>
            <a:ext cx="206712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Lucida Sans Unicode"/>
                <a:ea typeface="PT Bold Heading"/>
              </a:rPr>
              <a:t> منتجات استهلاك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1527120" y="4902120"/>
            <a:ext cx="220968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Lucida Sans Unicode"/>
                <a:ea typeface="PT Bold Heading"/>
              </a:rPr>
              <a:t> منتج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Lucida Sans Unicode"/>
                <a:ea typeface="PT Bold Heading"/>
              </a:rPr>
              <a:t> تجا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رابط كسهم مستقيم 31"/>
          <p:cNvCxnSpPr/>
          <p:nvPr/>
        </p:nvCxnSpPr>
        <p:spPr>
          <a:xfrm>
            <a:off x="6515640" y="3241800"/>
            <a:ext cx="34200" cy="15688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8" name="رابط كسهم مستقيم 32"/>
          <p:cNvCxnSpPr/>
          <p:nvPr/>
        </p:nvCxnSpPr>
        <p:spPr>
          <a:xfrm>
            <a:off x="2592720" y="3271320"/>
            <a:ext cx="34200" cy="156924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0" name="Text Box 8"/>
          <p:cNvSpPr/>
          <p:nvPr/>
        </p:nvSpPr>
        <p:spPr>
          <a:xfrm>
            <a:off x="1071720" y="7128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1071720" y="107172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ولا: السلع استهلاكية</a:t>
            </a: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Consumer Goods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1071720" y="2038320"/>
            <a:ext cx="7143480" cy="4726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00"/>
                </a:solidFill>
                <a:latin typeface="Arial"/>
                <a:ea typeface="PT Bold Heading"/>
              </a:rPr>
              <a:t>1</a:t>
            </a:r>
            <a:r>
              <a:rPr b="1" lang="ar-SA" sz="44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سلع ميسرة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Convenience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2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- سلع تسوق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Shopping Goods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3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- سلع خاصة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Speciality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4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- سلع غير مستهدفة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Unsought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4" name="Text Box 8"/>
          <p:cNvSpPr/>
          <p:nvPr/>
        </p:nvSpPr>
        <p:spPr>
          <a:xfrm>
            <a:off x="1071720" y="7128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>
            <a:off x="1071720" y="107172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ولا: السلع استهلاكية</a:t>
            </a: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Consumer Goods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8"/>
          <p:cNvSpPr/>
          <p:nvPr/>
        </p:nvSpPr>
        <p:spPr>
          <a:xfrm>
            <a:off x="1071720" y="2038320"/>
            <a:ext cx="7143480" cy="5335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00"/>
                </a:solidFill>
                <a:latin typeface="Arial"/>
                <a:ea typeface="PT Bold Heading"/>
              </a:rPr>
              <a:t>1</a:t>
            </a:r>
            <a:r>
              <a:rPr b="1" lang="ar-SA" sz="44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سلع ميسرة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Convenience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 يشتريها المستهلك بانتظ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 بأقل مجه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 دون الرغبة في عمل مقار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 رخيصة السع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 متوفرة على نطاق واسع (</a:t>
            </a:r>
            <a:r>
              <a:rPr b="1" lang="ar-SA" sz="2800" spc="-1" strike="noStrike">
                <a:solidFill>
                  <a:srgbClr val="00b0f0"/>
                </a:solidFill>
                <a:latin typeface="Arial"/>
                <a:cs typeface="PT Bold Heading"/>
              </a:rPr>
              <a:t>التوزيع المكثف</a:t>
            </a: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 ذات معدل دوران سري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 أمثلة: </a:t>
            </a:r>
            <a:r>
              <a:rPr b="1" lang="ar-SA" sz="2800" spc="-1" strike="noStrike">
                <a:solidFill>
                  <a:srgbClr val="00b0f0"/>
                </a:solidFill>
                <a:latin typeface="Arial"/>
                <a:cs typeface="PT Bold Heading"/>
              </a:rPr>
              <a:t>الصابون – الزيت – الصحف – المشروب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b0f0"/>
                </a:solidFill>
                <a:latin typeface="Arial"/>
                <a:ea typeface="PT Bold Heading"/>
              </a:rPr>
              <a:t>    الغازية – جميع أنواع سلع البق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8"/>
          <p:cNvSpPr/>
          <p:nvPr/>
        </p:nvSpPr>
        <p:spPr>
          <a:xfrm>
            <a:off x="1071720" y="7128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8"/>
          <p:cNvSpPr/>
          <p:nvPr/>
        </p:nvSpPr>
        <p:spPr>
          <a:xfrm>
            <a:off x="1071720" y="107172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ولا: السلع استهلاكية</a:t>
            </a: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Consumer Goods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8"/>
          <p:cNvSpPr/>
          <p:nvPr/>
        </p:nvSpPr>
        <p:spPr>
          <a:xfrm>
            <a:off x="1071720" y="2038320"/>
            <a:ext cx="7143480" cy="488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6600"/>
                </a:solidFill>
                <a:latin typeface="Arial"/>
                <a:ea typeface="PT Bold Heading"/>
              </a:rPr>
              <a:t>1</a:t>
            </a:r>
            <a:r>
              <a:rPr b="1" lang="ar-SA" sz="4400" spc="-1" strike="noStrike">
                <a:solidFill>
                  <a:srgbClr val="006600"/>
                </a:solidFill>
                <a:latin typeface="Arial"/>
                <a:ea typeface="PT Bold Heading"/>
              </a:rPr>
              <a:t>- 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سلع ميسرة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Convenience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تنقسم السلع الميسرة إلى 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3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أنوا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61893"/>
                </a:solidFill>
                <a:latin typeface="Arial"/>
                <a:ea typeface="PT Bold Heading"/>
              </a:rPr>
              <a:t> أساسية</a:t>
            </a:r>
            <a:r>
              <a:rPr b="1" lang="ar-SA" sz="2400" spc="-1" strike="noStrike">
                <a:solidFill>
                  <a:srgbClr val="e61893"/>
                </a:solidFill>
                <a:latin typeface="Arial"/>
                <a:ea typeface="PT Bold Heading"/>
              </a:rPr>
              <a:t>: </a:t>
            </a:r>
            <a:r>
              <a:rPr b="1" lang="ar-SA" sz="2000" spc="-1" strike="noStrike">
                <a:solidFill>
                  <a:srgbClr val="105766"/>
                </a:solidFill>
                <a:latin typeface="Arial"/>
                <a:cs typeface="PT Bold Heading"/>
              </a:rPr>
              <a:t>يشتريها المستهلك بشكل روتيني منتظم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PT Bold Heading"/>
              </a:rPr>
              <a:t>مثل: الخبز – اللبن – الصابون – السكر – الشا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500"/>
              </a:lnSpc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61893"/>
                </a:solidFill>
                <a:latin typeface="Arial"/>
                <a:cs typeface="PT Bold Heading"/>
              </a:rPr>
              <a:t>عفوية</a:t>
            </a: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: </a:t>
            </a:r>
            <a:r>
              <a:rPr b="1" lang="ar-SA" sz="2000" spc="-1" strike="noStrike">
                <a:solidFill>
                  <a:srgbClr val="105766"/>
                </a:solidFill>
                <a:latin typeface="Arial"/>
                <a:cs typeface="PT Bold Heading"/>
              </a:rPr>
              <a:t>يشتريها المستهلك دون سابق تخطيط عادة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PT Bold Heading"/>
              </a:rPr>
              <a:t>مثل: الصحف – المجلات – المشروبات – الحلو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61893"/>
                </a:solidFill>
                <a:latin typeface="Arial"/>
                <a:cs typeface="PT Bold Heading"/>
              </a:rPr>
              <a:t>طوارئ</a:t>
            </a:r>
            <a:r>
              <a:rPr b="1" lang="ar-SA" sz="2800" spc="-1" strike="noStrike">
                <a:solidFill>
                  <a:srgbClr val="e61893"/>
                </a:solidFill>
                <a:latin typeface="Arial"/>
                <a:ea typeface="PT Bold Heading"/>
              </a:rPr>
              <a:t>: </a:t>
            </a:r>
            <a:r>
              <a:rPr b="1" lang="ar-SA" sz="2000" spc="-1" strike="noStrike">
                <a:solidFill>
                  <a:srgbClr val="105766"/>
                </a:solidFill>
                <a:latin typeface="Arial"/>
                <a:cs typeface="PT Bold Heading"/>
              </a:rPr>
              <a:t>يشتريها المستهلك عند حدوث أحداث طارئة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PT Bold Heading"/>
              </a:rPr>
              <a:t>مثل المظلات عند حدوث المطر – القطن والشاش عند الجرو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8"/>
          <p:cNvSpPr/>
          <p:nvPr/>
        </p:nvSpPr>
        <p:spPr>
          <a:xfrm>
            <a:off x="1071720" y="7128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1071720" y="107172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ولا: السلع استهلاكية</a:t>
            </a: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Consumer Goods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8"/>
          <p:cNvSpPr/>
          <p:nvPr/>
        </p:nvSpPr>
        <p:spPr>
          <a:xfrm>
            <a:off x="1071720" y="2038320"/>
            <a:ext cx="7143480" cy="4300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2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- سلع تسوق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Shopping Goods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يبذل المستهلك جهداً في شرائ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يقوم المستهلك بالمقارنة بين البدائ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يتم شراؤها على فترات متباعدة (غير روتين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تتطلب أنفاقاً أكث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ذات معدل دوران منخف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يتم بيعها عادة في الأسواق الرئيسية (</a:t>
            </a:r>
            <a:r>
              <a:rPr b="1" lang="ar-SA" sz="2400" spc="-1" strike="noStrike">
                <a:solidFill>
                  <a:srgbClr val="e61893"/>
                </a:solidFill>
                <a:latin typeface="Arial"/>
                <a:cs typeface="PT Bold Heading"/>
              </a:rPr>
              <a:t>توزيع انتقائي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أمثلة: الأثاث – السيارات – الأجهزة الكهرب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8"/>
          <p:cNvSpPr/>
          <p:nvPr/>
        </p:nvSpPr>
        <p:spPr>
          <a:xfrm>
            <a:off x="1071720" y="7128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8"/>
          <p:cNvSpPr/>
          <p:nvPr/>
        </p:nvSpPr>
        <p:spPr>
          <a:xfrm>
            <a:off x="1071720" y="107172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ولا: السلع استهلاكية</a:t>
            </a: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Consumer Goods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8"/>
          <p:cNvSpPr/>
          <p:nvPr/>
        </p:nvSpPr>
        <p:spPr>
          <a:xfrm>
            <a:off x="1071720" y="2038320"/>
            <a:ext cx="7143480" cy="460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3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- سلع خاصة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Speciality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سلع ذات خصائص فري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المستهلك على استعداد لبذل جهد خاص للحصول علي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تتميز بارتفاع أسعار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لا يطلبها عدد كبير من الناس ( </a:t>
            </a:r>
            <a:r>
              <a:rPr b="1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توزيع محدود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هامش ربح عال في الوحدة المبا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أمثلة: أدوات التصوير تحت الماء – الآلات الموسيقية – المجوهرات – الأدوات الرياض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0" name="Text Box 8"/>
          <p:cNvSpPr/>
          <p:nvPr/>
        </p:nvSpPr>
        <p:spPr>
          <a:xfrm>
            <a:off x="1071720" y="7128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8"/>
          <p:cNvSpPr/>
          <p:nvPr/>
        </p:nvSpPr>
        <p:spPr>
          <a:xfrm>
            <a:off x="1071720" y="107172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ولا: السلع استهلاكية</a:t>
            </a: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Consumer Goods</a:t>
            </a:r>
            <a:r>
              <a:rPr b="0" lang="ar-SA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8"/>
          <p:cNvSpPr/>
          <p:nvPr/>
        </p:nvSpPr>
        <p:spPr>
          <a:xfrm>
            <a:off x="1071720" y="2038320"/>
            <a:ext cx="7143480" cy="481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4</a:t>
            </a:r>
            <a:r>
              <a:rPr b="1" lang="ar-SA" sz="4000" spc="-1" strike="noStrike">
                <a:solidFill>
                  <a:srgbClr val="006600"/>
                </a:solidFill>
                <a:latin typeface="Arial"/>
                <a:ea typeface="PT Bold Heading"/>
              </a:rPr>
              <a:t>- سلع غير مستهدفة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Unsought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PT Bold Heading"/>
              </a:rPr>
              <a:t> سلع لا يدرك وجودها معظم الناس في السو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PT Bold Heading"/>
              </a:rPr>
              <a:t> أو لا يشعر المستهلك أنه بحاجة إلي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PT Bold Heading"/>
              </a:rPr>
              <a:t> لا يبادر المستهلك بشرائ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PT Bold Heading"/>
              </a:rPr>
              <a:t> تحتاج إلى جهد تسويقي مكثف لإظهار قيمتها للمستهل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cs typeface="PT Bold Heading"/>
              </a:rPr>
              <a:t>أمثلة: دوائر المعارف – خدمات التأمين على الحياة – خدمات التدري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314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4" name="Text Box 8"/>
          <p:cNvSpPr/>
          <p:nvPr/>
        </p:nvSpPr>
        <p:spPr>
          <a:xfrm>
            <a:off x="1071720" y="71280"/>
            <a:ext cx="71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المنتج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8"/>
          <p:cNvSpPr/>
          <p:nvPr/>
        </p:nvSpPr>
        <p:spPr>
          <a:xfrm>
            <a:off x="1071720" y="1071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ثانياً: السلع التج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8"/>
          <p:cNvSpPr/>
          <p:nvPr/>
        </p:nvSpPr>
        <p:spPr>
          <a:xfrm>
            <a:off x="1071720" y="2038320"/>
            <a:ext cx="7143480" cy="6494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تشمل هذه السل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PT Bold Heading"/>
              </a:rPr>
              <a:t> المواد الخام والأجزاء نصف المصنعة والمصنعة التي تدخل في تصني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PT Bold Heading"/>
              </a:rPr>
              <a:t>    السلع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أجهزة والمعدات التي تستخدم في إنتاج السلع والخدم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PT Bold Heading"/>
              </a:rPr>
              <a:t> مهمات التشغيل (الزيوت الشحوم – الوقود – الأدوات المكتبي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خدمات الإنتاجية (الاستشارات القانونية – البحوث التسويقية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PT Bold Heading"/>
              </a:rPr>
              <a:t>    الاستشارات المالية – خدمات النظافة – الأمن – التمويل – خدما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Arial"/>
                <a:ea typeface="PT Bold Heading"/>
              </a:rPr>
              <a:t>    الصيانة والإصلا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75960" y="304920"/>
            <a:ext cx="7310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Lucida Sans Unicode"/>
              </a:rPr>
              <a:t>مقارنة بين خصائص السلع الاستهلاكية والتجارية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785880" y="1643040"/>
          <a:ext cx="7626240" cy="4664160"/>
        </p:xfrm>
        <a:graphic>
          <a:graphicData uri="http://schemas.openxmlformats.org/drawingml/2006/table">
            <a:tbl>
              <a:tblPr/>
              <a:tblGrid>
                <a:gridCol w="2541600"/>
                <a:gridCol w="2543040"/>
                <a:gridCol w="254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cs typeface="Times New Roman (Arabic)"/>
                        </a:rPr>
                        <a:t>التجار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cs typeface="Times New Roman (Arabic)"/>
                        </a:rPr>
                        <a:t>الاستهلاك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ff00"/>
                          </a:solidFill>
                          <a:latin typeface="Times New Roman"/>
                          <a:cs typeface="Times New Roman (Arabic)"/>
                        </a:rPr>
                        <a:t>البيا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3399"/>
                          </a:solidFill>
                          <a:latin typeface="Times New Roman"/>
                          <a:cs typeface="Times New Roman (Arabic)"/>
                        </a:rPr>
                        <a:t>عق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800000"/>
                          </a:solidFill>
                          <a:latin typeface="Times New Roman"/>
                          <a:cs typeface="Times New Roman (Arabic)"/>
                        </a:rPr>
                        <a:t>عاطف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Times New Roman (Arabic)"/>
                        </a:rPr>
                        <a:t>دوافع الشرا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3399"/>
                          </a:solidFill>
                          <a:latin typeface="Times New Roman"/>
                          <a:cs typeface="Times New Roman (Arabic)"/>
                        </a:rPr>
                        <a:t>كبي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800000"/>
                          </a:solidFill>
                          <a:latin typeface="Times New Roman"/>
                          <a:cs typeface="Times New Roman (Arabic)"/>
                        </a:rPr>
                        <a:t>صغي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Times New Roman (Arabic)"/>
                        </a:rPr>
                        <a:t>كمية الشرا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3399"/>
                          </a:solidFill>
                          <a:latin typeface="Times New Roman"/>
                          <a:cs typeface="Times New Roman (Arabic)"/>
                        </a:rPr>
                        <a:t>ممك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800000"/>
                          </a:solidFill>
                          <a:latin typeface="Times New Roman"/>
                          <a:cs typeface="Times New Roman (Arabic)"/>
                        </a:rPr>
                        <a:t>غير ممك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Times New Roman (Arabic)"/>
                        </a:rPr>
                        <a:t>المبادل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3399"/>
                          </a:solidFill>
                          <a:latin typeface="Times New Roman"/>
                          <a:cs typeface="Times New Roman (Arabic)"/>
                        </a:rPr>
                        <a:t>مطلوب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800000"/>
                          </a:solidFill>
                          <a:latin typeface="Times New Roman"/>
                          <a:cs typeface="Times New Roman (Arabic)"/>
                        </a:rPr>
                        <a:t>غير مطلوبة احيان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Times New Roman (Arabic)"/>
                        </a:rPr>
                        <a:t>خدمة ما بعد البي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3399"/>
                          </a:solidFill>
                          <a:latin typeface="Times New Roman"/>
                          <a:cs typeface="Times New Roman (Arabic)"/>
                        </a:rPr>
                        <a:t>مشت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800000"/>
                          </a:solidFill>
                          <a:latin typeface="Times New Roman"/>
                          <a:cs typeface="Times New Roman (Arabic)"/>
                        </a:rPr>
                        <a:t>مباش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Times New Roman (Arabic)"/>
                        </a:rPr>
                        <a:t>الطل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3399"/>
                          </a:solidFill>
                          <a:latin typeface="Times New Roman"/>
                          <a:cs typeface="Times New Roman (Arabic)"/>
                        </a:rPr>
                        <a:t>مباش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800000"/>
                          </a:solidFill>
                          <a:latin typeface="Times New Roman"/>
                          <a:cs typeface="Times New Roman (Arabic)"/>
                        </a:rPr>
                        <a:t>غير مباش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Times New Roman (Arabic)"/>
                        </a:rPr>
                        <a:t>منافذ التوزي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3399"/>
                          </a:solidFill>
                          <a:latin typeface="Times New Roman"/>
                          <a:cs typeface="Times New Roman (Arabic)"/>
                        </a:rPr>
                        <a:t>البيع الشخص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800000"/>
                          </a:solidFill>
                          <a:latin typeface="Times New Roman"/>
                          <a:cs typeface="Times New Roman (Arabic)"/>
                        </a:rPr>
                        <a:t>الاعلا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Times New Roman (Arabic)"/>
                        </a:rPr>
                        <a:t>التروي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ff3399"/>
                          </a:solidFill>
                          <a:latin typeface="Times New Roman"/>
                          <a:cs typeface="Times New Roman (Arabic)"/>
                        </a:rPr>
                        <a:t>محدو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800000"/>
                          </a:solidFill>
                          <a:latin typeface="Times New Roman"/>
                          <a:cs typeface="Times New Roman (Arabic)"/>
                        </a:rPr>
                        <a:t>كبير جدا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ff"/>
                          </a:solidFill>
                          <a:latin typeface="Times New Roman"/>
                          <a:cs typeface="Times New Roman (Arabic)"/>
                        </a:rPr>
                        <a:t>عدد العملا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8"/>
          <p:cNvSpPr/>
          <p:nvPr/>
        </p:nvSpPr>
        <p:spPr>
          <a:xfrm>
            <a:off x="857160" y="500040"/>
            <a:ext cx="764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نتج هو أحد عناصر المزيج التسويق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مستطيل 6"/>
          <p:cNvSpPr/>
          <p:nvPr/>
        </p:nvSpPr>
        <p:spPr>
          <a:xfrm>
            <a:off x="2428920" y="2500200"/>
            <a:ext cx="4643280" cy="33577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رابط مستقيم 8"/>
          <p:cNvSpPr/>
          <p:nvPr/>
        </p:nvSpPr>
        <p:spPr>
          <a:xfrm flipH="1">
            <a:off x="2428920" y="4179960"/>
            <a:ext cx="464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رابط مستقيم 11"/>
          <p:cNvSpPr/>
          <p:nvPr/>
        </p:nvSpPr>
        <p:spPr>
          <a:xfrm flipH="1">
            <a:off x="4714560" y="2499480"/>
            <a:ext cx="3636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مربع نص 16"/>
          <p:cNvSpPr/>
          <p:nvPr/>
        </p:nvSpPr>
        <p:spPr>
          <a:xfrm>
            <a:off x="5072040" y="3000240"/>
            <a:ext cx="1785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8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نتج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مربع نص 17"/>
          <p:cNvSpPr/>
          <p:nvPr/>
        </p:nvSpPr>
        <p:spPr>
          <a:xfrm>
            <a:off x="2643120" y="300024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سع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مربع نص 18"/>
          <p:cNvSpPr/>
          <p:nvPr/>
        </p:nvSpPr>
        <p:spPr>
          <a:xfrm>
            <a:off x="5072040" y="459900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روي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مربع نص 19"/>
          <p:cNvSpPr/>
          <p:nvPr/>
        </p:nvSpPr>
        <p:spPr>
          <a:xfrm>
            <a:off x="2786040" y="457200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8"/>
          <p:cNvSpPr/>
          <p:nvPr/>
        </p:nvSpPr>
        <p:spPr>
          <a:xfrm>
            <a:off x="1090440" y="712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تعريف المنت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1000080" y="1357200"/>
            <a:ext cx="7143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1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- مجموعة من </a:t>
            </a: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الخصائ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2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- التي باستخدامها يحصل المستهلك على </a:t>
            </a: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منافع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معينة </a:t>
            </a: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تشبع حاجاته ورغبات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3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- سواء كانت مجموعة الخصائص هذه </a:t>
            </a: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مادية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 أو </a:t>
            </a: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غير ماد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8"/>
          <p:cNvSpPr/>
          <p:nvPr/>
        </p:nvSpPr>
        <p:spPr>
          <a:xfrm>
            <a:off x="1090440" y="712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لماذا يشترى المنتج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1000080" y="1357200"/>
            <a:ext cx="7143840" cy="466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ستهلك لا يشتري المنتج لذاته ولكن لكي يحصل على </a:t>
            </a:r>
            <a:r>
              <a:rPr b="0" lang="ar-SA" sz="60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افع</a:t>
            </a:r>
            <a:r>
              <a:rPr b="0" lang="ar-SA" sz="60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تي تترتب على استهلاكه لهذا المنت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8"/>
          <p:cNvSpPr/>
          <p:nvPr/>
        </p:nvSpPr>
        <p:spPr>
          <a:xfrm>
            <a:off x="1090440" y="712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أبعاد المنت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8"/>
          <p:cNvSpPr/>
          <p:nvPr/>
        </p:nvSpPr>
        <p:spPr>
          <a:xfrm>
            <a:off x="1000080" y="1357200"/>
            <a:ext cx="714384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1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- </a:t>
            </a:r>
            <a:r>
              <a:rPr b="0" lang="ar-SA" sz="40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فعة الأساسية للمنتج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: 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هي القيمة التي يحصل عليها باستهلاكه الفعلي للمنت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e61893"/>
                </a:solidFill>
                <a:latin typeface="Arial"/>
                <a:cs typeface="PT Bold Heading"/>
              </a:rPr>
              <a:t>الخصائص المادية للمنتج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: تشمل الشكل ، التصميم ، الجودة ، الاسم التجاري ، التعبئة والتغل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3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- </a:t>
            </a:r>
            <a:r>
              <a:rPr b="0" lang="ar-SA" sz="4000" spc="-1" strike="noStrike">
                <a:solidFill>
                  <a:srgbClr val="e61893"/>
                </a:solidFill>
                <a:latin typeface="Arial"/>
                <a:cs typeface="PT Bold Heading"/>
              </a:rPr>
              <a:t>الخدمات المصاحبة للمنتج</a:t>
            </a:r>
            <a:r>
              <a:rPr b="0" lang="ar-SA" sz="4000" spc="-1" strike="noStrike">
                <a:solidFill>
                  <a:srgbClr val="002060"/>
                </a:solidFill>
                <a:latin typeface="Arial"/>
                <a:ea typeface="PT Bold Heading"/>
              </a:rPr>
              <a:t>: 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مثل: التوصيل، التركيب ، الضمان ، خدمات الإصلاح  الصيانة ، الائتما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8"/>
          <p:cNvSpPr/>
          <p:nvPr/>
        </p:nvSpPr>
        <p:spPr>
          <a:xfrm>
            <a:off x="1090440" y="712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أبعاد المنت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شكل بيضاوي 4"/>
          <p:cNvSpPr/>
          <p:nvPr/>
        </p:nvSpPr>
        <p:spPr>
          <a:xfrm>
            <a:off x="1571760" y="1214280"/>
            <a:ext cx="5786280" cy="550080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شكل بيضاوي 6"/>
          <p:cNvSpPr/>
          <p:nvPr/>
        </p:nvSpPr>
        <p:spPr>
          <a:xfrm>
            <a:off x="2428920" y="2071800"/>
            <a:ext cx="4071960" cy="3857400"/>
          </a:xfrm>
          <a:prstGeom prst="ellipse">
            <a:avLst/>
          </a:prstGeom>
          <a:solidFill>
            <a:srgbClr val="e61893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شكل بيضاوي 7"/>
          <p:cNvSpPr/>
          <p:nvPr/>
        </p:nvSpPr>
        <p:spPr>
          <a:xfrm>
            <a:off x="3571920" y="3143160"/>
            <a:ext cx="1857240" cy="178596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مربع نص 8"/>
          <p:cNvSpPr/>
          <p:nvPr/>
        </p:nvSpPr>
        <p:spPr>
          <a:xfrm>
            <a:off x="4000680" y="3643200"/>
            <a:ext cx="100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نفعة الأساسية للمنت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مربع نص 9"/>
          <p:cNvSpPr/>
          <p:nvPr/>
        </p:nvSpPr>
        <p:spPr>
          <a:xfrm>
            <a:off x="3929040" y="25718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شك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مربع نص 10"/>
          <p:cNvSpPr/>
          <p:nvPr/>
        </p:nvSpPr>
        <p:spPr>
          <a:xfrm>
            <a:off x="5214960" y="321480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صم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مربع نص 11"/>
          <p:cNvSpPr/>
          <p:nvPr/>
        </p:nvSpPr>
        <p:spPr>
          <a:xfrm>
            <a:off x="5286240" y="42148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عبئ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مربع نص 12"/>
          <p:cNvSpPr/>
          <p:nvPr/>
        </p:nvSpPr>
        <p:spPr>
          <a:xfrm>
            <a:off x="4929120" y="498780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غلي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مربع نص 13"/>
          <p:cNvSpPr/>
          <p:nvPr/>
        </p:nvSpPr>
        <p:spPr>
          <a:xfrm>
            <a:off x="2786040" y="46432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اس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التج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مربع نص 14"/>
          <p:cNvSpPr/>
          <p:nvPr/>
        </p:nvSpPr>
        <p:spPr>
          <a:xfrm>
            <a:off x="2643120" y="40719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علا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مربع نص 15"/>
          <p:cNvSpPr/>
          <p:nvPr/>
        </p:nvSpPr>
        <p:spPr>
          <a:xfrm>
            <a:off x="2928960" y="31431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جو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مربع نص 16"/>
          <p:cNvSpPr/>
          <p:nvPr/>
        </p:nvSpPr>
        <p:spPr>
          <a:xfrm>
            <a:off x="3214800" y="164304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وص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مربع نص 17"/>
          <p:cNvSpPr/>
          <p:nvPr/>
        </p:nvSpPr>
        <p:spPr>
          <a:xfrm>
            <a:off x="6143760" y="278604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ركي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مربع نص 18"/>
          <p:cNvSpPr/>
          <p:nvPr/>
        </p:nvSpPr>
        <p:spPr>
          <a:xfrm>
            <a:off x="6072120" y="4929120"/>
            <a:ext cx="9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صيانة والإصلا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مربع نص 19"/>
          <p:cNvSpPr/>
          <p:nvPr/>
        </p:nvSpPr>
        <p:spPr>
          <a:xfrm>
            <a:off x="3429000" y="613080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ضم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مربع نص 21"/>
          <p:cNvSpPr/>
          <p:nvPr/>
        </p:nvSpPr>
        <p:spPr>
          <a:xfrm>
            <a:off x="1571760" y="420228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ائتم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مربع نص 22"/>
          <p:cNvSpPr/>
          <p:nvPr/>
        </p:nvSpPr>
        <p:spPr>
          <a:xfrm>
            <a:off x="4000680" y="527364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بي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8"/>
          <p:cNvSpPr/>
          <p:nvPr/>
        </p:nvSpPr>
        <p:spPr>
          <a:xfrm>
            <a:off x="1090440" y="71280"/>
            <a:ext cx="71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أبعاد المنتج والمنافس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"/>
          <p:cNvSpPr/>
          <p:nvPr/>
        </p:nvSpPr>
        <p:spPr>
          <a:xfrm>
            <a:off x="1000080" y="1357200"/>
            <a:ext cx="7143840" cy="46659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تشكل الأبعاد الثلاثة للمنتج </a:t>
            </a:r>
            <a:r>
              <a:rPr b="0" lang="ar-SA" sz="6000" spc="-1" strike="noStrike">
                <a:solidFill>
                  <a:srgbClr val="006600"/>
                </a:solidFill>
                <a:latin typeface="Arial"/>
                <a:cs typeface="PT Bold Heading"/>
              </a:rPr>
              <a:t>شخصية</a:t>
            </a:r>
            <a:r>
              <a:rPr b="0" lang="ar-SA" sz="6000" spc="-1" strike="noStrike">
                <a:solidFill>
                  <a:srgbClr val="000000"/>
                </a:solidFill>
                <a:latin typeface="Arial"/>
                <a:ea typeface="PT Bold Heading"/>
              </a:rPr>
              <a:t> المنتج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وما يتمتع به من مزايا مقارنة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Arial"/>
                <a:cs typeface="PT Bold Heading"/>
              </a:rPr>
              <a:t>بالمنتجات المنافس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aldarrab</cp:lastModifiedBy>
  <dcterms:modified xsi:type="dcterms:W3CDTF">2015-09-13T10:32:13Z</dcterms:modified>
  <cp:revision>697</cp:revision>
  <dc:subject/>
  <dc:title>الشريحة 1</dc:title>
</cp:coreProperties>
</file>