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2965-CBDF-4490-B1FE-7359E1C2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898C-D048-4FFF-A8E7-A7F4C8AD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8A514-B3F9-4A84-A000-7B6F057B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6DC34-4843-4DEC-9D7A-94E151E8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556DF-7315-4215-BAD8-02527767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9BA90-E49D-4E8F-93AD-331A47BF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59B0B-6574-4DAE-92A4-0ADDF156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8D875-FF31-462D-913C-8DA66FDC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8F1CE-0EF8-4F46-B698-9A814758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FF31A-EC28-45D8-BB97-8BBF04AB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8B154-8B9B-4E51-A7CD-10A77B46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CD026-FFCF-47EB-8910-C22AA9DE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88D-1582-48BF-8789-6F32961B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5C765-2266-4940-BD1E-5F2B25C5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F6DEA-4F83-465E-BB34-1D55CD42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CB439-AABE-4C6E-BA17-141805CD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D6218-4886-4E27-8C87-9ECE1194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C2A86-5A53-4200-B966-8672744F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FC3BF-DC1B-4C13-B63A-B3B7E0C5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A345A-146C-4B70-99BF-0C0FD6AC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5434D-6F98-4787-931F-0F33408C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43C35-E247-4857-B51D-B3C8A3BC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7A9CA-47A4-41CE-8B62-93E39683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0787-0490-4541-9231-8BFAEA0E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D9B2A-A981-4D5B-94E3-69706F20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3E109-E55C-4536-9941-DA09D16A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60D67-2FF6-4DCD-B78F-EF281BFC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63706-B081-4EAF-BB3B-271EB96C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D0E88-E36F-4988-A22C-A08D6BB1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896F7-5F7E-47AF-9862-95711415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05BA7-2000-40CD-A7D3-7EE7EE66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978F8-867D-4AC5-A6F6-0818BBE8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489AD-CB65-4A26-8032-B4E6D951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F4326-990E-4D91-A1FF-B14695D6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2234-AF02-4A2C-A2C5-5E1E022D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819E2-1096-409D-BD87-1100C44E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10B03-C5B1-4DA8-AEB0-AC361A41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4E61D-FB9B-42E4-921E-D0706D25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1A076-CDA1-4082-88E6-E15E5F86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15E0F-A03F-4998-86A7-9C85A61B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8607D-B0AE-42E9-8BEA-22BA99BD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B7CD6-1DDA-4610-96B5-CB766F98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2E05B-D6E5-44A9-9875-F712A319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69825-E8AD-40BE-8100-B2F6B936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86CA6-85B1-400E-912C-C0546916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9889-6D05-4163-AE5F-AE65C3A7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CEB8C-70F0-4E8F-9DF0-F084E8E9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99892-DDC4-4178-8A64-24616448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DEF36-2199-41C1-9A22-CBDE1B8A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B39CE-58FC-47A0-B820-E568CBE0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B67B8-E619-4FB7-BCEB-7F2B0C25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FF9F5-DDA2-4D23-9497-CE44B6FB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C2FF3-6250-465D-897B-CF6A27CD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07C430-FD31-4394-AF03-3D670D81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44E7BC-4227-4921-8531-70C11841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808D7-226F-4DF6-8ACF-A18BC16E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C58A-1D65-42D1-8B39-76497E8B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013253-F943-49BB-BE19-D9723E4B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033225-49B4-47FE-BF3F-9BACB777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4E8604-ED21-463E-BCF1-B29F77D1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20C6F-9B08-4F4B-8B72-2FE11204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9783C2-78C7-490F-9BD9-C651C091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F30E80-EEFC-4619-B545-1C9D3642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FBDF3-1EAA-42FA-9444-C4A31BCF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0A6B-C1B9-4FFA-B466-C89DCFA5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873A-1BBB-493C-8BCC-CBDEF3F8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6404-F721-404C-91DE-4A22FBE1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FEB5-0965-4BA4-BE18-FAC9ADA3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6CE2-A53D-4949-AE38-F06C5DB3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B273-7236-41B5-AF78-A3ADF776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BBE2-6EA1-4A23-ABA7-2978463A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7FF2-A951-4784-9FA4-820E8F5E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847C-F65B-4558-97F2-9CF97799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B221-4BAF-49CC-BE2A-8D9B20BB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BE93D-D83C-4137-895F-0D6A0F52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AAF17-3F1D-4D2C-9D87-F0D18441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A249E-0BA1-4EC9-9046-CFAC90DF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AE6E6-202D-4552-A3B0-9930BD8F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0EB6F-FBAF-47E6-B883-DAC229A6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C81F-EA0A-464E-946B-C2553F24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28970-91A8-421D-B006-6B2C21A1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64C7A-8612-4D46-9FFA-C8D8FF1B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CE0CC-E555-4B6F-8275-612086A3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5BD39-C9B1-4763-8457-7E7B8B4B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5178A-FE6A-4D1C-A49C-4C3DF639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AB088-ED5B-4564-8F5A-FF6678DD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BA29F-58B0-4B6A-9A9F-11EB0D34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E6EA8-BAA3-4B27-8CB7-CB2D6B8A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035D3-16B3-496D-BE91-6A0A3F9D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02162-73C5-4723-9012-AE0D2C23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223F-9E0C-457B-8427-BB6CF13D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E56F0-847C-473D-9900-A1B3B2CC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65BAA-5992-44DB-AB31-2771DFC0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E0541-A57B-4F0C-B45F-E28652A1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A8D87-C319-49AF-B9DC-05BB8419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E8FB7-B4CF-4E10-844D-86F098B5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E98FC-F823-4EA9-8F4D-EFF5B8EC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7AA16-E9DB-4901-A90F-A10E58CB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6ED98-BFC3-4239-8C73-AFC514D3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B4498-4473-487D-ADA9-BF63E7CC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2464A-864E-4683-96C3-DDD4E1E0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1C0D-17D3-496F-A0CA-A4E2A780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2F7F3-607E-4BD0-889D-4439C921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E58CC-DADB-4411-90BA-6189B00E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14DA9-06C9-412D-990E-1BB98515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C3DDE-3DB7-4C01-9966-EED24053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190C9-2B37-4597-8A5A-22A91B6B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DC6DD-B9D5-4617-8F39-BB82DFEC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A1C01-23CB-46B8-9728-1F9ECCF7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B9F7A-5146-4A91-ADC0-5975F123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0DF1F-CCEA-40C6-AE46-578CE821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298BF-3D03-426A-B059-4F910ADF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248B-A02B-4022-AC83-7BAB1292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7420F-1F8F-4985-8455-EF328E62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987BF-E3C6-40D9-A599-581F38EB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48EE3-D762-437A-B36F-413552E6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DA912-7C68-4734-B8BA-9E0F0B04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7756A-3BE9-4189-8124-49DC98D8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2628F-5A5E-4B63-88CB-6AC10A9C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E58B0-A99E-43FF-89FE-1726A428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765EB-E6A0-463B-98D4-33097636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EB48B-0391-4AF4-B83A-B3494497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BCEEF-6785-479B-8D30-12B28930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6DE5-7FD7-4B93-9AF8-BF622417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8C30D-2F14-4153-B019-D4EC1AEB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D5EA9-D40B-4894-8DED-3E6D0114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71F86-00B0-4F5D-B400-8E45260C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A8846-0FC8-4321-84F5-A395BDC3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A16E3-CB2E-4492-921D-1CD36755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AB40D-B0CB-4BE0-863B-A849444B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A2472-FC3F-4694-AF02-4777D1E5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B8A34-4C11-4453-95D1-7E7B6E89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966B5-B042-4D9F-8667-E0722007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1D328-06C9-4604-9355-D04848A9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4DA2-FF1B-46BF-AC0C-A9A7BA59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87B1E-D0D7-44EF-BC59-3E280C36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5EDFE-FC47-4169-9D2C-30CF6F03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8CCAC-2A2F-4D2E-BCEF-62F7CBDD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68B09-BF7D-4412-BEF6-60A518EF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1AFFA-14F1-4DE9-B981-DC2234EE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D0B7D-FAAF-44AE-B8FE-8F2E445D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072BC-5F7D-41FE-98C7-BA67E01B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06428-65E3-4511-B814-9F2938F6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DE7AC-2163-4158-94AE-85B6A042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8C494-96C0-4189-AF54-397C2299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041-8391-46A9-8DCB-3DB713A3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3AFE7-CD36-4E58-9042-797071E3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6E3AD-A419-4478-92DE-8A991A9F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AC503-4270-4C7E-BD56-4A3BBB62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660D6-7F81-4084-9F15-37B236D9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4A92D-B2D7-42C2-8711-25FF0E65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44567-62F8-44F6-A946-DBCA875E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4610D-A902-4DB6-B4F9-A83D89D6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59F37-D9BC-4451-9634-E8D67A6E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56D51-AB12-4CEA-89E5-991F4024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B0541-EA03-4BF6-ACD8-CBE937EF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9B1D-C3FF-4FD5-A12D-F0F4045AD2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7C37-8825-46AD-AC46-3CCFCEBB64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35A4-ADAB-4F73-9F94-1E918CE545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27A2-178F-40B5-A2B2-1F8F1F6B4D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8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37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38"/>
          </p:nvPr>
        </p:nvSpPr>
        <p:spPr>
          <a:xfrm>
            <a:off x="1476000" y="6248520"/>
            <a:ext cx="727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31313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313131"/>
                </a:solidFill>
                <a:latin typeface="Times New Roman"/>
              </a:rPr>
              <a:t>	</a:t>
            </a:r>
            <a:r>
              <a:rPr b="0" lang="ar-SA" sz="1000" spc="-1" strike="noStrike">
                <a:solidFill>
                  <a:srgbClr val="313131"/>
                </a:solidFill>
                <a:latin typeface="Times New Roman"/>
              </a:rPr>
              <a:t>د. صالح القحطاني</a:t>
            </a:r>
            <a:r>
              <a:rPr b="0" lang="ar-SA" sz="1000" spc="-1" strike="noStrike">
                <a:solidFill>
                  <a:srgbClr val="313131"/>
                </a:solidFill>
                <a:latin typeface="Times New Roman"/>
              </a:rPr>
              <a:t>	</a:t>
            </a:r>
            <a:r>
              <a:rPr b="0" lang="ar-SA" sz="1000" spc="-1" strike="noStrike">
                <a:solidFill>
                  <a:srgbClr val="313131"/>
                </a:solidFill>
                <a:latin typeface="Times New Roman"/>
              </a:rPr>
              <a:t>	</a:t>
            </a:r>
            <a:r>
              <a:rPr b="0" lang="ar-SA" sz="1000" spc="-1" strike="noStrike">
                <a:solidFill>
                  <a:srgbClr val="313131"/>
                </a:solidFill>
                <a:latin typeface="Times New Roman"/>
              </a:rPr>
              <a:t>	</a:t>
            </a:r>
            <a:r>
              <a:rPr b="0" lang="ar-SA" sz="1000" spc="-1" strike="noStrike">
                <a:solidFill>
                  <a:srgbClr val="313131"/>
                </a:solidFill>
                <a:latin typeface="Times New Roman"/>
              </a:rPr>
              <a:t>	</a:t>
            </a:r>
            <a:r>
              <a:rPr b="0" lang="ar-SA" sz="1000" spc="-1" strike="noStrike">
                <a:solidFill>
                  <a:srgbClr val="313131"/>
                </a:solidFill>
                <a:latin typeface="Times New Roman"/>
              </a:rPr>
              <a:t>	</a:t>
            </a:r>
            <a:r>
              <a:rPr b="0" lang="ar-SA" sz="1000" spc="-1" strike="noStrike">
                <a:solidFill>
                  <a:srgbClr val="313131"/>
                </a:solidFill>
                <a:latin typeface="Times New Roman"/>
              </a:rPr>
              <a:t>المنتجات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39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3B20-6256-4B13-A68C-F1290DBACAD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0D16-2F0B-484E-B839-0769DFB317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0867-5395-429B-8071-A68033667D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63F8-92DE-42E8-88FD-6A917B2ADB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AA8E-EDDB-4AB0-A003-F59E263D34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46C2-13E5-40BD-87DC-958811FA38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81E4-351E-4F57-A28C-C99FC7D7F1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DF33-DC20-4A00-9389-AFC55F5821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1EEA-F17E-4297-AE02-FE5626B304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halalfoods.files.wordpress.com/2009/04/m_mcdonalds-logo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google.com.sa/imgres?imgurl=http://www.nufooz.com/media/thumbnail/post-image/411-248/0181984cf997213c0eebf02a7a0fb053/20100128_nike-logo-1264324417.jpg&amp;imgrefurl=http://www.nufooz.com/ar/article/content/miscellaneous-news/industries/nike-safari-super.html&amp;usg=__3qKZLYCfVH_ZwLxqptYv-SV3Pds=&amp;h=248&amp;w=411&amp;sz=17&amp;hl=ar&amp;start=11&amp;zoom=1&amp;itbs=1&amp;tbnid=Ru6S5AOZwb4XLM:&amp;tbnh=75&amp;tbnw=125&amp;prev=/images?q=&#1588;&#1593;&#1575;&#1585;+&#1606;&#1575;&#1610;&#1603;&#1610;&amp;hl=ar&amp;safe=active&amp;gbv=2&amp;tbs=isch: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google.com.sa/imgres?imgurl=http://img689.imageshack.us/img689/619/mercedeslogoo.gif&amp;imgrefurl=http://www.knowledgeoman.com/arabic/forums/showthread.php?p=108374&amp;usg=__BEvhK_dAawU9htpZOMgomFXLQBY=&amp;h=400&amp;w=400&amp;sz=18&amp;hl=ar&amp;start=10&amp;zoom=1&amp;itbs=1&amp;tbnid=2mDyLEc9yYyn_M:&amp;tbnh=124&amp;tbnw=124&amp;prev=/images?q=&#1588;&#1593;&#1575;&#1585;+&#1605;&#1585;&#1587;&#1610;&#1583;&#1587;&amp;hl=ar&amp;safe=active&amp;gbv=2&amp;tbs=isch: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google.com.sa/imgres?imgurl=http://2.bp.blogspot.com/_rTJ1M07yw3w/SWq_YYZMZ0I/AAAAAAAAAmA/oGHcznygL-Y/s320/apple_logo_rainbow.jpg&amp;imgrefurl=http://www.kll1.com/vb/t38509.html&amp;usg=__GNyG2-zItD2I4Fn-MZMhZA4bHW8=&amp;h=320&amp;w=278&amp;sz=14&amp;hl=ar&amp;start=5&amp;zoom=1&amp;itbs=1&amp;tbnid=dc44afamYHDacM:&amp;tbnh=118&amp;tbnw=103&amp;prev=/images?q=&#1588;&#1593;&#1575;&#1585;+&#1575;&#1576;&#1604;&amp;hl=ar&amp;safe=active&amp;gbv=2&amp;tbs=isch:1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www.google.com.sa/imgres?imgurl=http://www.searchengine.co.za/wp-content/uploads/2008/08/kfc-logo-high-quality-300x299.jpg&amp;imgrefurl=http://www.altaj3.com/dxn/t2533.html&amp;usg=__M79LwdPqvzrzaJMxGvlq4r9v9-A=&amp;h=299&amp;w=300&amp;sz=24&amp;hl=ar&amp;start=5&amp;zoom=1&amp;itbs=1&amp;tbnid=TW-leV_ZccTHCM:&amp;tbnh=116&amp;tbnw=116&amp;prev=/images?q=&#1588;&#1593;&#1575;&#1585;+&#1603;&#1606;&#1578;&#1575;&#1603;&#1610;&amp;hl=ar&amp;safe=active&amp;gbv=2&amp;tbs=isch:1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www.google.com.sa/imgres?imgurl=http://www.air.flyingway.com/airlogo/pic/sv_logo.gif&amp;imgrefurl=http://www.flyingway.com/vb/showthread.php?t=60621&amp;usg=__k9qQJqZ2nOPolpsXfbReELbkHVA=&amp;h=218&amp;w=200&amp;sz=12&amp;hl=ar&amp;start=5&amp;zoom=1&amp;itbs=1&amp;tbnid=4iu_xn04hdGkBM:&amp;tbnh=107&amp;tbnw=98&amp;prev=/images?q=&#1588;&#1593;&#1575;&#1585;+&#1575;&#1604;&#1582;&#1591;&#1608;&#1591;+&#1575;&#1604;&#1587;&#1593;&#1608;&#1583;&#1610;&#1577;&amp;hl=ar&amp;safe=active&amp;gbv=2&amp;tbs=isch:1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www.mobiletopsoft.com/images/news/nokia_logo2.jpg&amp;imgrefurl=http://al-web.net/vb/t6215.html&amp;usg=__e24hleDWILcI3j5qRYHaG7Z38Xk=&amp;h=400&amp;w=400&amp;sz=11&amp;hl=ar&amp;start=10&amp;zoom=1&amp;itbs=1&amp;tbnid=0IUvC4d7z6e2UM:&amp;tbnh=124&amp;tbnw=124&amp;prev=/images?q=&#1588;&#1593;&#1575;&#1585;+&#1606;&#1608;&#1603;&#1610;&#1575;&amp;hl=ar&amp;safe=active&amp;gbv=2&amp;tbs=isch:1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google.com.sa/imgres?imgurl=http://www.hotelfurnitureguy.com/images/logos/hilton-logo.jpg&amp;imgrefurl=http://www.hotelfurnitureguy.com/&amp;usg=__SPnKz4AaorhF8NzKW5CbSfFKPK8=&amp;h=674&amp;w=979&amp;sz=65&amp;hl=ar&amp;start=11&amp;zoom=1&amp;itbs=1&amp;tbnid=YLJa6BxJxY3inM:&amp;tbnh=103&amp;tbnw=149&amp;prev=/images?q=&#1588;&#1593;&#1575;&#1585;+&#1607;&#1610;&#1604;&#1578;&#1608;&#1606;&amp;hl=ar&amp;safe=active&amp;gbv=2&amp;tbs=isch:1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www.google.com.sa/imgres?imgurl=http://hikuwait.com/wp-content/uploads/2010/04/subway_eat_fresh.jpg&amp;imgrefurl=http://hikuwait.com/index.php/tag/&#1575;&#1582;&#1590;&#1585;/&amp;usg=__gk1GJ26fTs4l1nWw9JlefxqBB3g=&amp;h=320&amp;w=320&amp;sz=14&amp;hl=ar&amp;start=7&amp;zoom=1&amp;itbs=1&amp;tbnid=92gWVDc4h4xQiM:&amp;tbnh=118&amp;tbnw=118&amp;prev=/images?q=&#1588;&#1593;&#1575;&#1585;+&#1575;&#1604;&#1591;&#1575;&#1586;&#1580;&amp;hl=ar&amp;safe=active&amp;gbv=2&amp;tbs=isch:1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www.google.com.sa/imgres?imgurl=http://www.sptechs.com/emarket/thumbs/pics/item128566.gif&amp;imgrefurl=http://www.rnon.com/vb/showthread.php?t=4594&amp;usg=__83NQDN5WbXSf7L2Jmq-QUsw6ipc=&amp;h=610&amp;w=432&amp;sz=104&amp;hl=ar&amp;start=4&amp;zoom=1&amp;itbs=1&amp;tbnid=6PhGesgsDVpq9M:&amp;tbnh=136&amp;tbnw=96&amp;prev=/images?q=&#1588;&#1593;&#1575;&#1585;+&#1586;&#1610;&#1606;&amp;hl=ar&amp;safe=active&amp;gbv=2&amp;tbs=isch:1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4"/>
          <p:cNvSpPr/>
          <p:nvPr/>
        </p:nvSpPr>
        <p:spPr>
          <a:xfrm>
            <a:off x="2771640" y="1174680"/>
            <a:ext cx="544356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Arial"/>
                <a:cs typeface="PT Bold Heading"/>
              </a:rPr>
              <a:t>إدارة التسويق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5"/>
          <p:cNvSpPr/>
          <p:nvPr/>
        </p:nvSpPr>
        <p:spPr>
          <a:xfrm rot="20312400">
            <a:off x="1749960" y="3765960"/>
            <a:ext cx="2390400" cy="1373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إعد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د. محمود صال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شكل بيضاوي 5"/>
          <p:cNvSpPr/>
          <p:nvPr/>
        </p:nvSpPr>
        <p:spPr>
          <a:xfrm>
            <a:off x="714240" y="1928880"/>
            <a:ext cx="1714680" cy="185724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مربع نص 4"/>
          <p:cNvSpPr/>
          <p:nvPr/>
        </p:nvSpPr>
        <p:spPr>
          <a:xfrm>
            <a:off x="1071720" y="1785960"/>
            <a:ext cx="1071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8"/>
          <p:cNvSpPr/>
          <p:nvPr/>
        </p:nvSpPr>
        <p:spPr>
          <a:xfrm>
            <a:off x="1090440" y="-6660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Arial"/>
                <a:cs typeface="PT Bold Heading"/>
              </a:rPr>
              <a:t>المنفعة الأساسية للمنت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1000080" y="1000080"/>
            <a:ext cx="7143840" cy="3978360"/>
          </a:xfrm>
          <a:prstGeom prst="rect">
            <a:avLst/>
          </a:prstGeom>
          <a:solidFill>
            <a:srgbClr val="d7d8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هذه المنفعة هي سبب تفكير المستهلك في شراء المنتج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(لماذا يشتري المنتج؟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وتكون دوافع شراء المستهلك لهذه المنافع </a:t>
            </a:r>
            <a:r>
              <a:rPr b="0" lang="ar-SA" sz="4400" spc="-1" strike="noStrike">
                <a:solidFill>
                  <a:srgbClr val="e61893"/>
                </a:solidFill>
                <a:latin typeface="Arial"/>
                <a:cs typeface="PT Bold Heading"/>
              </a:rPr>
              <a:t>دوافع شراء أولية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دون تحديد ماركة محدد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8"/>
          <p:cNvSpPr/>
          <p:nvPr/>
        </p:nvSpPr>
        <p:spPr>
          <a:xfrm>
            <a:off x="1000080" y="5214960"/>
            <a:ext cx="7143840" cy="1556280"/>
          </a:xfrm>
          <a:prstGeom prst="rect">
            <a:avLst/>
          </a:prstGeom>
          <a:solidFill>
            <a:srgbClr val="1faec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لذا لابد عند تصميم المنتج من تحديد المنافع التي يبحث عنها المستهلك من استهلاكه للمنت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8"/>
          <p:cNvSpPr/>
          <p:nvPr/>
        </p:nvSpPr>
        <p:spPr>
          <a:xfrm>
            <a:off x="1090440" y="7128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خصائص المادية للمنت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8"/>
          <p:cNvSpPr/>
          <p:nvPr/>
        </p:nvSpPr>
        <p:spPr>
          <a:xfrm>
            <a:off x="1071720" y="1357200"/>
            <a:ext cx="7143480" cy="6175080"/>
          </a:xfrm>
          <a:prstGeom prst="rect">
            <a:avLst/>
          </a:prstGeom>
          <a:solidFill>
            <a:srgbClr val="92d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  <a:cs typeface="PT Bold Heading"/>
              </a:rPr>
              <a:t>تمثل المنتج الحقيقي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Actual product</a:t>
            </a:r>
            <a:r>
              <a:rPr b="0" lang="ar-SA" sz="5000" spc="-1" strike="noStrike">
                <a:solidFill>
                  <a:srgbClr val="000000"/>
                </a:solidFill>
                <a:latin typeface="Arial"/>
                <a:ea typeface="PT Bold Heading"/>
              </a:rPr>
              <a:t> الذي يشتريه المستهل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وتكون دوافع شراء المستهلك لهذه للمنتج الذي يحمل خصائص معينة </a:t>
            </a:r>
            <a:r>
              <a:rPr b="0" lang="ar-SA" sz="4400" spc="-1" strike="noStrike">
                <a:solidFill>
                  <a:srgbClr val="e61893"/>
                </a:solidFill>
                <a:latin typeface="Arial"/>
                <a:cs typeface="PT Bold Heading"/>
              </a:rPr>
              <a:t>دوافع شراء انتقائية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(مقارنة بين المنتجات البديل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8"/>
          <p:cNvSpPr/>
          <p:nvPr/>
        </p:nvSpPr>
        <p:spPr>
          <a:xfrm>
            <a:off x="1090440" y="71280"/>
            <a:ext cx="71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خدمات المصاحبة للمنت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8"/>
          <p:cNvSpPr/>
          <p:nvPr/>
        </p:nvSpPr>
        <p:spPr>
          <a:xfrm>
            <a:off x="1000080" y="1293840"/>
            <a:ext cx="7143840" cy="5108760"/>
          </a:xfrm>
          <a:prstGeom prst="rect">
            <a:avLst/>
          </a:prstGeom>
          <a:solidFill>
            <a:srgbClr val="f9d1d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PT Bold Heading"/>
              </a:rPr>
              <a:t>وهي الخدمات التي يقدمها البائع أثناء وبعد بيع المنتج 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PT Bold Heading"/>
              </a:rPr>
              <a:t>للمستهلك (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cs typeface="PT Bold Heading"/>
              </a:rPr>
              <a:t>خدمات ما بعد البيع</a:t>
            </a:r>
            <a:r>
              <a:rPr b="0" lang="ar-SA" sz="46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وتكون دوافع شراء المستهلك للمنتج من بائع يقدم خدمات معينة </a:t>
            </a:r>
            <a:r>
              <a:rPr b="0" lang="ar-SA" sz="4400" spc="-1" strike="noStrike">
                <a:solidFill>
                  <a:srgbClr val="e61893"/>
                </a:solidFill>
                <a:latin typeface="Arial"/>
                <a:cs typeface="PT Bold Heading"/>
              </a:rPr>
              <a:t>دوافع تعامل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مقارنة بالخدمات التي يقدمها غيره من البائع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8"/>
          <p:cNvSpPr/>
          <p:nvPr/>
        </p:nvSpPr>
        <p:spPr>
          <a:xfrm>
            <a:off x="1090440" y="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8"/>
          <p:cNvSpPr/>
          <p:nvPr/>
        </p:nvSpPr>
        <p:spPr>
          <a:xfrm>
            <a:off x="500040" y="1446120"/>
            <a:ext cx="814392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تصميم المنت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الخصائص الشكلية للمنت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الجو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تمييز المنتج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التعبئة والتغلي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التبي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8"/>
          <p:cNvSpPr/>
          <p:nvPr/>
        </p:nvSpPr>
        <p:spPr>
          <a:xfrm>
            <a:off x="1090440" y="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00040" y="144612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تصميم ا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8"/>
          <p:cNvSpPr/>
          <p:nvPr/>
        </p:nvSpPr>
        <p:spPr>
          <a:xfrm>
            <a:off x="500040" y="2266920"/>
            <a:ext cx="81439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يركز على </a:t>
            </a:r>
            <a:r>
              <a:rPr b="0" lang="ar-SA" sz="4000" spc="-1" strike="noStrike">
                <a:solidFill>
                  <a:srgbClr val="e61893"/>
                </a:solidFill>
                <a:latin typeface="Arial"/>
                <a:cs typeface="PT Bold Heading"/>
              </a:rPr>
              <a:t>مكونات المنتج وتفاعلها 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مع بعضها البعض أو تكاملها بما يؤدي في النهاية إلى تحقيق </a:t>
            </a:r>
            <a:r>
              <a:rPr b="0" lang="ar-SA" sz="4000" spc="-1" strike="noStrike">
                <a:solidFill>
                  <a:srgbClr val="ff6600"/>
                </a:solidFill>
                <a:latin typeface="Arial"/>
                <a:cs typeface="PT Bold Heading"/>
              </a:rPr>
              <a:t>المنفعة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 المطلوبة أو أداء الوظيفة التي يؤديها المنت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6" name="Text Box 8"/>
          <p:cNvSpPr/>
          <p:nvPr/>
        </p:nvSpPr>
        <p:spPr>
          <a:xfrm>
            <a:off x="1090440" y="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8"/>
          <p:cNvSpPr/>
          <p:nvPr/>
        </p:nvSpPr>
        <p:spPr>
          <a:xfrm>
            <a:off x="500040" y="144612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الخصائص الشكل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8"/>
          <p:cNvSpPr/>
          <p:nvPr/>
        </p:nvSpPr>
        <p:spPr>
          <a:xfrm>
            <a:off x="500040" y="2266920"/>
            <a:ext cx="814392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يمثل الصورة التي يكون عليها المنت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عند طرحه للبي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من هيئة وألوان وأبعاد ...ال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8"/>
          <p:cNvSpPr/>
          <p:nvPr/>
        </p:nvSpPr>
        <p:spPr>
          <a:xfrm>
            <a:off x="1090440" y="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8"/>
          <p:cNvSpPr/>
          <p:nvPr/>
        </p:nvSpPr>
        <p:spPr>
          <a:xfrm>
            <a:off x="500040" y="144612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الجود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8"/>
          <p:cNvSpPr/>
          <p:nvPr/>
        </p:nvSpPr>
        <p:spPr>
          <a:xfrm>
            <a:off x="500040" y="2266920"/>
            <a:ext cx="81439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تعني توافر مواصفات معينة في المنت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8"/>
          <p:cNvSpPr/>
          <p:nvPr/>
        </p:nvSpPr>
        <p:spPr>
          <a:xfrm>
            <a:off x="500040" y="3348000"/>
            <a:ext cx="814392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مثال: تعني جودة المنتجات الدوائية توافر عاملي سلامة وفعالية الدواء مع تقليل آثاره الجانبية بقدر الإمك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8"/>
          <p:cNvSpPr/>
          <p:nvPr/>
        </p:nvSpPr>
        <p:spPr>
          <a:xfrm>
            <a:off x="1090440" y="-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8"/>
          <p:cNvSpPr/>
          <p:nvPr/>
        </p:nvSpPr>
        <p:spPr>
          <a:xfrm>
            <a:off x="500040" y="92880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تمييز المنتجات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Product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Text Box 8" descr=""/>
          <p:cNvPicPr/>
          <p:nvPr/>
        </p:nvPicPr>
        <p:blipFill>
          <a:blip r:embed="rId2"/>
          <a:stretch/>
        </p:blipFill>
        <p:spPr>
          <a:xfrm>
            <a:off x="476280" y="1542960"/>
            <a:ext cx="8369280" cy="258444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8"/>
          <p:cNvSpPr/>
          <p:nvPr/>
        </p:nvSpPr>
        <p:spPr>
          <a:xfrm>
            <a:off x="500040" y="4330800"/>
            <a:ext cx="8143920" cy="2150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أسباب تمييز المنتج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34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سهولة تعرف العملاء على 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34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حماية المنتجات من التقليد والغ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34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سهولة الإعلان والترويج عن 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2" descr="m_mcdonalds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3048120"/>
            <a:ext cx="2171880" cy="193356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4" descr="http://t2.gstatic.com/images?q=tbn:Ru6S5AOZwb4XLM:http://www.nufooz.com/media/thumbnail/post-image/411-248/0181984cf997213c0eebf02a7a0fb053/20100128_nike-logo-126432441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3880" y="2438280"/>
            <a:ext cx="1190880" cy="7146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http://t2.gstatic.com/images?q=tbn:2mDyLEc9yYyn_M:http://img689.imageshack.us/img689/619/mercedeslogoo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86200" y="236232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8" descr="http://t0.gstatic.com/images?q=tbn:dc44afamYHDacM:http://2.bp.blogspot.com/_rTJ1M07yw3w/SWq_YYZMZ0I/AAAAAAAAAmA/oGHcznygL-Y/s320/apple_logo_rainbow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981080" y="4038480"/>
            <a:ext cx="981360" cy="11239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0" descr="http://t1.gstatic.com/images?q=tbn:TW-leV_ZccTHCM:http://www.searchengine.co.za/wp-content/uploads/2008/08/kfc-logo-high-quality-300x299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629400" y="15238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2" descr="http://t3.gstatic.com/images?q=tbn:4iu_xn04hdGkBM:http://www.air.flyingway.com/airlogo/pic/sv_logo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09880" y="4724280"/>
            <a:ext cx="9334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2" descr="http://t3.gstatic.com/images?q=tbn:0IUvC4d7z6e2UM:http://www.mobiletopsoft.com/images/news/nokia_logo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24382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4" descr="http://t2.gstatic.com/images?q=tbn:YLJa6BxJxY3inM:http://www.hotelfurnitureguy.com/images/logos/hilton-log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95280" y="2819520"/>
            <a:ext cx="1419480" cy="98100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6" descr="http://t2.gstatic.com/images?q=tbn:92gWVDc4h4xQiM:http://hikuwait.com/wp-content/uploads/2010/04/subway_eat_fresh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86200" y="38862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8" descr="http://t2.gstatic.com/images?q=tbn:6PhGesgsDVpq9M:http://www.sptechs.com/emarket/thumbs/pics/item128566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00800" y="3543480"/>
            <a:ext cx="1371600" cy="19429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0" descr="http://t3.gstatic.com/images?q=tbn:3qurl_N_kW4WLM:http://upload.wikimedia.org/wikipedia/ar/b/b7/%D8%B4%D8%B9%D8%A7%D8%B1_%D8%A8%D9%86%D8%AF%D9%87.jpg"/>
          <p:cNvPicPr/>
          <p:nvPr/>
        </p:nvPicPr>
        <p:blipFill>
          <a:blip r:embed="rId9"/>
          <a:stretch/>
        </p:blipFill>
        <p:spPr>
          <a:xfrm>
            <a:off x="685800" y="4419720"/>
            <a:ext cx="2962440" cy="10191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2" descr="http://t1.gstatic.com/images?q=tbn:qDgZ9kgzrrhWRM:http://www.cellphones.ca/news/upload/Rolex%2520Logo.jpg"/>
          <p:cNvPicPr/>
          <p:nvPr/>
        </p:nvPicPr>
        <p:blipFill>
          <a:blip r:embed="rId10"/>
          <a:stretch/>
        </p:blipFill>
        <p:spPr>
          <a:xfrm>
            <a:off x="2895480" y="2209680"/>
            <a:ext cx="1828800" cy="12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8"/>
          <p:cNvSpPr/>
          <p:nvPr/>
        </p:nvSpPr>
        <p:spPr>
          <a:xfrm>
            <a:off x="428760" y="357120"/>
            <a:ext cx="824364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d314e"/>
                </a:solidFill>
                <a:latin typeface="Arial"/>
                <a:cs typeface="PT Bold Heading"/>
              </a:rPr>
              <a:t>مكونات البرنامج التسويق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8"/>
          <p:cNvSpPr/>
          <p:nvPr/>
        </p:nvSpPr>
        <p:spPr>
          <a:xfrm>
            <a:off x="3643200" y="1263600"/>
            <a:ext cx="2067120" cy="30708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جزئة السو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8"/>
          <p:cNvSpPr/>
          <p:nvPr/>
        </p:nvSpPr>
        <p:spPr>
          <a:xfrm>
            <a:off x="3643200" y="2571840"/>
            <a:ext cx="2067120" cy="307080"/>
          </a:xfrm>
          <a:prstGeom prst="rect">
            <a:avLst/>
          </a:prstGeom>
          <a:solidFill>
            <a:srgbClr val="d5a7b1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التنبؤ بالطل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3643200" y="3214800"/>
            <a:ext cx="2067120" cy="520200"/>
          </a:xfrm>
          <a:prstGeom prst="rect">
            <a:avLst/>
          </a:prstGeom>
          <a:solidFill>
            <a:srgbClr val="ff66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حديد القطاعات المستهدف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8"/>
          <p:cNvSpPr/>
          <p:nvPr/>
        </p:nvSpPr>
        <p:spPr>
          <a:xfrm>
            <a:off x="3643200" y="3857760"/>
            <a:ext cx="206712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حديد الوضع التنافس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8"/>
          <p:cNvSpPr/>
          <p:nvPr/>
        </p:nvSpPr>
        <p:spPr>
          <a:xfrm>
            <a:off x="2654280" y="4572000"/>
            <a:ext cx="4068720" cy="3660120"/>
          </a:xfrm>
          <a:prstGeom prst="rect">
            <a:avLst/>
          </a:prstGeom>
          <a:solidFill>
            <a:srgbClr val="ead3d8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8"/>
          <p:cNvSpPr/>
          <p:nvPr/>
        </p:nvSpPr>
        <p:spPr>
          <a:xfrm>
            <a:off x="4214880" y="4929120"/>
            <a:ext cx="100008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المنت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8"/>
          <p:cNvSpPr/>
          <p:nvPr/>
        </p:nvSpPr>
        <p:spPr>
          <a:xfrm>
            <a:off x="4221000" y="5857920"/>
            <a:ext cx="10004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روي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8"/>
          <p:cNvSpPr/>
          <p:nvPr/>
        </p:nvSpPr>
        <p:spPr>
          <a:xfrm>
            <a:off x="5429160" y="5429160"/>
            <a:ext cx="100008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سعي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8"/>
          <p:cNvSpPr/>
          <p:nvPr/>
        </p:nvSpPr>
        <p:spPr>
          <a:xfrm>
            <a:off x="3000240" y="5429160"/>
            <a:ext cx="10004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وزي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3" name="رابط كسهم مستقيم 19"/>
          <p:cNvCxnSpPr>
            <a:stCxn id="634" idx="2"/>
          </p:cNvCxnSpPr>
          <p:nvPr/>
        </p:nvCxnSpPr>
        <p:spPr>
          <a:xfrm flipH="1">
            <a:off x="4672800" y="1571760"/>
            <a:ext cx="3960" cy="10008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4" name="رابط كسهم مستقيم 20"/>
          <p:cNvCxnSpPr/>
          <p:nvPr/>
        </p:nvCxnSpPr>
        <p:spPr>
          <a:xfrm flipH="1">
            <a:off x="4672800" y="2857680"/>
            <a:ext cx="2520" cy="3578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5" name="رابط كسهم مستقيم 21"/>
          <p:cNvCxnSpPr/>
          <p:nvPr/>
        </p:nvCxnSpPr>
        <p:spPr>
          <a:xfrm flipH="1">
            <a:off x="4672800" y="3499920"/>
            <a:ext cx="2520" cy="358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6" name="رابط كسهم مستقيم 27"/>
          <p:cNvCxnSpPr>
            <a:stCxn id="638" idx="0"/>
            <a:endCxn id="637" idx="2"/>
          </p:cNvCxnSpPr>
          <p:nvPr/>
        </p:nvCxnSpPr>
        <p:spPr>
          <a:xfrm flipH="1" flipV="1">
            <a:off x="4676040" y="4164840"/>
            <a:ext cx="13320" cy="40716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647" name="رابط مستقيم 29"/>
          <p:cNvSpPr/>
          <p:nvPr/>
        </p:nvSpPr>
        <p:spPr>
          <a:xfrm flipH="1" flipV="1">
            <a:off x="4000680" y="5583240"/>
            <a:ext cx="142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رابط مستقيم 31"/>
          <p:cNvSpPr/>
          <p:nvPr/>
        </p:nvSpPr>
        <p:spPr>
          <a:xfrm>
            <a:off x="4714920" y="5237280"/>
            <a:ext cx="6480" cy="62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رابط مستقيم 33"/>
          <p:cNvSpPr/>
          <p:nvPr/>
        </p:nvSpPr>
        <p:spPr>
          <a:xfrm>
            <a:off x="5214960" y="5083200"/>
            <a:ext cx="71424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رابط مستقيم 35"/>
          <p:cNvSpPr/>
          <p:nvPr/>
        </p:nvSpPr>
        <p:spPr>
          <a:xfrm flipH="1">
            <a:off x="5221440" y="5737320"/>
            <a:ext cx="7077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رابط مستقيم 37"/>
          <p:cNvSpPr/>
          <p:nvPr/>
        </p:nvSpPr>
        <p:spPr>
          <a:xfrm>
            <a:off x="3500280" y="5737320"/>
            <a:ext cx="72072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رابط مستقيم 39"/>
          <p:cNvSpPr/>
          <p:nvPr/>
        </p:nvSpPr>
        <p:spPr>
          <a:xfrm flipH="1">
            <a:off x="3499920" y="5082480"/>
            <a:ext cx="71460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6616800" y="3835440"/>
            <a:ext cx="1643040" cy="520200"/>
          </a:xfrm>
          <a:prstGeom prst="rect">
            <a:avLst/>
          </a:prstGeom>
          <a:solidFill>
            <a:srgbClr val="00b0f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عوام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ية داخل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4" name="رابط كسهم مستقيم 28"/>
          <p:cNvCxnSpPr/>
          <p:nvPr/>
        </p:nvCxnSpPr>
        <p:spPr>
          <a:xfrm flipH="1" flipV="1">
            <a:off x="6714360" y="5500440"/>
            <a:ext cx="78660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5" name="رابط مستقيم 42"/>
          <p:cNvSpPr/>
          <p:nvPr/>
        </p:nvSpPr>
        <p:spPr>
          <a:xfrm>
            <a:off x="7436880" y="4359240"/>
            <a:ext cx="36360" cy="1141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1027080" y="3833640"/>
            <a:ext cx="1643040" cy="520200"/>
          </a:xfrm>
          <a:prstGeom prst="rect">
            <a:avLst/>
          </a:prstGeom>
          <a:solidFill>
            <a:srgbClr val="f3a276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عوام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ية خارج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رابط مستقيم 46"/>
          <p:cNvSpPr/>
          <p:nvPr/>
        </p:nvSpPr>
        <p:spPr>
          <a:xfrm>
            <a:off x="1848600" y="4357800"/>
            <a:ext cx="34920" cy="1143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8" name="رابط كسهم مستقيم 48"/>
          <p:cNvCxnSpPr>
            <a:endCxn id="638" idx="1"/>
          </p:cNvCxnSpPr>
          <p:nvPr/>
        </p:nvCxnSpPr>
        <p:spPr>
          <a:xfrm flipV="1">
            <a:off x="1857240" y="5490360"/>
            <a:ext cx="797760" cy="104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9" name="Text Box 8"/>
          <p:cNvSpPr/>
          <p:nvPr/>
        </p:nvSpPr>
        <p:spPr>
          <a:xfrm>
            <a:off x="6205680" y="464328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حلي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8"/>
          <p:cNvSpPr/>
          <p:nvPr/>
        </p:nvSpPr>
        <p:spPr>
          <a:xfrm>
            <a:off x="6215040" y="6108840"/>
            <a:ext cx="438120" cy="33732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خطي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2730600" y="464328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رقاب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8"/>
          <p:cNvSpPr/>
          <p:nvPr/>
        </p:nvSpPr>
        <p:spPr>
          <a:xfrm>
            <a:off x="2714760" y="610884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نفي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3" name="رابط كسهم مستقيم 41"/>
          <p:cNvCxnSpPr/>
          <p:nvPr/>
        </p:nvCxnSpPr>
        <p:spPr>
          <a:xfrm>
            <a:off x="3168720" y="4722840"/>
            <a:ext cx="3037680" cy="216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64" name="رابط كسهم مستقيم 45"/>
          <p:cNvCxnSpPr/>
          <p:nvPr/>
        </p:nvCxnSpPr>
        <p:spPr>
          <a:xfrm>
            <a:off x="6525000" y="4858920"/>
            <a:ext cx="10440" cy="12502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65" name="رابط كسهم مستقيم 49"/>
          <p:cNvCxnSpPr/>
          <p:nvPr/>
        </p:nvCxnSpPr>
        <p:spPr>
          <a:xfrm flipH="1" flipV="1">
            <a:off x="3152520" y="6284160"/>
            <a:ext cx="3062880" cy="25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66" name="رابط كسهم مستقيم 51"/>
          <p:cNvCxnSpPr/>
          <p:nvPr/>
        </p:nvCxnSpPr>
        <p:spPr>
          <a:xfrm flipH="1" flipV="1">
            <a:off x="2866320" y="4858560"/>
            <a:ext cx="5400" cy="12502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8"/>
          <p:cNvSpPr/>
          <p:nvPr/>
        </p:nvSpPr>
        <p:spPr>
          <a:xfrm>
            <a:off x="1090440" y="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00040" y="116532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تمييز المنتج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8"/>
          <p:cNvSpPr/>
          <p:nvPr/>
        </p:nvSpPr>
        <p:spPr>
          <a:xfrm>
            <a:off x="500040" y="1785960"/>
            <a:ext cx="8143920" cy="6049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المواصفات التي يجب توافرها في الاس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ts val="4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Arial"/>
                <a:cs typeface="PT Bold Heading"/>
              </a:rPr>
              <a:t>سهولة النط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ts val="4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Arial"/>
                <a:cs typeface="PT Bold Heading"/>
              </a:rPr>
              <a:t>سهولة الكتا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ts val="4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Arial"/>
                <a:cs typeface="PT Bold Heading"/>
              </a:rPr>
              <a:t>سهولة التذك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ts val="4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Arial"/>
                <a:cs typeface="PT Bold Heading"/>
              </a:rPr>
              <a:t>التفرد عن السلع المناف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ts val="4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Arial"/>
                <a:cs typeface="PT Bold Heading"/>
              </a:rPr>
              <a:t>يعبر عن الخصائص الخاصة بالمنتج (كوي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ts val="4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Arial"/>
                <a:cs typeface="PT Bold Heading"/>
              </a:rPr>
              <a:t>يعبر عن المنافع الأساسية للمنتج (زيت عاف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ts val="4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8"/>
          <p:cNvSpPr/>
          <p:nvPr/>
        </p:nvSpPr>
        <p:spPr>
          <a:xfrm>
            <a:off x="1090440" y="-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8"/>
          <p:cNvSpPr/>
          <p:nvPr/>
        </p:nvSpPr>
        <p:spPr>
          <a:xfrm>
            <a:off x="500040" y="102060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تمييز المنتجات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Product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8"/>
          <p:cNvSpPr/>
          <p:nvPr/>
        </p:nvSpPr>
        <p:spPr>
          <a:xfrm>
            <a:off x="500040" y="2000160"/>
            <a:ext cx="8143920" cy="5268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سياسات تمييز المنتج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مييز الفردي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cs typeface="PT Bold Heading"/>
              </a:rPr>
              <a:t>وضع </a:t>
            </a:r>
            <a:r>
              <a:rPr b="0" lang="ar-SA" sz="2400" spc="-1" strike="noStrike">
                <a:solidFill>
                  <a:srgbClr val="e61893"/>
                </a:solidFill>
                <a:latin typeface="Arial"/>
                <a:cs typeface="PT Bold Heading"/>
              </a:rPr>
              <a:t>اسم وعلامة خاصة لكل منتج 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cs typeface="PT Bold Heading"/>
              </a:rPr>
              <a:t>من منتجات الشركة كل على ح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مثال: </a:t>
            </a:r>
            <a:r>
              <a:rPr b="0" lang="ar-SA" sz="2400" spc="-1" strike="noStrike">
                <a:solidFill>
                  <a:srgbClr val="7030a0"/>
                </a:solidFill>
                <a:latin typeface="Arial"/>
                <a:cs typeface="PT Bold Heading"/>
              </a:rPr>
              <a:t>تستخدم شركة بروكتور أند جامبل أسماء مميزة فردية لكل منتج من منتجاتها (كريست – إريال – كامى – تاي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المزايا: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وسيلة لتنويع المخاطر ، إذا فشل أحد المنتجات لا يؤثر ذلك عل المنتجات الأخر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0" name="Text Box 8"/>
          <p:cNvSpPr/>
          <p:nvPr/>
        </p:nvSpPr>
        <p:spPr>
          <a:xfrm>
            <a:off x="1090440" y="-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8"/>
          <p:cNvSpPr/>
          <p:nvPr/>
        </p:nvSpPr>
        <p:spPr>
          <a:xfrm>
            <a:off x="500040" y="102060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تمييز المنتجات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Product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8"/>
          <p:cNvSpPr/>
          <p:nvPr/>
        </p:nvSpPr>
        <p:spPr>
          <a:xfrm>
            <a:off x="500040" y="1643040"/>
            <a:ext cx="8143920" cy="552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سياسات تمييز المنتج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مييز العائلي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cs typeface="PT Bold Heading"/>
              </a:rPr>
              <a:t>استخدام </a:t>
            </a:r>
            <a:r>
              <a:rPr b="0" lang="ar-SA" sz="2400" spc="-1" strike="noStrike">
                <a:solidFill>
                  <a:srgbClr val="e61893"/>
                </a:solidFill>
                <a:latin typeface="Arial"/>
                <a:cs typeface="PT Bold Heading"/>
              </a:rPr>
              <a:t>اسم وعلامة الشركة لتمييز جميع منتجات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مثال: </a:t>
            </a:r>
            <a:r>
              <a:rPr b="0" lang="ar-SA" sz="2400" spc="-1" strike="noStrike">
                <a:solidFill>
                  <a:srgbClr val="7030a0"/>
                </a:solidFill>
                <a:latin typeface="Arial"/>
                <a:cs typeface="PT Bold Heading"/>
              </a:rPr>
              <a:t>شركة سوني – شركة باناسوني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999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مزايا: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تحقيق الترابط في ذهن العملاء بين هذه المنتجات ، وأنها ذات جودة واحدة ، حيث يساهم كل منتج في الترويج للمنتجات الأخرى ، ومن ثم انخفاض تكلفة الترويج الكل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عيوب: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إخفاق منتج يؤثر سلباً على مبيعات المنتجات الأخرى من نفس العائ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4" name="Text Box 8"/>
          <p:cNvSpPr/>
          <p:nvPr/>
        </p:nvSpPr>
        <p:spPr>
          <a:xfrm>
            <a:off x="1090440" y="-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500040" y="109224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تمييز المنتجات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Product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8"/>
          <p:cNvSpPr/>
          <p:nvPr/>
        </p:nvSpPr>
        <p:spPr>
          <a:xfrm>
            <a:off x="500040" y="1994040"/>
            <a:ext cx="8143920" cy="469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سياسات تمييز المنتج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مييز المختلط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cs typeface="PT Bold Heading"/>
              </a:rPr>
              <a:t>استخدام </a:t>
            </a:r>
            <a:r>
              <a:rPr b="0" lang="ar-SA" sz="2400" spc="-1" strike="noStrike">
                <a:solidFill>
                  <a:srgbClr val="e61893"/>
                </a:solidFill>
                <a:latin typeface="Arial"/>
                <a:cs typeface="PT Bold Heading"/>
              </a:rPr>
              <a:t>اسم وعلامة الشركة لتمييز جميع منتجاتها ، وفي نفس الوقت تمييز كل منتج باسم وعلامة خاص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مثال: </a:t>
            </a:r>
            <a:r>
              <a:rPr b="0" lang="ar-SA" sz="2400" spc="-1" strike="noStrike">
                <a:solidFill>
                  <a:srgbClr val="7030a0"/>
                </a:solidFill>
                <a:latin typeface="Arial"/>
                <a:cs typeface="PT Bold Heading"/>
              </a:rPr>
              <a:t>تويوت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999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مزايا: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ستفادة المنتجات من سمعة بعضها البعض ، وفي نفس الوقت تسمح فيه للسلعة بالاستقلالية عن بقية المنتج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8" name="Text Box 8"/>
          <p:cNvSpPr/>
          <p:nvPr/>
        </p:nvSpPr>
        <p:spPr>
          <a:xfrm>
            <a:off x="1090440" y="-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8"/>
          <p:cNvSpPr/>
          <p:nvPr/>
        </p:nvSpPr>
        <p:spPr>
          <a:xfrm>
            <a:off x="500040" y="100008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عبئة والتغليف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P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8"/>
          <p:cNvSpPr/>
          <p:nvPr/>
        </p:nvSpPr>
        <p:spPr>
          <a:xfrm>
            <a:off x="500040" y="1709640"/>
            <a:ext cx="8143920" cy="4816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العبوة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هي الحاوية التي توضع فيها السلعة ، أما </a:t>
            </a:r>
            <a:r>
              <a:rPr b="0" lang="ar-SA" sz="2800" spc="-1" strike="noStrike">
                <a:solidFill>
                  <a:srgbClr val="006600"/>
                </a:solidFill>
                <a:latin typeface="Arial"/>
                <a:cs typeface="PT Bold Heading"/>
              </a:rPr>
              <a:t>الغلاف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فهو التصميم الخارجي للأشكال والألوان الخاصة بالعلبة التي توضع فيها العبوة أو تلصق علي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الغلاف والعبوة كلاهما </a:t>
            </a:r>
            <a:r>
              <a:rPr b="0" lang="ar-SA" sz="2800" spc="-1" strike="noStrike">
                <a:solidFill>
                  <a:srgbClr val="e61893"/>
                </a:solidFill>
                <a:latin typeface="Arial"/>
                <a:cs typeface="PT Bold Heading"/>
              </a:rPr>
              <a:t>مكمل للآخر 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، والفارق الأساسي بينهما بينهما أن للعبوة مهمتان أساسيتان (فنية – تسويقية) أما الغلاف فمهمته تسويقية فق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8"/>
          <p:cNvSpPr/>
          <p:nvPr/>
        </p:nvSpPr>
        <p:spPr>
          <a:xfrm>
            <a:off x="1090440" y="-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8"/>
          <p:cNvSpPr/>
          <p:nvPr/>
        </p:nvSpPr>
        <p:spPr>
          <a:xfrm>
            <a:off x="500040" y="100008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عبئة والتغليف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P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8"/>
          <p:cNvSpPr/>
          <p:nvPr/>
        </p:nvSpPr>
        <p:spPr>
          <a:xfrm>
            <a:off x="500040" y="1709640"/>
            <a:ext cx="8143920" cy="493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أ- مهمة العبو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4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Arial"/>
                <a:cs typeface="PT Bold Heading"/>
              </a:rPr>
              <a:t>مهمة فنية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: الحفاظ على المنتج ومحتوياته من التلف أثنا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 النقل والتخز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56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Arial"/>
                <a:cs typeface="PT Bold Heading"/>
              </a:rPr>
              <a:t>مهمة تسويقية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: سهولة تعرف المستهلك على المنت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ب- مهمة الغلاف (مهمة </a:t>
            </a:r>
            <a:r>
              <a:rPr b="0" lang="ar-SA" sz="2800" spc="-1" strike="noStrike">
                <a:solidFill>
                  <a:srgbClr val="006600"/>
                </a:solidFill>
                <a:latin typeface="Arial"/>
                <a:cs typeface="PT Bold Heading"/>
              </a:rPr>
              <a:t>تسويقية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فقط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    </a:t>
            </a:r>
            <a:r>
              <a:rPr b="0" lang="ar-SA" sz="2800" spc="-1" strike="noStrike">
                <a:solidFill>
                  <a:srgbClr val="0070c0"/>
                </a:solidFill>
                <a:latin typeface="Arial"/>
                <a:cs typeface="PT Bold Heading"/>
              </a:rPr>
              <a:t>جذب اهتمام المستهلك بالسلعة وإثارة اهتمام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0c0"/>
                </a:solidFill>
                <a:latin typeface="Arial"/>
                <a:ea typeface="PT Bold Heading"/>
              </a:rPr>
              <a:t>     بمحتوياتها،  فيقبل على شرائه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6" name="Text Box 8"/>
          <p:cNvSpPr/>
          <p:nvPr/>
        </p:nvSpPr>
        <p:spPr>
          <a:xfrm>
            <a:off x="1090440" y="-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8"/>
          <p:cNvSpPr/>
          <p:nvPr/>
        </p:nvSpPr>
        <p:spPr>
          <a:xfrm>
            <a:off x="500040" y="100008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عبئة والتغليف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P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8"/>
          <p:cNvSpPr/>
          <p:nvPr/>
        </p:nvSpPr>
        <p:spPr>
          <a:xfrm>
            <a:off x="500040" y="1785960"/>
            <a:ext cx="8143920" cy="5895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خصائص جودة التعبئة والتغلي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4997"/>
              </a:lnSpc>
              <a:buClr>
                <a:srgbClr val="c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الاقتصاد (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cs typeface="PT Bold Heading"/>
              </a:rPr>
              <a:t>في استخدام الموارد لتخفيض التكلفة ومن ثم السعر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ب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حماية (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cs typeface="PT Bold Heading"/>
              </a:rPr>
              <a:t>حماية السلعة من التلف أو الكسر أثناء النقل أو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Arial"/>
                <a:ea typeface="PT Bold Heading"/>
              </a:rPr>
              <a:t>      التخزين أو الاستعمال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ج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ترويج للسلع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د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- سهولة استعمال السل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ه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- حماية الصالح الاجتماعي (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مثل الحفاظ على البيئة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8"/>
          <p:cNvSpPr/>
          <p:nvPr/>
        </p:nvSpPr>
        <p:spPr>
          <a:xfrm>
            <a:off x="1090440" y="-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8"/>
          <p:cNvSpPr/>
          <p:nvPr/>
        </p:nvSpPr>
        <p:spPr>
          <a:xfrm>
            <a:off x="500040" y="100008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عبئة والتغليف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P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500040" y="1785960"/>
            <a:ext cx="8143920" cy="471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الدور الاستراتيجي للعبوة هو زيادة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PT Bold Heading"/>
              </a:rPr>
              <a:t>القدرة التنافسي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للمنتج من خلال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4997"/>
              </a:lnSpc>
              <a:buClr>
                <a:srgbClr val="e61893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61893"/>
                </a:solidFill>
                <a:latin typeface="Arial"/>
                <a:cs typeface="PT Bold Heading"/>
              </a:rPr>
              <a:t>الابتكارية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في التعبئة والتغليف (الأمان – سهولة الاستخدام – حماية السلع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ب- العبوة </a:t>
            </a:r>
            <a:r>
              <a:rPr b="0" lang="ar-SA" sz="2800" spc="-1" strike="noStrike">
                <a:solidFill>
                  <a:srgbClr val="e61893"/>
                </a:solidFill>
                <a:latin typeface="Arial"/>
                <a:cs typeface="PT Bold Heading"/>
              </a:rPr>
              <a:t>متعددة الاستخدامات 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(في أغراض أخرى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ج- </a:t>
            </a:r>
            <a:r>
              <a:rPr b="0" lang="ar-SA" sz="2800" spc="-1" strike="noStrike">
                <a:solidFill>
                  <a:srgbClr val="e61893"/>
                </a:solidFill>
                <a:latin typeface="Arial"/>
                <a:cs typeface="PT Bold Heading"/>
              </a:rPr>
              <a:t>تعدد الوحدات 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داخل نفس العبوة أو الغلاف (لزيا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   المبيعات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4" name="Text Box 8"/>
          <p:cNvSpPr/>
          <p:nvPr/>
        </p:nvSpPr>
        <p:spPr>
          <a:xfrm>
            <a:off x="1090440" y="-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500040" y="109224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بيين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Lab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500040" y="2011320"/>
            <a:ext cx="8143920" cy="4947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ts val="5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يقصد بالتبيين ذلك الجزء من العبوة أو الغلا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5698"/>
              </a:lnSpc>
              <a:buClr>
                <a:srgbClr val="e618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61893"/>
                </a:solidFill>
                <a:latin typeface="Arial"/>
                <a:ea typeface="PT Bold Heading"/>
              </a:rPr>
              <a:t> 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يلعب التبيين دوراً 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إخبارياً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و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ترويجياً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، حيث يمكن للتبيين تزويد المستهلك بمعلومات عن السلعة وخصائصها ، وبالتالي مساعدته وتشجيعه على اتخاذ قرار الشرا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8" name="Text Box 8"/>
          <p:cNvSpPr/>
          <p:nvPr/>
        </p:nvSpPr>
        <p:spPr>
          <a:xfrm>
            <a:off x="1090440" y="-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8"/>
          <p:cNvSpPr/>
          <p:nvPr/>
        </p:nvSpPr>
        <p:spPr>
          <a:xfrm>
            <a:off x="500040" y="109224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بيين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Lab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8"/>
          <p:cNvSpPr/>
          <p:nvPr/>
        </p:nvSpPr>
        <p:spPr>
          <a:xfrm>
            <a:off x="500040" y="1928880"/>
            <a:ext cx="8143920" cy="462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ts val="5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من أهم المعلومات التي يتضمنها التبيين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اسم المنتج وعنو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اسم السلع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بلد الصن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الخصائص الأساسية للمنت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المحتوي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الوز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تاريخ الصن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تاريخ انتهاء الصلا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السع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طريقة الاستخد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8"/>
          <p:cNvSpPr/>
          <p:nvPr/>
        </p:nvSpPr>
        <p:spPr>
          <a:xfrm>
            <a:off x="571680" y="294480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ستراتيجية ا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Product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2" name="Text Box 8"/>
          <p:cNvSpPr/>
          <p:nvPr/>
        </p:nvSpPr>
        <p:spPr>
          <a:xfrm>
            <a:off x="571680" y="294480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أنواع المنتج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Product 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8"/>
          <p:cNvSpPr/>
          <p:nvPr/>
        </p:nvSpPr>
        <p:spPr>
          <a:xfrm>
            <a:off x="1042920" y="1496880"/>
            <a:ext cx="7000920" cy="1739880"/>
          </a:xfrm>
          <a:prstGeom prst="rect">
            <a:avLst/>
          </a:prstGeom>
          <a:solidFill>
            <a:srgbClr val="ffc000"/>
          </a:solidFill>
          <a:ln w="442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أنواع المنتج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8"/>
          <p:cNvSpPr/>
          <p:nvPr/>
        </p:nvSpPr>
        <p:spPr>
          <a:xfrm>
            <a:off x="5522760" y="4869000"/>
            <a:ext cx="2067120" cy="82548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Lucida Sans Unicode"/>
                <a:ea typeface="PT Bold Heading"/>
              </a:rPr>
              <a:t> منتجات استهلاك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8"/>
          <p:cNvSpPr/>
          <p:nvPr/>
        </p:nvSpPr>
        <p:spPr>
          <a:xfrm>
            <a:off x="1527120" y="4902120"/>
            <a:ext cx="2209680" cy="82548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Lucida Sans Unicode"/>
                <a:ea typeface="PT Bold Heading"/>
              </a:rPr>
              <a:t> منتج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Lucida Sans Unicode"/>
                <a:ea typeface="PT Bold Heading"/>
              </a:rPr>
              <a:t> تجا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7" name="رابط كسهم مستقيم 31"/>
          <p:cNvCxnSpPr/>
          <p:nvPr/>
        </p:nvCxnSpPr>
        <p:spPr>
          <a:xfrm>
            <a:off x="6515640" y="3241800"/>
            <a:ext cx="34200" cy="15688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8" name="رابط كسهم مستقيم 32"/>
          <p:cNvCxnSpPr/>
          <p:nvPr/>
        </p:nvCxnSpPr>
        <p:spPr>
          <a:xfrm>
            <a:off x="2592720" y="3271320"/>
            <a:ext cx="34200" cy="156924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0" name="Text Box 8"/>
          <p:cNvSpPr/>
          <p:nvPr/>
        </p:nvSpPr>
        <p:spPr>
          <a:xfrm>
            <a:off x="1071720" y="7128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أنواع المنتج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8"/>
          <p:cNvSpPr/>
          <p:nvPr/>
        </p:nvSpPr>
        <p:spPr>
          <a:xfrm>
            <a:off x="1071720" y="107172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ولا: السلع استهلاكية</a:t>
            </a: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Consumer Goods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1071720" y="2038320"/>
            <a:ext cx="7143480" cy="4726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00"/>
                </a:solidFill>
                <a:latin typeface="Arial"/>
                <a:ea typeface="PT Bold Heading"/>
              </a:rPr>
              <a:t>1</a:t>
            </a:r>
            <a:r>
              <a:rPr b="1" lang="ar-SA" sz="44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1" lang="ar-SA" sz="4000" spc="-1" strike="noStrike">
                <a:solidFill>
                  <a:srgbClr val="006600"/>
                </a:solidFill>
                <a:latin typeface="Arial"/>
                <a:cs typeface="PT Bold Heading"/>
              </a:rPr>
              <a:t>سلع ميسرة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Convenience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600"/>
                </a:solidFill>
                <a:latin typeface="Arial"/>
                <a:ea typeface="PT Bold Heading"/>
              </a:rPr>
              <a:t>2</a:t>
            </a:r>
            <a:r>
              <a:rPr b="1" lang="ar-SA" sz="4000" spc="-1" strike="noStrike">
                <a:solidFill>
                  <a:srgbClr val="006600"/>
                </a:solidFill>
                <a:latin typeface="Arial"/>
                <a:ea typeface="PT Bold Heading"/>
              </a:rPr>
              <a:t>- سلع تسوق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Shopping Goods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600"/>
                </a:solidFill>
                <a:latin typeface="Arial"/>
                <a:ea typeface="PT Bold Heading"/>
              </a:rPr>
              <a:t>3</a:t>
            </a:r>
            <a:r>
              <a:rPr b="1" lang="ar-SA" sz="4000" spc="-1" strike="noStrike">
                <a:solidFill>
                  <a:srgbClr val="006600"/>
                </a:solidFill>
                <a:latin typeface="Arial"/>
                <a:ea typeface="PT Bold Heading"/>
              </a:rPr>
              <a:t>- سلع خاصة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Speciality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600"/>
                </a:solidFill>
                <a:latin typeface="Arial"/>
                <a:ea typeface="PT Bold Heading"/>
              </a:rPr>
              <a:t>4</a:t>
            </a:r>
            <a:r>
              <a:rPr b="1" lang="ar-SA" sz="4000" spc="-1" strike="noStrike">
                <a:solidFill>
                  <a:srgbClr val="006600"/>
                </a:solidFill>
                <a:latin typeface="Arial"/>
                <a:ea typeface="PT Bold Heading"/>
              </a:rPr>
              <a:t>- سلع غير مستهدفة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Unsought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4" name="Text Box 8"/>
          <p:cNvSpPr/>
          <p:nvPr/>
        </p:nvSpPr>
        <p:spPr>
          <a:xfrm>
            <a:off x="1071720" y="7128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أنواع المنتج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8"/>
          <p:cNvSpPr/>
          <p:nvPr/>
        </p:nvSpPr>
        <p:spPr>
          <a:xfrm>
            <a:off x="1071720" y="107172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ولا: السلع استهلاكية</a:t>
            </a: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Consumer Goods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8"/>
          <p:cNvSpPr/>
          <p:nvPr/>
        </p:nvSpPr>
        <p:spPr>
          <a:xfrm>
            <a:off x="1071720" y="2038320"/>
            <a:ext cx="7143480" cy="5335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00"/>
                </a:solidFill>
                <a:latin typeface="Arial"/>
                <a:ea typeface="PT Bold Heading"/>
              </a:rPr>
              <a:t>1</a:t>
            </a:r>
            <a:r>
              <a:rPr b="1" lang="ar-SA" sz="44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1" lang="ar-SA" sz="4000" spc="-1" strike="noStrike">
                <a:solidFill>
                  <a:srgbClr val="006600"/>
                </a:solidFill>
                <a:latin typeface="Arial"/>
                <a:cs typeface="PT Bold Heading"/>
              </a:rPr>
              <a:t>سلع ميسرة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Convenience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618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61893"/>
                </a:solidFill>
                <a:latin typeface="Arial"/>
                <a:ea typeface="PT Bold Heading"/>
              </a:rPr>
              <a:t> يشتريها المستهلك بانتظا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618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61893"/>
                </a:solidFill>
                <a:latin typeface="Arial"/>
                <a:ea typeface="PT Bold Heading"/>
              </a:rPr>
              <a:t> بأقل مجه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618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61893"/>
                </a:solidFill>
                <a:latin typeface="Arial"/>
                <a:ea typeface="PT Bold Heading"/>
              </a:rPr>
              <a:t> دون الرغبة في عمل مقار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618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61893"/>
                </a:solidFill>
                <a:latin typeface="Arial"/>
                <a:ea typeface="PT Bold Heading"/>
              </a:rPr>
              <a:t> رخيصة السع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618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61893"/>
                </a:solidFill>
                <a:latin typeface="Arial"/>
                <a:ea typeface="PT Bold Heading"/>
              </a:rPr>
              <a:t> متوفرة على نطاق واسع (</a:t>
            </a:r>
            <a:r>
              <a:rPr b="1" lang="ar-SA" sz="2800" spc="-1" strike="noStrike">
                <a:solidFill>
                  <a:srgbClr val="00b0f0"/>
                </a:solidFill>
                <a:latin typeface="Arial"/>
                <a:cs typeface="PT Bold Heading"/>
              </a:rPr>
              <a:t>التوزيع المكثف</a:t>
            </a:r>
            <a:r>
              <a:rPr b="1" lang="ar-SA" sz="2800" spc="-1" strike="noStrike">
                <a:solidFill>
                  <a:srgbClr val="e61893"/>
                </a:solidFill>
                <a:latin typeface="Arial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618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61893"/>
                </a:solidFill>
                <a:latin typeface="Arial"/>
                <a:ea typeface="PT Bold Heading"/>
              </a:rPr>
              <a:t> ذات معدل دوران سري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618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61893"/>
                </a:solidFill>
                <a:latin typeface="Arial"/>
                <a:ea typeface="PT Bold Heading"/>
              </a:rPr>
              <a:t> أمثلة: </a:t>
            </a:r>
            <a:r>
              <a:rPr b="1" lang="ar-SA" sz="2800" spc="-1" strike="noStrike">
                <a:solidFill>
                  <a:srgbClr val="00b0f0"/>
                </a:solidFill>
                <a:latin typeface="Arial"/>
                <a:cs typeface="PT Bold Heading"/>
              </a:rPr>
              <a:t>الصابون – الزيت – الصحف – المشروب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f0"/>
                </a:solidFill>
                <a:latin typeface="Arial"/>
                <a:ea typeface="PT Bold Heading"/>
              </a:rPr>
              <a:t>    الغازية – جميع أنواع سلع البقا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8"/>
          <p:cNvSpPr/>
          <p:nvPr/>
        </p:nvSpPr>
        <p:spPr>
          <a:xfrm>
            <a:off x="1071720" y="7128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أنواع المنتج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8"/>
          <p:cNvSpPr/>
          <p:nvPr/>
        </p:nvSpPr>
        <p:spPr>
          <a:xfrm>
            <a:off x="1071720" y="107172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ولا: السلع استهلاكية</a:t>
            </a: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Consumer Goods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8"/>
          <p:cNvSpPr/>
          <p:nvPr/>
        </p:nvSpPr>
        <p:spPr>
          <a:xfrm>
            <a:off x="1071720" y="2038320"/>
            <a:ext cx="7143480" cy="488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00"/>
                </a:solidFill>
                <a:latin typeface="Arial"/>
                <a:ea typeface="PT Bold Heading"/>
              </a:rPr>
              <a:t>1</a:t>
            </a:r>
            <a:r>
              <a:rPr b="1" lang="ar-SA" sz="44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1" lang="ar-SA" sz="4000" spc="-1" strike="noStrike">
                <a:solidFill>
                  <a:srgbClr val="006600"/>
                </a:solidFill>
                <a:latin typeface="Arial"/>
                <a:cs typeface="PT Bold Heading"/>
              </a:rPr>
              <a:t>سلع ميسرة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Convenience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تنقسم السلع الميسرة إلى </a:t>
            </a:r>
            <a:r>
              <a:rPr b="1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3</a:t>
            </a:r>
            <a:r>
              <a:rPr b="1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أنوا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618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61893"/>
                </a:solidFill>
                <a:latin typeface="Arial"/>
                <a:ea typeface="PT Bold Heading"/>
              </a:rPr>
              <a:t> أساسية</a:t>
            </a:r>
            <a:r>
              <a:rPr b="1" lang="ar-SA" sz="2400" spc="-1" strike="noStrike">
                <a:solidFill>
                  <a:srgbClr val="e61893"/>
                </a:solidFill>
                <a:latin typeface="Arial"/>
                <a:ea typeface="PT Bold Heading"/>
              </a:rPr>
              <a:t>: </a:t>
            </a:r>
            <a:r>
              <a:rPr b="1" lang="ar-SA" sz="2000" spc="-1" strike="noStrike">
                <a:solidFill>
                  <a:srgbClr val="105766"/>
                </a:solidFill>
                <a:latin typeface="Arial"/>
                <a:cs typeface="PT Bold Heading"/>
              </a:rPr>
              <a:t>يشتريها المستهلك بشكل روتيني منتظم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PT Bold Heading"/>
              </a:rPr>
              <a:t>مثل: الخبز – اللبن – الصابون – السكر – الشا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500"/>
              </a:lnSpc>
              <a:buClr>
                <a:srgbClr val="e618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618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61893"/>
                </a:solidFill>
                <a:latin typeface="Arial"/>
                <a:cs typeface="PT Bold Heading"/>
              </a:rPr>
              <a:t>عفوية</a:t>
            </a:r>
            <a:r>
              <a:rPr b="1" lang="ar-SA" sz="2800" spc="-1" strike="noStrike">
                <a:solidFill>
                  <a:srgbClr val="e61893"/>
                </a:solidFill>
                <a:latin typeface="Arial"/>
                <a:ea typeface="PT Bold Heading"/>
              </a:rPr>
              <a:t>: </a:t>
            </a:r>
            <a:r>
              <a:rPr b="1" lang="ar-SA" sz="2000" spc="-1" strike="noStrike">
                <a:solidFill>
                  <a:srgbClr val="105766"/>
                </a:solidFill>
                <a:latin typeface="Arial"/>
                <a:cs typeface="PT Bold Heading"/>
              </a:rPr>
              <a:t>يشتريها المستهلك دون سابق تخطيط عادة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PT Bold Heading"/>
              </a:rPr>
              <a:t>مثل: الصحف – المجلات – المشروبات – الحلو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618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61893"/>
                </a:solidFill>
                <a:latin typeface="Arial"/>
                <a:cs typeface="PT Bold Heading"/>
              </a:rPr>
              <a:t>طوارئ</a:t>
            </a:r>
            <a:r>
              <a:rPr b="1" lang="ar-SA" sz="2800" spc="-1" strike="noStrike">
                <a:solidFill>
                  <a:srgbClr val="e61893"/>
                </a:solidFill>
                <a:latin typeface="Arial"/>
                <a:ea typeface="PT Bold Heading"/>
              </a:rPr>
              <a:t>: </a:t>
            </a:r>
            <a:r>
              <a:rPr b="1" lang="ar-SA" sz="2000" spc="-1" strike="noStrike">
                <a:solidFill>
                  <a:srgbClr val="105766"/>
                </a:solidFill>
                <a:latin typeface="Arial"/>
                <a:cs typeface="PT Bold Heading"/>
              </a:rPr>
              <a:t>يشتريها المستهلك عند حدوث أحداث طارئة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PT Bold Heading"/>
              </a:rPr>
              <a:t>مثل المظلات عند حدوث المطر – القطن والشاش عند الجرو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8"/>
          <p:cNvSpPr/>
          <p:nvPr/>
        </p:nvSpPr>
        <p:spPr>
          <a:xfrm>
            <a:off x="1071720" y="7128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أنواع المنتج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1071720" y="107172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ولا: السلع استهلاكية</a:t>
            </a: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Consumer Goods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8"/>
          <p:cNvSpPr/>
          <p:nvPr/>
        </p:nvSpPr>
        <p:spPr>
          <a:xfrm>
            <a:off x="1071720" y="2038320"/>
            <a:ext cx="7143480" cy="43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600"/>
                </a:solidFill>
                <a:latin typeface="Arial"/>
                <a:ea typeface="PT Bold Heading"/>
              </a:rPr>
              <a:t>2</a:t>
            </a:r>
            <a:r>
              <a:rPr b="1" lang="ar-SA" sz="4000" spc="-1" strike="noStrike">
                <a:solidFill>
                  <a:srgbClr val="006600"/>
                </a:solidFill>
                <a:latin typeface="Arial"/>
                <a:ea typeface="PT Bold Heading"/>
              </a:rPr>
              <a:t>- سلع تسوق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Shopping Goods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 يبذل المستهلك جهداً في شرائ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 يقوم المستهلك بالمقارنة بين البدائ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 يتم شراؤها على فترات متباعدة (غير روتيني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 تتطلب أنفاقاً أكث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ذات معدل دوران منخف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 يتم بيعها عادة في الأسواق الرئيسية (</a:t>
            </a:r>
            <a:r>
              <a:rPr b="1" lang="ar-SA" sz="2400" spc="-1" strike="noStrike">
                <a:solidFill>
                  <a:srgbClr val="e61893"/>
                </a:solidFill>
                <a:latin typeface="Arial"/>
                <a:cs typeface="PT Bold Heading"/>
              </a:rPr>
              <a:t>توزيع انتقائي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  <a:cs typeface="PT Bold Heading"/>
              </a:rPr>
              <a:t>أمثلة: الأثاث – السيارات – الأجهزة الكهرب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6" name="Text Box 8"/>
          <p:cNvSpPr/>
          <p:nvPr/>
        </p:nvSpPr>
        <p:spPr>
          <a:xfrm>
            <a:off x="1071720" y="7128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أنواع المنتج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8"/>
          <p:cNvSpPr/>
          <p:nvPr/>
        </p:nvSpPr>
        <p:spPr>
          <a:xfrm>
            <a:off x="1071720" y="107172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ولا: السلع استهلاكية</a:t>
            </a: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Consumer Goods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8"/>
          <p:cNvSpPr/>
          <p:nvPr/>
        </p:nvSpPr>
        <p:spPr>
          <a:xfrm>
            <a:off x="1071720" y="2038320"/>
            <a:ext cx="7143480" cy="46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600"/>
                </a:solidFill>
                <a:latin typeface="Arial"/>
                <a:ea typeface="PT Bold Heading"/>
              </a:rPr>
              <a:t>3</a:t>
            </a:r>
            <a:r>
              <a:rPr b="1" lang="ar-SA" sz="4000" spc="-1" strike="noStrike">
                <a:solidFill>
                  <a:srgbClr val="006600"/>
                </a:solidFill>
                <a:latin typeface="Arial"/>
                <a:ea typeface="PT Bold Heading"/>
              </a:rPr>
              <a:t>- سلع خاصة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Speciality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سلع ذات خصائص فري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المستهلك على استعداد لبذل جهد خاص للحصول علي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تتميز بارتفاع أسعار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لا يطلبها عدد كبير من الناس ( </a:t>
            </a:r>
            <a:r>
              <a:rPr b="1" lang="ar-SA" sz="2400" spc="-1" strike="noStrike">
                <a:solidFill>
                  <a:srgbClr val="006600"/>
                </a:solidFill>
                <a:latin typeface="Arial"/>
                <a:cs typeface="PT Bold Heading"/>
              </a:rPr>
              <a:t>توزيع محدود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هامش ربح عال في الوحدة المبا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أمثلة: أدوات التصوير تحت الماء – الآلات الموسيقية – المجوهرات – الأدوات الرياض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0" name="Text Box 8"/>
          <p:cNvSpPr/>
          <p:nvPr/>
        </p:nvSpPr>
        <p:spPr>
          <a:xfrm>
            <a:off x="1071720" y="7128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أنواع المنتج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8"/>
          <p:cNvSpPr/>
          <p:nvPr/>
        </p:nvSpPr>
        <p:spPr>
          <a:xfrm>
            <a:off x="1071720" y="107172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ولا: السلع استهلاكية</a:t>
            </a: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Consumer Goods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8"/>
          <p:cNvSpPr/>
          <p:nvPr/>
        </p:nvSpPr>
        <p:spPr>
          <a:xfrm>
            <a:off x="1071720" y="2038320"/>
            <a:ext cx="7143480" cy="4818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600"/>
                </a:solidFill>
                <a:latin typeface="Arial"/>
                <a:ea typeface="PT Bold Heading"/>
              </a:rPr>
              <a:t>4</a:t>
            </a:r>
            <a:r>
              <a:rPr b="1" lang="ar-SA" sz="4000" spc="-1" strike="noStrike">
                <a:solidFill>
                  <a:srgbClr val="006600"/>
                </a:solidFill>
                <a:latin typeface="Arial"/>
                <a:ea typeface="PT Bold Heading"/>
              </a:rPr>
              <a:t>- سلع غير مستهدفة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Unsought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PT Bold Heading"/>
              </a:rPr>
              <a:t> سلع لا يدرك وجودها معظم الناس في السو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PT Bold Heading"/>
              </a:rPr>
              <a:t> أو لا يشعر المستهلك أنه بحاجة إلي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PT Bold Heading"/>
              </a:rPr>
              <a:t> لا يبادر المستهلك بشرائ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PT Bold Heading"/>
              </a:rPr>
              <a:t> تحتاج إلى جهد تسويقي مكثف لإظهار قيمتها للمستهل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cs typeface="PT Bold Heading"/>
              </a:rPr>
              <a:t>أمثلة: دوائر المعارف – خدمات التأمين على الحياة – خدمات التدري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4" name="Text Box 8"/>
          <p:cNvSpPr/>
          <p:nvPr/>
        </p:nvSpPr>
        <p:spPr>
          <a:xfrm>
            <a:off x="1071720" y="7128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أنواع المنتج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8"/>
          <p:cNvSpPr/>
          <p:nvPr/>
        </p:nvSpPr>
        <p:spPr>
          <a:xfrm>
            <a:off x="1071720" y="10717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ثانياً: السلع التج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8"/>
          <p:cNvSpPr/>
          <p:nvPr/>
        </p:nvSpPr>
        <p:spPr>
          <a:xfrm>
            <a:off x="1071720" y="2038320"/>
            <a:ext cx="7143480" cy="649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600"/>
                </a:solidFill>
                <a:latin typeface="Arial"/>
                <a:cs typeface="PT Bold Heading"/>
              </a:rPr>
              <a:t>تشمل هذه السل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PT Bold Heading"/>
              </a:rPr>
              <a:t> المواد الخام والأجزاء نصف المصنعة والمصنعة التي تدخل في تصني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PT Bold Heading"/>
              </a:rPr>
              <a:t>    السلع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PT Bold Heading"/>
              </a:rPr>
              <a:t> الأجهزة والمعدات التي تستخدم في إنتاج السلع والخدم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PT Bold Heading"/>
              </a:rPr>
              <a:t> مهمات التشغيل (الزيوت الشحوم – الوقود – الأدوات المكتبي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PT Bold Heading"/>
              </a:rPr>
              <a:t> الخدمات الإنتاجية (الاستشارات القانونية – البحوث التسويقية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PT Bold Heading"/>
              </a:rPr>
              <a:t>    الاستشارات المالية – خدمات النظافة – الأمن – التمويل – خدما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PT Bold Heading"/>
              </a:rPr>
              <a:t>    الصيانة والإصلا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75960" y="304920"/>
            <a:ext cx="7310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Lucida Sans Unicode"/>
              </a:rPr>
              <a:t>مقارنة بين خصائص السلع الاستهلاكية والتجارية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785880" y="1643040"/>
          <a:ext cx="7626240" cy="4664160"/>
        </p:xfrm>
        <a:graphic>
          <a:graphicData uri="http://schemas.openxmlformats.org/drawingml/2006/table">
            <a:tbl>
              <a:tblPr/>
              <a:tblGrid>
                <a:gridCol w="2541600"/>
                <a:gridCol w="2543040"/>
                <a:gridCol w="2541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cs typeface="Times New Roman (Arabic)"/>
                        </a:rPr>
                        <a:t>التجار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cs typeface="Times New Roman (Arabic)"/>
                        </a:rPr>
                        <a:t>الاستهلاك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cs typeface="Times New Roman (Arabic)"/>
                        </a:rPr>
                        <a:t>البيا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3399"/>
                          </a:solidFill>
                          <a:latin typeface="Times New Roman"/>
                          <a:cs typeface="Times New Roman (Arabic)"/>
                        </a:rPr>
                        <a:t>عق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800000"/>
                          </a:solidFill>
                          <a:latin typeface="Times New Roman"/>
                          <a:cs typeface="Times New Roman (Arabic)"/>
                        </a:rPr>
                        <a:t>عاطف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Times New Roman (Arabic)"/>
                        </a:rPr>
                        <a:t>دوافع الشرا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3399"/>
                          </a:solidFill>
                          <a:latin typeface="Times New Roman"/>
                          <a:cs typeface="Times New Roman (Arabic)"/>
                        </a:rPr>
                        <a:t>كبي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800000"/>
                          </a:solidFill>
                          <a:latin typeface="Times New Roman"/>
                          <a:cs typeface="Times New Roman (Arabic)"/>
                        </a:rPr>
                        <a:t>صغي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Times New Roman (Arabic)"/>
                        </a:rPr>
                        <a:t>كمية الشرا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3399"/>
                          </a:solidFill>
                          <a:latin typeface="Times New Roman"/>
                          <a:cs typeface="Times New Roman (Arabic)"/>
                        </a:rPr>
                        <a:t>ممكن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800000"/>
                          </a:solidFill>
                          <a:latin typeface="Times New Roman"/>
                          <a:cs typeface="Times New Roman (Arabic)"/>
                        </a:rPr>
                        <a:t>غير ممكن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Times New Roman (Arabic)"/>
                        </a:rPr>
                        <a:t>المبادل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3399"/>
                          </a:solidFill>
                          <a:latin typeface="Times New Roman"/>
                          <a:cs typeface="Times New Roman (Arabic)"/>
                        </a:rPr>
                        <a:t>مطلوب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800000"/>
                          </a:solidFill>
                          <a:latin typeface="Times New Roman"/>
                          <a:cs typeface="Times New Roman (Arabic)"/>
                        </a:rPr>
                        <a:t>غير مطلوبة احيان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Times New Roman (Arabic)"/>
                        </a:rPr>
                        <a:t>خدمة ما بعد البي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3399"/>
                          </a:solidFill>
                          <a:latin typeface="Times New Roman"/>
                          <a:cs typeface="Times New Roman (Arabic)"/>
                        </a:rPr>
                        <a:t>مشت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800000"/>
                          </a:solidFill>
                          <a:latin typeface="Times New Roman"/>
                          <a:cs typeface="Times New Roman (Arabic)"/>
                        </a:rPr>
                        <a:t>مباش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Times New Roman (Arabic)"/>
                        </a:rPr>
                        <a:t>الطل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3399"/>
                          </a:solidFill>
                          <a:latin typeface="Times New Roman"/>
                          <a:cs typeface="Times New Roman (Arabic)"/>
                        </a:rPr>
                        <a:t>مباش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800000"/>
                          </a:solidFill>
                          <a:latin typeface="Times New Roman"/>
                          <a:cs typeface="Times New Roman (Arabic)"/>
                        </a:rPr>
                        <a:t>غير مباش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Times New Roman (Arabic)"/>
                        </a:rPr>
                        <a:t>منافذ التوزي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3399"/>
                          </a:solidFill>
                          <a:latin typeface="Times New Roman"/>
                          <a:cs typeface="Times New Roman (Arabic)"/>
                        </a:rPr>
                        <a:t>البيع الشخص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800000"/>
                          </a:solidFill>
                          <a:latin typeface="Times New Roman"/>
                          <a:cs typeface="Times New Roman (Arabic)"/>
                        </a:rPr>
                        <a:t>الاعلا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Times New Roman (Arabic)"/>
                        </a:rPr>
                        <a:t>التروي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3399"/>
                          </a:solidFill>
                          <a:latin typeface="Times New Roman"/>
                          <a:cs typeface="Times New Roman (Arabic)"/>
                        </a:rPr>
                        <a:t>محدو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800000"/>
                          </a:solidFill>
                          <a:latin typeface="Times New Roman"/>
                          <a:cs typeface="Times New Roman (Arabic)"/>
                        </a:rPr>
                        <a:t>كبير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Times New Roman (Arabic)"/>
                        </a:rPr>
                        <a:t>عدد العملا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8"/>
          <p:cNvSpPr/>
          <p:nvPr/>
        </p:nvSpPr>
        <p:spPr>
          <a:xfrm>
            <a:off x="857160" y="500040"/>
            <a:ext cx="764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المنتج هو أحد عناصر المزيج التسويق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مستطيل 6"/>
          <p:cNvSpPr/>
          <p:nvPr/>
        </p:nvSpPr>
        <p:spPr>
          <a:xfrm>
            <a:off x="2428920" y="2500200"/>
            <a:ext cx="4643280" cy="33577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رابط مستقيم 8"/>
          <p:cNvSpPr/>
          <p:nvPr/>
        </p:nvSpPr>
        <p:spPr>
          <a:xfrm flipH="1">
            <a:off x="2428920" y="4179960"/>
            <a:ext cx="464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رابط مستقيم 11"/>
          <p:cNvSpPr/>
          <p:nvPr/>
        </p:nvSpPr>
        <p:spPr>
          <a:xfrm flipH="1">
            <a:off x="4714560" y="2499480"/>
            <a:ext cx="3636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مربع نص 16"/>
          <p:cNvSpPr/>
          <p:nvPr/>
        </p:nvSpPr>
        <p:spPr>
          <a:xfrm>
            <a:off x="5072040" y="3000240"/>
            <a:ext cx="1785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800" spc="-1" strike="noStrike">
                <a:solidFill>
                  <a:srgbClr val="c00000"/>
                </a:solidFill>
                <a:latin typeface="Arial"/>
                <a:cs typeface="PT Bold Heading"/>
              </a:rPr>
              <a:t>المنتج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مربع نص 17"/>
          <p:cNvSpPr/>
          <p:nvPr/>
        </p:nvSpPr>
        <p:spPr>
          <a:xfrm>
            <a:off x="2643120" y="300024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سع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مربع نص 18"/>
          <p:cNvSpPr/>
          <p:nvPr/>
        </p:nvSpPr>
        <p:spPr>
          <a:xfrm>
            <a:off x="5072040" y="459900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روي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مربع نص 19"/>
          <p:cNvSpPr/>
          <p:nvPr/>
        </p:nvSpPr>
        <p:spPr>
          <a:xfrm>
            <a:off x="2786040" y="457200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وز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8"/>
          <p:cNvSpPr/>
          <p:nvPr/>
        </p:nvSpPr>
        <p:spPr>
          <a:xfrm>
            <a:off x="1090440" y="7128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Arial"/>
                <a:cs typeface="PT Bold Heading"/>
              </a:rPr>
              <a:t>تعريف المنت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1000080" y="1357200"/>
            <a:ext cx="7143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1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- مجموعة من </a:t>
            </a:r>
            <a:r>
              <a:rPr b="0" lang="ar-SA" sz="4000" spc="-1" strike="noStrike">
                <a:solidFill>
                  <a:srgbClr val="006600"/>
                </a:solidFill>
                <a:latin typeface="Arial"/>
                <a:cs typeface="PT Bold Heading"/>
              </a:rPr>
              <a:t>الخصائ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2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- التي باستخدامها يحصل المستهلك على </a:t>
            </a:r>
            <a:r>
              <a:rPr b="0" lang="ar-SA" sz="4000" spc="-1" strike="noStrike">
                <a:solidFill>
                  <a:srgbClr val="006600"/>
                </a:solidFill>
                <a:latin typeface="Arial"/>
                <a:cs typeface="PT Bold Heading"/>
              </a:rPr>
              <a:t>منافع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 معينة </a:t>
            </a:r>
            <a:r>
              <a:rPr b="0" lang="ar-SA" sz="4000" spc="-1" strike="noStrike">
                <a:solidFill>
                  <a:srgbClr val="006600"/>
                </a:solidFill>
                <a:latin typeface="Arial"/>
                <a:cs typeface="PT Bold Heading"/>
              </a:rPr>
              <a:t>تشبع حاجاته ورغبات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3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- سواء كانت مجموعة الخصائص هذه </a:t>
            </a:r>
            <a:r>
              <a:rPr b="0" lang="ar-SA" sz="4000" spc="-1" strike="noStrike">
                <a:solidFill>
                  <a:srgbClr val="006600"/>
                </a:solidFill>
                <a:latin typeface="Arial"/>
                <a:cs typeface="PT Bold Heading"/>
              </a:rPr>
              <a:t>مادية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 أو </a:t>
            </a:r>
            <a:r>
              <a:rPr b="0" lang="ar-SA" sz="4000" spc="-1" strike="noStrike">
                <a:solidFill>
                  <a:srgbClr val="006600"/>
                </a:solidFill>
                <a:latin typeface="Arial"/>
                <a:cs typeface="PT Bold Heading"/>
              </a:rPr>
              <a:t>غير ماد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8"/>
          <p:cNvSpPr/>
          <p:nvPr/>
        </p:nvSpPr>
        <p:spPr>
          <a:xfrm>
            <a:off x="1090440" y="7128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Arial"/>
                <a:cs typeface="PT Bold Heading"/>
              </a:rPr>
              <a:t>لماذا يشترى المنتج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1000080" y="1357200"/>
            <a:ext cx="7143840" cy="466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ستهلك لا يشتري المنتج لذاته ولكن لكي يحصل على </a:t>
            </a:r>
            <a:r>
              <a:rPr b="0" lang="ar-SA" sz="60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افع</a:t>
            </a:r>
            <a:r>
              <a:rPr b="0" lang="ar-SA" sz="6000" spc="-1" strike="noStrike">
                <a:solidFill>
                  <a:srgbClr val="000000"/>
                </a:solidFill>
                <a:latin typeface="Arial"/>
                <a:ea typeface="PT Bold Heading"/>
              </a:rPr>
              <a:t> التي تترتب على استهلاكه لهذا المنت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8"/>
          <p:cNvSpPr/>
          <p:nvPr/>
        </p:nvSpPr>
        <p:spPr>
          <a:xfrm>
            <a:off x="1090440" y="7128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Arial"/>
                <a:cs typeface="PT Bold Heading"/>
              </a:rPr>
              <a:t>أبعاد المنت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8"/>
          <p:cNvSpPr/>
          <p:nvPr/>
        </p:nvSpPr>
        <p:spPr>
          <a:xfrm>
            <a:off x="1000080" y="1357200"/>
            <a:ext cx="714384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1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- </a:t>
            </a:r>
            <a:r>
              <a:rPr b="0" lang="ar-SA" sz="40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فعة الأساسية للمنتج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: 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هي القيمة التي يحصل عليها باستهلاكه الفعلي للمنت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e61893"/>
                </a:solidFill>
                <a:latin typeface="Arial"/>
                <a:cs typeface="PT Bold Heading"/>
              </a:rPr>
              <a:t>الخصائص المادية للمنتج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: تشمل الشكل ، التصميم ، الجودة ، الاسم التجاري ، التعبئة والتغل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3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- </a:t>
            </a:r>
            <a:r>
              <a:rPr b="0" lang="ar-SA" sz="4000" spc="-1" strike="noStrike">
                <a:solidFill>
                  <a:srgbClr val="e61893"/>
                </a:solidFill>
                <a:latin typeface="Arial"/>
                <a:cs typeface="PT Bold Heading"/>
              </a:rPr>
              <a:t>الخدمات المصاحبة للمنتج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: 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مثل: التوصيل، التركيب ، الضمان ، خدمات الإصلاح  الصيانة ، الائتم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8"/>
          <p:cNvSpPr/>
          <p:nvPr/>
        </p:nvSpPr>
        <p:spPr>
          <a:xfrm>
            <a:off x="1090440" y="7128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Arial"/>
                <a:cs typeface="PT Bold Heading"/>
              </a:rPr>
              <a:t>أبعاد المنت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شكل بيضاوي 4"/>
          <p:cNvSpPr/>
          <p:nvPr/>
        </p:nvSpPr>
        <p:spPr>
          <a:xfrm>
            <a:off x="1571760" y="1214280"/>
            <a:ext cx="5786280" cy="55008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شكل بيضاوي 6"/>
          <p:cNvSpPr/>
          <p:nvPr/>
        </p:nvSpPr>
        <p:spPr>
          <a:xfrm>
            <a:off x="2428920" y="2071800"/>
            <a:ext cx="4071960" cy="3857400"/>
          </a:xfrm>
          <a:prstGeom prst="ellipse">
            <a:avLst/>
          </a:prstGeom>
          <a:solidFill>
            <a:srgbClr val="e61893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شكل بيضاوي 7"/>
          <p:cNvSpPr/>
          <p:nvPr/>
        </p:nvSpPr>
        <p:spPr>
          <a:xfrm>
            <a:off x="3571920" y="3143160"/>
            <a:ext cx="1857240" cy="178596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مربع نص 8"/>
          <p:cNvSpPr/>
          <p:nvPr/>
        </p:nvSpPr>
        <p:spPr>
          <a:xfrm>
            <a:off x="4000680" y="3643200"/>
            <a:ext cx="100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نفعة الأساسية للمنت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مربع نص 9"/>
          <p:cNvSpPr/>
          <p:nvPr/>
        </p:nvSpPr>
        <p:spPr>
          <a:xfrm>
            <a:off x="3929040" y="25718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شك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مربع نص 10"/>
          <p:cNvSpPr/>
          <p:nvPr/>
        </p:nvSpPr>
        <p:spPr>
          <a:xfrm>
            <a:off x="5214960" y="321480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صم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مربع نص 11"/>
          <p:cNvSpPr/>
          <p:nvPr/>
        </p:nvSpPr>
        <p:spPr>
          <a:xfrm>
            <a:off x="5286240" y="42148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عبئ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مربع نص 12"/>
          <p:cNvSpPr/>
          <p:nvPr/>
        </p:nvSpPr>
        <p:spPr>
          <a:xfrm>
            <a:off x="4929120" y="498780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غلي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مربع نص 13"/>
          <p:cNvSpPr/>
          <p:nvPr/>
        </p:nvSpPr>
        <p:spPr>
          <a:xfrm>
            <a:off x="2786040" y="46432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اس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التج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مربع نص 14"/>
          <p:cNvSpPr/>
          <p:nvPr/>
        </p:nvSpPr>
        <p:spPr>
          <a:xfrm>
            <a:off x="2643120" y="40719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علا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مربع نص 15"/>
          <p:cNvSpPr/>
          <p:nvPr/>
        </p:nvSpPr>
        <p:spPr>
          <a:xfrm>
            <a:off x="2928960" y="3143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جو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مربع نص 16"/>
          <p:cNvSpPr/>
          <p:nvPr/>
        </p:nvSpPr>
        <p:spPr>
          <a:xfrm>
            <a:off x="3214800" y="164304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وص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مربع نص 17"/>
          <p:cNvSpPr/>
          <p:nvPr/>
        </p:nvSpPr>
        <p:spPr>
          <a:xfrm>
            <a:off x="6143760" y="278604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ركي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مربع نص 18"/>
          <p:cNvSpPr/>
          <p:nvPr/>
        </p:nvSpPr>
        <p:spPr>
          <a:xfrm>
            <a:off x="6072120" y="4929120"/>
            <a:ext cx="9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صيانة والإصلا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مربع نص 19"/>
          <p:cNvSpPr/>
          <p:nvPr/>
        </p:nvSpPr>
        <p:spPr>
          <a:xfrm>
            <a:off x="3429000" y="613080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ضم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مربع نص 21"/>
          <p:cNvSpPr/>
          <p:nvPr/>
        </p:nvSpPr>
        <p:spPr>
          <a:xfrm>
            <a:off x="1571760" y="420228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ائتم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مربع نص 22"/>
          <p:cNvSpPr/>
          <p:nvPr/>
        </p:nvSpPr>
        <p:spPr>
          <a:xfrm>
            <a:off x="4000680" y="527364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بي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Text Box 8"/>
          <p:cNvSpPr/>
          <p:nvPr/>
        </p:nvSpPr>
        <p:spPr>
          <a:xfrm>
            <a:off x="1090440" y="7128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Arial"/>
                <a:cs typeface="PT Bold Heading"/>
              </a:rPr>
              <a:t>أبعاد المنتج والمنافس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"/>
          <p:cNvSpPr/>
          <p:nvPr/>
        </p:nvSpPr>
        <p:spPr>
          <a:xfrm>
            <a:off x="1000080" y="1357200"/>
            <a:ext cx="7143840" cy="46659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Arial"/>
                <a:cs typeface="PT Bold Heading"/>
              </a:rPr>
              <a:t>تشكل الأبعاد الثلاثة للمنتج </a:t>
            </a:r>
            <a:r>
              <a:rPr b="0" lang="ar-SA" sz="6000" spc="-1" strike="noStrike">
                <a:solidFill>
                  <a:srgbClr val="006600"/>
                </a:solidFill>
                <a:latin typeface="Arial"/>
                <a:cs typeface="PT Bold Heading"/>
              </a:rPr>
              <a:t>شخصية</a:t>
            </a:r>
            <a:r>
              <a:rPr b="0" lang="ar-SA" sz="6000" spc="-1" strike="noStrike">
                <a:solidFill>
                  <a:srgbClr val="000000"/>
                </a:solidFill>
                <a:latin typeface="Arial"/>
                <a:ea typeface="PT Bold Heading"/>
              </a:rPr>
              <a:t> المنتج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Arial"/>
                <a:cs typeface="PT Bold Heading"/>
              </a:rPr>
              <a:t>وما يتمتع به من مزايا مقارنة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Arial"/>
                <a:cs typeface="PT Bold Heading"/>
              </a:rPr>
              <a:t>بالمنتجات المنافس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aldarrab</cp:lastModifiedBy>
  <dcterms:modified xsi:type="dcterms:W3CDTF">2015-09-13T10:32:13Z</dcterms:modified>
  <cp:revision>697</cp:revision>
  <dc:subject/>
  <dc:title>الشريحة 1</dc:title>
</cp:coreProperties>
</file>