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9.wmf" ContentType="image/x-wmf"/>
  <Override PartName="/ppt/media/image48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61.wmf" ContentType="image/x-wmf"/>
  <Override PartName="/ppt/media/image9.png" ContentType="image/png"/>
  <Override PartName="/ppt/media/image53.wmf" ContentType="image/x-wmf"/>
  <Override PartName="/ppt/media/image13.png" ContentType="image/png"/>
  <Override PartName="/ppt/media/image1.png" ContentType="image/png"/>
  <Override PartName="/ppt/media/image31.png" ContentType="image/png"/>
  <Override PartName="/ppt/media/image71.wmf" ContentType="image/x-wmf"/>
  <Override PartName="/ppt/media/image29.wmf" ContentType="image/x-wmf"/>
  <Override PartName="/ppt/media/image54.wmf" ContentType="image/x-wmf"/>
  <Override PartName="/ppt/media/image20.png" ContentType="image/png"/>
  <Override PartName="/ppt/media/image38.png" ContentType="image/png"/>
  <Override PartName="/ppt/media/image60.wmf" ContentType="image/x-wmf"/>
  <Override PartName="/ppt/media/image22.png" ContentType="image/png"/>
  <Override PartName="/ppt/media/image62.wmf" ContentType="image/x-wmf"/>
  <Override PartName="/ppt/media/image23.png" ContentType="image/png"/>
  <Override PartName="/ppt/media/image63.wmf" ContentType="image/x-wmf"/>
  <Override PartName="/ppt/media/image59.wmf" ContentType="image/x-wmf"/>
  <Override PartName="/ppt/media/image24.wmf" ContentType="image/x-wmf"/>
  <Override PartName="/ppt/media/image25.wmf" ContentType="image/x-wmf"/>
  <Override PartName="/ppt/media/image21.png" ContentType="image/png"/>
  <Override PartName="/ppt/media/image76.wmf" ContentType="image/x-wmf"/>
  <Override PartName="/ppt/media/image36.png" ContentType="image/png"/>
  <Override PartName="/ppt/media/image64.wmf" ContentType="image/x-wmf"/>
  <Override PartName="/ppt/media/image58.wmf" ContentType="image/x-wmf"/>
  <Override PartName="/ppt/media/image6.png" ContentType="image/png"/>
  <Override PartName="/ppt/media/image18.png" ContentType="image/png"/>
  <Override PartName="/ppt/media/image75.png" ContentType="image/png"/>
  <Override PartName="/ppt/media/image57.wmf" ContentType="image/x-wmf"/>
  <Override PartName="/ppt/media/image74.png" ContentType="image/png"/>
  <Override PartName="/ppt/media/image56.wmf" ContentType="image/x-wmf"/>
  <Override PartName="/ppt/media/image73.png" ContentType="image/png"/>
  <Override PartName="/ppt/media/image55.wmf" ContentType="image/x-wmf"/>
  <Override PartName="/ppt/media/image72.png" ContentType="image/png"/>
  <Override PartName="/ppt/media/image69.wmf" ContentType="image/x-wmf"/>
  <Override PartName="/ppt/media/image70.wmf" ContentType="image/x-wmf"/>
  <Override PartName="/ppt/media/image28.wmf" ContentType="image/x-wmf"/>
  <Override PartName="/ppt/media/image30.png" ContentType="image/png"/>
  <Override PartName="/ppt/media/image68.wmf" ContentType="image/x-wmf"/>
  <Override PartName="/ppt/media/image67.wmf" ContentType="image/x-wmf"/>
  <Override PartName="/ppt/media/image27.png" ContentType="image/png"/>
  <Override PartName="/ppt/media/image66.wmf" ContentType="image/x-wmf"/>
  <Override PartName="/ppt/media/image26.png" ContentType="image/png"/>
  <Override PartName="/ppt/media/image65.wmf" ContentType="image/x-wmf"/>
  <Override PartName="/ppt/media/image14.png" ContentType="image/png"/>
  <Override PartName="/ppt/media/image2.png" ContentType="image/png"/>
  <Override PartName="/ppt/media/image3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50.wmf" ContentType="image/x-wmf"/>
  <Override PartName="/ppt/media/image11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5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907588" cy="6858000"/>
  <p:notesSz cx="7051675" cy="9356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52400" cy="93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995280" y="-360"/>
            <a:ext cx="30574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0574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3600" y="701640"/>
            <a:ext cx="5067360" cy="350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1400" y="4444560"/>
            <a:ext cx="51703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995280" y="8888040"/>
            <a:ext cx="30574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-360" y="8888040"/>
            <a:ext cx="30574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D749-8C06-4D01-A85B-59002EC0C7C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93600" y="701640"/>
            <a:ext cx="5067360" cy="35085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1400" y="4444560"/>
            <a:ext cx="51703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0" y="8888400"/>
            <a:ext cx="30574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9E66-321D-4AD2-AC33-57D4F3E8804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7AF-E880-4CCD-AE7D-47477F25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ADA-95AF-4C35-842C-FBFB3BDE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AF4B-A18F-4790-BE69-CA9DE768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82A-93A2-4080-B760-E6A122B7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60E5-81BD-41FE-80E2-E632EC58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DD9-47F4-483D-BF27-F07357BF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314C-5336-471E-9365-D8C43C87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1CB-9E6A-46C5-927A-F84E3C9C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0229-AE11-4624-A089-9A6088F6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2968-7A21-4368-8C6B-FFDA9758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827-2DE9-45D3-9965-4D206302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D0B-3EDA-4D4C-B3C1-3DE94659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1DD0-379B-4708-BE07-805AE3674FC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3.png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image" Target="../media/image56.wmf"/><Relationship Id="rId10" Type="http://schemas.openxmlformats.org/officeDocument/2006/relationships/image" Target="../media/image57.wmf"/><Relationship Id="rId11" Type="http://schemas.openxmlformats.org/officeDocument/2006/relationships/image" Target="../media/image58.wmf"/><Relationship Id="rId12" Type="http://schemas.openxmlformats.org/officeDocument/2006/relationships/image" Target="../media/image59.wmf"/><Relationship Id="rId13" Type="http://schemas.openxmlformats.org/officeDocument/2006/relationships/image" Target="../media/image60.wmf"/><Relationship Id="rId14" Type="http://schemas.openxmlformats.org/officeDocument/2006/relationships/image" Target="../media/image61.wmf"/><Relationship Id="rId15" Type="http://schemas.openxmlformats.org/officeDocument/2006/relationships/image" Target="../media/image62.wmf"/><Relationship Id="rId16" Type="http://schemas.openxmlformats.org/officeDocument/2006/relationships/image" Target="../media/image63.wmf"/><Relationship Id="rId17" Type="http://schemas.openxmlformats.org/officeDocument/2006/relationships/image" Target="../media/image64.wmf"/><Relationship Id="rId18" Type="http://schemas.openxmlformats.org/officeDocument/2006/relationships/image" Target="../media/image65.wmf"/><Relationship Id="rId19" Type="http://schemas.openxmlformats.org/officeDocument/2006/relationships/image" Target="../media/image66.wmf"/><Relationship Id="rId20" Type="http://schemas.openxmlformats.org/officeDocument/2006/relationships/image" Target="../media/image67.wmf"/><Relationship Id="rId21" Type="http://schemas.openxmlformats.org/officeDocument/2006/relationships/image" Target="../media/image68.wmf"/><Relationship Id="rId22" Type="http://schemas.openxmlformats.org/officeDocument/2006/relationships/image" Target="../media/image69.wmf"/><Relationship Id="rId23" Type="http://schemas.openxmlformats.org/officeDocument/2006/relationships/image" Target="../media/image70.wmf"/><Relationship Id="rId24" Type="http://schemas.openxmlformats.org/officeDocument/2006/relationships/image" Target="../media/image71.wmf"/><Relationship Id="rId2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8502480" cy="1452600"/>
          </a:xfrm>
          <a:prstGeom prst="rect">
            <a:avLst/>
          </a:prstGeom>
          <a:solidFill>
            <a:srgbClr val="ffffcc"/>
          </a:solidFill>
          <a:ln w="5724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tomation in Production system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أتمتة نظام التصني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372960"/>
            <a:ext cx="8763120" cy="1676520"/>
          </a:xfrm>
          <a:prstGeom prst="rect">
            <a:avLst/>
          </a:prstGeom>
          <a:solidFill>
            <a:srgbClr val="ccff99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IE 469 Manufacturing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69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صنع نظم التصن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3320" y="228600"/>
            <a:ext cx="890892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f- Automation Generation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جيال أتمتة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msotw9_temp0"/>
          <p:cNvPicPr/>
          <p:nvPr/>
        </p:nvPicPr>
        <p:blipFill>
          <a:blip r:embed="rId1"/>
          <a:stretch/>
        </p:blipFill>
        <p:spPr>
          <a:xfrm>
            <a:off x="252360" y="1905120"/>
            <a:ext cx="9383760" cy="21938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123" name="Picture 9" descr="msotw9_temp0"/>
          <p:cNvPicPr/>
          <p:nvPr/>
        </p:nvPicPr>
        <p:blipFill>
          <a:blip r:embed="rId2"/>
          <a:stretch/>
        </p:blipFill>
        <p:spPr>
          <a:xfrm>
            <a:off x="247680" y="4149720"/>
            <a:ext cx="9388440" cy="209880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124" name="Picture 7" descr="msotw9_temp0"/>
          <p:cNvPicPr/>
          <p:nvPr/>
        </p:nvPicPr>
        <p:blipFill>
          <a:blip r:embed="rId3"/>
          <a:stretch/>
        </p:blipFill>
        <p:spPr>
          <a:xfrm>
            <a:off x="247680" y="1150920"/>
            <a:ext cx="9388440" cy="7034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125" name="Ink 3" descr=""/>
          <p:cNvPicPr/>
          <p:nvPr/>
        </p:nvPicPr>
        <p:blipFill>
          <a:blip r:embed="rId4"/>
          <a:stretch/>
        </p:blipFill>
        <p:spPr>
          <a:xfrm>
            <a:off x="7053120" y="495360"/>
            <a:ext cx="889200" cy="1773000"/>
          </a:xfrm>
          <a:prstGeom prst="rect">
            <a:avLst/>
          </a:prstGeom>
          <a:ln w="0">
            <a:noFill/>
          </a:ln>
        </p:spPr>
      </p:pic>
      <p:pic>
        <p:nvPicPr>
          <p:cNvPr id="126" name="Ink 4" descr=""/>
          <p:cNvPicPr/>
          <p:nvPr/>
        </p:nvPicPr>
        <p:blipFill>
          <a:blip r:embed="rId5"/>
          <a:stretch/>
        </p:blipFill>
        <p:spPr>
          <a:xfrm>
            <a:off x="7205760" y="790560"/>
            <a:ext cx="117792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95968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g- Automation Generation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جيال أتمتة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msotw9_temp0"/>
          <p:cNvPicPr/>
          <p:nvPr/>
        </p:nvPicPr>
        <p:blipFill>
          <a:blip r:embed="rId1"/>
          <a:stretch/>
        </p:blipFill>
        <p:spPr>
          <a:xfrm>
            <a:off x="190440" y="2805120"/>
            <a:ext cx="9385200" cy="18572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129" name="Picture 7" descr="msotw9_temp0"/>
          <p:cNvPicPr/>
          <p:nvPr/>
        </p:nvPicPr>
        <p:blipFill>
          <a:blip r:embed="rId2"/>
          <a:stretch/>
        </p:blipFill>
        <p:spPr>
          <a:xfrm>
            <a:off x="187200" y="4645080"/>
            <a:ext cx="9388440" cy="108900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130" name="Picture 3" descr="msotw9_temp0"/>
          <p:cNvPicPr/>
          <p:nvPr/>
        </p:nvPicPr>
        <p:blipFill>
          <a:blip r:embed="rId3"/>
          <a:stretch/>
        </p:blipFill>
        <p:spPr>
          <a:xfrm>
            <a:off x="190440" y="2100240"/>
            <a:ext cx="9385200" cy="70488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131" name="Ink 3" descr=""/>
          <p:cNvPicPr/>
          <p:nvPr/>
        </p:nvPicPr>
        <p:blipFill>
          <a:blip r:embed="rId4"/>
          <a:stretch/>
        </p:blipFill>
        <p:spPr>
          <a:xfrm>
            <a:off x="6810480" y="1336680"/>
            <a:ext cx="833400" cy="1914480"/>
          </a:xfrm>
          <a:prstGeom prst="rect">
            <a:avLst/>
          </a:prstGeom>
          <a:ln w="0">
            <a:noFill/>
          </a:ln>
        </p:spPr>
      </p:pic>
      <p:pic>
        <p:nvPicPr>
          <p:cNvPr id="132" name="Ink 4" descr=""/>
          <p:cNvPicPr/>
          <p:nvPr/>
        </p:nvPicPr>
        <p:blipFill>
          <a:blip r:embed="rId5"/>
          <a:stretch/>
        </p:blipFill>
        <p:spPr>
          <a:xfrm>
            <a:off x="6934320" y="1687680"/>
            <a:ext cx="124272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4"/>
          <p:cNvGrpSpPr/>
          <p:nvPr/>
        </p:nvGrpSpPr>
        <p:grpSpPr>
          <a:xfrm>
            <a:off x="264960" y="3049560"/>
            <a:ext cx="2173320" cy="3116160"/>
            <a:chOff x="264960" y="3049560"/>
            <a:chExt cx="2173320" cy="3116160"/>
          </a:xfrm>
        </p:grpSpPr>
        <p:pic>
          <p:nvPicPr>
            <p:cNvPr id="134" name="Picture 5" descr="msotw9_temp0"/>
            <p:cNvPicPr/>
            <p:nvPr/>
          </p:nvPicPr>
          <p:blipFill>
            <a:blip r:embed="rId1"/>
            <a:stretch/>
          </p:blipFill>
          <p:spPr>
            <a:xfrm>
              <a:off x="264960" y="3782880"/>
              <a:ext cx="209880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6"/>
            <p:cNvSpPr/>
            <p:nvPr/>
          </p:nvSpPr>
          <p:spPr>
            <a:xfrm>
              <a:off x="457200" y="3049560"/>
              <a:ext cx="19810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Manual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Unit Pro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7"/>
          <p:cNvGrpSpPr/>
          <p:nvPr/>
        </p:nvGrpSpPr>
        <p:grpSpPr>
          <a:xfrm>
            <a:off x="2362320" y="1754280"/>
            <a:ext cx="3470040" cy="3733560"/>
            <a:chOff x="2362320" y="1754280"/>
            <a:chExt cx="3470040" cy="3733560"/>
          </a:xfrm>
        </p:grpSpPr>
        <p:pic>
          <p:nvPicPr>
            <p:cNvPr id="137" name="Picture 8" descr="msotw9_temp0"/>
            <p:cNvPicPr/>
            <p:nvPr/>
          </p:nvPicPr>
          <p:blipFill>
            <a:blip r:embed="rId2"/>
            <a:stretch/>
          </p:blipFill>
          <p:spPr>
            <a:xfrm>
              <a:off x="2362320" y="2619360"/>
              <a:ext cx="2792160" cy="28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9"/>
            <p:cNvSpPr/>
            <p:nvPr/>
          </p:nvSpPr>
          <p:spPr>
            <a:xfrm>
              <a:off x="2695680" y="1754280"/>
              <a:ext cx="3136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Mechanization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Batch/Mass Pro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0"/>
          <p:cNvGrpSpPr/>
          <p:nvPr/>
        </p:nvGrpSpPr>
        <p:grpSpPr>
          <a:xfrm>
            <a:off x="5105520" y="990720"/>
            <a:ext cx="4495680" cy="3354120"/>
            <a:chOff x="5105520" y="990720"/>
            <a:chExt cx="4495680" cy="3354120"/>
          </a:xfrm>
        </p:grpSpPr>
        <p:pic>
          <p:nvPicPr>
            <p:cNvPr id="140" name="Picture 11" descr="msotw9_temp0"/>
            <p:cNvPicPr/>
            <p:nvPr/>
          </p:nvPicPr>
          <p:blipFill>
            <a:blip r:embed="rId3"/>
            <a:stretch/>
          </p:blipFill>
          <p:spPr>
            <a:xfrm>
              <a:off x="5105520" y="990720"/>
              <a:ext cx="4314600" cy="33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2"/>
            <p:cNvSpPr/>
            <p:nvPr/>
          </p:nvSpPr>
          <p:spPr>
            <a:xfrm>
              <a:off x="6464160" y="2744640"/>
              <a:ext cx="313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Times New Roman"/>
                </a:rPr>
                <a:t>Automation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Times New Roman"/>
                </a:rPr>
                <a:t>Batch/Mass/Flow Pro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2680" y="144360"/>
            <a:ext cx="8420040" cy="62064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a- Automation Stage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راحل أتمتة نظم التصني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msotw9_temp0"/>
          <p:cNvPicPr/>
          <p:nvPr/>
        </p:nvPicPr>
        <p:blipFill>
          <a:blip r:embed="rId1"/>
          <a:stretch/>
        </p:blipFill>
        <p:spPr>
          <a:xfrm>
            <a:off x="642960" y="3797280"/>
            <a:ext cx="576360" cy="2984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44" name="Picture 4" descr="msotw9_temp0"/>
          <p:cNvPicPr/>
          <p:nvPr/>
        </p:nvPicPr>
        <p:blipFill>
          <a:blip r:embed="rId2"/>
          <a:stretch/>
        </p:blipFill>
        <p:spPr>
          <a:xfrm>
            <a:off x="1219320" y="3797280"/>
            <a:ext cx="669960" cy="2984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45" name="Picture 5" descr="msotw9_temp0"/>
          <p:cNvPicPr/>
          <p:nvPr/>
        </p:nvPicPr>
        <p:blipFill>
          <a:blip r:embed="rId3"/>
          <a:stretch/>
        </p:blipFill>
        <p:spPr>
          <a:xfrm>
            <a:off x="1920960" y="3797280"/>
            <a:ext cx="1965240" cy="2984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6" name="Picture 6" descr="msotw9_temp0"/>
          <p:cNvPicPr/>
          <p:nvPr/>
        </p:nvPicPr>
        <p:blipFill>
          <a:blip r:embed="rId4"/>
          <a:stretch/>
        </p:blipFill>
        <p:spPr>
          <a:xfrm>
            <a:off x="3886200" y="3797280"/>
            <a:ext cx="1600200" cy="2984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7" name="Picture 7" descr="msotw9_temp0"/>
          <p:cNvPicPr/>
          <p:nvPr/>
        </p:nvPicPr>
        <p:blipFill>
          <a:blip r:embed="rId5"/>
          <a:stretch/>
        </p:blipFill>
        <p:spPr>
          <a:xfrm>
            <a:off x="5472000" y="3797280"/>
            <a:ext cx="1538280" cy="2984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48" name="Picture 8" descr="msotw9_temp0"/>
          <p:cNvPicPr/>
          <p:nvPr/>
        </p:nvPicPr>
        <p:blipFill>
          <a:blip r:embed="rId6"/>
          <a:stretch/>
        </p:blipFill>
        <p:spPr>
          <a:xfrm>
            <a:off x="7042320" y="3797280"/>
            <a:ext cx="1415880" cy="2984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49" name="Picture 9" descr="msotw9_temp0"/>
          <p:cNvPicPr/>
          <p:nvPr/>
        </p:nvPicPr>
        <p:blipFill>
          <a:blip r:embed="rId7"/>
          <a:stretch/>
        </p:blipFill>
        <p:spPr>
          <a:xfrm>
            <a:off x="8520120" y="1066680"/>
            <a:ext cx="1004760" cy="5715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50" name="Picture 10" descr="msotw9_temp0"/>
          <p:cNvPicPr/>
          <p:nvPr/>
        </p:nvPicPr>
        <p:blipFill>
          <a:blip r:embed="rId8"/>
          <a:stretch/>
        </p:blipFill>
        <p:spPr>
          <a:xfrm>
            <a:off x="642960" y="1060560"/>
            <a:ext cx="7815240" cy="10731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51" name="Picture 11" descr="msotw9_temp0"/>
          <p:cNvPicPr/>
          <p:nvPr/>
        </p:nvPicPr>
        <p:blipFill>
          <a:blip r:embed="rId9"/>
          <a:stretch/>
        </p:blipFill>
        <p:spPr>
          <a:xfrm>
            <a:off x="642960" y="2057400"/>
            <a:ext cx="7815240" cy="17398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9525240" cy="45720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b- Machinery Automation Level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ستويات أتمتة المعد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Ink 2" descr=""/>
          <p:cNvPicPr/>
          <p:nvPr/>
        </p:nvPicPr>
        <p:blipFill>
          <a:blip r:embed="rId10"/>
          <a:stretch/>
        </p:blipFill>
        <p:spPr>
          <a:xfrm>
            <a:off x="3870360" y="466560"/>
            <a:ext cx="153684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2680" y="144360"/>
            <a:ext cx="8420040" cy="62064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c- Automa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m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تطلبات الأتمت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704880" y="1268280"/>
            <a:ext cx="8458200" cy="53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cess Automation (shaping, handling, Packaging, storing, insp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أتمتة الأسلوب الصناعي (التغيير والتجميع والفحص والقياس والمناولة والتعبئ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formation Aut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r" rtl="1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أتمتة المعلومات وبرامج التشغيل والرقابة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gration of operation an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r" rtl="1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تكامل العمليات والتشغيل والمراقبة والتحكم الأوتوماتي ل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itoring and adju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r" rtl="1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مقارنة وتعديل العمليا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alysis and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r" rtl="1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تحليل وتقرير الأداء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msotw9_temp0"/>
          <p:cNvPicPr/>
          <p:nvPr/>
        </p:nvPicPr>
        <p:blipFill>
          <a:blip r:embed="rId1"/>
          <a:stretch/>
        </p:blipFill>
        <p:spPr>
          <a:xfrm>
            <a:off x="762120" y="1143000"/>
            <a:ext cx="8381880" cy="4557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57" name="Picture 4" descr="msotw9_temp0"/>
          <p:cNvPicPr/>
          <p:nvPr/>
        </p:nvPicPr>
        <p:blipFill>
          <a:blip r:embed="rId2"/>
          <a:stretch/>
        </p:blipFill>
        <p:spPr>
          <a:xfrm>
            <a:off x="762120" y="1700280"/>
            <a:ext cx="8381880" cy="11192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58" name="Picture 5" descr="msotw9_temp0"/>
          <p:cNvPicPr/>
          <p:nvPr/>
        </p:nvPicPr>
        <p:blipFill>
          <a:blip r:embed="rId3"/>
          <a:stretch/>
        </p:blipFill>
        <p:spPr>
          <a:xfrm>
            <a:off x="762120" y="2895480"/>
            <a:ext cx="8381880" cy="18558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59" name="Picture 6" descr="msotw9_temp0"/>
          <p:cNvPicPr/>
          <p:nvPr/>
        </p:nvPicPr>
        <p:blipFill>
          <a:blip r:embed="rId4"/>
          <a:stretch/>
        </p:blipFill>
        <p:spPr>
          <a:xfrm>
            <a:off x="762120" y="4853160"/>
            <a:ext cx="8381880" cy="13190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60" name="Picture 7" descr="msotw9_temp0"/>
          <p:cNvPicPr/>
          <p:nvPr/>
        </p:nvPicPr>
        <p:blipFill>
          <a:blip r:embed="rId5"/>
          <a:stretch/>
        </p:blipFill>
        <p:spPr>
          <a:xfrm>
            <a:off x="762120" y="6249960"/>
            <a:ext cx="8381880" cy="4557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944892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d- Automation for Production Type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أتمتة في أنماط الإنتاج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52240" y="75960"/>
            <a:ext cx="866772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a- Types of Automa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أنظمة الأتمت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30320" y="1052640"/>
            <a:ext cx="95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Times New Roman"/>
              </a:rPr>
              <a:t>1-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Fixed Automation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Times New Roman"/>
              </a:rPr>
              <a:t>الأتمتة الثابتة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هو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نظام من مجموعة عمليات صناعية متسلسلة معا بنمط إنتاجي متكامل ثابت لإنتاج وحدة منتج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82440" y="2181240"/>
            <a:ext cx="98236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2- Soft Automation 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Times New Roman"/>
              </a:rPr>
              <a:t>الأتمتة البرمجية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هو نظام من مجموعة عمليات صناعية متسلسلة معا بواسطة برامج لأوامر مبرمجة وتشتمل علي نوعين: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- Programmable Automation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أتمتة المبرمج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هو نظام يعمل بمجموعة من الأوامر لعدد من العمليات المسلسلة  لإنتاج مشغولات أو وحدة منتج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- Flexible Automation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أتمتة الم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هو نظام من مجموعة عمليات صناعية متسلسلة معا بنمط إنتاجي متكامل مرن ببرامج لإنتاج وحدة منتجات مختلفة بصورة متزامنة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800" y="115560"/>
            <a:ext cx="9056880" cy="53964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b-Type of Automation Characteristic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خصائص أنواع الأتمت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162"/>
          <p:cNvGrpSpPr/>
          <p:nvPr/>
        </p:nvGrpSpPr>
        <p:grpSpPr>
          <a:xfrm>
            <a:off x="412920" y="885960"/>
            <a:ext cx="8997840" cy="738000"/>
            <a:chOff x="412920" y="885960"/>
            <a:chExt cx="8997840" cy="738000"/>
          </a:xfrm>
        </p:grpSpPr>
        <p:sp>
          <p:nvSpPr>
            <p:cNvPr id="167" name="Rectangle 32"/>
            <p:cNvSpPr/>
            <p:nvPr/>
          </p:nvSpPr>
          <p:spPr>
            <a:xfrm>
              <a:off x="412920" y="1255680"/>
              <a:ext cx="3219120" cy="36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Characterist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27"/>
            <p:cNvSpPr/>
            <p:nvPr/>
          </p:nvSpPr>
          <p:spPr>
            <a:xfrm>
              <a:off x="412920" y="885960"/>
              <a:ext cx="3219120" cy="36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Types of Autom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26"/>
            <p:cNvSpPr/>
            <p:nvPr/>
          </p:nvSpPr>
          <p:spPr>
            <a:xfrm>
              <a:off x="3632040" y="885960"/>
              <a:ext cx="1898640" cy="73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Fix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25"/>
            <p:cNvSpPr/>
            <p:nvPr/>
          </p:nvSpPr>
          <p:spPr>
            <a:xfrm>
              <a:off x="5530680" y="885960"/>
              <a:ext cx="1568520" cy="73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Flexi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24"/>
            <p:cNvSpPr/>
            <p:nvPr/>
          </p:nvSpPr>
          <p:spPr>
            <a:xfrm>
              <a:off x="7099200" y="885960"/>
              <a:ext cx="1073160" cy="73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Programm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23"/>
            <p:cNvSpPr/>
            <p:nvPr/>
          </p:nvSpPr>
          <p:spPr>
            <a:xfrm>
              <a:off x="8172360" y="885960"/>
              <a:ext cx="1238400" cy="73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Man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80"/>
            <p:cNvSpPr/>
            <p:nvPr/>
          </p:nvSpPr>
          <p:spPr>
            <a:xfrm>
              <a:off x="412920" y="1623960"/>
              <a:ext cx="8997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58"/>
          <p:cNvGrpSpPr/>
          <p:nvPr/>
        </p:nvGrpSpPr>
        <p:grpSpPr>
          <a:xfrm>
            <a:off x="412920" y="3171960"/>
            <a:ext cx="8997840" cy="2019240"/>
            <a:chOff x="412920" y="3171960"/>
            <a:chExt cx="8997840" cy="2019240"/>
          </a:xfrm>
        </p:grpSpPr>
        <p:sp>
          <p:nvSpPr>
            <p:cNvPr id="175" name="Rectangle 56"/>
            <p:cNvSpPr/>
            <p:nvPr/>
          </p:nvSpPr>
          <p:spPr>
            <a:xfrm>
              <a:off x="3632040" y="3811680"/>
              <a:ext cx="189864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412920" y="4551480"/>
              <a:ext cx="321912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Part Design Vari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6"/>
            <p:cNvSpPr/>
            <p:nvPr/>
          </p:nvSpPr>
          <p:spPr>
            <a:xfrm>
              <a:off x="3632040" y="4551480"/>
              <a:ext cx="189864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5"/>
            <p:cNvSpPr/>
            <p:nvPr/>
          </p:nvSpPr>
          <p:spPr>
            <a:xfrm>
              <a:off x="5530680" y="4551480"/>
              <a:ext cx="156852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64"/>
            <p:cNvSpPr/>
            <p:nvPr/>
          </p:nvSpPr>
          <p:spPr>
            <a:xfrm>
              <a:off x="7099200" y="4551480"/>
              <a:ext cx="107316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MAY 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3"/>
            <p:cNvSpPr/>
            <p:nvPr/>
          </p:nvSpPr>
          <p:spPr>
            <a:xfrm>
              <a:off x="8172360" y="4551480"/>
              <a:ext cx="123840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2"/>
            <p:cNvSpPr/>
            <p:nvPr/>
          </p:nvSpPr>
          <p:spPr>
            <a:xfrm>
              <a:off x="412920" y="4181400"/>
              <a:ext cx="3219120" cy="37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Setup Flexi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61"/>
            <p:cNvSpPr/>
            <p:nvPr/>
          </p:nvSpPr>
          <p:spPr>
            <a:xfrm>
              <a:off x="3632040" y="4181400"/>
              <a:ext cx="1898640" cy="37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60"/>
            <p:cNvSpPr/>
            <p:nvPr/>
          </p:nvSpPr>
          <p:spPr>
            <a:xfrm>
              <a:off x="5530680" y="4181400"/>
              <a:ext cx="1568520" cy="37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59"/>
            <p:cNvSpPr/>
            <p:nvPr/>
          </p:nvSpPr>
          <p:spPr>
            <a:xfrm>
              <a:off x="7099200" y="4181400"/>
              <a:ext cx="1073160" cy="37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58"/>
            <p:cNvSpPr/>
            <p:nvPr/>
          </p:nvSpPr>
          <p:spPr>
            <a:xfrm>
              <a:off x="8172360" y="4181400"/>
              <a:ext cx="1238400" cy="37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412920" y="3811680"/>
              <a:ext cx="321912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Part Change(mixtu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55"/>
            <p:cNvSpPr/>
            <p:nvPr/>
          </p:nvSpPr>
          <p:spPr>
            <a:xfrm>
              <a:off x="5530680" y="3811680"/>
              <a:ext cx="156852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54"/>
            <p:cNvSpPr/>
            <p:nvPr/>
          </p:nvSpPr>
          <p:spPr>
            <a:xfrm>
              <a:off x="7099200" y="3811680"/>
              <a:ext cx="107316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53"/>
            <p:cNvSpPr/>
            <p:nvPr/>
          </p:nvSpPr>
          <p:spPr>
            <a:xfrm>
              <a:off x="8172360" y="3811680"/>
              <a:ext cx="123840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52"/>
            <p:cNvSpPr/>
            <p:nvPr/>
          </p:nvSpPr>
          <p:spPr>
            <a:xfrm>
              <a:off x="412920" y="3171960"/>
              <a:ext cx="321912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Process Sequence Flexi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51"/>
            <p:cNvSpPr/>
            <p:nvPr/>
          </p:nvSpPr>
          <p:spPr>
            <a:xfrm>
              <a:off x="3632040" y="3171960"/>
              <a:ext cx="189864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NON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50"/>
            <p:cNvSpPr/>
            <p:nvPr/>
          </p:nvSpPr>
          <p:spPr>
            <a:xfrm>
              <a:off x="5530680" y="3171960"/>
              <a:ext cx="156852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49"/>
            <p:cNvSpPr/>
            <p:nvPr/>
          </p:nvSpPr>
          <p:spPr>
            <a:xfrm>
              <a:off x="7099200" y="3171960"/>
              <a:ext cx="107316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MAY 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48"/>
            <p:cNvSpPr/>
            <p:nvPr/>
          </p:nvSpPr>
          <p:spPr>
            <a:xfrm>
              <a:off x="8172360" y="3171960"/>
              <a:ext cx="123840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84"/>
            <p:cNvSpPr/>
            <p:nvPr/>
          </p:nvSpPr>
          <p:spPr>
            <a:xfrm>
              <a:off x="412920" y="3811680"/>
              <a:ext cx="899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85"/>
            <p:cNvSpPr/>
            <p:nvPr/>
          </p:nvSpPr>
          <p:spPr>
            <a:xfrm>
              <a:off x="412920" y="4181400"/>
              <a:ext cx="899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86"/>
            <p:cNvSpPr/>
            <p:nvPr/>
          </p:nvSpPr>
          <p:spPr>
            <a:xfrm>
              <a:off x="412920" y="4551480"/>
              <a:ext cx="899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87"/>
            <p:cNvSpPr/>
            <p:nvPr/>
          </p:nvSpPr>
          <p:spPr>
            <a:xfrm>
              <a:off x="412920" y="5191200"/>
              <a:ext cx="8997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159"/>
          <p:cNvGrpSpPr/>
          <p:nvPr/>
        </p:nvGrpSpPr>
        <p:grpSpPr>
          <a:xfrm>
            <a:off x="412920" y="5229360"/>
            <a:ext cx="8997840" cy="1008000"/>
            <a:chOff x="412920" y="5229360"/>
            <a:chExt cx="8997840" cy="1008000"/>
          </a:xfrm>
        </p:grpSpPr>
        <p:sp>
          <p:nvSpPr>
            <p:cNvPr id="200" name="Rectangle 77"/>
            <p:cNvSpPr/>
            <p:nvPr/>
          </p:nvSpPr>
          <p:spPr>
            <a:xfrm>
              <a:off x="412920" y="5597640"/>
              <a:ext cx="321912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Type of Equi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76"/>
            <p:cNvSpPr/>
            <p:nvPr/>
          </p:nvSpPr>
          <p:spPr>
            <a:xfrm>
              <a:off x="3632040" y="5597640"/>
              <a:ext cx="189864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Specialized customized 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75"/>
            <p:cNvSpPr/>
            <p:nvPr/>
          </p:nvSpPr>
          <p:spPr>
            <a:xfrm>
              <a:off x="5530680" y="5597640"/>
              <a:ext cx="156852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Customized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74"/>
            <p:cNvSpPr/>
            <p:nvPr/>
          </p:nvSpPr>
          <p:spPr>
            <a:xfrm>
              <a:off x="7099200" y="5597640"/>
              <a:ext cx="107316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73"/>
            <p:cNvSpPr/>
            <p:nvPr/>
          </p:nvSpPr>
          <p:spPr>
            <a:xfrm>
              <a:off x="8172360" y="5597640"/>
              <a:ext cx="123840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General Purp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72"/>
            <p:cNvSpPr/>
            <p:nvPr/>
          </p:nvSpPr>
          <p:spPr>
            <a:xfrm>
              <a:off x="412920" y="5229360"/>
              <a:ext cx="321912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Initial 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71"/>
            <p:cNvSpPr/>
            <p:nvPr/>
          </p:nvSpPr>
          <p:spPr>
            <a:xfrm>
              <a:off x="3632040" y="5229360"/>
              <a:ext cx="18986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V.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70"/>
            <p:cNvSpPr/>
            <p:nvPr/>
          </p:nvSpPr>
          <p:spPr>
            <a:xfrm>
              <a:off x="5530680" y="5229360"/>
              <a:ext cx="156852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69"/>
            <p:cNvSpPr/>
            <p:nvPr/>
          </p:nvSpPr>
          <p:spPr>
            <a:xfrm>
              <a:off x="7099200" y="5229360"/>
              <a:ext cx="1073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68"/>
            <p:cNvSpPr/>
            <p:nvPr/>
          </p:nvSpPr>
          <p:spPr>
            <a:xfrm>
              <a:off x="8172360" y="5229360"/>
              <a:ext cx="12384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88"/>
            <p:cNvSpPr/>
            <p:nvPr/>
          </p:nvSpPr>
          <p:spPr>
            <a:xfrm>
              <a:off x="412920" y="5597640"/>
              <a:ext cx="899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89"/>
            <p:cNvSpPr/>
            <p:nvPr/>
          </p:nvSpPr>
          <p:spPr>
            <a:xfrm>
              <a:off x="412920" y="6237360"/>
              <a:ext cx="899784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Group 157"/>
          <p:cNvGrpSpPr/>
          <p:nvPr/>
        </p:nvGrpSpPr>
        <p:grpSpPr>
          <a:xfrm>
            <a:off x="412920" y="1649520"/>
            <a:ext cx="8997840" cy="1522440"/>
            <a:chOff x="412920" y="1649520"/>
            <a:chExt cx="8997840" cy="1522440"/>
          </a:xfrm>
        </p:grpSpPr>
        <p:sp>
          <p:nvSpPr>
            <p:cNvPr id="213" name="Rectangle 129"/>
            <p:cNvSpPr/>
            <p:nvPr/>
          </p:nvSpPr>
          <p:spPr>
            <a:xfrm>
              <a:off x="8172360" y="2019240"/>
              <a:ext cx="1238400" cy="37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27"/>
            <p:cNvSpPr/>
            <p:nvPr/>
          </p:nvSpPr>
          <p:spPr>
            <a:xfrm>
              <a:off x="7099200" y="2019240"/>
              <a:ext cx="1073160" cy="37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25"/>
            <p:cNvSpPr/>
            <p:nvPr/>
          </p:nvSpPr>
          <p:spPr>
            <a:xfrm>
              <a:off x="5530680" y="2019240"/>
              <a:ext cx="1568520" cy="37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23"/>
            <p:cNvSpPr/>
            <p:nvPr/>
          </p:nvSpPr>
          <p:spPr>
            <a:xfrm>
              <a:off x="3632040" y="2019240"/>
              <a:ext cx="1898640" cy="37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21"/>
            <p:cNvSpPr/>
            <p:nvPr/>
          </p:nvSpPr>
          <p:spPr>
            <a:xfrm>
              <a:off x="412920" y="2019240"/>
              <a:ext cx="3219120" cy="37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Prod. 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47"/>
            <p:cNvSpPr/>
            <p:nvPr/>
          </p:nvSpPr>
          <p:spPr>
            <a:xfrm>
              <a:off x="412920" y="2759040"/>
              <a:ext cx="3219120" cy="412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Unit 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46"/>
            <p:cNvSpPr/>
            <p:nvPr/>
          </p:nvSpPr>
          <p:spPr>
            <a:xfrm>
              <a:off x="3632040" y="2759040"/>
              <a:ext cx="1898640" cy="412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45"/>
            <p:cNvSpPr/>
            <p:nvPr/>
          </p:nvSpPr>
          <p:spPr>
            <a:xfrm>
              <a:off x="5530680" y="2759040"/>
              <a:ext cx="1568520" cy="412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L-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44"/>
            <p:cNvSpPr/>
            <p:nvPr/>
          </p:nvSpPr>
          <p:spPr>
            <a:xfrm>
              <a:off x="7099200" y="2759040"/>
              <a:ext cx="1073160" cy="412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43"/>
            <p:cNvSpPr/>
            <p:nvPr/>
          </p:nvSpPr>
          <p:spPr>
            <a:xfrm>
              <a:off x="8172360" y="2759040"/>
              <a:ext cx="1238400" cy="412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42"/>
            <p:cNvSpPr/>
            <p:nvPr/>
          </p:nvSpPr>
          <p:spPr>
            <a:xfrm>
              <a:off x="412920" y="2389320"/>
              <a:ext cx="321912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Product Vari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3632040" y="2389320"/>
              <a:ext cx="189864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L(1-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40"/>
            <p:cNvSpPr/>
            <p:nvPr/>
          </p:nvSpPr>
          <p:spPr>
            <a:xfrm>
              <a:off x="5530680" y="2389320"/>
              <a:ext cx="156852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M(1-2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39"/>
            <p:cNvSpPr/>
            <p:nvPr/>
          </p:nvSpPr>
          <p:spPr>
            <a:xfrm>
              <a:off x="7099200" y="2389320"/>
              <a:ext cx="107316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38"/>
            <p:cNvSpPr/>
            <p:nvPr/>
          </p:nvSpPr>
          <p:spPr>
            <a:xfrm>
              <a:off x="8172360" y="2389320"/>
              <a:ext cx="123840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37"/>
            <p:cNvSpPr/>
            <p:nvPr/>
          </p:nvSpPr>
          <p:spPr>
            <a:xfrm>
              <a:off x="412920" y="1649520"/>
              <a:ext cx="321912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Quantity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36"/>
            <p:cNvSpPr/>
            <p:nvPr/>
          </p:nvSpPr>
          <p:spPr>
            <a:xfrm>
              <a:off x="3632040" y="1649520"/>
              <a:ext cx="189864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V.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35"/>
            <p:cNvSpPr/>
            <p:nvPr/>
          </p:nvSpPr>
          <p:spPr>
            <a:xfrm>
              <a:off x="5530680" y="1649520"/>
              <a:ext cx="156852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M-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34"/>
            <p:cNvSpPr/>
            <p:nvPr/>
          </p:nvSpPr>
          <p:spPr>
            <a:xfrm>
              <a:off x="7099200" y="1649520"/>
              <a:ext cx="107316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L-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8172360" y="1649520"/>
              <a:ext cx="123840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81"/>
            <p:cNvSpPr/>
            <p:nvPr/>
          </p:nvSpPr>
          <p:spPr>
            <a:xfrm>
              <a:off x="412920" y="2389320"/>
              <a:ext cx="899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82"/>
            <p:cNvSpPr/>
            <p:nvPr/>
          </p:nvSpPr>
          <p:spPr>
            <a:xfrm>
              <a:off x="412920" y="2759040"/>
              <a:ext cx="899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83"/>
            <p:cNvSpPr/>
            <p:nvPr/>
          </p:nvSpPr>
          <p:spPr>
            <a:xfrm>
              <a:off x="412920" y="3171960"/>
              <a:ext cx="8997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22"/>
            <p:cNvSpPr/>
            <p:nvPr/>
          </p:nvSpPr>
          <p:spPr>
            <a:xfrm>
              <a:off x="412920" y="2019240"/>
              <a:ext cx="899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5800" y="115560"/>
            <a:ext cx="9056880" cy="53964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c-Type of Automation related to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91"/>
          <p:cNvGrpSpPr/>
          <p:nvPr/>
        </p:nvGrpSpPr>
        <p:grpSpPr>
          <a:xfrm>
            <a:off x="1556280" y="1049400"/>
            <a:ext cx="6781320" cy="5252040"/>
            <a:chOff x="1556280" y="1049400"/>
            <a:chExt cx="6781320" cy="5252040"/>
          </a:xfrm>
        </p:grpSpPr>
        <p:sp>
          <p:nvSpPr>
            <p:cNvPr id="239" name="Line 75"/>
            <p:cNvSpPr/>
            <p:nvPr/>
          </p:nvSpPr>
          <p:spPr>
            <a:xfrm flipV="1">
              <a:off x="2112840" y="1049400"/>
              <a:ext cx="0" cy="438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76"/>
            <p:cNvSpPr/>
            <p:nvPr/>
          </p:nvSpPr>
          <p:spPr>
            <a:xfrm>
              <a:off x="2112840" y="5437080"/>
              <a:ext cx="600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77"/>
            <p:cNvSpPr/>
            <p:nvPr/>
          </p:nvSpPr>
          <p:spPr>
            <a:xfrm>
              <a:off x="2112840" y="2624040"/>
              <a:ext cx="2165400" cy="872640"/>
            </a:xfrm>
            <a:prstGeom prst="rect">
              <a:avLst/>
            </a:prstGeom>
            <a:solidFill>
              <a:srgbClr val="f8fe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grammable Auto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أتمتة برمج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78"/>
            <p:cNvSpPr/>
            <p:nvPr/>
          </p:nvSpPr>
          <p:spPr>
            <a:xfrm>
              <a:off x="3981240" y="3260520"/>
              <a:ext cx="2195640" cy="872640"/>
            </a:xfrm>
            <a:prstGeom prst="rect">
              <a:avLst/>
            </a:prstGeom>
            <a:solidFill>
              <a:srgbClr val="ffe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lexible Auto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أتمتة مرن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79"/>
            <p:cNvSpPr/>
            <p:nvPr/>
          </p:nvSpPr>
          <p:spPr>
            <a:xfrm>
              <a:off x="4716360" y="5956200"/>
              <a:ext cx="1976400" cy="345240"/>
            </a:xfrm>
            <a:prstGeom prst="rect">
              <a:avLst/>
            </a:prstGeom>
            <a:solidFill>
              <a:srgbClr val="ffffc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Variety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التنوع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80"/>
            <p:cNvSpPr/>
            <p:nvPr/>
          </p:nvSpPr>
          <p:spPr>
            <a:xfrm rot="16242600">
              <a:off x="890280" y="2461680"/>
              <a:ext cx="1952280" cy="596520"/>
            </a:xfrm>
            <a:prstGeom prst="rect">
              <a:avLst/>
            </a:prstGeom>
            <a:solidFill>
              <a:srgbClr val="ffffc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Quantity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الكمية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81"/>
            <p:cNvSpPr/>
            <p:nvPr/>
          </p:nvSpPr>
          <p:spPr>
            <a:xfrm>
              <a:off x="5889600" y="3835080"/>
              <a:ext cx="1955880" cy="872640"/>
            </a:xfrm>
            <a:prstGeom prst="rect">
              <a:avLst/>
            </a:prstGeom>
            <a:solidFill>
              <a:srgbClr val="f3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ixed Autom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أتمتة ثابت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83"/>
            <p:cNvSpPr/>
            <p:nvPr/>
          </p:nvSpPr>
          <p:spPr>
            <a:xfrm>
              <a:off x="2112840" y="1782720"/>
              <a:ext cx="2479680" cy="36540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84"/>
            <p:cNvSpPr/>
            <p:nvPr/>
          </p:nvSpPr>
          <p:spPr>
            <a:xfrm>
              <a:off x="3657600" y="5559120"/>
              <a:ext cx="63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85"/>
            <p:cNvSpPr/>
            <p:nvPr/>
          </p:nvSpPr>
          <p:spPr>
            <a:xfrm>
              <a:off x="5097240" y="5547960"/>
              <a:ext cx="13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10,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86"/>
            <p:cNvSpPr/>
            <p:nvPr/>
          </p:nvSpPr>
          <p:spPr>
            <a:xfrm>
              <a:off x="6969240" y="5547960"/>
              <a:ext cx="13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1,000,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87"/>
            <p:cNvSpPr/>
            <p:nvPr/>
          </p:nvSpPr>
          <p:spPr>
            <a:xfrm>
              <a:off x="7761240" y="515268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88"/>
            <p:cNvSpPr/>
            <p:nvPr/>
          </p:nvSpPr>
          <p:spPr>
            <a:xfrm>
              <a:off x="5816520" y="515268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89"/>
            <p:cNvSpPr/>
            <p:nvPr/>
          </p:nvSpPr>
          <p:spPr>
            <a:xfrm>
              <a:off x="3944880" y="515592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90"/>
            <p:cNvSpPr/>
            <p:nvPr/>
          </p:nvSpPr>
          <p:spPr>
            <a:xfrm>
              <a:off x="1793880" y="5576760"/>
              <a:ext cx="63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4" name="Ink 1" descr=""/>
          <p:cNvPicPr/>
          <p:nvPr/>
        </p:nvPicPr>
        <p:blipFill>
          <a:blip r:embed="rId1"/>
          <a:stretch/>
        </p:blipFill>
        <p:spPr>
          <a:xfrm>
            <a:off x="1568520" y="2079720"/>
            <a:ext cx="379440" cy="1039680"/>
          </a:xfrm>
          <a:prstGeom prst="rect">
            <a:avLst/>
          </a:prstGeom>
          <a:ln w="0">
            <a:noFill/>
          </a:ln>
        </p:spPr>
      </p:pic>
      <p:pic>
        <p:nvPicPr>
          <p:cNvPr id="255" name="Ink 2" descr=""/>
          <p:cNvPicPr/>
          <p:nvPr/>
        </p:nvPicPr>
        <p:blipFill>
          <a:blip r:embed="rId2"/>
          <a:stretch/>
        </p:blipFill>
        <p:spPr>
          <a:xfrm>
            <a:off x="1481040" y="2395440"/>
            <a:ext cx="792360" cy="689040"/>
          </a:xfrm>
          <a:prstGeom prst="rect">
            <a:avLst/>
          </a:prstGeom>
          <a:ln w="0">
            <a:noFill/>
          </a:ln>
        </p:spPr>
      </p:pic>
      <p:pic>
        <p:nvPicPr>
          <p:cNvPr id="256" name="Ink 3" descr=""/>
          <p:cNvPicPr/>
          <p:nvPr/>
        </p:nvPicPr>
        <p:blipFill>
          <a:blip r:embed="rId3"/>
          <a:stretch/>
        </p:blipFill>
        <p:spPr>
          <a:xfrm>
            <a:off x="5738760" y="5985000"/>
            <a:ext cx="150840" cy="593640"/>
          </a:xfrm>
          <a:prstGeom prst="rect">
            <a:avLst/>
          </a:prstGeom>
          <a:ln w="0">
            <a:noFill/>
          </a:ln>
        </p:spPr>
      </p:pic>
      <p:pic>
        <p:nvPicPr>
          <p:cNvPr id="257" name="Ink 4" descr=""/>
          <p:cNvPicPr/>
          <p:nvPr/>
        </p:nvPicPr>
        <p:blipFill>
          <a:blip r:embed="rId4"/>
          <a:stretch/>
        </p:blipFill>
        <p:spPr>
          <a:xfrm>
            <a:off x="5602320" y="6027840"/>
            <a:ext cx="635040" cy="260280"/>
          </a:xfrm>
          <a:prstGeom prst="rect">
            <a:avLst/>
          </a:prstGeom>
          <a:ln w="0">
            <a:noFill/>
          </a:ln>
        </p:spPr>
      </p:pic>
      <p:pic>
        <p:nvPicPr>
          <p:cNvPr id="258" name="Ink 5" descr=""/>
          <p:cNvPicPr/>
          <p:nvPr/>
        </p:nvPicPr>
        <p:blipFill>
          <a:blip r:embed="rId5"/>
          <a:stretch/>
        </p:blipFill>
        <p:spPr>
          <a:xfrm>
            <a:off x="6621480" y="6018120"/>
            <a:ext cx="396720" cy="515880"/>
          </a:xfrm>
          <a:prstGeom prst="rect">
            <a:avLst/>
          </a:prstGeom>
          <a:ln w="0">
            <a:noFill/>
          </a:ln>
        </p:spPr>
      </p:pic>
      <p:pic>
        <p:nvPicPr>
          <p:cNvPr id="259" name="Ink 6" descr=""/>
          <p:cNvPicPr/>
          <p:nvPr/>
        </p:nvPicPr>
        <p:blipFill>
          <a:blip r:embed="rId6"/>
          <a:stretch/>
        </p:blipFill>
        <p:spPr>
          <a:xfrm>
            <a:off x="6988320" y="6062760"/>
            <a:ext cx="133200" cy="280800"/>
          </a:xfrm>
          <a:prstGeom prst="rect">
            <a:avLst/>
          </a:prstGeom>
          <a:ln w="0">
            <a:noFill/>
          </a:ln>
        </p:spPr>
      </p:pic>
      <p:pic>
        <p:nvPicPr>
          <p:cNvPr id="260" name="Ink 7" descr=""/>
          <p:cNvPicPr/>
          <p:nvPr/>
        </p:nvPicPr>
        <p:blipFill>
          <a:blip r:embed="rId7"/>
          <a:stretch/>
        </p:blipFill>
        <p:spPr>
          <a:xfrm>
            <a:off x="7175520" y="6134040"/>
            <a:ext cx="182520" cy="219240"/>
          </a:xfrm>
          <a:prstGeom prst="rect">
            <a:avLst/>
          </a:prstGeom>
          <a:ln w="0">
            <a:noFill/>
          </a:ln>
        </p:spPr>
      </p:pic>
      <p:pic>
        <p:nvPicPr>
          <p:cNvPr id="261" name="Ink 8" descr=""/>
          <p:cNvPicPr/>
          <p:nvPr/>
        </p:nvPicPr>
        <p:blipFill>
          <a:blip r:embed="rId8"/>
          <a:stretch/>
        </p:blipFill>
        <p:spPr>
          <a:xfrm>
            <a:off x="7334280" y="6062760"/>
            <a:ext cx="131760" cy="247680"/>
          </a:xfrm>
          <a:prstGeom prst="rect">
            <a:avLst/>
          </a:prstGeom>
          <a:ln w="0">
            <a:noFill/>
          </a:ln>
        </p:spPr>
      </p:pic>
      <p:pic>
        <p:nvPicPr>
          <p:cNvPr id="262" name="Ink 9" descr=""/>
          <p:cNvPicPr/>
          <p:nvPr/>
        </p:nvPicPr>
        <p:blipFill>
          <a:blip r:embed="rId9"/>
          <a:stretch/>
        </p:blipFill>
        <p:spPr>
          <a:xfrm>
            <a:off x="7499520" y="5954760"/>
            <a:ext cx="125280" cy="406440"/>
          </a:xfrm>
          <a:prstGeom prst="rect">
            <a:avLst/>
          </a:prstGeom>
          <a:ln w="0">
            <a:noFill/>
          </a:ln>
        </p:spPr>
      </p:pic>
      <p:pic>
        <p:nvPicPr>
          <p:cNvPr id="263" name="Ink 10" descr=""/>
          <p:cNvPicPr/>
          <p:nvPr/>
        </p:nvPicPr>
        <p:blipFill>
          <a:blip r:embed="rId10"/>
          <a:stretch/>
        </p:blipFill>
        <p:spPr>
          <a:xfrm>
            <a:off x="7400880" y="6005520"/>
            <a:ext cx="308160" cy="217440"/>
          </a:xfrm>
          <a:prstGeom prst="rect">
            <a:avLst/>
          </a:prstGeom>
          <a:ln w="0">
            <a:noFill/>
          </a:ln>
        </p:spPr>
      </p:pic>
      <p:pic>
        <p:nvPicPr>
          <p:cNvPr id="264" name="Ink 11" descr=""/>
          <p:cNvPicPr/>
          <p:nvPr/>
        </p:nvPicPr>
        <p:blipFill>
          <a:blip r:embed="rId11"/>
          <a:stretch/>
        </p:blipFill>
        <p:spPr>
          <a:xfrm>
            <a:off x="7728120" y="6054840"/>
            <a:ext cx="83880" cy="257040"/>
          </a:xfrm>
          <a:prstGeom prst="rect">
            <a:avLst/>
          </a:prstGeom>
          <a:ln w="0">
            <a:noFill/>
          </a:ln>
        </p:spPr>
      </p:pic>
      <p:pic>
        <p:nvPicPr>
          <p:cNvPr id="265" name="Ink 12" descr=""/>
          <p:cNvPicPr/>
          <p:nvPr/>
        </p:nvPicPr>
        <p:blipFill>
          <a:blip r:embed="rId12"/>
          <a:stretch/>
        </p:blipFill>
        <p:spPr>
          <a:xfrm>
            <a:off x="7709040" y="5951520"/>
            <a:ext cx="50760" cy="85680"/>
          </a:xfrm>
          <a:prstGeom prst="rect">
            <a:avLst/>
          </a:prstGeom>
          <a:ln w="0">
            <a:noFill/>
          </a:ln>
        </p:spPr>
      </p:pic>
      <p:pic>
        <p:nvPicPr>
          <p:cNvPr id="266" name="Ink 13" descr=""/>
          <p:cNvPicPr/>
          <p:nvPr/>
        </p:nvPicPr>
        <p:blipFill>
          <a:blip r:embed="rId13"/>
          <a:stretch/>
        </p:blipFill>
        <p:spPr>
          <a:xfrm>
            <a:off x="7910640" y="5872320"/>
            <a:ext cx="152280" cy="439560"/>
          </a:xfrm>
          <a:prstGeom prst="rect">
            <a:avLst/>
          </a:prstGeom>
          <a:ln w="0">
            <a:noFill/>
          </a:ln>
        </p:spPr>
      </p:pic>
      <p:pic>
        <p:nvPicPr>
          <p:cNvPr id="267" name="Ink 14" descr=""/>
          <p:cNvPicPr/>
          <p:nvPr/>
        </p:nvPicPr>
        <p:blipFill>
          <a:blip r:embed="rId14"/>
          <a:stretch/>
        </p:blipFill>
        <p:spPr>
          <a:xfrm>
            <a:off x="7870680" y="6067440"/>
            <a:ext cx="163800" cy="109440"/>
          </a:xfrm>
          <a:prstGeom prst="rect">
            <a:avLst/>
          </a:prstGeom>
          <a:ln w="0">
            <a:noFill/>
          </a:ln>
        </p:spPr>
      </p:pic>
      <p:pic>
        <p:nvPicPr>
          <p:cNvPr id="268" name="Ink 15" descr=""/>
          <p:cNvPicPr/>
          <p:nvPr/>
        </p:nvPicPr>
        <p:blipFill>
          <a:blip r:embed="rId15"/>
          <a:stretch/>
        </p:blipFill>
        <p:spPr>
          <a:xfrm>
            <a:off x="8085240" y="5967360"/>
            <a:ext cx="255600" cy="446040"/>
          </a:xfrm>
          <a:prstGeom prst="rect">
            <a:avLst/>
          </a:prstGeom>
          <a:ln w="0">
            <a:noFill/>
          </a:ln>
        </p:spPr>
      </p:pic>
      <p:pic>
        <p:nvPicPr>
          <p:cNvPr id="269" name="Ink 16" descr=""/>
          <p:cNvPicPr/>
          <p:nvPr/>
        </p:nvPicPr>
        <p:blipFill>
          <a:blip r:embed="rId16"/>
          <a:stretch/>
        </p:blipFill>
        <p:spPr>
          <a:xfrm>
            <a:off x="696960" y="2916360"/>
            <a:ext cx="336600" cy="495000"/>
          </a:xfrm>
          <a:prstGeom prst="rect">
            <a:avLst/>
          </a:prstGeom>
          <a:ln w="0">
            <a:noFill/>
          </a:ln>
        </p:spPr>
      </p:pic>
      <p:pic>
        <p:nvPicPr>
          <p:cNvPr id="270" name="Ink 17" descr=""/>
          <p:cNvPicPr/>
          <p:nvPr/>
        </p:nvPicPr>
        <p:blipFill>
          <a:blip r:embed="rId17"/>
          <a:stretch/>
        </p:blipFill>
        <p:spPr>
          <a:xfrm>
            <a:off x="933480" y="2881440"/>
            <a:ext cx="357120" cy="276120"/>
          </a:xfrm>
          <a:prstGeom prst="rect">
            <a:avLst/>
          </a:prstGeom>
          <a:ln w="0">
            <a:noFill/>
          </a:ln>
        </p:spPr>
      </p:pic>
      <p:pic>
        <p:nvPicPr>
          <p:cNvPr id="271" name="Ink 18" descr=""/>
          <p:cNvPicPr/>
          <p:nvPr/>
        </p:nvPicPr>
        <p:blipFill>
          <a:blip r:embed="rId18"/>
          <a:stretch/>
        </p:blipFill>
        <p:spPr>
          <a:xfrm>
            <a:off x="984240" y="2511360"/>
            <a:ext cx="216000" cy="338040"/>
          </a:xfrm>
          <a:prstGeom prst="rect">
            <a:avLst/>
          </a:prstGeom>
          <a:ln w="0">
            <a:noFill/>
          </a:ln>
        </p:spPr>
      </p:pic>
      <p:pic>
        <p:nvPicPr>
          <p:cNvPr id="272" name="Ink 19" descr=""/>
          <p:cNvPicPr/>
          <p:nvPr/>
        </p:nvPicPr>
        <p:blipFill>
          <a:blip r:embed="rId19"/>
          <a:stretch/>
        </p:blipFill>
        <p:spPr>
          <a:xfrm>
            <a:off x="1139760" y="2411280"/>
            <a:ext cx="220680" cy="79560"/>
          </a:xfrm>
          <a:prstGeom prst="rect">
            <a:avLst/>
          </a:prstGeom>
          <a:ln w="0">
            <a:noFill/>
          </a:ln>
        </p:spPr>
      </p:pic>
      <p:pic>
        <p:nvPicPr>
          <p:cNvPr id="273" name="Ink 20" descr=""/>
          <p:cNvPicPr/>
          <p:nvPr/>
        </p:nvPicPr>
        <p:blipFill>
          <a:blip r:embed="rId20"/>
          <a:stretch/>
        </p:blipFill>
        <p:spPr>
          <a:xfrm>
            <a:off x="1008000" y="2305080"/>
            <a:ext cx="69840" cy="46080"/>
          </a:xfrm>
          <a:prstGeom prst="rect">
            <a:avLst/>
          </a:prstGeom>
          <a:ln w="0">
            <a:noFill/>
          </a:ln>
        </p:spPr>
      </p:pic>
      <p:pic>
        <p:nvPicPr>
          <p:cNvPr id="274" name="Ink 21" descr=""/>
          <p:cNvPicPr/>
          <p:nvPr/>
        </p:nvPicPr>
        <p:blipFill>
          <a:blip r:embed="rId21"/>
          <a:stretch/>
        </p:blipFill>
        <p:spPr>
          <a:xfrm>
            <a:off x="1216080" y="2112840"/>
            <a:ext cx="228600" cy="271440"/>
          </a:xfrm>
          <a:prstGeom prst="rect">
            <a:avLst/>
          </a:prstGeom>
          <a:ln w="0">
            <a:noFill/>
          </a:ln>
        </p:spPr>
      </p:pic>
      <p:pic>
        <p:nvPicPr>
          <p:cNvPr id="275" name="Ink 22" descr=""/>
          <p:cNvPicPr/>
          <p:nvPr/>
        </p:nvPicPr>
        <p:blipFill>
          <a:blip r:embed="rId22"/>
          <a:stretch/>
        </p:blipFill>
        <p:spPr>
          <a:xfrm>
            <a:off x="1216080" y="1760400"/>
            <a:ext cx="298440" cy="279360"/>
          </a:xfrm>
          <a:prstGeom prst="rect">
            <a:avLst/>
          </a:prstGeom>
          <a:ln w="0">
            <a:noFill/>
          </a:ln>
        </p:spPr>
      </p:pic>
      <p:pic>
        <p:nvPicPr>
          <p:cNvPr id="276" name="Ink 23" descr=""/>
          <p:cNvPicPr/>
          <p:nvPr/>
        </p:nvPicPr>
        <p:blipFill>
          <a:blip r:embed="rId23"/>
          <a:stretch/>
        </p:blipFill>
        <p:spPr>
          <a:xfrm>
            <a:off x="1216080" y="1817640"/>
            <a:ext cx="112680" cy="249120"/>
          </a:xfrm>
          <a:prstGeom prst="rect">
            <a:avLst/>
          </a:prstGeom>
          <a:ln w="0">
            <a:noFill/>
          </a:ln>
        </p:spPr>
      </p:pic>
      <p:pic>
        <p:nvPicPr>
          <p:cNvPr id="277" name="Ink 24" descr=""/>
          <p:cNvPicPr/>
          <p:nvPr/>
        </p:nvPicPr>
        <p:blipFill>
          <a:blip r:embed="rId24"/>
          <a:stretch/>
        </p:blipFill>
        <p:spPr>
          <a:xfrm>
            <a:off x="1373040" y="1481040"/>
            <a:ext cx="37332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60436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d-Type of Automation related to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34"/>
          <p:cNvGrpSpPr/>
          <p:nvPr/>
        </p:nvGrpSpPr>
        <p:grpSpPr>
          <a:xfrm>
            <a:off x="247680" y="1066680"/>
            <a:ext cx="9410400" cy="5489640"/>
            <a:chOff x="247680" y="1066680"/>
            <a:chExt cx="9410400" cy="5489640"/>
          </a:xfrm>
        </p:grpSpPr>
        <p:sp>
          <p:nvSpPr>
            <p:cNvPr id="280" name="Text Box 23"/>
            <p:cNvSpPr/>
            <p:nvPr/>
          </p:nvSpPr>
          <p:spPr>
            <a:xfrm>
              <a:off x="247680" y="5730840"/>
              <a:ext cx="941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Types of Automation as a Function of Production volume and product Varie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Group 33"/>
            <p:cNvGrpSpPr/>
            <p:nvPr/>
          </p:nvGrpSpPr>
          <p:grpSpPr>
            <a:xfrm>
              <a:off x="317160" y="1066680"/>
              <a:ext cx="8928000" cy="4650480"/>
              <a:chOff x="317160" y="1066680"/>
              <a:chExt cx="8928000" cy="4650480"/>
            </a:xfrm>
          </p:grpSpPr>
          <p:sp>
            <p:nvSpPr>
              <p:cNvPr id="282" name="Line 19"/>
              <p:cNvSpPr/>
              <p:nvPr/>
            </p:nvSpPr>
            <p:spPr>
              <a:xfrm>
                <a:off x="823680" y="1127160"/>
                <a:ext cx="1800" cy="4191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Text Box 20"/>
              <p:cNvSpPr/>
              <p:nvPr/>
            </p:nvSpPr>
            <p:spPr>
              <a:xfrm rot="16177200">
                <a:off x="-1702080" y="3127320"/>
                <a:ext cx="446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a7ce"/>
                    </a:solidFill>
                    <a:latin typeface="Times New Roman"/>
                  </a:rPr>
                  <a:t>LOW </a:t>
                </a:r>
                <a:r>
                  <a:rPr b="1" lang="en-US" sz="2000" spc="-1" strike="noStrike">
                    <a:solidFill>
                      <a:srgbClr val="00a7ce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en-US" sz="2000" spc="-1" strike="noStrike">
                    <a:solidFill>
                      <a:srgbClr val="00a7ce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cc00ff"/>
                    </a:solidFill>
                    <a:latin typeface="Times New Roman"/>
                  </a:rPr>
                  <a:t>Product Variety</a:t>
                </a:r>
                <a:r>
                  <a:rPr b="1" lang="en-US" sz="2000" spc="-1" strike="noStrike">
                    <a:solidFill>
                      <a:srgbClr val="00a7ce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a7ce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en-US" sz="2000" spc="-1" strike="noStrike">
                    <a:solidFill>
                      <a:srgbClr val="00a7ce"/>
                    </a:solidFill>
                    <a:latin typeface="Times New Roman"/>
                  </a:rPr>
                  <a:t> HIG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21"/>
              <p:cNvSpPr/>
              <p:nvPr/>
            </p:nvSpPr>
            <p:spPr>
              <a:xfrm>
                <a:off x="3528720" y="5318280"/>
                <a:ext cx="480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a7ce"/>
                    </a:solidFill>
                    <a:latin typeface="Times New Roman"/>
                  </a:rPr>
                  <a:t>LOW </a:t>
                </a:r>
                <a:r>
                  <a:rPr b="1" lang="en-US" sz="2000" spc="-1" strike="noStrike">
                    <a:solidFill>
                      <a:srgbClr val="00a7ce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en-US" sz="2000" spc="-1" strike="noStrike">
                    <a:solidFill>
                      <a:srgbClr val="cc00ff"/>
                    </a:solidFill>
                    <a:latin typeface="Times New Roman"/>
                  </a:rPr>
                  <a:t>Production Quantity</a:t>
                </a:r>
                <a:r>
                  <a:rPr b="1" lang="en-US" sz="2000" spc="-1" strike="noStrike">
                    <a:solidFill>
                      <a:srgbClr val="00a7ce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a7ce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en-US" sz="2000" spc="-1" strike="noStrike">
                    <a:solidFill>
                      <a:srgbClr val="00a7ce"/>
                    </a:solidFill>
                    <a:latin typeface="Times New Roman"/>
                  </a:rPr>
                  <a:t> HIG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Line 22"/>
              <p:cNvSpPr/>
              <p:nvPr/>
            </p:nvSpPr>
            <p:spPr>
              <a:xfrm>
                <a:off x="823680" y="5318280"/>
                <a:ext cx="84214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27"/>
              <p:cNvSpPr/>
              <p:nvPr/>
            </p:nvSpPr>
            <p:spPr>
              <a:xfrm>
                <a:off x="1568520" y="1066680"/>
                <a:ext cx="7632000" cy="3956040"/>
              </a:xfrm>
              <a:custGeom>
                <a:avLst/>
                <a:gdLst>
                  <a:gd name="textAreaLeft" fmla="*/ 0 w 7632000"/>
                  <a:gd name="textAreaRight" fmla="*/ 7632360 w 7632000"/>
                  <a:gd name="textAreaTop" fmla="*/ 0 h 3956040"/>
                  <a:gd name="textAreaBottom" fmla="*/ 3956400 h 3956040"/>
                </a:gdLst>
                <a:ahLst/>
                <a:rect l="textAreaLeft" t="textAreaTop" r="textAreaRight" b="textAreaBottom"/>
                <a:pathLst>
                  <a:path w="4438" h="2492">
                    <a:moveTo>
                      <a:pt x="0" y="0"/>
                    </a:moveTo>
                    <a:cubicBezTo>
                      <a:pt x="141" y="159"/>
                      <a:pt x="596" y="694"/>
                      <a:pt x="846" y="952"/>
                    </a:cubicBezTo>
                    <a:cubicBezTo>
                      <a:pt x="1096" y="1210"/>
                      <a:pt x="1250" y="1377"/>
                      <a:pt x="1502" y="1549"/>
                    </a:cubicBezTo>
                    <a:cubicBezTo>
                      <a:pt x="1754" y="1721"/>
                      <a:pt x="2080" y="1872"/>
                      <a:pt x="2356" y="1984"/>
                    </a:cubicBezTo>
                    <a:cubicBezTo>
                      <a:pt x="2633" y="2095"/>
                      <a:pt x="2920" y="2148"/>
                      <a:pt x="3163" y="2219"/>
                    </a:cubicBezTo>
                    <a:cubicBezTo>
                      <a:pt x="3405" y="2289"/>
                      <a:pt x="3599" y="2359"/>
                      <a:pt x="3812" y="2404"/>
                    </a:cubicBezTo>
                    <a:cubicBezTo>
                      <a:pt x="4025" y="2450"/>
                      <a:pt x="4308" y="2474"/>
                      <a:pt x="4438" y="2492"/>
                    </a:cubicBezTo>
                  </a:path>
                </a:pathLst>
              </a:custGeom>
              <a:noFill/>
              <a:ln w="2844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28"/>
              <p:cNvSpPr/>
              <p:nvPr/>
            </p:nvSpPr>
            <p:spPr>
              <a:xfrm>
                <a:off x="907920" y="1473120"/>
                <a:ext cx="2548800" cy="3765600"/>
              </a:xfrm>
              <a:custGeom>
                <a:avLst/>
                <a:gdLst>
                  <a:gd name="textAreaLeft" fmla="*/ 0 w 2548800"/>
                  <a:gd name="textAreaRight" fmla="*/ 2549160 w 2548800"/>
                  <a:gd name="textAreaTop" fmla="*/ 0 h 3765600"/>
                  <a:gd name="textAreaBottom" fmla="*/ 3765960 h 3765600"/>
                </a:gdLst>
                <a:ahLst/>
                <a:rect l="textAreaLeft" t="textAreaTop" r="textAreaRight" b="textAreaBottom"/>
                <a:pathLst>
                  <a:path w="1482" h="2372">
                    <a:moveTo>
                      <a:pt x="0" y="0"/>
                    </a:moveTo>
                    <a:cubicBezTo>
                      <a:pt x="26" y="117"/>
                      <a:pt x="103" y="508"/>
                      <a:pt x="154" y="703"/>
                    </a:cubicBezTo>
                    <a:cubicBezTo>
                      <a:pt x="205" y="898"/>
                      <a:pt x="250" y="1036"/>
                      <a:pt x="307" y="1173"/>
                    </a:cubicBezTo>
                    <a:cubicBezTo>
                      <a:pt x="364" y="1310"/>
                      <a:pt x="434" y="1426"/>
                      <a:pt x="495" y="1526"/>
                    </a:cubicBezTo>
                    <a:cubicBezTo>
                      <a:pt x="556" y="1626"/>
                      <a:pt x="618" y="1702"/>
                      <a:pt x="671" y="1773"/>
                    </a:cubicBezTo>
                    <a:cubicBezTo>
                      <a:pt x="724" y="1844"/>
                      <a:pt x="751" y="1886"/>
                      <a:pt x="812" y="1949"/>
                    </a:cubicBezTo>
                    <a:cubicBezTo>
                      <a:pt x="873" y="2012"/>
                      <a:pt x="963" y="2092"/>
                      <a:pt x="1035" y="2149"/>
                    </a:cubicBezTo>
                    <a:cubicBezTo>
                      <a:pt x="1107" y="2206"/>
                      <a:pt x="1173" y="2253"/>
                      <a:pt x="1247" y="2290"/>
                    </a:cubicBezTo>
                    <a:cubicBezTo>
                      <a:pt x="1321" y="2327"/>
                      <a:pt x="1433" y="2355"/>
                      <a:pt x="1482" y="2372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Text Box 29"/>
              <p:cNvSpPr/>
              <p:nvPr/>
            </p:nvSpPr>
            <p:spPr>
              <a:xfrm>
                <a:off x="907920" y="4815000"/>
                <a:ext cx="132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nu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Text Box 30"/>
              <p:cNvSpPr/>
              <p:nvPr/>
            </p:nvSpPr>
            <p:spPr>
              <a:xfrm>
                <a:off x="825480" y="1568520"/>
                <a:ext cx="206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rogrammable Autom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Text Box 31"/>
              <p:cNvSpPr/>
              <p:nvPr/>
            </p:nvSpPr>
            <p:spPr>
              <a:xfrm>
                <a:off x="2641320" y="3321000"/>
                <a:ext cx="1485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lexible Autom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32"/>
              <p:cNvSpPr/>
              <p:nvPr/>
            </p:nvSpPr>
            <p:spPr>
              <a:xfrm>
                <a:off x="6273720" y="4692600"/>
                <a:ext cx="156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ixed Autom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920" y="152280"/>
            <a:ext cx="937260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a- Automation: Defined </a:t>
            </a:r>
            <a:r>
              <a:rPr b="1" lang="ar-SA" sz="2800" spc="-1" strike="noStrike">
                <a:solidFill>
                  <a:srgbClr val="ff3300"/>
                </a:solidFill>
                <a:latin typeface="Times New Roman"/>
              </a:rPr>
              <a:t>تعريف الأتمت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5"/>
          <p:cNvSpPr/>
          <p:nvPr/>
        </p:nvSpPr>
        <p:spPr>
          <a:xfrm>
            <a:off x="272880" y="765000"/>
            <a:ext cx="9328320" cy="59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3300"/>
                </a:solidFill>
                <a:uFillTx/>
                <a:latin typeface="Times New Roman"/>
              </a:rPr>
              <a:t>It is the technologies concerned with the application of mechanical, electrical, and computer based system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carry the following func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مكن تعريف الأتمتة بأنها التقنية المتعلقة بالتالي</a:t>
            </a:r>
            <a:r>
              <a:rPr b="0" lang="ar-SA" sz="2200" spc="-1" strike="noStrike">
                <a:solidFill>
                  <a:srgbClr val="a09c00"/>
                </a:solidFill>
                <a:latin typeface="Times New Roman"/>
                <a:ea typeface="Simplified Arabic"/>
              </a:rPr>
              <a:t>: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389160" algn="just">
              <a:spcBef>
                <a:spcPts val="2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peration and control of production activities without interference of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389160" algn="just" rtl="1">
              <a:spcBef>
                <a:spcPts val="2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</a:rPr>
              <a:t>التشغيل والتحكم لمجموعة من العمليات التسلسلية دون تدخل من الإنسان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389160" algn="just">
              <a:spcBef>
                <a:spcPts val="2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djusting and controlling operating condition as requ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389160" algn="just" rtl="1">
              <a:spcBef>
                <a:spcPts val="3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</a:rPr>
              <a:t>القيام بتعديل وضبط ظروف تشغيل العمليات وفقا  لمتطلبات التصنيع.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hese technologies include hardware and software such 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Times New Roman"/>
              </a:rPr>
              <a:t>حيث تتضمن هذه التقنيات العديد من عتاد وبرامج مثل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tor actuators and mechanisms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آليات ومحركات الحركة الأوتوماتيكية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mputer and processing units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أجهزة الحاسب والمعالجات الحاسب الدقيقة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asuring and monitoring equipment and programmable controller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أجهزة للقياس والاستشعار والتحكم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perating and analysis Programming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برامج التشغيل والمقارنة والتحليل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وغيرها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7000" y="152280"/>
            <a:ext cx="906156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e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exibility in Automa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رونة أتمتة نظم التصني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82440" y="5472000"/>
            <a:ext cx="96584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c00ae"/>
                </a:solidFill>
                <a:uFillTx/>
                <a:latin typeface="Times New Roman"/>
              </a:rPr>
              <a:t>Flexibility and Productivity of Various Manufactur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0"/>
                </a:solidFill>
                <a:latin typeface="Times New Roman"/>
              </a:rPr>
              <a:t>Overlapping between Systems due to the Possibility of application of various levels of Automation to the systems</a:t>
            </a:r>
            <a:r>
              <a:rPr b="1" lang="en-US" sz="2400" spc="-1" strike="noStrike">
                <a:solidFill>
                  <a:srgbClr val="00009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26"/>
          <p:cNvGrpSpPr/>
          <p:nvPr/>
        </p:nvGrpSpPr>
        <p:grpSpPr>
          <a:xfrm>
            <a:off x="27000" y="685800"/>
            <a:ext cx="9713520" cy="4590000"/>
            <a:chOff x="27000" y="685800"/>
            <a:chExt cx="9713520" cy="4590000"/>
          </a:xfrm>
        </p:grpSpPr>
        <p:sp>
          <p:nvSpPr>
            <p:cNvPr id="295" name="Line 22"/>
            <p:cNvSpPr/>
            <p:nvPr/>
          </p:nvSpPr>
          <p:spPr>
            <a:xfrm>
              <a:off x="564120" y="685800"/>
              <a:ext cx="0" cy="4191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23"/>
            <p:cNvSpPr/>
            <p:nvPr/>
          </p:nvSpPr>
          <p:spPr>
            <a:xfrm rot="16177200">
              <a:off x="-1476720" y="227196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creasing Flexibility -</a:t>
              </a:r>
              <a:r>
                <a:rPr b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24"/>
            <p:cNvSpPr/>
            <p:nvPr/>
          </p:nvSpPr>
          <p:spPr>
            <a:xfrm>
              <a:off x="3564000" y="4876920"/>
              <a:ext cx="39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creasing Productivity -</a:t>
              </a:r>
              <a:r>
                <a:rPr b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25"/>
            <p:cNvSpPr/>
            <p:nvPr/>
          </p:nvSpPr>
          <p:spPr>
            <a:xfrm>
              <a:off x="564120" y="4876920"/>
              <a:ext cx="9176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Group 46"/>
          <p:cNvGrpSpPr/>
          <p:nvPr/>
        </p:nvGrpSpPr>
        <p:grpSpPr>
          <a:xfrm>
            <a:off x="355680" y="2751120"/>
            <a:ext cx="2030040" cy="809280"/>
            <a:chOff x="355680" y="2751120"/>
            <a:chExt cx="2030040" cy="809280"/>
          </a:xfrm>
        </p:grpSpPr>
        <p:sp>
          <p:nvSpPr>
            <p:cNvPr id="300" name="Text Box 27"/>
            <p:cNvSpPr/>
            <p:nvPr/>
          </p:nvSpPr>
          <p:spPr>
            <a:xfrm>
              <a:off x="355680" y="2979720"/>
              <a:ext cx="203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vent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Job 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36"/>
            <p:cNvSpPr/>
            <p:nvPr/>
          </p:nvSpPr>
          <p:spPr>
            <a:xfrm>
              <a:off x="598680" y="2751120"/>
              <a:ext cx="1502640" cy="8049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Group 54"/>
          <p:cNvGrpSpPr/>
          <p:nvPr/>
        </p:nvGrpSpPr>
        <p:grpSpPr>
          <a:xfrm>
            <a:off x="825480" y="2136600"/>
            <a:ext cx="2063520" cy="804960"/>
            <a:chOff x="825480" y="2136600"/>
            <a:chExt cx="2063520" cy="804960"/>
          </a:xfrm>
        </p:grpSpPr>
        <p:sp>
          <p:nvSpPr>
            <p:cNvPr id="303" name="Text Box 28"/>
            <p:cNvSpPr/>
            <p:nvPr/>
          </p:nvSpPr>
          <p:spPr>
            <a:xfrm>
              <a:off x="825480" y="2217600"/>
              <a:ext cx="178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and-al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C 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37"/>
            <p:cNvSpPr/>
            <p:nvPr/>
          </p:nvSpPr>
          <p:spPr>
            <a:xfrm>
              <a:off x="1031760" y="2136600"/>
              <a:ext cx="1857240" cy="8049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Group 48"/>
          <p:cNvGrpSpPr/>
          <p:nvPr/>
        </p:nvGrpSpPr>
        <p:grpSpPr>
          <a:xfrm>
            <a:off x="2263680" y="1717560"/>
            <a:ext cx="2017440" cy="804960"/>
            <a:chOff x="2263680" y="1717560"/>
            <a:chExt cx="2017440" cy="804960"/>
          </a:xfrm>
        </p:grpSpPr>
        <p:sp>
          <p:nvSpPr>
            <p:cNvPr id="306" name="Text Box 29"/>
            <p:cNvSpPr/>
            <p:nvPr/>
          </p:nvSpPr>
          <p:spPr>
            <a:xfrm>
              <a:off x="2263680" y="1781280"/>
              <a:ext cx="178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ufacturing 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39"/>
            <p:cNvSpPr/>
            <p:nvPr/>
          </p:nvSpPr>
          <p:spPr>
            <a:xfrm>
              <a:off x="2385720" y="1717560"/>
              <a:ext cx="1895400" cy="8049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49"/>
          <p:cNvGrpSpPr/>
          <p:nvPr/>
        </p:nvGrpSpPr>
        <p:grpSpPr>
          <a:xfrm>
            <a:off x="3832200" y="1150920"/>
            <a:ext cx="1780920" cy="934920"/>
            <a:chOff x="3832200" y="1150920"/>
            <a:chExt cx="1780920" cy="934920"/>
          </a:xfrm>
        </p:grpSpPr>
        <p:sp>
          <p:nvSpPr>
            <p:cNvPr id="309" name="Text Box 30"/>
            <p:cNvSpPr/>
            <p:nvPr/>
          </p:nvSpPr>
          <p:spPr>
            <a:xfrm>
              <a:off x="3832200" y="1150920"/>
              <a:ext cx="1780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lexible Manufacturing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40"/>
            <p:cNvSpPr/>
            <p:nvPr/>
          </p:nvSpPr>
          <p:spPr>
            <a:xfrm>
              <a:off x="3954240" y="1150920"/>
              <a:ext cx="1568160" cy="93492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Group 50"/>
          <p:cNvGrpSpPr/>
          <p:nvPr/>
        </p:nvGrpSpPr>
        <p:grpSpPr>
          <a:xfrm>
            <a:off x="5095800" y="1758960"/>
            <a:ext cx="1838160" cy="915840"/>
            <a:chOff x="5095800" y="1758960"/>
            <a:chExt cx="1838160" cy="915840"/>
          </a:xfrm>
        </p:grpSpPr>
        <p:sp>
          <p:nvSpPr>
            <p:cNvPr id="312" name="Text Box 32"/>
            <p:cNvSpPr/>
            <p:nvPr/>
          </p:nvSpPr>
          <p:spPr>
            <a:xfrm>
              <a:off x="5095800" y="1849320"/>
              <a:ext cx="1779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lexible Manufacturing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41"/>
            <p:cNvSpPr/>
            <p:nvPr/>
          </p:nvSpPr>
          <p:spPr>
            <a:xfrm>
              <a:off x="5224320" y="1758960"/>
              <a:ext cx="1709640" cy="91584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Group 51"/>
          <p:cNvGrpSpPr/>
          <p:nvPr/>
        </p:nvGrpSpPr>
        <p:grpSpPr>
          <a:xfrm>
            <a:off x="6143760" y="2446200"/>
            <a:ext cx="1780560" cy="804960"/>
            <a:chOff x="6143760" y="2446200"/>
            <a:chExt cx="1780560" cy="804960"/>
          </a:xfrm>
        </p:grpSpPr>
        <p:sp>
          <p:nvSpPr>
            <p:cNvPr id="315" name="Text Box 33"/>
            <p:cNvSpPr/>
            <p:nvPr/>
          </p:nvSpPr>
          <p:spPr>
            <a:xfrm>
              <a:off x="6143760" y="2643120"/>
              <a:ext cx="178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ufacturing Is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42"/>
            <p:cNvSpPr/>
            <p:nvPr/>
          </p:nvSpPr>
          <p:spPr>
            <a:xfrm>
              <a:off x="6274080" y="2446200"/>
              <a:ext cx="1567440" cy="8049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Group 52"/>
          <p:cNvGrpSpPr/>
          <p:nvPr/>
        </p:nvGrpSpPr>
        <p:grpSpPr>
          <a:xfrm>
            <a:off x="7099200" y="3013200"/>
            <a:ext cx="1780920" cy="804600"/>
            <a:chOff x="7099200" y="3013200"/>
            <a:chExt cx="1780920" cy="804600"/>
          </a:xfrm>
        </p:grpSpPr>
        <p:sp>
          <p:nvSpPr>
            <p:cNvPr id="318" name="Text Box 34"/>
            <p:cNvSpPr/>
            <p:nvPr/>
          </p:nvSpPr>
          <p:spPr>
            <a:xfrm>
              <a:off x="7099200" y="3236760"/>
              <a:ext cx="178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ventional Flow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43"/>
            <p:cNvSpPr/>
            <p:nvPr/>
          </p:nvSpPr>
          <p:spPr>
            <a:xfrm>
              <a:off x="7314120" y="3013200"/>
              <a:ext cx="1566000" cy="80460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53"/>
          <p:cNvGrpSpPr/>
          <p:nvPr/>
        </p:nvGrpSpPr>
        <p:grpSpPr>
          <a:xfrm>
            <a:off x="8502480" y="3546360"/>
            <a:ext cx="1238040" cy="852120"/>
            <a:chOff x="8502480" y="3546360"/>
            <a:chExt cx="1238040" cy="852120"/>
          </a:xfrm>
        </p:grpSpPr>
        <p:sp>
          <p:nvSpPr>
            <p:cNvPr id="321" name="Text Box 35"/>
            <p:cNvSpPr/>
            <p:nvPr/>
          </p:nvSpPr>
          <p:spPr>
            <a:xfrm>
              <a:off x="8502480" y="3817800"/>
              <a:ext cx="120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ransfer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44"/>
            <p:cNvSpPr/>
            <p:nvPr/>
          </p:nvSpPr>
          <p:spPr>
            <a:xfrm>
              <a:off x="8502480" y="3546360"/>
              <a:ext cx="1238040" cy="8049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15800" y="115560"/>
            <a:ext cx="9056880" cy="53964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Reason for Automa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سباب الأتمت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9"/>
          <p:cNvSpPr/>
          <p:nvPr/>
        </p:nvSpPr>
        <p:spPr>
          <a:xfrm>
            <a:off x="130320" y="836640"/>
            <a:ext cx="9575640" cy="379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Why to autom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 productivity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زيادة الإنتاجية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duce Cost of labor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خفض التكلفة العما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tigate the effect of labor shortage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خفيف تأثير نقص العمالة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duce or eliminate routine manual and clerical task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قليص أو أزالة العمل اليدوي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worker safety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حسين سلامة العم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product quality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حسين جودة المنتجات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duce manufacturing lead time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خفيض زمن التصنيع المتقدم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omplish a process difficult to be done manually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حقيق عملية صعبة يدويا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oid the high cost of not automating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إجتناب التكلفة العالية لعدم الأتمتة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165240" y="4465800"/>
            <a:ext cx="9575640" cy="24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Why to be manu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sk is too difficult technologically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صعوبة التقنية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ort product life cycle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صر عمر منتج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ized product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منتج مخصص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meet high variation of demand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غيرات الطلب العالي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reduce risk of product failure in market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قليل المخاطرة لفشل المنتج في السوق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60436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- Dealing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io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1065240" y="1628640"/>
            <a:ext cx="7775640" cy="269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Approaches when dealing with aut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1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tomation visibility strategies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إستراتيجية إدراك الأتمتة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1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tomation Strategies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إستراتيجية أتمتة النظام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1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tomation Migration strategies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إستراتيجية إرتحال الأتمتة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1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tomating  principle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أساس الأتمت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14520" y="48960"/>
            <a:ext cx="8818560" cy="5713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-1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ion Visibility Strategy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ستراتيجية إدراك الأتمت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57240" y="1882800"/>
          <a:ext cx="5040360" cy="4054320"/>
        </p:xfrm>
        <a:graphic>
          <a:graphicData uri="http://schemas.openxmlformats.org/drawingml/2006/table">
            <a:tbl>
              <a:tblPr/>
              <a:tblGrid>
                <a:gridCol w="1152360"/>
                <a:gridCol w="1224000"/>
                <a:gridCol w="720720"/>
                <a:gridCol w="1150920"/>
                <a:gridCol w="79236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Candidate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y Automation Poss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rowSpan="3"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 rowSpan="3"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 rowSpan="3"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67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 Vari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30" name="Text Box 68"/>
          <p:cNvSpPr/>
          <p:nvPr/>
        </p:nvSpPr>
        <p:spPr>
          <a:xfrm>
            <a:off x="150840" y="762120"/>
            <a:ext cx="94107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Automatic Analysis as a Function of Product Variety, Production Volume, and Value of applying  automation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5168880" y="1541520"/>
          <a:ext cx="4753080" cy="4846680"/>
        </p:xfrm>
        <a:graphic>
          <a:graphicData uri="http://schemas.openxmlformats.org/drawingml/2006/table">
            <a:tbl>
              <a:tblPr/>
              <a:tblGrid>
                <a:gridCol w="1600200"/>
                <a:gridCol w="1513080"/>
                <a:gridCol w="1639800"/>
              </a:tblGrid>
              <a:tr h="64044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Candidate Value  Analysis for applying  auto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Candi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r Candi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e Market Sh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(&gt;6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(&lt;2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 from New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(&lt;1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(&gt;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on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(&lt;2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(&gt;6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ty Uti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(&gt;8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(&lt;7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 Market Grow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(&gt;6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(&lt;-1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de to 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60436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2- Automation Strategies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ستراتيجيات الأتمت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3" descr="msotw9_temp0"/>
          <p:cNvPicPr/>
          <p:nvPr/>
        </p:nvPicPr>
        <p:blipFill>
          <a:blip r:embed="rId1"/>
          <a:stretch/>
        </p:blipFill>
        <p:spPr>
          <a:xfrm>
            <a:off x="228600" y="1228680"/>
            <a:ext cx="4930920" cy="381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334" name="Picture 4" descr="msotw9_temp0"/>
          <p:cNvPicPr/>
          <p:nvPr/>
        </p:nvPicPr>
        <p:blipFill>
          <a:blip r:embed="rId2"/>
          <a:stretch/>
        </p:blipFill>
        <p:spPr>
          <a:xfrm>
            <a:off x="5486400" y="1228680"/>
            <a:ext cx="4098960" cy="38289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335" name="Picture 5" descr="msotw9_temp0"/>
          <p:cNvPicPr/>
          <p:nvPr/>
        </p:nvPicPr>
        <p:blipFill>
          <a:blip r:embed="rId3"/>
          <a:stretch/>
        </p:blipFill>
        <p:spPr>
          <a:xfrm>
            <a:off x="228600" y="5267160"/>
            <a:ext cx="9433080" cy="905040"/>
          </a:xfrm>
          <a:prstGeom prst="rect">
            <a:avLst/>
          </a:prstGeom>
          <a:ln w="28440">
            <a:solidFill>
              <a:srgbClr val="00009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91864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-3a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ion Migration Strategy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ستراتيجية إرتحال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أتمت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35"/>
          <p:cNvSpPr/>
          <p:nvPr/>
        </p:nvSpPr>
        <p:spPr>
          <a:xfrm>
            <a:off x="609480" y="1621440"/>
            <a:ext cx="8686800" cy="2897640"/>
          </a:xfrm>
          <a:prstGeom prst="rect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Formulating plans with phases for autom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Phase 1 –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Simplified Arabic"/>
              </a:rPr>
              <a:t>manual production: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us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when introducing new product and testing the market; quick st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Phase 2-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Simplified Arabic"/>
              </a:rPr>
              <a:t>automate Facility components: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independent cell automation (reduce labor cost and increase pro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Phase 3-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Simplified Arabic"/>
              </a:rPr>
              <a:t>automate integrated production: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ult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cell and handling automation 9production for several yea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44520" y="75960"/>
            <a:ext cx="917568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-3b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ion Migration Strategy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ستراتيجية إرتحال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أتمت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1568520" y="692280"/>
            <a:ext cx="6583320" cy="6053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44520" y="75960"/>
            <a:ext cx="917568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-3b- US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ing Principle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ساس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أتمت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609480" y="1514880"/>
            <a:ext cx="8686800" cy="3107520"/>
          </a:xfrm>
          <a:prstGeom prst="rect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spAutoFit/>
          </a:bodyPr>
          <a:p>
            <a:pPr marL="457200" indent="-45720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Deal with implementation of autom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001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Step 1 –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Simplified Arabic"/>
              </a:rPr>
              <a:t>Understand exiting process: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mprehend current process in detail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. Use work design principles (charts &amp; modeling indicating relations and operation conditions and process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001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Step 2-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Simplified Arabic"/>
              </a:rPr>
              <a:t>Simplify the process: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use work design principles to simplify and eliminate unnecessary ste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001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Phase 3-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Simplified Arabic"/>
              </a:rPr>
              <a:t>automate the process: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nsider possible forms of automation including the above strateg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929628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7b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ion Structure for information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هيكل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أتمتة المعلوم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Group 140"/>
          <p:cNvGrpSpPr/>
          <p:nvPr/>
        </p:nvGrpSpPr>
        <p:grpSpPr>
          <a:xfrm>
            <a:off x="635760" y="533520"/>
            <a:ext cx="9047880" cy="6291000"/>
            <a:chOff x="635760" y="533520"/>
            <a:chExt cx="9047880" cy="6291000"/>
          </a:xfrm>
        </p:grpSpPr>
        <p:sp>
          <p:nvSpPr>
            <p:cNvPr id="344" name="AutoShape 87"/>
            <p:cNvSpPr/>
            <p:nvPr/>
          </p:nvSpPr>
          <p:spPr>
            <a:xfrm flipV="1">
              <a:off x="4228920" y="6000120"/>
              <a:ext cx="552600" cy="323640"/>
            </a:xfrm>
            <a:prstGeom prst="leftRightArrow">
              <a:avLst>
                <a:gd name="adj1" fmla="val 50000"/>
                <a:gd name="adj2" fmla="val 3399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AutoShape 108"/>
            <p:cNvSpPr/>
            <p:nvPr/>
          </p:nvSpPr>
          <p:spPr>
            <a:xfrm flipV="1">
              <a:off x="4609800" y="5811840"/>
              <a:ext cx="5073840" cy="969840"/>
            </a:xfrm>
            <a:prstGeom prst="pie">
              <a:avLst/>
            </a:prstGeom>
            <a:solidFill>
              <a:srgbClr val="e5ffe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quipment/devic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ve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AutoShape 109"/>
            <p:cNvSpPr/>
            <p:nvPr/>
          </p:nvSpPr>
          <p:spPr>
            <a:xfrm flipV="1">
              <a:off x="5105160" y="4363200"/>
              <a:ext cx="4138560" cy="1405080"/>
            </a:xfrm>
            <a:prstGeom prst="pie">
              <a:avLst/>
            </a:prstGeom>
            <a:solidFill>
              <a:srgbClr val="f5eb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ne and Cel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110"/>
            <p:cNvSpPr/>
            <p:nvPr/>
          </p:nvSpPr>
          <p:spPr>
            <a:xfrm flipV="1">
              <a:off x="5734080" y="2437920"/>
              <a:ext cx="2876400" cy="1889280"/>
            </a:xfrm>
            <a:prstGeom prst="pie">
              <a:avLst/>
            </a:prstGeom>
            <a:solidFill>
              <a:srgbClr val="e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actor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AutoShape 111"/>
            <p:cNvSpPr/>
            <p:nvPr/>
          </p:nvSpPr>
          <p:spPr>
            <a:xfrm flipV="1">
              <a:off x="6476760" y="852840"/>
              <a:ext cx="1386000" cy="1584360"/>
            </a:xfrm>
            <a:prstGeom prst="pi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gan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19"/>
            <p:cNvGrpSpPr/>
            <p:nvPr/>
          </p:nvGrpSpPr>
          <p:grpSpPr>
            <a:xfrm>
              <a:off x="636120" y="5410080"/>
              <a:ext cx="3575520" cy="1414440"/>
              <a:chOff x="636120" y="5410080"/>
              <a:chExt cx="3575520" cy="1414440"/>
            </a:xfrm>
          </p:grpSpPr>
          <p:sp>
            <p:nvSpPr>
              <p:cNvPr id="350" name="Text Box 103"/>
              <p:cNvSpPr/>
              <p:nvPr/>
            </p:nvSpPr>
            <p:spPr>
              <a:xfrm>
                <a:off x="840600" y="6000480"/>
                <a:ext cx="3266280" cy="8240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71360" indent="-171360">
                  <a:buClr>
                    <a:srgbClr val="000000"/>
                  </a:buClr>
                  <a:buFont typeface="Times New Roman"/>
                  <a:buChar char="•"/>
                  <a:tabLst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571840"/>
                    <a:tab algn="l" pos="2857680"/>
                    <a:tab algn="l" pos="3143160"/>
                    <a:tab algn="l" pos="3429000"/>
                    <a:tab algn="l" pos="3714840"/>
                    <a:tab algn="l" pos="4000680"/>
                    <a:tab algn="l" pos="4286160"/>
                    <a:tab algn="l" pos="4572000"/>
                    <a:tab algn="l" pos="4857840"/>
                    <a:tab algn="l" pos="5143680"/>
                    <a:tab algn="l" pos="5429160"/>
                    <a:tab algn="l" pos="57150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Operating and control of equipment </a:t>
                </a:r>
                <a:r>
                  <a:rPr b="1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تنفيذ والسيطرةعلى المعدات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Arc 113"/>
              <p:cNvSpPr/>
              <p:nvPr/>
            </p:nvSpPr>
            <p:spPr>
              <a:xfrm flipV="1">
                <a:off x="683640" y="5410080"/>
                <a:ext cx="3482640" cy="573120"/>
              </a:xfrm>
              <a:custGeom>
                <a:avLst/>
                <a:gdLst>
                  <a:gd name="textAreaLeft" fmla="*/ 0 w 3482640"/>
                  <a:gd name="textAreaRight" fmla="*/ 3483000 w 3482640"/>
                  <a:gd name="textAreaTop" fmla="*/ 360 h 573120"/>
                  <a:gd name="textAreaBottom" fmla="*/ 573840 h 573120"/>
                </a:gdLst>
                <a:ahLst/>
                <a:rect l="textAreaLeft" t="textAreaTop" r="textAreaRight" b="textAreaBottom"/>
                <a:pathLst>
                  <a:path fill="none" w="31883" h="21600">
                    <a:moveTo>
                      <a:pt x="0" y="7578"/>
                    </a:moveTo>
                    <a:cubicBezTo>
                      <a:pt x="4103" y="2769"/>
                      <a:pt x="10108" y="-1"/>
                      <a:pt x="16430" y="0"/>
                    </a:cubicBezTo>
                    <a:cubicBezTo>
                      <a:pt x="22247" y="0"/>
                      <a:pt x="27818" y="2346"/>
                      <a:pt x="31882" y="6508"/>
                    </a:cubicBezTo>
                  </a:path>
                  <a:path stroke="0" w="31883" h="21600">
                    <a:moveTo>
                      <a:pt x="0" y="7578"/>
                    </a:moveTo>
                    <a:cubicBezTo>
                      <a:pt x="4103" y="2769"/>
                      <a:pt x="10108" y="-1"/>
                      <a:pt x="16430" y="0"/>
                    </a:cubicBezTo>
                    <a:cubicBezTo>
                      <a:pt x="22247" y="0"/>
                      <a:pt x="27818" y="2346"/>
                      <a:pt x="31882" y="6508"/>
                    </a:cubicBezTo>
                    <a:lnTo>
                      <a:pt x="16430" y="21600"/>
                    </a:lnTo>
                    <a:lnTo>
                      <a:pt x="0" y="7578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Arc 115"/>
              <p:cNvSpPr/>
              <p:nvPr/>
            </p:nvSpPr>
            <p:spPr>
              <a:xfrm flipV="1">
                <a:off x="683640" y="6248160"/>
                <a:ext cx="3482640" cy="573120"/>
              </a:xfrm>
              <a:custGeom>
                <a:avLst/>
                <a:gdLst>
                  <a:gd name="textAreaLeft" fmla="*/ 0 w 3482640"/>
                  <a:gd name="textAreaRight" fmla="*/ 3483000 w 3482640"/>
                  <a:gd name="textAreaTop" fmla="*/ 360 h 573120"/>
                  <a:gd name="textAreaBottom" fmla="*/ 573840 h 573120"/>
                </a:gdLst>
                <a:ahLst/>
                <a:rect l="textAreaLeft" t="textAreaTop" r="textAreaRight" b="textAreaBottom"/>
                <a:pathLst>
                  <a:path fill="none" w="32568" h="21600">
                    <a:moveTo>
                      <a:pt x="-1" y="7859"/>
                    </a:moveTo>
                    <a:cubicBezTo>
                      <a:pt x="4102" y="2882"/>
                      <a:pt x="10215" y="-1"/>
                      <a:pt x="16666" y="0"/>
                    </a:cubicBezTo>
                    <a:cubicBezTo>
                      <a:pt x="22710" y="0"/>
                      <a:pt x="28477" y="2532"/>
                      <a:pt x="32568" y="6981"/>
                    </a:cubicBezTo>
                  </a:path>
                  <a:path stroke="0" w="32568" h="21600">
                    <a:moveTo>
                      <a:pt x="-1" y="7859"/>
                    </a:moveTo>
                    <a:cubicBezTo>
                      <a:pt x="4102" y="2882"/>
                      <a:pt x="10215" y="-1"/>
                      <a:pt x="16666" y="0"/>
                    </a:cubicBezTo>
                    <a:cubicBezTo>
                      <a:pt x="22710" y="0"/>
                      <a:pt x="28477" y="2532"/>
                      <a:pt x="32568" y="6981"/>
                    </a:cubicBezTo>
                    <a:lnTo>
                      <a:pt x="16666" y="21600"/>
                    </a:lnTo>
                    <a:lnTo>
                      <a:pt x="-1" y="7859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3" name="AutoShape 116"/>
              <p:cNvCxnSpPr>
                <a:stCxn id="352" idx="0"/>
                <a:endCxn id="351" idx="0"/>
              </p:cNvCxnSpPr>
              <p:nvPr/>
            </p:nvCxnSpPr>
            <p:spPr>
              <a:xfrm flipV="1">
                <a:off x="636120" y="5782320"/>
                <a:ext cx="1080" cy="83124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</a:ln>
            </p:spPr>
          </p:cxnSp>
          <p:cxnSp>
            <p:nvCxnSpPr>
              <p:cNvPr id="354" name="AutoShape 117"/>
              <p:cNvCxnSpPr>
                <a:stCxn id="352" idx="1"/>
                <a:endCxn id="351" idx="1"/>
              </p:cNvCxnSpPr>
              <p:nvPr/>
            </p:nvCxnSpPr>
            <p:spPr>
              <a:xfrm flipV="1">
                <a:off x="4210920" y="5811120"/>
                <a:ext cx="1080" cy="82620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355" name="Group 122"/>
            <p:cNvGrpSpPr/>
            <p:nvPr/>
          </p:nvGrpSpPr>
          <p:grpSpPr>
            <a:xfrm>
              <a:off x="635760" y="3962520"/>
              <a:ext cx="3575880" cy="2435400"/>
              <a:chOff x="635760" y="3962520"/>
              <a:chExt cx="3575880" cy="2435400"/>
            </a:xfrm>
          </p:grpSpPr>
          <p:sp>
            <p:nvSpPr>
              <p:cNvPr id="356" name="Text Box 102"/>
              <p:cNvSpPr/>
              <p:nvPr/>
            </p:nvSpPr>
            <p:spPr>
              <a:xfrm>
                <a:off x="829080" y="4600440"/>
                <a:ext cx="3256200" cy="179748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5400" indent="-95400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Production control 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رقابة الإنتاج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95400" indent="-95400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Equipment monitoring 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رقابة المعدات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95400" indent="-95400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inventory control 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رقابة المستودعات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95400" indent="-95400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Performance monitoring 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رقابة الجودة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Arc 112"/>
              <p:cNvSpPr/>
              <p:nvPr/>
            </p:nvSpPr>
            <p:spPr>
              <a:xfrm flipV="1">
                <a:off x="682920" y="3962520"/>
                <a:ext cx="3483720" cy="573120"/>
              </a:xfrm>
              <a:custGeom>
                <a:avLst/>
                <a:gdLst>
                  <a:gd name="textAreaLeft" fmla="*/ 0 w 3483720"/>
                  <a:gd name="textAreaRight" fmla="*/ 3484080 w 3483720"/>
                  <a:gd name="textAreaTop" fmla="*/ 360 h 573120"/>
                  <a:gd name="textAreaBottom" fmla="*/ 573840 h 573120"/>
                </a:gdLst>
                <a:ahLst/>
                <a:rect l="textAreaLeft" t="textAreaTop" r="textAreaRight" b="textAreaBottom"/>
                <a:pathLst>
                  <a:path fill="none" w="32980" h="21600">
                    <a:moveTo>
                      <a:pt x="-1" y="7454"/>
                    </a:moveTo>
                    <a:cubicBezTo>
                      <a:pt x="4102" y="2720"/>
                      <a:pt x="10058" y="-1"/>
                      <a:pt x="16324" y="0"/>
                    </a:cubicBezTo>
                    <a:cubicBezTo>
                      <a:pt x="22768" y="0"/>
                      <a:pt x="28876" y="2877"/>
                      <a:pt x="32979" y="7847"/>
                    </a:cubicBezTo>
                  </a:path>
                  <a:path stroke="0" w="32980" h="21600">
                    <a:moveTo>
                      <a:pt x="-1" y="7454"/>
                    </a:moveTo>
                    <a:cubicBezTo>
                      <a:pt x="4102" y="2720"/>
                      <a:pt x="10058" y="-1"/>
                      <a:pt x="16324" y="0"/>
                    </a:cubicBezTo>
                    <a:cubicBezTo>
                      <a:pt x="22768" y="0"/>
                      <a:pt x="28876" y="2877"/>
                      <a:pt x="32979" y="7847"/>
                    </a:cubicBezTo>
                    <a:lnTo>
                      <a:pt x="16324" y="21600"/>
                    </a:lnTo>
                    <a:lnTo>
                      <a:pt x="-1" y="7454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8" name="AutoShape 120"/>
              <p:cNvCxnSpPr>
                <a:stCxn id="351" idx="0"/>
                <a:endCxn id="357" idx="0"/>
              </p:cNvCxnSpPr>
              <p:nvPr/>
            </p:nvCxnSpPr>
            <p:spPr>
              <a:xfrm flipH="1" flipV="1">
                <a:off x="635760" y="4338360"/>
                <a:ext cx="10440" cy="144504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</a:ln>
            </p:spPr>
          </p:cxnSp>
          <p:cxnSp>
            <p:nvCxnSpPr>
              <p:cNvPr id="359" name="AutoShape 121"/>
              <p:cNvCxnSpPr>
                <a:stCxn id="351" idx="1"/>
                <a:endCxn id="357" idx="1"/>
              </p:cNvCxnSpPr>
              <p:nvPr/>
            </p:nvCxnSpPr>
            <p:spPr>
              <a:xfrm flipV="1">
                <a:off x="4210920" y="4326840"/>
                <a:ext cx="1080" cy="148500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360" name="Group 134"/>
            <p:cNvGrpSpPr/>
            <p:nvPr/>
          </p:nvGrpSpPr>
          <p:grpSpPr>
            <a:xfrm>
              <a:off x="647640" y="533520"/>
              <a:ext cx="3562920" cy="2163600"/>
              <a:chOff x="647640" y="533520"/>
              <a:chExt cx="3562920" cy="2163600"/>
            </a:xfrm>
          </p:grpSpPr>
          <p:sp>
            <p:nvSpPr>
              <p:cNvPr id="361" name="Arc 127"/>
              <p:cNvSpPr/>
              <p:nvPr/>
            </p:nvSpPr>
            <p:spPr>
              <a:xfrm flipV="1">
                <a:off x="673560" y="674280"/>
                <a:ext cx="3524760" cy="239760"/>
              </a:xfrm>
              <a:custGeom>
                <a:avLst/>
                <a:gdLst>
                  <a:gd name="textAreaLeft" fmla="*/ 0 w 3524760"/>
                  <a:gd name="textAreaRight" fmla="*/ 3525120 w 3524760"/>
                  <a:gd name="textAreaTop" fmla="*/ 360 h 239760"/>
                  <a:gd name="textAreaBottom" fmla="*/ 240480 h 239760"/>
                </a:gdLst>
                <a:ahLst/>
                <a:rect l="textAreaLeft" t="textAreaTop" r="textAreaRight" b="textAreaBottom"/>
                <a:pathLst>
                  <a:path fill="none" w="42816" h="21600">
                    <a:moveTo>
                      <a:pt x="-22721" y="3218"/>
                    </a:moveTo>
                    <a:cubicBezTo>
                      <a:pt x="-24313" y="13785"/>
                      <a:pt x="32143" y="21599"/>
                      <a:pt x="21457" y="21600"/>
                    </a:cubicBezTo>
                    <a:cubicBezTo>
                      <a:pt x="10488" y="21600"/>
                      <a:pt x="1261" y="13378"/>
                      <a:pt x="0" y="2482"/>
                    </a:cubicBezTo>
                  </a:path>
                  <a:path stroke="0" w="42816" h="21600">
                    <a:moveTo>
                      <a:pt x="-22721" y="3218"/>
                    </a:moveTo>
                    <a:cubicBezTo>
                      <a:pt x="-24313" y="13785"/>
                      <a:pt x="32143" y="21599"/>
                      <a:pt x="21457" y="21600"/>
                    </a:cubicBezTo>
                    <a:cubicBezTo>
                      <a:pt x="10488" y="21600"/>
                      <a:pt x="1261" y="13378"/>
                      <a:pt x="0" y="2482"/>
                    </a:cubicBezTo>
                    <a:lnTo>
                      <a:pt x="21457" y="0"/>
                    </a:lnTo>
                    <a:lnTo>
                      <a:pt x="-22721" y="3218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Group 133"/>
              <p:cNvGrpSpPr/>
              <p:nvPr/>
            </p:nvGrpSpPr>
            <p:grpSpPr>
              <a:xfrm>
                <a:off x="647640" y="533520"/>
                <a:ext cx="3562920" cy="2163600"/>
                <a:chOff x="647640" y="533520"/>
                <a:chExt cx="3562920" cy="2163600"/>
              </a:xfrm>
            </p:grpSpPr>
            <p:sp>
              <p:nvSpPr>
                <p:cNvPr id="363" name="Text Box 105"/>
                <p:cNvSpPr/>
                <p:nvPr/>
              </p:nvSpPr>
              <p:spPr>
                <a:xfrm>
                  <a:off x="946800" y="762120"/>
                  <a:ext cx="3125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Simplified Arabic"/>
                    </a:rPr>
                    <a:t>Data B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4" name="Group 132"/>
                <p:cNvGrpSpPr/>
                <p:nvPr/>
              </p:nvGrpSpPr>
              <p:grpSpPr>
                <a:xfrm>
                  <a:off x="647640" y="533520"/>
                  <a:ext cx="3562920" cy="2163600"/>
                  <a:chOff x="647640" y="533520"/>
                  <a:chExt cx="3562920" cy="2163600"/>
                </a:xfrm>
              </p:grpSpPr>
              <p:sp>
                <p:nvSpPr>
                  <p:cNvPr id="365" name="Text Box 106"/>
                  <p:cNvSpPr/>
                  <p:nvPr/>
                </p:nvSpPr>
                <p:spPr>
                  <a:xfrm>
                    <a:off x="696600" y="1143000"/>
                    <a:ext cx="3501000" cy="1554120"/>
                  </a:xfrm>
                  <a:prstGeom prst="rect">
                    <a:avLst/>
                  </a:prstGeom>
                  <a:solidFill>
                    <a:srgbClr val="efe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95400" indent="-95400"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Simplified Arabic"/>
                      </a:rPr>
                      <a:t>Strategic Planning </a:t>
                    </a:r>
                    <a:r>
                      <a:rPr b="0" lang="ar-SA" sz="1600" spc="-1" strike="noStrike">
                        <a:solidFill>
                          <a:srgbClr val="000000"/>
                        </a:solidFill>
                        <a:latin typeface="Times New Roman"/>
                        <a:cs typeface="Simplified Arabic"/>
                      </a:rPr>
                      <a:t>التخطيط الاستراتيجي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95400" indent="-95400"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600" spc="-1" strike="noStrike">
                        <a:solidFill>
                          <a:srgbClr val="000000"/>
                        </a:solidFill>
                        <a:latin typeface="Times New Roman"/>
                        <a:ea typeface="Simplified Arabic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Simplified Arabic"/>
                      </a:rPr>
                      <a:t>Marketing &amp; Sale </a:t>
                    </a:r>
                    <a:r>
                      <a:rPr b="0" lang="ar-SA" sz="1600" spc="-1" strike="noStrike">
                        <a:solidFill>
                          <a:srgbClr val="000000"/>
                        </a:solidFill>
                        <a:latin typeface="Times New Roman"/>
                        <a:ea typeface="Simplified Arabic"/>
                      </a:rPr>
                      <a:t> </a:t>
                    </a:r>
                    <a:r>
                      <a:rPr b="0" lang="ar-SA" sz="1600" spc="-1" strike="noStrike">
                        <a:solidFill>
                          <a:srgbClr val="000000"/>
                        </a:solidFill>
                        <a:latin typeface="Times New Roman"/>
                        <a:cs typeface="Simplified Arabic"/>
                      </a:rPr>
                      <a:t>التسويق والمبيعات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95400" indent="-95400"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600" spc="-1" strike="noStrike">
                        <a:solidFill>
                          <a:srgbClr val="000000"/>
                        </a:solidFill>
                        <a:latin typeface="Times New Roman"/>
                        <a:ea typeface="Simplified Arabic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Simplified Arabic"/>
                      </a:rPr>
                      <a:t>Economical Analysis </a:t>
                    </a:r>
                    <a:r>
                      <a:rPr b="0" lang="ar-SA" sz="1600" spc="-1" strike="noStrike">
                        <a:solidFill>
                          <a:srgbClr val="000000"/>
                        </a:solidFill>
                        <a:latin typeface="Times New Roman"/>
                        <a:cs typeface="Simplified Arabic"/>
                      </a:rPr>
                      <a:t>التحليل الاقتصادي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95400" indent="-95400"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600" spc="-1" strike="noStrike">
                        <a:solidFill>
                          <a:srgbClr val="000000"/>
                        </a:solidFill>
                        <a:latin typeface="Times New Roman"/>
                        <a:ea typeface="Simplified Arabic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Simplified Arabic"/>
                      </a:rPr>
                      <a:t>Wages &amp; Personals </a:t>
                    </a:r>
                    <a:r>
                      <a:rPr b="0" lang="ar-SA" sz="1600" spc="-1" strike="noStrike">
                        <a:solidFill>
                          <a:srgbClr val="000000"/>
                        </a:solidFill>
                        <a:latin typeface="Times New Roman"/>
                        <a:cs typeface="Simplified Arabic"/>
                      </a:rPr>
                      <a:t>الأجور والأفراد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366" name="AutoShape 129"/>
                  <p:cNvCxnSpPr>
                    <a:stCxn id="367" idx="0"/>
                    <a:endCxn id="368" idx="0"/>
                  </p:cNvCxnSpPr>
                  <p:nvPr/>
                </p:nvCxnSpPr>
                <p:spPr>
                  <a:xfrm flipV="1">
                    <a:off x="647640" y="897840"/>
                    <a:ext cx="2880" cy="1408680"/>
                  </a:xfrm>
                  <a:prstGeom prst="straightConnector1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368" name="Arc 130"/>
                  <p:cNvSpPr/>
                  <p:nvPr/>
                </p:nvSpPr>
                <p:spPr>
                  <a:xfrm flipV="1">
                    <a:off x="696600" y="533160"/>
                    <a:ext cx="3469680" cy="573120"/>
                  </a:xfrm>
                  <a:custGeom>
                    <a:avLst/>
                    <a:gdLst>
                      <a:gd name="textAreaLeft" fmla="*/ 0 w 3469680"/>
                      <a:gd name="textAreaRight" fmla="*/ 3470040 w 3469680"/>
                      <a:gd name="textAreaTop" fmla="*/ 360 h 573120"/>
                      <a:gd name="textAreaBottom" fmla="*/ 573840 h 573120"/>
                    </a:gdLst>
                    <a:ahLst/>
                    <a:rect l="textAreaLeft" t="textAreaTop" r="textAreaRight" b="textAreaBottom"/>
                    <a:pathLst>
                      <a:path fill="none" w="32568" h="21600">
                        <a:moveTo>
                          <a:pt x="-1" y="7859"/>
                        </a:moveTo>
                        <a:cubicBezTo>
                          <a:pt x="4102" y="2882"/>
                          <a:pt x="10215" y="-1"/>
                          <a:pt x="16666" y="0"/>
                        </a:cubicBezTo>
                        <a:cubicBezTo>
                          <a:pt x="22710" y="0"/>
                          <a:pt x="28477" y="2532"/>
                          <a:pt x="32568" y="6981"/>
                        </a:cubicBezTo>
                      </a:path>
                      <a:path stroke="0" w="32568" h="21600">
                        <a:moveTo>
                          <a:pt x="-1" y="7859"/>
                        </a:moveTo>
                        <a:cubicBezTo>
                          <a:pt x="4102" y="2882"/>
                          <a:pt x="10215" y="-1"/>
                          <a:pt x="16666" y="0"/>
                        </a:cubicBezTo>
                        <a:cubicBezTo>
                          <a:pt x="22710" y="0"/>
                          <a:pt x="28477" y="2532"/>
                          <a:pt x="32568" y="6981"/>
                        </a:cubicBezTo>
                        <a:lnTo>
                          <a:pt x="16666" y="21600"/>
                        </a:lnTo>
                        <a:lnTo>
                          <a:pt x="-1" y="7859"/>
                        </a:lnTo>
                        <a:close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369" name="AutoShape 131"/>
                  <p:cNvCxnSpPr>
                    <a:stCxn id="367" idx="1"/>
                    <a:endCxn id="368" idx="1"/>
                  </p:cNvCxnSpPr>
                  <p:nvPr/>
                </p:nvCxnSpPr>
                <p:spPr>
                  <a:xfrm flipV="1">
                    <a:off x="4208040" y="921600"/>
                    <a:ext cx="2880" cy="1408680"/>
                  </a:xfrm>
                  <a:prstGeom prst="straightConnector1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</p:grpSp>
        <p:grpSp>
          <p:nvGrpSpPr>
            <p:cNvPr id="370" name="Group 135"/>
            <p:cNvGrpSpPr/>
            <p:nvPr/>
          </p:nvGrpSpPr>
          <p:grpSpPr>
            <a:xfrm>
              <a:off x="636480" y="1957320"/>
              <a:ext cx="3574440" cy="2674440"/>
              <a:chOff x="636480" y="1957320"/>
              <a:chExt cx="3574440" cy="2674440"/>
            </a:xfrm>
          </p:grpSpPr>
          <p:sp>
            <p:nvSpPr>
              <p:cNvPr id="371" name="Text Box 104"/>
              <p:cNvSpPr/>
              <p:nvPr/>
            </p:nvSpPr>
            <p:spPr>
              <a:xfrm>
                <a:off x="714240" y="2590920"/>
                <a:ext cx="3452760" cy="2040840"/>
              </a:xfrm>
              <a:prstGeom prst="rect">
                <a:avLst/>
              </a:prstGeom>
              <a:solidFill>
                <a:srgbClr val="67ff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5400" indent="-95400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Design &amp; Drafting 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تصميم والرسوم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95400" indent="-95400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Process planning 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تخطيط الأساليب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95400" indent="-95400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Programming 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برمجة المعدات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95400" indent="-95400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Tool &amp; fixture design 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تصميم أدوات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95400" indent="-95400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Material Planning 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تخطيط متطلبات المواد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95400" indent="-95400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Resource planning 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تخطيط متطلبات السعة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72" name="AutoShape 123"/>
              <p:cNvCxnSpPr>
                <a:stCxn id="357" idx="0"/>
                <a:endCxn id="367" idx="0"/>
              </p:cNvCxnSpPr>
              <p:nvPr/>
            </p:nvCxnSpPr>
            <p:spPr>
              <a:xfrm flipV="1">
                <a:off x="636480" y="2321640"/>
                <a:ext cx="18720" cy="201708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</a:ln>
            </p:spPr>
          </p:cxnSp>
          <p:sp>
            <p:nvSpPr>
              <p:cNvPr id="367" name="Arc 10"/>
              <p:cNvSpPr/>
              <p:nvPr/>
            </p:nvSpPr>
            <p:spPr>
              <a:xfrm flipV="1">
                <a:off x="701280" y="1956960"/>
                <a:ext cx="3465720" cy="573120"/>
              </a:xfrm>
              <a:custGeom>
                <a:avLst/>
                <a:gdLst>
                  <a:gd name="textAreaLeft" fmla="*/ 0 w 3465720"/>
                  <a:gd name="textAreaRight" fmla="*/ 3466080 w 3465720"/>
                  <a:gd name="textAreaTop" fmla="*/ 360 h 573120"/>
                  <a:gd name="textAreaBottom" fmla="*/ 573840 h 573120"/>
                </a:gdLst>
                <a:ahLst/>
                <a:rect l="textAreaLeft" t="textAreaTop" r="textAreaRight" b="textAreaBottom"/>
                <a:pathLst>
                  <a:path fill="none" w="32568" h="21600">
                    <a:moveTo>
                      <a:pt x="-1" y="7859"/>
                    </a:moveTo>
                    <a:cubicBezTo>
                      <a:pt x="4102" y="2882"/>
                      <a:pt x="10215" y="-1"/>
                      <a:pt x="16666" y="0"/>
                    </a:cubicBezTo>
                    <a:cubicBezTo>
                      <a:pt x="22710" y="0"/>
                      <a:pt x="28477" y="2532"/>
                      <a:pt x="32568" y="6981"/>
                    </a:cubicBezTo>
                  </a:path>
                  <a:path stroke="0" w="32568" h="21600">
                    <a:moveTo>
                      <a:pt x="-1" y="7859"/>
                    </a:moveTo>
                    <a:cubicBezTo>
                      <a:pt x="4102" y="2882"/>
                      <a:pt x="10215" y="-1"/>
                      <a:pt x="16666" y="0"/>
                    </a:cubicBezTo>
                    <a:cubicBezTo>
                      <a:pt x="22710" y="0"/>
                      <a:pt x="28477" y="2532"/>
                      <a:pt x="32568" y="6981"/>
                    </a:cubicBezTo>
                    <a:lnTo>
                      <a:pt x="16666" y="21600"/>
                    </a:lnTo>
                    <a:lnTo>
                      <a:pt x="-1" y="7859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73" name="AutoShape 124"/>
              <p:cNvCxnSpPr>
                <a:stCxn id="357" idx="1"/>
                <a:endCxn id="367" idx="1"/>
              </p:cNvCxnSpPr>
              <p:nvPr/>
            </p:nvCxnSpPr>
            <p:spPr>
              <a:xfrm flipV="1">
                <a:off x="4200120" y="2345760"/>
                <a:ext cx="11160" cy="198180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74" name="AutoShape 137"/>
            <p:cNvSpPr/>
            <p:nvPr/>
          </p:nvSpPr>
          <p:spPr>
            <a:xfrm flipV="1">
              <a:off x="4228920" y="4952880"/>
              <a:ext cx="1143000" cy="324000"/>
            </a:xfrm>
            <a:prstGeom prst="leftRightArrow">
              <a:avLst>
                <a:gd name="adj1" fmla="val 50000"/>
                <a:gd name="adj2" fmla="val 70229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AutoShape 138"/>
            <p:cNvSpPr/>
            <p:nvPr/>
          </p:nvSpPr>
          <p:spPr>
            <a:xfrm flipV="1">
              <a:off x="4224240" y="3219480"/>
              <a:ext cx="1814400" cy="324000"/>
            </a:xfrm>
            <a:prstGeom prst="leftRightArrow">
              <a:avLst>
                <a:gd name="adj1" fmla="val 50000"/>
                <a:gd name="adj2" fmla="val 11148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AutoShape 139"/>
            <p:cNvSpPr/>
            <p:nvPr/>
          </p:nvSpPr>
          <p:spPr>
            <a:xfrm flipV="1">
              <a:off x="4224240" y="1519200"/>
              <a:ext cx="2538360" cy="324000"/>
            </a:xfrm>
            <a:prstGeom prst="leftRightArrow">
              <a:avLst>
                <a:gd name="adj1" fmla="val 50000"/>
                <a:gd name="adj2" fmla="val 15596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60436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7c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ion Structu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or Hardwa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هيكل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أتمتة العتا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Group 136"/>
          <p:cNvGrpSpPr/>
          <p:nvPr/>
        </p:nvGrpSpPr>
        <p:grpSpPr>
          <a:xfrm>
            <a:off x="0" y="3403440"/>
            <a:ext cx="6395760" cy="1626120"/>
            <a:chOff x="0" y="3403440"/>
            <a:chExt cx="6395760" cy="1626120"/>
          </a:xfrm>
        </p:grpSpPr>
        <p:sp>
          <p:nvSpPr>
            <p:cNvPr id="379" name="Rectangle 5"/>
            <p:cNvSpPr/>
            <p:nvPr/>
          </p:nvSpPr>
          <p:spPr>
            <a:xfrm>
              <a:off x="3155400" y="4521240"/>
              <a:ext cx="1279080" cy="355680"/>
            </a:xfrm>
            <a:prstGeom prst="rect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Mic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6"/>
            <p:cNvSpPr/>
            <p:nvPr/>
          </p:nvSpPr>
          <p:spPr>
            <a:xfrm>
              <a:off x="1705680" y="4535640"/>
              <a:ext cx="1279080" cy="355320"/>
            </a:xfrm>
            <a:prstGeom prst="rect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Mic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7"/>
            <p:cNvSpPr/>
            <p:nvPr/>
          </p:nvSpPr>
          <p:spPr>
            <a:xfrm>
              <a:off x="0" y="4478400"/>
              <a:ext cx="1449720" cy="398520"/>
            </a:xfrm>
            <a:prstGeom prst="rect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Mic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Oval 14"/>
            <p:cNvSpPr/>
            <p:nvPr/>
          </p:nvSpPr>
          <p:spPr>
            <a:xfrm>
              <a:off x="0" y="3733920"/>
              <a:ext cx="4681440" cy="60948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16"/>
            <p:cNvSpPr/>
            <p:nvPr/>
          </p:nvSpPr>
          <p:spPr>
            <a:xfrm>
              <a:off x="938160" y="3733920"/>
              <a:ext cx="849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17"/>
            <p:cNvSpPr/>
            <p:nvPr/>
          </p:nvSpPr>
          <p:spPr>
            <a:xfrm>
              <a:off x="3325680" y="3733920"/>
              <a:ext cx="85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18"/>
            <p:cNvSpPr/>
            <p:nvPr/>
          </p:nvSpPr>
          <p:spPr>
            <a:xfrm>
              <a:off x="2302560" y="4191120"/>
              <a:ext cx="85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19"/>
            <p:cNvSpPr/>
            <p:nvPr/>
          </p:nvSpPr>
          <p:spPr>
            <a:xfrm flipH="1">
              <a:off x="682200" y="4114800"/>
              <a:ext cx="849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21"/>
            <p:cNvSpPr/>
            <p:nvPr/>
          </p:nvSpPr>
          <p:spPr>
            <a:xfrm>
              <a:off x="3752280" y="4114800"/>
              <a:ext cx="849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AutoShape 37"/>
            <p:cNvCxnSpPr>
              <a:stCxn id="389" idx="0"/>
              <a:endCxn id="381" idx="2"/>
            </p:cNvCxnSpPr>
            <p:nvPr/>
          </p:nvCxnSpPr>
          <p:spPr>
            <a:xfrm flipV="1">
              <a:off x="724680" y="4890600"/>
              <a:ext cx="1080" cy="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0" name="AutoShape 38"/>
            <p:cNvCxnSpPr>
              <a:stCxn id="380" idx="2"/>
              <a:endCxn id="391" idx="0"/>
            </p:cNvCxnSpPr>
            <p:nvPr/>
          </p:nvCxnSpPr>
          <p:spPr>
            <a:xfrm>
              <a:off x="2344680" y="4905360"/>
              <a:ext cx="1080" cy="12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2" name="AutoShape 39"/>
            <p:cNvCxnSpPr>
              <a:stCxn id="393" idx="0"/>
              <a:endCxn id="379" idx="2"/>
            </p:cNvCxnSpPr>
            <p:nvPr/>
          </p:nvCxnSpPr>
          <p:spPr>
            <a:xfrm flipV="1">
              <a:off x="3794760" y="4890600"/>
              <a:ext cx="1080" cy="13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4" name="AutoShape 40"/>
            <p:cNvCxnSpPr>
              <a:stCxn id="385" idx="2"/>
              <a:endCxn id="380" idx="0"/>
            </p:cNvCxnSpPr>
            <p:nvPr/>
          </p:nvCxnSpPr>
          <p:spPr>
            <a:xfrm>
              <a:off x="2344680" y="4419720"/>
              <a:ext cx="1080" cy="102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5" name="AutoShape 41"/>
            <p:cNvCxnSpPr>
              <a:stCxn id="387" idx="2"/>
              <a:endCxn id="379" idx="0"/>
            </p:cNvCxnSpPr>
            <p:nvPr/>
          </p:nvCxnSpPr>
          <p:spPr>
            <a:xfrm>
              <a:off x="3794760" y="4343400"/>
              <a:ext cx="1080" cy="16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6" name="AutoShape 42"/>
            <p:cNvCxnSpPr>
              <a:stCxn id="397" idx="2"/>
              <a:endCxn id="383" idx="0"/>
            </p:cNvCxnSpPr>
            <p:nvPr/>
          </p:nvCxnSpPr>
          <p:spPr>
            <a:xfrm>
              <a:off x="980640" y="3595680"/>
              <a:ext cx="1080" cy="13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8" name="AutoShape 43"/>
            <p:cNvCxnSpPr>
              <a:stCxn id="399" idx="2"/>
              <a:endCxn id="384" idx="0"/>
            </p:cNvCxnSpPr>
            <p:nvPr/>
          </p:nvCxnSpPr>
          <p:spPr>
            <a:xfrm>
              <a:off x="3368160" y="3595680"/>
              <a:ext cx="1080" cy="13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00" name="Text Box 50"/>
            <p:cNvSpPr/>
            <p:nvPr/>
          </p:nvSpPr>
          <p:spPr>
            <a:xfrm>
              <a:off x="981000" y="3844800"/>
              <a:ext cx="251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Floor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Text Box 67"/>
            <p:cNvSpPr/>
            <p:nvPr/>
          </p:nvSpPr>
          <p:spPr>
            <a:xfrm>
              <a:off x="4349160" y="3403440"/>
              <a:ext cx="2046600" cy="337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LAN </a:t>
              </a: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شبكة محلية</a:t>
              </a: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2" name="AutoShape 69"/>
            <p:cNvCxnSpPr>
              <a:stCxn id="386" idx="2"/>
              <a:endCxn id="381" idx="0"/>
            </p:cNvCxnSpPr>
            <p:nvPr/>
          </p:nvCxnSpPr>
          <p:spPr>
            <a:xfrm>
              <a:off x="724680" y="4341600"/>
              <a:ext cx="1080" cy="122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03" name="AutoShape 72"/>
            <p:cNvSpPr/>
            <p:nvPr/>
          </p:nvSpPr>
          <p:spPr>
            <a:xfrm>
              <a:off x="4946400" y="4241880"/>
              <a:ext cx="1364400" cy="446040"/>
            </a:xfrm>
            <a:prstGeom prst="leftRightArrow">
              <a:avLst>
                <a:gd name="adj1" fmla="val 50000"/>
                <a:gd name="adj2" fmla="val 60895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132"/>
          <p:cNvGrpSpPr/>
          <p:nvPr/>
        </p:nvGrpSpPr>
        <p:grpSpPr>
          <a:xfrm>
            <a:off x="1219320" y="685800"/>
            <a:ext cx="6095880" cy="914400"/>
            <a:chOff x="1219320" y="685800"/>
            <a:chExt cx="6095880" cy="914400"/>
          </a:xfrm>
        </p:grpSpPr>
        <p:sp>
          <p:nvSpPr>
            <p:cNvPr id="405" name="Line 44"/>
            <p:cNvSpPr/>
            <p:nvPr/>
          </p:nvSpPr>
          <p:spPr>
            <a:xfrm>
              <a:off x="1219320" y="1447920"/>
              <a:ext cx="32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45"/>
            <p:cNvSpPr/>
            <p:nvPr/>
          </p:nvSpPr>
          <p:spPr>
            <a:xfrm>
              <a:off x="1828800" y="685800"/>
              <a:ext cx="1447920" cy="5335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Co.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46"/>
            <p:cNvSpPr/>
            <p:nvPr/>
          </p:nvSpPr>
          <p:spPr>
            <a:xfrm>
              <a:off x="2514600" y="1371600"/>
              <a:ext cx="76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47"/>
            <p:cNvSpPr/>
            <p:nvPr/>
          </p:nvSpPr>
          <p:spPr>
            <a:xfrm>
              <a:off x="1523880" y="1371600"/>
              <a:ext cx="76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68"/>
            <p:cNvSpPr/>
            <p:nvPr/>
          </p:nvSpPr>
          <p:spPr>
            <a:xfrm>
              <a:off x="5105520" y="766800"/>
              <a:ext cx="1981080" cy="337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WAN </a:t>
              </a: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شبكة واسعة</a:t>
              </a: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AutoShape 70"/>
            <p:cNvSpPr/>
            <p:nvPr/>
          </p:nvSpPr>
          <p:spPr>
            <a:xfrm>
              <a:off x="5029200" y="1295280"/>
              <a:ext cx="2286000" cy="304920"/>
            </a:xfrm>
            <a:prstGeom prst="leftRightArrow">
              <a:avLst>
                <a:gd name="adj1" fmla="val 50000"/>
                <a:gd name="adj2" fmla="val 14924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1" name="AutoShape 82"/>
            <p:cNvCxnSpPr>
              <a:stCxn id="408" idx="0"/>
            </p:cNvCxnSpPr>
            <p:nvPr/>
          </p:nvCxnSpPr>
          <p:spPr>
            <a:xfrm flipV="1">
              <a:off x="1562040" y="1142280"/>
              <a:ext cx="388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2" name="AutoShape 83"/>
            <p:cNvCxnSpPr>
              <a:stCxn id="407" idx="0"/>
              <a:endCxn id="406" idx="2"/>
            </p:cNvCxnSpPr>
            <p:nvPr/>
          </p:nvCxnSpPr>
          <p:spPr>
            <a:xfrm flipV="1">
              <a:off x="2552400" y="1218600"/>
              <a:ext cx="1080" cy="153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413" name="Group 133"/>
          <p:cNvGrpSpPr/>
          <p:nvPr/>
        </p:nvGrpSpPr>
        <p:grpSpPr>
          <a:xfrm>
            <a:off x="361800" y="1600200"/>
            <a:ext cx="6629040" cy="1981080"/>
            <a:chOff x="361800" y="1600200"/>
            <a:chExt cx="6629040" cy="1981080"/>
          </a:xfrm>
        </p:grpSpPr>
        <p:sp>
          <p:nvSpPr>
            <p:cNvPr id="399" name="Rectangle 15"/>
            <p:cNvSpPr/>
            <p:nvPr/>
          </p:nvSpPr>
          <p:spPr>
            <a:xfrm>
              <a:off x="2966040" y="3186000"/>
              <a:ext cx="1026000" cy="3952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51"/>
            <p:cNvSpPr/>
            <p:nvPr/>
          </p:nvSpPr>
          <p:spPr>
            <a:xfrm>
              <a:off x="677520" y="3186000"/>
              <a:ext cx="1183680" cy="3952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AutoShape 71"/>
            <p:cNvSpPr/>
            <p:nvPr/>
          </p:nvSpPr>
          <p:spPr>
            <a:xfrm flipV="1">
              <a:off x="4939200" y="2498040"/>
              <a:ext cx="2051640" cy="320760"/>
            </a:xfrm>
            <a:prstGeom prst="leftRightArrow">
              <a:avLst>
                <a:gd name="adj1" fmla="val 50000"/>
                <a:gd name="adj2" fmla="val 12733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74"/>
            <p:cNvSpPr/>
            <p:nvPr/>
          </p:nvSpPr>
          <p:spPr>
            <a:xfrm>
              <a:off x="361800" y="2286000"/>
              <a:ext cx="4261680" cy="60948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75"/>
            <p:cNvSpPr/>
            <p:nvPr/>
          </p:nvSpPr>
          <p:spPr>
            <a:xfrm>
              <a:off x="2334600" y="2133720"/>
              <a:ext cx="7884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76"/>
            <p:cNvSpPr/>
            <p:nvPr/>
          </p:nvSpPr>
          <p:spPr>
            <a:xfrm>
              <a:off x="1230120" y="2666880"/>
              <a:ext cx="7848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77"/>
            <p:cNvSpPr/>
            <p:nvPr/>
          </p:nvSpPr>
          <p:spPr>
            <a:xfrm>
              <a:off x="3439440" y="2666880"/>
              <a:ext cx="7884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9" name="AutoShape 78"/>
            <p:cNvCxnSpPr>
              <a:stCxn id="418" idx="2"/>
              <a:endCxn id="399" idx="0"/>
            </p:cNvCxnSpPr>
            <p:nvPr/>
          </p:nvCxnSpPr>
          <p:spPr>
            <a:xfrm>
              <a:off x="3478680" y="2895480"/>
              <a:ext cx="1080" cy="27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0" name="AutoShape 79"/>
            <p:cNvCxnSpPr>
              <a:stCxn id="417" idx="2"/>
              <a:endCxn id="397" idx="0"/>
            </p:cNvCxnSpPr>
            <p:nvPr/>
          </p:nvCxnSpPr>
          <p:spPr>
            <a:xfrm>
              <a:off x="1269000" y="2895480"/>
              <a:ext cx="1080" cy="27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21" name="Text Box 80"/>
            <p:cNvSpPr/>
            <p:nvPr/>
          </p:nvSpPr>
          <p:spPr>
            <a:xfrm>
              <a:off x="5096880" y="1828800"/>
              <a:ext cx="1815120" cy="337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LAN </a:t>
              </a: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شبكة محلية</a:t>
              </a: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2" name="AutoShape 81"/>
            <p:cNvCxnSpPr>
              <a:stCxn id="407" idx="2"/>
              <a:endCxn id="416" idx="0"/>
            </p:cNvCxnSpPr>
            <p:nvPr/>
          </p:nvCxnSpPr>
          <p:spPr>
            <a:xfrm>
              <a:off x="2373840" y="1600200"/>
              <a:ext cx="10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23" name="Text Box 88"/>
            <p:cNvSpPr/>
            <p:nvPr/>
          </p:nvSpPr>
          <p:spPr>
            <a:xfrm>
              <a:off x="1387800" y="2438280"/>
              <a:ext cx="189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Factory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120"/>
          <p:cNvGrpSpPr/>
          <p:nvPr/>
        </p:nvGrpSpPr>
        <p:grpSpPr>
          <a:xfrm>
            <a:off x="5486400" y="690120"/>
            <a:ext cx="4336920" cy="5862600"/>
            <a:chOff x="5486400" y="690120"/>
            <a:chExt cx="4336920" cy="5862600"/>
          </a:xfrm>
        </p:grpSpPr>
        <p:sp>
          <p:nvSpPr>
            <p:cNvPr id="425" name="AutoShape 115"/>
            <p:cNvSpPr/>
            <p:nvPr/>
          </p:nvSpPr>
          <p:spPr>
            <a:xfrm flipV="1">
              <a:off x="5486400" y="5587200"/>
              <a:ext cx="4336920" cy="965160"/>
            </a:xfrm>
            <a:prstGeom prst="pie">
              <a:avLst/>
            </a:prstGeom>
            <a:solidFill>
              <a:srgbClr val="e5ffe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quipment/devi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ve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AutoShape 116"/>
            <p:cNvSpPr/>
            <p:nvPr/>
          </p:nvSpPr>
          <p:spPr>
            <a:xfrm flipV="1">
              <a:off x="5843160" y="4114080"/>
              <a:ext cx="3624120" cy="1523880"/>
            </a:xfrm>
            <a:prstGeom prst="pie">
              <a:avLst/>
            </a:prstGeom>
            <a:solidFill>
              <a:srgbClr val="f5eb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ne and Cell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AutoShape 117"/>
            <p:cNvSpPr/>
            <p:nvPr/>
          </p:nvSpPr>
          <p:spPr>
            <a:xfrm flipV="1">
              <a:off x="6395400" y="2361960"/>
              <a:ext cx="2518200" cy="1828800"/>
            </a:xfrm>
            <a:prstGeom prst="pie">
              <a:avLst/>
            </a:prstGeom>
            <a:solidFill>
              <a:srgbClr val="e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ctory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AutoShape 118"/>
            <p:cNvSpPr/>
            <p:nvPr/>
          </p:nvSpPr>
          <p:spPr>
            <a:xfrm flipV="1">
              <a:off x="7087680" y="689400"/>
              <a:ext cx="1133640" cy="1671480"/>
            </a:xfrm>
            <a:prstGeom prst="pi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Group 137"/>
          <p:cNvGrpSpPr/>
          <p:nvPr/>
        </p:nvGrpSpPr>
        <p:grpSpPr>
          <a:xfrm>
            <a:off x="361800" y="4851360"/>
            <a:ext cx="5486400" cy="1625760"/>
            <a:chOff x="361800" y="4851360"/>
            <a:chExt cx="5486400" cy="1625760"/>
          </a:xfrm>
        </p:grpSpPr>
        <p:sp>
          <p:nvSpPr>
            <p:cNvPr id="430" name="Oval 3"/>
            <p:cNvSpPr/>
            <p:nvPr/>
          </p:nvSpPr>
          <p:spPr>
            <a:xfrm>
              <a:off x="2038320" y="5105520"/>
              <a:ext cx="1219320" cy="60948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M/c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4"/>
            <p:cNvSpPr/>
            <p:nvPr/>
          </p:nvSpPr>
          <p:spPr>
            <a:xfrm>
              <a:off x="590400" y="5105520"/>
              <a:ext cx="1295640" cy="60948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M/c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8"/>
            <p:cNvSpPr/>
            <p:nvPr/>
          </p:nvSpPr>
          <p:spPr>
            <a:xfrm>
              <a:off x="4172040" y="5943600"/>
              <a:ext cx="685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20"/>
            <p:cNvSpPr/>
            <p:nvPr/>
          </p:nvSpPr>
          <p:spPr>
            <a:xfrm>
              <a:off x="666720" y="5486400"/>
              <a:ext cx="76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22"/>
            <p:cNvSpPr/>
            <p:nvPr/>
          </p:nvSpPr>
          <p:spPr>
            <a:xfrm>
              <a:off x="3409920" y="5181480"/>
              <a:ext cx="1219320" cy="60984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M/c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23"/>
            <p:cNvSpPr/>
            <p:nvPr/>
          </p:nvSpPr>
          <p:spPr>
            <a:xfrm>
              <a:off x="3638520" y="5562720"/>
              <a:ext cx="76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24"/>
            <p:cNvSpPr/>
            <p:nvPr/>
          </p:nvSpPr>
          <p:spPr>
            <a:xfrm>
              <a:off x="4476600" y="5486400"/>
              <a:ext cx="76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25"/>
            <p:cNvSpPr/>
            <p:nvPr/>
          </p:nvSpPr>
          <p:spPr>
            <a:xfrm>
              <a:off x="2952720" y="5562720"/>
              <a:ext cx="76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26"/>
            <p:cNvSpPr/>
            <p:nvPr/>
          </p:nvSpPr>
          <p:spPr>
            <a:xfrm>
              <a:off x="2190600" y="5562720"/>
              <a:ext cx="76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27"/>
            <p:cNvSpPr/>
            <p:nvPr/>
          </p:nvSpPr>
          <p:spPr>
            <a:xfrm>
              <a:off x="1428840" y="5562720"/>
              <a:ext cx="759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0" name="AutoShape 28"/>
            <p:cNvCxnSpPr>
              <a:stCxn id="433" idx="2"/>
              <a:endCxn id="441" idx="0"/>
            </p:cNvCxnSpPr>
            <p:nvPr/>
          </p:nvCxnSpPr>
          <p:spPr>
            <a:xfrm>
              <a:off x="704520" y="571464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2" name="AutoShape 29"/>
            <p:cNvCxnSpPr>
              <a:stCxn id="439" idx="2"/>
              <a:endCxn id="443" idx="0"/>
            </p:cNvCxnSpPr>
            <p:nvPr/>
          </p:nvCxnSpPr>
          <p:spPr>
            <a:xfrm>
              <a:off x="1466640" y="579096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4" name="AutoShape 30"/>
            <p:cNvCxnSpPr>
              <a:stCxn id="438" idx="2"/>
              <a:endCxn id="445" idx="0"/>
            </p:cNvCxnSpPr>
            <p:nvPr/>
          </p:nvCxnSpPr>
          <p:spPr>
            <a:xfrm>
              <a:off x="2228400" y="579096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6" name="AutoShape 31"/>
            <p:cNvCxnSpPr>
              <a:stCxn id="437" idx="2"/>
              <a:endCxn id="447" idx="0"/>
            </p:cNvCxnSpPr>
            <p:nvPr/>
          </p:nvCxnSpPr>
          <p:spPr>
            <a:xfrm>
              <a:off x="2990520" y="579096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8" name="AutoShape 32"/>
            <p:cNvCxnSpPr>
              <a:stCxn id="435" idx="2"/>
            </p:cNvCxnSpPr>
            <p:nvPr/>
          </p:nvCxnSpPr>
          <p:spPr>
            <a:xfrm>
              <a:off x="3676680" y="579096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9" name="AutoShape 33"/>
            <p:cNvCxnSpPr>
              <a:stCxn id="436" idx="2"/>
              <a:endCxn id="432" idx="0"/>
            </p:cNvCxnSpPr>
            <p:nvPr/>
          </p:nvCxnSpPr>
          <p:spPr>
            <a:xfrm>
              <a:off x="4514400" y="571464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93" name="Rectangle 34"/>
            <p:cNvSpPr/>
            <p:nvPr/>
          </p:nvSpPr>
          <p:spPr>
            <a:xfrm>
              <a:off x="3943440" y="5029200"/>
              <a:ext cx="759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>
              <a:off x="2647800" y="5029200"/>
              <a:ext cx="76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36"/>
            <p:cNvSpPr/>
            <p:nvPr/>
          </p:nvSpPr>
          <p:spPr>
            <a:xfrm>
              <a:off x="1200240" y="4952880"/>
              <a:ext cx="759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Text Box 65"/>
            <p:cNvSpPr/>
            <p:nvPr/>
          </p:nvSpPr>
          <p:spPr>
            <a:xfrm>
              <a:off x="4773600" y="4851360"/>
              <a:ext cx="1074600" cy="580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Bus </a:t>
              </a: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ناقل حقلي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AutoShape 73"/>
            <p:cNvSpPr/>
            <p:nvPr/>
          </p:nvSpPr>
          <p:spPr>
            <a:xfrm flipV="1">
              <a:off x="5010120" y="5942880"/>
              <a:ext cx="609480" cy="304920"/>
            </a:xfrm>
            <a:prstGeom prst="leftRightArrow">
              <a:avLst>
                <a:gd name="adj1" fmla="val 50000"/>
                <a:gd name="adj2" fmla="val 3979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127"/>
            <p:cNvSpPr/>
            <p:nvPr/>
          </p:nvSpPr>
          <p:spPr>
            <a:xfrm>
              <a:off x="3409920" y="5943600"/>
              <a:ext cx="685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128"/>
            <p:cNvSpPr/>
            <p:nvPr/>
          </p:nvSpPr>
          <p:spPr>
            <a:xfrm>
              <a:off x="2647800" y="5943600"/>
              <a:ext cx="685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29"/>
            <p:cNvSpPr/>
            <p:nvPr/>
          </p:nvSpPr>
          <p:spPr>
            <a:xfrm>
              <a:off x="1886040" y="5943600"/>
              <a:ext cx="685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130"/>
            <p:cNvSpPr/>
            <p:nvPr/>
          </p:nvSpPr>
          <p:spPr>
            <a:xfrm>
              <a:off x="1123920" y="5943600"/>
              <a:ext cx="685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31"/>
            <p:cNvSpPr/>
            <p:nvPr/>
          </p:nvSpPr>
          <p:spPr>
            <a:xfrm>
              <a:off x="361800" y="5943600"/>
              <a:ext cx="685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080" y="171360"/>
            <a:ext cx="944892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b- Automation Function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n Manufactur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وظائف الأتمتة في التصن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28560" y="1008000"/>
            <a:ext cx="8686800" cy="26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Two Basic main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ctions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for automation in manufactu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 rtl="1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ff0000"/>
                </a:solidFill>
                <a:latin typeface="Times New Roman"/>
              </a:rPr>
              <a:t>هناك </a:t>
            </a:r>
            <a:r>
              <a:rPr b="1" lang="ar-SA" sz="2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ظيفتان</a:t>
            </a:r>
            <a:r>
              <a:rPr b="1" lang="ar-SA" sz="2600" spc="-1" strike="noStrike">
                <a:solidFill>
                  <a:srgbClr val="ff0000"/>
                </a:solidFill>
                <a:latin typeface="Times New Roman"/>
              </a:rPr>
              <a:t> أساسيتان هما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spcBef>
                <a:spcPts val="1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nufacturin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Facility Automation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[Equipment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8640" indent="-457200" algn="just" rtl="1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Arial"/>
              </a:rPr>
              <a:t>أتمتة معدات التصن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spcBef>
                <a:spcPts val="1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nufacturing Support Automation [Information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8640" indent="-457200" algn="just" rtl="1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Arial"/>
              </a:rPr>
              <a:t>أتمتة معلومات التصنيع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28560" y="3512880"/>
            <a:ext cx="8686800" cy="328248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These two function are developed to build 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self operating manufacturing system; using computer as standard to operate all activities in integrate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و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تستخدم هاتين المهمتين معا الان لاستراتيجية إنشاء نظام تصنيع ذاتي التشغي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3399ff"/>
                </a:solidFill>
                <a:latin typeface="Times New Roman"/>
                <a:cs typeface="Simplified Arabic"/>
              </a:rPr>
              <a:t>تستخدم الحاسبات بطريقة قياسي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cc9900"/>
                </a:solidFill>
                <a:latin typeface="Times New Roman"/>
                <a:cs typeface="Simplified Arabic"/>
              </a:rPr>
              <a:t>لتنفيذ جميع أوجه وظائف وأنشطة العمل الصناعي بصورة متكامل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عند تحديد المنتجات وطرق تصنيعها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85816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a- Automation tasks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هام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أتمت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285840" y="860400"/>
            <a:ext cx="9315360" cy="1442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First: Automating the process &amp; equipment 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مهمة أتمتة المعدات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ree  element of automation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Group 5"/>
          <p:cNvGrpSpPr/>
          <p:nvPr/>
        </p:nvGrpSpPr>
        <p:grpSpPr>
          <a:xfrm>
            <a:off x="7010280" y="4532400"/>
            <a:ext cx="1828800" cy="1143000"/>
            <a:chOff x="7010280" y="4532400"/>
            <a:chExt cx="1828800" cy="1143000"/>
          </a:xfrm>
        </p:grpSpPr>
        <p:sp>
          <p:nvSpPr>
            <p:cNvPr id="456" name="Oval 6"/>
            <p:cNvSpPr/>
            <p:nvPr/>
          </p:nvSpPr>
          <p:spPr>
            <a:xfrm>
              <a:off x="7010280" y="4532400"/>
              <a:ext cx="1067040" cy="1143000"/>
            </a:xfrm>
            <a:prstGeom prst="ellipse">
              <a:avLst/>
            </a:prstGeom>
            <a:solidFill>
              <a:srgbClr val="efe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أسلو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7"/>
            <p:cNvSpPr/>
            <p:nvPr/>
          </p:nvSpPr>
          <p:spPr>
            <a:xfrm>
              <a:off x="8077320" y="5049720"/>
              <a:ext cx="761760" cy="0"/>
            </a:xfrm>
            <a:prstGeom prst="line">
              <a:avLst/>
            </a:prstGeom>
            <a:ln w="76320">
              <a:solidFill>
                <a:srgbClr val="00a7c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Group 8"/>
          <p:cNvGrpSpPr/>
          <p:nvPr/>
        </p:nvGrpSpPr>
        <p:grpSpPr>
          <a:xfrm>
            <a:off x="2666880" y="3468600"/>
            <a:ext cx="4329360" cy="1951560"/>
            <a:chOff x="2666880" y="3468600"/>
            <a:chExt cx="4329360" cy="1951560"/>
          </a:xfrm>
        </p:grpSpPr>
        <p:sp>
          <p:nvSpPr>
            <p:cNvPr id="459" name="Text Box 9"/>
            <p:cNvSpPr/>
            <p:nvPr/>
          </p:nvSpPr>
          <p:spPr>
            <a:xfrm>
              <a:off x="3505320" y="4716360"/>
              <a:ext cx="2361960" cy="703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- نظام التحكم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trol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0" name="AutoShape 10"/>
            <p:cNvCxnSpPr>
              <a:stCxn id="459" idx="0"/>
              <a:endCxn id="461" idx="4"/>
            </p:cNvCxnSpPr>
            <p:nvPr/>
          </p:nvCxnSpPr>
          <p:spPr>
            <a:xfrm flipV="1">
              <a:off x="4686120" y="4169880"/>
              <a:ext cx="1080" cy="532800"/>
            </a:xfrm>
            <a:prstGeom prst="straightConnector1">
              <a:avLst/>
            </a:prstGeom>
            <a:ln w="57240">
              <a:solidFill>
                <a:srgbClr val="cc00ff"/>
              </a:solidFill>
              <a:miter/>
              <a:headEnd len="med" type="triangle" w="med"/>
            </a:ln>
          </p:spPr>
        </p:cxnSp>
        <p:sp>
          <p:nvSpPr>
            <p:cNvPr id="462" name="Line 11"/>
            <p:cNvSpPr/>
            <p:nvPr/>
          </p:nvSpPr>
          <p:spPr>
            <a:xfrm>
              <a:off x="5867280" y="5065560"/>
              <a:ext cx="112896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AutoShape 12"/>
            <p:cNvSpPr/>
            <p:nvPr/>
          </p:nvSpPr>
          <p:spPr>
            <a:xfrm>
              <a:off x="2666880" y="3468600"/>
              <a:ext cx="4038840" cy="682560"/>
            </a:xfrm>
            <a:prstGeom prst="flowChartInputOutpu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 (Arabic)"/>
                </a:rPr>
                <a:t>2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 (Arabic)"/>
                </a:rPr>
                <a:t>- برنامج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ال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 (Arabic)"/>
                </a:rPr>
                <a:t>تعليما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 (Arabic)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gram of 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Group 13"/>
          <p:cNvGrpSpPr/>
          <p:nvPr/>
        </p:nvGrpSpPr>
        <p:grpSpPr>
          <a:xfrm>
            <a:off x="2306520" y="2209680"/>
            <a:ext cx="5237640" cy="2871000"/>
            <a:chOff x="2306520" y="2209680"/>
            <a:chExt cx="5237640" cy="2871000"/>
          </a:xfrm>
        </p:grpSpPr>
        <p:cxnSp>
          <p:nvCxnSpPr>
            <p:cNvPr id="464" name="AutoShape 14"/>
            <p:cNvCxnSpPr>
              <a:stCxn id="465" idx="2"/>
              <a:endCxn id="459" idx="1"/>
            </p:cNvCxnSpPr>
            <p:nvPr/>
          </p:nvCxnSpPr>
          <p:spPr>
            <a:xfrm flipV="1" rot="10800000">
              <a:off x="3490200" y="2549880"/>
              <a:ext cx="219960" cy="2531160"/>
            </a:xfrm>
            <a:prstGeom prst="bentConnector3">
              <a:avLst>
                <a:gd name="adj1" fmla="val 639016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6" name="AutoShape 15"/>
            <p:cNvCxnSpPr>
              <a:stCxn id="465" idx="5"/>
              <a:endCxn id="456" idx="0"/>
            </p:cNvCxnSpPr>
            <p:nvPr/>
          </p:nvCxnSpPr>
          <p:spPr>
            <a:xfrm>
              <a:off x="5645160" y="2550600"/>
              <a:ext cx="1899360" cy="196308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65" name="AutoShape 16"/>
            <p:cNvSpPr/>
            <p:nvPr/>
          </p:nvSpPr>
          <p:spPr>
            <a:xfrm>
              <a:off x="3490920" y="2209680"/>
              <a:ext cx="2376360" cy="682560"/>
            </a:xfrm>
            <a:prstGeom prst="flowChartInputOutpu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- القدرة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we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7" name="AutoShape 17"/>
            <p:cNvCxnSpPr>
              <a:stCxn id="465" idx="4"/>
              <a:endCxn id="461" idx="1"/>
            </p:cNvCxnSpPr>
            <p:nvPr/>
          </p:nvCxnSpPr>
          <p:spPr>
            <a:xfrm>
              <a:off x="4680000" y="2910960"/>
              <a:ext cx="7200" cy="5389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4000" y="75960"/>
            <a:ext cx="944856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8a1 -1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step: process Automating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2590920" y="2419200"/>
            <a:ext cx="670536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ff"/>
                </a:solidFill>
                <a:uFillTx/>
                <a:latin typeface="Times New Roman"/>
              </a:rPr>
              <a:t>قدرة أداء الأسلوب</a:t>
            </a:r>
            <a:r>
              <a:rPr b="1" lang="ar-SA" sz="2000" spc="-1" strike="noStrike" u="sng">
                <a:solidFill>
                  <a:srgbClr val="cc00ff"/>
                </a:solidFill>
                <a:uFillTx/>
                <a:latin typeface="Times New Roman"/>
              </a:rPr>
              <a:t>  </a:t>
            </a:r>
            <a:r>
              <a:rPr b="1" lang="en-US" sz="2000" spc="-1" strike="noStrike" u="sng">
                <a:solidFill>
                  <a:srgbClr val="cc00ff"/>
                </a:solidFill>
                <a:uFillTx/>
                <a:latin typeface="Times New Roman"/>
              </a:rPr>
              <a:t>Power of Process</a:t>
            </a:r>
            <a:r>
              <a:rPr b="1" lang="ar-SA" sz="2000" spc="-1" strike="noStrike" u="sng">
                <a:solidFill>
                  <a:srgbClr val="cc00ff"/>
                </a:solidFill>
                <a:uFillTx/>
                <a:latin typeface="Times New Roman"/>
              </a:rPr>
              <a:t> 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مثلة ذلك كالتالي: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533520" y="3328920"/>
          <a:ext cx="8839080" cy="2773440"/>
        </p:xfrm>
        <a:graphic>
          <a:graphicData uri="http://schemas.openxmlformats.org/drawingml/2006/table">
            <a:tbl>
              <a:tblPr/>
              <a:tblGrid>
                <a:gridCol w="3581280"/>
                <a:gridCol w="2133720"/>
                <a:gridCol w="312408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8600"/>
                          </a:solidFill>
                          <a:latin typeface="Times New Roman"/>
                        </a:rPr>
                        <a:t>الفعل المحق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8600"/>
                          </a:solidFill>
                          <a:latin typeface="Times New Roman"/>
                        </a:rPr>
                        <a:t>القدرة المستخد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8600"/>
                          </a:solidFill>
                          <a:latin typeface="Times New Roman"/>
                        </a:rPr>
                        <a:t>الأسلو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صهر المعدن وصبه في قو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حراري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باكة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غير بنية الفيزيائية لخواص  مطلو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حرا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عالجة حرارية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t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شكيل المادة في حالتها الصل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يكانيكي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cha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رق على البارد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d For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شكيل المادة في حالتها الصلبة وساخن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يكانيكي و حرا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رق على الساخن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 For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شكيل المادة في حالتها الصلبة وساخن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يكانيكي و حرا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بثق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r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شكيل المادة في حالتها الصلبة وساخن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يكانيكي و حرا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حقن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jection mo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Text Box 178"/>
          <p:cNvSpPr/>
          <p:nvPr/>
        </p:nvSpPr>
        <p:spPr>
          <a:xfrm>
            <a:off x="914400" y="762120"/>
            <a:ext cx="8077320" cy="1526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1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- القدرة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Power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 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هي القدرة المطلوبة لتحقيق التالي :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cc00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ff"/>
                </a:solidFill>
                <a:latin typeface="Times New Roman"/>
              </a:rPr>
              <a:t>أداء الأسلوب (العملية الصناعية)</a:t>
            </a:r>
            <a:r>
              <a:rPr b="1" lang="en-US" sz="2200" spc="-1" strike="noStrike">
                <a:solidFill>
                  <a:srgbClr val="cc00ff"/>
                </a:solidFill>
                <a:latin typeface="Times New Roman"/>
              </a:rPr>
              <a:t>Power of Process</a:t>
            </a:r>
            <a:r>
              <a:rPr b="1" lang="en-US" sz="2200" spc="-1" strike="noStrike">
                <a:solidFill>
                  <a:srgbClr val="cc00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cc00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ff"/>
                </a:solidFill>
                <a:latin typeface="Times New Roman"/>
              </a:rPr>
              <a:t>أداء التحكم الأوتوماتي </a:t>
            </a:r>
            <a:r>
              <a:rPr b="1" lang="en-US" sz="2200" spc="-1" strike="noStrike">
                <a:solidFill>
                  <a:srgbClr val="cc00ff"/>
                </a:solidFill>
                <a:latin typeface="Times New Roman"/>
              </a:rPr>
              <a:t>Power of Auto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944856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8a2 -1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step: process Automating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2590920" y="685800"/>
            <a:ext cx="670536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ff"/>
                </a:solidFill>
                <a:uFillTx/>
                <a:latin typeface="Times New Roman"/>
              </a:rPr>
              <a:t>قدرة أداء الأسلوب</a:t>
            </a:r>
            <a:r>
              <a:rPr b="1" lang="ar-SA" sz="2000" spc="-1" strike="noStrike" u="sng">
                <a:solidFill>
                  <a:srgbClr val="cc00ff"/>
                </a:solidFill>
                <a:uFillTx/>
                <a:latin typeface="Times New Roman"/>
              </a:rPr>
              <a:t>  </a:t>
            </a:r>
            <a:r>
              <a:rPr b="1" lang="en-US" sz="2000" spc="-1" strike="noStrike" u="sng">
                <a:solidFill>
                  <a:srgbClr val="cc00ff"/>
                </a:solidFill>
                <a:uFillTx/>
                <a:latin typeface="Times New Roman"/>
              </a:rPr>
              <a:t>Power of Process</a:t>
            </a:r>
            <a:r>
              <a:rPr b="1" lang="ar-SA" sz="2000" spc="-1" strike="noStrike" u="sng">
                <a:solidFill>
                  <a:srgbClr val="cc00ff"/>
                </a:solidFill>
                <a:uFillTx/>
                <a:latin typeface="Times New Roman"/>
              </a:rPr>
              <a:t> 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مثلة ذلك كالتالي: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0880" y="1219320"/>
          <a:ext cx="9068040" cy="3292200"/>
        </p:xfrm>
        <a:graphic>
          <a:graphicData uri="http://schemas.openxmlformats.org/drawingml/2006/table">
            <a:tbl>
              <a:tblPr/>
              <a:tblGrid>
                <a:gridCol w="3886200"/>
                <a:gridCol w="2210040"/>
                <a:gridCol w="297180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8600"/>
                          </a:solidFill>
                          <a:latin typeface="Times New Roman"/>
                        </a:rPr>
                        <a:t>الفعل المحق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8600"/>
                          </a:solidFill>
                          <a:latin typeface="Times New Roman"/>
                        </a:rPr>
                        <a:t>القدرة المستخد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8600"/>
                          </a:solidFill>
                          <a:latin typeface="Times New Roman"/>
                        </a:rPr>
                        <a:t>الأسلو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شكيل الثقوب والأكواب والأشك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يكانيك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شكيل الألواح المعدنية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شكيل بقطع المادة بالحركة النسبية بين المشغولة وأداة القط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يكانيك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شغيل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h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قطع بأشعة ضوئية تولد طاقة حرار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حراري وضوئ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قطع بالليز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er beam cu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إزاحة المعدن بالتفريغ الكهربي في منطقة المولدة لحرارة شديد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هربي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قطع بالتفريغ الكه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ic Dis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وليد حرارة شديدة لمنطقة تندمج فبها الماد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حراري/كهربي/ميكانيكي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لحام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Text Box 66"/>
          <p:cNvSpPr/>
          <p:nvPr/>
        </p:nvSpPr>
        <p:spPr>
          <a:xfrm>
            <a:off x="380880" y="4572000"/>
            <a:ext cx="9068040" cy="2654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ff"/>
                </a:solidFill>
                <a:uFillTx/>
                <a:latin typeface="Times New Roman"/>
              </a:rPr>
              <a:t>قدرة أداء أسلوب</a:t>
            </a:r>
            <a:r>
              <a:rPr b="1" lang="ar-SA" sz="2000" spc="-1" strike="noStrike" u="sng">
                <a:solidFill>
                  <a:srgbClr val="cc00ff"/>
                </a:solidFill>
                <a:uFillTx/>
                <a:latin typeface="Times New Roman"/>
              </a:rPr>
              <a:t> المناولة  </a:t>
            </a:r>
            <a:r>
              <a:rPr b="1" lang="en-US" sz="2000" spc="-1" strike="noStrike" u="sng">
                <a:solidFill>
                  <a:srgbClr val="cc00ff"/>
                </a:solidFill>
                <a:uFillTx/>
                <a:latin typeface="Times New Roman"/>
              </a:rPr>
              <a:t>Power of Handling Process</a:t>
            </a:r>
            <a:r>
              <a:rPr b="1" lang="ar-SA" sz="2400" spc="-1" strike="noStrike">
                <a:solidFill>
                  <a:srgbClr val="cc00ff"/>
                </a:solidFill>
                <a:latin typeface="Times New Roman"/>
              </a:rPr>
              <a:t>: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تستخدم معدات تعمل بالطاقة الميكانيكية أو الكهربية وذلك للتا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حميل وتفريغ المشغولات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ing and Unloading of work un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وضعها وتكيفها على الماكينات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نقل المشغولات بين العملي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erial Transport between 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09160" y="247680"/>
            <a:ext cx="944892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8a3 -1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step: process Automating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457200" y="1440000"/>
            <a:ext cx="8858160" cy="5450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cc00ff"/>
                </a:solidFill>
                <a:uFillTx/>
                <a:latin typeface="Times New Roman"/>
              </a:rPr>
              <a:t>قدرة أداء الأتمتة </a:t>
            </a:r>
            <a:r>
              <a:rPr b="1" lang="en-US" sz="2600" spc="-1" strike="noStrike" u="sng">
                <a:solidFill>
                  <a:srgbClr val="cc00ff"/>
                </a:solidFill>
                <a:uFillTx/>
                <a:latin typeface="Times New Roman"/>
              </a:rPr>
              <a:t>Power for Automation</a:t>
            </a:r>
            <a:r>
              <a:rPr b="1" lang="ar-SA" sz="2600" spc="-1" strike="noStrike" u="sng">
                <a:solidFill>
                  <a:srgbClr val="cc00ff"/>
                </a:solidFill>
                <a:uFillTx/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هي القدرة على تحقيق تشغيل أجهزة الأتمتة وهي عادة تستخدم الطاقة الكهربية للتالي: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1500"/>
              </a:spcBef>
              <a:buClr>
                <a:srgbClr val="008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8600"/>
                </a:solidFill>
                <a:uFillTx/>
                <a:latin typeface="Times New Roman"/>
              </a:rPr>
              <a:t>وحدات التحكم </a:t>
            </a:r>
            <a:r>
              <a:rPr b="1" lang="en-US" sz="2400" spc="-1" strike="noStrike" u="sng">
                <a:solidFill>
                  <a:srgbClr val="008600"/>
                </a:solidFill>
                <a:uFillTx/>
                <a:latin typeface="Times New Roman"/>
              </a:rPr>
              <a:t>Controller Unit</a:t>
            </a:r>
            <a:r>
              <a:rPr b="1" lang="ar-SA" sz="2400" spc="-1" strike="noStrike" u="sng">
                <a:solidFill>
                  <a:srgbClr val="008600"/>
                </a:solidFill>
                <a:uFillTx/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هي وحدات نقل تعليمات الأوامر لتفعيل الأجهزة التنفيذ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1500"/>
              </a:spcBef>
              <a:buClr>
                <a:srgbClr val="008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8600"/>
                </a:solidFill>
                <a:uFillTx/>
                <a:latin typeface="Times New Roman"/>
              </a:rPr>
              <a:t>أجهزة التفعيل </a:t>
            </a:r>
            <a:r>
              <a:rPr b="1" lang="en-US" sz="2400" spc="-1" strike="noStrike" u="sng">
                <a:solidFill>
                  <a:srgbClr val="008600"/>
                </a:solidFill>
                <a:uFillTx/>
                <a:latin typeface="Times New Roman"/>
              </a:rPr>
              <a:t>Actuators</a:t>
            </a:r>
            <a:r>
              <a:rPr b="1" lang="ar-SA" sz="2400" spc="-1" strike="noStrike" u="sng">
                <a:solidFill>
                  <a:srgbClr val="008600"/>
                </a:solidFill>
                <a:uFillTx/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هي اجهزة تنفيذ الأوامر (محركات-مفاتيح)بواسطة إشارات كهربية بضغط منخفض بعد  تكبير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1500"/>
              </a:spcBef>
              <a:buClr>
                <a:srgbClr val="008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8600"/>
                </a:solidFill>
                <a:uFillTx/>
                <a:latin typeface="Times New Roman"/>
              </a:rPr>
              <a:t>أجهزة جمع وحفظ البيانات ومعالجة المعلومات </a:t>
            </a:r>
            <a:r>
              <a:rPr b="1" lang="en-US" sz="2400" spc="-1" strike="noStrike" u="sng">
                <a:solidFill>
                  <a:srgbClr val="008600"/>
                </a:solidFill>
                <a:uFillTx/>
                <a:latin typeface="Times New Roman"/>
              </a:rPr>
              <a:t>Data Acquisition and Information Processing</a:t>
            </a:r>
            <a:r>
              <a:rPr b="1" lang="ar-SA" sz="2400" spc="-1" strike="noStrike" u="sng">
                <a:solidFill>
                  <a:srgbClr val="008600"/>
                </a:solidFill>
                <a:uFillTx/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حيث يتم استخدام الأجهزة في جمع البيانات من اسلوب الإنتاج ومعالجتها بواسطة لوغاريتمات التحكم لاستخدامها في المراقبة والتحك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85816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8a4 -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step: process Automating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457200" y="685800"/>
            <a:ext cx="8858160" cy="3445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 (Arabic)"/>
              </a:rPr>
              <a:t>2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 (Arabic)"/>
              </a:rPr>
              <a:t>- برنامج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 ال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 (Arabic)"/>
              </a:rPr>
              <a:t>تعليمات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Program of Instruction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هو برنامج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يصف دورة العمل لإنتاج المشغولة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(برنامج المشغولة) ,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حيث يعر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عدد خطوات الأساليب التي يتم أدائها و تدفق التسلسلي المنطقي لها بصورة مبرمج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العوامل المطلوبة لإتمام الأسلوب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التغيرات الواقعة في الأسلوب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عادة تتم كل خطوة أسلوب بنشاط أو عدة أنشطة له مدخلات ومخرجات كالتا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Oval 5"/>
          <p:cNvSpPr/>
          <p:nvPr/>
        </p:nvSpPr>
        <p:spPr>
          <a:xfrm>
            <a:off x="3962520" y="4184640"/>
            <a:ext cx="1523880" cy="1447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شاط الأسلو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(i)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152280" y="3575160"/>
            <a:ext cx="3810240" cy="2743200"/>
          </a:xfrm>
          <a:prstGeom prst="rightArrow">
            <a:avLst>
              <a:gd name="adj1" fmla="val 67361"/>
              <a:gd name="adj2" fmla="val 23362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 indent="-18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3300"/>
                </a:solidFill>
                <a:uFillTx/>
                <a:latin typeface="Times New Roman"/>
                <a:cs typeface="Times New Roman"/>
              </a:rPr>
              <a:t>مدخلات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Input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s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يتطلب التحكم بها مثل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بط حرارة فر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نسيق إحداثيات محاور آلة في وضع معي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تح أو غلق صم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شغيل أو توقيف محر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5486400" y="3117960"/>
            <a:ext cx="4114800" cy="3511440"/>
          </a:xfrm>
          <a:prstGeom prst="rightArrow">
            <a:avLst>
              <a:gd name="adj1" fmla="val 61435"/>
              <a:gd name="adj2" fmla="val 2726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 indent="-18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3300"/>
                </a:solidFill>
                <a:uFillTx/>
                <a:latin typeface="Times New Roman"/>
                <a:cs typeface="Times New Roman"/>
              </a:rPr>
              <a:t>مخرجات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متغيرات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تغيرات تمثل الوضع الفعلي للعوامل مثل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جة الحرارة الفع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إحداثي المحاور الفع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دل التدفق من الصم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كون هذا المتغير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ما لحظيا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rete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  متواصل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ual (Continuo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85816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8a5 - 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step: process Automating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457200" y="1600200"/>
            <a:ext cx="8858160" cy="3963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 (Arabic)"/>
              </a:rPr>
              <a:t>برمجة لاتخاذ القرار  في برنامج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 ال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 (Arabic)"/>
              </a:rPr>
              <a:t>تعليمات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برنامج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دورة عمل إنتاج المشغول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عادة يكرر تعليماته كل دورة دون تغير وعليه يضاف عدد من البرمجيات لاتخاذ قرار تغير في العمليات خلال الدورة حيث يتم ادماجها في البرنامج والتي تشمل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التدخل اليدوي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Manual Interface</a:t>
            </a: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 من خلال وحدة التحكم لتغير مدخلات معينة (السرعة) أو خطوات العمل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تغيير خطوات الأساليب وتسلسلها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Steps change</a:t>
            </a: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تغيرات في بداية العمل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Start changing</a:t>
            </a: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تغيرات مدخلات العوامل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Input parameters changes</a:t>
            </a: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تغيرات لمشغولات متغيرة لأنواع مختلف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85816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8a5 - 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step: process Automating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514440" y="762120"/>
            <a:ext cx="8858160" cy="489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Times New Roman (Arabic)"/>
              </a:rPr>
              <a:t>أمثلة لبرنامج</a:t>
            </a:r>
            <a:r>
              <a:rPr b="1" lang="ar-SA" sz="2600" spc="-1" strike="noStrike">
                <a:solidFill>
                  <a:srgbClr val="ff0000"/>
                </a:solidFill>
                <a:latin typeface="Times New Roman"/>
              </a:rPr>
              <a:t> ال</a:t>
            </a:r>
            <a:r>
              <a:rPr b="1" lang="ar-SA" sz="2600" spc="-1" strike="noStrike">
                <a:solidFill>
                  <a:srgbClr val="ff0000"/>
                </a:solidFill>
                <a:latin typeface="Times New Roman (Arabic)"/>
              </a:rPr>
              <a:t>تعليمات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Program of Instruction</a:t>
            </a:r>
            <a:r>
              <a:rPr b="1" lang="ar-SA" sz="26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514440" y="1447920"/>
            <a:ext cx="8858160" cy="2073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Times New Roman (Arabic)"/>
              </a:rPr>
              <a:t>حالة </a:t>
            </a:r>
            <a:r>
              <a:rPr b="1" lang="ar-SA" sz="2600" spc="-1" strike="noStrike">
                <a:solidFill>
                  <a:srgbClr val="ff0000"/>
                </a:solidFill>
                <a:latin typeface="Times New Roman (Arabic)"/>
              </a:rPr>
              <a:t>1</a:t>
            </a:r>
            <a:r>
              <a:rPr b="1" lang="ar-SA" sz="2600" spc="-1" strike="noStrike">
                <a:solidFill>
                  <a:srgbClr val="ff0000"/>
                </a:solidFill>
                <a:latin typeface="Times New Roman (Arabic)"/>
              </a:rPr>
              <a:t>: مشغولة تنج بأسلوب أوتوماتي واحد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هو أداء خطوة واحدة بعامل واحد مثل 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معالجة حراري مطلوب ضبط الحرارة للفرن عند درجة معينة ولزمن معين (الحفاظ علي الحرار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سرعة قطع معدن معين (الحفاظ على السرع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514440" y="3686040"/>
            <a:ext cx="8858160" cy="286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Times New Roman (Arabic)"/>
              </a:rPr>
              <a:t>حالة </a:t>
            </a:r>
            <a:r>
              <a:rPr b="1" lang="ar-SA" sz="2600" spc="-1" strike="noStrike">
                <a:solidFill>
                  <a:srgbClr val="ff0000"/>
                </a:solidFill>
                <a:latin typeface="Times New Roman (Arabic)"/>
              </a:rPr>
              <a:t>2</a:t>
            </a:r>
            <a:r>
              <a:rPr b="1" lang="ar-SA" sz="2600" spc="-1" strike="noStrike">
                <a:solidFill>
                  <a:srgbClr val="ff0000"/>
                </a:solidFill>
                <a:latin typeface="Times New Roman (Arabic)"/>
              </a:rPr>
              <a:t>: مشغولة تنج من خلال عدة خطوات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مثل 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تحميل المشغولة على الماكينة (حركة مناولة من وضع إلى وضع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أداء أسلوب عمل ( سرعة تغذية وسرعة قطع وعمق القطع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تفريغ المشغولة من الماكينة(حركة مناولة من وضع إلى وضع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85816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8a7 - 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step: process Automating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514440" y="762120"/>
            <a:ext cx="8858160" cy="489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Times New Roman (Arabic)"/>
              </a:rPr>
              <a:t>أتمتة برنامج</a:t>
            </a:r>
            <a:r>
              <a:rPr b="1" lang="ar-SA" sz="2600" spc="-1" strike="noStrike">
                <a:solidFill>
                  <a:srgbClr val="ff0000"/>
                </a:solidFill>
                <a:latin typeface="Times New Roman"/>
              </a:rPr>
              <a:t> ال</a:t>
            </a:r>
            <a:r>
              <a:rPr b="1" lang="ar-SA" sz="2600" spc="-1" strike="noStrike">
                <a:solidFill>
                  <a:srgbClr val="ff0000"/>
                </a:solidFill>
                <a:latin typeface="Times New Roman (Arabic)"/>
              </a:rPr>
              <a:t>تعليمات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Program of Instruction Autom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457200" y="1447920"/>
          <a:ext cx="9067680" cy="4273560"/>
        </p:xfrm>
        <a:graphic>
          <a:graphicData uri="http://schemas.openxmlformats.org/drawingml/2006/table">
            <a:tbl>
              <a:tblPr/>
              <a:tblGrid>
                <a:gridCol w="3962520"/>
                <a:gridCol w="4002120"/>
                <a:gridCol w="1103040"/>
              </a:tblGrid>
              <a:tr h="155484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أتمتة بالحاسبات (حديثا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أتمتة بالعتاد (قديما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سلوب الأتمت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ستخدام معدات جمع البيانات كالمجسات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sor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والمعالجة الحسابية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U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والبرمجيات ومعالجة المعلومات وتخزينها ونقلها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works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ستخدام معدات ميكانيكية كالكامات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s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كهربية كالمبدلات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y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والمفاتيح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tches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مثلة للمع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760">
                <a:tc>
                  <a:txBody>
                    <a:bodyPr lIns="90000" rIns="90000" anchor="t">
                      <a:noAutofit/>
                    </a:bodyPr>
                    <a:p>
                      <a:pPr marL="279360" indent="-279360" algn="just" rtl="1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إمكانية تغير برامج دورة العمل والتحسين والتطوير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79360" indent="-279360" algn="just" rtl="1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رونة تغير أسلوب العم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79360" indent="-279360" algn="just" rtl="1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رونة جمع المعلومات وتخزينها ونقلها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9360" indent="-279360" algn="just" rtl="1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تطلب وقت طويل للتصميم والتنفي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79360" indent="-279360" algn="just" rtl="1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صعبة تغير دورة العمل بعد تنفيذ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79360" indent="-279360" algn="just" rtl="1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دم إمكانية تجميع البيانات ومعالجتها ونقلها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لاحظ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2" name="Ink 3" descr=""/>
          <p:cNvPicPr/>
          <p:nvPr/>
        </p:nvPicPr>
        <p:blipFill>
          <a:blip r:embed="rId1"/>
          <a:stretch/>
        </p:blipFill>
        <p:spPr>
          <a:xfrm>
            <a:off x="2379600" y="5891040"/>
            <a:ext cx="302580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85816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8a8 - 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step: process Automating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457200" y="685800"/>
            <a:ext cx="8858160" cy="1777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3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- نظام التحكم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Control System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هي مكونات لتجهيزات التحكم والتي تنفذ تعليمات العمل (برنامج دورة العمل) وبناءا عليها يتم أداء الأسلوب. ويبن الشكل التالي النظام الأساسي لأنظمة التحكم المتعدد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11"/>
          <p:cNvSpPr/>
          <p:nvPr/>
        </p:nvSpPr>
        <p:spPr>
          <a:xfrm>
            <a:off x="6095880" y="2666880"/>
            <a:ext cx="1067040" cy="1143000"/>
          </a:xfrm>
          <a:prstGeom prst="ellipse">
            <a:avLst/>
          </a:prstGeom>
          <a:solidFill>
            <a:srgbClr val="efe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أسلو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28"/>
          <p:cNvGrpSpPr/>
          <p:nvPr/>
        </p:nvGrpSpPr>
        <p:grpSpPr>
          <a:xfrm>
            <a:off x="152280" y="2666880"/>
            <a:ext cx="2195640" cy="1143000"/>
            <a:chOff x="152280" y="2666880"/>
            <a:chExt cx="2195640" cy="1143000"/>
          </a:xfrm>
        </p:grpSpPr>
        <p:cxnSp>
          <p:nvCxnSpPr>
            <p:cNvPr id="497" name="AutoShape 15"/>
            <p:cNvCxnSpPr>
              <a:stCxn id="498" idx="1"/>
              <a:endCxn id="499" idx="5"/>
            </p:cNvCxnSpPr>
            <p:nvPr/>
          </p:nvCxnSpPr>
          <p:spPr>
            <a:xfrm flipH="1" flipV="1">
              <a:off x="1882440" y="3237840"/>
              <a:ext cx="465840" cy="23040"/>
            </a:xfrm>
            <a:prstGeom prst="straightConnector1">
              <a:avLst/>
            </a:prstGeom>
            <a:ln w="76320">
              <a:solidFill>
                <a:srgbClr val="cc00ff"/>
              </a:solidFill>
              <a:miter/>
              <a:headEnd len="med" type="triangle" w="med"/>
            </a:ln>
          </p:spPr>
        </p:cxnSp>
        <p:sp>
          <p:nvSpPr>
            <p:cNvPr id="499" name="AutoShape 17"/>
            <p:cNvSpPr/>
            <p:nvPr/>
          </p:nvSpPr>
          <p:spPr>
            <a:xfrm>
              <a:off x="152280" y="2666880"/>
              <a:ext cx="1905120" cy="1143000"/>
            </a:xfrm>
            <a:prstGeom prst="flowChartInputOutpu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 (Arabic)"/>
                </a:rPr>
                <a:t>عامل مدخ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 (Arabic)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Group 27"/>
          <p:cNvGrpSpPr/>
          <p:nvPr/>
        </p:nvGrpSpPr>
        <p:grpSpPr>
          <a:xfrm>
            <a:off x="2362320" y="2895480"/>
            <a:ext cx="3714840" cy="1008720"/>
            <a:chOff x="2362320" y="2895480"/>
            <a:chExt cx="3714840" cy="1008720"/>
          </a:xfrm>
        </p:grpSpPr>
        <p:sp>
          <p:nvSpPr>
            <p:cNvPr id="501" name="Text Box 14"/>
            <p:cNvSpPr/>
            <p:nvPr/>
          </p:nvSpPr>
          <p:spPr>
            <a:xfrm>
              <a:off x="4267080" y="2895480"/>
              <a:ext cx="1352520" cy="1008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جهاز تفعيل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tu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18"/>
            <p:cNvSpPr/>
            <p:nvPr/>
          </p:nvSpPr>
          <p:spPr>
            <a:xfrm>
              <a:off x="2362320" y="2895480"/>
              <a:ext cx="1447560" cy="1008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جهاز تحكم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2" name="AutoShape 21"/>
            <p:cNvCxnSpPr>
              <a:stCxn id="498" idx="3"/>
              <a:endCxn id="501" idx="1"/>
            </p:cNvCxnSpPr>
            <p:nvPr/>
          </p:nvCxnSpPr>
          <p:spPr>
            <a:xfrm>
              <a:off x="3823920" y="3260160"/>
              <a:ext cx="429480" cy="10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3" name="AutoShape 22"/>
            <p:cNvCxnSpPr>
              <a:stCxn id="501" idx="3"/>
              <a:endCxn id="495" idx="2"/>
            </p:cNvCxnSpPr>
            <p:nvPr/>
          </p:nvCxnSpPr>
          <p:spPr>
            <a:xfrm flipV="1">
              <a:off x="5634000" y="3237840"/>
              <a:ext cx="443520" cy="230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04" name="Group 29"/>
          <p:cNvGrpSpPr/>
          <p:nvPr/>
        </p:nvGrpSpPr>
        <p:grpSpPr>
          <a:xfrm>
            <a:off x="7181640" y="2743200"/>
            <a:ext cx="2571840" cy="984240"/>
            <a:chOff x="7181640" y="2743200"/>
            <a:chExt cx="2571840" cy="984240"/>
          </a:xfrm>
        </p:grpSpPr>
        <p:sp>
          <p:nvSpPr>
            <p:cNvPr id="505" name="AutoShape 20"/>
            <p:cNvSpPr/>
            <p:nvPr/>
          </p:nvSpPr>
          <p:spPr>
            <a:xfrm>
              <a:off x="8096400" y="2743200"/>
              <a:ext cx="1657080" cy="984240"/>
            </a:xfrm>
            <a:prstGeom prst="flowChartInputOutpu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 (Arabic)"/>
                </a:rPr>
                <a:t>متغير مخر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 (Arabic)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6" name="AutoShape 23"/>
            <p:cNvCxnSpPr>
              <a:stCxn id="495" idx="6"/>
              <a:endCxn id="507" idx="2"/>
            </p:cNvCxnSpPr>
            <p:nvPr/>
          </p:nvCxnSpPr>
          <p:spPr>
            <a:xfrm>
              <a:off x="7181640" y="3238200"/>
              <a:ext cx="400680" cy="1080"/>
            </a:xfrm>
            <a:prstGeom prst="straightConnector1">
              <a:avLst/>
            </a:prstGeom>
            <a:ln w="76320">
              <a:solidFill>
                <a:srgbClr val="cc00ff"/>
              </a:solidFill>
              <a:miter/>
              <a:tailEnd len="med" type="triangle" w="med"/>
            </a:ln>
          </p:spPr>
        </p:cxnSp>
        <p:sp>
          <p:nvSpPr>
            <p:cNvPr id="507" name="AutoShape 24"/>
            <p:cNvSpPr/>
            <p:nvPr/>
          </p:nvSpPr>
          <p:spPr>
            <a:xfrm>
              <a:off x="7620120" y="3124440"/>
              <a:ext cx="228600" cy="228600"/>
            </a:xfrm>
            <a:prstGeom prst="flowChartConnector">
              <a:avLst/>
            </a:prstGeom>
            <a:noFill/>
            <a:ln w="7632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8" name="AutoShape 25"/>
            <p:cNvCxnSpPr>
              <a:stCxn id="507" idx="6"/>
              <a:endCxn id="505" idx="2"/>
            </p:cNvCxnSpPr>
            <p:nvPr/>
          </p:nvCxnSpPr>
          <p:spPr>
            <a:xfrm flipV="1">
              <a:off x="7886520" y="3234600"/>
              <a:ext cx="356040" cy="3960"/>
            </a:xfrm>
            <a:prstGeom prst="straightConnector1">
              <a:avLst/>
            </a:prstGeom>
            <a:ln w="76320">
              <a:solidFill>
                <a:srgbClr val="cc00ff"/>
              </a:solidFill>
              <a:miter/>
              <a:tailEnd len="med" type="triangle" w="med"/>
            </a:ln>
          </p:spPr>
        </p:cxnSp>
      </p:grpSp>
      <p:grpSp>
        <p:nvGrpSpPr>
          <p:cNvPr id="509" name="Group 49"/>
          <p:cNvGrpSpPr/>
          <p:nvPr/>
        </p:nvGrpSpPr>
        <p:grpSpPr>
          <a:xfrm>
            <a:off x="152280" y="4495680"/>
            <a:ext cx="9601200" cy="1237320"/>
            <a:chOff x="152280" y="4495680"/>
            <a:chExt cx="9601200" cy="1237320"/>
          </a:xfrm>
        </p:grpSpPr>
        <p:sp>
          <p:nvSpPr>
            <p:cNvPr id="510" name="Oval 30"/>
            <p:cNvSpPr/>
            <p:nvPr/>
          </p:nvSpPr>
          <p:spPr>
            <a:xfrm>
              <a:off x="6095880" y="4495680"/>
              <a:ext cx="1067040" cy="1143000"/>
            </a:xfrm>
            <a:prstGeom prst="ellipse">
              <a:avLst/>
            </a:prstGeom>
            <a:solidFill>
              <a:srgbClr val="efe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أسلو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Group 31"/>
            <p:cNvGrpSpPr/>
            <p:nvPr/>
          </p:nvGrpSpPr>
          <p:grpSpPr>
            <a:xfrm>
              <a:off x="152280" y="4495680"/>
              <a:ext cx="2195640" cy="1143000"/>
              <a:chOff x="152280" y="4495680"/>
              <a:chExt cx="2195640" cy="1143000"/>
            </a:xfrm>
          </p:grpSpPr>
          <p:cxnSp>
            <p:nvCxnSpPr>
              <p:cNvPr id="512" name="AutoShape 32"/>
              <p:cNvCxnSpPr>
                <a:stCxn id="513" idx="1"/>
                <a:endCxn id="514" idx="5"/>
              </p:cNvCxnSpPr>
              <p:nvPr/>
            </p:nvCxnSpPr>
            <p:spPr>
              <a:xfrm flipH="1" flipV="1">
                <a:off x="1882440" y="5066640"/>
                <a:ext cx="465840" cy="23040"/>
              </a:xfrm>
              <a:prstGeom prst="straightConnector1">
                <a:avLst/>
              </a:prstGeom>
              <a:ln w="76320">
                <a:solidFill>
                  <a:srgbClr val="cc00ff"/>
                </a:solidFill>
                <a:miter/>
                <a:headEnd len="med" type="triangle" w="med"/>
              </a:ln>
            </p:spPr>
          </p:cxnSp>
          <p:sp>
            <p:nvSpPr>
              <p:cNvPr id="514" name="AutoShape 33"/>
              <p:cNvSpPr/>
              <p:nvPr/>
            </p:nvSpPr>
            <p:spPr>
              <a:xfrm>
                <a:off x="152280" y="4495680"/>
                <a:ext cx="1905120" cy="1143000"/>
              </a:xfrm>
              <a:prstGeom prst="flowChartInputOutput">
                <a:avLst/>
              </a:prstGeom>
              <a:noFill/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Times New Roman (Arabic)"/>
                  </a:rPr>
                  <a:t>عامل مدخ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Times New Roman (Arabic)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p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rame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34"/>
            <p:cNvGrpSpPr/>
            <p:nvPr/>
          </p:nvGrpSpPr>
          <p:grpSpPr>
            <a:xfrm>
              <a:off x="2362320" y="4724280"/>
              <a:ext cx="3714840" cy="1008720"/>
              <a:chOff x="2362320" y="4724280"/>
              <a:chExt cx="3714840" cy="1008720"/>
            </a:xfrm>
          </p:grpSpPr>
          <p:sp>
            <p:nvSpPr>
              <p:cNvPr id="516" name="Text Box 35"/>
              <p:cNvSpPr/>
              <p:nvPr/>
            </p:nvSpPr>
            <p:spPr>
              <a:xfrm>
                <a:off x="4267080" y="4724280"/>
                <a:ext cx="1352520" cy="1008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Times New Roman"/>
                  </a:rPr>
                  <a:t>جهاز تفعيل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tua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Text Box 36"/>
              <p:cNvSpPr/>
              <p:nvPr/>
            </p:nvSpPr>
            <p:spPr>
              <a:xfrm>
                <a:off x="2362320" y="4724280"/>
                <a:ext cx="1447560" cy="1008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Times New Roman"/>
                  </a:rPr>
                  <a:t>جهاز تحكم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ntroll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17" name="AutoShape 37"/>
              <p:cNvCxnSpPr>
                <a:stCxn id="513" idx="3"/>
                <a:endCxn id="516" idx="1"/>
              </p:cNvCxnSpPr>
              <p:nvPr/>
            </p:nvCxnSpPr>
            <p:spPr>
              <a:xfrm>
                <a:off x="3823920" y="5088960"/>
                <a:ext cx="429480" cy="1080"/>
              </a:xfrm>
              <a:prstGeom prst="straightConnector1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8" name="AutoShape 38"/>
              <p:cNvCxnSpPr>
                <a:stCxn id="516" idx="3"/>
                <a:endCxn id="510" idx="2"/>
              </p:cNvCxnSpPr>
              <p:nvPr/>
            </p:nvCxnSpPr>
            <p:spPr>
              <a:xfrm flipV="1">
                <a:off x="5634000" y="5066640"/>
                <a:ext cx="443520" cy="23040"/>
              </a:xfrm>
              <a:prstGeom prst="straightConnector1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519" name="Group 39"/>
            <p:cNvGrpSpPr/>
            <p:nvPr/>
          </p:nvGrpSpPr>
          <p:grpSpPr>
            <a:xfrm>
              <a:off x="7181640" y="4572000"/>
              <a:ext cx="2571840" cy="984240"/>
              <a:chOff x="7181640" y="4572000"/>
              <a:chExt cx="2571840" cy="984240"/>
            </a:xfrm>
          </p:grpSpPr>
          <p:sp>
            <p:nvSpPr>
              <p:cNvPr id="520" name="AutoShape 40"/>
              <p:cNvSpPr/>
              <p:nvPr/>
            </p:nvSpPr>
            <p:spPr>
              <a:xfrm>
                <a:off x="8096400" y="4572000"/>
                <a:ext cx="1657080" cy="984240"/>
              </a:xfrm>
              <a:prstGeom prst="flowChartInputOutput">
                <a:avLst/>
              </a:prstGeom>
              <a:noFill/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Times New Roman (Arabic)"/>
                  </a:rPr>
                  <a:t>متغير مخرج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Times New Roman (Arabic)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utput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variab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21" name="AutoShape 41"/>
              <p:cNvCxnSpPr>
                <a:stCxn id="510" idx="6"/>
                <a:endCxn id="522" idx="2"/>
              </p:cNvCxnSpPr>
              <p:nvPr/>
            </p:nvCxnSpPr>
            <p:spPr>
              <a:xfrm>
                <a:off x="7181640" y="5067000"/>
                <a:ext cx="400680" cy="1080"/>
              </a:xfrm>
              <a:prstGeom prst="straightConnector1">
                <a:avLst/>
              </a:prstGeom>
              <a:ln w="76320">
                <a:solidFill>
                  <a:srgbClr val="cc00ff"/>
                </a:solidFill>
                <a:miter/>
                <a:tailEnd len="med" type="triangle" w="med"/>
              </a:ln>
            </p:spPr>
          </p:cxnSp>
          <p:sp>
            <p:nvSpPr>
              <p:cNvPr id="522" name="AutoShape 42"/>
              <p:cNvSpPr/>
              <p:nvPr/>
            </p:nvSpPr>
            <p:spPr>
              <a:xfrm>
                <a:off x="7620120" y="4953240"/>
                <a:ext cx="228600" cy="228600"/>
              </a:xfrm>
              <a:prstGeom prst="flowChartConnector">
                <a:avLst/>
              </a:prstGeom>
              <a:noFill/>
              <a:ln w="7632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23" name="AutoShape 43"/>
              <p:cNvCxnSpPr>
                <a:stCxn id="522" idx="6"/>
                <a:endCxn id="520" idx="2"/>
              </p:cNvCxnSpPr>
              <p:nvPr/>
            </p:nvCxnSpPr>
            <p:spPr>
              <a:xfrm flipV="1">
                <a:off x="7886520" y="5063400"/>
                <a:ext cx="356040" cy="3960"/>
              </a:xfrm>
              <a:prstGeom prst="straightConnector1">
                <a:avLst/>
              </a:prstGeom>
              <a:ln w="76320">
                <a:solidFill>
                  <a:srgbClr val="cc00ff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524" name="Text Box 44"/>
          <p:cNvSpPr/>
          <p:nvPr/>
        </p:nvSpPr>
        <p:spPr>
          <a:xfrm>
            <a:off x="3581280" y="2209680"/>
            <a:ext cx="573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3333cc"/>
                </a:solidFill>
                <a:uFillTx/>
                <a:latin typeface="Times New Roman"/>
              </a:rPr>
              <a:t>أ-  نظام تحكم مفتوح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Open loop contro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45"/>
          <p:cNvSpPr/>
          <p:nvPr/>
        </p:nvSpPr>
        <p:spPr>
          <a:xfrm>
            <a:off x="3581280" y="3962520"/>
            <a:ext cx="573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3333cc"/>
                </a:solidFill>
                <a:uFillTx/>
                <a:latin typeface="Times New Roman"/>
              </a:rPr>
              <a:t>ب- نظام تحكم مغلق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losed loop contro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Group 48"/>
          <p:cNvGrpSpPr/>
          <p:nvPr/>
        </p:nvGrpSpPr>
        <p:grpSpPr>
          <a:xfrm>
            <a:off x="3085560" y="5219640"/>
            <a:ext cx="4648680" cy="1612080"/>
            <a:chOff x="3085560" y="5219640"/>
            <a:chExt cx="4648680" cy="1612080"/>
          </a:xfrm>
        </p:grpSpPr>
        <p:sp>
          <p:nvSpPr>
            <p:cNvPr id="527" name="Text Box 26"/>
            <p:cNvSpPr/>
            <p:nvPr/>
          </p:nvSpPr>
          <p:spPr>
            <a:xfrm>
              <a:off x="3809880" y="5823000"/>
              <a:ext cx="2266920" cy="1008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مجس تغذية مرتدة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edback sen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8" name="AutoShape 46"/>
            <p:cNvCxnSpPr>
              <a:stCxn id="522" idx="4"/>
              <a:endCxn id="527" idx="3"/>
            </p:cNvCxnSpPr>
            <p:nvPr/>
          </p:nvCxnSpPr>
          <p:spPr>
            <a:xfrm rot="5400000">
              <a:off x="6427800" y="4882320"/>
              <a:ext cx="969120" cy="1643760"/>
            </a:xfrm>
            <a:prstGeom prst="bentConnector2">
              <a:avLst/>
            </a:prstGeom>
            <a:ln w="76320">
              <a:solidFill>
                <a:srgbClr val="cc00ff"/>
              </a:solidFill>
              <a:miter/>
              <a:tailEnd len="med" type="triangle" w="med"/>
            </a:ln>
          </p:spPr>
        </p:cxnSp>
        <p:cxnSp>
          <p:nvCxnSpPr>
            <p:cNvPr id="529" name="AutoShape 47"/>
            <p:cNvCxnSpPr>
              <a:stCxn id="527" idx="1"/>
              <a:endCxn id="513" idx="2"/>
            </p:cNvCxnSpPr>
            <p:nvPr/>
          </p:nvCxnSpPr>
          <p:spPr>
            <a:xfrm rot="10800000">
              <a:off x="3085560" y="5468040"/>
              <a:ext cx="710280" cy="720000"/>
            </a:xfrm>
            <a:prstGeom prst="bentConnector2">
              <a:avLst/>
            </a:prstGeom>
            <a:ln w="76320">
              <a:solidFill>
                <a:srgbClr val="cc00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85816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b- Automation tasks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هام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أتمت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457200" y="1090440"/>
            <a:ext cx="8858160" cy="6829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cond: Automation of information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Times New Roman"/>
              </a:rPr>
              <a:t>مهمة أتمتة المعلومات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هناك العديد من البرامج التي تم اتمتها مثل معلومات التصميم والتصنيع والجودة والتخطيط وغيرها علي مستوي الصناعي. إلا أن هناك مهام يتم أتمتها لنظام التصنيع منها التال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3333cc"/>
                </a:solidFill>
                <a:uFillTx/>
                <a:latin typeface="Times New Roman"/>
              </a:rPr>
              <a:t>مراقبة السلامة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afety Monitoring</a:t>
            </a:r>
            <a:r>
              <a:rPr b="1" lang="ar-SA" sz="2400" spc="-1" strike="noStrike" u="sng">
                <a:solidFill>
                  <a:srgbClr val="3333cc"/>
                </a:solidFill>
                <a:uFillTx/>
                <a:latin typeface="Times New Roman"/>
              </a:rPr>
              <a:t> 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جسات وأجهزة الإنذار والتنبيه والإيقاف وبرامج التحكم في المخاطر والحماية م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3333cc"/>
                </a:solidFill>
                <a:uFillTx/>
                <a:latin typeface="Times New Roman"/>
              </a:rPr>
              <a:t>تشخيص الصيانة والاصلاح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Maintenance and Repair Diagnostics</a:t>
            </a:r>
            <a:r>
              <a:rPr b="1" lang="ar-SA" sz="2400" spc="-1" strike="noStrike" u="sng">
                <a:solidFill>
                  <a:srgbClr val="3333cc"/>
                </a:solidFill>
                <a:uFillTx/>
                <a:latin typeface="Times New Roman"/>
              </a:rPr>
              <a:t> 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تشخيص الأعطال ومراقبة حالة المعدات ووضع توصيات إجراءات الاصلا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3333cc"/>
                </a:solidFill>
                <a:uFillTx/>
                <a:latin typeface="Times New Roman"/>
              </a:rPr>
              <a:t>اكتشاف الخطأ وتصحيحه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rror Detection and Recovery</a:t>
            </a:r>
            <a:r>
              <a:rPr b="1" lang="ar-SA" sz="2400" spc="-1" strike="noStrike" u="sng">
                <a:solidFill>
                  <a:srgbClr val="3333cc"/>
                </a:solidFill>
                <a:uFillTx/>
                <a:latin typeface="Times New Roman"/>
              </a:rPr>
              <a:t> 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اكتشاف الخطأ وتحديد أسلوب حدوثه (عشوائي  أو مفاجئ أو متكرر) , وتحديد الأداء التصحيحي لتعديل الخطأ والإعلان عنه. أنظر كتا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o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لأمثلة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080" y="76320"/>
            <a:ext cx="9448920" cy="41904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c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utomation Function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n Manufactur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وظائف الأتمتة في التصن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12"/>
          <p:cNvGrpSpPr/>
          <p:nvPr/>
        </p:nvGrpSpPr>
        <p:grpSpPr>
          <a:xfrm>
            <a:off x="1311120" y="1252440"/>
            <a:ext cx="7281720" cy="4506840"/>
            <a:chOff x="1311120" y="1252440"/>
            <a:chExt cx="7281720" cy="4506840"/>
          </a:xfrm>
        </p:grpSpPr>
        <p:sp>
          <p:nvSpPr>
            <p:cNvPr id="57" name="Rectangle 6"/>
            <p:cNvSpPr/>
            <p:nvPr/>
          </p:nvSpPr>
          <p:spPr>
            <a:xfrm>
              <a:off x="1311120" y="1252440"/>
              <a:ext cx="7281720" cy="45068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8"/>
            <p:cNvSpPr/>
            <p:nvPr/>
          </p:nvSpPr>
          <p:spPr>
            <a:xfrm>
              <a:off x="1744560" y="1385640"/>
              <a:ext cx="6381720" cy="1828440"/>
            </a:xfrm>
            <a:prstGeom prst="flowChartAlternateProcess">
              <a:avLst/>
            </a:prstGeom>
            <a:solidFill>
              <a:srgbClr val="ccffcc">
                <a:alpha val="60000"/>
              </a:srgbClr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514440" indent="-5144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1- Manufacturing system support </a:t>
              </a:r>
              <a:r>
                <a:rPr b="1" lang="ar-SA" sz="2200" spc="-1" strike="noStrike">
                  <a:solidFill>
                    <a:srgbClr val="ff3300"/>
                  </a:solidFill>
                  <a:latin typeface="Times New Roman"/>
                  <a:cs typeface="Times New Roman"/>
                </a:rPr>
                <a:t>نظم التصنيع المساند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71640" indent="-343080" algn="just">
                <a:buClr>
                  <a:srgbClr val="000000"/>
                </a:buClr>
                <a:buFont typeface="Times New Roman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 design / CAD-C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71640" indent="-343080" algn="just">
                <a:buClr>
                  <a:srgbClr val="000000"/>
                </a:buClr>
                <a:buFont typeface="Times New Roman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 plan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71640" indent="-343080" algn="just">
                <a:buClr>
                  <a:srgbClr val="000000"/>
                </a:buClr>
                <a:buFont typeface="Times New Roman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ion planning and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71640" indent="-343080" algn="just">
                <a:buClr>
                  <a:srgbClr val="000000"/>
                </a:buClr>
                <a:buFont typeface="Times New Roman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intenance planning and control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71640" indent="-343080" algn="just">
                <a:buClr>
                  <a:srgbClr val="000000"/>
                </a:buClr>
                <a:buFont typeface="Times New Roman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ality operation and management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9"/>
            <p:cNvSpPr/>
            <p:nvPr/>
          </p:nvSpPr>
          <p:spPr>
            <a:xfrm>
              <a:off x="1482480" y="3816000"/>
              <a:ext cx="6943680" cy="1828440"/>
            </a:xfrm>
            <a:prstGeom prst="flowChartAlternateProcess">
              <a:avLst/>
            </a:prstGeom>
            <a:solidFill>
              <a:srgbClr val="ccffcc">
                <a:alpha val="60000"/>
              </a:srgbClr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514440" indent="-5144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2- Manufacturing system facilities  </a:t>
              </a:r>
              <a:r>
                <a:rPr b="1" lang="ar-SA" sz="2200" spc="-1" strike="noStrike">
                  <a:solidFill>
                    <a:srgbClr val="ff3300"/>
                  </a:solidFill>
                  <a:latin typeface="Times New Roman"/>
                  <a:cs typeface="Times New Roman"/>
                </a:rPr>
                <a:t>تسهيلات التصنيع المساند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71640" indent="-343080" algn="just">
                <a:buClr>
                  <a:srgbClr val="000000"/>
                </a:buClr>
                <a:buFont typeface="Times New Roman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ion machines &amp; production line technolog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71640" indent="-343080" algn="just">
                <a:buClr>
                  <a:srgbClr val="000000"/>
                </a:buClr>
                <a:buFont typeface="Times New Roman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terial handling system technolog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71640" indent="-343080" algn="just">
                <a:buClr>
                  <a:srgbClr val="000000"/>
                </a:buClr>
                <a:buFont typeface="Times New Roman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omation and control technolog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71640" indent="-343080" algn="just">
                <a:buClr>
                  <a:srgbClr val="000000"/>
                </a:buClr>
                <a:buFont typeface="Times New Roman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age retrieval system technologies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71640" indent="-343080" algn="just">
                <a:buClr>
                  <a:srgbClr val="000000"/>
                </a:buClr>
                <a:buFont typeface="Times New Roman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ality inspection system technologies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10"/>
            <p:cNvSpPr/>
            <p:nvPr/>
          </p:nvSpPr>
          <p:spPr>
            <a:xfrm rot="16200000">
              <a:off x="4637160" y="3174480"/>
              <a:ext cx="594720" cy="67464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18"/>
          <p:cNvGrpSpPr/>
          <p:nvPr/>
        </p:nvGrpSpPr>
        <p:grpSpPr>
          <a:xfrm>
            <a:off x="1311120" y="560520"/>
            <a:ext cx="7282080" cy="825480"/>
            <a:chOff x="1311120" y="560520"/>
            <a:chExt cx="7282080" cy="825480"/>
          </a:xfrm>
        </p:grpSpPr>
        <p:sp>
          <p:nvSpPr>
            <p:cNvPr id="62" name="Text Box 7"/>
            <p:cNvSpPr/>
            <p:nvPr/>
          </p:nvSpPr>
          <p:spPr>
            <a:xfrm>
              <a:off x="1844640" y="560520"/>
              <a:ext cx="617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Production System Functions  </a:t>
              </a:r>
              <a:r>
                <a:rPr b="1" lang="ar-SA" sz="24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وظائف نظام الإنتا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AutoShape 11"/>
            <p:cNvSpPr/>
            <p:nvPr/>
          </p:nvSpPr>
          <p:spPr>
            <a:xfrm rot="16200000">
              <a:off x="4830840" y="-2547720"/>
              <a:ext cx="242640" cy="7282080"/>
            </a:xfrm>
            <a:custGeom>
              <a:avLst/>
              <a:gdLst>
                <a:gd name="textAreaLeft" fmla="*/ 0 w 242640"/>
                <a:gd name="textAreaRight" fmla="*/ 87480 w 242640"/>
                <a:gd name="textAreaTop" fmla="*/ 189360 h 7282080"/>
                <a:gd name="textAreaBottom" fmla="*/ 7092720 h 72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9"/>
                    <a:pt x="10800" y="1798"/>
                  </a:cubicBezTo>
                  <a:lnTo>
                    <a:pt x="10800" y="8998"/>
                  </a:lnTo>
                  <a:cubicBezTo>
                    <a:pt x="10800" y="9897"/>
                    <a:pt x="16200" y="10796"/>
                    <a:pt x="21600" y="10796"/>
                  </a:cubicBezTo>
                  <a:cubicBezTo>
                    <a:pt x="16200" y="10796"/>
                    <a:pt x="10800" y="11695"/>
                    <a:pt x="10800" y="12594"/>
                  </a:cubicBezTo>
                  <a:lnTo>
                    <a:pt x="10800" y="19802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19"/>
          <p:cNvGrpSpPr/>
          <p:nvPr/>
        </p:nvGrpSpPr>
        <p:grpSpPr>
          <a:xfrm>
            <a:off x="1241280" y="5753160"/>
            <a:ext cx="7351920" cy="707400"/>
            <a:chOff x="1241280" y="5753160"/>
            <a:chExt cx="7351920" cy="707400"/>
          </a:xfrm>
        </p:grpSpPr>
        <p:sp>
          <p:nvSpPr>
            <p:cNvPr id="65" name="Text Box 14"/>
            <p:cNvSpPr/>
            <p:nvPr/>
          </p:nvSpPr>
          <p:spPr>
            <a:xfrm>
              <a:off x="1241280" y="6000840"/>
              <a:ext cx="735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Automating of all Production functions to have C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7"/>
            <p:cNvSpPr/>
            <p:nvPr/>
          </p:nvSpPr>
          <p:spPr>
            <a:xfrm rot="5400000">
              <a:off x="4828320" y="2235600"/>
              <a:ext cx="247680" cy="7282080"/>
            </a:xfrm>
            <a:custGeom>
              <a:avLst/>
              <a:gdLst>
                <a:gd name="textAreaLeft" fmla="*/ 0 w 247680"/>
                <a:gd name="textAreaRight" fmla="*/ 89280 w 247680"/>
                <a:gd name="textAreaTop" fmla="*/ 189720 h 7282080"/>
                <a:gd name="textAreaBottom" fmla="*/ 7092360 h 72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2920" y="75960"/>
            <a:ext cx="925668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a- Mfg Systems Automation history 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تطو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أتمتة نظم التصني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673200"/>
            <a:ext cx="7885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بن الجدول المرفق نبذة تاريخية عن تطور الأوتومات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28"/>
          <p:cNvGrpSpPr/>
          <p:nvPr/>
        </p:nvGrpSpPr>
        <p:grpSpPr>
          <a:xfrm>
            <a:off x="762120" y="1295280"/>
            <a:ext cx="8342280" cy="885960"/>
            <a:chOff x="762120" y="1295280"/>
            <a:chExt cx="8342280" cy="885960"/>
          </a:xfrm>
        </p:grpSpPr>
        <p:pic>
          <p:nvPicPr>
            <p:cNvPr id="70" name="Picture 23" descr="msotw9_temp0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8316720" cy="8859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71" name="Line 24"/>
            <p:cNvSpPr/>
            <p:nvPr/>
          </p:nvSpPr>
          <p:spPr>
            <a:xfrm>
              <a:off x="762120" y="1752480"/>
              <a:ext cx="834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25"/>
            <p:cNvSpPr/>
            <p:nvPr/>
          </p:nvSpPr>
          <p:spPr>
            <a:xfrm>
              <a:off x="2133720" y="1752480"/>
              <a:ext cx="0" cy="42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29"/>
          <p:cNvGrpSpPr/>
          <p:nvPr/>
        </p:nvGrpSpPr>
        <p:grpSpPr>
          <a:xfrm>
            <a:off x="762120" y="2286000"/>
            <a:ext cx="8316720" cy="1925640"/>
            <a:chOff x="762120" y="2286000"/>
            <a:chExt cx="8316720" cy="1925640"/>
          </a:xfrm>
        </p:grpSpPr>
        <p:pic>
          <p:nvPicPr>
            <p:cNvPr id="74" name="Picture 19" descr="msotw9_temp0"/>
            <p:cNvPicPr/>
            <p:nvPr/>
          </p:nvPicPr>
          <p:blipFill>
            <a:blip r:embed="rId2"/>
            <a:stretch/>
          </p:blipFill>
          <p:spPr>
            <a:xfrm>
              <a:off x="762120" y="2286000"/>
              <a:ext cx="8316720" cy="192564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75" name="Line 26"/>
            <p:cNvSpPr/>
            <p:nvPr/>
          </p:nvSpPr>
          <p:spPr>
            <a:xfrm>
              <a:off x="2133720" y="2286000"/>
              <a:ext cx="0" cy="192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30"/>
          <p:cNvGrpSpPr/>
          <p:nvPr/>
        </p:nvGrpSpPr>
        <p:grpSpPr>
          <a:xfrm>
            <a:off x="762120" y="4322880"/>
            <a:ext cx="8316720" cy="1849320"/>
            <a:chOff x="762120" y="4322880"/>
            <a:chExt cx="8316720" cy="1849320"/>
          </a:xfrm>
        </p:grpSpPr>
        <p:pic>
          <p:nvPicPr>
            <p:cNvPr id="77" name="Picture 20" descr="msotw9_temp0"/>
            <p:cNvPicPr/>
            <p:nvPr/>
          </p:nvPicPr>
          <p:blipFill>
            <a:blip r:embed="rId3"/>
            <a:stretch/>
          </p:blipFill>
          <p:spPr>
            <a:xfrm>
              <a:off x="762120" y="4341960"/>
              <a:ext cx="8316720" cy="183024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78" name="Line 27"/>
            <p:cNvSpPr/>
            <p:nvPr/>
          </p:nvSpPr>
          <p:spPr>
            <a:xfrm>
              <a:off x="2133720" y="4322880"/>
              <a:ext cx="0" cy="18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20" y="75960"/>
            <a:ext cx="982332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b- Mfg Systems Automation history 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تطو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أتمتة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19320" y="673200"/>
            <a:ext cx="7885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بن الجدول المرفق نبذة تاريخية عن تطور الأوتومات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9"/>
          <p:cNvGrpSpPr/>
          <p:nvPr/>
        </p:nvGrpSpPr>
        <p:grpSpPr>
          <a:xfrm>
            <a:off x="762120" y="1295280"/>
            <a:ext cx="8342280" cy="885960"/>
            <a:chOff x="762120" y="1295280"/>
            <a:chExt cx="8342280" cy="885960"/>
          </a:xfrm>
        </p:grpSpPr>
        <p:pic>
          <p:nvPicPr>
            <p:cNvPr id="82" name="Picture 10" descr="msotw9_temp0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8316720" cy="8859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83" name="Line 11"/>
            <p:cNvSpPr/>
            <p:nvPr/>
          </p:nvSpPr>
          <p:spPr>
            <a:xfrm>
              <a:off x="762120" y="1752480"/>
              <a:ext cx="834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12"/>
            <p:cNvSpPr/>
            <p:nvPr/>
          </p:nvSpPr>
          <p:spPr>
            <a:xfrm>
              <a:off x="2133720" y="1752480"/>
              <a:ext cx="0" cy="42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15"/>
          <p:cNvGrpSpPr/>
          <p:nvPr/>
        </p:nvGrpSpPr>
        <p:grpSpPr>
          <a:xfrm>
            <a:off x="762120" y="2286000"/>
            <a:ext cx="8316720" cy="2424240"/>
            <a:chOff x="762120" y="2286000"/>
            <a:chExt cx="8316720" cy="2424240"/>
          </a:xfrm>
        </p:grpSpPr>
        <p:pic>
          <p:nvPicPr>
            <p:cNvPr id="86" name="Picture 6" descr="msotw9_temp0"/>
            <p:cNvPicPr/>
            <p:nvPr/>
          </p:nvPicPr>
          <p:blipFill>
            <a:blip r:embed="rId2"/>
            <a:stretch/>
          </p:blipFill>
          <p:spPr>
            <a:xfrm>
              <a:off x="762120" y="2286000"/>
              <a:ext cx="8316720" cy="242424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87" name="Line 13"/>
            <p:cNvSpPr/>
            <p:nvPr/>
          </p:nvSpPr>
          <p:spPr>
            <a:xfrm>
              <a:off x="2133720" y="2286000"/>
              <a:ext cx="0" cy="24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16"/>
          <p:cNvGrpSpPr/>
          <p:nvPr/>
        </p:nvGrpSpPr>
        <p:grpSpPr>
          <a:xfrm>
            <a:off x="762120" y="4797360"/>
            <a:ext cx="8316720" cy="1527120"/>
            <a:chOff x="762120" y="4797360"/>
            <a:chExt cx="8316720" cy="1527120"/>
          </a:xfrm>
        </p:grpSpPr>
        <p:pic>
          <p:nvPicPr>
            <p:cNvPr id="89" name="Picture 7" descr="msotw9_temp0"/>
            <p:cNvPicPr/>
            <p:nvPr/>
          </p:nvPicPr>
          <p:blipFill>
            <a:blip r:embed="rId3"/>
            <a:stretch/>
          </p:blipFill>
          <p:spPr>
            <a:xfrm>
              <a:off x="762120" y="4797360"/>
              <a:ext cx="8316720" cy="15271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90" name="Line 14"/>
            <p:cNvSpPr/>
            <p:nvPr/>
          </p:nvSpPr>
          <p:spPr>
            <a:xfrm>
              <a:off x="2133720" y="4800600"/>
              <a:ext cx="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75960"/>
            <a:ext cx="883296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c- Automation Generation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جيال أتمتة نظم التصني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14"/>
          <p:cNvGrpSpPr/>
          <p:nvPr/>
        </p:nvGrpSpPr>
        <p:grpSpPr>
          <a:xfrm>
            <a:off x="1238400" y="609480"/>
            <a:ext cx="7371000" cy="6247800"/>
            <a:chOff x="1238400" y="609480"/>
            <a:chExt cx="7371000" cy="6247800"/>
          </a:xfrm>
        </p:grpSpPr>
        <p:grpSp>
          <p:nvGrpSpPr>
            <p:cNvPr id="93" name="Group 15"/>
            <p:cNvGrpSpPr/>
            <p:nvPr/>
          </p:nvGrpSpPr>
          <p:grpSpPr>
            <a:xfrm>
              <a:off x="1409760" y="1251720"/>
              <a:ext cx="7199640" cy="5605560"/>
              <a:chOff x="1409760" y="1251720"/>
              <a:chExt cx="7199640" cy="5605560"/>
            </a:xfrm>
          </p:grpSpPr>
          <p:pic>
            <p:nvPicPr>
              <p:cNvPr id="94" name="Picture 16" descr="msotw9_temp0"/>
              <p:cNvPicPr/>
              <p:nvPr/>
            </p:nvPicPr>
            <p:blipFill>
              <a:blip r:embed="rId1"/>
              <a:stretch/>
            </p:blipFill>
            <p:spPr>
              <a:xfrm>
                <a:off x="6319800" y="4077720"/>
                <a:ext cx="2289600" cy="277956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95" name="Picture 17" descr="msotw9_temp0"/>
              <p:cNvPicPr/>
              <p:nvPr/>
            </p:nvPicPr>
            <p:blipFill>
              <a:blip r:embed="rId2"/>
              <a:stretch/>
            </p:blipFill>
            <p:spPr>
              <a:xfrm>
                <a:off x="3831120" y="4077720"/>
                <a:ext cx="2394000" cy="277956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96" name="Picture 18" descr="msotw9_temp0"/>
              <p:cNvPicPr/>
              <p:nvPr/>
            </p:nvPicPr>
            <p:blipFill>
              <a:blip r:embed="rId3"/>
              <a:stretch/>
            </p:blipFill>
            <p:spPr>
              <a:xfrm>
                <a:off x="1409760" y="4077720"/>
                <a:ext cx="2356560" cy="277956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97" name="Picture 19" descr="msotw9_temp0"/>
              <p:cNvPicPr/>
              <p:nvPr/>
            </p:nvPicPr>
            <p:blipFill>
              <a:blip r:embed="rId4"/>
              <a:stretch/>
            </p:blipFill>
            <p:spPr>
              <a:xfrm>
                <a:off x="5025240" y="1251720"/>
                <a:ext cx="2427480" cy="277956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98" name="Picture 20" descr="msotw9_temp0"/>
              <p:cNvPicPr/>
              <p:nvPr/>
            </p:nvPicPr>
            <p:blipFill>
              <a:blip r:embed="rId5"/>
              <a:stretch/>
            </p:blipFill>
            <p:spPr>
              <a:xfrm>
                <a:off x="2731320" y="1251720"/>
                <a:ext cx="2225160" cy="277956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</p:grpSp>
        <p:sp>
          <p:nvSpPr>
            <p:cNvPr id="99" name="Text Box 21"/>
            <p:cNvSpPr/>
            <p:nvPr/>
          </p:nvSpPr>
          <p:spPr>
            <a:xfrm>
              <a:off x="1238400" y="609480"/>
              <a:ext cx="730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[A1] Powered Machine Tools (1st Gener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d- Automation Generation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جيال أتمتة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76320" y="609480"/>
            <a:ext cx="9822960" cy="6171480"/>
            <a:chOff x="76320" y="609480"/>
            <a:chExt cx="9822960" cy="6171480"/>
          </a:xfrm>
        </p:grpSpPr>
        <p:sp>
          <p:nvSpPr>
            <p:cNvPr id="102" name="Text Box 4"/>
            <p:cNvSpPr/>
            <p:nvPr/>
          </p:nvSpPr>
          <p:spPr>
            <a:xfrm>
              <a:off x="76320" y="609480"/>
              <a:ext cx="9822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[A2] Single Cycle Semi Automatic and Self Feeding Machine of Mass Production 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748440" y="1569240"/>
              <a:ext cx="8740800" cy="5211720"/>
              <a:chOff x="748440" y="1569240"/>
              <a:chExt cx="8740800" cy="5211720"/>
            </a:xfrm>
          </p:grpSpPr>
          <p:pic>
            <p:nvPicPr>
              <p:cNvPr id="104" name="Picture 6" descr="msotw9_temp0"/>
              <p:cNvPicPr/>
              <p:nvPr/>
            </p:nvPicPr>
            <p:blipFill>
              <a:blip r:embed="rId1"/>
              <a:stretch/>
            </p:blipFill>
            <p:spPr>
              <a:xfrm>
                <a:off x="748440" y="1569240"/>
                <a:ext cx="2934000" cy="255744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105" name="Picture 7" descr="msotw9_temp0"/>
              <p:cNvPicPr/>
              <p:nvPr/>
            </p:nvPicPr>
            <p:blipFill>
              <a:blip r:embed="rId2"/>
              <a:stretch/>
            </p:blipFill>
            <p:spPr>
              <a:xfrm>
                <a:off x="1950840" y="4217760"/>
                <a:ext cx="3117960" cy="256320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106" name="Picture 8" descr="msotw9_temp0"/>
              <p:cNvPicPr/>
              <p:nvPr/>
            </p:nvPicPr>
            <p:blipFill>
              <a:blip r:embed="rId3"/>
              <a:stretch/>
            </p:blipFill>
            <p:spPr>
              <a:xfrm>
                <a:off x="3785400" y="1569240"/>
                <a:ext cx="2497320" cy="255744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107" name="Picture 9" descr="msotw9_temp0"/>
              <p:cNvPicPr/>
              <p:nvPr/>
            </p:nvPicPr>
            <p:blipFill>
              <a:blip r:embed="rId4"/>
              <a:stretch/>
            </p:blipFill>
            <p:spPr>
              <a:xfrm>
                <a:off x="5150520" y="4223160"/>
                <a:ext cx="3125520" cy="255744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108" name="Picture 10" descr="msotw9_temp0"/>
              <p:cNvPicPr/>
              <p:nvPr/>
            </p:nvPicPr>
            <p:blipFill>
              <a:blip r:embed="rId5"/>
              <a:stretch/>
            </p:blipFill>
            <p:spPr>
              <a:xfrm>
                <a:off x="6371280" y="1569240"/>
                <a:ext cx="3117960" cy="255744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88984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e- Automation Generation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جيال أتمتة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166680" y="609480"/>
            <a:ext cx="9408600" cy="2971800"/>
            <a:chOff x="166680" y="609480"/>
            <a:chExt cx="9408600" cy="2971800"/>
          </a:xfrm>
        </p:grpSpPr>
        <p:sp>
          <p:nvSpPr>
            <p:cNvPr id="111" name="Text Box 4"/>
            <p:cNvSpPr/>
            <p:nvPr/>
          </p:nvSpPr>
          <p:spPr>
            <a:xfrm>
              <a:off x="166680" y="609480"/>
              <a:ext cx="9408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89400"/>
                  </a:solidFill>
                  <a:latin typeface="Times New Roman"/>
                </a:rPr>
                <a:t>[A3] Automatic Repeat Cycle Machine Tools With Open Loop Control </a:t>
              </a: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Concep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5"/>
            <p:cNvGrpSpPr/>
            <p:nvPr/>
          </p:nvGrpSpPr>
          <p:grpSpPr>
            <a:xfrm>
              <a:off x="1137960" y="1447920"/>
              <a:ext cx="7446240" cy="2133360"/>
              <a:chOff x="1137960" y="1447920"/>
              <a:chExt cx="7446240" cy="2133360"/>
            </a:xfrm>
          </p:grpSpPr>
          <p:pic>
            <p:nvPicPr>
              <p:cNvPr id="113" name="Picture 6" descr="msotw9_temp0"/>
              <p:cNvPicPr/>
              <p:nvPr/>
            </p:nvPicPr>
            <p:blipFill>
              <a:blip r:embed="rId1"/>
              <a:stretch/>
            </p:blipFill>
            <p:spPr>
              <a:xfrm>
                <a:off x="1137960" y="1447920"/>
                <a:ext cx="3835800" cy="213336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114" name="Picture 7" descr="msotw9_temp0"/>
              <p:cNvPicPr/>
              <p:nvPr/>
            </p:nvPicPr>
            <p:blipFill>
              <a:blip r:embed="rId2"/>
              <a:stretch/>
            </p:blipFill>
            <p:spPr>
              <a:xfrm>
                <a:off x="5071680" y="1447920"/>
                <a:ext cx="3512520" cy="213336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</p:grpSp>
      </p:grpSp>
      <p:grpSp>
        <p:nvGrpSpPr>
          <p:cNvPr id="115" name="Group 8"/>
          <p:cNvGrpSpPr/>
          <p:nvPr/>
        </p:nvGrpSpPr>
        <p:grpSpPr>
          <a:xfrm>
            <a:off x="82440" y="3657600"/>
            <a:ext cx="9823320" cy="3171600"/>
            <a:chOff x="82440" y="3657600"/>
            <a:chExt cx="9823320" cy="3171600"/>
          </a:xfrm>
        </p:grpSpPr>
        <p:grpSp>
          <p:nvGrpSpPr>
            <p:cNvPr id="116" name="Group 9"/>
            <p:cNvGrpSpPr/>
            <p:nvPr/>
          </p:nvGrpSpPr>
          <p:grpSpPr>
            <a:xfrm>
              <a:off x="166680" y="4495680"/>
              <a:ext cx="9684000" cy="2333520"/>
              <a:chOff x="166680" y="4495680"/>
              <a:chExt cx="9684000" cy="2333520"/>
            </a:xfrm>
          </p:grpSpPr>
          <p:pic>
            <p:nvPicPr>
              <p:cNvPr id="117" name="Picture 10" descr="msotw9_temp0"/>
              <p:cNvPicPr/>
              <p:nvPr/>
            </p:nvPicPr>
            <p:blipFill>
              <a:blip r:embed="rId3"/>
              <a:stretch/>
            </p:blipFill>
            <p:spPr>
              <a:xfrm>
                <a:off x="166680" y="4505400"/>
                <a:ext cx="3214800" cy="232380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118" name="Picture 11" descr="msotw9_temp0"/>
              <p:cNvPicPr/>
              <p:nvPr/>
            </p:nvPicPr>
            <p:blipFill>
              <a:blip r:embed="rId4"/>
              <a:stretch/>
            </p:blipFill>
            <p:spPr>
              <a:xfrm>
                <a:off x="3449880" y="4495680"/>
                <a:ext cx="3334680" cy="233352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119" name="Picture 12" descr="msotw9_temp0"/>
              <p:cNvPicPr/>
              <p:nvPr/>
            </p:nvPicPr>
            <p:blipFill>
              <a:blip r:embed="rId5"/>
              <a:stretch/>
            </p:blipFill>
            <p:spPr>
              <a:xfrm>
                <a:off x="6819840" y="4495680"/>
                <a:ext cx="3030840" cy="233352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</p:grpSp>
        <p:sp>
          <p:nvSpPr>
            <p:cNvPr id="120" name="Text Box 13"/>
            <p:cNvSpPr/>
            <p:nvPr/>
          </p:nvSpPr>
          <p:spPr>
            <a:xfrm>
              <a:off x="82440" y="3657600"/>
              <a:ext cx="9823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[A4] Automatic Self Measuring and Adjusting Machine Tools With Feedback Closed Loop Control Concep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0T20:23:49Z</dcterms:created>
  <dc:creator>DR.ABDULAZIZ M. AL-TAMIMI</dc:creator>
  <dc:description/>
  <dc:language>en-US</dc:language>
  <cp:lastModifiedBy>A Al-Tamimi</cp:lastModifiedBy>
  <dcterms:modified xsi:type="dcterms:W3CDTF">2013-03-13T10:42:40Z</dcterms:modified>
  <cp:revision>21</cp:revision>
  <dc:subject/>
  <dc:title>الوحدة الأولى : أساسيات نظم التصنيع Manufacturing Systems Fundamentals</dc:title>
</cp:coreProperties>
</file>