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2DF-A79D-4C2A-AB61-FE883AC2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268-FEA9-4596-9AC8-B6A37F23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951-8C78-4D15-B2FC-96E92AAB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201-82EB-43B1-92D2-68EB687A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F12-576A-4E64-AF7C-E7BBF554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C32-447F-4939-85D9-B7B92C25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4D2-CCC2-4BBA-84F9-182BD196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152-E288-4919-BDFF-8E398659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7B2-EEC8-492F-877F-5B4779F1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142-7B91-4990-AC8D-6C1CC391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BF6-B067-43DD-9B9E-173E9D70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429-812D-4CCE-A13A-CEAA4DED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FD73-C74B-4C6C-B728-4DC2886D3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8798" t="3657" r="8798" b="3657"/>
          <a:stretch/>
        </p:blipFill>
        <p:spPr>
          <a:xfrm>
            <a:off x="533520" y="533520"/>
            <a:ext cx="1081080" cy="1217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360" y="2519280"/>
            <a:ext cx="77389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Calibri"/>
                <a:cs typeface="AL-Mateen"/>
              </a:rPr>
              <a:t>تعريف الإستراتيجي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5508720" y="981000"/>
            <a:ext cx="3409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42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خط - التخطيط الاستراتيجي الحضر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71640" y="4319280"/>
            <a:ext cx="5400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98989"/>
                </a:solidFill>
                <a:latin typeface="Arabic Typesetting"/>
                <a:cs typeface="Arabic Typesetting"/>
              </a:rPr>
              <a:t>الأسبــوع الـثـ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98989"/>
                </a:solidFill>
                <a:latin typeface="Arabic Typesetting"/>
                <a:ea typeface="Arabic Typesetting"/>
              </a:rPr>
              <a:t>1434/11/4</a:t>
            </a:r>
            <a:r>
              <a:rPr b="1" lang="ar-SA" sz="2000" spc="-1" strike="noStrike">
                <a:solidFill>
                  <a:srgbClr val="898989"/>
                </a:solidFill>
                <a:latin typeface="Arabic Typesetting"/>
                <a:cs typeface="Arabic Typesetting"/>
              </a:rPr>
              <a:t>ه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5"/>
          <p:cNvGrpSpPr/>
          <p:nvPr/>
        </p:nvGrpSpPr>
        <p:grpSpPr>
          <a:xfrm>
            <a:off x="0" y="6381720"/>
            <a:ext cx="9144000" cy="503280"/>
            <a:chOff x="0" y="6381720"/>
            <a:chExt cx="9144000" cy="503280"/>
          </a:xfrm>
        </p:grpSpPr>
        <p:sp>
          <p:nvSpPr>
            <p:cNvPr id="46" name="Subtitle 2"/>
            <p:cNvSpPr/>
            <p:nvPr/>
          </p:nvSpPr>
          <p:spPr>
            <a:xfrm>
              <a:off x="0" y="6381720"/>
              <a:ext cx="9144000" cy="503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442</a:t>
              </a: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 تخط - التخطيط الاستراتيجي الحضري                                             </a:t>
              </a:r>
              <a:r>
                <a:rPr b="1" lang="en-GB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PL442 – Urban Strategic Plann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" name="Picture 8" descr="ksu_logo_3.jpg"/>
            <p:cNvPicPr/>
            <p:nvPr/>
          </p:nvPicPr>
          <p:blipFill>
            <a:blip r:embed="rId2"/>
            <a:stretch/>
          </p:blipFill>
          <p:spPr>
            <a:xfrm>
              <a:off x="4358520" y="6406560"/>
              <a:ext cx="4266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L-Mateen"/>
              </a:rPr>
              <a:t>ماهي الإستراتيج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L-Mohanad Bold"/>
              </a:rPr>
              <a:t>لا يوجد تعريف موحد للإستراتيج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L-Mohanad Bold"/>
              </a:rPr>
              <a:t>يتركز مجال إستخدام الإستراتيجية في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L-Mohanad Bold"/>
              </a:rPr>
              <a:t>خطة للتغلب على مناف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L-Mohanad Bold"/>
              </a:rPr>
              <a:t>مخطط للوصول لأهداف عامة (على شكل رسالة وغاي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L-Mohanad Bold"/>
              </a:rPr>
              <a:t>غالباً ما تستخدم في مجال إدارة الأعم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4"/>
          <p:cNvSpPr/>
          <p:nvPr/>
        </p:nvSpPr>
        <p:spPr>
          <a:xfrm>
            <a:off x="431640" y="1440000"/>
            <a:ext cx="828072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0" y="6381720"/>
            <a:ext cx="9144000" cy="503280"/>
            <a:chOff x="0" y="6381720"/>
            <a:chExt cx="9144000" cy="503280"/>
          </a:xfrm>
        </p:grpSpPr>
        <p:sp>
          <p:nvSpPr>
            <p:cNvPr id="52" name="Subtitle 2"/>
            <p:cNvSpPr/>
            <p:nvPr/>
          </p:nvSpPr>
          <p:spPr>
            <a:xfrm>
              <a:off x="0" y="6381720"/>
              <a:ext cx="9144000" cy="503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442</a:t>
              </a: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 تخط - التخطيط الاستراتيجي الحضري                                             </a:t>
              </a:r>
              <a:r>
                <a:rPr b="1" lang="en-GB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PL442 – Urban Strategic Plann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Picture 7" descr="ksu_logo_3.jpg"/>
            <p:cNvPicPr/>
            <p:nvPr/>
          </p:nvPicPr>
          <p:blipFill>
            <a:blip r:embed="rId1"/>
            <a:stretch/>
          </p:blipFill>
          <p:spPr>
            <a:xfrm>
              <a:off x="4358520" y="6406560"/>
              <a:ext cx="4266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L-Mateen"/>
              </a:rPr>
              <a:t>أنواع الإستراتيج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L-Mohanad Bold"/>
              </a:rPr>
              <a:t>حدد أحد خبراء إدارة الأعمال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L-Mohanad Bold"/>
              </a:rPr>
              <a:t>Henry Mintzberg, 1987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L-Mohanad Bold"/>
              </a:rPr>
              <a:t>) خمسة تعاريف تمثل المناهج المتبعة لتشكيل الإستراتيج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P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76520" y="3962520"/>
          <a:ext cx="4267080" cy="198108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a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L-Mohanad Bold"/>
                        </a:rPr>
                        <a:t>مخط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a pl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 rtl="1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L-Mohanad Bold"/>
                        </a:rPr>
                        <a:t>حي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a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L-Mohanad Bold"/>
                        </a:rPr>
                        <a:t>نم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a 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L-Mohanad Bold"/>
                        </a:rPr>
                        <a:t>موق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a perspe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r" rtl="1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L-Mohanad Bold"/>
                        </a:rPr>
                        <a:t>منظ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Straight Connector 5"/>
          <p:cNvSpPr/>
          <p:nvPr/>
        </p:nvSpPr>
        <p:spPr>
          <a:xfrm>
            <a:off x="431640" y="1440000"/>
            <a:ext cx="828072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6"/>
          <p:cNvGrpSpPr/>
          <p:nvPr/>
        </p:nvGrpSpPr>
        <p:grpSpPr>
          <a:xfrm>
            <a:off x="0" y="6381720"/>
            <a:ext cx="9144000" cy="503280"/>
            <a:chOff x="0" y="6381720"/>
            <a:chExt cx="9144000" cy="503280"/>
          </a:xfrm>
        </p:grpSpPr>
        <p:sp>
          <p:nvSpPr>
            <p:cNvPr id="59" name="Subtitle 2"/>
            <p:cNvSpPr/>
            <p:nvPr/>
          </p:nvSpPr>
          <p:spPr>
            <a:xfrm>
              <a:off x="0" y="6381720"/>
              <a:ext cx="9144000" cy="503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442</a:t>
              </a: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 تخط - التخطيط الاستراتيجي الحضري                                             </a:t>
              </a:r>
              <a:r>
                <a:rPr b="1" lang="en-GB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PL442 – Urban Strategic Plann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Picture 8" descr="ksu_logo_3.jpg"/>
            <p:cNvPicPr/>
            <p:nvPr/>
          </p:nvPicPr>
          <p:blipFill>
            <a:blip r:embed="rId1"/>
            <a:stretch/>
          </p:blipFill>
          <p:spPr>
            <a:xfrm>
              <a:off x="4358520" y="6406560"/>
              <a:ext cx="4266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L-Mateen"/>
              </a:rPr>
              <a:t>أنواع الإستراتيج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L-Mateen"/>
              </a:rPr>
              <a:t>مـــخــطــ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مسار عمل مبرمج لغاية محدد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خطوط إرشادية للتعامل مع وضع معي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L-Mateen"/>
              </a:rPr>
              <a:t>حـــيـــلـــ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خطة للمنافسة (المقصد من الخطة هو ما يحدد كونها حيل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مناورة تشتمل تكتيك يهدف للتغلب على خص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L-Mateen"/>
              </a:rPr>
              <a:t>نــــــمــــ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نمط لنهج معين من الأعما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سلوك متبع ويحقق نجاحاً سواء كان سلوك مقصود أو بدون قص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L-Mateen"/>
              </a:rPr>
              <a:t>مــوقـــ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إختيار الوضعية الملائمة ضمن البيئة المحيط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تحديد موضعك في السو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Calibri"/>
                <a:cs typeface="AL-Mateen"/>
              </a:rPr>
              <a:t>مــنــظــ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ما ترسخ في الذهن كطريقة للتفكي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165320" indent="-26676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AL-Mohanad Bold"/>
              </a:rPr>
              <a:t>شبيه بفكرة السلوك الشخصي (أسلوب التفكير هو ما يحدد وجهة النظر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10"/>
          <p:cNvSpPr/>
          <p:nvPr/>
        </p:nvSpPr>
        <p:spPr>
          <a:xfrm>
            <a:off x="431640" y="1440000"/>
            <a:ext cx="828072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4"/>
          <p:cNvGrpSpPr/>
          <p:nvPr/>
        </p:nvGrpSpPr>
        <p:grpSpPr>
          <a:xfrm>
            <a:off x="0" y="6381720"/>
            <a:ext cx="9144000" cy="503280"/>
            <a:chOff x="0" y="6381720"/>
            <a:chExt cx="9144000" cy="503280"/>
          </a:xfrm>
        </p:grpSpPr>
        <p:sp>
          <p:nvSpPr>
            <p:cNvPr id="65" name="Subtitle 2"/>
            <p:cNvSpPr/>
            <p:nvPr/>
          </p:nvSpPr>
          <p:spPr>
            <a:xfrm>
              <a:off x="0" y="6381720"/>
              <a:ext cx="9144000" cy="5032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442</a:t>
              </a:r>
              <a:r>
                <a:rPr b="1" lang="ar-SA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 تخط - التخطيط الاستراتيجي الحضري                                             </a:t>
              </a:r>
              <a:r>
                <a:rPr b="1" lang="en-GB" sz="2400" spc="-1" strike="noStrike">
                  <a:solidFill>
                    <a:srgbClr val="002060"/>
                  </a:solidFill>
                  <a:latin typeface="Arabic Typesetting"/>
                  <a:ea typeface="Arabic Typesetting"/>
                </a:rPr>
                <a:t>PL442 – Urban Strategic Plannin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" name="Picture 6" descr="ksu_logo_3.jpg"/>
            <p:cNvPicPr/>
            <p:nvPr/>
          </p:nvPicPr>
          <p:blipFill>
            <a:blip r:embed="rId1"/>
            <a:stretch/>
          </p:blipFill>
          <p:spPr>
            <a:xfrm>
              <a:off x="4358520" y="6406560"/>
              <a:ext cx="4266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04:41:10Z</dcterms:created>
  <dc:creator>Deputy Dean</dc:creator>
  <dc:description/>
  <dc:language>en-US</dc:language>
  <cp:lastModifiedBy>Deputy Dean</cp:lastModifiedBy>
  <cp:lastPrinted>2013-10-29T07:53:36Z</cp:lastPrinted>
  <dcterms:modified xsi:type="dcterms:W3CDTF">2013-10-29T07:53:39Z</dcterms:modified>
  <cp:revision>16</cp:revision>
  <dc:subject/>
  <dc:title>PowerPoint Presentation</dc:title>
</cp:coreProperties>
</file>