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A7D-F813-4005-9147-46062201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4DF-0E66-409A-8416-7F54C16E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7B4-25D0-47E0-A92C-F7A1EAE2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37E-0FD6-4102-858A-1C3A11D9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B6D-2BE3-4617-B62C-A3A36B4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729-E7B8-40D0-AB1A-FF281AE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CF7-C6D9-4AEE-B7CA-879D3224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8A3-4D05-4C6B-B870-1B02CD5E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65E-0DCC-446C-821B-BD87991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072-F090-4C3B-B15A-8A65AF4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9F4-7CC9-4C7A-94FC-CCCEF07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5DF-192A-4BCD-A702-2FBB7D3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E34-8766-4B64-A358-28C6F9AA2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8798" t="3657" r="8798" b="3657"/>
          <a:stretch/>
        </p:blipFill>
        <p:spPr>
          <a:xfrm>
            <a:off x="533520" y="533520"/>
            <a:ext cx="1081080" cy="121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2519280"/>
            <a:ext cx="7738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  <a:cs typeface="AL-Mateen"/>
              </a:rPr>
              <a:t>تعريف الإستراتيج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5508720" y="981000"/>
            <a:ext cx="3409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42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خط - التخطيط الاستراتيجي الح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71640" y="431928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98989"/>
                </a:solidFill>
                <a:latin typeface="Arabic Typesetting"/>
                <a:cs typeface="Arabic Typesetting"/>
              </a:rPr>
              <a:t>الأسبــوع الـثـ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98989"/>
                </a:solidFill>
                <a:latin typeface="Arabic Typesetting"/>
                <a:ea typeface="Arabic Typesetting"/>
              </a:rPr>
              <a:t>1434/11/4</a:t>
            </a:r>
            <a:r>
              <a:rPr b="1" lang="ar-SA" sz="2000" spc="-1" strike="noStrike">
                <a:solidFill>
                  <a:srgbClr val="898989"/>
                </a:solidFill>
                <a:latin typeface="Arabic Typesetting"/>
                <a:cs typeface="Arabic Typesetting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46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8" descr="ksu_logo_3.jpg"/>
            <p:cNvPicPr/>
            <p:nvPr/>
          </p:nvPicPr>
          <p:blipFill>
            <a:blip r:embed="rId2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ماهي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لا يوجد تعريف موحد للإستراتي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يتركز مجال إستخدام الإستراتيجية ف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ة للتغلب على مناف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L-Mohanad Bold"/>
              </a:rPr>
              <a:t>مخطط للوصول لأهداف عامة (على شكل رسالة وغا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غالباً ما تستخدم في مجال إدارة الأعم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52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Picture 7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أنواع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حدد أحد خبراء إدارة الأعمال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L-Mohanad Bold"/>
              </a:rPr>
              <a:t>Henry Mintzberg, 198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L-Mohanad Bold"/>
              </a:rPr>
              <a:t>) خمسة تعاريف تمثل المناهج المتبعة لتشكيل الإستراتيج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P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76520" y="3962520"/>
          <a:ext cx="4267080" cy="198108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l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حي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نم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وق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erspe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نظ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Straight Connector 5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59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Picture 8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أنواع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ـخــطــ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سار عمل مبرمج لغاية محدد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وط إرشادية للتعامل مع وضع معي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حـــيـــلـــ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ة للمنافسة (المقصد من الخطة هو ما يحدد كونها حيل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ناورة تشتمل تكتيك يهدف للتغلب على خص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نــــــمــــ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نمط لنهج معين من الأعما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سلوك متبع ويحقق نجاحاً سواء كان سلوك مقصود أو بدون قص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وقـــ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إختيار الوضعية الملائمة ضمن البيئة المحيط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تحديد موضعك في السو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نــظــ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ا ترسخ في الذهن كطريقة للتفكي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شبيه بفكرة السلوك الشخصي (أسلوب التفكير هو ما يحدد وجهة النظر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0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65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Picture 6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4:41:10Z</dcterms:created>
  <dc:creator>Deputy Dean</dc:creator>
  <dc:description/>
  <dc:language>en-US</dc:language>
  <cp:lastModifiedBy>Deputy Dean</cp:lastModifiedBy>
  <cp:lastPrinted>2013-10-29T07:53:36Z</cp:lastPrinted>
  <dcterms:modified xsi:type="dcterms:W3CDTF">2013-10-29T07:53:39Z</dcterms:modified>
  <cp:revision>16</cp:revision>
  <dc:subject/>
  <dc:title>PowerPoint Presentation</dc:title>
</cp:coreProperties>
</file>