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BCD2D-1808-4809-9D43-4BAA6A90A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F665-534C-4F4A-8F74-ECE54BA8E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03EF-DC10-4420-AE7E-0E31FDC77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E9D5D-2071-464C-B657-640D3DC14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FCDDE-0F9D-4DB2-9D6F-8E4DE9468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82E0F-BA1A-442E-8844-D8209621F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EAF9B-94E4-436F-AF8B-1E445DD5C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DA63D-CB93-4904-B7D2-7A3A50325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7C370-FA53-49EC-954B-12155D4CB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EC740-44D8-4BC8-A0E9-5A3694523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777CB-9C18-416F-A7DC-D8848B31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D9A79-816B-4794-8FA3-032D9A57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CFB5-983D-465C-86D7-CEEBA34D1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06376-A58E-432D-BB2B-A347E8C1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1DD92-A117-405E-BAA5-735FE8834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0A7D8-EDB3-4ABE-ABB4-FB7DB7011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BF66A-B3CF-46CE-9461-33F818E0C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7F221-71E2-4159-AF23-E9364DCE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1492-86A0-49D3-BA47-A4D82DB2B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7A3A2-ACB4-42A8-926C-DBAFA293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9B4B-0A21-4996-A87A-B475E9ADB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8A62-CE2F-4A8E-AA69-AA859105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0F74-5449-434D-82E7-230FA0EB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EB68-C830-4D63-9440-6CD22F8B7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636A-DCA9-4CE6-83D6-00F4612F680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D349-EC1C-46F7-8785-A4DCACF7068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26560" y="1052280"/>
            <a:ext cx="7620120" cy="234612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000000"/>
                </a:solidFill>
                <a:uFillTx/>
                <a:latin typeface="Arial"/>
              </a:rPr>
              <a:t>تنمية معايير منهج الرياضيات في مرحلة رياض الاطفال</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 في مجال المفاهيم الرياضية </a:t>
            </a:r>
            <a:endParaRPr b="0" lang="en-US" sz="3600" spc="-1" strike="noStrike">
              <a:solidFill>
                <a:srgbClr val="8c0039"/>
              </a:solidFill>
              <a:latin typeface="Arial"/>
            </a:endParaRPr>
          </a:p>
        </p:txBody>
      </p:sp>
      <p:sp>
        <p:nvSpPr>
          <p:cNvPr id="103" name=""/>
          <p:cNvSpPr txBox="1"/>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ضول هو القوة الدافعة وراء حل المشكلات, وكذلك الاهتمام بالاستكشاف.</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ساؤل والاجابة على التساؤلات يعتبر جوهر عملية حل المشكلات. و يجب ان تكون المشكلة حقيقية بالنسبة للأطفال بإمكانهم ادراكها وتثير فضولهم ويرغبون في الاجابة عليها.</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خامات محسوسة والرسم وكتابة الشرح لحل المشكلات هو افضل دعم لتحسين مهارات حل المشكلات.</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24240" y="2642760"/>
            <a:ext cx="6400800" cy="4496040"/>
          </a:xfrm>
          <a:prstGeom prst="rect">
            <a:avLst/>
          </a:prstGeom>
          <a:noFill/>
          <a:ln w="0">
            <a:noFill/>
          </a:ln>
        </p:spPr>
        <p:txBody>
          <a:bodyPr anchor="t">
            <a:norm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تخطيط لتنمية المهارات الرياضية من خلال منهج رياض الاطفال</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تستطيع المعلمة تحقيق ذلك؟</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تخطيط للمهارات الرياضية من خلال </a:t>
            </a:r>
            <a:r>
              <a:rPr b="1" lang="ar-SA" sz="3600" spc="-1" strike="noStrike">
                <a:solidFill>
                  <a:srgbClr val="c00000"/>
                </a:solidFill>
                <a:latin typeface="Arial"/>
              </a:rPr>
              <a:t>منهج رياض الاطفال</a:t>
            </a:r>
            <a:r>
              <a:rPr b="0" lang="ar-SA" sz="3600" spc="-1" strike="noStrike">
                <a:solidFill>
                  <a:srgbClr val="c00000"/>
                </a:solidFill>
                <a:latin typeface="Arial"/>
              </a:rPr>
              <a:t>، يجب ان يحتوي على:</a:t>
            </a:r>
            <a:endParaRPr b="0" lang="en-US" sz="3600" spc="-1" strike="noStrike">
              <a:solidFill>
                <a:srgbClr val="8c0039"/>
              </a:solidFill>
              <a:latin typeface="Arial"/>
            </a:endParaRPr>
          </a:p>
        </p:txBody>
      </p:sp>
      <p:sp>
        <p:nvSpPr>
          <p:cNvPr id="107" name=""/>
          <p:cNvSpPr txBox="1"/>
          <p:nvPr/>
        </p:nvSpPr>
        <p:spPr>
          <a:xfrm>
            <a:off x="2411280" y="1700280"/>
            <a:ext cx="6400800" cy="4495680"/>
          </a:xfrm>
          <a:prstGeom prst="rect">
            <a:avLst/>
          </a:prstGeom>
          <a:noFill/>
          <a:ln w="0">
            <a:noFill/>
          </a:ln>
        </p:spPr>
        <p:txBody>
          <a:bodyPr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معلمة التامة بالمفاهيم والمهارات الرياضية التي يتطلب تنميتها.</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هيئة بيئة صفية غنية با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مج الخبرات الرياضية خلال فترات الجدول اليومي.</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خطيط  الجيد ل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ييم نمو الاطفال في المها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شراك الاهل في تعليم الخبرات الرياضية للأطفال.</a:t>
            </a:r>
            <a:endParaRPr b="0" lang="en-US" sz="3200" spc="-1" strike="noStrike">
              <a:solidFill>
                <a:srgbClr val="000000"/>
              </a:solidFill>
              <a:latin typeface="Arial"/>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438280" y="1600200"/>
            <a:ext cx="6400800" cy="4495680"/>
          </a:xfrm>
          <a:prstGeom prst="rect">
            <a:avLst/>
          </a:prstGeom>
          <a:noFill/>
          <a:ln w="0">
            <a:noFill/>
          </a:ln>
        </p:spPr>
        <p:txBody>
          <a:bodyPr anchor="t">
            <a:norm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aff"/>
                </a:solidFill>
                <a:latin typeface="Arial"/>
              </a:rPr>
              <a:t>مع مجموعتك ناقشي كيف يتم التخطيط للمهارات الرياضية من خلال منهج رياض الأطفال؟</a:t>
            </a:r>
            <a:endParaRPr b="0" lang="en-US" sz="4000" spc="-1" strike="noStrike">
              <a:solidFill>
                <a:srgbClr val="000000"/>
              </a:solidFill>
              <a:latin typeface="Arial"/>
            </a:endParaRPr>
          </a:p>
        </p:txBody>
      </p:sp>
      <p:pic>
        <p:nvPicPr>
          <p:cNvPr id="109" name="Picture 2" descr="C:\Users\laljathlan\Desktop\images7HKUHLJ8.jpg"/>
          <p:cNvPicPr/>
          <p:nvPr/>
        </p:nvPicPr>
        <p:blipFill>
          <a:blip r:embed="rId1"/>
          <a:stretch/>
        </p:blipFill>
        <p:spPr>
          <a:xfrm>
            <a:off x="7093080" y="4653000"/>
            <a:ext cx="152388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1</a:t>
            </a:r>
            <a:r>
              <a:rPr b="0" lang="ar-SA" sz="3600" spc="-1" strike="noStrike">
                <a:solidFill>
                  <a:srgbClr val="8c0039"/>
                </a:solidFill>
                <a:latin typeface="Arial"/>
              </a:rPr>
              <a:t>- معرفة المعلمة التامة بالمفاهيم والمهارات الرياضية (مجالات المحتوى الرياضي)التي يتطلب تنميتها:</a:t>
            </a:r>
            <a:endParaRPr b="0" lang="en-US" sz="3600" spc="-1" strike="noStrike">
              <a:solidFill>
                <a:srgbClr val="8c0039"/>
              </a:solidFill>
              <a:latin typeface="Arial"/>
            </a:endParaRPr>
          </a:p>
        </p:txBody>
      </p:sp>
      <p:sp>
        <p:nvSpPr>
          <p:cNvPr id="111" name=""/>
          <p:cNvSpPr txBox="1"/>
          <p:nvPr/>
        </p:nvSpPr>
        <p:spPr>
          <a:xfrm>
            <a:off x="2124000" y="1600200"/>
            <a:ext cx="6912000" cy="4495680"/>
          </a:xfrm>
          <a:prstGeom prst="rect">
            <a:avLst/>
          </a:prstGeom>
          <a:noFill/>
          <a:ln w="0">
            <a:noFill/>
          </a:ln>
        </p:spPr>
        <p:txBody>
          <a:bodyPr anchor="t">
            <a:normAutofit fontScale="92000"/>
          </a:bodyPr>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تتمكن المعلمة من تنمية المفاهيم والمهارات الرياضية لدى اطفالها، يجب ان تكون على معرفة بها، وتدرجها وطرق تنميتها، ومجالات المحتوى الرياضي هي:</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هارات ما قبل العدد : التصنيف – المطابقة والتناظر الاحادي- التسلسل – المفاهيم المتصلة بالمكان – مفهوم الاحتفاظ</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رقام والعمليات الحسابية</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ندسة  </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اس والزمن</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البيانات : جمع بيانات تهمه عن بيئته او اصحابه او نفسه وتصنيفها حسب خصائص معينة ووصفها ومناقشتها.. مثال؟؟؟</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28240"/>
            <a:ext cx="714672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2</a:t>
            </a:r>
            <a:r>
              <a:rPr b="0" lang="ar-SA" sz="3600" spc="-1" strike="noStrike">
                <a:solidFill>
                  <a:srgbClr val="8c0039"/>
                </a:solidFill>
                <a:latin typeface="Arial"/>
              </a:rPr>
              <a:t>- تهيئة بيئة صفية غنية بالخبرات الرياضية:</a:t>
            </a:r>
            <a:endParaRPr b="0" lang="en-US" sz="3600" spc="-1" strike="noStrike">
              <a:solidFill>
                <a:srgbClr val="8c0039"/>
              </a:solidFill>
              <a:latin typeface="Arial"/>
            </a:endParaRPr>
          </a:p>
        </p:txBody>
      </p:sp>
      <p:sp>
        <p:nvSpPr>
          <p:cNvPr id="113" name=""/>
          <p:cNvSpPr txBox="1"/>
          <p:nvPr/>
        </p:nvSpPr>
        <p:spPr>
          <a:xfrm>
            <a:off x="2050560" y="1600200"/>
            <a:ext cx="6985080" cy="4495680"/>
          </a:xfrm>
          <a:prstGeom prst="rect">
            <a:avLst/>
          </a:prstGeom>
          <a:noFill/>
          <a:ln w="0">
            <a:noFill/>
          </a:ln>
        </p:spPr>
        <p:txBody>
          <a:bodyPr anchor="t">
            <a:normAutofit fontScale="98000"/>
          </a:bodyPr>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معلمة اغناء البيئة بالرياضيات بعدة طرق:</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خبرات  المكتوبة التي تحتوي على مفاهيم رياضية وتعليقها بشكل واضح في غرفة الصف، بحيث تكون هذه الخبرة نابعة من اهتمامات  الاطفال حتى يستخدموها ويفهموها مثل  ( خطوات عمل طبخه ..</a:t>
            </a:r>
            <a:r>
              <a:rPr b="0" lang="ar-SA" sz="2400" spc="-1" strike="noStrike">
                <a:solidFill>
                  <a:srgbClr val="000000"/>
                </a:solidFill>
                <a:latin typeface="Arial"/>
              </a:rPr>
              <a:t>2</a:t>
            </a:r>
            <a:r>
              <a:rPr b="0" lang="ar-SA" sz="2400" spc="-1" strike="noStrike">
                <a:solidFill>
                  <a:srgbClr val="000000"/>
                </a:solidFill>
                <a:latin typeface="Arial"/>
              </a:rPr>
              <a:t> بيض+ </a:t>
            </a:r>
            <a:r>
              <a:rPr b="0" lang="ar-SA" sz="2400" spc="-1" strike="noStrike">
                <a:solidFill>
                  <a:srgbClr val="000000"/>
                </a:solidFill>
                <a:latin typeface="Arial"/>
              </a:rPr>
              <a:t>1</a:t>
            </a:r>
            <a:r>
              <a:rPr b="0" lang="ar-SA" sz="2400" spc="-1" strike="noStrike">
                <a:solidFill>
                  <a:srgbClr val="000000"/>
                </a:solidFill>
                <a:latin typeface="Arial"/>
              </a:rPr>
              <a:t> كاس حليب ....الخ) وايضا في وحدة العائلة  (لوحة كم عدد افراد عائلتي  احمد =</a:t>
            </a:r>
            <a:r>
              <a:rPr b="0" lang="ar-SA" sz="2400" spc="-1" strike="noStrike">
                <a:solidFill>
                  <a:srgbClr val="000000"/>
                </a:solidFill>
                <a:latin typeface="Arial"/>
              </a:rPr>
              <a:t>3</a:t>
            </a:r>
            <a:r>
              <a:rPr b="0" lang="ar-SA" sz="2400" spc="-1" strike="noStrike">
                <a:solidFill>
                  <a:srgbClr val="000000"/>
                </a:solidFill>
                <a:latin typeface="Arial"/>
              </a:rPr>
              <a:t> / ريما= </a:t>
            </a:r>
            <a:r>
              <a:rPr b="0" lang="ar-SA" sz="2400" spc="-1" strike="noStrike">
                <a:solidFill>
                  <a:srgbClr val="000000"/>
                </a:solidFill>
                <a:latin typeface="Arial"/>
              </a:rPr>
              <a:t>1</a:t>
            </a:r>
            <a:r>
              <a:rPr b="0" lang="ar-SA" sz="2400" spc="-1" strike="noStrike">
                <a:solidFill>
                  <a:srgbClr val="000000"/>
                </a:solidFill>
                <a:latin typeface="Arial"/>
              </a:rPr>
              <a:t> ...الخ)</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روتين اليومي 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411280" y="1196640"/>
            <a:ext cx="6400800" cy="4608360"/>
          </a:xfrm>
          <a:prstGeom prst="rect">
            <a:avLst/>
          </a:prstGeom>
          <a:noFill/>
          <a:ln w="0">
            <a:noFill/>
          </a:ln>
        </p:spPr>
        <p:txBody>
          <a:bodyPr anchor="t">
            <a:normAutofit fontScale="83000"/>
          </a:bodyPr>
          <a:p>
            <a:pPr marL="284400" indent="-284400"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غناء الاركان المختلفة بالأدوات التي تساعد على التفكير الرياضي مثل:</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وضع ميزان لقياس الوزن في ركن الطبيب)</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ان ذو كفتين في ركن البحث والاكتشاف)</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تعليقات الاطفال الرياضية مثل تعليق  الطفل على عمله الفني معطفي فيه </a:t>
            </a:r>
            <a:r>
              <a:rPr b="0" lang="ar-SA" sz="3000" spc="-1" strike="noStrike">
                <a:solidFill>
                  <a:srgbClr val="000000"/>
                </a:solidFill>
                <a:latin typeface="Calibri"/>
              </a:rPr>
              <a:t>3</a:t>
            </a:r>
            <a:r>
              <a:rPr b="0" lang="ar-SA" sz="3000" spc="-1" strike="noStrike">
                <a:solidFill>
                  <a:srgbClr val="000000"/>
                </a:solidFill>
                <a:latin typeface="Calibri"/>
              </a:rPr>
              <a:t> ازرار)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الكتب التي تحتوي على مفاهيم رياضية)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جموعة من الاحجار في ركن البحث والاكتشاف يصنفها الاطفال حسب حجمها او لونها</a:t>
            </a:r>
            <a:endParaRPr b="0" lang="en-US" sz="3000" spc="-1" strike="noStrike">
              <a:solidFill>
                <a:srgbClr val="000000"/>
              </a:solidFill>
              <a:latin typeface="Arial"/>
            </a:endParaRPr>
          </a:p>
          <a:p>
            <a:pPr marL="284400" indent="-2844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3</a:t>
            </a:r>
            <a:r>
              <a:rPr b="0" lang="ar-SA" sz="3600" spc="-1" strike="noStrike">
                <a:solidFill>
                  <a:srgbClr val="8c0039"/>
                </a:solidFill>
                <a:latin typeface="Arial"/>
              </a:rPr>
              <a:t>- دمج الخبرات الرياضية خلال فترات الجدول اليومي:</a:t>
            </a:r>
            <a:endParaRPr b="0" lang="en-US" sz="3600" spc="-1" strike="noStrike">
              <a:solidFill>
                <a:srgbClr val="8c0039"/>
              </a:solidFill>
              <a:latin typeface="Arial"/>
            </a:endParaRPr>
          </a:p>
        </p:txBody>
      </p:sp>
      <p:sp>
        <p:nvSpPr>
          <p:cNvPr id="116" name=""/>
          <p:cNvSpPr txBox="1"/>
          <p:nvPr/>
        </p:nvSpPr>
        <p:spPr>
          <a:xfrm>
            <a:off x="2050560" y="1600200"/>
            <a:ext cx="6913800" cy="4495680"/>
          </a:xfrm>
          <a:prstGeom prst="rect">
            <a:avLst/>
          </a:prstGeom>
          <a:noFill/>
          <a:ln w="0">
            <a:noFill/>
          </a:ln>
        </p:spPr>
        <p:txBody>
          <a:bodyPr anchor="t">
            <a:normAutofit fontScale="84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جب ا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r>
              <a:rPr b="0" lang="ar-SA" sz="3000" spc="-1" strike="noStrike">
                <a:solidFill>
                  <a:srgbClr val="000000"/>
                </a:solidFill>
                <a:latin typeface="Calibri"/>
              </a:rPr>
              <a:t>.</a:t>
            </a:r>
            <a:endParaRPr b="0" lang="en-US" sz="30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امثلة</a:t>
            </a:r>
            <a:r>
              <a:rPr b="0" lang="ar-SA" sz="3000" spc="-1" strike="noStrike">
                <a:solidFill>
                  <a:srgbClr val="c00000"/>
                </a:solidFill>
                <a:latin typeface="Calibri"/>
              </a:rPr>
              <a:t>:</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ن خلال عرض الجدول اليومي للأطفال يدركون تسلسل  الاحداث والزمن.</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ند استعراض اسماء الاطفال في الحلقة الصباحية يمكن ان تعد المعلمة مع الاطفال كم طفل غائب وكم طفل حضر الى الروضة</a:t>
            </a:r>
            <a:endParaRPr b="0" lang="en-US" sz="3000" spc="-1" strike="noStrike">
              <a:solidFill>
                <a:srgbClr val="000000"/>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133720" y="907560"/>
            <a:ext cx="6984720" cy="4496040"/>
          </a:xfrm>
          <a:prstGeom prst="rect">
            <a:avLst/>
          </a:prstGeom>
          <a:noFill/>
          <a:ln w="0">
            <a:noFill/>
          </a:ln>
        </p:spPr>
        <p:txBody>
          <a:bodyPr anchor="t">
            <a:normAutofit fontScale="89000"/>
          </a:bodyPr>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بجانب كل ركن عدد الاطفال المسموح لهم بدخول الركن، ويوضح بطريقة محسوسة مثل وضع عدد محدد من الاساور ومن ذلك يتعلم الطفل مفهوم الاعداد ومدلولاتها.</a:t>
            </a:r>
            <a:endParaRPr b="0" lang="en-US" sz="3200" spc="-1" strike="noStrike">
              <a:solidFill>
                <a:srgbClr val="000000"/>
              </a:solidFill>
              <a:latin typeface="Arial"/>
            </a:endParaRPr>
          </a:p>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ان تستخدم المعلمة لعبة رياضية في الفترات الانتقالية مثل الانتقال من الحلقة الى الاركان مثال:(كل طفل يرمي المكعب ويعد النقط السوداء وبعدها تسمح له المعلمة بالتوجه الى الركن)</a:t>
            </a:r>
            <a:endParaRPr b="0" lang="en-US" sz="3200" spc="-1" strike="noStrike">
              <a:solidFill>
                <a:srgbClr val="000000"/>
              </a:solidFill>
              <a:latin typeface="Arial"/>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ادب في تنمية معايير المنهج</a:t>
            </a:r>
            <a:endParaRPr b="0" lang="en-US" sz="3600" spc="-1" strike="noStrike">
              <a:solidFill>
                <a:srgbClr val="8c0039"/>
              </a:solidFill>
              <a:latin typeface="Arial"/>
            </a:endParaRPr>
          </a:p>
        </p:txBody>
      </p:sp>
      <p:sp>
        <p:nvSpPr>
          <p:cNvPr id="88" name=""/>
          <p:cNvSpPr txBox="1"/>
          <p:nvPr/>
        </p:nvSpPr>
        <p:spPr>
          <a:xfrm>
            <a:off x="2438280" y="1600200"/>
            <a:ext cx="6400800" cy="506880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دب محفز طبيعي لتنمية المفاهيم الرياضية لدى الاطفال الصغار فالاطفال عندما يتشاركون الكتب المصورة والقصص يمكن للمعلمين ان يثيروا التفكير الرياضي لديهم من خلال طرح التساؤلات او من خلال اتاحة الوقت والفرص لهم للرد على الافكار الواردة في القص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د القصة من الانشطة المحببة للأطفال والتي يمكن ان تصاغ فيها العديد من المفاهيم والمهارات.</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979280" y="1341000"/>
            <a:ext cx="7164360" cy="4496040"/>
          </a:xfrm>
          <a:prstGeom prst="rect">
            <a:avLst/>
          </a:prstGeom>
          <a:noFill/>
          <a:ln w="0">
            <a:noFill/>
          </a:ln>
        </p:spPr>
        <p:txBody>
          <a:bodyPr anchor="t">
            <a:normAutofit fontScale="83000"/>
          </a:bodyPr>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ثناء الملعب الخارجي 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Arial"/>
            </a:endParaRPr>
          </a:p>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ي اللقاء الاخير يمكن ان تنشد المعلمة مع الاطفال انشودة تنمي بعض المفاهيم الرياضية مثل (انشودة خمس سمكات)</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دور المعلمة ملاحظة الاطفال وطرح </a:t>
            </a:r>
            <a:r>
              <a:rPr b="0" lang="ar-SA" sz="2800" spc="-1" strike="noStrike" u="sng">
                <a:solidFill>
                  <a:srgbClr val="c00000"/>
                </a:solidFill>
                <a:uFillTx/>
                <a:latin typeface="Calibri"/>
              </a:rPr>
              <a:t>الاسئلة المفتوحة </a:t>
            </a:r>
            <a:r>
              <a:rPr b="0" lang="ar-SA" sz="2800" spc="-1" strike="noStrike">
                <a:solidFill>
                  <a:srgbClr val="c00000"/>
                </a:solidFill>
                <a:latin typeface="Calibri"/>
              </a:rPr>
              <a:t>ومحاولة توسيع مجال عمل الطفل</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مثل( لماذا وضعت هذه الازرار في مجموعة ما الذي لاحظته عليها؟ هل هناك طريقة اخرى يمكن ان نصفها بها؟)</a:t>
            </a:r>
            <a:endParaRPr b="0" lang="en-US" sz="2800" spc="-1" strike="noStrike">
              <a:solidFill>
                <a:srgbClr val="000000"/>
              </a:solidFill>
              <a:latin typeface="Arial"/>
            </a:endParaRPr>
          </a:p>
          <a:p>
            <a:pPr marL="284400" indent="-2844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4</a:t>
            </a:r>
            <a:r>
              <a:rPr b="0" lang="ar-SA" sz="3600" spc="-1" strike="noStrike">
                <a:solidFill>
                  <a:srgbClr val="8c0039"/>
                </a:solidFill>
                <a:latin typeface="Arial"/>
              </a:rPr>
              <a:t>-التخطيط  الجيد للخبرات الرياضية:</a:t>
            </a:r>
            <a:endParaRPr b="0" lang="en-US" sz="3600" spc="-1" strike="noStrike">
              <a:solidFill>
                <a:srgbClr val="8c0039"/>
              </a:solidFill>
              <a:latin typeface="Arial"/>
            </a:endParaRPr>
          </a:p>
        </p:txBody>
      </p:sp>
      <p:sp>
        <p:nvSpPr>
          <p:cNvPr id="120" name=""/>
          <p:cNvSpPr txBox="1"/>
          <p:nvPr/>
        </p:nvSpPr>
        <p:spPr>
          <a:xfrm>
            <a:off x="2268360" y="1600200"/>
            <a:ext cx="6570720" cy="4495680"/>
          </a:xfrm>
          <a:prstGeom prst="rect">
            <a:avLst/>
          </a:prstGeom>
          <a:noFill/>
          <a:ln w="0">
            <a:noFill/>
          </a:ln>
        </p:spPr>
        <p:txBody>
          <a:bodyPr anchor="t">
            <a:normAutofit fontScale="88000"/>
          </a:bodyPr>
          <a:p>
            <a:pPr marL="301680" indent="-301680" algn="r" rtl="1">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ان تخطط المعلمة جيدا للخبرات الرياضية ولا تعتمد على حدوثها  بشكل عشوائي او عن طريق الصدفة.</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بعد ان يتعلم الاطفال الارقام من </a:t>
            </a:r>
            <a:r>
              <a:rPr b="0" lang="ar-SA" sz="3200" spc="-1" strike="noStrike">
                <a:solidFill>
                  <a:srgbClr val="000000"/>
                </a:solidFill>
                <a:latin typeface="Calibri"/>
              </a:rPr>
              <a:t>1</a:t>
            </a:r>
            <a:r>
              <a:rPr b="0" lang="ar-SA" sz="3200" spc="-1" strike="noStrike">
                <a:solidFill>
                  <a:srgbClr val="000000"/>
                </a:solidFill>
                <a:latin typeface="Calibri"/>
              </a:rPr>
              <a:t>-</a:t>
            </a:r>
            <a:r>
              <a:rPr b="0" lang="ar-SA" sz="3200" spc="-1" strike="noStrike">
                <a:solidFill>
                  <a:srgbClr val="000000"/>
                </a:solidFill>
                <a:latin typeface="Calibri"/>
              </a:rPr>
              <a:t>10</a:t>
            </a:r>
            <a:r>
              <a:rPr b="0" lang="ar-SA" sz="3200" spc="-1" strike="noStrike">
                <a:solidFill>
                  <a:srgbClr val="000000"/>
                </a:solidFill>
                <a:latin typeface="Calibri"/>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5</a:t>
            </a:r>
            <a:r>
              <a:rPr b="0" lang="ar-SA" sz="3600" spc="-1" strike="noStrike">
                <a:solidFill>
                  <a:srgbClr val="8c0039"/>
                </a:solidFill>
                <a:latin typeface="Arial"/>
              </a:rPr>
              <a:t>- تقييم نمو الاطفال في المهارات الرياضية:</a:t>
            </a:r>
            <a:endParaRPr b="0" lang="en-US" sz="3600" spc="-1" strike="noStrike">
              <a:solidFill>
                <a:srgbClr val="8c0039"/>
              </a:solidFill>
              <a:latin typeface="Arial"/>
            </a:endParaRPr>
          </a:p>
        </p:txBody>
      </p:sp>
      <p:sp>
        <p:nvSpPr>
          <p:cNvPr id="122" name=""/>
          <p:cNvSpPr txBox="1"/>
          <p:nvPr/>
        </p:nvSpPr>
        <p:spPr>
          <a:xfrm>
            <a:off x="2438280" y="1600200"/>
            <a:ext cx="6400800" cy="4495680"/>
          </a:xfrm>
          <a:prstGeom prst="rect">
            <a:avLst/>
          </a:prstGeom>
          <a:noFill/>
          <a:ln w="0">
            <a:noFill/>
          </a:ln>
        </p:spPr>
        <p:txBody>
          <a:bodyPr anchor="t">
            <a:normAutofit fontScale="94000"/>
          </a:bodyPr>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قيم المعلمة مدى اكتساب الاطفال للمهارات الرياضية، فبناء على تقييم نمو الاطفال تستطيع المعلمة ان تخطط للأنشطة التي يحتاجونها. </a:t>
            </a:r>
            <a:endParaRPr b="0" lang="en-US" sz="2000" spc="-1" strike="noStrike">
              <a:solidFill>
                <a:srgbClr val="000000"/>
              </a:solidFill>
              <a:latin typeface="Arial"/>
            </a:endParaRPr>
          </a:p>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سجل المعلمة ملاحظاتها على اداء الاطفال بشكل موضوعي ودقيق حيث تذكر الزمان والمكان وتصف السلوك بالضبط دون ان تدخل التقديرات  الذاتية مثل :كان اداؤه رائعا...الخ</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ثال: </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حمد</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ركن الادراك – يوم الاثنين </a:t>
            </a:r>
            <a:r>
              <a:rPr b="1" lang="ar-SA" sz="2000" spc="-1" strike="noStrike">
                <a:solidFill>
                  <a:srgbClr val="000000"/>
                </a:solidFill>
                <a:latin typeface="Calibri"/>
              </a:rPr>
              <a:t>25/10</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ام احمد بترتيب الخرز حسب حجمه بشكل صحيح وبعدها قام بعده  من </a:t>
            </a:r>
            <a:r>
              <a:rPr b="1" lang="ar-SA" sz="2000" spc="-1" strike="noStrike">
                <a:solidFill>
                  <a:srgbClr val="000000"/>
                </a:solidFill>
                <a:latin typeface="Calibri"/>
              </a:rPr>
              <a:t>1</a:t>
            </a:r>
            <a:r>
              <a:rPr b="1" lang="ar-SA" sz="2000" spc="-1" strike="noStrike">
                <a:solidFill>
                  <a:srgbClr val="000000"/>
                </a:solidFill>
                <a:latin typeface="Calibri"/>
              </a:rPr>
              <a:t>-</a:t>
            </a:r>
            <a:r>
              <a:rPr b="1" lang="ar-SA" sz="2000" spc="-1" strike="noStrike">
                <a:solidFill>
                  <a:srgbClr val="000000"/>
                </a:solidFill>
                <a:latin typeface="Calibri"/>
              </a:rPr>
              <a:t>15</a:t>
            </a:r>
            <a:r>
              <a:rPr b="1" lang="ar-SA" sz="2000" spc="-1" strike="noStrike">
                <a:solidFill>
                  <a:srgbClr val="000000"/>
                </a:solidFill>
                <a:latin typeface="Calibri"/>
              </a:rPr>
              <a:t> بشكل صحيح</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640" y="228240"/>
            <a:ext cx="664344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6</a:t>
            </a:r>
            <a:r>
              <a:rPr b="0" lang="ar-SA" sz="3600" spc="-1" strike="noStrike">
                <a:solidFill>
                  <a:srgbClr val="8c0039"/>
                </a:solidFill>
                <a:latin typeface="Arial"/>
              </a:rPr>
              <a:t>- اشراك الاهل في تعليم الخبرات الرياضية للأطفال:</a:t>
            </a:r>
            <a:endParaRPr b="0" lang="en-US" sz="3600" spc="-1" strike="noStrike">
              <a:solidFill>
                <a:srgbClr val="8c0039"/>
              </a:solidFill>
              <a:latin typeface="Arial"/>
            </a:endParaRPr>
          </a:p>
        </p:txBody>
      </p:sp>
      <p:sp>
        <p:nvSpPr>
          <p:cNvPr id="124" name=""/>
          <p:cNvSpPr txBox="1"/>
          <p:nvPr/>
        </p:nvSpPr>
        <p:spPr>
          <a:xfrm>
            <a:off x="2268000" y="1600200"/>
            <a:ext cx="6767640" cy="4495680"/>
          </a:xfrm>
          <a:prstGeom prst="rect">
            <a:avLst/>
          </a:prstGeom>
          <a:noFill/>
          <a:ln w="0">
            <a:noFill/>
          </a:ln>
        </p:spPr>
        <p:txBody>
          <a:bodyPr anchor="t">
            <a:normAutofit fontScale="79000"/>
          </a:bodyPr>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شراك الاهل ضروري جدا في تقديم الخبرات الرياضية للأطفال، فالمنزل هو البيئة الاولى للطفل التي يمر من خلالها بالعديد من الخبرات التي تدعم نموه وتعلمه.</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حتاج الاهل احيانا ان توضح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مكن ان تستضيف المعلمة الام في غرفة الصف لتشاهد كيف يستفيد الاطفال من الوسائل المتاحة في الروضة لتمية المهارات الرياضية</a:t>
            </a:r>
            <a:endParaRPr b="0" lang="en-US" sz="2700" spc="-1" strike="noStrike">
              <a:solidFill>
                <a:srgbClr val="000000"/>
              </a:solidFill>
              <a:latin typeface="Arial"/>
            </a:endParaRPr>
          </a:p>
          <a:p>
            <a:pPr marL="270720" indent="-270720" algn="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الانشطة اليدوية في تنمية مفاهيم المنهج:</a:t>
            </a:r>
            <a:br>
              <a:rPr sz="3600"/>
            </a:br>
            <a:endParaRPr b="0" lang="en-US" sz="3600" spc="-1" strike="noStrike">
              <a:solidFill>
                <a:srgbClr val="8c0039"/>
              </a:solidFill>
              <a:latin typeface="Arial"/>
            </a:endParaRPr>
          </a:p>
        </p:txBody>
      </p:sp>
      <p:sp>
        <p:nvSpPr>
          <p:cNvPr id="90" name=""/>
          <p:cNvSpPr txBox="1"/>
          <p:nvPr/>
        </p:nvSpPr>
        <p:spPr>
          <a:xfrm>
            <a:off x="2438280" y="1600200"/>
            <a:ext cx="6400800" cy="4781520"/>
          </a:xfrm>
          <a:prstGeom prst="rect">
            <a:avLst/>
          </a:prstGeom>
          <a:noFill/>
          <a:ln w="0">
            <a:noFill/>
          </a:ln>
        </p:spPr>
        <p:txBody>
          <a:bodyPr anchor="t">
            <a:normAutofit fontScale="85000"/>
          </a:bodyPr>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شطة اليدوية ضرورية للتعلم، فأنشطة الرياضيات اليدوية تزودهم بالفرص للتحدث والكتابة والغناء واللعب ...</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ظهرت نتائج الأبحاث أن الاطفال اللذين يتعرضون لأنشطة حسية يدوية لديهم اتجاهات أفضل نحو الرياضيات, وتزيد لديهم من درجة الاحتفاظ بالمفهوم وقدرات حل المشكلة.</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كن حتى نتاكد ان الاطفال يفهمون النشاط ولا يؤدونه بطريقة آليه متكررة يحتاج الطفل الى التواصل مع المعلمة لدعم وتوضيح الافكار في عقول الاطفال, بالإضافة إلى التواصل مع النظير.</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نوع الخبرة ودورها في تنمية مفاهيم المنهج:</a:t>
            </a:r>
            <a:br>
              <a:rPr sz="3600"/>
            </a:br>
            <a:endParaRPr b="0" lang="en-US" sz="3600" spc="-1" strike="noStrike">
              <a:solidFill>
                <a:srgbClr val="8c0039"/>
              </a:solidFill>
              <a:latin typeface="Arial"/>
            </a:endParaRPr>
          </a:p>
        </p:txBody>
      </p:sp>
      <p:sp>
        <p:nvSpPr>
          <p:cNvPr id="92" name=""/>
          <p:cNvSpPr txBox="1"/>
          <p:nvPr/>
        </p:nvSpPr>
        <p:spPr>
          <a:xfrm>
            <a:off x="2438280" y="1600200"/>
            <a:ext cx="6400800" cy="478152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ظهرت نتائج الأبحاث التربوية أن الأطفال الذين يمرون بخبرات عالية الجودة في مرحلة نموهم المبكر لديهم فرصة أفضل للإنجاز عالي المستوى مقارنة بالأطفال الذين لم يمروا بتلك الخبرات.</a:t>
            </a:r>
            <a:endParaRPr b="0" lang="en-US" sz="2400" spc="-1" strike="noStrike">
              <a:solidFill>
                <a:srgbClr val="000000"/>
              </a:solidFill>
              <a:latin typeface="Arial"/>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اعدة العامة تنص على أنه عندما يكون برنامج رياضيات مرحلة ما قبل المدرسة سهل الوصول الى كل المتعلمين, فإنه يساعدهم على ضمان نجاحهم الشخصي الخاص في الرياضيات لا حقا في المدرسة الابتدائية.</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c0039"/>
                </a:solidFill>
                <a:latin typeface="Arial"/>
              </a:rPr>
              <a:t>أهمية الوسيلة التعليمية في تعليم الرياضيات:</a:t>
            </a:r>
            <a:br>
              <a:rPr sz="3200"/>
            </a:br>
            <a:endParaRPr b="0" lang="en-US" sz="32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للوسيلة التعليمية في مرحلة ما قبل المدرسة أهمية خاصة ذلك أنها تخاطب الطفل في حدود الواقع الملموس وتخفف من الصبغة التجريدية للرياضيات وتسهل عملية التعلم كما أنها تهيئ تفكير الطفل للانتقال الى عالم التصورات الفكرية، والمفاهيم الرياضية المجردة حيث يبدأ الطفل في التفكير المنطقي ووضع الفرضيات.</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أهمية استخدام الوسيلة في تعليم الرياضيات  </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اعد الوسيلة كذلك على جعل المتعلم أكثر ايجابية وفاعلية كما أنها تتيح فرصة للتعلم الذات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مية اتجاهات ايجابية نحو التعلم كما أنها تضفي طابع حيوي وواقعي على المعرفة.</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33360"/>
            <a:ext cx="6400800" cy="111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معلمات الروضة في تنمية معايير المنهج:</a:t>
            </a:r>
            <a:br>
              <a:rPr sz="3600"/>
            </a:b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يمكن للمعلمات استخدام </a:t>
            </a:r>
            <a:r>
              <a:rPr b="0" lang="ar-SA" sz="3200" spc="-1" strike="noStrike">
                <a:solidFill>
                  <a:srgbClr val="ff0000"/>
                </a:solidFill>
                <a:latin typeface="Arial"/>
              </a:rPr>
              <a:t>3</a:t>
            </a:r>
            <a:r>
              <a:rPr b="0" lang="ar-SA" sz="3200" spc="-1" strike="noStrike">
                <a:solidFill>
                  <a:srgbClr val="ff0000"/>
                </a:solidFill>
                <a:latin typeface="Arial"/>
              </a:rPr>
              <a:t> طرق لتشجيع التفكير الرياضي عند الا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بتداع موقف ذا مغزى شخصي للأ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بادل الافكار مع الرفاق لتشجع التفكير الرياضي.</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فير فرص اتخاذ القرار للاطفال قد ينمي لديهم مهارات حل المشكل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a:t>
            </a:r>
            <a:endParaRPr b="0" lang="en-US" sz="3600" spc="-1" strike="noStrike">
              <a:solidFill>
                <a:srgbClr val="8c0039"/>
              </a:solidFill>
              <a:latin typeface="Arial"/>
            </a:endParaRPr>
          </a:p>
        </p:txBody>
      </p:sp>
      <p:sp>
        <p:nvSpPr>
          <p:cNvPr id="100"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رى التربويون أن تدريس العلوم و الرياضيات يجب أن يكون من خلال أسلوب حل المشكلات .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لا يعنى أن تعتمد المعلمة على خلقها هي للمشكلات, ولكن المشكلات التي يفكر بها الأطفال أنفسهم.</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ل المشكلات يعنى أن يعمل الأطفال باستقلالية و في مجموعات بينما يكون دور المعلمة هو كميسرة و موجهة.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تكون المعلمة على معرفة جيدة بأطفالها حتى تتمكن من دعمهم عند منطقة حيز النمو الممكن.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411280" y="1197000"/>
            <a:ext cx="6400800" cy="449568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يتطلب ملاحظة قدراتهم أثناء تفاعلاتهم التلقائية وتسجيل ملاحظاتها حول ما يمكنهم القيام به دون مساعدة والتخطيط لأنشطة تحمل قدرا من الصعوبة والتحدي لقدراتهم فيها.</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حل المشكلات في هذه المرحلة يركز على التعلم غير الرسمي و الطبيعي  الذي يرتقى بالاستكشاف. </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 موضوع جديد يمكن أن يتم تقديمه مع مشكلة صممت لكى توفر للأطفال فرصا لبناء استراتيجيات حل المشكلات الخاصة بهم.</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00:03Z</dcterms:created>
  <dc:creator>Hala</dc:creator>
  <dc:description/>
  <dc:language>en-US</dc:language>
  <cp:lastModifiedBy>Lama Aljathlan</cp:lastModifiedBy>
  <dcterms:modified xsi:type="dcterms:W3CDTF">2016-10-12T05:33:40Z</dcterms:modified>
  <cp:revision>32</cp:revision>
  <dc:subject/>
  <dc:title>الوسيلة التعليمية</dc:title>
</cp:coreProperties>
</file>