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C5429-AD3B-4A5A-9A62-EF53D938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56A60-608A-411B-9928-9A8399B6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A62A1-54AE-405A-8C63-060CED36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3F5E1-22A8-4C99-B619-C13C00974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AA44-6F0B-4D60-84DC-8B501C50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40B4D-542D-43A1-B07A-EE638A1C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8218-F36C-42D4-A7C9-36D2B985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651B-C2E1-4983-98D0-60AA946B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3667-6979-453B-91D7-D3157CF9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BD48-FEED-456F-A971-004EB616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45D7-DF0F-4FEC-8500-FAC73742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4963-3FB7-4EFF-A615-6A56091C8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93E8-C5E4-442E-ABC6-9F7EDFED3D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ثاني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209320"/>
            <a:ext cx="6400800" cy="21337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اشعة الكهرومغناطيس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
        <p:nvSpPr>
          <p:cNvPr id="57" name=""/>
          <p:cNvSpPr txBox="1"/>
          <p:nvPr/>
        </p:nvSpPr>
        <p:spPr>
          <a:xfrm>
            <a:off x="457200" y="3938760"/>
            <a:ext cx="8229600" cy="2187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2" descr=""/>
          <p:cNvPicPr/>
          <p:nvPr/>
        </p:nvPicPr>
        <p:blipFill>
          <a:blip r:embed="rId1"/>
          <a:stretch/>
        </p:blipFill>
        <p:spPr>
          <a:xfrm>
            <a:off x="457200" y="304920"/>
            <a:ext cx="8305920" cy="63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7"/>
          <p:cNvGrpSpPr/>
          <p:nvPr/>
        </p:nvGrpSpPr>
        <p:grpSpPr>
          <a:xfrm>
            <a:off x="-1440" y="152280"/>
            <a:ext cx="9145440" cy="6629400"/>
            <a:chOff x="-1440" y="152280"/>
            <a:chExt cx="9145440" cy="6629400"/>
          </a:xfrm>
        </p:grpSpPr>
        <p:pic>
          <p:nvPicPr>
            <p:cNvPr id="60" name="Picture 4" descr="شكل2"/>
            <p:cNvPicPr/>
            <p:nvPr/>
          </p:nvPicPr>
          <p:blipFill>
            <a:blip r:embed="rId1"/>
            <a:srcRect l="12079" t="62562" r="13266" b="16836"/>
            <a:stretch/>
          </p:blipFill>
          <p:spPr>
            <a:xfrm>
              <a:off x="-1440" y="3292560"/>
              <a:ext cx="9145440" cy="3489120"/>
            </a:xfrm>
            <a:prstGeom prst="rect">
              <a:avLst/>
            </a:prstGeom>
            <a:ln w="0">
              <a:noFill/>
            </a:ln>
          </p:spPr>
        </p:pic>
        <p:pic>
          <p:nvPicPr>
            <p:cNvPr id="61" name="Picture 6" descr=""/>
            <p:cNvPicPr/>
            <p:nvPr/>
          </p:nvPicPr>
          <p:blipFill>
            <a:blip r:embed="rId2"/>
            <a:stretch/>
          </p:blipFill>
          <p:spPr>
            <a:xfrm>
              <a:off x="76320" y="152280"/>
              <a:ext cx="8791560" cy="2886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257040" y="122400"/>
            <a:ext cx="8629920" cy="66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76320" y="298440"/>
            <a:ext cx="9267840" cy="655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شعة المرئية </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شكل جزء صغير من الطيف الكهرومغناطيسي الا انها مهمة جدا في الاستشعار عن بعد وتنقسم الى </a:t>
            </a:r>
            <a:r>
              <a:rPr b="0" lang="ar-SA" sz="3200" spc="-1" strike="noStrike">
                <a:solidFill>
                  <a:srgbClr val="000000"/>
                </a:solidFill>
                <a:latin typeface="Arial"/>
              </a:rPr>
              <a:t>3</a:t>
            </a:r>
            <a:r>
              <a:rPr b="0" lang="ar-SA" sz="3200" spc="-1" strike="noStrike">
                <a:solidFill>
                  <a:srgbClr val="000000"/>
                </a:solidFill>
                <a:latin typeface="Arial"/>
              </a:rPr>
              <a:t> اقسام ه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زرق بطول موجي (</a:t>
            </a:r>
            <a:r>
              <a:rPr b="0" lang="ar-SA" sz="3200" spc="-1" strike="noStrike">
                <a:solidFill>
                  <a:srgbClr val="000000"/>
                </a:solidFill>
                <a:latin typeface="Arial"/>
              </a:rPr>
              <a:t>0,4</a:t>
            </a:r>
            <a:r>
              <a:rPr b="0" lang="ar-SA" sz="3200" spc="-1" strike="noStrike">
                <a:solidFill>
                  <a:srgbClr val="000000"/>
                </a:solidFill>
                <a:latin typeface="Arial"/>
              </a:rPr>
              <a:t>-</a:t>
            </a:r>
            <a:r>
              <a:rPr b="0" lang="ar-SA" sz="3200" spc="-1" strike="noStrike">
                <a:solidFill>
                  <a:srgbClr val="000000"/>
                </a:solidFill>
                <a:latin typeface="Arial"/>
              </a:rPr>
              <a:t>0,5</a:t>
            </a:r>
            <a:r>
              <a:rPr b="0" lang="en-US" sz="3200" spc="-1" strike="noStrike">
                <a:solidFill>
                  <a:srgbClr val="000000"/>
                </a:solidFill>
                <a:latin typeface="Arial"/>
              </a:rPr>
              <a:t>um</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خضر بطول موجي (</a:t>
            </a:r>
            <a:r>
              <a:rPr b="0" lang="ar-SA" sz="3200" spc="-1" strike="noStrike">
                <a:solidFill>
                  <a:srgbClr val="000000"/>
                </a:solidFill>
                <a:latin typeface="Arial"/>
              </a:rPr>
              <a:t>0,5</a:t>
            </a:r>
            <a:r>
              <a:rPr b="0" lang="ar-SA" sz="3200" spc="-1" strike="noStrike">
                <a:solidFill>
                  <a:srgbClr val="000000"/>
                </a:solidFill>
                <a:latin typeface="Arial"/>
              </a:rPr>
              <a:t>-</a:t>
            </a:r>
            <a:r>
              <a:rPr b="0" lang="ar-SA" sz="3200" spc="-1" strike="noStrike">
                <a:solidFill>
                  <a:srgbClr val="000000"/>
                </a:solidFill>
                <a:latin typeface="Arial"/>
              </a:rPr>
              <a:t>0,6</a:t>
            </a:r>
            <a:r>
              <a:rPr b="0" lang="en-US" sz="3200" spc="-1" strike="noStrike">
                <a:solidFill>
                  <a:srgbClr val="000000"/>
                </a:solidFill>
                <a:latin typeface="Arial"/>
              </a:rPr>
              <a:t>um</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حمر بطول موجي (</a:t>
            </a:r>
            <a:r>
              <a:rPr b="0" lang="ar-SA" sz="3200" spc="-1" strike="noStrike">
                <a:solidFill>
                  <a:srgbClr val="000000"/>
                </a:solidFill>
                <a:latin typeface="Arial"/>
              </a:rPr>
              <a:t>0,6</a:t>
            </a:r>
            <a:r>
              <a:rPr b="0" lang="ar-SA" sz="3200" spc="-1" strike="noStrike">
                <a:solidFill>
                  <a:srgbClr val="000000"/>
                </a:solidFill>
                <a:latin typeface="Arial"/>
              </a:rPr>
              <a:t>-</a:t>
            </a:r>
            <a:r>
              <a:rPr b="0" lang="ar-SA" sz="3200" spc="-1" strike="noStrike">
                <a:solidFill>
                  <a:srgbClr val="000000"/>
                </a:solidFill>
                <a:latin typeface="Arial"/>
              </a:rPr>
              <a:t>0,7</a:t>
            </a:r>
            <a:r>
              <a:rPr b="0" lang="en-US" sz="3200" spc="-1" strike="noStrike">
                <a:solidFill>
                  <a:srgbClr val="000000"/>
                </a:solidFill>
                <a:latin typeface="Arial"/>
              </a:rPr>
              <a:t>(</a:t>
            </a:r>
            <a:r>
              <a:rPr b="0" lang="en-US" sz="3200" spc="-1" strike="noStrike">
                <a:solidFill>
                  <a:srgbClr val="000000"/>
                </a:solidFill>
                <a:latin typeface="Arial"/>
              </a:rPr>
              <a:t>um</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مى هذه النطاقات بالألوان الرئيسية  المضافة . وسميت بذلك لأنه لا يمكن تكوين احدهما بخلط اللونين الباقي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456840"/>
            <a:ext cx="8229600" cy="56689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أنه يمكن تكوين أي لون موجود في الطبيعة من خلال خلط هذه الالوان الثلاثة بنسب مختلفة كما يمكن ان تنتج اللون الابيض اذا مزجت بنسب متساوية .</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ون أي جسم على سطح الارض عبارة عن اللون الذي يعكسه هذا الجسم بعد سقوط الاشعة عليه . اما الاجسام التي تعكس الوانا غير الالوان الرئيسية تسمى الالوان المتوسطة فذلك نتيجة انعكاس لونين او اكثر من الالوان الرئيسية .فمثلا الجسم الاصفر يظهر بهذا اللون لأنه يمتص جميع الاشعة ويعكس الاحمر والاخض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شعة تحت الحمراء </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الاجسام لها خاصية الانعكاس والانبعاث للأشعة. فكل جسم يعكس في جميع الاطوال الموجية ويبعث كذلك . ولكن الاشعة المنعكسة ذات الاطوال الموجية القصيرة تسود على الاشعة المنبعثة ذات الاطوال الموجية القصيرة . اما الاشعة المنبعثة ذات الموجات الطويلة فإنها تسود على الاشعة المنعكسة ذات الاطوال الموجية الطويلة . وكل الاجسام عند درجة حرارة صفر مطلق ينبعث منها اشعة حرارية . وكثافة هذه الاشعة والطول الموجي السائد لها يختلف باختلاف درجة حرارة الجس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28600"/>
            <a:ext cx="8229600" cy="58975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الاشعة تحت الحمراء الحرارية لا تتأثر بالتشتيت الجوي وانما تتأثر بالامتصاص الجوي وبالتالي فان استخدامها في الاستشعار عن بعد مقيد في نوافذ جوية محددة . كما ان لها مستشعرات ولاقطات تختلف عن تلك التي تسجل الاشعة المرئية او تحت الحمراء القريبة والمتوسطة . وبناء عليه فان المعلومات الملتقطة بأشعتها تختلف عن غيرها مما سبق ذكره.  </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قاس من خلال مستشعر يسمى الراديو متر او الماسح الحرار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166680" y="-6480"/>
            <a:ext cx="9477360" cy="687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راجع </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aculty.ksu.edu.sa/geography-alsaleh/default.aspx</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قدمة في الاستشعار عن بعد ومعالجة الصور  رقمي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علي العمر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
          <p:cNvPicPr/>
          <p:nvPr/>
        </p:nvPicPr>
        <p:blipFill>
          <a:blip r:embed="rId1"/>
          <a:stretch/>
        </p:blipFill>
        <p:spPr>
          <a:xfrm>
            <a:off x="-23760" y="1108080"/>
            <a:ext cx="919152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23760" y="1389240"/>
            <a:ext cx="9191520" cy="40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223920" y="-54000"/>
            <a:ext cx="9591840" cy="697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
          <p:cNvPicPr/>
          <p:nvPr/>
        </p:nvPicPr>
        <p:blipFill>
          <a:blip r:embed="rId1"/>
          <a:stretch/>
        </p:blipFill>
        <p:spPr>
          <a:xfrm>
            <a:off x="-14400" y="146160"/>
            <a:ext cx="9172800" cy="65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9" descr=""/>
          <p:cNvPicPr/>
          <p:nvPr/>
        </p:nvPicPr>
        <p:blipFill>
          <a:blip r:embed="rId1"/>
          <a:stretch/>
        </p:blipFill>
        <p:spPr>
          <a:xfrm>
            <a:off x="100080" y="-109440"/>
            <a:ext cx="894384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23760" y="731880"/>
            <a:ext cx="919152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9"/>
          <p:cNvGrpSpPr/>
          <p:nvPr/>
        </p:nvGrpSpPr>
        <p:grpSpPr>
          <a:xfrm>
            <a:off x="0" y="76320"/>
            <a:ext cx="8915400" cy="6705360"/>
            <a:chOff x="0" y="76320"/>
            <a:chExt cx="8915400" cy="6705360"/>
          </a:xfrm>
        </p:grpSpPr>
        <p:pic>
          <p:nvPicPr>
            <p:cNvPr id="50" name="Picture 4" descr="شكل2"/>
            <p:cNvPicPr/>
            <p:nvPr/>
          </p:nvPicPr>
          <p:blipFill>
            <a:blip r:embed="rId1"/>
            <a:srcRect l="24155" t="34210" r="24155" b="51318"/>
            <a:stretch/>
          </p:blipFill>
          <p:spPr>
            <a:xfrm>
              <a:off x="0" y="3200400"/>
              <a:ext cx="8915400" cy="3581280"/>
            </a:xfrm>
            <a:prstGeom prst="rect">
              <a:avLst/>
            </a:prstGeom>
            <a:ln w="0">
              <a:noFill/>
            </a:ln>
          </p:spPr>
        </p:pic>
        <p:pic>
          <p:nvPicPr>
            <p:cNvPr id="51" name="Picture 8" descr=""/>
            <p:cNvPicPr/>
            <p:nvPr/>
          </p:nvPicPr>
          <p:blipFill>
            <a:blip r:embed="rId2"/>
            <a:stretch/>
          </p:blipFill>
          <p:spPr>
            <a:xfrm>
              <a:off x="593640" y="76320"/>
              <a:ext cx="8245440" cy="28512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شكل يوضح مجالي الموجة الكهرومغناطيسية</a:t>
            </a:r>
            <a:endParaRPr b="0" lang="en-US" sz="4400" spc="-1" strike="noStrike">
              <a:solidFill>
                <a:srgbClr val="000000"/>
              </a:solidFill>
              <a:latin typeface="Arial"/>
            </a:endParaRPr>
          </a:p>
        </p:txBody>
      </p:sp>
      <p:sp>
        <p:nvSpPr>
          <p:cNvPr id="53" name=""/>
          <p:cNvSpPr txBox="1"/>
          <p:nvPr/>
        </p:nvSpPr>
        <p:spPr>
          <a:xfrm>
            <a:off x="457200" y="1523880"/>
            <a:ext cx="8229600" cy="46022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
          <p:cNvPicPr/>
          <p:nvPr/>
        </p:nvPicPr>
        <p:blipFill>
          <a:blip r:embed="rId1"/>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8:49:46Z</dcterms:created>
  <dc:creator>admin</dc:creator>
  <dc:description/>
  <dc:language>en-US</dc:language>
  <cp:lastModifiedBy>mey</cp:lastModifiedBy>
  <dcterms:modified xsi:type="dcterms:W3CDTF">2014-03-02T12:13:50Z</dcterms:modified>
  <cp:revision>122</cp:revision>
  <dc:subject/>
  <dc:title>تعريف الاستشعار عن بعد</dc:title>
</cp:coreProperties>
</file>