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0.png" ContentType="image/png"/>
  <Override PartName="/ppt/media/image44.jpeg" ContentType="image/jpeg"/>
  <Override PartName="/ppt/media/image30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50.png" ContentType="image/png"/>
  <Override PartName="/ppt/media/image46.jpeg" ContentType="image/jpeg"/>
  <Override PartName="/ppt/media/image31.png" ContentType="image/png"/>
  <Override PartName="/ppt/media/image29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371D-ABF2-4EF4-AEFC-79D5AD62FFC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3707-1C7D-4E2D-A866-B2353EDC95D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8D9D-F735-41A9-9832-CD5B5B75884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ED16-9BF1-495F-A695-5936C58F175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C38C-8237-4F0C-9047-D1B58E9C758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0414-3886-4063-8EF8-3A4843535E0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A42D-FFD9-464A-B176-B29FFA47B34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97AE-3772-429F-A8D3-E8595E46038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EA2D-53A2-4C7D-B64F-3688FD85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A58-4E53-44C7-B577-BD31BD88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A9C-CA68-4C33-A222-9829DBC7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14A-5E06-4F69-ACB5-F8228067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1A1A9-62C9-40D0-91DA-0901F5E1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EB044-15F1-4839-8F2C-816C1551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5F1D4-8462-4DCB-9EF4-993410F6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A43E6-03FE-4FAA-9BFA-74D1A4DE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33B72-3D25-4D5F-8B19-C38669DA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FFFED-22DD-4584-8879-84CCB722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B0304-2AA0-4B9F-B170-4E0FA225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817-DEB7-4069-9B88-BC344449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69CE4-5100-4229-A060-AB9A5E18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14E0A-28A6-4FBC-A62E-9C625AA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87E23-0A9A-4EE6-9A03-F2F0438F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6D9A1-C2EA-48CC-BC71-F18592DE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5D5A1-E5CF-4683-8862-7EFCEDB0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A19E7-89D4-4F7B-A838-B68D2F27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0B734-2088-4E06-B144-9B026E92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C396E-1DCB-4319-9B06-C1094E31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BAC5D-2B4B-4C8F-A27F-AF3353A7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470CD-AA4C-4069-9222-F4F4905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102-4854-4230-AB5A-3A814AA5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F5CB0-8361-4BD5-8F9E-03598A96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9CBCA-D6B4-4B2E-A229-F99D7A65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6EB6A-D0EE-48AB-A1FA-50A2918C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46374-7122-4DB7-9B1C-EF77B9FB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C0D08-22FD-42FB-B2D7-7AE375AF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BC431-BF7A-4EF1-B1E8-07F391BD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FB0A7-3698-4CC2-A57B-BC05FA30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979D1-E9A3-4479-8ED3-149EDF66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2528D-CDA5-4017-80A7-4ABFC088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75E2-5933-4773-A0E1-2C8C14C9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BF1D-8C4A-402E-863A-C81C9816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62C60-0844-4EFC-A03C-0DF6B42E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7FB0C-6B90-4371-BCBD-7A9FD400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2402-0A81-47DD-9453-B3FDCD57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9F437-0B16-4AAA-876D-244C80D2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7C64F-D54F-45B7-931E-0C65E410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6035B-1D6E-482D-94D7-8EC50716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5B4E6-0095-4FE2-94D8-5127CEBE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47CA9-34C2-4C54-BB1E-05AACD8E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CBB0-F456-4B51-823A-1C640977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DE937-4550-4B53-B774-3BACBF5D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0A2-B1AB-479C-BB38-281BC852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2D899-35F4-4665-8E13-963F73DB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0F3F3-5793-49DE-AD34-7F405F57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AA06-78DF-454E-9A76-FCCB2983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5722C-A554-44F7-9296-A70B3C41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36315-4022-44DB-8392-AD80FF6A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B00CE-4701-46AF-9962-9492C61F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25B66-8080-4963-AEC4-A36C7E23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01751-3A1E-46BD-9C4B-742D0773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14C7F-C92D-4560-ABF9-D32B7229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F4F1C-E92B-4D00-876E-254F1FF5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8DF-6720-4637-A6E9-282D5373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1401-CB99-463E-9AC8-2D0203D6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48B97-2CF3-4DFC-A632-EFB1E873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53BC-A1A8-4F3F-9B47-B06037AC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FC319-50CE-4544-9C2B-7647B38D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FFB83-94C4-4F44-B39C-4F3035BB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8030C-1F4B-4624-9369-D7679C22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668AF-813D-4940-9B1C-BE7A66C5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648F6-4982-4F85-A03D-4B530B99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487FE-70C5-42C9-B8FA-99BA9ABC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575F6-DFCC-404C-8B61-D68E04E3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B6C-3883-4CFC-A930-81EBADB4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4652C-0FCE-4190-B604-AE82EA24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68926-2A3D-43E4-A5B9-95903C22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BFAFF-A5C8-486F-B2F2-94677B81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0DE76-35B7-47C5-8C16-0BA72206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98243-A54F-46F5-858E-B281893C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E0564-BDE3-4C36-9F91-45B911C0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71E79-A12E-4A57-A811-D9D638CA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EBFD2-E254-47D1-86D2-7E143542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30CFD-0E70-40BF-A4FD-C9939FA8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0F2C4-BBB0-4661-A433-C042C2A4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BB7-6B84-4D3A-A050-EE5D3E1C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57E27-AE0B-4663-8FED-05FB2432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09F8F-2DA4-47E7-92E2-C4E9A406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0B6E5-CF0A-48C0-831F-9A5A110B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6AC98-E967-4763-909C-84A6E808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9BCC3-2CAD-4CB2-BA19-C9A4FAA5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F5131-0089-4C76-9DA2-B9D3E4EA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59344-BDDB-4AFA-A36C-3C48349C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1A69B-EDC6-465D-B768-47F50981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7B25A-AF7F-46C9-AF36-FAD1A4DA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74F42-A836-46FA-9A80-09A18BBA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5B8-EF88-48D7-BC36-1164A1B2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E1084-58D9-41F1-A3C5-93D9DA2F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B85BD-CD34-47D3-A52C-8329A1A2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AC0E4-CDF2-4FD0-8C51-825A78A9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87851-289E-437E-9871-903D4749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B5E3B-25F1-4A19-8DBB-8CBA535B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53430-24A8-494D-9836-966B34A0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93F4B-B051-41BF-B865-2402A2A2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3.xml"/><Relationship Id="rId30" Type="http://schemas.openxmlformats.org/officeDocument/2006/relationships/slideLayout" Target="../slideLayouts/slideLayout14.xml"/><Relationship Id="rId31" Type="http://schemas.openxmlformats.org/officeDocument/2006/relationships/slideLayout" Target="../slideLayouts/slideLayout15.xml"/><Relationship Id="rId32" Type="http://schemas.openxmlformats.org/officeDocument/2006/relationships/slideLayout" Target="../slideLayouts/slideLayout16.xml"/><Relationship Id="rId33" Type="http://schemas.openxmlformats.org/officeDocument/2006/relationships/slideLayout" Target="../slideLayouts/slideLayout17.xml"/><Relationship Id="rId34" Type="http://schemas.openxmlformats.org/officeDocument/2006/relationships/slideLayout" Target="../slideLayouts/slideLayout18.xml"/><Relationship Id="rId35" Type="http://schemas.openxmlformats.org/officeDocument/2006/relationships/slideLayout" Target="../slideLayouts/slideLayout19.xml"/><Relationship Id="rId36" Type="http://schemas.openxmlformats.org/officeDocument/2006/relationships/slideLayout" Target="../slideLayouts/slideLayout20.xml"/><Relationship Id="rId37" Type="http://schemas.openxmlformats.org/officeDocument/2006/relationships/slideLayout" Target="../slideLayouts/slideLayout21.xml"/><Relationship Id="rId38" Type="http://schemas.openxmlformats.org/officeDocument/2006/relationships/slideLayout" Target="../slideLayouts/slideLayout22.xml"/><Relationship Id="rId39" Type="http://schemas.openxmlformats.org/officeDocument/2006/relationships/slideLayout" Target="../slideLayouts/slideLayout23.xml"/><Relationship Id="rId4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7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0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3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6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9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2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8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1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4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0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43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46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49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2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5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8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1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4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7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70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2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8425-7852-419A-9F2D-F5E63A14FFD3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14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117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120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23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26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29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32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135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138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141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144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147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150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153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156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159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162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165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168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171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174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177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180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183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Rectangle 30" descr=""/>
          <p:cNvPicPr/>
          <p:nvPr/>
        </p:nvPicPr>
        <p:blipFill>
          <a:blip r:embed="rId27"/>
          <a:stretch/>
        </p:blipFill>
        <p:spPr>
          <a:xfrm>
            <a:off x="0" y="243828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37" descr=""/>
          <p:cNvPicPr/>
          <p:nvPr/>
        </p:nvPicPr>
        <p:blipFill>
          <a:blip r:embed="rId28"/>
          <a:stretch/>
        </p:blipFill>
        <p:spPr>
          <a:xfrm>
            <a:off x="0" y="91440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4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E84C-AD3E-4106-9549-07CF34E80452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9"/>
    <p:sldLayoutId id="2147483663" r:id="rId30"/>
    <p:sldLayoutId id="2147483664" r:id="rId31"/>
    <p:sldLayoutId id="2147483665" r:id="rId32"/>
    <p:sldLayoutId id="2147483666" r:id="rId33"/>
    <p:sldLayoutId id="2147483667" r:id="rId34"/>
    <p:sldLayoutId id="2147483668" r:id="rId35"/>
    <p:sldLayoutId id="2147483669" r:id="rId36"/>
    <p:sldLayoutId id="2147483670" r:id="rId37"/>
    <p:sldLayoutId id="2147483671" r:id="rId38"/>
    <p:sldLayoutId id="2147483672" r:id="rId39"/>
    <p:sldLayoutId id="2147483673" r:id="rId4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229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235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238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241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244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247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50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3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56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259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262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265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268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271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274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277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280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283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286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289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292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295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298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7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DD8E-AB94-4913-B7D8-3C40F5A1A800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343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346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349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352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355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358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361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364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367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370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73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76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9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382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385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388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391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394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397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400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403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406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409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412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Rectangle 30" descr=""/>
          <p:cNvPicPr/>
          <p:nvPr/>
        </p:nvPicPr>
        <p:blipFill>
          <a:blip r:embed="rId27"/>
          <a:stretch/>
        </p:blipFill>
        <p:spPr>
          <a:xfrm>
            <a:off x="0" y="495612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37" descr=""/>
          <p:cNvPicPr/>
          <p:nvPr/>
        </p:nvPicPr>
        <p:blipFill>
          <a:blip r:embed="rId28"/>
          <a:stretch/>
        </p:blipFill>
        <p:spPr>
          <a:xfrm>
            <a:off x="0" y="34322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0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1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12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BF3F-437D-47F9-B168-32EB89DB58E9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458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61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464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467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470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473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476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479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482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4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485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488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491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494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97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500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503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506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09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12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15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7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518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0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521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524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6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527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9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3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14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1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9444-CB9D-4331-A0AA-76FBF30AC2DB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572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575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7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578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0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581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584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587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590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593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596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599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602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605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608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611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614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6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617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620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2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623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626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629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1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32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35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38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641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3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16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17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1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1ED5-3946-4D41-8199-ADA02A6C2359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686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689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692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695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698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01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04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07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Oval 44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710" name="Oval 44" descr=""/>
            <p:cNvPicPr/>
            <p:nvPr/>
          </p:nvPicPr>
          <p:blipFill>
            <a:blip r:embed="rId10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2" name="Oval 45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13" name="Oval 45" descr=""/>
            <p:cNvPicPr/>
            <p:nvPr/>
          </p:nvPicPr>
          <p:blipFill>
            <a:blip r:embed="rId11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Oval 46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16" name="Oval 46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Rectangle 47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19" name="Rectangle 47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Oval 48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722" name="Oval 48" descr=""/>
            <p:cNvPicPr/>
            <p:nvPr/>
          </p:nvPicPr>
          <p:blipFill>
            <a:blip r:embed="rId14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4" name="Oval 49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725" name="Oval 49" descr=""/>
            <p:cNvPicPr/>
            <p:nvPr/>
          </p:nvPicPr>
          <p:blipFill>
            <a:blip r:embed="rId15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9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20"/>
          </p:nvPr>
        </p:nvSpPr>
        <p:spPr>
          <a:xfrm>
            <a:off x="2285640" y="6357600"/>
            <a:ext cx="3429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1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8790-FA32-456D-8309-A377086FCF58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769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772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775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778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781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84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87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90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Oval 44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93" name="Oval 44" descr=""/>
            <p:cNvPicPr/>
            <p:nvPr/>
          </p:nvPicPr>
          <p:blipFill>
            <a:blip r:embed="rId10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Oval 45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96" name="Oval 45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Rectangle 46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99" name="Rectangle 46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Oval 47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802" name="Oval 47" descr=""/>
            <p:cNvPicPr/>
            <p:nvPr/>
          </p:nvPicPr>
          <p:blipFill>
            <a:blip r:embed="rId13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Oval 48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805" name="Oval 48" descr=""/>
            <p:cNvPicPr/>
            <p:nvPr/>
          </p:nvPicPr>
          <p:blipFill>
            <a:blip r:embed="rId14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Oval 49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808" name="Oval 49" descr=""/>
            <p:cNvPicPr/>
            <p:nvPr/>
          </p:nvPicPr>
          <p:blipFill>
            <a:blip r:embed="rId15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22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23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24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240-D4C3-482C-8B73-914DC6030B87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4/Normal_Distribution_PDF.svg" TargetMode="External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صورة 1" descr=""/>
          <p:cNvPicPr/>
          <p:nvPr/>
        </p:nvPicPr>
        <p:blipFill>
          <a:blip r:embed="rId1"/>
          <a:stretch/>
        </p:blipFill>
        <p:spPr>
          <a:xfrm>
            <a:off x="6480" y="0"/>
            <a:ext cx="4591080" cy="3429000"/>
          </a:xfrm>
          <a:prstGeom prst="rect">
            <a:avLst/>
          </a:prstGeom>
          <a:ln w="0">
            <a:noFill/>
          </a:ln>
        </p:spPr>
      </p:pic>
      <p:pic>
        <p:nvPicPr>
          <p:cNvPr id="859" name="صورة 2" descr=""/>
          <p:cNvPicPr/>
          <p:nvPr/>
        </p:nvPicPr>
        <p:blipFill>
          <a:blip r:embed="rId2"/>
          <a:stretch/>
        </p:blipFill>
        <p:spPr>
          <a:xfrm>
            <a:off x="4537080" y="-12600"/>
            <a:ext cx="4606920" cy="3441600"/>
          </a:xfrm>
          <a:prstGeom prst="rect">
            <a:avLst/>
          </a:prstGeom>
          <a:ln w="0">
            <a:noFill/>
          </a:ln>
        </p:spPr>
      </p:pic>
      <p:pic>
        <p:nvPicPr>
          <p:cNvPr id="860" name="صورة 3" descr=""/>
          <p:cNvPicPr/>
          <p:nvPr/>
        </p:nvPicPr>
        <p:blipFill>
          <a:blip r:embed="rId3"/>
          <a:stretch/>
        </p:blipFill>
        <p:spPr>
          <a:xfrm>
            <a:off x="0" y="3456000"/>
            <a:ext cx="4537080" cy="3402000"/>
          </a:xfrm>
          <a:prstGeom prst="rect">
            <a:avLst/>
          </a:prstGeom>
          <a:ln w="0">
            <a:noFill/>
          </a:ln>
        </p:spPr>
      </p:pic>
      <p:pic>
        <p:nvPicPr>
          <p:cNvPr id="861" name="صورة 4" descr=""/>
          <p:cNvPicPr/>
          <p:nvPr/>
        </p:nvPicPr>
        <p:blipFill>
          <a:blip r:embed="rId4"/>
          <a:stretch/>
        </p:blipFill>
        <p:spPr>
          <a:xfrm>
            <a:off x="4537080" y="3429000"/>
            <a:ext cx="46069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2" name=""/>
          <p:cNvGraphicFramePr/>
          <p:nvPr/>
        </p:nvGraphicFramePr>
        <p:xfrm>
          <a:off x="380880" y="838080"/>
          <a:ext cx="8229600" cy="56293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b5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b5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-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b5b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-X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b5b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c9b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6511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e5e4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65115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±2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.3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3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اختبارات احصائية للمقارنة بن طرق تحليل أو محللين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ستبعاد النتيجة الشاذة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Q =a/w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366840" algn="r" rtl="1">
              <a:buClr>
                <a:srgbClr val="79b5b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</a:t>
            </a: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: الفرق بين النتيجة الشاذة وأقرب نتيجة لها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366840" algn="r" rtl="1">
              <a:buClr>
                <a:srgbClr val="79b5b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</a:t>
            </a: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: الانتشار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366840" algn="r" rtl="1">
              <a:buClr>
                <a:srgbClr val="79b5b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nstantia"/>
              </a:rPr>
              <a:t>calculated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and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nstantia"/>
              </a:rPr>
              <a:t>tabl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366840" algn="r" rtl="1">
              <a:buClr>
                <a:srgbClr val="79b5b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: عدد القراءات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ختبار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-Te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ختبار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-Tes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صورة 2" descr=""/>
          <p:cNvPicPr/>
          <p:nvPr/>
        </p:nvPicPr>
        <p:blipFill>
          <a:blip r:embed="rId1"/>
          <a:stretch/>
        </p:blipFill>
        <p:spPr>
          <a:xfrm>
            <a:off x="0" y="9360"/>
            <a:ext cx="4915080" cy="2686320"/>
          </a:xfrm>
          <a:prstGeom prst="rect">
            <a:avLst/>
          </a:prstGeom>
          <a:ln w="0">
            <a:noFill/>
          </a:ln>
        </p:spPr>
      </p:pic>
      <p:pic>
        <p:nvPicPr>
          <p:cNvPr id="863" name="صورة 1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269568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" descr="الزيادة في تركيز العناصر الثقيلة أ.jpg"/>
          <p:cNvPicPr/>
          <p:nvPr/>
        </p:nvPicPr>
        <p:blipFill>
          <a:blip r:embed="rId3"/>
          <a:stretch/>
        </p:blipFill>
        <p:spPr>
          <a:xfrm>
            <a:off x="2209680" y="2781360"/>
            <a:ext cx="47404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6019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الفصل الحادي والعشرون. الزامل، إبراهيم. (</a:t>
            </a: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1419</a:t>
            </a: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). الكيمياء التحليلية (التحليل الآلي). الخريجي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Constantia"/>
              </a:rPr>
              <a:t>تقييم النتائج إحصائياً</a:t>
            </a:r>
            <a:endParaRPr b="0" lang="en-US" sz="54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مصطلحات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lnSpc>
                <a:spcPct val="200000"/>
              </a:lnSpc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معدل </a:t>
            </a:r>
            <a:r>
              <a:rPr b="1" lang="ar-SA" sz="2800" spc="-1" strike="noStrike">
                <a:solidFill>
                  <a:srgbClr val="ffc000"/>
                </a:solidFill>
                <a:latin typeface="Constantia"/>
              </a:rPr>
              <a:t>(المتوسط)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والوسيط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ean (Average) and Media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5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6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45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57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) (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5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6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55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800" spc="-1" strike="noStrike" u="sng">
                <a:solidFill>
                  <a:srgbClr val="ffffff"/>
                </a:solidFill>
                <a:uFillTx/>
                <a:latin typeface="Constantia"/>
              </a:rPr>
              <a:t>3,9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 algn="r" rtl="1">
              <a:lnSpc>
                <a:spcPct val="200000"/>
              </a:lnSpc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دقة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ecis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26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recision= (</a:t>
            </a:r>
            <a:r>
              <a:rPr b="0" lang="el-GR" sz="2500" spc="-1" strike="noStrike">
                <a:solidFill>
                  <a:srgbClr val="ffffff"/>
                </a:solidFill>
                <a:latin typeface="Constantia"/>
              </a:rPr>
              <a:t>Σ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(X</a:t>
            </a:r>
            <a:r>
              <a:rPr b="0" lang="en-US" sz="2500" spc="-1" strike="noStrike" baseline="-25000">
                <a:solidFill>
                  <a:srgbClr val="ffffff"/>
                </a:solidFill>
                <a:latin typeface="Constantia"/>
              </a:rPr>
              <a:t>i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-X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onstantia"/>
              </a:rPr>
              <a:t>-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))/n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2644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حيود (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3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7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8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4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)، ومعدل الحيود =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55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2644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مدى أو الانتشار = 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0,05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 algn="r" rtl="1"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Constantia"/>
              </a:rPr>
              <a:t>المصداقية </a:t>
            </a:r>
            <a:r>
              <a:rPr b="1" lang="en-US" sz="2800" spc="-1" strike="noStrike">
                <a:solidFill>
                  <a:srgbClr val="ffff00"/>
                </a:solidFill>
                <a:latin typeface="Constantia"/>
              </a:rPr>
              <a:t>Accurac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530640" indent="-22644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ff"/>
                </a:solidFill>
                <a:latin typeface="Constantia"/>
              </a:rPr>
              <a:t>لطريقة أو محلل (فني مختبر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26440" indent="-22644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 = (E/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µ)*100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1" name="Picture 2" descr="http://upload.wikimedia.org/wikipedia/commons/thumb/3/38/Accuracy_and_precision.svg/2000px-Accuracy_and_precision.svg.png"/>
          <p:cNvPicPr/>
          <p:nvPr/>
        </p:nvPicPr>
        <p:blipFill>
          <a:blip r:embed="rId1"/>
          <a:stretch/>
        </p:blipFill>
        <p:spPr>
          <a:xfrm>
            <a:off x="914400" y="1676520"/>
            <a:ext cx="72612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أنواع الأخطاء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أخطاء المنتظمة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ystematic Errors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74360" indent="-42948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أسباب، خصائصها، تأثيرها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كتشاف الأخطاء المنتظمة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أخطاء العشوائية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andom Errors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r" rtl="1">
              <a:lnSpc>
                <a:spcPct val="2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منحنى الخطأ العادي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ormal Error Curv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29480" indent="-4294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مثلاً التركيز الحقيقي 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3,00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 ميكرو جرام، والنتائج (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3,01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2,97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، 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3,02</a:t>
            </a:r>
            <a:r>
              <a:rPr b="0" lang="ar-SA" sz="26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6" name="Picture 5" descr="File:Normal Distribution PDF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76520"/>
            <a:ext cx="6858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حيود القياسي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tandard Deviation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 and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using (n-1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متى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=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σ</a:t>
            </a: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؟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=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±0.53 % and 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= 10%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 and 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??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حيود القياسي التجريبي لمجموعات مجموع مربع الحيود لنتائج كل مجموعة مقسوماً على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-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حدود الثقة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Confidence Limi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 = X</a:t>
            </a:r>
            <a:r>
              <a:rPr b="1" lang="en-US" sz="44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±(ts/√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r" rtl="1">
              <a:lnSpc>
                <a:spcPct val="1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9" name="Picture 3" descr="e36a4d7f54d0a78db9a26b0156f41555.png"/>
          <p:cNvPicPr/>
          <p:nvPr/>
        </p:nvPicPr>
        <p:blipFill>
          <a:blip r:embed="rId1"/>
          <a:stretch/>
        </p:blipFill>
        <p:spPr>
          <a:xfrm>
            <a:off x="2666880" y="2133720"/>
            <a:ext cx="358164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مقارنة دلائل الدقة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609480" y="1600200"/>
          <a:ext cx="8077320" cy="4384800"/>
        </p:xfrm>
        <a:graphic>
          <a:graphicData uri="http://schemas.openxmlformats.org/drawingml/2006/table">
            <a:tbl>
              <a:tblPr/>
              <a:tblGrid>
                <a:gridCol w="1398600"/>
                <a:gridCol w="1335240"/>
                <a:gridCol w="1336680"/>
                <a:gridCol w="1334880"/>
                <a:gridCol w="1336680"/>
                <a:gridCol w="1335240"/>
              </a:tblGrid>
              <a:tr h="45396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قراء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حيود عن المعد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قراء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حيود عن المعد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5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8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2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12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معدل الحيو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معدل الحيود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انتشار (المدى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انتشار (المدى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حيود القياسي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380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Times New Roman"/>
                        </a:rPr>
                        <a:t>الحيود القياسي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5567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360" rIns="9360" tIns="9360" bIns="0" anchor="b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.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36:41Z</dcterms:created>
  <dc:creator>أميرة المنزل</dc:creator>
  <dc:description/>
  <dc:language>en-US</dc:language>
  <cp:lastModifiedBy>Abdullah Al-Farraj</cp:lastModifiedBy>
  <dcterms:modified xsi:type="dcterms:W3CDTF">2014-04-14T12:31:52Z</dcterms:modified>
  <cp:revision>172</cp:revision>
  <dc:subject/>
  <dc:title>عرض تقديمي في PowerPoint</dc:title>
</cp:coreProperties>
</file>