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0.png" ContentType="image/png"/>
  <Override PartName="/ppt/media/image44.jpeg" ContentType="image/jpeg"/>
  <Override PartName="/ppt/media/image30.png" ContentType="image/png"/>
  <Override PartName="/ppt/media/image41.jpeg" ContentType="image/jpeg"/>
  <Override PartName="/ppt/media/image45.jpeg" ContentType="image/jpeg"/>
  <Override PartName="/ppt/media/image13.png" ContentType="image/png"/>
  <Override PartName="/ppt/media/image50.png" ContentType="image/png"/>
  <Override PartName="/ppt/media/image46.jpeg" ContentType="image/jpeg"/>
  <Override PartName="/ppt/media/image31.png" ContentType="image/png"/>
  <Override PartName="/ppt/media/image29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move the slide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086A-BBB6-4031-A16F-CAEE77FF46D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A165-A3A9-4F8A-95C6-667557265B8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6A31-4AA2-4E97-907B-F1D2E458503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40CC-67A2-4208-87E5-F4F1A4F1A2E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D8AC-94FC-4BA0-BA9D-F29D69BE860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6E82-E92D-47E2-B6FF-7B44ACC86F6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2DE0-9719-4561-AA5A-125D8408510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71B5-32B4-4781-A9AF-14E9704FD30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7AAE-405E-4CB9-81CF-04A0B94A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1EAD-E421-42BF-818A-C561AC5E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8F93-153C-48B9-BE9B-139D261F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3DB6-3A37-404F-90FC-3161F04D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AE27B-CB8B-46E7-886B-88EB8EDF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B7EC6-D589-4DAD-ACA9-CA2AB234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EC2C9-E97C-4BE6-B3AC-073F581D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43C07-AC67-405E-85C0-DAC11889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EC97E-DAE0-4301-AD5A-FBE04E8E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7B805-C465-4656-A559-C1663BB0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6FB99-0EFD-4907-9DBF-D59BE680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ABA-F4DE-4989-8884-2344DB39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82294-CD14-4C1A-B5B9-56FDE9FD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48115-195E-4ABF-A534-AC728CC8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7F49B-E339-4DD6-A864-0FE5CC6E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01B31-A567-43E2-9604-C612A6CF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3082D-4196-487C-97DE-E91D9D3E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F4CD82-F1D1-46F5-9705-47A99E50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4011D9-2461-4049-90AC-5A843C1F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9683C-77D0-46AB-BFA4-BC1CD150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6E7637-9010-4046-BA92-001ED3DF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65693-65E3-4BED-87E8-9475A868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88D7-EE91-431E-9247-2D76ADD0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C7E60-FEFB-40BA-99EB-4A2A0677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D66AF-95DA-42D9-BF7D-AC122AFB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573B1-0947-4AB1-A585-055BFEDF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134EB-E0CD-40D9-9AFE-7A22B104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031E4-D63E-4A60-8FFF-8A6E872D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7C119-51CC-4D11-A188-A658E83E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8577B-FF4C-4B69-89C6-346CBD90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8FA21-9E39-4D82-A94E-8EA33D76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265CA-5EC9-4CFA-8881-56C340B2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0A5E0-0120-4B7C-BF17-38C4E7BA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5013-032B-4203-BAA5-799C63AB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B67B3-FDAD-41FA-86FF-0C595EA3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4E6BA-7740-4CAB-BA44-28C32B57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7F85D-1E64-4EA2-9FF8-0C3D0804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FF9CD-6398-4B11-970D-DEF74441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6C8F4-FD0F-467F-93B8-492C7B19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4E61E-3533-4459-9965-8851E46F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FF505-C4E6-4934-84F6-51E0BB96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CC8DE-1484-41D6-8F47-9216FED3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2CC58-ED2E-4957-8B5B-D80CDD6B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CF376-132C-4B69-867F-B6B266D0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E671-217D-49CF-B02E-9BBA9EDC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618A6-B754-4CC6-A0D6-9E3068B0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2B65C-6ABD-4A7D-808D-14036F79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6D370-7649-4F3A-B999-35CFDD40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8328D-CEF6-4A58-BC72-DC0837DE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24C99-A5BF-46BD-9CF4-6693963E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4CD4E-001F-4B24-96D7-42067E15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9368A-1B91-4687-84CF-C8BA8A9E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40C82-DAD1-49E6-8EEC-06B1C6E4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A67DC-FDAA-40D8-A52B-EB40537A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DA505-823E-40F7-945A-10991C91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68DE-EE6F-4E1A-B2FC-B4432B1C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345CB-6327-440E-9315-1CE51924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C2122-A299-4A3D-AAE8-0E987F07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81F9F-23D0-4AE6-B2CD-2872FA0C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38494-6FB6-4386-979F-A7EC09CA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53CC7-C3C4-4865-A697-70E043F6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991C6-714F-4134-A1A3-3E76A82F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4318E-A41E-4EDC-963F-A591D45C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8FDBA-F117-4D71-B7E2-E65741BF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A586A-C734-4812-BD8B-B01BFF4A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C460C-1722-49B8-9407-70240C03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596-AA5D-4183-A084-4CB1FE12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AE71B-D182-4C4C-8AC2-D1C868A2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FD318-DBEA-4F95-9256-CBE0D23E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40F06-7D28-49A6-95B6-D6B11759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97553-3909-486F-837C-5EA18BBA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B4EBC-B08F-4740-AC34-2421CD8C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CA383-65EA-400B-A450-9F8EBBC9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F9495-F0CD-4904-A711-4FE98F21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4AFAD-2AD0-4F18-8DBB-88BD0E71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FA4F6-D9F3-4E92-9AC6-F354235F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1FC8D-1820-4D0E-BD06-F2116DD2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80D2-5D0F-4E67-BA14-5377480B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57733-15C6-49D5-ABF6-E52F3DD8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A290C-0C4E-4691-B37E-FC6B7202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0A730-B4C9-4398-8A12-0E66AD2C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58EF3-2263-41AC-AED2-B7868C30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70AC5-25EC-44EA-8642-0A8BB1E5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380A5-56FF-461C-AC80-26C1D8A1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100C5-C731-40ED-A241-DBD8D6D2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EFEC7-566A-422B-AC3F-183A0599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6D3AF-8A59-4D52-94CA-9B373A32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2D200-7777-4C4A-B1AC-32FBE4F9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9297-CC20-4C32-80E5-0898B4F4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8F15F-FDB5-4063-B8E2-16B31406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E7E8E-5416-4A03-A0F0-8762A99C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9A356-59DE-4D63-A5E3-FA0E4E44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00FF8-F072-430A-B54F-4B56BA26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1333B-EC95-4038-A92F-C39867D7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2EC61-B12A-4346-86C9-E4F69FB0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7826F-C135-470E-AE70-B5042988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1.xml"/><Relationship Id="rId28" Type="http://schemas.openxmlformats.org/officeDocument/2006/relationships/slideLayout" Target="../slideLayouts/slideLayout2.xml"/><Relationship Id="rId29" Type="http://schemas.openxmlformats.org/officeDocument/2006/relationships/slideLayout" Target="../slideLayouts/slideLayout3.xml"/><Relationship Id="rId30" Type="http://schemas.openxmlformats.org/officeDocument/2006/relationships/slideLayout" Target="../slideLayouts/slideLayout4.xml"/><Relationship Id="rId31" Type="http://schemas.openxmlformats.org/officeDocument/2006/relationships/slideLayout" Target="../slideLayouts/slideLayout5.xml"/><Relationship Id="rId32" Type="http://schemas.openxmlformats.org/officeDocument/2006/relationships/slideLayout" Target="../slideLayouts/slideLayout6.xml"/><Relationship Id="rId33" Type="http://schemas.openxmlformats.org/officeDocument/2006/relationships/slideLayout" Target="../slideLayouts/slideLayout7.xml"/><Relationship Id="rId34" Type="http://schemas.openxmlformats.org/officeDocument/2006/relationships/slideLayout" Target="../slideLayouts/slideLayout8.xml"/><Relationship Id="rId35" Type="http://schemas.openxmlformats.org/officeDocument/2006/relationships/slideLayout" Target="../slideLayouts/slideLayout9.xml"/><Relationship Id="rId36" Type="http://schemas.openxmlformats.org/officeDocument/2006/relationships/slideLayout" Target="../slideLayouts/slideLayout10.xml"/><Relationship Id="rId37" Type="http://schemas.openxmlformats.org/officeDocument/2006/relationships/slideLayout" Target="../slideLayouts/slideLayout11.xml"/><Relationship Id="rId3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slideLayout" Target="../slideLayouts/slideLayout13.xml"/><Relationship Id="rId30" Type="http://schemas.openxmlformats.org/officeDocument/2006/relationships/slideLayout" Target="../slideLayouts/slideLayout14.xml"/><Relationship Id="rId31" Type="http://schemas.openxmlformats.org/officeDocument/2006/relationships/slideLayout" Target="../slideLayouts/slideLayout15.xml"/><Relationship Id="rId32" Type="http://schemas.openxmlformats.org/officeDocument/2006/relationships/slideLayout" Target="../slideLayouts/slideLayout16.xml"/><Relationship Id="rId33" Type="http://schemas.openxmlformats.org/officeDocument/2006/relationships/slideLayout" Target="../slideLayouts/slideLayout17.xml"/><Relationship Id="rId34" Type="http://schemas.openxmlformats.org/officeDocument/2006/relationships/slideLayout" Target="../slideLayouts/slideLayout18.xml"/><Relationship Id="rId35" Type="http://schemas.openxmlformats.org/officeDocument/2006/relationships/slideLayout" Target="../slideLayouts/slideLayout19.xml"/><Relationship Id="rId36" Type="http://schemas.openxmlformats.org/officeDocument/2006/relationships/slideLayout" Target="../slideLayouts/slideLayout20.xml"/><Relationship Id="rId37" Type="http://schemas.openxmlformats.org/officeDocument/2006/relationships/slideLayout" Target="../slideLayouts/slideLayout21.xml"/><Relationship Id="rId38" Type="http://schemas.openxmlformats.org/officeDocument/2006/relationships/slideLayout" Target="../slideLayouts/slideLayout22.xml"/><Relationship Id="rId39" Type="http://schemas.openxmlformats.org/officeDocument/2006/relationships/slideLayout" Target="../slideLayouts/slideLayout23.xml"/><Relationship Id="rId4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25.xml"/><Relationship Id="rId29" Type="http://schemas.openxmlformats.org/officeDocument/2006/relationships/slideLayout" Target="../slideLayouts/slideLayout26.xml"/><Relationship Id="rId30" Type="http://schemas.openxmlformats.org/officeDocument/2006/relationships/slideLayout" Target="../slideLayouts/slideLayout27.xml"/><Relationship Id="rId31" Type="http://schemas.openxmlformats.org/officeDocument/2006/relationships/slideLayout" Target="../slideLayouts/slideLayout28.xml"/><Relationship Id="rId32" Type="http://schemas.openxmlformats.org/officeDocument/2006/relationships/slideLayout" Target="../slideLayouts/slideLayout29.xml"/><Relationship Id="rId33" Type="http://schemas.openxmlformats.org/officeDocument/2006/relationships/slideLayout" Target="../slideLayouts/slideLayout30.xml"/><Relationship Id="rId34" Type="http://schemas.openxmlformats.org/officeDocument/2006/relationships/slideLayout" Target="../slideLayouts/slideLayout31.xml"/><Relationship Id="rId35" Type="http://schemas.openxmlformats.org/officeDocument/2006/relationships/slideLayout" Target="../slideLayouts/slideLayout32.xml"/><Relationship Id="rId36" Type="http://schemas.openxmlformats.org/officeDocument/2006/relationships/slideLayout" Target="../slideLayouts/slideLayout33.xml"/><Relationship Id="rId37" Type="http://schemas.openxmlformats.org/officeDocument/2006/relationships/slideLayout" Target="../slideLayouts/slideLayout34.xml"/><Relationship Id="rId38" Type="http://schemas.openxmlformats.org/officeDocument/2006/relationships/slideLayout" Target="../slideLayouts/slideLayout35.xml"/><Relationship Id="rId3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37.xml"/><Relationship Id="rId30" Type="http://schemas.openxmlformats.org/officeDocument/2006/relationships/slideLayout" Target="../slideLayouts/slideLayout38.xml"/><Relationship Id="rId31" Type="http://schemas.openxmlformats.org/officeDocument/2006/relationships/slideLayout" Target="../slideLayouts/slideLayout39.xml"/><Relationship Id="rId32" Type="http://schemas.openxmlformats.org/officeDocument/2006/relationships/slideLayout" Target="../slideLayouts/slideLayout40.xml"/><Relationship Id="rId33" Type="http://schemas.openxmlformats.org/officeDocument/2006/relationships/slideLayout" Target="../slideLayouts/slideLayout41.xml"/><Relationship Id="rId34" Type="http://schemas.openxmlformats.org/officeDocument/2006/relationships/slideLayout" Target="../slideLayouts/slideLayout42.xml"/><Relationship Id="rId35" Type="http://schemas.openxmlformats.org/officeDocument/2006/relationships/slideLayout" Target="../slideLayouts/slideLayout43.xml"/><Relationship Id="rId36" Type="http://schemas.openxmlformats.org/officeDocument/2006/relationships/slideLayout" Target="../slideLayouts/slideLayout44.xml"/><Relationship Id="rId37" Type="http://schemas.openxmlformats.org/officeDocument/2006/relationships/slideLayout" Target="../slideLayouts/slideLayout45.xml"/><Relationship Id="rId38" Type="http://schemas.openxmlformats.org/officeDocument/2006/relationships/slideLayout" Target="../slideLayouts/slideLayout46.xml"/><Relationship Id="rId39" Type="http://schemas.openxmlformats.org/officeDocument/2006/relationships/slideLayout" Target="../slideLayouts/slideLayout47.xml"/><Relationship Id="rId4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49.xml"/><Relationship Id="rId29" Type="http://schemas.openxmlformats.org/officeDocument/2006/relationships/slideLayout" Target="../slideLayouts/slideLayout50.xml"/><Relationship Id="rId30" Type="http://schemas.openxmlformats.org/officeDocument/2006/relationships/slideLayout" Target="../slideLayouts/slideLayout51.xml"/><Relationship Id="rId31" Type="http://schemas.openxmlformats.org/officeDocument/2006/relationships/slideLayout" Target="../slideLayouts/slideLayout52.xml"/><Relationship Id="rId32" Type="http://schemas.openxmlformats.org/officeDocument/2006/relationships/slideLayout" Target="../slideLayouts/slideLayout53.xml"/><Relationship Id="rId33" Type="http://schemas.openxmlformats.org/officeDocument/2006/relationships/slideLayout" Target="../slideLayouts/slideLayout54.xml"/><Relationship Id="rId34" Type="http://schemas.openxmlformats.org/officeDocument/2006/relationships/slideLayout" Target="../slideLayouts/slideLayout55.xml"/><Relationship Id="rId35" Type="http://schemas.openxmlformats.org/officeDocument/2006/relationships/slideLayout" Target="../slideLayouts/slideLayout56.xml"/><Relationship Id="rId36" Type="http://schemas.openxmlformats.org/officeDocument/2006/relationships/slideLayout" Target="../slideLayouts/slideLayout57.xml"/><Relationship Id="rId37" Type="http://schemas.openxmlformats.org/officeDocument/2006/relationships/slideLayout" Target="../slideLayouts/slideLayout58.xml"/><Relationship Id="rId38" Type="http://schemas.openxmlformats.org/officeDocument/2006/relationships/slideLayout" Target="../slideLayouts/slideLayout59.xml"/><Relationship Id="rId3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61.xml"/><Relationship Id="rId29" Type="http://schemas.openxmlformats.org/officeDocument/2006/relationships/slideLayout" Target="../slideLayouts/slideLayout62.xml"/><Relationship Id="rId30" Type="http://schemas.openxmlformats.org/officeDocument/2006/relationships/slideLayout" Target="../slideLayouts/slideLayout63.xml"/><Relationship Id="rId31" Type="http://schemas.openxmlformats.org/officeDocument/2006/relationships/slideLayout" Target="../slideLayouts/slideLayout64.xml"/><Relationship Id="rId32" Type="http://schemas.openxmlformats.org/officeDocument/2006/relationships/slideLayout" Target="../slideLayouts/slideLayout65.xml"/><Relationship Id="rId33" Type="http://schemas.openxmlformats.org/officeDocument/2006/relationships/slideLayout" Target="../slideLayouts/slideLayout66.xml"/><Relationship Id="rId34" Type="http://schemas.openxmlformats.org/officeDocument/2006/relationships/slideLayout" Target="../slideLayouts/slideLayout67.xml"/><Relationship Id="rId35" Type="http://schemas.openxmlformats.org/officeDocument/2006/relationships/slideLayout" Target="../slideLayouts/slideLayout68.xml"/><Relationship Id="rId36" Type="http://schemas.openxmlformats.org/officeDocument/2006/relationships/slideLayout" Target="../slideLayouts/slideLayout69.xml"/><Relationship Id="rId37" Type="http://schemas.openxmlformats.org/officeDocument/2006/relationships/slideLayout" Target="../slideLayouts/slideLayout70.xml"/><Relationship Id="rId38" Type="http://schemas.openxmlformats.org/officeDocument/2006/relationships/slideLayout" Target="../slideLayouts/slideLayout71.xml"/><Relationship Id="rId3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slideLayout" Target="../slideLayouts/slideLayout73.xml"/><Relationship Id="rId17" Type="http://schemas.openxmlformats.org/officeDocument/2006/relationships/slideLayout" Target="../slideLayouts/slideLayout74.xml"/><Relationship Id="rId18" Type="http://schemas.openxmlformats.org/officeDocument/2006/relationships/slideLayout" Target="../slideLayouts/slideLayout75.xml"/><Relationship Id="rId19" Type="http://schemas.openxmlformats.org/officeDocument/2006/relationships/slideLayout" Target="../slideLayouts/slideLayout76.xml"/><Relationship Id="rId20" Type="http://schemas.openxmlformats.org/officeDocument/2006/relationships/slideLayout" Target="../slideLayouts/slideLayout77.xml"/><Relationship Id="rId21" Type="http://schemas.openxmlformats.org/officeDocument/2006/relationships/slideLayout" Target="../slideLayouts/slideLayout78.xml"/><Relationship Id="rId22" Type="http://schemas.openxmlformats.org/officeDocument/2006/relationships/slideLayout" Target="../slideLayouts/slideLayout79.xml"/><Relationship Id="rId23" Type="http://schemas.openxmlformats.org/officeDocument/2006/relationships/slideLayout" Target="../slideLayouts/slideLayout80.xml"/><Relationship Id="rId24" Type="http://schemas.openxmlformats.org/officeDocument/2006/relationships/slideLayout" Target="../slideLayouts/slideLayout81.xml"/><Relationship Id="rId25" Type="http://schemas.openxmlformats.org/officeDocument/2006/relationships/slideLayout" Target="../slideLayouts/slideLayout82.xml"/><Relationship Id="rId26" Type="http://schemas.openxmlformats.org/officeDocument/2006/relationships/slideLayout" Target="../slideLayouts/slideLayout83.xml"/><Relationship Id="rId2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85.xml"/><Relationship Id="rId17" Type="http://schemas.openxmlformats.org/officeDocument/2006/relationships/slideLayout" Target="../slideLayouts/slideLayout86.xml"/><Relationship Id="rId18" Type="http://schemas.openxmlformats.org/officeDocument/2006/relationships/slideLayout" Target="../slideLayouts/slideLayout87.xml"/><Relationship Id="rId19" Type="http://schemas.openxmlformats.org/officeDocument/2006/relationships/slideLayout" Target="../slideLayouts/slideLayout88.xml"/><Relationship Id="rId20" Type="http://schemas.openxmlformats.org/officeDocument/2006/relationships/slideLayout" Target="../slideLayouts/slideLayout89.xml"/><Relationship Id="rId21" Type="http://schemas.openxmlformats.org/officeDocument/2006/relationships/slideLayout" Target="../slideLayouts/slideLayout90.xml"/><Relationship Id="rId22" Type="http://schemas.openxmlformats.org/officeDocument/2006/relationships/slideLayout" Target="../slideLayouts/slideLayout91.xml"/><Relationship Id="rId23" Type="http://schemas.openxmlformats.org/officeDocument/2006/relationships/slideLayout" Target="../slideLayouts/slideLayout92.xml"/><Relationship Id="rId24" Type="http://schemas.openxmlformats.org/officeDocument/2006/relationships/slideLayout" Target="../slideLayouts/slideLayout93.xml"/><Relationship Id="rId25" Type="http://schemas.openxmlformats.org/officeDocument/2006/relationships/slideLayout" Target="../slideLayouts/slideLayout94.xml"/><Relationship Id="rId26" Type="http://schemas.openxmlformats.org/officeDocument/2006/relationships/slideLayout" Target="../slideLayouts/slideLayout95.xml"/><Relationship Id="rId2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4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7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10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13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16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19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22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25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28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31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34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37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40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43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46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49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52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55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58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61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64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67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70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1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2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3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0539-B0A8-422B-9DCB-2CE011A61D69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7"/>
    <p:sldLayoutId id="2147483650" r:id="rId28"/>
    <p:sldLayoutId id="2147483651" r:id="rId29"/>
    <p:sldLayoutId id="2147483652" r:id="rId30"/>
    <p:sldLayoutId id="2147483653" r:id="rId31"/>
    <p:sldLayoutId id="2147483654" r:id="rId32"/>
    <p:sldLayoutId id="2147483655" r:id="rId33"/>
    <p:sldLayoutId id="2147483656" r:id="rId34"/>
    <p:sldLayoutId id="2147483657" r:id="rId35"/>
    <p:sldLayoutId id="2147483658" r:id="rId36"/>
    <p:sldLayoutId id="2147483659" r:id="rId37"/>
    <p:sldLayoutId id="2147483660" r:id="rId3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114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117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120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123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126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129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132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135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138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141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144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147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150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153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156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159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162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165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168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171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174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177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180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183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5" name="Rectangle 30" descr=""/>
          <p:cNvPicPr/>
          <p:nvPr/>
        </p:nvPicPr>
        <p:blipFill>
          <a:blip r:embed="rId27"/>
          <a:stretch/>
        </p:blipFill>
        <p:spPr>
          <a:xfrm>
            <a:off x="0" y="243828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37" descr=""/>
          <p:cNvPicPr/>
          <p:nvPr/>
        </p:nvPicPr>
        <p:blipFill>
          <a:blip r:embed="rId28"/>
          <a:stretch/>
        </p:blipFill>
        <p:spPr>
          <a:xfrm>
            <a:off x="0" y="91440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4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5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9E67-5CAB-4A08-8ABD-AC4DEB901566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6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9"/>
    <p:sldLayoutId id="2147483663" r:id="rId30"/>
    <p:sldLayoutId id="2147483664" r:id="rId31"/>
    <p:sldLayoutId id="2147483665" r:id="rId32"/>
    <p:sldLayoutId id="2147483666" r:id="rId33"/>
    <p:sldLayoutId id="2147483667" r:id="rId34"/>
    <p:sldLayoutId id="2147483668" r:id="rId35"/>
    <p:sldLayoutId id="2147483669" r:id="rId36"/>
    <p:sldLayoutId id="2147483670" r:id="rId37"/>
    <p:sldLayoutId id="2147483671" r:id="rId38"/>
    <p:sldLayoutId id="2147483672" r:id="rId39"/>
    <p:sldLayoutId id="2147483673" r:id="rId4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229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232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235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238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241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244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247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250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253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256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259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262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265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268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271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274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277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280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283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286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289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292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295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298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0" name="Rectangle 30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7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8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22C2-0458-4247-9542-9A4943974B00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ftr" idx="9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8"/>
    <p:sldLayoutId id="2147483676" r:id="rId29"/>
    <p:sldLayoutId id="2147483677" r:id="rId30"/>
    <p:sldLayoutId id="2147483678" r:id="rId31"/>
    <p:sldLayoutId id="2147483679" r:id="rId32"/>
    <p:sldLayoutId id="2147483680" r:id="rId33"/>
    <p:sldLayoutId id="2147483681" r:id="rId34"/>
    <p:sldLayoutId id="2147483682" r:id="rId35"/>
    <p:sldLayoutId id="2147483683" r:id="rId36"/>
    <p:sldLayoutId id="2147483684" r:id="rId37"/>
    <p:sldLayoutId id="2147483685" r:id="rId38"/>
    <p:sldLayoutId id="2147483686" r:id="rId3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343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346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349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352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355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358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361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364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367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370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373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376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379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382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385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388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391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394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397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400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403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406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409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412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4" name="Rectangle 30" descr=""/>
          <p:cNvPicPr/>
          <p:nvPr/>
        </p:nvPicPr>
        <p:blipFill>
          <a:blip r:embed="rId27"/>
          <a:stretch/>
        </p:blipFill>
        <p:spPr>
          <a:xfrm>
            <a:off x="0" y="495612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37" descr=""/>
          <p:cNvPicPr/>
          <p:nvPr/>
        </p:nvPicPr>
        <p:blipFill>
          <a:blip r:embed="rId28"/>
          <a:stretch/>
        </p:blipFill>
        <p:spPr>
          <a:xfrm>
            <a:off x="0" y="34322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10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11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12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A0F6-894E-40D1-A199-B35DEECE07C0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9"/>
    <p:sldLayoutId id="2147483689" r:id="rId30"/>
    <p:sldLayoutId id="2147483690" r:id="rId31"/>
    <p:sldLayoutId id="2147483691" r:id="rId32"/>
    <p:sldLayoutId id="2147483692" r:id="rId33"/>
    <p:sldLayoutId id="2147483693" r:id="rId34"/>
    <p:sldLayoutId id="2147483694" r:id="rId35"/>
    <p:sldLayoutId id="2147483695" r:id="rId36"/>
    <p:sldLayoutId id="2147483696" r:id="rId37"/>
    <p:sldLayoutId id="2147483697" r:id="rId38"/>
    <p:sldLayoutId id="2147483698" r:id="rId39"/>
    <p:sldLayoutId id="2147483699" r:id="rId4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458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461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3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464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6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467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470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473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476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8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479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1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482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4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485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7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488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491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3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494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497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9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500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2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503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5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506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8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509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1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512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4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515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7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518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0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521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3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524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6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527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9" name="Rectangle 30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13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14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15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DDFA-4C2C-40E1-83B3-BD1B8ED5A46B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8"/>
    <p:sldLayoutId id="2147483702" r:id="rId29"/>
    <p:sldLayoutId id="2147483703" r:id="rId30"/>
    <p:sldLayoutId id="2147483704" r:id="rId31"/>
    <p:sldLayoutId id="2147483705" r:id="rId32"/>
    <p:sldLayoutId id="2147483706" r:id="rId33"/>
    <p:sldLayoutId id="2147483707" r:id="rId34"/>
    <p:sldLayoutId id="2147483708" r:id="rId35"/>
    <p:sldLayoutId id="2147483709" r:id="rId36"/>
    <p:sldLayoutId id="2147483710" r:id="rId37"/>
    <p:sldLayoutId id="2147483711" r:id="rId38"/>
    <p:sldLayoutId id="2147483712" r:id="rId3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572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4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575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7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578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0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581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584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587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590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593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596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8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599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1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602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4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605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7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608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0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611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3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614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6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617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9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620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2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623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5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626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8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629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1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632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635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638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0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641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3" name="Rectangle 30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16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17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18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EF5A-C8D3-4995-B6E3-2DDB53E96334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8"/>
    <p:sldLayoutId id="2147483715" r:id="rId29"/>
    <p:sldLayoutId id="2147483716" r:id="rId30"/>
    <p:sldLayoutId id="2147483717" r:id="rId31"/>
    <p:sldLayoutId id="2147483718" r:id="rId32"/>
    <p:sldLayoutId id="2147483719" r:id="rId33"/>
    <p:sldLayoutId id="2147483720" r:id="rId34"/>
    <p:sldLayoutId id="2147483721" r:id="rId35"/>
    <p:sldLayoutId id="2147483722" r:id="rId36"/>
    <p:sldLayoutId id="2147483723" r:id="rId37"/>
    <p:sldLayoutId id="2147483724" r:id="rId38"/>
    <p:sldLayoutId id="2147483725" r:id="rId3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Rectangle 30"/>
          <p:cNvGrpSpPr/>
          <p:nvPr/>
        </p:nvGrpSpPr>
        <p:grpSpPr>
          <a:xfrm>
            <a:off x="-19080" y="-19080"/>
            <a:ext cx="2622600" cy="6889680"/>
            <a:chOff x="-19080" y="-19080"/>
            <a:chExt cx="2622600" cy="6889680"/>
          </a:xfrm>
        </p:grpSpPr>
        <p:pic>
          <p:nvPicPr>
            <p:cNvPr id="686" name="Rectangle 30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2260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0" y="0"/>
              <a:ext cx="2590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Oval 37"/>
          <p:cNvGrpSpPr/>
          <p:nvPr/>
        </p:nvGrpSpPr>
        <p:grpSpPr>
          <a:xfrm>
            <a:off x="1547640" y="4322880"/>
            <a:ext cx="1055880" cy="1054080"/>
            <a:chOff x="1547640" y="4322880"/>
            <a:chExt cx="1055880" cy="1054080"/>
          </a:xfrm>
        </p:grpSpPr>
        <p:pic>
          <p:nvPicPr>
            <p:cNvPr id="689" name="Oval 37" descr=""/>
            <p:cNvPicPr/>
            <p:nvPr/>
          </p:nvPicPr>
          <p:blipFill>
            <a:blip r:embed="rId3"/>
            <a:stretch/>
          </p:blipFill>
          <p:spPr>
            <a:xfrm>
              <a:off x="1547640" y="43228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1714680" y="4487760"/>
              <a:ext cx="72540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Rectangle 38"/>
          <p:cNvGrpSpPr/>
          <p:nvPr/>
        </p:nvGrpSpPr>
        <p:grpSpPr>
          <a:xfrm>
            <a:off x="-19080" y="365040"/>
            <a:ext cx="2165400" cy="2421000"/>
            <a:chOff x="-19080" y="365040"/>
            <a:chExt cx="2165400" cy="2421000"/>
          </a:xfrm>
        </p:grpSpPr>
        <p:pic>
          <p:nvPicPr>
            <p:cNvPr id="692" name="Rectangle 38" descr=""/>
            <p:cNvPicPr/>
            <p:nvPr/>
          </p:nvPicPr>
          <p:blipFill>
            <a:blip r:embed="rId4"/>
            <a:stretch/>
          </p:blipFill>
          <p:spPr>
            <a:xfrm>
              <a:off x="-19080" y="365040"/>
              <a:ext cx="216540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/>
            <p:nvPr/>
          </p:nvSpPr>
          <p:spPr>
            <a:xfrm>
              <a:off x="0" y="380880"/>
              <a:ext cx="213372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4" name="Rectangle 39"/>
          <p:cNvGrpSpPr/>
          <p:nvPr/>
        </p:nvGrpSpPr>
        <p:grpSpPr>
          <a:xfrm>
            <a:off x="1432080" y="-19080"/>
            <a:ext cx="1207800" cy="665280"/>
            <a:chOff x="1432080" y="-19080"/>
            <a:chExt cx="1207800" cy="665280"/>
          </a:xfrm>
        </p:grpSpPr>
        <p:pic>
          <p:nvPicPr>
            <p:cNvPr id="695" name="Rectangle 39" descr=""/>
            <p:cNvPicPr/>
            <p:nvPr/>
          </p:nvPicPr>
          <p:blipFill>
            <a:blip r:embed="rId5"/>
            <a:stretch/>
          </p:blipFill>
          <p:spPr>
            <a:xfrm>
              <a:off x="1432080" y="-19080"/>
              <a:ext cx="120780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1447920" y="0"/>
              <a:ext cx="117468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7" name="Oval 40"/>
          <p:cNvGrpSpPr/>
          <p:nvPr/>
        </p:nvGrpSpPr>
        <p:grpSpPr>
          <a:xfrm>
            <a:off x="42840" y="-19080"/>
            <a:ext cx="2335320" cy="2414520"/>
            <a:chOff x="42840" y="-19080"/>
            <a:chExt cx="2335320" cy="2414520"/>
          </a:xfrm>
        </p:grpSpPr>
        <p:pic>
          <p:nvPicPr>
            <p:cNvPr id="698" name="Oval 40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3532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396720" y="347760"/>
              <a:ext cx="162900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Oval 41"/>
          <p:cNvGrpSpPr/>
          <p:nvPr/>
        </p:nvGrpSpPr>
        <p:grpSpPr>
          <a:xfrm>
            <a:off x="-19080" y="3260880"/>
            <a:ext cx="927000" cy="914400"/>
            <a:chOff x="-19080" y="3260880"/>
            <a:chExt cx="927000" cy="914400"/>
          </a:xfrm>
        </p:grpSpPr>
        <p:pic>
          <p:nvPicPr>
            <p:cNvPr id="701" name="Oval 41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27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130320" y="3406680"/>
              <a:ext cx="6300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Oval 42"/>
          <p:cNvGrpSpPr/>
          <p:nvPr/>
        </p:nvGrpSpPr>
        <p:grpSpPr>
          <a:xfrm>
            <a:off x="781200" y="1706400"/>
            <a:ext cx="1431720" cy="1433520"/>
            <a:chOff x="781200" y="1706400"/>
            <a:chExt cx="1431720" cy="1433520"/>
          </a:xfrm>
        </p:grpSpPr>
        <p:pic>
          <p:nvPicPr>
            <p:cNvPr id="704" name="Oval 42" descr=""/>
            <p:cNvPicPr/>
            <p:nvPr/>
          </p:nvPicPr>
          <p:blipFill>
            <a:blip r:embed="rId8"/>
            <a:stretch/>
          </p:blipFill>
          <p:spPr>
            <a:xfrm>
              <a:off x="781200" y="1706400"/>
              <a:ext cx="143172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998640" y="1927080"/>
              <a:ext cx="9921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6" name="Oval 43"/>
          <p:cNvGrpSpPr/>
          <p:nvPr/>
        </p:nvGrpSpPr>
        <p:grpSpPr>
          <a:xfrm>
            <a:off x="590400" y="4022640"/>
            <a:ext cx="1586160" cy="1586160"/>
            <a:chOff x="590400" y="4022640"/>
            <a:chExt cx="1586160" cy="1586160"/>
          </a:xfrm>
        </p:grpSpPr>
        <p:pic>
          <p:nvPicPr>
            <p:cNvPr id="707" name="Oval 43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861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836640" y="4265640"/>
              <a:ext cx="1100160" cy="11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Oval 44"/>
          <p:cNvGrpSpPr/>
          <p:nvPr/>
        </p:nvGrpSpPr>
        <p:grpSpPr>
          <a:xfrm>
            <a:off x="139680" y="2346480"/>
            <a:ext cx="482760" cy="488880"/>
            <a:chOff x="139680" y="2346480"/>
            <a:chExt cx="482760" cy="488880"/>
          </a:xfrm>
        </p:grpSpPr>
        <p:pic>
          <p:nvPicPr>
            <p:cNvPr id="710" name="Oval 44" descr=""/>
            <p:cNvPicPr/>
            <p:nvPr/>
          </p:nvPicPr>
          <p:blipFill>
            <a:blip r:embed="rId10"/>
            <a:stretch/>
          </p:blipFill>
          <p:spPr>
            <a:xfrm>
              <a:off x="139680" y="2346480"/>
              <a:ext cx="4827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219240" y="242892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2" name="Oval 45"/>
          <p:cNvGrpSpPr/>
          <p:nvPr/>
        </p:nvGrpSpPr>
        <p:grpSpPr>
          <a:xfrm>
            <a:off x="1736640" y="365040"/>
            <a:ext cx="488880" cy="488880"/>
            <a:chOff x="1736640" y="365040"/>
            <a:chExt cx="488880" cy="488880"/>
          </a:xfrm>
        </p:grpSpPr>
        <p:pic>
          <p:nvPicPr>
            <p:cNvPr id="713" name="Oval 45" descr=""/>
            <p:cNvPicPr/>
            <p:nvPr/>
          </p:nvPicPr>
          <p:blipFill>
            <a:blip r:embed="rId11"/>
            <a:stretch/>
          </p:blipFill>
          <p:spPr>
            <a:xfrm>
              <a:off x="1736640" y="365040"/>
              <a:ext cx="48888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1819440" y="44784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Oval 46"/>
          <p:cNvGrpSpPr/>
          <p:nvPr/>
        </p:nvGrpSpPr>
        <p:grpSpPr>
          <a:xfrm>
            <a:off x="560520" y="2498760"/>
            <a:ext cx="2043000" cy="2043000"/>
            <a:chOff x="560520" y="2498760"/>
            <a:chExt cx="2043000" cy="2043000"/>
          </a:xfrm>
        </p:grpSpPr>
        <p:pic>
          <p:nvPicPr>
            <p:cNvPr id="716" name="Oval 46" descr=""/>
            <p:cNvPicPr/>
            <p:nvPr/>
          </p:nvPicPr>
          <p:blipFill>
            <a:blip r:embed="rId12"/>
            <a:stretch/>
          </p:blipFill>
          <p:spPr>
            <a:xfrm>
              <a:off x="560520" y="2498760"/>
              <a:ext cx="204300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873000" y="2809800"/>
              <a:ext cx="142236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Rectangle 47"/>
          <p:cNvGrpSpPr/>
          <p:nvPr/>
        </p:nvGrpSpPr>
        <p:grpSpPr>
          <a:xfrm>
            <a:off x="-19080" y="5699160"/>
            <a:ext cx="1635120" cy="1171440"/>
            <a:chOff x="-19080" y="5699160"/>
            <a:chExt cx="1635120" cy="1171440"/>
          </a:xfrm>
        </p:grpSpPr>
        <p:pic>
          <p:nvPicPr>
            <p:cNvPr id="719" name="Rectangle 47" descr=""/>
            <p:cNvPicPr/>
            <p:nvPr/>
          </p:nvPicPr>
          <p:blipFill>
            <a:blip r:embed="rId13"/>
            <a:stretch/>
          </p:blipFill>
          <p:spPr>
            <a:xfrm>
              <a:off x="-19080" y="5699160"/>
              <a:ext cx="16351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0" y="5715000"/>
              <a:ext cx="16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Oval 48"/>
          <p:cNvGrpSpPr/>
          <p:nvPr/>
        </p:nvGrpSpPr>
        <p:grpSpPr>
          <a:xfrm>
            <a:off x="1311120" y="5857920"/>
            <a:ext cx="762120" cy="762120"/>
            <a:chOff x="1311120" y="5857920"/>
            <a:chExt cx="762120" cy="762120"/>
          </a:xfrm>
        </p:grpSpPr>
        <p:pic>
          <p:nvPicPr>
            <p:cNvPr id="722" name="Oval 48" descr=""/>
            <p:cNvPicPr/>
            <p:nvPr/>
          </p:nvPicPr>
          <p:blipFill>
            <a:blip r:embed="rId14"/>
            <a:stretch/>
          </p:blipFill>
          <p:spPr>
            <a:xfrm>
              <a:off x="1311120" y="585792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1430280" y="5981760"/>
              <a:ext cx="517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4" name="Oval 49"/>
          <p:cNvGrpSpPr/>
          <p:nvPr/>
        </p:nvGrpSpPr>
        <p:grpSpPr>
          <a:xfrm>
            <a:off x="19080" y="5200560"/>
            <a:ext cx="1670040" cy="1676520"/>
            <a:chOff x="19080" y="5200560"/>
            <a:chExt cx="1670040" cy="1676520"/>
          </a:xfrm>
        </p:grpSpPr>
        <p:pic>
          <p:nvPicPr>
            <p:cNvPr id="725" name="Oval 49" descr=""/>
            <p:cNvPicPr/>
            <p:nvPr/>
          </p:nvPicPr>
          <p:blipFill>
            <a:blip r:embed="rId15"/>
            <a:stretch/>
          </p:blipFill>
          <p:spPr>
            <a:xfrm>
              <a:off x="19080" y="5200560"/>
              <a:ext cx="16700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271440" y="5452920"/>
              <a:ext cx="11635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19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20"/>
          </p:nvPr>
        </p:nvSpPr>
        <p:spPr>
          <a:xfrm>
            <a:off x="2285640" y="6357600"/>
            <a:ext cx="3429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21"/>
          </p:nvPr>
        </p:nvSpPr>
        <p:spPr>
          <a:xfrm>
            <a:off x="155160" y="631836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CAEB-D967-4322-9678-FBCD81D15258}" type="slidenum">
              <a: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6"/>
    <p:sldLayoutId id="2147483728" r:id="rId17"/>
    <p:sldLayoutId id="2147483729" r:id="rId18"/>
    <p:sldLayoutId id="2147483730" r:id="rId19"/>
    <p:sldLayoutId id="2147483731" r:id="rId20"/>
    <p:sldLayoutId id="2147483732" r:id="rId21"/>
    <p:sldLayoutId id="2147483733" r:id="rId22"/>
    <p:sldLayoutId id="2147483734" r:id="rId23"/>
    <p:sldLayoutId id="2147483735" r:id="rId24"/>
    <p:sldLayoutId id="2147483736" r:id="rId25"/>
    <p:sldLayoutId id="2147483737" r:id="rId26"/>
    <p:sldLayoutId id="2147483738" r:id="rId2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Rectangle 30"/>
          <p:cNvGrpSpPr/>
          <p:nvPr/>
        </p:nvGrpSpPr>
        <p:grpSpPr>
          <a:xfrm>
            <a:off x="-19080" y="-19080"/>
            <a:ext cx="2622600" cy="6889680"/>
            <a:chOff x="-19080" y="-19080"/>
            <a:chExt cx="2622600" cy="6889680"/>
          </a:xfrm>
        </p:grpSpPr>
        <p:pic>
          <p:nvPicPr>
            <p:cNvPr id="769" name="Rectangle 30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2260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0" y="0"/>
              <a:ext cx="2590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1" name="Oval 37"/>
          <p:cNvGrpSpPr/>
          <p:nvPr/>
        </p:nvGrpSpPr>
        <p:grpSpPr>
          <a:xfrm>
            <a:off x="1547640" y="4322880"/>
            <a:ext cx="1055880" cy="1054080"/>
            <a:chOff x="1547640" y="4322880"/>
            <a:chExt cx="1055880" cy="1054080"/>
          </a:xfrm>
        </p:grpSpPr>
        <p:pic>
          <p:nvPicPr>
            <p:cNvPr id="772" name="Oval 37" descr=""/>
            <p:cNvPicPr/>
            <p:nvPr/>
          </p:nvPicPr>
          <p:blipFill>
            <a:blip r:embed="rId3"/>
            <a:stretch/>
          </p:blipFill>
          <p:spPr>
            <a:xfrm>
              <a:off x="1547640" y="43228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1714680" y="4487760"/>
              <a:ext cx="72540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Rectangle 38"/>
          <p:cNvGrpSpPr/>
          <p:nvPr/>
        </p:nvGrpSpPr>
        <p:grpSpPr>
          <a:xfrm>
            <a:off x="-19080" y="365040"/>
            <a:ext cx="2165400" cy="2421000"/>
            <a:chOff x="-19080" y="365040"/>
            <a:chExt cx="2165400" cy="2421000"/>
          </a:xfrm>
        </p:grpSpPr>
        <p:pic>
          <p:nvPicPr>
            <p:cNvPr id="775" name="Rectangle 38" descr=""/>
            <p:cNvPicPr/>
            <p:nvPr/>
          </p:nvPicPr>
          <p:blipFill>
            <a:blip r:embed="rId4"/>
            <a:stretch/>
          </p:blipFill>
          <p:spPr>
            <a:xfrm>
              <a:off x="-19080" y="365040"/>
              <a:ext cx="216540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"/>
            <p:cNvSpPr/>
            <p:nvPr/>
          </p:nvSpPr>
          <p:spPr>
            <a:xfrm>
              <a:off x="0" y="380880"/>
              <a:ext cx="213372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7" name="Rectangle 39"/>
          <p:cNvGrpSpPr/>
          <p:nvPr/>
        </p:nvGrpSpPr>
        <p:grpSpPr>
          <a:xfrm>
            <a:off x="1432080" y="-19080"/>
            <a:ext cx="1207800" cy="665280"/>
            <a:chOff x="1432080" y="-19080"/>
            <a:chExt cx="1207800" cy="665280"/>
          </a:xfrm>
        </p:grpSpPr>
        <p:pic>
          <p:nvPicPr>
            <p:cNvPr id="778" name="Rectangle 39" descr=""/>
            <p:cNvPicPr/>
            <p:nvPr/>
          </p:nvPicPr>
          <p:blipFill>
            <a:blip r:embed="rId5"/>
            <a:stretch/>
          </p:blipFill>
          <p:spPr>
            <a:xfrm>
              <a:off x="1432080" y="-19080"/>
              <a:ext cx="120780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1447920" y="0"/>
              <a:ext cx="117468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0" name="Oval 40"/>
          <p:cNvGrpSpPr/>
          <p:nvPr/>
        </p:nvGrpSpPr>
        <p:grpSpPr>
          <a:xfrm>
            <a:off x="42840" y="-19080"/>
            <a:ext cx="2335320" cy="2414520"/>
            <a:chOff x="42840" y="-19080"/>
            <a:chExt cx="2335320" cy="2414520"/>
          </a:xfrm>
        </p:grpSpPr>
        <p:pic>
          <p:nvPicPr>
            <p:cNvPr id="781" name="Oval 40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3532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396720" y="347760"/>
              <a:ext cx="162900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3" name="Oval 41"/>
          <p:cNvGrpSpPr/>
          <p:nvPr/>
        </p:nvGrpSpPr>
        <p:grpSpPr>
          <a:xfrm>
            <a:off x="-19080" y="3260880"/>
            <a:ext cx="927000" cy="914400"/>
            <a:chOff x="-19080" y="3260880"/>
            <a:chExt cx="927000" cy="914400"/>
          </a:xfrm>
        </p:grpSpPr>
        <p:pic>
          <p:nvPicPr>
            <p:cNvPr id="784" name="Oval 41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27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130320" y="3406680"/>
              <a:ext cx="6300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6" name="Oval 42"/>
          <p:cNvGrpSpPr/>
          <p:nvPr/>
        </p:nvGrpSpPr>
        <p:grpSpPr>
          <a:xfrm>
            <a:off x="781200" y="1706400"/>
            <a:ext cx="1431720" cy="1433520"/>
            <a:chOff x="781200" y="1706400"/>
            <a:chExt cx="1431720" cy="1433520"/>
          </a:xfrm>
        </p:grpSpPr>
        <p:pic>
          <p:nvPicPr>
            <p:cNvPr id="787" name="Oval 42" descr=""/>
            <p:cNvPicPr/>
            <p:nvPr/>
          </p:nvPicPr>
          <p:blipFill>
            <a:blip r:embed="rId8"/>
            <a:stretch/>
          </p:blipFill>
          <p:spPr>
            <a:xfrm>
              <a:off x="781200" y="1706400"/>
              <a:ext cx="143172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998640" y="1927080"/>
              <a:ext cx="9921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Oval 43"/>
          <p:cNvGrpSpPr/>
          <p:nvPr/>
        </p:nvGrpSpPr>
        <p:grpSpPr>
          <a:xfrm>
            <a:off x="590400" y="4022640"/>
            <a:ext cx="1586160" cy="1586160"/>
            <a:chOff x="590400" y="4022640"/>
            <a:chExt cx="1586160" cy="1586160"/>
          </a:xfrm>
        </p:grpSpPr>
        <p:pic>
          <p:nvPicPr>
            <p:cNvPr id="790" name="Oval 43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861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"/>
            <p:cNvSpPr/>
            <p:nvPr/>
          </p:nvSpPr>
          <p:spPr>
            <a:xfrm>
              <a:off x="836640" y="4265640"/>
              <a:ext cx="1100160" cy="11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2" name="Oval 44"/>
          <p:cNvGrpSpPr/>
          <p:nvPr/>
        </p:nvGrpSpPr>
        <p:grpSpPr>
          <a:xfrm>
            <a:off x="1736640" y="365040"/>
            <a:ext cx="488880" cy="488880"/>
            <a:chOff x="1736640" y="365040"/>
            <a:chExt cx="488880" cy="488880"/>
          </a:xfrm>
        </p:grpSpPr>
        <p:pic>
          <p:nvPicPr>
            <p:cNvPr id="793" name="Oval 44" descr=""/>
            <p:cNvPicPr/>
            <p:nvPr/>
          </p:nvPicPr>
          <p:blipFill>
            <a:blip r:embed="rId10"/>
            <a:stretch/>
          </p:blipFill>
          <p:spPr>
            <a:xfrm>
              <a:off x="1736640" y="365040"/>
              <a:ext cx="48888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819440" y="44784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5" name="Oval 45"/>
          <p:cNvGrpSpPr/>
          <p:nvPr/>
        </p:nvGrpSpPr>
        <p:grpSpPr>
          <a:xfrm>
            <a:off x="560520" y="2498760"/>
            <a:ext cx="2043000" cy="2043000"/>
            <a:chOff x="560520" y="2498760"/>
            <a:chExt cx="2043000" cy="2043000"/>
          </a:xfrm>
        </p:grpSpPr>
        <p:pic>
          <p:nvPicPr>
            <p:cNvPr id="796" name="Oval 45" descr=""/>
            <p:cNvPicPr/>
            <p:nvPr/>
          </p:nvPicPr>
          <p:blipFill>
            <a:blip r:embed="rId11"/>
            <a:stretch/>
          </p:blipFill>
          <p:spPr>
            <a:xfrm>
              <a:off x="560520" y="2498760"/>
              <a:ext cx="204300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873000" y="2809800"/>
              <a:ext cx="142236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Rectangle 46"/>
          <p:cNvGrpSpPr/>
          <p:nvPr/>
        </p:nvGrpSpPr>
        <p:grpSpPr>
          <a:xfrm>
            <a:off x="-19080" y="5699160"/>
            <a:ext cx="1635120" cy="1171440"/>
            <a:chOff x="-19080" y="5699160"/>
            <a:chExt cx="1635120" cy="1171440"/>
          </a:xfrm>
        </p:grpSpPr>
        <p:pic>
          <p:nvPicPr>
            <p:cNvPr id="799" name="Rectangle 46" descr=""/>
            <p:cNvPicPr/>
            <p:nvPr/>
          </p:nvPicPr>
          <p:blipFill>
            <a:blip r:embed="rId12"/>
            <a:stretch/>
          </p:blipFill>
          <p:spPr>
            <a:xfrm>
              <a:off x="-19080" y="5699160"/>
              <a:ext cx="16351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0" y="5715000"/>
              <a:ext cx="16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Oval 47"/>
          <p:cNvGrpSpPr/>
          <p:nvPr/>
        </p:nvGrpSpPr>
        <p:grpSpPr>
          <a:xfrm>
            <a:off x="1311120" y="5857920"/>
            <a:ext cx="762120" cy="762120"/>
            <a:chOff x="1311120" y="5857920"/>
            <a:chExt cx="762120" cy="762120"/>
          </a:xfrm>
        </p:grpSpPr>
        <p:pic>
          <p:nvPicPr>
            <p:cNvPr id="802" name="Oval 47" descr=""/>
            <p:cNvPicPr/>
            <p:nvPr/>
          </p:nvPicPr>
          <p:blipFill>
            <a:blip r:embed="rId13"/>
            <a:stretch/>
          </p:blipFill>
          <p:spPr>
            <a:xfrm>
              <a:off x="1311120" y="585792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1430280" y="5981760"/>
              <a:ext cx="517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4" name="Oval 48"/>
          <p:cNvGrpSpPr/>
          <p:nvPr/>
        </p:nvGrpSpPr>
        <p:grpSpPr>
          <a:xfrm>
            <a:off x="19080" y="5200560"/>
            <a:ext cx="1670040" cy="1676520"/>
            <a:chOff x="19080" y="5200560"/>
            <a:chExt cx="1670040" cy="1676520"/>
          </a:xfrm>
        </p:grpSpPr>
        <p:pic>
          <p:nvPicPr>
            <p:cNvPr id="805" name="Oval 48" descr=""/>
            <p:cNvPicPr/>
            <p:nvPr/>
          </p:nvPicPr>
          <p:blipFill>
            <a:blip r:embed="rId14"/>
            <a:stretch/>
          </p:blipFill>
          <p:spPr>
            <a:xfrm>
              <a:off x="19080" y="5200560"/>
              <a:ext cx="16700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"/>
            <p:cNvSpPr/>
            <p:nvPr/>
          </p:nvSpPr>
          <p:spPr>
            <a:xfrm>
              <a:off x="271440" y="5452920"/>
              <a:ext cx="11635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Oval 49"/>
          <p:cNvGrpSpPr/>
          <p:nvPr/>
        </p:nvGrpSpPr>
        <p:grpSpPr>
          <a:xfrm>
            <a:off x="139680" y="2346480"/>
            <a:ext cx="482760" cy="488880"/>
            <a:chOff x="139680" y="2346480"/>
            <a:chExt cx="482760" cy="488880"/>
          </a:xfrm>
        </p:grpSpPr>
        <p:pic>
          <p:nvPicPr>
            <p:cNvPr id="808" name="Oval 49" descr=""/>
            <p:cNvPicPr/>
            <p:nvPr/>
          </p:nvPicPr>
          <p:blipFill>
            <a:blip r:embed="rId15"/>
            <a:stretch/>
          </p:blipFill>
          <p:spPr>
            <a:xfrm>
              <a:off x="139680" y="2346480"/>
              <a:ext cx="4827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219240" y="242892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22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23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24"/>
          </p:nvPr>
        </p:nvSpPr>
        <p:spPr>
          <a:xfrm>
            <a:off x="155160" y="631836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DFB6-986E-4261-8F4C-23E0958CC603}" type="slidenum">
              <a: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6"/>
    <p:sldLayoutId id="2147483741" r:id="rId17"/>
    <p:sldLayoutId id="2147483742" r:id="rId18"/>
    <p:sldLayoutId id="2147483743" r:id="rId19"/>
    <p:sldLayoutId id="2147483744" r:id="rId20"/>
    <p:sldLayoutId id="2147483745" r:id="rId21"/>
    <p:sldLayoutId id="2147483746" r:id="rId22"/>
    <p:sldLayoutId id="2147483747" r:id="rId23"/>
    <p:sldLayoutId id="2147483748" r:id="rId24"/>
    <p:sldLayoutId id="2147483749" r:id="rId25"/>
    <p:sldLayoutId id="2147483750" r:id="rId26"/>
    <p:sldLayoutId id="2147483751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4/Normal_Distribution_PDF.svg" TargetMode="External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صورة 1" descr=""/>
          <p:cNvPicPr/>
          <p:nvPr/>
        </p:nvPicPr>
        <p:blipFill>
          <a:blip r:embed="rId1"/>
          <a:stretch/>
        </p:blipFill>
        <p:spPr>
          <a:xfrm>
            <a:off x="6480" y="0"/>
            <a:ext cx="4591080" cy="3429000"/>
          </a:xfrm>
          <a:prstGeom prst="rect">
            <a:avLst/>
          </a:prstGeom>
          <a:ln w="0">
            <a:noFill/>
          </a:ln>
        </p:spPr>
      </p:pic>
      <p:pic>
        <p:nvPicPr>
          <p:cNvPr id="859" name="صورة 2" descr=""/>
          <p:cNvPicPr/>
          <p:nvPr/>
        </p:nvPicPr>
        <p:blipFill>
          <a:blip r:embed="rId2"/>
          <a:stretch/>
        </p:blipFill>
        <p:spPr>
          <a:xfrm>
            <a:off x="4537080" y="-12600"/>
            <a:ext cx="4606920" cy="3441600"/>
          </a:xfrm>
          <a:prstGeom prst="rect">
            <a:avLst/>
          </a:prstGeom>
          <a:ln w="0">
            <a:noFill/>
          </a:ln>
        </p:spPr>
      </p:pic>
      <p:pic>
        <p:nvPicPr>
          <p:cNvPr id="860" name="صورة 3" descr=""/>
          <p:cNvPicPr/>
          <p:nvPr/>
        </p:nvPicPr>
        <p:blipFill>
          <a:blip r:embed="rId3"/>
          <a:stretch/>
        </p:blipFill>
        <p:spPr>
          <a:xfrm>
            <a:off x="0" y="3456000"/>
            <a:ext cx="4537080" cy="3402000"/>
          </a:xfrm>
          <a:prstGeom prst="rect">
            <a:avLst/>
          </a:prstGeom>
          <a:ln w="0">
            <a:noFill/>
          </a:ln>
        </p:spPr>
      </p:pic>
      <p:pic>
        <p:nvPicPr>
          <p:cNvPr id="861" name="صورة 4" descr=""/>
          <p:cNvPicPr/>
          <p:nvPr/>
        </p:nvPicPr>
        <p:blipFill>
          <a:blip r:embed="rId4"/>
          <a:stretch/>
        </p:blipFill>
        <p:spPr>
          <a:xfrm>
            <a:off x="4537080" y="3429000"/>
            <a:ext cx="46069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2" name=""/>
          <p:cNvGraphicFramePr/>
          <p:nvPr/>
        </p:nvGraphicFramePr>
        <p:xfrm>
          <a:off x="380880" y="838080"/>
          <a:ext cx="8229600" cy="5629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b5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b5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-X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b5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-X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b5b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c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6511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6511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3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اختبارات احصائية للمقارنة بن طرق تحليل أو محللين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200000"/>
              </a:lnSpc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استبعاد النتيجة الشاذة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Q =a/w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366840" algn="r" rtl="1">
              <a:buClr>
                <a:srgbClr val="79b5b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</a:t>
            </a: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: الفرق بين النتيجة الشاذة وأقرب نتيجة لها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366840" algn="r" rtl="1">
              <a:buClr>
                <a:srgbClr val="79b5b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w</a:t>
            </a: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: الانتشار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366840" algn="r" rtl="1">
              <a:buClr>
                <a:srgbClr val="79b5b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nstantia"/>
              </a:rPr>
              <a:t>calculated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and 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nstantia"/>
              </a:rPr>
              <a:t>tab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366840" algn="r" rtl="1">
              <a:buClr>
                <a:srgbClr val="79b5b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: عدد القراءات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200000"/>
              </a:lnSpc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اختبار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-Tes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200000"/>
              </a:lnSpc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اختبار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-Tes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صورة 2" descr=""/>
          <p:cNvPicPr/>
          <p:nvPr/>
        </p:nvPicPr>
        <p:blipFill>
          <a:blip r:embed="rId1"/>
          <a:stretch/>
        </p:blipFill>
        <p:spPr>
          <a:xfrm>
            <a:off x="0" y="9360"/>
            <a:ext cx="4915080" cy="2686320"/>
          </a:xfrm>
          <a:prstGeom prst="rect">
            <a:avLst/>
          </a:prstGeom>
          <a:ln w="0">
            <a:noFill/>
          </a:ln>
        </p:spPr>
      </p:pic>
      <p:pic>
        <p:nvPicPr>
          <p:cNvPr id="863" name="صورة 1" descr="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269568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5" descr="الزيادة في تركيز العناصر الثقيلة أ.jpg"/>
          <p:cNvPicPr/>
          <p:nvPr/>
        </p:nvPicPr>
        <p:blipFill>
          <a:blip r:embed="rId3"/>
          <a:stretch/>
        </p:blipFill>
        <p:spPr>
          <a:xfrm>
            <a:off x="2209680" y="2781360"/>
            <a:ext cx="474048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457200" y="60199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onstantia"/>
              </a:rPr>
              <a:t>الفصل الحادي والعشرون. الزامل، إبراهيم. (</a:t>
            </a:r>
            <a:r>
              <a:rPr b="1" lang="ar-SA" sz="2000" spc="-1" strike="noStrike">
                <a:solidFill>
                  <a:srgbClr val="ffffff"/>
                </a:solidFill>
                <a:latin typeface="Constantia"/>
              </a:rPr>
              <a:t>1419</a:t>
            </a:r>
            <a:r>
              <a:rPr b="1" lang="ar-SA" sz="2000" spc="-1" strike="noStrike">
                <a:solidFill>
                  <a:srgbClr val="ffffff"/>
                </a:solidFill>
                <a:latin typeface="Constantia"/>
              </a:rPr>
              <a:t>). الكيمياء التحليلية (التحليل الآلي). الخريجي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Constantia"/>
              </a:rPr>
              <a:t>تقييم النتائج إحصائياً</a:t>
            </a:r>
            <a:endParaRPr b="0" lang="en-US" sz="5400" spc="-1" strike="noStrike">
              <a:solidFill>
                <a:srgbClr val="d1e1e3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مصطلحات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lnSpc>
                <a:spcPct val="200000"/>
              </a:lnSpc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معدل </a:t>
            </a:r>
            <a:r>
              <a:rPr b="1" lang="ar-SA" sz="2800" spc="-1" strike="noStrike">
                <a:solidFill>
                  <a:srgbClr val="ffc000"/>
                </a:solidFill>
                <a:latin typeface="Constantia"/>
              </a:rPr>
              <a:t>(المتوسط) 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والوسيط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ean (Average) and Media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26440" indent="-22644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Constantia"/>
              </a:rPr>
              <a:t>3,5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،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Constantia"/>
              </a:rPr>
              <a:t>3,6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،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Constantia"/>
              </a:rPr>
              <a:t>3,45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،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Constantia"/>
              </a:rPr>
              <a:t>3,57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) (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Constantia"/>
              </a:rPr>
              <a:t>3,5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،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Constantia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Constantia"/>
              </a:rPr>
              <a:t>3,6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،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Constantia"/>
              </a:rPr>
              <a:t>3,55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،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Constantia"/>
              </a:rPr>
              <a:t>3,9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26440" indent="-226440" algn="r" rtl="1">
              <a:lnSpc>
                <a:spcPct val="200000"/>
              </a:lnSpc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دقة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recis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530640" indent="-226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Precision= (</a:t>
            </a:r>
            <a:r>
              <a:rPr b="0" lang="el-GR" sz="2500" spc="-1" strike="noStrike">
                <a:solidFill>
                  <a:srgbClr val="ffffff"/>
                </a:solidFill>
                <a:latin typeface="Constantia"/>
              </a:rPr>
              <a:t>Σ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(X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Constantia"/>
              </a:rPr>
              <a:t>i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-X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))/n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530640" indent="-22644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الحيود (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0,03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، 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0,07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، 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0,08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، 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0,04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)، ومعدل الحيود =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0,055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530640" indent="-22644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المدى أو الانتشار = 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0,05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26440" indent="-226440" algn="r" rtl="1"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Constantia"/>
              </a:rPr>
              <a:t>المصداقية </a:t>
            </a: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Accurac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530640" indent="-226440" algn="r" rtl="1"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ffff"/>
                </a:solidFill>
                <a:latin typeface="Constantia"/>
              </a:rPr>
              <a:t>لطريقة أو محلل (فني مختبر)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26440" indent="-22644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R = (E/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µ)*100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71" name="Picture 2" descr="http://upload.wikimedia.org/wikipedia/commons/thumb/3/38/Accuracy_and_precision.svg/2000px-Accuracy_and_precision.svg.png"/>
          <p:cNvPicPr/>
          <p:nvPr/>
        </p:nvPicPr>
        <p:blipFill>
          <a:blip r:embed="rId1"/>
          <a:stretch/>
        </p:blipFill>
        <p:spPr>
          <a:xfrm>
            <a:off x="914400" y="1676520"/>
            <a:ext cx="72612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أنواع الأخطاء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 algn="r" rtl="1">
              <a:lnSpc>
                <a:spcPct val="200000"/>
              </a:lnSpc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أخطاء المنتظمة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ystematic Errors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74360" indent="-429480" algn="r" rtl="1"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الأسباب، خصائصها، تأثيرها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r" rtl="1">
              <a:lnSpc>
                <a:spcPct val="200000"/>
              </a:lnSpc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كتشاف الأخطاء المنتظمة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r" rtl="1">
              <a:lnSpc>
                <a:spcPct val="200000"/>
              </a:lnSpc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أخطاء العشوائية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Random Errors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r" rtl="1">
              <a:lnSpc>
                <a:spcPct val="200000"/>
              </a:lnSpc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منحنى الخطأ العادي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Normal Error Curv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مثلاً التركيز الحقيقي </a:t>
            </a: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3,00</a:t>
            </a: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 ميكرو جرام، والنتائج (</a:t>
            </a: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3,01</a:t>
            </a: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، </a:t>
            </a: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2,97</a:t>
            </a: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، </a:t>
            </a: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3,02</a:t>
            </a: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76" name="Picture 5" descr="File:Normal Distribution PDF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676520"/>
            <a:ext cx="6858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حيود القياسي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tandard Deviation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 and 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σ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using (n-1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متى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=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σ</a:t>
            </a: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؟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=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±0.53 % and X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= 10%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 and 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?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الحيود القياسي التجريبي لمجموعات مجموع مربع الحيود لنتائج كل مجموعة مقسوماً على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-k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حدود الثقة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Confidence Limit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 = X</a:t>
            </a:r>
            <a:r>
              <a:rPr b="1" lang="en-US" sz="44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±(ts/√n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r" rtl="1">
              <a:lnSpc>
                <a:spcPct val="100000"/>
              </a:lnSpc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79" name="Picture 3" descr="e36a4d7f54d0a78db9a26b0156f41555.png"/>
          <p:cNvPicPr/>
          <p:nvPr/>
        </p:nvPicPr>
        <p:blipFill>
          <a:blip r:embed="rId1"/>
          <a:stretch/>
        </p:blipFill>
        <p:spPr>
          <a:xfrm>
            <a:off x="2666880" y="2133720"/>
            <a:ext cx="35816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مقارنة دلائل الدقة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609480" y="1600200"/>
          <a:ext cx="8077320" cy="4384800"/>
        </p:xfrm>
        <a:graphic>
          <a:graphicData uri="http://schemas.openxmlformats.org/drawingml/2006/table">
            <a:tbl>
              <a:tblPr/>
              <a:tblGrid>
                <a:gridCol w="1398600"/>
                <a:gridCol w="1335240"/>
                <a:gridCol w="1336680"/>
                <a:gridCol w="1334880"/>
                <a:gridCol w="1336680"/>
                <a:gridCol w="1335240"/>
              </a:tblGrid>
              <a:tr h="45396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قراء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حيود عن المعد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قراء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حيود عن المعد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52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3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8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12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معدل الحيود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معدل الحيود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انتشار (المدى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انتشار (المدى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حيود القياسي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238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حيود القياسي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556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360" rIns="9360" tIns="9360" bIns="0" anchor="b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5:36:41Z</dcterms:created>
  <dc:creator>أميرة المنزل</dc:creator>
  <dc:description/>
  <dc:language>en-US</dc:language>
  <cp:lastModifiedBy>Abdullah Al-Farraj</cp:lastModifiedBy>
  <dcterms:modified xsi:type="dcterms:W3CDTF">2014-04-14T12:31:52Z</dcterms:modified>
  <cp:revision>172</cp:revision>
  <dc:subject/>
  <dc:title>عرض تقديمي في PowerPoint</dc:title>
</cp:coreProperties>
</file>