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0000" y="72180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FBB80-ED4C-48A2-862B-9B01E2016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96684-CBE0-4339-B011-2FDE072C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5F542-932B-4FE9-92F5-2CF7D564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30FD8-C408-45E6-83B2-9E465936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7E39D-3019-448B-8C44-B7808896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09714-4F3F-407B-8BD2-22BA1BBB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74CB1-4039-4A27-A1E1-682FE6DE1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8BF19-0D4E-4BB6-B474-20FFB25F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FEEEE-BE1A-4456-A343-976A996C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3280D-F8A7-4A44-973A-F01D0F072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37C53-279A-41C3-A2C1-5452AA1D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695BF-FEB2-416C-90A3-4E4964AA6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ED6CE-EFE3-4D95-9F33-9ED8BF5D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85D5B-4C07-4919-8845-DF4520313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D7D40-28BF-43A9-B2B0-4C3052C8F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D4ECD-3325-4235-B2F6-458B388CE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2830-0608-4961-BAFC-8BEC6C5D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89BB3-9A9E-4C0E-9F99-CEA345FA1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383ED-47A6-4B84-A42F-DA86B0681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EE96B-B42B-40E7-9114-72AC2F7C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2105C-C1DD-4E2E-AC81-9CCEB414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30FB3-24F6-4A50-8C72-B53CA39F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08B58-DFBD-4E33-829C-61E7ECC78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48D0E-E403-45D8-B593-2D120819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A78E6-E618-438D-9296-7CAA8AAE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A29A1-F587-4E87-AEDA-DF5D4E13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A31C3-B35C-4522-8B22-7666DB35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5FBBF-F2D8-4AC4-A8A2-CBECF430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06510-0F2C-4072-BA0F-059FECC7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0080D-49E9-434C-866F-EDB7F89F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09A50-03B7-4395-803D-DD9FD066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DE1D3-CAA6-47C9-85C1-F1D03199E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3B715-BD36-4D49-ACC0-0B1B21855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0738E-48F0-4310-9C87-0BD90D59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473AA-7FB7-4AA1-93FA-65A49589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8DB50-A5DC-439D-BC36-E533DC93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0156F-9F9D-4AE4-8404-60D02B18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4CD4D-D12E-4C5E-947D-08D78FAD0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2A727-5312-4F11-8445-31C68AC4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F48A3-F594-4957-A8E7-E92BCA5C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02CF0-92CF-4ACF-B116-79D56516A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11C-153A-4E4C-9B74-11B3A382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9C8-B78A-4FF2-957E-A576C1E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19-686E-4879-BBF7-72975207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41A-8325-424F-B119-CE761988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C9C2-F83C-4237-BDBC-C451DC45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9118-7E42-41AD-813F-46B740AA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B371-F25B-42CD-B662-B67D3EA4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8143-4F20-4F15-A36B-89EF779B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6A42-2EAA-472C-A9E2-93F87A6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C444-6FAC-4FC9-BC0E-849A1BA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8FA3-05F4-4B08-8639-9C77C35B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8DE-7A08-4827-B3DF-A13767C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231F-1F25-4A1D-AA19-2878FC0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48DF-D88A-47ED-BC0F-AC615E2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9A85-C0E5-400D-A58E-B1FD7F25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C02D-5415-4501-AFCC-3237CCE1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1A6D-2E4C-4D07-ABC9-F67BDE47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360-21B3-4F43-A6AC-D90C605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2E0-BA4A-4FCC-9A51-83443972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0F9-266D-4254-AB80-ECA1AFA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482-EEFD-4E32-892D-084F930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47D-7F2B-469F-A2EC-D362B4D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ECB-C02F-42FD-BA47-91B867B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646-46D7-4F9E-89C2-A9DE1A3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7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B41-CDAB-4CAB-B5C8-FCAF936FF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7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C2F-64AC-4E93-953C-27AF1EFD7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7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560" y="2387160"/>
            <a:ext cx="8907480" cy="1676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INCIPLES OF INNATE IMMUNIT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Line 1029"/>
          <p:cNvSpPr/>
          <p:nvPr/>
        </p:nvSpPr>
        <p:spPr>
          <a:xfrm>
            <a:off x="609480" y="2209680"/>
            <a:ext cx="80773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030"/>
          <p:cNvSpPr/>
          <p:nvPr/>
        </p:nvSpPr>
        <p:spPr>
          <a:xfrm>
            <a:off x="609480" y="4343400"/>
            <a:ext cx="80773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LASSIC PATHWAY OF COMPLEMENT ACTIV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 binds to Fc region of antibody part of Ab/Ag 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 is complex of 3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1q is binding prot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1r and C1s are prot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q binds to Fc region of antibody which activ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r which activates C1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st efficient at activating co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gM, IgG1 and IgG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4" descr="figure 07-31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4" descr="figure 07-32"/>
          <p:cNvPicPr/>
          <p:nvPr/>
        </p:nvPicPr>
        <p:blipFill>
          <a:blip r:embed="rId1"/>
          <a:stretch/>
        </p:blipFill>
        <p:spPr>
          <a:xfrm>
            <a:off x="723960" y="0"/>
            <a:ext cx="7696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LASSIC PATHWAY OF COMPLEMENT ACTIV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C1s cleaves C4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4a and C4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C1s cleaves C2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2a and C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4b and C2b form complex covalently bonded to pathogen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4b/C2b complex (C3 convertase) cleaves C3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3a and C3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4" descr="figure 07-34"/>
          <p:cNvPicPr/>
          <p:nvPr/>
        </p:nvPicPr>
        <p:blipFill>
          <a:blip r:embed="rId1"/>
          <a:stretch/>
        </p:blipFill>
        <p:spPr>
          <a:xfrm>
            <a:off x="0" y="1913040"/>
            <a:ext cx="9144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NTIBODY AND COMPLEMENT ENHANCE PHAGOCYTO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hanced phagocytosis especially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treptococcus pneumoni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ryptococcus neoform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crophages and neutrophils have receptor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nti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c-gamma for Fc 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omplement receptor 1 (CR1) for C3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4" descr="Image1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Image2"/>
          <p:cNvPicPr/>
          <p:nvPr/>
        </p:nvPicPr>
        <p:blipFill>
          <a:blip r:embed="rId1"/>
          <a:stretch/>
        </p:blipFill>
        <p:spPr>
          <a:xfrm>
            <a:off x="-7632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4" descr="figure 07-41"/>
          <p:cNvPicPr/>
          <p:nvPr/>
        </p:nvPicPr>
        <p:blipFill>
          <a:blip r:embed="rId1"/>
          <a:stretch/>
        </p:blipFill>
        <p:spPr>
          <a:xfrm>
            <a:off x="0" y="1789200"/>
            <a:ext cx="9144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OMPLEMENT RECEPTORS REMOVE IMMUNE COMPLE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mune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oluble antibody/antigen comple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Form after immune response to most inf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C must be removed to prevent precipitation and deposition on endothelial membr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Kidne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moval of 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mplement binds to 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rythrocytes bind to complement by CR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THE INNATE IMMUNE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rst line of defense against pathog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lemen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crophages and neutroph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fen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agulation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ytokines and inflammatory cytok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lammatory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atural killer ce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Picture 4" descr="figure 07-42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IRECT KILLING OF PATHOGENS BY COMPLEMENT SYST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rminal complement proteins form “membrane attack complex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echanism of attack by classic path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3b binds to C3 convertase (C4b,2b) / (C4b,2a) results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5 convertase (C4b,2b,3b) / (C4b,2a, 3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5 binds C3b of C5 conver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5 cleave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5a and C5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5b initiates assembly of attack membrane compon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6 – C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eficiency increases susceptibility to Neisseria meningitidis and Neisseria gonorrhoe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figure 07-45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figure 07-52 (1)"/>
          <p:cNvPicPr/>
          <p:nvPr/>
        </p:nvPicPr>
        <p:blipFill>
          <a:blip r:embed="rId1"/>
          <a:stretch/>
        </p:blipFill>
        <p:spPr>
          <a:xfrm>
            <a:off x="1473120" y="0"/>
            <a:ext cx="61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figure 07-52 (2)"/>
          <p:cNvPicPr/>
          <p:nvPr/>
        </p:nvPicPr>
        <p:blipFill>
          <a:blip r:embed="rId1"/>
          <a:stretch/>
        </p:blipFill>
        <p:spPr>
          <a:xfrm>
            <a:off x="990720" y="-55440"/>
            <a:ext cx="716256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RECOGNITION OF PATHOGENS FOR PHAGOCYT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chanism of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oll-like receptors (innate immune recep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oll-like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amed for ‘Toll’  receptor in fruitf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lypeptides with horseshoe-shaped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cognition by macrophages initiates ac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agocy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ecretion of cytok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figure_02_20"/>
          <p:cNvPicPr/>
          <p:nvPr/>
        </p:nvPicPr>
        <p:blipFill>
          <a:blip r:embed="rId1"/>
          <a:stretch/>
        </p:blipFill>
        <p:spPr>
          <a:xfrm>
            <a:off x="762120" y="-19080"/>
            <a:ext cx="739116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figure_02_22"/>
          <p:cNvPicPr/>
          <p:nvPr/>
        </p:nvPicPr>
        <p:blipFill>
          <a:blip r:embed="rId1"/>
          <a:stretch/>
        </p:blipFill>
        <p:spPr>
          <a:xfrm>
            <a:off x="1395360" y="0"/>
            <a:ext cx="620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figure_02_21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figure_02_19"/>
          <p:cNvPicPr/>
          <p:nvPr/>
        </p:nvPicPr>
        <p:blipFill>
          <a:blip r:embed="rId1"/>
          <a:stretch/>
        </p:blipFill>
        <p:spPr>
          <a:xfrm>
            <a:off x="2590920" y="0"/>
            <a:ext cx="361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 set of proteins widely distributed throughout body fluids and t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eins act in a cascade of reactions to attack extracellular forms of patho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lement activation result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nflammatory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athogens coated with comp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lement coating of patho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nhanced engulfment and destruction by phag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irect killing of pathog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CTIVATION OF MACROPHAG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macrophages sec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ytok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hemokines (chemoattractant cytoki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flammatory medi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ytokines and chemok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terleukin-1 (IL-1), IL-6, IL-8, IL-12 and TNF-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lammatory medi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ostaglandins, leukotrienes, plasminogen activator, platelet-activating factor (PA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03120" y="376200"/>
            <a:ext cx="853596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MIGRATION OF NEUTROPHILS INTO TISSUE  (EXTRAVASATIO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olling adhe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lowing down leukocytes (marg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eibel-Palade bodies in vascular endothelial cells secreting P and E select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ight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action between LFA-1 and ICAM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aped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sage between vascular endotheli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igration to infection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739800" y="306360"/>
            <a:ext cx="76644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Chemokines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(Chemoattractant Cytokine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amily of small soluble molecules that stimulate activation and migration of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roup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wo adjacent cysteine amino aci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hromosome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X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wo separated cysteine amino ac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hromosome 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6 part 1 of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09480" y="208080"/>
            <a:ext cx="784872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6 part 2 of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990720" y="165240"/>
            <a:ext cx="71625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6 part 3 of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3120" y="2104920"/>
            <a:ext cx="8535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BIOLOGICAL ACTIVITY OF IL-1, IL-6 AND TNF-ALPH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hepatocytes to produce acute-phase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-reactive protein (CR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nnose binding lectin (MB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bone marrow to release neutroph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hypothalamus to raise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fat and muscle cells to generate h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4" descr="figure 08-2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PATHWAYS OF COMPLEMENT ACTIV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ic 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tivated by anti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First discov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ternative 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tivated by some bacterial cell su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ntibody not invol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ctin 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tivated by mannose binding lect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ntibody not invol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4" descr="figure 08-23"/>
          <p:cNvPicPr/>
          <p:nvPr/>
        </p:nvPicPr>
        <p:blipFill>
          <a:blip r:embed="rId1"/>
          <a:stretch/>
        </p:blipFill>
        <p:spPr>
          <a:xfrm>
            <a:off x="1192320" y="0"/>
            <a:ext cx="67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DEFENSI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amily of amphipathic antimicrobial pept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5 to 40 amino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sruption of cell membr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p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eutrophils and Paneth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pithelial cells of skin, respiratory tract and UG 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figure_02_17"/>
          <p:cNvPicPr/>
          <p:nvPr/>
        </p:nvPicPr>
        <p:blipFill>
          <a:blip r:embed="rId2"/>
          <a:stretch/>
        </p:blipFill>
        <p:spPr>
          <a:xfrm>
            <a:off x="2971800" y="0"/>
            <a:ext cx="36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figure_02_18"/>
          <p:cNvPicPr/>
          <p:nvPr/>
        </p:nvPicPr>
        <p:blipFill>
          <a:blip r:embed="rId2"/>
          <a:stretch/>
        </p:blipFill>
        <p:spPr>
          <a:xfrm>
            <a:off x="0" y="94284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THE INNATE RESPONSE TO VIRAL PATHOGENS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irus infected healthy cells p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feron-alpha (IFN-alph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feron-beta (IFN-be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FN-alpha and IFN-beta are type 1 interfe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1 interfe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hibit virus re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 natural killer (NK)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creases expression of MHC-1 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4" descr="figure 08-26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2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303120" y="365040"/>
            <a:ext cx="853596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rge granular lymphocytes that circulate in blo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Killing infected cells (cytotox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ecretion of cytok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io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ype 1 interfe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nfected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timulates cytotoxic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L-12 and TNF-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timulates cytokine secre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4" descr="figure 08-28"/>
          <p:cNvPicPr/>
          <p:nvPr/>
        </p:nvPicPr>
        <p:blipFill>
          <a:blip r:embed="rId1"/>
          <a:stretch/>
        </p:blipFill>
        <p:spPr>
          <a:xfrm>
            <a:off x="1523880" y="0"/>
            <a:ext cx="609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NK cells release IFN-gamma which activ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croph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lease IL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ositive feedback system for NK and macroph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fferentiate infected from uninfected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K cells express receptors for MHC class I molec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inding of NK cells to MHC class I molecules turn off NK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K cells provide innate immunity to intracellular patho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4" descr="figure 07-29"/>
          <p:cNvPicPr/>
          <p:nvPr/>
        </p:nvPicPr>
        <p:blipFill>
          <a:blip r:embed="rId1"/>
          <a:stretch/>
        </p:blipFill>
        <p:spPr>
          <a:xfrm>
            <a:off x="952560" y="0"/>
            <a:ext cx="72388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Content Placeholder 3" descr="figure_10_34.jpg"/>
          <p:cNvPicPr/>
          <p:nvPr/>
        </p:nvPicPr>
        <p:blipFill>
          <a:blip r:embed="rId1"/>
          <a:stretch/>
        </p:blipFill>
        <p:spPr>
          <a:xfrm>
            <a:off x="914400" y="9360"/>
            <a:ext cx="7391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28880" y="0"/>
            <a:ext cx="7086600" cy="677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omenclature has developed haphazard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eins of classic pathway named with capital “C” followed by a numeral (C1, C2, C3…..C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eavage fragments named as parent followed by lower case le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” for smaller fragment (C3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” for larger fragment (C3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me classic components participate in other 2 path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1028" descr="figure 07-53 (1)"/>
          <p:cNvPicPr/>
          <p:nvPr/>
        </p:nvPicPr>
        <p:blipFill>
          <a:blip r:embed="rId1"/>
          <a:stretch/>
        </p:blipFill>
        <p:spPr>
          <a:xfrm>
            <a:off x="-76320" y="96840"/>
            <a:ext cx="9296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028" descr="figure 07-53 (4)"/>
          <p:cNvPicPr/>
          <p:nvPr/>
        </p:nvPicPr>
        <p:blipFill>
          <a:blip r:embed="rId1"/>
          <a:stretch/>
        </p:blipFill>
        <p:spPr>
          <a:xfrm>
            <a:off x="221472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27" descr="http://student.ccbcmd.edu/courses/bio141/lecguide/unit3/humoral/abydefense/cytolysis/images/incell.gif"/>
          <p:cNvPicPr/>
          <p:nvPr/>
        </p:nvPicPr>
        <p:blipFill>
          <a:blip r:embed="rId1"/>
          <a:stretch/>
        </p:blipFill>
        <p:spPr>
          <a:xfrm>
            <a:off x="2590920" y="266688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28"/>
          <p:cNvSpPr/>
          <p:nvPr/>
        </p:nvSpPr>
        <p:spPr>
          <a:xfrm>
            <a:off x="2590920" y="198108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Complement fix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4:45:41Z</dcterms:created>
  <dc:creator>Steve Bower - 910-343-2516 x309</dc:creator>
  <dc:description/>
  <dc:language>en-US</dc:language>
  <cp:lastModifiedBy>acer</cp:lastModifiedBy>
  <dcterms:modified xsi:type="dcterms:W3CDTF">2010-12-26T05:39:58Z</dcterms:modified>
  <cp:revision>98</cp:revision>
  <dc:subject>Imunology 6</dc:subject>
  <dc:title>IMMUNITY MEDIATED BY B LYMPHOCYTES AND ANTIBODIES</dc:title>
</cp:coreProperties>
</file>