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0000" y="72180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8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52121D-B3FD-4BB8-9DBA-F491A438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9B4E5-BA8F-40D2-B7FD-F3EAA5871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83367-02F6-4660-8336-AFA7768F5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96A4C-0804-43F4-8B54-F1ABFD48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0796D-7981-4A35-A2B0-3A50C249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2F1EEC-3C64-4FED-BECF-A9E19D817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59E75-D8FA-4BC1-B4C7-CFF51E771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47E6F-CF70-49A7-A85C-F3495E920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EF3E7-39FC-490A-A698-3BDDCB3BE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C5106-90E1-4BBF-9C0F-E1320F4E0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28AAE-E392-4F5A-804F-209F01B94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BF8E6-CAC0-4542-A3D7-78E7FC38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2D1F1-F337-4969-AC9B-4E03795B6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944E4-9D4E-4CAB-A613-54CD10271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3645A-28BB-42A3-BE70-07A32D668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2F912-3551-4727-A4E9-872B00483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1A113-09EA-4ACA-AADE-AC1F2AC94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0E397-4FA5-43FA-A0CD-6CCE15084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86697-69D7-4DB4-9D56-7E4690B45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FB99C4-17FC-4B54-91AA-F519B349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9C138-BD90-4966-AE8D-7AD0F8D9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5828-3277-4F03-85D6-9425F301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6C3C8-CA46-40C4-9693-5D23D767F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43BD9-A43F-442C-A74E-882BEDD6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7417D-0533-4EAF-B337-70767E491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67474-C059-4741-9FB9-F52936B2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55695-8C70-49B0-9843-FA7E53ED4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82898-CAE0-4B2D-ACC8-812E20CD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F9E97-8989-4079-8A1C-44F2260D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15CB4-95D4-4274-AAE6-10B930576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72FBCB-4AD9-4D84-8FEB-1C01E3707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23D9D-2082-4ECE-A27E-D9BDD92A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F9A93-F202-49F5-B19E-CCC9B3C3A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186F7-C94C-484F-AEF2-DBD3F38DB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0FC53D-A1C1-420A-BE39-5AC4332B0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04E97-A4B2-425A-81C6-1EB55F31A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3BC62-2CC2-421F-8676-BE11FEFE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2160" y="722160"/>
            <a:ext cx="4795920" cy="3597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073C9-2D4A-4764-AE46-EDCFEB314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BC5AB-3FDA-4085-A1A1-D0AD2D437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9FAB8-FB31-4432-A2B3-6198BCBEC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143240" y="9121680"/>
            <a:ext cx="3170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2D732E-3B6A-4399-93BB-69536A39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60360" y="72216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A9B-DE16-4118-9DB4-228F3990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9FB-A42A-40C1-99EC-4F355D9F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8E2-B8E0-4241-8B48-C823C8E2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EAC-CD08-4F8B-9F8F-01A27145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32CD-F109-4B7B-A770-EEF7B95F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AA6F-E233-4D59-8B41-DF46AFE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3D5B-C9F4-4468-9139-BD4B1D3B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0846-1D2D-4A67-9FAA-5DCC8E66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3763-A2BC-4C7A-B211-BECC327E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4AA0-AD06-4AD0-877E-936CE8B2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BE6-4573-4013-9DCA-C212A22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666-F333-484A-ADA4-D196A710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9A26-E4B3-4530-BC19-775B5093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DEE-FB77-4C05-A1E1-272AE861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2D4-039A-42DC-9B9F-5D74B72E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481E-24DF-4E6F-BD56-D70EAEF3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1679-AEF3-4007-8DA7-D42945BE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AD1-14FA-400B-A221-9CBD093B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E7A-14F2-46A2-B618-84DB2394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E02-A2C5-4746-8FFF-4CAD6D3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1D3-1F2A-4489-85D9-FC13170A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BFF-1BCB-4F2B-BEDF-84CA7E1B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525-A272-4041-A1B7-8C41707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69DE-A483-46A5-ADB0-3FDF397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7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9416-64F7-42F5-9330-65BA8903C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828800"/>
            <a:ext cx="78487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47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ADA3-AA41-4074-AC5F-D9B00C4D4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7"/>
          <p:cNvSpPr/>
          <p:nvPr/>
        </p:nvSpPr>
        <p:spPr>
          <a:xfrm>
            <a:off x="609480" y="1828800"/>
            <a:ext cx="78487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560" y="2387160"/>
            <a:ext cx="8907480" cy="16765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RINCIPLES OF INNATE IMMUNIT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Line 1029"/>
          <p:cNvSpPr/>
          <p:nvPr/>
        </p:nvSpPr>
        <p:spPr>
          <a:xfrm>
            <a:off x="609480" y="2209680"/>
            <a:ext cx="80773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1030"/>
          <p:cNvSpPr/>
          <p:nvPr/>
        </p:nvSpPr>
        <p:spPr>
          <a:xfrm>
            <a:off x="609480" y="4343400"/>
            <a:ext cx="8077320" cy="0"/>
          </a:xfrm>
          <a:prstGeom prst="line">
            <a:avLst/>
          </a:prstGeom>
          <a:ln w="38160">
            <a:solidFill>
              <a:srgbClr val="a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LASSIC PATHWAY OF COMPLEMENT ACTIV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 binds to Fc region of antibody part of Ab/Ag compl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 is complex of 3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1q is binding prot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1r and C1s are prote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q binds to Fc region of antibody which activ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1r which activates C1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ost efficient at activating co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gM, IgG1 and IgG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4" descr="figure 07-31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4" descr="figure 07-32"/>
          <p:cNvPicPr/>
          <p:nvPr/>
        </p:nvPicPr>
        <p:blipFill>
          <a:blip r:embed="rId1"/>
          <a:stretch/>
        </p:blipFill>
        <p:spPr>
          <a:xfrm>
            <a:off x="723960" y="0"/>
            <a:ext cx="76960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LASSIC PATHWAY OF COMPLEMENT ACTIV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C1s cleaves C4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4a and C4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C1s cleaves C2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2a and C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4b and C2b form complex covalently bonded to pathogen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4b/C2b complex (C3 convertase) cleaves C3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3a and C3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4" descr="figure 07-34"/>
          <p:cNvPicPr/>
          <p:nvPr/>
        </p:nvPicPr>
        <p:blipFill>
          <a:blip r:embed="rId1"/>
          <a:stretch/>
        </p:blipFill>
        <p:spPr>
          <a:xfrm>
            <a:off x="0" y="1913040"/>
            <a:ext cx="91440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NTIBODY AND COMPLEMENT ENHANCE PHAGOCYTO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nhanced phagocytosis especially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treptococcus pneumoni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ryptococcus neoform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crophages and neutrophils have receptor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nti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c-gamma for Fc re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mp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omplement receptor 1 (CR1) for C3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6" name="Picture 4" descr="Image1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Image2"/>
          <p:cNvPicPr/>
          <p:nvPr/>
        </p:nvPicPr>
        <p:blipFill>
          <a:blip r:embed="rId1"/>
          <a:stretch/>
        </p:blipFill>
        <p:spPr>
          <a:xfrm>
            <a:off x="-7632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4" descr="figure 07-41"/>
          <p:cNvPicPr/>
          <p:nvPr/>
        </p:nvPicPr>
        <p:blipFill>
          <a:blip r:embed="rId1"/>
          <a:stretch/>
        </p:blipFill>
        <p:spPr>
          <a:xfrm>
            <a:off x="0" y="1789200"/>
            <a:ext cx="914400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COMPLEMENT RECEPTORS REMOVE IMMUNE COMPLEX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mmune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oluble antibody/antigen comple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Form after immune response to most inf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C must be removed to prevent precipitation and deposition on endothelial membr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Kidne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emoval of 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mplement binds to 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rythrocytes bind to complement by CR1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THE INNATE IMMUNE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irst line of defense against pathog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lemen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crophages and neutrophi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fens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agulation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ytokines and inflammatory cytok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lammatory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atural killer cel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4" name="Picture 4" descr="figure 07-42"/>
          <p:cNvPicPr/>
          <p:nvPr/>
        </p:nvPicPr>
        <p:blipFill>
          <a:blip r:embed="rId1"/>
          <a:stretch/>
        </p:blipFill>
        <p:spPr>
          <a:xfrm>
            <a:off x="1066680" y="0"/>
            <a:ext cx="701064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DIRECT KILLING OF PATHOGENS BY COMPLEMENT SYST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erminal complement proteins form “membrane attack complex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echanism of attack by classic path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3b binds to C3 convertase (C4b,2b) / (C4b,2a) results 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5 convertase (C4b,2b,3b) / (C4b,2a, 3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5 binds C3b of C5 convert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5 cleaved 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5a and C5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5b initiates assembly of attack membrane compon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6 – C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eficiency increases susceptibility to Neisseria meningitidis and Neisseria gonorrhoea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4" descr="figure 07-45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figure 07-52 (1)"/>
          <p:cNvPicPr/>
          <p:nvPr/>
        </p:nvPicPr>
        <p:blipFill>
          <a:blip r:embed="rId1"/>
          <a:stretch/>
        </p:blipFill>
        <p:spPr>
          <a:xfrm>
            <a:off x="1473120" y="0"/>
            <a:ext cx="61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figure 07-52 (2)"/>
          <p:cNvPicPr/>
          <p:nvPr/>
        </p:nvPicPr>
        <p:blipFill>
          <a:blip r:embed="rId1"/>
          <a:stretch/>
        </p:blipFill>
        <p:spPr>
          <a:xfrm>
            <a:off x="990720" y="-55440"/>
            <a:ext cx="716256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imes New Roman"/>
              </a:rPr>
              <a:t>RECOGNITION OF PATHOGENS FOR PHAGOCYTO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chanism of 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oll-like receptors (innate immune recep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oll-like recep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amed for ‘Toll’  receptor in fruitf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olypeptides with horseshoe-shaped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ecognition by macrophages initiates acti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hagocyt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ecretion of cytok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figure_02_20"/>
          <p:cNvPicPr/>
          <p:nvPr/>
        </p:nvPicPr>
        <p:blipFill>
          <a:blip r:embed="rId1"/>
          <a:stretch/>
        </p:blipFill>
        <p:spPr>
          <a:xfrm>
            <a:off x="762120" y="-19080"/>
            <a:ext cx="739116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figure_02_22"/>
          <p:cNvPicPr/>
          <p:nvPr/>
        </p:nvPicPr>
        <p:blipFill>
          <a:blip r:embed="rId1"/>
          <a:stretch/>
        </p:blipFill>
        <p:spPr>
          <a:xfrm>
            <a:off x="1395360" y="0"/>
            <a:ext cx="620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figure_02_21"/>
          <p:cNvPicPr/>
          <p:nvPr/>
        </p:nvPicPr>
        <p:blipFill>
          <a:blip r:embed="rId1"/>
          <a:stretch/>
        </p:blipFill>
        <p:spPr>
          <a:xfrm>
            <a:off x="0" y="1131840"/>
            <a:ext cx="914400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4" descr="figure_02_19"/>
          <p:cNvPicPr/>
          <p:nvPr/>
        </p:nvPicPr>
        <p:blipFill>
          <a:blip r:embed="rId1"/>
          <a:stretch/>
        </p:blipFill>
        <p:spPr>
          <a:xfrm>
            <a:off x="2590920" y="0"/>
            <a:ext cx="361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 set of proteins widely distributed throughout body fluids and t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eins act in a cascade of reactions to attack extracellular forms of patho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lement activation results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nflammatory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athogens coated with comp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lement coating of patho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nhanced engulfment and destruction by phagocy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irect killing of pathog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ACTIVATION OF MACROPHAG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macrophages secr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ytok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hemokines (chemoattractant cytoki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flammatory medi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ytokines and chemok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terleukin-1 (IL-1), IL-6, IL-8, IL-12 and TNF-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lammatory medi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rostaglandins, leukotrienes, plasminogen activator, platelet-activating factor (PA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03120" y="376200"/>
            <a:ext cx="853596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MIGRATION OF NEUTROPHILS INTO TISSUE  (EXTRAVASATION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Rolling adhe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lowing down leukocytes (marg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Weibel-Palade bodies in vascular endothelial cells secreting P and E select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ight bi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action between LFA-1 and ICAM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Diaped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ssage between vascular endothelial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igration to infection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739800" y="306360"/>
            <a:ext cx="76644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Chemokines </a:t>
            </a:r>
            <a:br>
              <a:rPr sz="4000"/>
            </a:b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(Chemoattractant Cytokine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amily of small soluble molecules that stimulate activation and migration of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roup 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wo adjacent cysteine amino aci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hromosome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X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wo separated cysteine amino ac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hromosome 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6 part 1 of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609480" y="208080"/>
            <a:ext cx="784872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6 part 2 of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990720" y="165240"/>
            <a:ext cx="71625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16 part 3 of 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303120" y="2104920"/>
            <a:ext cx="85359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BIOLOGICAL ACTIVITY OF IL-1, IL-6 AND TNF-ALPH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hepatocytes to produce acute-phase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-reactive protein (CR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nnose binding lectin (MB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bone marrow to release neutroph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hypothalamus to raise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nduce fat and muscle cells to generate h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4" descr="figure 08-22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PATHWAYS OF COMPLEMENT ACTIV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ic path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tivated by anti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First discove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ternative path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tivated by some bacterial cell su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ntibody not invol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ctin path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tivated by mannose binding lect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ntibody not invol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4" descr="figure 08-23"/>
          <p:cNvPicPr/>
          <p:nvPr/>
        </p:nvPicPr>
        <p:blipFill>
          <a:blip r:embed="rId1"/>
          <a:stretch/>
        </p:blipFill>
        <p:spPr>
          <a:xfrm>
            <a:off x="1192320" y="0"/>
            <a:ext cx="67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DEFENSI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Family of amphipathic antimicrobial pept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5 to 40 amino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sruption of cell membr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lass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lp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Neutrophils and Paneth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pithelial cells of skin, respiratory tract and UG 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figure_02_17"/>
          <p:cNvPicPr/>
          <p:nvPr/>
        </p:nvPicPr>
        <p:blipFill>
          <a:blip r:embed="rId2"/>
          <a:stretch/>
        </p:blipFill>
        <p:spPr>
          <a:xfrm>
            <a:off x="2971800" y="0"/>
            <a:ext cx="361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figure_02_18"/>
          <p:cNvPicPr/>
          <p:nvPr/>
        </p:nvPicPr>
        <p:blipFill>
          <a:blip r:embed="rId2"/>
          <a:stretch/>
        </p:blipFill>
        <p:spPr>
          <a:xfrm>
            <a:off x="0" y="94284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Times New Roman"/>
              </a:rPr>
              <a:t>THE INNATE RESPONSE TO VIRAL PATHOGENS</a:t>
            </a: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Virus infected healthy cells prod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feron-alpha (IFN-alph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terferon-beta (IFN-be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IFN-alpha and IFN-beta are type 1 interfe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Type 1 interfe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hibit virus re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 natural killer (NK)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creases expression of MHC-1 molec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4" descr="figure 08-26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gure 8-2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303120" y="365040"/>
            <a:ext cx="8535960" cy="61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rge granular lymphocytes that circulate in bloo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Killing infected cells (cytotox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ecretion of cytok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ion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ype 1 interfe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nfected ce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timulates cytotoxic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L-12 and TNF-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acroph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timulates cytokine secre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4" descr="figure 08-28"/>
          <p:cNvPicPr/>
          <p:nvPr/>
        </p:nvPicPr>
        <p:blipFill>
          <a:blip r:embed="rId1"/>
          <a:stretch/>
        </p:blipFill>
        <p:spPr>
          <a:xfrm>
            <a:off x="1523880" y="0"/>
            <a:ext cx="6094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ctivated NK cells release IFN-gamma which activ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croph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elease IL-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ositive feedback system for NK and macroph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fferentiate infected from uninfected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NK cells express receptors for MHC class I molec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inding of NK cells to MHC class I molecules turn off NK ce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K cells provide innate immunity to intracellular pathog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Picture 4" descr="figure 07-29"/>
          <p:cNvPicPr/>
          <p:nvPr/>
        </p:nvPicPr>
        <p:blipFill>
          <a:blip r:embed="rId1"/>
          <a:stretch/>
        </p:blipFill>
        <p:spPr>
          <a:xfrm>
            <a:off x="952560" y="0"/>
            <a:ext cx="72388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Content Placeholder 3" descr="figure_10_34.jpg"/>
          <p:cNvPicPr/>
          <p:nvPr/>
        </p:nvPicPr>
        <p:blipFill>
          <a:blip r:embed="rId1"/>
          <a:stretch/>
        </p:blipFill>
        <p:spPr>
          <a:xfrm>
            <a:off x="914400" y="9360"/>
            <a:ext cx="73915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028880" y="0"/>
            <a:ext cx="7086600" cy="677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omenclature has developed haphazard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teins of classic pathway named with capital “C” followed by a numeral (C1, C2, C3…..C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eavage fragments named as parent followed by lower case le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” for smaller fragment (C3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b” for larger fragment (C3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me classic components participate in other 2 pathw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1028" descr="figure 07-53 (1)"/>
          <p:cNvPicPr/>
          <p:nvPr/>
        </p:nvPicPr>
        <p:blipFill>
          <a:blip r:embed="rId1"/>
          <a:stretch/>
        </p:blipFill>
        <p:spPr>
          <a:xfrm>
            <a:off x="-76320" y="96840"/>
            <a:ext cx="929664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1028" descr="figure 07-53 (4)"/>
          <p:cNvPicPr/>
          <p:nvPr/>
        </p:nvPicPr>
        <p:blipFill>
          <a:blip r:embed="rId1"/>
          <a:stretch/>
        </p:blipFill>
        <p:spPr>
          <a:xfrm>
            <a:off x="2214720" y="0"/>
            <a:ext cx="471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27" descr="http://student.ccbcmd.edu/courses/bio141/lecguide/unit3/humoral/abydefense/cytolysis/images/incell.gif"/>
          <p:cNvPicPr/>
          <p:nvPr/>
        </p:nvPicPr>
        <p:blipFill>
          <a:blip r:embed="rId1"/>
          <a:stretch/>
        </p:blipFill>
        <p:spPr>
          <a:xfrm>
            <a:off x="2590920" y="266688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28"/>
          <p:cNvSpPr/>
          <p:nvPr/>
        </p:nvSpPr>
        <p:spPr>
          <a:xfrm>
            <a:off x="2590920" y="198108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buClr>
                <a:srgbClr val="ffff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Complement fix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4:45:41Z</dcterms:created>
  <dc:creator>Steve Bower - 910-343-2516 x309</dc:creator>
  <dc:description/>
  <dc:language>en-US</dc:language>
  <cp:lastModifiedBy>acer</cp:lastModifiedBy>
  <dcterms:modified xsi:type="dcterms:W3CDTF">2010-12-26T05:39:58Z</dcterms:modified>
  <cp:revision>98</cp:revision>
  <dc:subject>Imunology 6</dc:subject>
  <dc:title>IMMUNITY MEDIATED BY B LYMPHOCYTES AND ANTIBODIES</dc:title>
</cp:coreProperties>
</file>