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79F3-CC20-4FBD-A201-2BE43896F21A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739F-CD8E-47CB-A9E6-55D6D9F3D3B9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41F0-DFE6-424A-B0AB-0953A610A1D9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62771-B94E-4920-A4EA-5E400FB4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5626C-86F7-4041-8573-D0FD4C4F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9F569-70A7-4367-BD8C-B3C0FD9D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34EDA-C98A-44CE-A75B-0166653B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5BE20-DB44-402D-ABD2-5DE0219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A4F95-DE68-4FB9-BBD8-950414B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216CE-430D-43AC-98CF-AACF7F16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06DB0-6976-4B4A-B11F-59ACE76F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D411E-797B-427C-870C-2EA7BC36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F55A8-743E-4428-91E2-A10817AD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10E2E-207A-4FFF-A2D4-C32AB90D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CEBD4-EC99-440F-9EC5-11CD5CEC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61FEC-F219-44F1-8C37-7079A5C6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61DFC-F285-491A-92E6-E817C73A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72C4D-0F90-4B1B-AD9A-F2A0A51A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91781-D653-44ED-BBC1-ECD7AEB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449A8-9078-4945-B026-9C0672C9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BA55E-7E2E-4B71-B983-BFE09141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E71CE-E481-4A3F-B523-132C1D0B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723D6-3899-4845-B771-CEEDE180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7E12-EC01-4B84-81D5-ADEB50FD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0D656-28F3-41B8-A88C-FD201A57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494B0-E7F8-44BA-A442-6A1F98F3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F2C0E-C923-430C-AC61-091B2307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25FBA-DBDA-4978-B574-FD4CA502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AEDDF-3F00-4016-9323-4C64F158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06739-6B35-4D76-93A8-CEF7E36B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BE579-3377-47E8-9DCB-8BFD8DC4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AAE8F-243E-47A2-AF9A-D1D05D7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A1DF8-6317-4F8E-BE66-A1FBE7E2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0AF-5628-4D0B-9C5D-5E93956D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F9456-4FB9-4324-A509-74E3C8BC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9275B-89C2-4A03-BBFF-E53B2BE9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E340C-6980-41A5-828A-208FAD24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BB6-DF9A-4E1C-8943-676985A4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6D3-D5BA-4146-A829-77BE72B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50E-79A4-4E97-90C3-48882F5C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C37-9AA2-468B-A870-DC6C28B1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25C-E5B2-446D-8427-85193D5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BAE-3B36-460C-A27E-554B264E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ABB-CCDC-4B7A-BBAD-B2C16CAD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4A5-0A55-4D9E-A6AE-C40638D2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F81-C461-4213-96B8-4C958EB5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BFB-BFD1-4AAC-9DC5-A47A0331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5FF-4EF7-41B9-B129-41ADF220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0485-CA03-4059-B23D-7ACDE527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D1FE-5CC1-496C-8FFA-2D10EB6B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284-ECBE-4A76-B54D-280E8C41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680E-85A3-4D06-836C-5ACA2519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9BE0-980E-4AC5-A651-55D52232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4285-6318-4B66-9664-A2820464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020E-1FBF-4EE5-BDAD-3E014CB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F041-7BA9-44D9-8498-0FB13E75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11D9-CCF8-48A3-B658-52013F72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550D-57FE-4CD9-8B26-9C2576F6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BA16-B4E5-4E73-BEE0-87369000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2AF6-0A33-4A6A-B0E9-738B8FC1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FB6C-A05A-4F0A-88F4-9D7B3A72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2CA7-3E9F-4228-8B7B-55396E99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BBD6-37C4-4402-B408-C3C6A8F0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865F-14F3-4C00-A918-3E3E475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B165-0511-4EF6-B7A8-1DE46CAF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D00B-06AD-4778-8691-F3689112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28F23-D8C8-42AC-84FE-1662EB1B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EFB5-6752-40BA-AC4F-8F070F79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5C62-D8BA-4F30-8588-E4F7051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F1BB-3CA1-4786-A4F7-F4A9205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3FF1-82C4-47BC-BD9A-A0AD1681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4EDE-B330-4E66-B67C-36C600C9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D8D8-8F3E-47DF-92AF-6C26E439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C5DA-4E8A-45E7-BCE2-C3F334C8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D6E2-5C9C-4C99-AB64-0DA4E521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13A7-FEF8-4FBF-8B08-1009A58D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5B145-CB3A-468D-9918-6B0A8B77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E268-E380-4C0F-81EE-B0C768F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12C2-3AD1-4555-9528-8FCD5019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7819-C274-44F8-A16B-69B77FE2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0DDB-4434-4EF7-8C6B-6441A330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AADC-5EFD-471B-95B3-9F30D45D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7E377-38CC-46B6-A1FB-577C5DB9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CF2A4-5D31-4561-B996-6B411562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EC6C8-E092-4644-AAD5-1CE77F9B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9AB45-8324-4319-9456-E1EC2E5F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E6F9A-775D-49E3-9F48-D7817366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F5854-8A9E-44EC-A5BB-2673A7A0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FF253-6121-4351-A57F-CBB1091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BCD2-A7DF-4D03-B4F9-76937E05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C50A9-51DE-441E-A10A-EEB998DF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CD66-AFE8-4C5F-8FA2-629ADEE0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D0904-0DF5-4F7B-9B29-E6AAB711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3E3A3-6671-41ED-87BA-18B2F019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5824-6947-47C8-8CBA-980ACCC8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BDC0-5A40-4427-A3E0-2DF9CA3D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742D0-A592-4C73-A65D-A1F80F03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E30AD-5B9C-483F-B8C6-6D7E9084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E0334-317C-4C7F-9A6C-46D7D6FC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B8678-97A2-41EB-A40B-C25144DB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11971-3E41-4804-A76C-92739E50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A99F7-90A6-4A20-A0CE-084A51D7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7E030-1F49-4057-A308-F0EBEBD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5F8D7-D060-4F87-A0C1-7A31879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FBE22-C07F-48B3-B1E4-7302DDC4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16C4-49C0-4E18-B496-8085A4AE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92D0C-3B7B-4CB4-BCE8-00F29BC7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B6BE-06E9-4CD6-B35C-A4ABCB25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C8796-4278-4B5C-A859-42ECF61A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BAD6-BA8D-406A-8FE9-713D54EE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9E90F-EDB6-42F2-9177-5FF7496A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8D0744A-B12C-4722-AC78-6A5AE49413E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7DBC-7A0B-4A08-A98F-BD2EA3E6EA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E440BBD-14D6-4C71-9753-D440735D8AD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06E1-84CE-4928-92B4-E329FC33FE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7AE-1A81-4587-8CE9-7564980BF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6858FD81-C8E5-40C7-A9B5-312DDD82F28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2089-647F-4DE8-A855-2D2259533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5CDEFC15-5783-4907-BD9C-DA4550909AC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B078-4F2B-4A24-84E8-DA25BAE9D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49B1A6B-6519-4FD5-ADF7-0744484884D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29B02D45-0806-44F3-BEB4-44814DB2E05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681200" y="6504120"/>
            <a:ext cx="57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Graw-Hill/Irwi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©2009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ADB28E0-C8E3-4861-A4C1-4A50F6D1606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20A-B241-4075-BD9A-CC97281023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81FF1D8-81F7-4A43-A89C-B476D6D7470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D26A-668F-4D39-8380-0FE2582C99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E7BD97C1-5732-4912-AB5F-CE05B7D5D0D6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30C4-7723-4B10-AD89-FE02B9E368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97D4C60-08ED-442B-8DC5-5D03169618B1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81D-BEB3-40F2-AF6A-BFD4F905B6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"/>
          <p:cNvPicPr/>
          <p:nvPr/>
        </p:nvPicPr>
        <p:blipFill>
          <a:blip r:embed="rId2"/>
          <a:srcRect l="0" t="19259" r="0" b="22407"/>
          <a:stretch/>
        </p:blipFill>
        <p:spPr>
          <a:xfrm>
            <a:off x="1981080" y="1320840"/>
            <a:ext cx="5562720" cy="4000320"/>
          </a:xfrm>
          <a:prstGeom prst="rect">
            <a:avLst/>
          </a:prstGeom>
          <a:ln w="0">
            <a:noFill/>
          </a:ln>
        </p:spPr>
      </p:pic>
      <p:pic>
        <p:nvPicPr>
          <p:cNvPr id="472" name="TextBox 7" descr=""/>
          <p:cNvPicPr/>
          <p:nvPr/>
        </p:nvPicPr>
        <p:blipFill>
          <a:blip r:embed="rId3"/>
          <a:stretch/>
        </p:blipFill>
        <p:spPr>
          <a:xfrm>
            <a:off x="-73080" y="0"/>
            <a:ext cx="211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and Supply Strategy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cha06369_0204"/>
          <p:cNvPicPr/>
          <p:nvPr/>
        </p:nvPicPr>
        <p:blipFill>
          <a:blip r:embed="rId1"/>
          <a:stretch/>
        </p:blipFill>
        <p:spPr>
          <a:xfrm>
            <a:off x="1752480" y="609480"/>
            <a:ext cx="7086600" cy="62485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86AC81E-3D48-4322-B3DF-95A13FC9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467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Productivity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626292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1c09e"/>
                </a:solidFill>
                <a:latin typeface="Arial"/>
              </a:rPr>
              <a:t>Productiv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common measure on how well resources are being used.  In the broadest sense, it can be defined as the following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F4C303A-F983-4079-B7D5-DF3B2389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asure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26320" cy="16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Measure Productivity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-304920" y="335268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s and service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resourc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2E4D722-5268-4EF9-985B-3F2BFAD75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5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Measure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al measures of productivity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         Capital      Materials     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D5B7D11-2514-4B66-A978-A18DA5BDD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" dur="1" fill="hold"/>
                                  <p:tgtEl>
                                    <p:spTgt spid="5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95" dur="1" fill="hold"/>
                                  <p:tgtEl>
                                    <p:spTgt spid="5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96" dur="1" fill="hold"/>
                                  <p:tgtEl>
                                    <p:spTgt spid="5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actor Measure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factor measures of productivit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    +     Capital      +  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    +     Capital      +   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3606483-A64B-4391-878A-EF46DC0B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52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230" dur="1" fill="hold"/>
                                  <p:tgtEl>
                                    <p:spTgt spid="52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536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23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Productivity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7238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have just determined that your service employees have used a total of 2400 hours of labor this week to process 560 insurance forms.  Last week the same crew used only 2000 hours of labor to process 480 for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productivity measure sh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1c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09e"/>
                </a:solidFill>
                <a:latin typeface="Arial"/>
              </a:rPr>
              <a:t>Answer: Could be classified as a Total Measure or Partial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productivity increasing or decrea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1c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09e"/>
                </a:solidFill>
                <a:latin typeface="Arial"/>
              </a:rPr>
              <a:t>Answer: Last week’s productivity = 480/2000 = 0.24, and this week’s productivity is = 560/2400 = 0.23.  So, productivity is decreasing sligh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A85DD36-6180-4408-8C1F-37257341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6"/>
          <p:cNvSpPr/>
          <p:nvPr/>
        </p:nvSpPr>
        <p:spPr>
          <a:xfrm>
            <a:off x="1295280" y="2819520"/>
            <a:ext cx="7391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F516AEF-15E8-44C8-81C7-943E8069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4"/>
          <p:cNvGrpSpPr/>
          <p:nvPr/>
        </p:nvGrpSpPr>
        <p:grpSpPr>
          <a:xfrm>
            <a:off x="533520" y="1828800"/>
            <a:ext cx="8610480" cy="2666520"/>
            <a:chOff x="533520" y="1828800"/>
            <a:chExt cx="8610480" cy="2666520"/>
          </a:xfrm>
        </p:grpSpPr>
        <p:sp>
          <p:nvSpPr>
            <p:cNvPr id="474" name="Rectangle 6"/>
            <p:cNvSpPr/>
            <p:nvPr/>
          </p:nvSpPr>
          <p:spPr>
            <a:xfrm>
              <a:off x="533520" y="1828800"/>
              <a:ext cx="8610480" cy="26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perations and Supply Strateg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5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159984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  and Supply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itive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 Qualifiers and W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y Desig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ramework for Manufactur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Strategy Capacity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vit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1523880" y="7621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724AB87-758B-4053-83D1-EF0ACA8A9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4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848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Operations and Supply Strateg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perations and supply strate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cerned with setting broad policies and plan for using the resources of a firm to best support its long-term competitive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4733E3B-5936-4061-9505-D9EA5A435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68080" cy="12729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rporate strategy provides overall direction and coordinates operational goals with those of the larger organization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Operations effectiveness – performing activities in a manner that best implements strategic priorities at a minimum cos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itle 1" descr=""/>
          <p:cNvPicPr/>
          <p:nvPr/>
        </p:nvPicPr>
        <p:blipFill>
          <a:blip r:embed="rId1"/>
          <a:stretch/>
        </p:blipFill>
        <p:spPr>
          <a:xfrm>
            <a:off x="189000" y="-12600"/>
            <a:ext cx="8888400" cy="18842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2000160" y="1522440"/>
            <a:ext cx="485784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9644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Dimen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8155080" cy="401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r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the Product or Deliver the Service C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Great Product or Deliver a Grea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the Product or Deliver the Service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y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 It When Prom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ing with Changes i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Its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 and New Product Introduc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Product-Specific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B006641-8752-434F-A3CE-6919A1240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49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20" dur="1" fill="hold"/>
                                  <p:tgtEl>
                                    <p:spTgt spid="490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ing with Trade-off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1"/>
          <p:cNvGrpSpPr/>
          <p:nvPr/>
        </p:nvGrpSpPr>
        <p:grpSpPr>
          <a:xfrm>
            <a:off x="4493880" y="2895480"/>
            <a:ext cx="4296600" cy="2114640"/>
            <a:chOff x="4493880" y="2895480"/>
            <a:chExt cx="4296600" cy="2114640"/>
          </a:xfrm>
        </p:grpSpPr>
        <p:sp>
          <p:nvSpPr>
            <p:cNvPr id="495" name="Rectangle 5"/>
            <p:cNvSpPr/>
            <p:nvPr/>
          </p:nvSpPr>
          <p:spPr>
            <a:xfrm>
              <a:off x="6371280" y="28954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6"/>
            <p:cNvSpPr/>
            <p:nvPr/>
          </p:nvSpPr>
          <p:spPr>
            <a:xfrm>
              <a:off x="6192360" y="461628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"/>
            <p:cNvSpPr/>
            <p:nvPr/>
          </p:nvSpPr>
          <p:spPr>
            <a:xfrm>
              <a:off x="7618320" y="3794040"/>
              <a:ext cx="117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8"/>
            <p:cNvSpPr/>
            <p:nvPr/>
          </p:nvSpPr>
          <p:spPr>
            <a:xfrm>
              <a:off x="4493880" y="3794040"/>
              <a:ext cx="135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exi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>
              <a:off x="6742080" y="3406680"/>
              <a:ext cx="0" cy="11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>
              <a:off x="5999040" y="4020840"/>
              <a:ext cx="14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 Box 39"/>
          <p:cNvSpPr/>
          <p:nvPr/>
        </p:nvSpPr>
        <p:spPr>
          <a:xfrm>
            <a:off x="685800" y="2514600"/>
            <a:ext cx="3733920" cy="375156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we improve customer service problem solving by cross-training personnel to deal with a wider-range of problems, they may become less efficient at dealing with commonly occurring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6"/>
          <p:cNvSpPr/>
          <p:nvPr/>
        </p:nvSpPr>
        <p:spPr>
          <a:xfrm>
            <a:off x="990720" y="1371600"/>
            <a:ext cx="8076960" cy="82548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we reduce costs by reducing product quality inspections, we might reduce product qua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3C9CAEC-8BA4-41F6-9214-A0CD2CB5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Qualifiers and Winners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54380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64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Order qualifiers</a:t>
            </a:r>
            <a:r>
              <a:rPr b="1" i="1" lang="en-US" sz="3200" spc="-1" strike="noStrike">
                <a:solidFill>
                  <a:srgbClr val="e1e1d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the basic criteria that permit the firms products to be considered as candidates for purchase by custom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64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Order winners</a:t>
            </a:r>
            <a:r>
              <a:rPr b="1" i="1" lang="en-US" sz="3200" spc="-1" strike="noStrike">
                <a:solidFill>
                  <a:srgbClr val="e1e1d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the criteria that differentiates the products and services of one firm from an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AAA5B38-18FE-4341-BE81-84FC7877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5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23:09:06Z</dcterms:created>
  <dc:creator> </dc:creator>
  <dc:description/>
  <cp:keywords/>
  <dc:language>en-US</dc:language>
  <cp:lastModifiedBy>KSU S155-S9</cp:lastModifiedBy>
  <dcterms:modified xsi:type="dcterms:W3CDTF">2015-09-07T09:10:01Z</dcterms:modified>
  <cp:revision>78</cp:revision>
  <dc:subject/>
  <dc:title>Production  and Operations Management: Manufacturing and  Services</dc:title>
</cp:coreProperties>
</file>