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92A0-26DF-4A05-A8AB-4AF78F4348F9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4AB0-339D-499F-8210-2F5A43C5BE53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FD01-E7D3-4AC3-8F7A-0E626B145091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E42F0-640F-42C4-9B0A-42378368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84F45-8BAE-4877-BD4F-8827BD86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1B88-F39F-41BF-9FDD-8D35A853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083B4-28EE-4FB5-92E7-7DADCF97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2072E-0681-4548-A9F2-6310B94F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B5626-67B5-4BDD-85B0-C6AD98BE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D969D-DA31-47E2-9CAA-8F22175D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D5699-95CC-40F2-A4EF-D1F040FD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9600F-CE79-45BB-B28B-23B5DF33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824EC-BAFC-4618-AD03-3B9EDBEB2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73B2D-CA81-4887-8E8F-5451A576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74C6B-CEED-41CA-8EAC-14E0727C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28ADC-1BB8-42BC-9E73-607FE42D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8F6F3-3E3F-4576-9419-47016631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7D39A-AD9C-44F1-8C69-C4955F77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919E3-0AC9-415B-A4C0-A0940AEE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6A0C1-5554-429C-B5AC-F96B86F6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3ACD7-EA9A-4247-B74C-31A9D292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1D31D-42D7-4564-9EB6-D428077E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0C36B-E39B-482C-A96D-803D527A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5A371-CA3B-449E-873F-734434C47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16BC8-0F02-4141-9F2B-CC199CE39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B8A27-79B7-4EA3-BCF4-9CE730B3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95877-A407-4217-BF1B-484ACCF7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75E59-AC51-420A-B392-BB72CFB6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CE273-6973-4A97-9FD3-B1E8368F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1D980-D4EA-45D3-9124-3005B12E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7C85D-C3BD-4B5D-A020-608C2F30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60C21-44F9-45CF-868D-07347C02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B7AC2-A39C-4407-BE05-2E4DE6F1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745-A2AE-44AE-80D1-AAE14C39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9AE15-FDFC-4091-AD7F-43BAA413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36D14-B657-4E56-89D8-0AC61307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2BBDE9-AE19-4EE3-86E1-BFF58209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D2F-DB64-4C71-AECB-ED48A95D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104-2C05-43C3-A65D-EBA3EAF4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C452-C3A9-475A-B353-23BB1A0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8A6-A5D5-462A-AE8D-AFE32A3A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5CE-F524-4CD4-9633-DE3EDABC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6A5-D96A-4243-AB43-04238622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6AD-338F-46A5-B7ED-5E423408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3FA-D1FF-4E19-9F62-96F09EB8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9D6-0F7D-4EC7-8BDF-7907A7FF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A3E-53A1-47B2-BBD2-CC79A7F0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F56F-F480-44D2-A540-15D03787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5E0C-37B0-4DAC-8DC5-5EFF3B520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3DDC-07D8-4133-B9FB-F82EC771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B2BE-929E-49D7-99E3-7721FE40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832B-6216-477F-A820-C6FD4824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9E33-71CE-4A12-BD69-D38C5F5D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C196-8338-4E0F-B6AD-F996958D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505F-0300-4985-AB70-D700CB0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BD02-5A0C-43AC-BBC5-FAE2794B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D445-F14D-4B6B-B939-DE72B55A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75D5-C779-4CF8-8FFC-8B2CE0F3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D87A-C871-4CC3-BAD3-494E4DF0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0212-B8F8-42B4-A1CC-2B173C36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AE081-ABCE-4B95-A960-9007D425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6B8C9-960E-4A36-A21E-92D506E3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412A-4C97-4C5C-AF8D-671C38AC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6A729-5CC4-4326-8620-81ED1E10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74940-248C-4CA4-82C2-29629C32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3CEC-370F-4152-8B05-6C7D5E50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7ABD-3538-42BC-8D01-D260792E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3AC0-3B31-483A-8CEE-9057D252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701B7-B047-46DE-9480-82652115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627B7-6BC1-4E63-9B16-0214D46D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73DA-8B5C-4580-9AB0-8C12B3FB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DAC3-CF72-4D1E-92CF-3B2C0444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D26F-49B9-42C5-8328-012B5BE0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7E76-D5B4-4685-9F79-91D49DB7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9A75C-6972-43DD-9576-D8A39563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E455-6629-4F8D-B192-80B20296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A3A34-FB53-412D-B218-A13291A9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39959-ED8D-4B90-9DB9-D86D23C6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3BB6F-3A5C-4D98-A788-9CEEB66F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0432-9D34-40C0-A132-13E4EBE8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E1FBA-A979-4544-9E5B-6CC120C6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D3799-3405-4150-B79B-D99CACEE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3C966-2643-4ED5-8B8D-E44E78F5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E5776-5CF8-4701-8725-3A071A42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D1372-C5BA-4FA4-854A-DFEA5D5C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19A0D-43AE-4609-BD27-2B8D66C7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D0BA7-C070-48C3-9253-CD35E6C3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365AC-BF9C-45EF-AF0D-397FB84F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AF5FF-7753-4298-B746-DC21D671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96C1-5B58-4AB6-B227-39B4702F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92F24-2378-4315-9136-6A214D4B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031EA-216A-4D01-B147-36B3EB07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77F3E-A258-4EC0-A1C6-DE549EC4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60896-504E-4CEE-ABFB-0F660558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F4C04-277B-4530-8284-B8C0B12B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DD989-40EF-4B69-B228-74E62FC3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F8541-1995-4A21-B876-A7DBCB65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C69B9-182A-43A9-A7BD-415170CB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6036-43C0-4001-87C7-F4B98DA3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0B350-448D-4B57-9C49-4DB0E7D7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43C00-4C20-4862-885A-952A17C5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6CC16-1F3A-43D9-BB34-2877566D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3BD57-D1C2-4B1E-920A-D4D822B8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11375-1B2D-4A05-AAFF-69BDEF84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41ED8-48E6-4409-9F60-B21D51A1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E8014-A6CE-46E9-A919-CFC5A1C2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B8E8E-808C-4B8E-AF21-5B9CBB69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A13AE-9599-4F08-B6C4-11F64244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8D60D-42CB-4018-B978-8E8AEF7C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6331D-5F01-49D5-8D60-51773191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C38EA-71F4-4754-ACE3-18EE5407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C4983CF7-C9D3-4109-B033-75AC437168B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3A7A-72D8-4C2A-85C0-7DAF6FDC35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D88CCB5E-7F63-4C08-8828-B821018BE72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7FD6-D62F-4CA4-A292-0725138456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6FB0-960D-4B11-B93D-AE987AA8F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BF708D5-BDEA-4729-8A37-1EBA7B015F5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64E1-2A9F-4E62-A825-1BA1AA7B49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8460B83C-A03E-46CA-BE3A-AB847407490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B32E-B9B8-4D2D-9DDE-D2F4BC03F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08CEEA3D-7E31-4420-9563-BB54C8A45FD6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8258040" y="650700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D053C3FD-BEBB-43F5-B760-94479943DA8B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681200" y="6504120"/>
            <a:ext cx="57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Graw-Hill/Irwi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©2009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3"/>
          <a:srcRect l="46677" t="0" r="0" b="0"/>
          <a:stretch/>
        </p:blipFill>
        <p:spPr>
          <a:xfrm>
            <a:off x="746748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78F8314D-9323-4BDF-AA2F-47EAA32373F0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4D1E-F6B7-43FD-8C57-078F612953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7DC2304-389A-444F-B1FD-E7964FA5CA8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C60F-CDA5-4CAA-A4CE-0430F12B54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3885FC87-816C-426E-A901-3DA2E9FDF267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4DDA-B80D-49FD-B531-EE90F3D945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–</a:t>
            </a:r>
            <a:fld id="{1BE4EC23-A0AE-4627-A538-CB1A7BC72454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894A-CEC2-4927-B583-D681DE9D9F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1905120" y="1676520"/>
            <a:ext cx="70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6" descr=""/>
          <p:cNvPicPr/>
          <p:nvPr/>
        </p:nvPicPr>
        <p:blipFill>
          <a:blip r:embed="rId1"/>
          <a:srcRect l="46677" t="0" r="0" b="0"/>
          <a:stretch/>
        </p:blipFill>
        <p:spPr>
          <a:xfrm>
            <a:off x="7462800" y="-936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7"/>
          <p:cNvSpPr/>
          <p:nvPr/>
        </p:nvSpPr>
        <p:spPr>
          <a:xfrm>
            <a:off x="7936200" y="6611760"/>
            <a:ext cx="9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Tata McGr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9" descr=""/>
          <p:cNvPicPr/>
          <p:nvPr/>
        </p:nvPicPr>
        <p:blipFill>
          <a:blip r:embed="rId2"/>
          <a:srcRect l="0" t="19259" r="0" b="22407"/>
          <a:stretch/>
        </p:blipFill>
        <p:spPr>
          <a:xfrm>
            <a:off x="1981080" y="1320840"/>
            <a:ext cx="5562720" cy="4000320"/>
          </a:xfrm>
          <a:prstGeom prst="rect">
            <a:avLst/>
          </a:prstGeom>
          <a:ln w="0">
            <a:noFill/>
          </a:ln>
        </p:spPr>
      </p:pic>
      <p:pic>
        <p:nvPicPr>
          <p:cNvPr id="472" name="TextBox 7" descr=""/>
          <p:cNvPicPr/>
          <p:nvPr/>
        </p:nvPicPr>
        <p:blipFill>
          <a:blip r:embed="rId3"/>
          <a:stretch/>
        </p:blipFill>
        <p:spPr>
          <a:xfrm>
            <a:off x="-73080" y="0"/>
            <a:ext cx="211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and Supply Strategy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cha06369_0204"/>
          <p:cNvPicPr/>
          <p:nvPr/>
        </p:nvPicPr>
        <p:blipFill>
          <a:blip r:embed="rId1"/>
          <a:stretch/>
        </p:blipFill>
        <p:spPr>
          <a:xfrm>
            <a:off x="1752480" y="609480"/>
            <a:ext cx="7086600" cy="624852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4CC297D-5824-4AA9-A1BA-DE8AE9330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7467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Productivity?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626292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c1c09e"/>
                </a:solidFill>
                <a:latin typeface="Arial"/>
              </a:rPr>
              <a:t>Productiv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common measure on how well resources are being used.  In the broadest sense, it can be defined as the following rat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980E80C9-433E-47AC-AD7F-CC2A241F4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asure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6826320" cy="165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Measure Productivity 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-304920" y="335268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s and service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resourc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6B752E8-D854-41AA-99C8-D38C4E249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51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229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 Measure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ial measures of productivity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         Capital      Materials     Ener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74EA9CC-012F-435F-9248-9ADB313B5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4" dur="1" fill="hold"/>
                                  <p:tgtEl>
                                    <p:spTgt spid="5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95" dur="1" fill="hold"/>
                                  <p:tgtEl>
                                    <p:spTgt spid="5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96" dur="1" fill="hold"/>
                                  <p:tgtEl>
                                    <p:spTgt spid="5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factor Measure Productiv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factor measures of productivity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    +     Capital      +   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put 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or    +     Capital      +   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F330C99-878B-4CB7-B809-FF63E01C3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9" dur="1" fill="hold"/>
                                  <p:tgtEl>
                                    <p:spTgt spid="52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230" dur="1" fill="hold"/>
                                  <p:tgtEl>
                                    <p:spTgt spid="52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536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"/>
          <p:cNvPicPr/>
          <p:nvPr/>
        </p:nvPicPr>
        <p:blipFill>
          <a:blip r:embed="rId2"/>
          <a:stretch/>
        </p:blipFill>
        <p:spPr>
          <a:xfrm>
            <a:off x="2057400" y="1447920"/>
            <a:ext cx="5029200" cy="523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Productivity Measur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600200" y="1447560"/>
            <a:ext cx="7238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have just determined that your service employees have used a total of 2400 hours of labor this week to process 560 insurance forms.  Last week the same crew used only 2000 hours of labor to process 480 for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productivity measure should be u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1c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09e"/>
                </a:solidFill>
                <a:latin typeface="Arial"/>
              </a:rPr>
              <a:t>Answer: Could be classified as a Total Measure or Partial Mea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productivity increasing or decrea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1c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1c09e"/>
                </a:solidFill>
                <a:latin typeface="Arial"/>
              </a:rPr>
              <a:t>Answer: Last week’s productivity = 480/2000 = 0.24, and this week’s productivity is = 560/2400 = 0.23.  So, productivity is decreasing sligh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4DED663D-A898-481B-899F-826632D39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4" dur="1" fill="hold"/>
                                  <p:tgtEl>
                                    <p:spTgt spid="53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6"/>
          <p:cNvSpPr/>
          <p:nvPr/>
        </p:nvSpPr>
        <p:spPr>
          <a:xfrm>
            <a:off x="1295280" y="2819520"/>
            <a:ext cx="7391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 of 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445C624-03B1-4072-B7FB-26012E24C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4"/>
          <p:cNvGrpSpPr/>
          <p:nvPr/>
        </p:nvGrpSpPr>
        <p:grpSpPr>
          <a:xfrm>
            <a:off x="533520" y="1828800"/>
            <a:ext cx="8610480" cy="2666520"/>
            <a:chOff x="533520" y="1828800"/>
            <a:chExt cx="8610480" cy="2666520"/>
          </a:xfrm>
        </p:grpSpPr>
        <p:sp>
          <p:nvSpPr>
            <p:cNvPr id="474" name="Rectangle 6"/>
            <p:cNvSpPr/>
            <p:nvPr/>
          </p:nvSpPr>
          <p:spPr>
            <a:xfrm>
              <a:off x="533520" y="1828800"/>
              <a:ext cx="8610480" cy="26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Operations and Supply Strateg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Rectangle 5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1599840" y="16002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  and Supply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etitive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er Qualifiers and Wi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egy Desig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ramework for Manufactur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Strategy Capacity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spcAft>
                <a:spcPts val="26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ivit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9"/>
          <p:cNvSpPr/>
          <p:nvPr/>
        </p:nvSpPr>
        <p:spPr>
          <a:xfrm>
            <a:off x="1523880" y="7621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38521A7-D557-4EF4-851F-912E5DBB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4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8487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Operations and Supply Strateg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Operations and supply strate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cerned with setting broad policies and plan for using the resources of a firm to best support its long-term competitive strate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26665008-9DFC-4E4E-A2E9-8DFAB5D5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Title 1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668080" cy="12729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orporate strategy provides overall direction and coordinates operational goals with those of the larger organization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Operations effectiveness – performing activities in a manner that best implements strategic priorities at a minimum cos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Title 1" descr=""/>
          <p:cNvPicPr/>
          <p:nvPr/>
        </p:nvPicPr>
        <p:blipFill>
          <a:blip r:embed="rId1"/>
          <a:stretch/>
        </p:blipFill>
        <p:spPr>
          <a:xfrm>
            <a:off x="189000" y="-12600"/>
            <a:ext cx="8888400" cy="18842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2" descr=""/>
          <p:cNvPicPr/>
          <p:nvPr/>
        </p:nvPicPr>
        <p:blipFill>
          <a:blip r:embed="rId2"/>
          <a:stretch/>
        </p:blipFill>
        <p:spPr>
          <a:xfrm>
            <a:off x="2000160" y="1522440"/>
            <a:ext cx="485784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69644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ive Dimen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52120" y="1599840"/>
            <a:ext cx="8155080" cy="401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r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the Product or Deliver the Service Ch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a Great Product or Deliver a Grea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the Product or Deliver the Service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ivery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 It When Prom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ing with Changes i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Its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ility and New Product Introductio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Product-Specific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F0B1D85C-AEEC-4A73-80E7-F2B615AA8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4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4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490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20" dur="1" fill="hold"/>
                                  <p:tgtEl>
                                    <p:spTgt spid="490">
                                      <p:txEl>
                                        <p:pRg st="13" end="1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ling with Trade-off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11"/>
          <p:cNvGrpSpPr/>
          <p:nvPr/>
        </p:nvGrpSpPr>
        <p:grpSpPr>
          <a:xfrm>
            <a:off x="4493880" y="2895480"/>
            <a:ext cx="4296600" cy="2114640"/>
            <a:chOff x="4493880" y="2895480"/>
            <a:chExt cx="4296600" cy="2114640"/>
          </a:xfrm>
        </p:grpSpPr>
        <p:sp>
          <p:nvSpPr>
            <p:cNvPr id="495" name="Rectangle 5"/>
            <p:cNvSpPr/>
            <p:nvPr/>
          </p:nvSpPr>
          <p:spPr>
            <a:xfrm>
              <a:off x="6371280" y="28954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6"/>
            <p:cNvSpPr/>
            <p:nvPr/>
          </p:nvSpPr>
          <p:spPr>
            <a:xfrm>
              <a:off x="6192360" y="4616280"/>
              <a:ext cx="1044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7"/>
            <p:cNvSpPr/>
            <p:nvPr/>
          </p:nvSpPr>
          <p:spPr>
            <a:xfrm>
              <a:off x="7618320" y="3794040"/>
              <a:ext cx="117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8"/>
            <p:cNvSpPr/>
            <p:nvPr/>
          </p:nvSpPr>
          <p:spPr>
            <a:xfrm>
              <a:off x="4493880" y="3794040"/>
              <a:ext cx="135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lexi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9"/>
            <p:cNvSpPr/>
            <p:nvPr/>
          </p:nvSpPr>
          <p:spPr>
            <a:xfrm>
              <a:off x="6742080" y="3406680"/>
              <a:ext cx="0" cy="11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10"/>
            <p:cNvSpPr/>
            <p:nvPr/>
          </p:nvSpPr>
          <p:spPr>
            <a:xfrm>
              <a:off x="5999040" y="4020840"/>
              <a:ext cx="14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Text Box 39"/>
          <p:cNvSpPr/>
          <p:nvPr/>
        </p:nvSpPr>
        <p:spPr>
          <a:xfrm>
            <a:off x="685800" y="2514600"/>
            <a:ext cx="3733920" cy="375156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we improve customer service problem solving by cross-training personnel to deal with a wider-range of problems, they may become less efficient at dealing with commonly occurring probl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6"/>
          <p:cNvSpPr/>
          <p:nvPr/>
        </p:nvSpPr>
        <p:spPr>
          <a:xfrm>
            <a:off x="990720" y="1371600"/>
            <a:ext cx="8076960" cy="82548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xample, if we reduce costs by reducing product quality inspections, we might reduce product qua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DEAEB798-2184-4743-B127-DBE76D39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 Qualifiers and Winners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543800" cy="446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64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Order qualifiers</a:t>
            </a:r>
            <a:r>
              <a:rPr b="1" i="1" lang="en-US" sz="3200" spc="-1" strike="noStrike">
                <a:solidFill>
                  <a:srgbClr val="e1e1d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the basic criteria that permit the firms products to be considered as candidates for purchase by custome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6480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33"/>
                </a:solidFill>
                <a:latin typeface="Arial"/>
              </a:rPr>
              <a:t>Order winners</a:t>
            </a:r>
            <a:r>
              <a:rPr b="1" i="1" lang="en-US" sz="3200" spc="-1" strike="noStrike">
                <a:solidFill>
                  <a:srgbClr val="e1e1d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the criteria that differentiates the products and services of one firm from an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B3FA5940-462B-4053-AC46-D4303895F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0" dur="1" fill="hold"/>
                                  <p:tgtEl>
                                    <p:spTgt spid="5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1T23:09:06Z</dcterms:created>
  <dc:creator> </dc:creator>
  <dc:description/>
  <cp:keywords/>
  <dc:language>en-US</dc:language>
  <cp:lastModifiedBy>KSU S155-S9</cp:lastModifiedBy>
  <dcterms:modified xsi:type="dcterms:W3CDTF">2015-09-07T09:10:01Z</dcterms:modified>
  <cp:revision>78</cp:revision>
  <dc:subject/>
  <dc:title>Production  and Operations Management: Manufacturing and  Services</dc:title>
</cp:coreProperties>
</file>