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970-977C-4BE7-AEED-B3C91D3B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0A4-C3E6-4169-B845-BABD8B7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0DBD3-D122-4827-9274-5D39C4B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9727A-6AF7-47B0-83F1-FD7A7EB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2DB81-BE53-4CD3-B0EF-E372F87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753B-F5AF-469D-8302-B68D37E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367F4-4C54-47CE-B736-FFC7E06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A25DB-E29B-498C-820E-4881DEC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101E-D6A2-4B06-9DB7-67FAB6BF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CB82B-D273-4D04-85B5-54BA107B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B59AC-3437-48E0-A657-748236C3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BE5-F660-46CF-B1A8-3F18AA8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E29-A8E5-4165-AFAC-81FF66DD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9A8D-F5F6-42B7-9D80-EED89F3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4F5C-D9F7-4ABE-8773-A944F99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21B-D0C1-4431-BCFB-68E37BE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2956-49ED-4343-A140-F1A5246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93BE-5C78-4F2B-A23D-1AA3BF4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E1AF-4A0A-4D49-B2AE-F7E82CA4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5C52-981A-4440-8C91-C21EC11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A70-4C34-4102-8F4F-CACC5C71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B605-CDF0-4B83-AD65-4905028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3449-6CCE-404A-8669-E13B70B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248-2DB7-4E04-BFC6-DD848A1D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389-E337-4764-9B18-0C100A06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3F1-1CF3-48E4-B118-0AB6704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D6A5-639F-4758-8381-7D626CA7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8FAB-3513-4E88-BB60-BDC85C86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4F990-1295-4CA9-9467-5170AF3A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7705-EC12-4B0C-91FD-FA18023C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5597-777E-4EFC-B0F1-A78899E9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318-B8AC-4C55-B4EE-E44CA8F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B59E-4BEE-4AAE-93C1-2EEB291C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D18B-239B-441D-B9FC-35F5978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702B-ACC0-4743-81E4-98813A14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8F40-AB69-4DD3-8393-F039E65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F5C8-B97B-4503-AC0B-CCA18023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D9CB-DC55-4D9C-A699-404903B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2150-2127-412E-B6C5-73B7B09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D334-85C1-43DF-9930-7D71DEEB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DF9A-584C-4E66-AC79-0A8FBA1B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54FA-9986-4487-8B8B-DF698404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000-C5D1-4BBB-8611-3D169E26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870A-B6AA-407C-89AF-716F954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2BC9-0B19-4B9B-A83A-FE1239D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E1A7-C35F-4660-94CF-337BBA5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A0E8-71E5-4143-85EB-023F6E6A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3E476-FE1F-4EBD-BF83-CF34F25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6C4F-288E-47C6-9509-22AEC10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7B2F-581A-47AC-BF33-00A605A1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8DD5-0B32-4982-A99F-6A4EEFD3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1143-7C99-4ECF-90BB-ADDC4DC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BC2C-7403-4292-AA52-146593EE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543-081E-4275-B49D-3A5E33D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1E43-1B5E-4C37-A7CD-CCC254F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DB0B-839E-408D-85D6-F946BCDD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2205-31A4-41F6-9E71-1336DF79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1398-04B7-4F63-B7DC-FA9D482B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DEAC-C2DA-4760-BD6B-A3346AF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CDEA9-19F5-4A1C-974D-E7F27E9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705B-7541-41C7-956C-ED2468F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50255-9E68-4A4A-B631-4B3ABCC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A80C-52A0-4F6F-B787-8931AE3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4D78-F406-4055-A8AF-E264639E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F0F-E502-4E6F-AB94-883EA09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5930-5E51-4B93-93B7-45DB9088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93372-C447-4471-99DC-FAC4D13D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38EF3-9F0A-4EB7-B9A0-9C1A6C7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E1EC7-A84E-4AD7-A5EA-B4F2682D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8F04F-7896-4B53-944A-F17476FF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FC127-E8FA-4499-BD51-C67C73BC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A2901-FF9A-4746-B51E-58DFD89D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655F3-2C15-4049-8B5C-6A32FB9B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F2F4B-CC40-4337-8692-AC419CD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296CB-4E6D-4CC7-AF43-A7D5518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7C4-58A2-4A00-83D1-89E1A3D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49F30-294E-45D3-9993-EE0227F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AF7EC-3E32-42B9-930E-39EFAA54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77196-B8C3-4E13-9F6B-3558D96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EE08-574B-4BFC-9288-B6E78709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E887C-677A-4CCB-903D-A7E0DBF5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85EC9-4CA0-4D38-84CB-8099E92D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B60F-7BBE-4F3A-87A8-30ECD38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7F14-AAA9-4AAC-9601-A5417A91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442C3-B753-4DAD-ABB2-3BA325D3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6E7B-B0B4-402D-B12F-4316FFD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458-7439-4ECF-8B5D-D573C9A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4B7D-8C18-4DEF-823B-3D3E62AE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D879-D196-4851-A180-DE40848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FE65-B14B-4A54-9AFB-AAD7EF41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030E-21B6-47E2-AF75-FE751EAA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5A48-C7CF-465D-8497-E505C75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C36C9-CFDC-4C2C-950C-1B2DEB06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64F72-FBB6-49A4-80C6-5C1DB13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F9D13-CDAB-4713-BB5D-36AD166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F9465F-F356-4535-A44C-DCDDEDD5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C3A7E-E713-445D-9F07-446E9FCC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523-9825-4EB1-AE07-BD48CA9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05EED-56CE-4631-8461-D5CCD5FE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5898A7-3EF0-45BA-A778-68F1F5A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4C438-F4B9-4340-A2D3-5C231291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EBEBB-3FFE-41DF-B663-5D06333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82E03-11F6-4EF1-9B8F-40055C1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05CC3-7D90-4995-8C44-AC3F3470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EC2BF3-1E10-414A-BEC5-A57DE3EC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E8929-BB88-4FB6-8FD4-81B4E8A7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E7726-F299-4AD0-A792-2D03D083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108B5-4436-4439-8F7F-B9CA9E19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C1CF-9BD9-4B07-B06B-9F1210EBF9E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750B-B7BA-451C-8ECD-D3A8D8EB1BB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4BA-0995-42BF-A3C4-3700D08CA8D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543F-6998-4FAD-B7D1-BD4EF55729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E7E-1189-4069-B2EC-B171165CC08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396-2E46-4AF4-AA6B-BC4A1465F4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52E-A213-44FE-A338-F9D49EA28F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6A9-8A86-443A-BB7C-110081C9D3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277-6024-4A7D-A6D4-626CADF7E6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26FB-509F-4D79-8658-7C4E43CD9D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B76-5A9C-43B0-8A4B-907E7DBF3F1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74D4-9BC4-4181-81A2-667D0414DF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12A-8367-4097-969C-DC287DCEA38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FC4-F4BB-405B-9093-A362529ED2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8FD-B9F3-4AC4-A1AB-8D591ECE832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009-4CDE-48BA-8026-18A2933FA8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9B4-9E1D-4D1F-AF38-5595C221BCC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FBE8-FB1C-43DF-B47F-73353285B7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3520" y="46479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pplied Anthropometry, Work-Space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I – Anthropom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Chapter 1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044-7808-4308-9698-2B661053DF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 dimensions vary wit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x (males and females): next s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thnicity (whites, blacks, Asians, etc.): next s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enerally lengths, heights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until late teens/early 20’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n remain relatively constant through adulthoo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↓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: early-middle adulthood into old a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d you know: exception is ear (continues all life long!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ccupation (i.e. job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aused by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mposed height and/or weight restric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physical activity involved in work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elf-selection of applicants for practical reason (?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truck drivers: taller, heavier &gt; general popul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mes: US, Eur. ht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 cm/decade:1880-1960 (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3F9-F962-4F9F-BCA0-338111BF07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Body dimensions varia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ex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left figure): comparison showing overlap in male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with female 9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heights (huge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thnicit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 (right figure): comparison showing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ile among different male heigh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F96-77B8-435B-9A59-A1880154BF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76320" y="3100320"/>
            <a:ext cx="4190760" cy="3757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4616280" y="3124080"/>
            <a:ext cx="4451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 (Functional)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easurements taken while body is engaged in some physical activity; e.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erating a steering whe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embling a to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aching across the table for salt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dividual body members function mostly in 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.e. all parts are affected together, at the same ti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limit of arm reach invo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rm length, but also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houlder mov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runk rotation (possibl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ck bending (possibl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and func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64C-6F01-48FD-AAEA-150AB57AAD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Dynamic (Functional)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matograph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diagram showing interaction of various body memb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below: 3 views (front, side, top) for forklift truck operat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EB0-92C6-478B-9786-912BA39076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2"/>
          <a:stretch/>
        </p:blipFill>
        <p:spPr>
          <a:xfrm>
            <a:off x="304920" y="2754360"/>
            <a:ext cx="8610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ussion: Static, Dynam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hropometr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data exists » dynamic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dynamic data: more representative of actual human a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verting static data to dynam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systematic procedure avail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ever, following recommendations are helpfu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ights (stature, eye, shoulder, hip): reduce by 3%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lbow height: no change, or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by 5% if elevated at work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Knee or popliteal height, sitting: no change, except with high-heel sho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ward and lateral reache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↓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y 30 percent for convenienc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↑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y 20 percent for extensive shoulder and trunk mo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these estimates may change: e.g. work condi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6D0-AE24-44C4-9A29-7F406916A2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anthropometric data to u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ata should be representative of population that would use the designed it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designing for “everyone”⇒ the design features must accommodate as many people as poss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designing for specific groups ⇒ use data for your specific groups; examp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ult fema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ildr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lderly (senior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ccer play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handicapped (can you name more examples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many specific groups do not yet have available anthropometric dat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55A7-CCA0-4C45-868A-89F373ECBA3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Principles in Application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ee general princi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applies to different situ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xtreme Individu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djustable Ran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Aver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A9E1-45EC-4E11-A723-DAB4E5077C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Extreme Individual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s shou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tr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to accommodate everyo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ingle design dimension can b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imiting factor restricting use of facility for som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 dictate for max./min. value of variable in ques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ax. popul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u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if given max/high value of some design feature should accommodate –almost- all peop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s: heights of doorways, strength of supporting devices (e.g. rope ladder, workbench, trapez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min. popul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alu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if given min/low value of some design feature should accommodate –almost- all peop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amples: distance of control button from operator; force required to operate the contro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003-44F6-4C90-ADDB-048A6C50C0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Adjustable Rang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pment/facilities can have design features: adjustable to individuals who use th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’s: automobile seats, office chairs, foot 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justments (e.g. arm reach) usu. cover range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fema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9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ma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%tile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pop. characterist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vers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95%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not 90%) of 50/50 male/female pop. (?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ed when hard to cover extreme cases (100% of pop) due to resulting technical difficulties involv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ing for adjustable range: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referred metho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design, but is not always possible (why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09BD-0FD0-44EF-89DF-BD691560DB8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400"/>
              </a:spcBef>
              <a:buClr>
                <a:srgbClr val="2da2bf"/>
              </a:buClr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for the Aver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signing for average generally not preferr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t should not just be “quick, easy way out” for desig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re is no “average” pers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 may be average on 1-2 dimensions but almost impossible on more than that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no perfect correlation exists between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people with short arms don’t have to have short leg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en it is ok to design for avera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 situations involving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non-critical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work (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n not appropriate to design for extreme cas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ere adjustability is impractic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: checkout counter at supermarket built for the average custom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2CCD-0EDE-4818-A0EE-89BB3E0341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hropomet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ic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ynamic (Functional)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cussion: Static, Dynamic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of Anthropometric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inciples in the Application of Anthropometric Da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Extreme Individu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Adjustable Ran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signing for the Avera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iscussion of Anthropometric Design Princip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541-A134-4003-809C-148B22FA45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ion of Anthrop. Design Princi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bove principles apply to only single dimens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arm reach (only), or stature height (only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idering &gt; 1 dimension may cause “problem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aking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9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%ile on &gt;1 dimens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eliminates high %ge of popul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on 13 dimen. ⇒ eliminates 52% (not just 10%) (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Bittner, ’74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y? no perfect correlation exists bet.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⇒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mp. to consider body dimension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combinations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in desig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ding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or 9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%ile of body segments ≠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rresponding %ile value for combined dimen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e.g. lengths: fingertip to elbow + elbow to shoulder ≠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                   fingertip               to               shou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y? (again): no perfect correlation bet. body dimens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3148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ilding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%ile female (ankle height, ankle to crotch, etc.) ⇒ female is 6 in (15.6 cm) &lt; actual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%ile stature!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15F-0007-4378-A9B3-27C131F075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Discussion of Anthrop. Design Princi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iculated mode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KA: articulated anthropometr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cale mode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ysical mod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i.e. full-scale mock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present specific population %i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usu. used with work-space desig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(see righ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ote, computer software also exist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o model work-space desig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5CE-C6CE-4F4E-983B-803B9AABB7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6162840" y="1638360"/>
            <a:ext cx="29811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Cont. Principles in Appl. of Anthropometric Dat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ggested Procedure for Using Anth. Da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body dimensions important in desig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application: sitting height or stature heigh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ne population to use facility/equi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stablishes dimensional range to be consider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children, women, Saudi men, world populatio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principle to be appli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65600" indent="-44784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extreme individuals, adjustable range, average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lect %ge of pop. to be accommodated (e.g. 90%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 appropriate anthropometric data tables for chosen population used, extract relevant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d appropriate allowances (e.g. clothing, sho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1960" indent="-4478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uild full-scale mock-up of facility/equipment, have representative people of large and small users (of the population) test it (very important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D76-9251-4EFE-B01D-F545C6FE3B9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 features of tools, facilities, e.g.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comfortable chai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gh she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o low or too high sink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lothes too tight/loose in certain par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quipment with no space to insert repair too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ilure to design equipment, facilities to fit people’s physical dimensions ⇒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 suitable to human u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ysiological disorders, diseas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33040" indent="-2214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poorly designed seats ⇒ back injury, muscle aches, pain: neck + shoulder, leg circulatory problem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: designing tools to fit physical dimensions of people, with emphasis 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ats, seated workst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71E-784B-4D55-9287-85F72B33AB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“measurement of humans for purposes of understanding human physical vari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s measurement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dy dimens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 body physical characteristics, e.g.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olu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enter of grav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sses of body segmen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dy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lies to wider range of design problems (he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ypes of body measure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0320" indent="-22608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ynamic (functiona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ngineer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thropometr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pplying these 2 types of data to designing objec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D4B6-EEB5-458B-BA5F-BEDCAB2C50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measurements taken when body is in fixed (static) 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 of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keletal dimensions (bet. center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 joints e.g. bet. elbow &amp; wris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our dimensions (skin-surf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mensions e.g head circum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dimensions can be measur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NASA Anthropometric Source Book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73 measurements from 91 worldwide survey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mensions applications (many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cific applications (helmets, earphones, glov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neral utility of measuring certain body featur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igure 13-1 + table 13-1 (next 2 slide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FCB-FD90-4053-BD41-84329E46D7A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http://upload.wikimedia.org/wikipedia/commons/3/34/Head-Measurer_of_Tremearne_%28side_view%29.jpg"/>
          <p:cNvPicPr/>
          <p:nvPr/>
        </p:nvPicPr>
        <p:blipFill>
          <a:blip r:embed="rId2"/>
          <a:stretch/>
        </p:blipFill>
        <p:spPr>
          <a:xfrm>
            <a:off x="5943600" y="1523880"/>
            <a:ext cx="3119400" cy="2133720"/>
          </a:xfrm>
          <a:prstGeom prst="rect">
            <a:avLst/>
          </a:prstGeom>
          <a:ln w="0">
            <a:noFill/>
          </a:ln>
        </p:spPr>
      </p:pic>
      <p:sp>
        <p:nvSpPr>
          <p:cNvPr id="420" name="TextBox 6"/>
          <p:cNvSpPr/>
          <p:nvPr/>
        </p:nvSpPr>
        <p:spPr>
          <a:xfrm>
            <a:off x="7010280" y="3657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-measurer”: tool used for research early 1910s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angle 3" descr=""/>
          <p:cNvPicPr/>
          <p:nvPr/>
        </p:nvPicPr>
        <p:blipFill>
          <a:blip r:embed="rId1"/>
          <a:stretch/>
        </p:blipFill>
        <p:spPr>
          <a:xfrm>
            <a:off x="384120" y="79200"/>
            <a:ext cx="8229600" cy="609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gure below: structural (static) body fea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ice: reference can b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round (1), or 2 body parts (11), 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       ends of the same body part (9,13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CD6-DBCF-4BDC-A208-459E000AE9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2514600" y="2664000"/>
            <a:ext cx="3319560" cy="335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5715000" y="4062240"/>
            <a:ext cx="3429000" cy="264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4"/>
          <a:stretch/>
        </p:blipFill>
        <p:spPr>
          <a:xfrm>
            <a:off x="0" y="1447920"/>
            <a:ext cx="2514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3" descr=""/>
          <p:cNvPicPr/>
          <p:nvPr/>
        </p:nvPicPr>
        <p:blipFill>
          <a:blip r:embed="rId1"/>
          <a:stretch/>
        </p:blipFill>
        <p:spPr>
          <a:xfrm>
            <a:off x="384120" y="79200"/>
            <a:ext cx="8229600" cy="609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ble: selected body dimensions and weights of US adult civili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mensions 1-15 shown in last sl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would this compare to Saudi body dimens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factors affect these dimens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is the meaning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of “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ercentil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”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6E8C-4159-4D63-8869-EFC4CA52A3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657600" y="504720"/>
            <a:ext cx="54864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centile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“a value on a scale of 100 that indicates 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percen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of a distribution that is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equal to or below it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s from last slide: male stature (which dim.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 of standing males: 63.7 in (i.e. 162 cm) ⇒ only 5% of males heights (US: 20-60) are ≤ 63.7 i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 of male height: 68.3 in (i.e. 173 cm)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50% of males are shorter (or taller) than 68.3 in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median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of male heights (US: 20-60): 68.3 in (why?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: what is 95 percentile of US male sitting heigh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: what %ge of US females (20-60) weigh &gt; 89.9 kg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nterquartile ran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iddle 50% of distribution: i.e. 2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7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ercenti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measure of vari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460-1F56-4DA1-AC26-83D690341C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Rectangle 3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t. Static Dimens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Percentile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gure below: percentiles in normal “bell” cur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rcentiles = sum of area (∫) under normal cur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E2D7-1022-47C8-A70C-C9B275AD94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PR_and_NCE.gif"/>
          <p:cNvPicPr/>
          <p:nvPr/>
        </p:nvPicPr>
        <p:blipFill>
          <a:blip r:embed="rId2"/>
          <a:stretch/>
        </p:blipFill>
        <p:spPr>
          <a:xfrm>
            <a:off x="0" y="2451240"/>
            <a:ext cx="914400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09-13T15:25:14Z</dcterms:modified>
  <cp:revision>900</cp:revision>
  <dc:subject/>
  <dc:title>Photo Album</dc:title>
</cp:coreProperties>
</file>