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5EA-9DA9-4099-A4E3-40D66C61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176-1F5F-4769-9253-3C744AB2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F2269-8E04-4DE6-B8BE-A9BDB29C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D7C1A-30B2-4F3D-9547-AB83C5B3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E17CE-35D9-4B62-AED9-ED7E00C9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B2937-8DBE-4DE7-88AC-0C5EABF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1C775-1D81-4328-AADC-95F907C3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97152-80C5-4966-9FC3-A17EFFC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1BF88-A214-4035-815C-1E0A2158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3CEC6-FCD5-4DEE-8D2E-BF45D6B8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1A1ED-D8B8-45C3-97B4-293299D5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D06-A830-49ED-8F41-6FB077BC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46D-94F1-4933-9D94-6150BFA3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EBA2-8099-4443-9015-2EE85AA9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2FB2-14E4-4E56-AF37-ADDDB388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3F12-794C-4D54-BDCF-8612E30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16BC-82BD-4DBB-A5B0-ABBBB94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BDEE-C746-492B-B0FF-43DA96B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EAA4-757E-45EE-8984-D7F40B53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6ED9-D31F-4D68-8D50-48C7526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245-F398-4438-8D59-0DAA7AC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2F46-5171-4E96-82A9-E22556C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6F6D-6CEE-479B-AB00-C573BD98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5BC5-01B8-48B7-AF8E-2EB9E2E4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4EA-93B0-4F6B-A2A8-BA87D0A3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994-D110-4583-9196-C05D05C6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54E6-A2AF-49FC-A6DF-88A3A27F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A3B2-AFA2-4A8C-94E7-05FC6D2E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8EE6-2C0F-46A5-803E-225907D1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F94A-3055-47AE-BD4A-CFA4AC14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B3B4-362F-4C1F-BF64-C9333C55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BD5-0EBA-42FC-BD82-B4A5D90B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0F86-651E-4CF7-BC34-A00B977E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0A3E-1F29-409F-8AB3-F0B79AA5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71F4-0523-4259-A63B-A2E0BAAF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A3CF-B769-40D2-A7EC-B9236C9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2415-29EA-4800-BA89-797C174E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EBB0-00CD-4EE5-9B8D-4DAA8C1C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E44C-B7F5-4AA4-884D-B40ECA6B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2F01-6C70-4A3B-9394-A063EC90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77147-A736-47DA-A778-17CA34D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F1F4-C0F7-4F7A-9F6B-4C2ACC7C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65E-34F1-4D20-B951-0D235DAB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E2E9-4D8F-43D7-AA2B-8676762E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4B6D-A6CC-4856-B365-D0BECBA6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C3B3-250D-4E57-80D0-5175073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9AD0-AA33-43EF-98E7-8DD1D6C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9AAE-46F3-4D6C-A5BE-FD2516F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6E44-A94E-411C-8149-E420DC6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739A-9CA2-48A3-853E-FCF28BB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4223-FB05-461C-946A-F803E5D3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3D76-466E-46B7-A0FB-14131CDD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6837-EE54-4141-B6D3-BF3773E4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6A1-E376-4F03-8ECB-4EFC595C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CC5F-559F-43EA-9A6C-F3BC3C7F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5EF5E-53B4-40D6-B6BD-B9D9EF9C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BD69-E9F0-491F-8DAB-729EDE46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A7A2-BD79-416B-9C9B-3CD3BAB2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E3BD-F007-4966-A229-CA69BFF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5E54-9E1E-4979-8467-980E16B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720A-C344-49C8-BA75-B2F49A5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4BC3-D6AD-4188-810C-DE7BF29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F542C-570E-4158-B169-9B43D834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6304-7B7D-4DC0-B703-C2B1ECC2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D2B-2B11-4266-B11B-F1ECDE72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E646-FFF4-42E7-B800-1A9CCEAB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2FD77-3032-483B-AEEF-E615A6CA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934F4-6D90-4B12-8219-0A5B94F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40DE7-2B01-4EDB-A6B6-575E40A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D2A24-1DE1-495C-8112-BB5C7BAF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CEB68-C037-446E-B92D-18AFDADF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ECCE7-B77E-43A3-B494-0AADC114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7C3BC-6700-4B25-A569-9567157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C5334-11EE-404D-91C9-D0A4A83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46DBC-9578-4D5F-AD30-265D22B3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FB5-00EA-443C-B50A-5AEC029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1E7B6-44DD-4068-A876-DC716727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3CBD8-292F-47BE-A347-7C9A7681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3863C-14C7-4172-B474-C87C862B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5DA54-8B56-47BD-9B96-F154B017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0B7BD-802E-45D4-88A9-7ADC40AA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4A2ED-B3FC-4AEE-804F-D4459B52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60D11-E41D-4FB5-88E7-930105A4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23832-FDDC-4EFF-9DD0-750CD7F4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F0B29-08EC-41D9-8016-733A497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3ED8A-2273-4EED-8B95-8A4B0C6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656-E580-4099-B916-58AEDED5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F867A-420A-4EDE-8E5D-DB42F14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438A-C621-41BB-A8B3-4744003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A6515-4B82-4751-8F40-E04D535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05EF-DB29-4533-91FF-1929CBF8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13DE-579C-4CBE-87AA-44C3CB80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41B87-2E82-440B-AE42-7AE9CF9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7B0D99-7D58-4519-B444-BBAE9AB9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F0D6A-3A0E-424A-BFD9-3527E0C6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C1EE5-304C-4DE2-9278-C5DCCC89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BC950-F85B-455C-AD8D-6353C1A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734-3467-4C3E-9B99-1164441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BC676-DF7A-489E-A3F9-A534AA9B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E8CF7-5C3C-458C-989B-193B287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5AB83-9BB4-458A-B8B0-73631DA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5F47E5-7E21-46FF-A4E3-31043C66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8531B-0BF4-41FE-98FE-B85171D6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4EF93-6172-4B45-B97A-CE7E5AF9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9E5F6-B81F-4365-8709-E64D10D6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2D3CD-5466-4DA5-BCF8-B1DE51D7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F2625-D4A2-47FA-A7CA-8B8823A7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9C111-F5E0-4B64-AD87-378F5F15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FE6-638B-4F31-A4A1-3B3F9EFADDD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254-6295-40F7-868A-2F256B78DA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F896-673E-4ECF-B40C-8A48E178B6A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D29F-FE9B-48EB-BF56-979376D344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BE2-D130-405A-849B-2BBA4E715E5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417-2FF1-4327-A759-C72AE17042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75BB-E6F2-4145-9CD9-6EAA915A8CC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FDE8-F435-41AC-900A-8B9C207CB1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8F4-E1AA-4445-89DF-57937BFB778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CA4-15B1-4C02-8819-7B8136DEFA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4F6-C966-4F44-AD6D-1D1D5FB08AC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4FB-1BD8-45BB-A4F0-68DE261022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BBE3-5C9A-4880-A1B6-012F9D4F4D0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EE90-69F4-4FC2-BE40-08980A6475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AB7-833A-4FAE-962A-DCADC5B6AB6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53B-D1D7-48CA-8D1F-2A819EB52A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33E-BA51-46CD-A94D-944BD33D0C3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1636-1CB4-41DC-B8B7-F2CE8BEED5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3520" y="46479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pplied Anthropometry, Work-Space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I – Anthropom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Chapter 1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*(Adapted from Slides by: 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EA05-6C52-4F7C-8EAE-A6E5AEBA62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dy dimensions vary wit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x (males and females): next sli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thnicity (whites, blacks, Asians, etc.): next sli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enerally lengths, heights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until late teens/early 20’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n remain relatively constant through adulthoo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n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↓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: early-middle adulthood into old a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id you know: exception is ear (continues all life long!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ccupation (i.e. job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used by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mposed height and/or weight restric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ysical activity involved in work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elf-selection of applicants for practical reason (?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truck drivers: taller, heavier &gt; general popul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imes: US, Eur. ht.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 cm/decade:1880-1960 (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C4D4-CC6C-4B14-A632-F803FADBD9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Body dimensions varia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ex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left figure): comparison showing overlap in male 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ile with female 9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ile heights (huge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thnic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 (right figure): comparison showing 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ile among different male heigh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2E1-1B35-435A-AF1F-A609FEAB363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76320" y="3100320"/>
            <a:ext cx="4190760" cy="3757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616280" y="3124080"/>
            <a:ext cx="4451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ynamic (Functional)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easurements taken while body is engaged in some physical activity; e.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erating a steering whe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embling a to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aching across the table for salt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dividual body members function mostly in 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.e. all parts are affected together, at the same ti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limit of arm reach invo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rm length, but also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houlder mov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runk rotation (possibl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ack bending (possibl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and func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7A03-F3CD-4C70-9B39-E6511AF1BA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Dynamic (Functional)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matograph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diagram showing interaction of various body memb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below: 3 views (front, side, top) for forklift truck operat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4841-E520-47B8-97D9-CE30370C1F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304920" y="2754360"/>
            <a:ext cx="8610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cussion: Static, Dynam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hropometric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ic data exists » dynamic d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ever, dynamic data: more representative of actual human acti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verting static data to dynamic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 systematic procedure avail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ever, following recommendations are helpfu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ights (stature, eye, shoulder, hip): reduce by 3%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lbow height: no change, or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by 5% if elevated at work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Knee or popliteal height, sitting: no change, except with high-heel sho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ward and lateral reache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↓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y 30 percent for convenienc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y 20 percent for extensive shoulder and trunk mo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ote, these estimates may change: e.g. work condi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50C-69D9-4EB7-BF46-9224914C77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ch anthropometric data to 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ata should be representative of population that would use the designed it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designing for “everyone”⇒ the design features must accommodate as many people as poss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designing for specific groups ⇒ use data for your specific groups; exampl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dult fema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hildr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lderly (senior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ccer play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handicapped (can you name more examples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ote, many specific groups do not yet have available anthropometric dat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CE18-7029-478C-A7AE-4391753687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Principles in Application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ee general princi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applies to different situa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treme Individu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djustable Ran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ver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F462-0C43-4519-A3C9-55947181E3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for Extreme Individual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s shou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t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accommodate everyo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ingle design dimension can b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miting factor restricting use of facility for som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 dictate for max./min. value of variable in ques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ax. popula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u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d if given max/high value of some design feature should accommodate –almost- all peop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s: heights of doorways, strength of supporting devices (e.g. rope ladder, workbench, trapez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in. popula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u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d if given min/low value of some design feature should accommodate –almost- all peop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s: distance of control button from operator; force required to operate the contro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91F7-6234-4F85-9A88-1437F21BEF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for Adjustable Rang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quipment/facilities can have design features: adjustable to individuals who use th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’s: automobile seats, office chairs, foot res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justments (e.g. arm reach) usu. cover range: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femal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9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mal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til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pop. characterist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vers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95%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(not 90%) of 50/50 male/female pop. (?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d when hard to cover extreme cases (100% of pop) due to resulting technical difficulties involv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adjustable range: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referred metho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design, but is not always possible (why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16B6-17A8-4052-8A70-034B6F5295C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514440">
              <a:spcBef>
                <a:spcPts val="400"/>
              </a:spcBef>
              <a:buClr>
                <a:srgbClr val="2da2bf"/>
              </a:buClr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for the Aver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ing for average generally not preferr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t should not just be “quick, easy way out” for desig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re is no “average” pers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 may be average on 1-2 dimensions but almost impossible on more than that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no perfect correlation exists between body dimens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e.g. people with short arms don’t have to have short leg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en it is ok to design for avera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 situations involving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non-critical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work (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n not appropriate to design for extreme cas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re adjustability is impractic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: checkout counter at supermarket built for the average custom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6A2A-9311-4E93-BF63-B59956262E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hropom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ic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ynamic (Functional)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cussion: Static, Dynamic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of Anthropometric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inciples in the Application of Anthropometric D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ing for Extreme Individu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ing for Adjustable Ran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ing for the Avera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iscussion of Anthropometric Design Princip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1FD-2EA8-452F-8B79-2482B9E4EB9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ion of Anthrop. Design Princi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bove principles apply to only single dimens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arm reach (only), or stature height (only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idering &gt; 1 dimension may cause “problem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aking 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– 9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%ile on &gt;1 dimens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eliminates high %ge of popul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n 13 dimen. ⇒ eliminates 52% (not just 10%) (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</a:rPr>
              <a:t>Bittner, ’74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y? no perfect correlation exists bet. body dimens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⇒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mp. to consider body dimension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</a:rPr>
              <a:t>combination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in desig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dding 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or 9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%ile of body segments ≠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rresponding %ile value for combined dimen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e.g. lengths: fingertip to elbow + elbow to shoulder ≠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                  fingertip               to               should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y? (again): no perfect correlation bet. body dimens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uilding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%ile female (ankle height, ankle to crotch, etc.) ⇒ female is 6 in (15.6 cm) &lt; actual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%ile stature!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1A6-573D-4E4A-83FA-094A119F14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Discussion of Anthrop. Design Princi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iculated mod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KA: articulated anthropometri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cale mode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hysical model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(i.e. full-scale mockup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present specific population %i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u. used with work-space desig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(see righ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ote, computer software also exist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 model work-space desig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336-4D3E-46C1-8976-38534A50FA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6162840" y="1638360"/>
            <a:ext cx="2981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ggested Procedure for Using Anth. Da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rmine body dimensions important in desig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application: sitting height or stature heigh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ne population to use facility/equip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stablishes dimensional range to be consider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children, women, Saudi men, world populatio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rmine principle to be appli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extreme individuals, adjustable range, average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%ge of pop. to be accommodated (e.g. 90%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d appropriate anthropometric data tables for chosen population used, extract relevant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d appropriate allowances (e.g. clothing, sho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ild full-scale mock-up of facility/equipment, have representative people of large and small users (of the population) test it (very important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435-CAB5-4000-A167-5BAAA14297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 features of tools, facilities, e.g.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comfortable chai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gh she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o low or too high sink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othes too tight/loose in certain par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quipment with no space to insert repair too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ilure to design equipment, facilities to fit people’s physical dimensions ⇒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suitable to human u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ysiological disorders, diseas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poorly designed seats ⇒ back injury, muscle aches, pain: neck + shoulder, leg circulatory problem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: designing tools to fit physical dimensions of people, with emphasis 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ats, seated workst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92AC-EFC8-4F34-8B82-EC83A23A54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“measurement of humans for purposes of understanding human physical variat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s measurement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ody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ther body physical characteristics, e.g.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olum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enter of grav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sses of body segmen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dy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pplies to wider range of design problems (he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ypes of body measure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ta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ynamic (functiona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ngineer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thropometr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pplying these 2 types of data to designing objec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07EE-CF69-4DF4-A4AE-F871E92408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easurements taken when body is in fixed (static) 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keletal dimensions (bet. center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joints e.g. bet. elbow &amp; wris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our dimensions (skin-surf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mensions e.g head circum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dimensions can be measur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NASA Anthropometric Source Book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73 measurements from 91 worldwide survey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mensions applications (many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cific applications (helmets, earphones, glov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neral utility of measuring certain body featur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igure 13-1 + table 13-1 (next 2 slide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1BB-22F6-42DC-AD55-2DC3EAD3E61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http://upload.wikimedia.org/wikipedia/commons/3/34/Head-Measurer_of_Tremearne_%28side_view%29.jpg"/>
          <p:cNvPicPr/>
          <p:nvPr/>
        </p:nvPicPr>
        <p:blipFill>
          <a:blip r:embed="rId2"/>
          <a:stretch/>
        </p:blipFill>
        <p:spPr>
          <a:xfrm>
            <a:off x="5943600" y="1523880"/>
            <a:ext cx="3119400" cy="2133720"/>
          </a:xfrm>
          <a:prstGeom prst="rect">
            <a:avLst/>
          </a:prstGeom>
          <a:ln w="0">
            <a:noFill/>
          </a:ln>
        </p:spPr>
      </p:pic>
      <p:sp>
        <p:nvSpPr>
          <p:cNvPr id="420" name="TextBox 6"/>
          <p:cNvSpPr/>
          <p:nvPr/>
        </p:nvSpPr>
        <p:spPr>
          <a:xfrm>
            <a:off x="7010280" y="3657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-measurer”: tool used for research early 1910s (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angle 3" descr=""/>
          <p:cNvPicPr/>
          <p:nvPr/>
        </p:nvPicPr>
        <p:blipFill>
          <a:blip r:embed="rId1"/>
          <a:stretch/>
        </p:blipFill>
        <p:spPr>
          <a:xfrm>
            <a:off x="384120" y="79200"/>
            <a:ext cx="8229600" cy="6098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gure below: structural (static) body fea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ice: reference can b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round (1), or 2 body parts (11), o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        ends of the same body part (9,13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AD1-C596-4438-9A28-B4F9FC6655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2514600" y="2664000"/>
            <a:ext cx="3319560" cy="3355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5715000" y="4062240"/>
            <a:ext cx="3429000" cy="264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4"/>
          <a:stretch/>
        </p:blipFill>
        <p:spPr>
          <a:xfrm>
            <a:off x="0" y="1447920"/>
            <a:ext cx="2514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3" descr=""/>
          <p:cNvPicPr/>
          <p:nvPr/>
        </p:nvPicPr>
        <p:blipFill>
          <a:blip r:embed="rId1"/>
          <a:stretch/>
        </p:blipFill>
        <p:spPr>
          <a:xfrm>
            <a:off x="384120" y="79200"/>
            <a:ext cx="8229600" cy="6098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3733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ble: selected body dimensions and weights of US adult civili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mensions 1-15 shown in last sl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would this compare to Saudi body dimens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factors affect these dimens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is the meaning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of “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ercentil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”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8C0F-FFDA-405D-BFDA-0644CE44C23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3657600" y="504720"/>
            <a:ext cx="54864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centile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“a value on a scale of 100 that indicates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ercen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a distribution that is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qual to or below i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s from last slide: male stature (which dim.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percentile of standing males: 63.7 in (i.e. 162 cm) ⇒ only 5% of males heights (US: 20-60) are ≤ 63.7 i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5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percentile of male height: 68.3 in (i.e. 173 cm)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50% of males are shorter (or taller) than 68.3 in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median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of male heights (US: 20-60): 68.3 in (why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: what is 95 percentile of US male sitting heigh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: what %ge of US females (20-60) weigh &gt; 89.9 kg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nterquartile ran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iddle 50% of distribution: i.e. 2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– 7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percenti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is measure of variab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7317-432F-4292-B66C-E448E3E045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Percentile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gure below: percentiles in normal “bell” cur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rcentiles = sum of area (∫) under normal cur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025-2751-4F74-B608-E45B5C9FD9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PR_and_NCE.gif"/>
          <p:cNvPicPr/>
          <p:nvPr/>
        </p:nvPicPr>
        <p:blipFill>
          <a:blip r:embed="rId2"/>
          <a:stretch/>
        </p:blipFill>
        <p:spPr>
          <a:xfrm>
            <a:off x="0" y="2451240"/>
            <a:ext cx="914400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09-13T15:25:14Z</dcterms:modified>
  <cp:revision>900</cp:revision>
  <dc:subject/>
  <dc:title>Photo Album</dc:title>
</cp:coreProperties>
</file>