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0E6C-577B-4F99-B8CC-5B2D75C90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3FC5-25CA-406B-A33E-A8BD1A63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419C-F76E-4C49-89C6-762785671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CD0A-E5CD-4267-AF83-F219233B8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1F23-35E2-4D2A-96A7-4C8AD8BB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098D-2316-47CC-AA24-B795F920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A0DA-0A4D-4F0C-817F-4420B1A5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C3C7-6969-4E16-811A-0E610677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7D7E-B1E1-4405-95B8-4049D291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0725-3CFA-4AA5-B466-AA851416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91A9-2E20-463B-8237-E5AB5295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1A70-3A59-4181-A1C3-7129F344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B77E-7A8B-4DD4-AD43-EC90F26C958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Calibri"/>
                <a:cs typeface="DecoType Naskh Special"/>
              </a:rPr>
              <a:t>النمو الديني والخلقي للأطفال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3152"/>
                </a:solidFill>
                <a:latin typeface="Calibri"/>
              </a:rPr>
              <a:t>المحاضرة الثان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17375e"/>
                </a:solidFill>
                <a:latin typeface="Calibri"/>
                <a:cs typeface="DecoType Naskh Special"/>
              </a:rPr>
              <a:t>النمو الديني للأطفال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عنصر نائب للمحتوى 3" descr="245584134.jpg"/>
          <p:cNvPicPr/>
          <p:nvPr/>
        </p:nvPicPr>
        <p:blipFill>
          <a:blip r:embed="rId1"/>
          <a:stretch/>
        </p:blipFill>
        <p:spPr>
          <a:xfrm>
            <a:off x="2071800" y="1571760"/>
            <a:ext cx="5429160" cy="4643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DecoType Naskh Special"/>
              </a:rPr>
              <a:t>خصائص الشعور الدين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r" rtl="1">
              <a:spcBef>
                <a:spcPts val="10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e46c0a"/>
                </a:solidFill>
                <a:latin typeface="Calibri"/>
                <a:cs typeface="DecoType Naskh Special"/>
              </a:rPr>
              <a:t>ان الدين لاتقتصر آثاره على مرحلة واحدة من مراحل عمر الانسان ..وانما يشمل جميع المراحل 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r" rtl="1">
              <a:spcBef>
                <a:spcPts val="10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b050"/>
                </a:solidFill>
                <a:latin typeface="Calibri"/>
                <a:cs typeface="DecoType Naskh Special"/>
              </a:rPr>
              <a:t>تظهر اهمية النمو الديني في مرحلتي الطفولة والمراهقة حيث يمر الطفل بمرحلة تكوين الشخصية 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r" rtl="1">
              <a:spcBef>
                <a:spcPts val="10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17375e"/>
                </a:solidFill>
                <a:latin typeface="Calibri"/>
                <a:cs typeface="DecoType Naskh Special"/>
              </a:rPr>
              <a:t>وتاثير القيم والسلوك الديني يؤثران بشكل كبير على حياة الفرد الانفعالية وصحته النفسية 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الأنا والمجتمع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604a7b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53735"/>
                </a:solidFill>
                <a:latin typeface="Arial Unicode MS"/>
                <a:cs typeface="Arial Unicode MS"/>
              </a:rPr>
              <a:t>يقصد بكلمة ( الانا ) النفس او الذات المتصلة بشخص ما .. وغير المتصلة بأحد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Arial Unicode MS"/>
                <a:cs typeface="Arial Unicode MS"/>
              </a:rPr>
              <a:t>في سن الثانية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.. </a:t>
            </a:r>
            <a:r>
              <a:rPr b="0" lang="ar-SA" sz="3200" spc="-1" strike="noStrike">
                <a:solidFill>
                  <a:srgbClr val="e46c0a"/>
                </a:solidFill>
                <a:latin typeface="Arial Unicode MS"/>
                <a:cs typeface="Arial Unicode MS"/>
              </a:rPr>
              <a:t>تشتد حالة التعرف على النفس وتمييزها ويسمي نفسه باسمه .. ويسمي جميع الرجال .. </a:t>
            </a:r>
            <a:r>
              <a:rPr b="0" lang="ar-SA" sz="3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بابا </a:t>
            </a:r>
            <a:r>
              <a:rPr b="0" lang="ar-SA" sz="3200" spc="-1" strike="noStrike">
                <a:solidFill>
                  <a:srgbClr val="e46c0a"/>
                </a:solidFill>
                <a:latin typeface="Arial Unicode MS"/>
                <a:ea typeface="Arial Unicode MS"/>
              </a:rPr>
              <a:t>.. وجميع النساء .. </a:t>
            </a:r>
            <a:r>
              <a:rPr b="0" lang="ar-SA" sz="3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ماما </a:t>
            </a:r>
            <a:r>
              <a:rPr b="0" lang="ar-SA" sz="3200" spc="-1" strike="noStrike">
                <a:solidFill>
                  <a:srgbClr val="e46c0a"/>
                </a:solidFill>
                <a:latin typeface="Arial Unicode MS"/>
                <a:ea typeface="Arial Unicode MS"/>
              </a:rPr>
              <a:t>..ويسمي كل طفل .. </a:t>
            </a:r>
            <a:r>
              <a:rPr b="0" lang="ar-SA" sz="3200" spc="-1" strike="noStrike">
                <a:solidFill>
                  <a:srgbClr val="404040"/>
                </a:solidFill>
                <a:latin typeface="Arial Unicode MS"/>
                <a:cs typeface="Arial Unicode MS"/>
              </a:rPr>
              <a:t>بيبي</a:t>
            </a:r>
            <a:r>
              <a:rPr b="0" lang="ar-SA" sz="3200" spc="-1" strike="noStrike">
                <a:solidFill>
                  <a:srgbClr val="e46c0a"/>
                </a:solidFill>
                <a:latin typeface="Arial Unicode MS"/>
                <a:ea typeface="Arial Unicode MS"/>
              </a:rPr>
              <a:t> .. وهو قد بدأ فعلا بالفصل بين ذاته وبين الآخرين ..ويبدأ بتكوين صور عن الأشخاص والأسماء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وفي الثالثة </a:t>
            </a:r>
            <a:r>
              <a:rPr b="0" lang="ar-SA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. يحب أن يسمع حكايات عن الأشخاص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وفي الخامسة </a:t>
            </a:r>
            <a:r>
              <a:rPr b="0" lang="ar-SA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. يحب أن يشعر بأنه كبر .. فيسأل هل يستطيع الصغير أن يفعل ذلك 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وفي السادسة </a:t>
            </a:r>
            <a:r>
              <a:rPr b="0" lang="ar-SA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فهو في حيرة بين طريقين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فهو شديد التمركز حول ذاته ويهتم بنفسه كثيرا ً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وفي نفس مهتماً وقلقاً على المشاركة والأعمال المدرسية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alibri"/>
              </a:rPr>
              <a:t>طفل الثالثة .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10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7375e"/>
                </a:solidFill>
                <a:latin typeface="Calibri"/>
              </a:rPr>
              <a:t>قليل الفهم للموت .. ويقترب اقترابا بسيطاً من مشكلة اصل الحياة و مصادرها .. ويتم ذلك عن طريق اهتمامه بالأطفال فهو يحبهم ويريد أن تحصل الأسرة على طفل ..وقد يسال : من اين يأتي الطفل ؟ .. أين كان قبل ولادته ؟.. وتدل هذه الأسئلة على الاهتمام بالأصول 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10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57120" y="285480"/>
            <a:ext cx="8501040" cy="61434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ar-SA" sz="32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طفل الرابعة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تتكون عنده فكرة محددة عن الموت وان كانت لفظية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ويعتقد أن الأطفال تشترى ، ويعتقد احيانا ان الطفل يولد من سرة الام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ar-SA" sz="32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طفل الخامسة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واقعي من حيث الحياة والموت ..ويربط بين الحركة والحياة .. وبين السكون والموت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0" lang="ar-SA" sz="32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طفل السادسة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يسال اسئلة كثيرة .. ويهتم بالتوالد عند الحيوانات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110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215968"/>
                </a:solidFill>
                <a:latin typeface="Calibri"/>
              </a:rPr>
              <a:t>                        </a:t>
            </a:r>
            <a:r>
              <a:rPr b="1" lang="ar-SA" sz="4400" spc="-1" strike="noStrike">
                <a:solidFill>
                  <a:srgbClr val="215968"/>
                </a:solidFill>
                <a:latin typeface="Calibri"/>
              </a:rPr>
              <a:t>الله والكون .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سادسة والسابعة .. تصبح اهتماماته ابعد من شخصيته الى حد ما .. ويهتم بالبلدان الأجنبية ، ويتسائل عن السماوات والجنات .. وحب استطلاع لما في الكون من الأرض .. والنار .. والرياح .. والجو .. والسحب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وحين يبدأ بالتشكك في تفكير الطفل .. فهذا يعني ان عقله بدأ يشعر بنفسه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ويسأل : لماذا؟ .. كيف؟ .. لست ادري؟.. لا أستطيع 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Program Files\Microsoft Office\MEDIA\CAGCAT10\j0230876.wmf"/>
          <p:cNvPicPr/>
          <p:nvPr/>
        </p:nvPicPr>
        <p:blipFill>
          <a:blip r:embed="rId1"/>
          <a:stretch/>
        </p:blipFill>
        <p:spPr>
          <a:xfrm>
            <a:off x="428760" y="357120"/>
            <a:ext cx="8429400" cy="6215040"/>
          </a:xfrm>
          <a:prstGeom prst="rect">
            <a:avLst/>
          </a:prstGeom>
          <a:ln w="0">
            <a:noFill/>
          </a:ln>
        </p:spPr>
      </p:pic>
      <p:sp>
        <p:nvSpPr>
          <p:cNvPr id="72" name="مستطيل 5"/>
          <p:cNvSpPr/>
          <p:nvPr/>
        </p:nvSpPr>
        <p:spPr>
          <a:xfrm>
            <a:off x="642960" y="571680"/>
            <a:ext cx="807228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70c0"/>
                </a:solidFill>
                <a:latin typeface="Arial"/>
              </a:rPr>
              <a:t>الله والعبادة 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600" spc="-1" strike="noStrike">
                <a:solidFill>
                  <a:srgbClr val="e46c0a"/>
                </a:solidFill>
                <a:latin typeface="Arial"/>
              </a:rPr>
              <a:t> سنوات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.. يعيد تلاوة آية .. يزداد اهتمام بالمسجد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3600" spc="-1" strike="noStrike">
                <a:solidFill>
                  <a:srgbClr val="e46c0a"/>
                </a:solidFill>
                <a:latin typeface="Arial"/>
              </a:rPr>
              <a:t> سنوات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.. يهتم بالإله .. ويكثر الاسئلة عنه ..يعتنق ديانة والديه .. يستمتع بالصلوات 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e46c0a"/>
                </a:solidFill>
                <a:latin typeface="Arial"/>
              </a:rPr>
              <a:t>5</a:t>
            </a:r>
            <a:r>
              <a:rPr b="1" lang="ar-SA" sz="3600" spc="-1" strike="noStrike">
                <a:solidFill>
                  <a:srgbClr val="e46c0a"/>
                </a:solidFill>
                <a:latin typeface="Arial"/>
              </a:rPr>
              <a:t> سنوات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.. استمرار الاهتمام بالاله .. يستطيب الصلاة .. يحب صلاة الجمعة 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e46c0a"/>
                </a:solidFill>
                <a:latin typeface="Arial"/>
              </a:rPr>
              <a:t>6</a:t>
            </a:r>
            <a:r>
              <a:rPr b="1" lang="ar-SA" sz="3600" spc="-1" strike="noStrike">
                <a:solidFill>
                  <a:srgbClr val="e46c0a"/>
                </a:solidFill>
                <a:latin typeface="Arial"/>
              </a:rPr>
              <a:t> سنوات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.. يفهم فكرة الاله كخالق للدنيا والحيوانات .. يعشق قصة النبي ويهتم بها .. يهتم بالكلام عن الملائكة ..الصلاة مهمة .. يشعر بثنائية قوتين .. الجنة والنار .. الخير والشر 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Program Files\Microsoft Office\MEDIA\CAGCAT10\j0284916.jpg"/>
          <p:cNvPicPr/>
          <p:nvPr/>
        </p:nvPicPr>
        <p:blipFill>
          <a:blip r:embed="rId1"/>
          <a:stretch/>
        </p:blipFill>
        <p:spPr>
          <a:xfrm>
            <a:off x="285840" y="357120"/>
            <a:ext cx="8358120" cy="6286680"/>
          </a:xfrm>
          <a:prstGeom prst="rect">
            <a:avLst/>
          </a:prstGeom>
          <a:ln w="0">
            <a:noFill/>
          </a:ln>
        </p:spPr>
      </p:pic>
      <p:sp>
        <p:nvSpPr>
          <p:cNvPr id="74" name="مستطيل 4"/>
          <p:cNvSpPr/>
          <p:nvPr/>
        </p:nvSpPr>
        <p:spPr>
          <a:xfrm>
            <a:off x="4857840" y="2000160"/>
            <a:ext cx="29289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abic Typesetting"/>
                <a:cs typeface="Arabic Typesetting"/>
              </a:rPr>
              <a:t>بداية الشعور الدين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abic Typesetting"/>
                <a:cs typeface="Arabic Typesetting"/>
              </a:rPr>
              <a:t>عند الأطفال </a:t>
            </a:r>
            <a:r>
              <a:rPr b="1" lang="ar-SA" sz="4800" spc="-1" strike="noStrike">
                <a:solidFill>
                  <a:srgbClr val="254061"/>
                </a:solidFill>
                <a:latin typeface="Arabic Typesetting"/>
                <a:ea typeface="Arabic Typesetting"/>
              </a:rPr>
              <a:t>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500040"/>
            <a:ext cx="8229600" cy="585792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بداية الشعور الديني عند الاطفال </a:t>
            </a:r>
            <a:r>
              <a:rPr b="1" lang="ar-SA" sz="3200" spc="-1" strike="noStrike">
                <a:solidFill>
                  <a:srgbClr val="254061"/>
                </a:solidFill>
                <a:latin typeface="Calibri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254061"/>
                </a:solidFill>
                <a:latin typeface="Calibri"/>
              </a:rPr>
              <a:t>تنمو المشاعر الدينية تدريجيا عند الأطفال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254061"/>
                </a:solidFill>
                <a:latin typeface="Calibri"/>
              </a:rPr>
              <a:t>عند التحاقه بالمدرسة يبدأ باكتساب معايير دينية كالحلال والحرام 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254061"/>
                </a:solidFill>
                <a:latin typeface="Calibri"/>
              </a:rPr>
              <a:t>وتثير المسائل الدينية اهتمام الأطفال في سن السادسة ويحتاج إلى ردود تتناسب مع مستوى فهمه وسنه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254061"/>
                </a:solidFill>
                <a:latin typeface="Calibri"/>
              </a:rPr>
              <a:t>وقد يقتنع الطفل قبل المدرسة بالإجابات العابرة ولكن في مرحلة التعليم الأساسي يناقش هذه الإجابات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254061"/>
                </a:solidFill>
                <a:latin typeface="Calibri"/>
              </a:rPr>
              <a:t>ويعتبر الأبوان سببا أساسيا في تمسك الطفل بالعقيدة حين يكونان قدوة حسنة 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5400" spc="-1" strike="noStrike">
                <a:solidFill>
                  <a:srgbClr val="403152"/>
                </a:solidFill>
                <a:latin typeface="Arial Unicode MS"/>
                <a:cs typeface="Arial Unicode MS"/>
              </a:rPr>
              <a:t>يتطلب التخطيط التربوي للفرد والمجتمع معرفة خصائص نمو الطفل في المراحل المختلفة لوضع البرامج الملائمة لنمو جميع جوانب شخصيته نمواً شاملاً متكاملاً .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 fontScale="85000"/>
          </a:bodyPr>
          <a:p>
            <a:pPr marL="291600" indent="-291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ويتأثر الشعور الديني بالنمو العقلي 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ولذلك ففي مرحلة التعليم الابتدائي ينمو الإدراك عند الطفل ويصبح الدين أكثر قبولا من الناحية العقلية عند الطفل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وتعتبر التنشئة الاجتماعية وسيلة من وسائل تنمية الشعور الديني عند الأطفال .. ونمو الرقابة الذاتية على السلوك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والوالد الذي يمارس الضبط بأسلوب دافئ محبب يشجع على تنمية الضمير الداخلي .. أما الضبط بأسلوب عنيف وعقابي فانه ينمي أخلاقا غير مناسبة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428400"/>
            <a:ext cx="8329680" cy="607212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Calibri"/>
              </a:rPr>
              <a:t>الهدي الإسلامي والتوسط والاعتدال في تنشئة الأطفال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3cddd"/>
                </a:solidFill>
                <a:latin typeface="Calibri"/>
              </a:rPr>
              <a:t>الأسلوب الأمثل في التربية الإسلامية للطفل هو التوسط والاعتدال في التنشئة بلا إفراط أو تفريط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Calibri"/>
              </a:rPr>
              <a:t>كما يدعو الإسلام إلى العشرة بين الزوجين بالمعروف وإتاحة الجو المشبع بالحب والأمان والانتماء 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ar-SA" sz="3200" spc="-1" strike="noStrike">
                <a:solidFill>
                  <a:srgbClr val="93cddd"/>
                </a:solidFill>
                <a:latin typeface="Calibri"/>
              </a:rPr>
              <a:t>كما ينبغي تحديد قدرات واستعدادات الطفل وعدم تكليفه بأعمال معينة قبل وصوله للسن المناسب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ar-SA" sz="3200" spc="-1" strike="noStrike">
                <a:solidFill>
                  <a:srgbClr val="e46c0a"/>
                </a:solidFill>
                <a:latin typeface="Calibri"/>
              </a:rPr>
              <a:t>ويجب مراعاة الفروق الفردية بين الأطفال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4000" spc="-1" strike="noStrike">
                <a:solidFill>
                  <a:srgbClr val="0d0d0d"/>
                </a:solidFill>
                <a:latin typeface="Calibri"/>
              </a:rPr>
              <a:t>إن دور الأب في تنشئة الأطفال هو الإنفاق على عياله 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d0d0d"/>
                </a:solidFill>
                <a:latin typeface="Calibri"/>
              </a:rPr>
              <a:t>  والفوائد التي تتحقق من الإنفاق عديدة .. مثل 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d0d0d"/>
                </a:solidFill>
                <a:latin typeface="Calibri"/>
              </a:rPr>
              <a:t>  </a:t>
            </a:r>
            <a:r>
              <a:rPr b="1" lang="ar-SA" sz="4000" spc="-1" strike="noStrike">
                <a:solidFill>
                  <a:srgbClr val="0d0d0d"/>
                </a:solidFill>
                <a:latin typeface="Calibri"/>
              </a:rPr>
              <a:t>1</a:t>
            </a:r>
            <a:r>
              <a:rPr b="1" lang="ar-SA" sz="4000" spc="-1" strike="noStrike">
                <a:solidFill>
                  <a:srgbClr val="0d0d0d"/>
                </a:solidFill>
                <a:latin typeface="Calibri"/>
              </a:rPr>
              <a:t>- إنقاذ الأبناء من الضياع في حال إهمالهم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d0d0d"/>
                </a:solidFill>
                <a:latin typeface="Calibri"/>
              </a:rPr>
              <a:t>  </a:t>
            </a:r>
            <a:r>
              <a:rPr b="1" lang="ar-SA" sz="4000" spc="-1" strike="noStrike">
                <a:solidFill>
                  <a:srgbClr val="0d0d0d"/>
                </a:solidFill>
                <a:latin typeface="Calibri"/>
              </a:rPr>
              <a:t>2</a:t>
            </a:r>
            <a:r>
              <a:rPr b="1" lang="ar-SA" sz="4000" spc="-1" strike="noStrike">
                <a:solidFill>
                  <a:srgbClr val="0d0d0d"/>
                </a:solidFill>
                <a:latin typeface="Calibri"/>
              </a:rPr>
              <a:t>- تنمية الجانب الأخلاقي في سلوك الأبناء عن طريق العفة والقناعة التي لاتحوجهم إلى الآخرين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571320"/>
            <a:ext cx="8229600" cy="5715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8eb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eb4e3"/>
                </a:solidFill>
                <a:latin typeface="Calibri"/>
              </a:rPr>
              <a:t>دور الأم أساسي في حياة الصغار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والحضانة هي حق للأمهات أولاً </a:t>
            </a:r>
            <a:r>
              <a:rPr b="1" lang="ar-SA" sz="3200" spc="-1" strike="noStrike">
                <a:solidFill>
                  <a:srgbClr val="8eb4e3"/>
                </a:solidFill>
                <a:latin typeface="Calibri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الطفل يولد فتثبت عليه </a:t>
            </a:r>
            <a:r>
              <a:rPr b="1" lang="ar-SA" sz="3200" spc="-1" strike="noStrike">
                <a:solidFill>
                  <a:srgbClr val="558ed5"/>
                </a:solidFill>
                <a:latin typeface="Calibri"/>
              </a:rPr>
              <a:t>ثلاث ولايات 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8eb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eb4e3"/>
                </a:solidFill>
                <a:latin typeface="Calibri"/>
              </a:rPr>
              <a:t>1</a:t>
            </a:r>
            <a:r>
              <a:rPr b="1" lang="ar-SA" sz="3200" spc="-1" strike="noStrike">
                <a:solidFill>
                  <a:srgbClr val="8eb4e3"/>
                </a:solidFill>
                <a:latin typeface="Calibri"/>
              </a:rPr>
              <a:t>- ولاية التربية الأولى 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: وهي الفترة التي لايستطيع ان يقوم فيها بحاجاته بنفسه وهي الحضان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8eb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eb4e3"/>
                </a:solidFill>
                <a:latin typeface="Calibri"/>
              </a:rPr>
              <a:t>2</a:t>
            </a:r>
            <a:r>
              <a:rPr b="1" lang="ar-SA" sz="3200" spc="-1" strike="noStrike">
                <a:solidFill>
                  <a:srgbClr val="8eb4e3"/>
                </a:solidFill>
                <a:latin typeface="Calibri"/>
              </a:rPr>
              <a:t>- الولاية الثانية 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: ولاية الحفظ والصيانة والتعليم : وهي الولاية على النفس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8eb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eb4e3"/>
                </a:solidFill>
                <a:latin typeface="Calibri"/>
              </a:rPr>
              <a:t>3</a:t>
            </a:r>
            <a:r>
              <a:rPr b="1" lang="ar-SA" sz="3200" spc="-1" strike="noStrike">
                <a:solidFill>
                  <a:srgbClr val="8eb4e3"/>
                </a:solidFill>
                <a:latin typeface="Calibri"/>
              </a:rPr>
              <a:t>- الولاية الثالثة 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: تدبير شؤون ماله اذا ماكان له مال ، وهذه تسمى الولاية على المال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428760"/>
            <a:ext cx="8229600" cy="60004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 fontScale="84000"/>
          </a:bodyPr>
          <a:p>
            <a:pPr marL="288000" indent="-288000" algn="r" rtl="1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Calibri"/>
              </a:rPr>
              <a:t>تطور المفاهيم الدينية عند الأطفال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Calibri"/>
              </a:rPr>
              <a:t>الأطفال في طفولتهم المبكرة لايدركون المعاني والمفاهيم الدينية كالكبار لان مستواهم العقلي ومدى نضجهم لايسمح لهم باستيعاب المفاهيم الدينية وفهمها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Calibri"/>
              </a:rPr>
              <a:t>وهم يفهمون من الدين المدركات الحسية فقط .. ومع تطور فهمهم وانتقالهم إلى مرحلة الطفولة المتاخرة تبدأ المدركات المجردة كالصدق والأمانة والخير والشر بالاتضاح لديهم 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Calibri"/>
              </a:rPr>
              <a:t>ويستمد الطفل كثيرا من سلوكه الديني من القصص التي يسمعها من الأبوين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Calibri"/>
              </a:rPr>
              <a:t>وتعد مرحلتي الطفولة المبكرة والوسطى هما مرحلتي الحكايات والقصص الديني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وتميل اغلب أسئلة الطفل في مرحلتي الطفولة المبكرة والوسطى إلى النواحي الغريبة في العقائد الدينية السائدة عن الموت والبعث والولادة 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وتعتبر حوادث الموت التي تقع دون ان تكون للدوافع الإنسانية دخل فيها من الحوادث التي تسترعي انتباه الأطفال ولذا لابد من تعليلها لهم بأنها إرادة عليا فوق إرادة البشر 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وتبعا لأساليب التربية التي تستخدم معه تختلف فكرة الطفل عن الله جل جلاله ... ويقوى إيمانه بمشاهدة أبويه وتقليدهما بالصلاة والدعاء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558ed5"/>
                </a:solidFill>
                <a:latin typeface="Arial Unicode MS"/>
                <a:cs typeface="Arial Unicode MS"/>
              </a:rPr>
              <a:t>معنى النمو 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النمو عملية تغير تتميز بها الكائنات الحية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وهي عملية طبيعية مستمرة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فالإنسان ينمو .. 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صورة 3" descr="انسان.jpg"/>
          <p:cNvPicPr/>
          <p:nvPr/>
        </p:nvPicPr>
        <p:blipFill>
          <a:blip r:embed="rId1"/>
          <a:stretch/>
        </p:blipFill>
        <p:spPr>
          <a:xfrm>
            <a:off x="500040" y="3429000"/>
            <a:ext cx="4857840" cy="28576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44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والحيوان ينمو 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والنبات ايضا ينمو 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صورة 3" descr="نبات.gif"/>
          <p:cNvPicPr/>
          <p:nvPr/>
        </p:nvPicPr>
        <p:blipFill>
          <a:blip r:embed="rId1"/>
          <a:stretch/>
        </p:blipFill>
        <p:spPr>
          <a:xfrm>
            <a:off x="2000160" y="3071880"/>
            <a:ext cx="51436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77933c"/>
                </a:solidFill>
                <a:latin typeface="Arial Unicode MS"/>
                <a:cs typeface="Arial Unicode MS"/>
              </a:rPr>
              <a:t>الكائنات الحية و سرعة النمو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04a7b"/>
                </a:solidFill>
                <a:latin typeface="Arial Unicode MS"/>
                <a:cs typeface="Arial Unicode MS"/>
              </a:rPr>
              <a:t>تختلف الكائنات الحية في سرعة النمو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04a7b"/>
                </a:solidFill>
                <a:latin typeface="Arial Unicode MS"/>
                <a:cs typeface="Arial Unicode MS"/>
              </a:rPr>
              <a:t>وتختلف </a:t>
            </a:r>
            <a:r>
              <a:rPr b="0" lang="ar-SA" sz="32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سرعة النمو </a:t>
            </a:r>
            <a:r>
              <a:rPr b="0" lang="ar-SA" sz="3200" spc="-1" strike="noStrike">
                <a:solidFill>
                  <a:srgbClr val="604a7b"/>
                </a:solidFill>
                <a:latin typeface="Arial Unicode MS"/>
                <a:cs typeface="Arial Unicode MS"/>
              </a:rPr>
              <a:t>من مرحلة الى اخرى في الحياة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04a7b"/>
                </a:solidFill>
                <a:latin typeface="Arial Unicode MS"/>
                <a:cs typeface="Arial Unicode MS"/>
              </a:rPr>
              <a:t>تتميز مرحلة الطفولة </a:t>
            </a:r>
            <a:r>
              <a:rPr b="0" lang="ar-SA" sz="32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المبكرة</a:t>
            </a:r>
            <a:r>
              <a:rPr b="0" lang="ar-SA" sz="3200" spc="-1" strike="noStrike">
                <a:solidFill>
                  <a:srgbClr val="604a7b"/>
                </a:solidFill>
                <a:latin typeface="Arial Unicode MS"/>
                <a:ea typeface="Arial Unicode MS"/>
              </a:rPr>
              <a:t> بسرعة النمو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04a7b"/>
                </a:solidFill>
                <a:latin typeface="Arial Unicode MS"/>
                <a:cs typeface="Arial Unicode MS"/>
              </a:rPr>
              <a:t>و تتميز مرحلة الطفولة </a:t>
            </a:r>
            <a:r>
              <a:rPr b="0" lang="ar-SA" sz="32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المتأخرة</a:t>
            </a:r>
            <a:r>
              <a:rPr b="0" lang="ar-SA" sz="3200" spc="-1" strike="noStrike">
                <a:solidFill>
                  <a:srgbClr val="604a7b"/>
                </a:solidFill>
                <a:latin typeface="Arial Unicode MS"/>
                <a:ea typeface="Arial Unicode MS"/>
              </a:rPr>
              <a:t> ببطء النمو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صورة 3" descr="الحمل.jpg"/>
          <p:cNvPicPr/>
          <p:nvPr/>
        </p:nvPicPr>
        <p:blipFill>
          <a:blip r:embed="rId1"/>
          <a:stretch/>
        </p:blipFill>
        <p:spPr>
          <a:xfrm>
            <a:off x="5000760" y="2928960"/>
            <a:ext cx="1714320" cy="1428840"/>
          </a:xfrm>
          <a:prstGeom prst="rect">
            <a:avLst/>
          </a:prstGeom>
          <a:ln w="0">
            <a:noFill/>
          </a:ln>
        </p:spPr>
      </p:pic>
      <p:pic>
        <p:nvPicPr>
          <p:cNvPr id="52" name="صورة 4" descr="الرضاعة.jpg"/>
          <p:cNvPicPr/>
          <p:nvPr/>
        </p:nvPicPr>
        <p:blipFill>
          <a:blip r:embed="rId2"/>
          <a:stretch/>
        </p:blipFill>
        <p:spPr>
          <a:xfrm>
            <a:off x="2928960" y="3000240"/>
            <a:ext cx="1533600" cy="1357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66"/>
                </a:solidFill>
                <a:latin typeface="Arial Unicode MS"/>
                <a:cs typeface="Arial Unicode MS"/>
              </a:rPr>
              <a:t>النمو هو محصلة لتفاعل ثلاثة عوامل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ar-SA" sz="4800" spc="-1" strike="noStrike">
                <a:solidFill>
                  <a:srgbClr val="984807"/>
                </a:solidFill>
                <a:latin typeface="Arial Unicode MS"/>
                <a:cs typeface="Arial Unicode MS"/>
              </a:rPr>
              <a:t>الفطرة .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1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1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984807"/>
                </a:solidFill>
                <a:latin typeface="Arial Unicode MS"/>
                <a:ea typeface="Arial Unicode MS"/>
              </a:rPr>
              <a:t>             الوراثة.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1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1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984807"/>
                </a:solidFill>
                <a:latin typeface="Arial Unicode MS"/>
                <a:ea typeface="Arial Unicode MS"/>
              </a:rPr>
              <a:t>            البيئة .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17375e"/>
                </a:solidFill>
                <a:latin typeface="Arial Unicode MS"/>
                <a:cs typeface="Arial Unicode MS"/>
              </a:rPr>
              <a:t>العوامل الفطرية هي</a:t>
            </a:r>
            <a:r>
              <a:rPr b="0" lang="ar-SA" sz="4400" spc="-1" strike="noStrike">
                <a:solidFill>
                  <a:srgbClr val="17375e"/>
                </a:solidFill>
                <a:latin typeface="Arial Unicode MS"/>
                <a:ea typeface="Arial Unicode MS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66"/>
                </a:solidFill>
                <a:latin typeface="Arial Unicode MS"/>
                <a:cs typeface="Arial Unicode MS"/>
              </a:rPr>
              <a:t>مايزود به الفرد من قابليات .. ويشترك فيه مع جميع افراد جنسه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10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17375e"/>
                </a:solidFill>
                <a:latin typeface="Arial Unicode MS"/>
                <a:cs typeface="Arial Unicode MS"/>
              </a:rPr>
              <a:t>الوراثة هي 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66"/>
                </a:solidFill>
                <a:latin typeface="Arial Unicode MS"/>
                <a:cs typeface="Arial Unicode MS"/>
              </a:rPr>
              <a:t>انتقال بعض الصفات الوراثية الى الفرد من ابويه عن طريق الجينات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10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17375e"/>
                </a:solidFill>
                <a:latin typeface="Arial Unicode MS"/>
                <a:cs typeface="Arial Unicode MS"/>
              </a:rPr>
              <a:t>البيئة هي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66"/>
                </a:solidFill>
                <a:latin typeface="Arial Unicode MS"/>
                <a:cs typeface="Arial Unicode MS"/>
              </a:rPr>
              <a:t>جميع المؤثرات التي يتلقاها الفرد وتؤثر فيه منذ بدء حياته وحتى مماته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b050"/>
                </a:solidFill>
                <a:latin typeface="Arial Unicode MS"/>
                <a:cs typeface="Arial Unicode MS"/>
              </a:rPr>
              <a:t>ويتضمن النمو ..جميع مظاهر التغير التي يمر بها الإنسان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b050"/>
                </a:solidFill>
                <a:latin typeface="Arial Unicode MS"/>
                <a:cs typeface="Arial Unicode MS"/>
              </a:rPr>
              <a:t>من تغيرات .. جسمية .. وعقلية .. وانفعالية ..واجتماعية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 Unicode MS"/>
                <a:cs typeface="Arial Unicode MS"/>
              </a:rPr>
              <a:t>وهناك مظهران للتغير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Arial Unicode MS"/>
                <a:cs typeface="Arial Unicode MS"/>
              </a:rPr>
              <a:t>مظهر كمي </a:t>
            </a:r>
            <a:r>
              <a:rPr b="0" lang="ar-SA" sz="3200" spc="-1" strike="noStrike">
                <a:solidFill>
                  <a:srgbClr val="00b050"/>
                </a:solidFill>
                <a:latin typeface="Arial Unicode MS"/>
                <a:ea typeface="Arial Unicode MS"/>
              </a:rPr>
              <a:t>.. الطفل يكبر وينمو .. ويكبر في الحجم والصفات والخصائص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Arial Unicode MS"/>
                <a:cs typeface="Arial Unicode MS"/>
              </a:rPr>
              <a:t>مظهر كيفي </a:t>
            </a:r>
            <a:r>
              <a:rPr b="0" lang="ar-SA" sz="3200" spc="-1" strike="noStrike">
                <a:solidFill>
                  <a:srgbClr val="00b050"/>
                </a:solidFill>
                <a:latin typeface="Arial Unicode MS"/>
                <a:ea typeface="Arial Unicode MS"/>
              </a:rPr>
              <a:t>.. ينمو جهازه العصبي ..وينمو تفكيره .. وانفعالاته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Calibri"/>
              </a:rPr>
              <a:t>النمو وجوانب الشخصية 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عنصر نائب للمحتوى 3" descr="ffff.jpg"/>
          <p:cNvPicPr/>
          <p:nvPr/>
        </p:nvPicPr>
        <p:blipFill>
          <a:blip r:embed="rId1"/>
          <a:stretch/>
        </p:blipFill>
        <p:spPr>
          <a:xfrm>
            <a:off x="357120" y="1600200"/>
            <a:ext cx="8358120" cy="4829040"/>
          </a:xfrm>
          <a:prstGeom prst="rect">
            <a:avLst/>
          </a:prstGeom>
          <a:ln w="0">
            <a:noFill/>
          </a:ln>
        </p:spPr>
      </p:pic>
      <p:sp>
        <p:nvSpPr>
          <p:cNvPr id="60" name="مستطيل 5"/>
          <p:cNvSpPr/>
          <p:nvPr/>
        </p:nvSpPr>
        <p:spPr>
          <a:xfrm>
            <a:off x="500040" y="1714680"/>
            <a:ext cx="8001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لايحدث النمو في جميع جوانب الشخصية بنفس المعدل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تنمو الخصائص الجسمية والعقلية والانفعالية والاجتماعية بمعدلات متفاوتة .. ولكن 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طفل سريع النمو يكون نموه سريعا بالنسبة لغيره من الاطفال في مختلف النواحي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طفل بطئ النمو يكون نموه بطيئا في مختلف الصفات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لكل طفل سرعته الخاصة في النمو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وهذا يؤدي الى ظاهرة الفروق الفردية بين الاطفال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1T13:20:00Z</dcterms:created>
  <dc:creator>vista</dc:creator>
  <dc:description/>
  <dc:language>en-US</dc:language>
  <cp:lastModifiedBy>DELL</cp:lastModifiedBy>
  <dcterms:modified xsi:type="dcterms:W3CDTF">2011-12-11T16:51:33Z</dcterms:modified>
  <cp:revision>50</cp:revision>
  <dc:subject/>
  <dc:title>الشريحة 1</dc:title>
</cp:coreProperties>
</file>