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2EE-874C-4EFC-973A-D8A26BD0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F3E-C12B-4F4F-BC8D-91E76FF0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8B42E-DFAA-4F90-8597-15D5B38F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41744-5065-4D5B-88A5-4C7C9D53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4A457-230D-4F31-BCD7-14B8D500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F7ACF-4598-4C81-A52C-D879775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5F42A-9753-433E-AEB4-3F63935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95C60-81CE-4C1B-96BC-2708850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E2EB4-C666-467F-B957-A71EDD98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C65BB6-8DD8-4EA7-9FE4-613A61F6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1CEC7-E7CE-4898-B313-E6C7AA79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7EC-C3A0-40AF-966E-60840A56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07A-F38D-4DB8-83D0-2493D44C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69FB-DE9F-4424-BC22-2BF8D9A3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FEB59-3D7E-4FFC-A6AB-D45074A8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B0B3-6E66-4E73-9E9D-AD5B6CD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7B515-4AF8-4BBF-8DA3-51EDD8E2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4A03D-792F-4299-8DEE-6BCFA43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F012-DE00-4BB7-B99E-086C4199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C9DD4-F325-4A41-BA7C-2078B921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056-7879-4AB2-A314-307EB20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4D524-E967-41A8-89C7-E9C7BA6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BAFA3-DDCA-4F21-A116-0526066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B2177-9F07-4A66-9B44-8EFE734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8C78-EC75-4FCD-A028-CF898511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A16B-C8D9-4CB6-BB3A-AF3956C1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7E28-E1F7-4271-91C1-244E395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6583-86BA-4ECB-9EB4-25FAAA7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898F-AF56-490F-9E0A-3FD523C0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31CA-B45B-424B-B383-DE1019AE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2E61-DA40-46BA-98A2-11C1821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575-6AFC-462A-A81A-5BFA8EB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F4F9-CCF4-4D8C-B9F3-9297845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AC96-8E71-4DC3-80B0-3AB0CE8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8EF7-3F37-4EE6-BDE8-D6224D3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FDCA-BE49-4A4A-9062-CFB603BA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A83A-598B-44F0-AC0E-02DC0C9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4042-C71D-438F-87BF-A69F3E29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7A98-7FDF-428A-9159-2D9ABD05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8E9DA-02DC-47AB-A211-C04006C4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FD439-9A73-4048-8BA1-EE8315B6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633B0-0FEE-4883-A750-3D7EED25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25A-7F97-4434-9FC3-9DF0793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DEEF9-26C1-4C35-A142-0F7E89C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6E7C2-11F8-4ACF-8F8F-BA2AD547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CC9A1-C857-4995-AB88-9E746BD8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824C6-4078-48F7-8761-C9D200E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1FD69-1823-4968-909E-9E199B0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45D6C-2787-4673-84C2-7B1224F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8A632-57B2-4C10-A5AD-62873A3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C4BBD-2162-4CCE-B387-8F2A43C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E6EE8-FDC7-45B1-A110-B4520D87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A17C-7EBD-4F0D-A671-64BA098A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108-2DC1-41E3-AB8E-8F09E31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4158-775E-410E-86FE-6C70C438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EE2E-1087-4274-B5DA-489DF01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C93A-C33F-453E-87F0-7BA6210C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D120-01E9-438C-907C-B644411B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80AA-F470-4C45-96EB-7BA707A7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3D021-697A-4178-B024-4BB0D5A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6D170-8684-4825-A128-B8CF556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4EAD2-8A4C-49FF-876D-C31194C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3830-9D76-43E4-B59E-7E52034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D77A-3EFE-4DFA-9707-1E28FA9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839-BFCE-44A0-8E6E-6424970D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C28D-88BC-491E-BBD0-C541F77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BDA73-1BED-49F8-9ED2-F129951C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07CC-BD6C-41F8-B3AB-0FDAC88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5BD7-2CEC-46BB-B986-A0DF14A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39A98-24A8-442C-A5F7-7E713F1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322CF-A6B8-4C34-8E98-56D8075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C36D-E9B9-4160-8F5B-0BE0027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9E8A-9C6E-49FD-BB78-95B610D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329A-9D7C-4F2D-96D1-BE2B253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6A2D-B0B7-4DC5-B8C0-0D11B89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CFF-531C-4206-8081-947ED01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318C-FD4A-466D-97FA-AC0BD288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E5AB-3C97-4458-8B4F-48F5C8A8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7085-D657-40EE-86CB-FDB4BD7C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F752-5531-4045-86BD-29C1AA3C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D2B68-670B-4C16-B741-D48F206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132F-F05B-4227-A155-AF4C75C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748DA-58D3-4206-A968-5F7F26E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B7B49-D6B4-4B33-B5C3-5A70DE2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B945-7923-4588-A538-A33111A3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AF28-59B2-4C55-867A-A208948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CBA-5F7B-42DC-A3FD-FF890E8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73FA-7ACB-42D2-922F-2C6A9C5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9B9F-34CD-44E9-BD5D-2EC88F1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3174-7209-4FBD-B480-FD9536FC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F5469-52B3-4140-A45E-82161CD6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0408-380D-4AB3-A003-A672E72F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3464AE-B8AF-440C-A4AA-C2685AA0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A8A46-0D14-44DB-BBC3-BCB5EF21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F174D-087E-40E4-A8F9-F7D57BB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B8219-1A5B-45C5-A260-E603792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4FB2F-AF8A-4A72-9012-5A0C2E0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325-459E-4E4B-929D-30B7A88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A57BF5-B6CB-43E6-940A-3BBA73C7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A6D96-7F82-4E60-983D-AAE836C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30E29-782B-4D2C-B351-E7AC12C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AD52F-8846-4F22-B7CC-A62562B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5C6A2-DD62-442F-B70D-BC9FE5F5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60E3F-AB1B-49B5-AD1F-4DB837FA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F66FA9-6C7D-4E24-BD5A-19AEC553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E52EF-9D22-490C-9355-96C297C8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20196-BEFA-4CD6-85F6-815F9FF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D37F7-374C-467E-8979-AD0D528C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6A5D-ABC4-4F7B-A1DE-BFD63DCA2C94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ذو زوايا قطرية مستديرة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مستطيل ذو زوايا قطرية مستديرة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97F9-A738-4670-89FE-20EEEB4062DF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368-B573-428E-9ED4-3DB377C090F4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75A-A7CC-4740-A3BB-BCCA0B119DDB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95B4-1523-48A8-BCAE-45D47EA64FAD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مستطيل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7C27-9D96-4F92-A39B-B6F3D368E1B6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C9C4-E2A5-40E7-8E00-218C42A2447B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مستطيل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00E-CD52-4BF9-AE98-57768136ED32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B2F3-DAAF-46C8-90C5-9EAF92854777}" type="slidenum">
              <a:rPr b="0" lang="ar-S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مربع نص 3"/>
          <p:cNvSpPr/>
          <p:nvPr/>
        </p:nvSpPr>
        <p:spPr>
          <a:xfrm>
            <a:off x="2333880" y="2421000"/>
            <a:ext cx="465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2060"/>
                </a:solidFill>
                <a:latin typeface="Arial"/>
                <a:cs typeface="Arial"/>
              </a:rPr>
              <a:t>التنف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64000" y="414972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Respi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79280" y="78624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ial"/>
              </a:rPr>
              <a:t>التنفس عمليه حيوية طبيعية تقوم بها الكائنات الحية نهاراً وليلاً وبها تتحطم المركبات العضوية المعقدة إلى مركبات غير عضويه بسيطة وبذلك تنطلق الطاقة التي تستغل في أنشطة الكائن الح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83808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  <a:cs typeface="Arial"/>
              </a:rPr>
              <a:t>التنف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332000" y="3286080"/>
            <a:ext cx="752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b0f0"/>
                </a:solidFill>
                <a:uFillTx/>
                <a:latin typeface="Arial"/>
              </a:rPr>
              <a:t>ويوجد نوعان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Arial"/>
              </a:rPr>
              <a:t>تنفس هوائي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ff33"/>
                </a:solidFill>
                <a:latin typeface="Arial"/>
              </a:rPr>
              <a:t>تنفس لا هوائ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7" descr="FS_371"/>
          <p:cNvPicPr/>
          <p:nvPr/>
        </p:nvPicPr>
        <p:blipFill>
          <a:blip r:embed="rId2"/>
          <a:stretch/>
        </p:blipFill>
        <p:spPr>
          <a:xfrm>
            <a:off x="611280" y="2997360"/>
            <a:ext cx="259848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250920" y="253800"/>
            <a:ext cx="86421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f0"/>
                </a:solidFill>
                <a:latin typeface="Arial"/>
              </a:rPr>
              <a:t>التنفس الهوائ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في وجود أكسجين الهواء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فيه تنطلق الطاقة نتيجة لأكسدة المركبات العضوية كالسكريات والمعادلة التالية توضح ذلك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6 H12 O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O2        6CO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6H2O + 674 Kg.C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50920" y="3314520"/>
            <a:ext cx="87138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b0f0"/>
                </a:solidFill>
                <a:latin typeface="Arial"/>
              </a:rPr>
              <a:t>التنفس اللاهوائي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يتم هذا النوع بمعزل عن الهواء الجوي وناتج التفاعل ثاني أكسيد الكربون وكحول أيثيلي وطاق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كن الطاقة المنطلقة تكون ضئيل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6 H12 O6            2CO2 + 2C2 H5 OH + 25 Kg.C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2050920" y="5950080"/>
            <a:ext cx="719280" cy="215640"/>
          </a:xfrm>
          <a:prstGeom prst="rightArrow">
            <a:avLst>
              <a:gd name="adj1" fmla="val 38231"/>
              <a:gd name="adj2" fmla="val 116605"/>
            </a:avLst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2781360"/>
            <a:ext cx="576000" cy="216000"/>
          </a:xfrm>
          <a:prstGeom prst="rightArrow">
            <a:avLst>
              <a:gd name="adj1" fmla="val 38231"/>
              <a:gd name="adj2" fmla="val 93222"/>
            </a:avLst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2"/>
          <a:stretch/>
        </p:blipFill>
        <p:spPr>
          <a:xfrm>
            <a:off x="1652760" y="176040"/>
            <a:ext cx="6875280" cy="1176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-108000" y="522720"/>
            <a:ext cx="896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ضري أربع زجاجات وول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ضعي في الزجاجة الأولى محلول هيدروكسيد الصوديوم المركز وفي الثانية ضعي محلول هيدروكسيد الباريوم وفي الثالثة ضعي حوالي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ذرة نابتة وقليل من الماء وفي الرابعة ضعي محلول هيدروكسيد الباريو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صلي الزجاجات مع غلقه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صلي الزجاجة الرابعة بمضخة ساحبة للهواء وتأكدي من أن التجربة تعمل بكفاء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خدمي الفازلين إذا لزم الأمر ( في حالة تسرب الهواء إلى الخارج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266760" y="4437000"/>
            <a:ext cx="86090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660240" y="27900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نطلاق الحرارة أثناء عملية التنفس  </a:t>
            </a:r>
            <a:r>
              <a:rPr b="1" lang="hi-IN" sz="4400" spc="-1" strike="noStrike">
                <a:solidFill>
                  <a:srgbClr val="c00000"/>
                </a:solidFill>
                <a:latin typeface="Arial"/>
              </a:rPr>
              <a:t>عر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1960560" y="1567440"/>
            <a:ext cx="6969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دد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رمو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ذور نابت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ذور سبق غلي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رمومتر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ورمالين أو محلول كلوريد الزئبقي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gC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3609720"/>
            <a:ext cx="88725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ضعي حوالي </a:t>
            </a:r>
            <a:r>
              <a:rPr b="1" lang="ar-SA" sz="2400" spc="-1" strike="noStrike">
                <a:solidFill>
                  <a:srgbClr val="00b0f0"/>
                </a:solidFill>
                <a:latin typeface="Arial"/>
              </a:rPr>
              <a:t>5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ن البذور النابتة في الترمس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ع قليل من الم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ضعي نفس الكمية من البذور التي سبق غليها في الترمس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ع قليل من الفورمالين أو محلول كلوريد الزئبقيك  لمنع نمو البكتيري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دخلي ترمومترين في سدادتين وغطي الترمسين وتترك التجربه تعم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32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-356400" y="742680"/>
            <a:ext cx="103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ستهلاك المادة الغذائية من عملية التنفس     </a:t>
            </a:r>
            <a:r>
              <a:rPr b="1" lang="hi-IN" sz="4000" spc="-1" strike="noStrike">
                <a:solidFill>
                  <a:srgbClr val="c00000"/>
                </a:solidFill>
                <a:latin typeface="Arial"/>
              </a:rPr>
              <a:t>للطالب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822840" y="1857240"/>
            <a:ext cx="45766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ذ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طباق بت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0" y="398520"/>
            <a:ext cx="8785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تؤخذ بذور جافة متساوية تقريباً في الحجم بذور</a:t>
            </a:r>
            <a:r>
              <a:rPr b="1" lang="ar-SA" sz="24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وتقسم إلى مجموعتين متساويتين  </a:t>
            </a:r>
            <a:r>
              <a:rPr b="1" lang="ar-SA" sz="24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ذورفي كل مجموع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يؤخذ الوزن الأول للبذور " الوزن الإبتدائي " ثم توضع المجموعة الأولى في فرن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أيام عند درجة حرار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 وذلك لتقدير الوزن الجا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لمجموعة الأخرى يؤخذ لها الوزن الإبتدائي ثم تغسل وتنقع في الماء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ساع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تنقل بعدها إلى أطباق بتري التي تحتوي على قطن وتنبت لمد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أيام في الظلام الت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بعد النمو في الظلام تؤخذ البادرات الكاملة وتجفف في الفرن لنحصل على الوزن الجاف للبذور بعد النمو في الظل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8:59:28Z</dcterms:created>
  <dc:creator>HELP</dc:creator>
  <dc:description/>
  <dc:language>en-US</dc:language>
  <cp:lastModifiedBy>pc</cp:lastModifiedBy>
  <dcterms:modified xsi:type="dcterms:W3CDTF">2017-11-16T06:17:27Z</dcterms:modified>
  <cp:revision>55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