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4ED-D503-4317-BE45-20F917CD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E37-93C4-4853-A1FC-052F782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A7569-A63D-482F-AB3D-04B78ADA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219AB-952A-4FCD-A300-03EA974B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1489F-E89A-46A7-A483-3F91F810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FE26E-CFF1-43B6-A865-8FA752D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2B0279-8E2A-46BA-8BFD-A6DAFBD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223F3-EF75-48F7-AE5B-91E46B2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0C019-4D43-4E24-8ACA-95ECF65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BF786-A22F-43D9-8527-43878E1F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7A361-E17B-4A79-BA58-9F22D91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DAE-118F-464D-8ADE-91277708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340-2972-4184-A385-3A3B2EBD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3CFA-8213-4FCD-B6BC-C28774CC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33BC9-D2ED-42D6-98FE-B860AA1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89A6-A165-4086-B720-5E0B0A7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BE061-2281-4E3B-B4AA-BA68496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5572-A847-4C9C-8576-B0377027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313DB-9F7B-414D-9981-E0CD53A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0ADE-67DE-4811-8710-6774559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015-F31F-44B6-9DF1-7E5D848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FC351-E112-4A1F-8E8C-677C729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A33F-9B21-485B-B8AA-55E42FD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F47B-5B8E-46BE-BE23-4C1EF5E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8B1D3-71D3-4CBA-8EAC-1B5E2F56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4FC36-92C9-4717-BB81-DF3D1A13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54E2-EDA5-405B-862E-8FA413D3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17C5-86F3-455D-B2B6-F155F01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1868-C91E-4DB1-8341-AEAFD66C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D5B1-17C0-48F3-A901-54DD22E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3BC6-619A-4368-AEF0-C3EC71E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45C-F2D5-4E18-B979-C262A560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1588-7EFB-4836-B00D-106C9D15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8ED7-1A29-45E9-9616-5452A17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2DFB-C108-4166-A90B-2D193AC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AFD2-A2AC-405C-B075-18A87D56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14A0-C2D0-49A9-8869-4942B481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6F4D-6CE4-4178-930C-1513462F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88D1-C62A-437B-AD30-D9A7BD47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921F7-5884-4329-8AE8-974463E7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9B982-9847-41DD-93AC-4A9C4031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256EC-4A8F-4ED8-BAB0-03B3DBA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833-827E-4C79-9624-990E1E1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DE37C-0EA7-4847-BAB5-091B86B8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74D95-F67F-4C10-9444-FC3C0AB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F3E9F-785D-4259-B4EC-95C7EA0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75F91-A5D4-4A47-91F3-898A24C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87625-1909-44D5-8A0B-B713F34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363A9-54D4-4DEF-BED7-C5F2103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131D0-C7D0-45EC-8890-88160A7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1E9F4-E0B2-4564-892E-0108571B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2496E-7D3F-49E4-96D0-0443B60D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DF9C-263B-43BB-AC71-CE60AE29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9BE-2DC9-450A-AE5D-5850168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B733-9F59-4A7A-85FA-9394FE5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E9FF-D601-416B-B82C-3EE6EC3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E895-D4AE-4307-8FB0-75D74A3C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D455-1911-4838-A7C5-2B20A1A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C01E-6D87-4668-B63E-5DE18CF3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15FD-E027-4A50-9065-B4296E8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F4C2-01AF-4CB3-BA18-F1FAF93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A71D-A992-4657-BFF8-609AA9F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47BA-952B-4945-BB2F-EB568681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FBD8-2C66-4049-8E7A-48BDBFD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8EA-DCF7-4827-BEE4-2D8E21E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382B-B899-4372-8A97-1599FB0E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687B-E407-43E9-AE48-A28F6AA1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B94F-D626-46ED-9BC6-21FF303E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1558-70EE-419C-B8C1-5E20F00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C333-12E1-46B8-ABC1-05C374E0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108A-5A68-4103-A1F7-06287D5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FDD6-9BF1-4559-AF85-239AFB1F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9A8C-DE77-4ACF-9E32-B1F1F77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9265-8F31-433F-BBE0-259FD75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56ED-7050-4C78-8BAA-B8B8009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863-0AEB-4BBC-8E33-20107B2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7B6B-5E2F-4CAF-BA00-6C4133F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9E83-0E3D-47DE-BF51-790AEFA4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6EF2-EA75-4037-940E-23E28A87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63A9-2A67-496C-8570-00987D54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B0AE-333A-4B63-B4F2-F3A6447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A7576-0542-4DA2-9074-91FD5BF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87E0-6E24-4E99-8A77-FA9A69C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EEE3-AD1C-48F1-872D-683344D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0C3C-B1FC-44F6-9D68-69F56BA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2749-CC68-4A0E-B1ED-8CEF003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204-CC5B-4B87-B17C-1C666FD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3F048-3EDF-45F4-AE61-E26D2E2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7017-3773-46E8-84B1-60AB850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D724-DC71-4598-A030-E46F944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A9639-0C91-407A-B22F-159F2BB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699C-0280-4F52-AC56-47D1AE5D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744D22-305F-4BA4-9A20-26742C07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DBEF4-F173-46DC-A333-ED69F6D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6D87B-D24D-40BA-AB9C-BE51FA79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7EAB2-5644-4D7D-AE51-403C5EFE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D023D-FD89-43DD-9D09-C11D98D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770-7AB0-43A5-8508-E9E33D9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2D4BA-9EEA-4AD1-A05E-F6D0EB79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B9FBC-3F7F-44FD-82B7-E706C8C5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0720F-97B2-4A5E-B8FE-E0C880A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33C79-B564-4A87-892D-30199C3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92C17-DA34-40C4-88C0-9F8F6A6B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85CA7-3C53-46C8-89E2-765C04E7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4CA93-061D-47AD-A1D5-D7A0427E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75BF8-75D7-4769-A271-E02E4440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3B83A-21C1-46DB-89D2-C6A3349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0CE51-0A6E-4295-953A-DE5EA106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EED-14AF-45C5-9E4E-30E36C8821D7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ذو زوايا قطرية مستديرة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مستطيل ذو زوايا قطرية مستديرة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631-06D1-4B57-B6AB-B2AD58E15DB0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369C-584C-4463-88FC-956CB5C1E487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C3F-6A92-4102-90A4-D5C1247EA912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C8D-0E62-4796-88C7-F633A9C01A38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مستطيل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769-8FAB-40E0-9E97-D92F7571F4DA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91B-DB46-4326-8F01-76A20F8714EC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مستطيل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5CC1-7DCA-489F-8ED3-4AFD386BF60B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C942-0BCE-4C07-99CC-648F026AB892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مربع نص 3"/>
          <p:cNvSpPr/>
          <p:nvPr/>
        </p:nvSpPr>
        <p:spPr>
          <a:xfrm>
            <a:off x="2333880" y="2421000"/>
            <a:ext cx="465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2060"/>
                </a:solidFill>
                <a:latin typeface="Arial"/>
                <a:cs typeface="Arial"/>
              </a:rPr>
              <a:t>التنف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64000" y="414972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Respi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79280" y="78624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ial"/>
              </a:rPr>
              <a:t>التنفس عمليه حيوية طبيعية تقوم بها الكائنات الحية نهاراً وليلاً وبها تتحطم المركبات العضوية المعقدة إلى مركبات غير عضويه بسيطة وبذلك تنطلق الطاقة التي تستغل في أنشطة الكائن الح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83808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  <a:cs typeface="Arial"/>
              </a:rPr>
              <a:t>التنف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332000" y="3286080"/>
            <a:ext cx="752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b0f0"/>
                </a:solidFill>
                <a:uFillTx/>
                <a:latin typeface="Arial"/>
              </a:rPr>
              <a:t>ويوجد نوعان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Arial"/>
              </a:rPr>
              <a:t>تنفس هوائي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Arial"/>
              </a:rPr>
              <a:t>تنفس لا هوائ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7" descr="FS_371"/>
          <p:cNvPicPr/>
          <p:nvPr/>
        </p:nvPicPr>
        <p:blipFill>
          <a:blip r:embed="rId2"/>
          <a:stretch/>
        </p:blipFill>
        <p:spPr>
          <a:xfrm>
            <a:off x="611280" y="2997360"/>
            <a:ext cx="259848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250920" y="253800"/>
            <a:ext cx="86421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f0"/>
                </a:solidFill>
                <a:latin typeface="Arial"/>
              </a:rPr>
              <a:t>التنفس الهوائ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في وجود أكسجين الهواء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فيه تنطلق الطاقة نتيجة لأكسدة المركبات العضوية كالسكريات والمعادلة التالية توضح ذلك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6 H12 O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O2        6CO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6H2O + 674 Kg.C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50920" y="3314520"/>
            <a:ext cx="87138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f0"/>
                </a:solidFill>
                <a:latin typeface="Arial"/>
              </a:rPr>
              <a:t>التنفس اللاهوائي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يتم هذا النوع بمعزل عن الهواء الجوي وناتج التفاعل ثاني أكسيد الكربون وكحول أيثيلي وطاق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كن الطاقة المنطلقة تكون ضئيل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6 H12 O6            2CO2 + 2C2 H5 OH + 25 Kg.C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2050920" y="5950080"/>
            <a:ext cx="719280" cy="215640"/>
          </a:xfrm>
          <a:prstGeom prst="rightArrow">
            <a:avLst>
              <a:gd name="adj1" fmla="val 38231"/>
              <a:gd name="adj2" fmla="val 116605"/>
            </a:avLst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2781360"/>
            <a:ext cx="576000" cy="216000"/>
          </a:xfrm>
          <a:prstGeom prst="rightArrow">
            <a:avLst>
              <a:gd name="adj1" fmla="val 38231"/>
              <a:gd name="adj2" fmla="val 93222"/>
            </a:avLst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2"/>
          <a:stretch/>
        </p:blipFill>
        <p:spPr>
          <a:xfrm>
            <a:off x="1652760" y="176040"/>
            <a:ext cx="6875280" cy="1176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-108000" y="522720"/>
            <a:ext cx="896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ضري أربع زجاجات وول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ضعي في الزجاجة الأولى محلول هيدروكسيد الصوديوم المركز وفي الثانية ضعي محلول هيدروكسيد الباريوم وفي الثالثة ضعي حوالي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ذرة نابتة وقليل من الماء وفي الرابعة ضعي محلول هيدروكسيد الباريو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صلي الزجاجات مع غلقه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صلي الزجاجة الرابعة بمضخة ساحبة للهواء وتأكدي من أن التجربة تعمل بكفاء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خدمي الفازلين إذا لزم الأمر ( في حالة تسرب الهواء إلى الخارج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266760" y="4437000"/>
            <a:ext cx="86090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660240" y="27900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نطلاق الحرارة أثناء عملية التنفس  </a:t>
            </a:r>
            <a:r>
              <a:rPr b="1" lang="hi-IN" sz="4400" spc="-1" strike="noStrike">
                <a:solidFill>
                  <a:srgbClr val="c00000"/>
                </a:solidFill>
                <a:latin typeface="Arial"/>
              </a:rPr>
              <a:t>عر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1960560" y="1567440"/>
            <a:ext cx="6969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دد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رمو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ذور نابت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ذور سبق غلي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رمومتر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ورمالين أو محلول كلوريد الزئبقي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gC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3609720"/>
            <a:ext cx="88725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ضعي حوالي </a:t>
            </a:r>
            <a:r>
              <a:rPr b="1" lang="ar-SA" sz="2400" spc="-1" strike="noStrike">
                <a:solidFill>
                  <a:srgbClr val="00b0f0"/>
                </a:solidFill>
                <a:latin typeface="Arial"/>
              </a:rPr>
              <a:t>5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ن البذور النابتة في الترمس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ع قليل من الم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ضعي نفس الكمية من البذور التي سبق غليها في الترمس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ع قليل من الفورمالين أو محلول كلوريد الزئبقيك  لمنع نمو البكتيري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دخلي ترمومترين في سدادتين وغطي الترمسين وتترك التجربه تعم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32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-356400" y="742680"/>
            <a:ext cx="103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ستهلاك المادة الغذائية من عملية التنفس     </a:t>
            </a:r>
            <a:r>
              <a:rPr b="1" lang="hi-IN" sz="4000" spc="-1" strike="noStrike">
                <a:solidFill>
                  <a:srgbClr val="c00000"/>
                </a:solidFill>
                <a:latin typeface="Arial"/>
              </a:rPr>
              <a:t>للطالب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822840" y="1857240"/>
            <a:ext cx="45766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ذ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طباق بت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0" y="398520"/>
            <a:ext cx="8785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تؤخذ بذور جافة متساوية تقريباً في الحجم بذور</a:t>
            </a:r>
            <a:r>
              <a:rPr b="1" lang="ar-SA" sz="24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وتقسم إلى مجموعتين متساويتين  </a:t>
            </a:r>
            <a:r>
              <a:rPr b="1" lang="ar-SA" sz="24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ذورفي كل مجموع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يؤخذ الوزن الأول للبذور " الوزن الإبتدائي " ثم توضع المجموعة الأولى في فرن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أيام عند درجة حرار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 وذلك لتقدير الوزن الجا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لمجموعة الأخرى يؤخذ لها الوزن الإبتدائي ثم تغسل وتنقع في الماء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ساع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تنقل بعدها إلى أطباق بتري التي تحتوي على قطن وتنبت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أيام في الظلام الت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بعد النمو في الظلام تؤخذ البادرات الكاملة وتجفف في الفرن لنحصل على الوزن الجاف للبذور بعد النمو في الظل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8:59:28Z</dcterms:created>
  <dc:creator>HELP</dc:creator>
  <dc:description/>
  <dc:language>en-US</dc:language>
  <cp:lastModifiedBy>pc</cp:lastModifiedBy>
  <dcterms:modified xsi:type="dcterms:W3CDTF">2017-11-16T06:17:27Z</dcterms:modified>
  <cp:revision>55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