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8AFC-4044-489A-8B91-11671F59C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ACE3-0D37-442B-A494-D7FFA6777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AC77-F054-4A18-A513-C1A9C67C7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9FD7-23B5-4215-9D58-4B284215D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CB63-99C7-4D36-BD23-4622FF1181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BE06E-36F9-4039-BD41-96A00FF19A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E965-0483-4B90-9D3A-2EAFDC812E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14A0-D758-4EB9-B66B-7CF8F1E0C0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B35D-0E87-421D-87AF-0C864DF754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16293-28A0-424B-9E4C-E83BD5BEB6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A4FB-B248-45CC-9841-EE509E5D9C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D3C0-9ECB-425F-8860-02CF6D9F2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38A6-2A64-418B-9E0E-45F2C4274A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91666-93D2-4121-9785-A7F8022784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D94B3-3C78-49D4-B3A0-2B10350348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C092-1987-46ED-B0DB-2D15E905A4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A7119-87C9-4B33-A0A1-429D1AF4E74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120-298D-4978-BB5E-CDA0F7AD17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6F8-04BD-4FD3-8DEE-35AA01266F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D88-8C71-4093-8D40-489D6893A9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F3A-D021-4DD4-A0A0-548679680F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BBD-7433-40D7-B79B-CFBA52346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E9AB-0C2D-4008-826F-313C93F475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BE6-1446-4709-9745-56047878BA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829-AF0E-41A0-8980-3D85AFE633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A07-6D12-463F-A6A5-969C21F08D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E47-98A2-4770-9005-EBC927CCE8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2BB-633E-4EB7-A569-11BE1225E6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891-F818-409F-8632-16195FC8F5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62B-B29B-4608-863C-35C055103C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589D9-15CE-4C81-A5E3-67CE2054AD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50BC2-8251-44FA-BB22-17DD3C7372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9079A-AC50-4126-92BB-624E16361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C4A4-0A6D-4CCF-9AD6-F3DF6EFB26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83196-56B5-479C-8BBA-0500BD4615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22278-1D6E-40FB-9A8D-344574A564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90523-2F0F-4386-B84A-4EF004AD4A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5D8F7-AD71-4CD9-ACC7-FF4EBA614E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4193E-B8CE-43D2-B9D1-248D10F9F8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090C6-1568-403B-B020-C2CA2F70E5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B890F-BDA7-4082-93C3-9E315BB595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1DC1E-E39B-465E-932F-B6F060065C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C52CB-7FBF-4E19-B1CE-DBEB7A8BB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7A39-90C4-471A-9871-A475DFAD5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0674-B6A1-42E3-8440-569933D3A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0EC7-6DA0-4AF1-ABAE-7F3FD1A62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DBF7-6AF2-4AB6-836D-C6DD9255B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3191-6D12-4F13-8E44-9A0AEF8F5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AB9E-DF6C-4DA4-B647-82915EC79D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52FF-1A5D-4590-A1F5-9257AAD047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348D-3FB6-423A-858C-A9F8C4ACBD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E920-F430-4CE5-BAFD-F2043CC6DC8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2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-Relationship Model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6641-007F-4288-9721-25EB9C7A0F7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iagram of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Branch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Has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 Staff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elationship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9" name="Picture 6" descr="DS3-Figure 11-05"/>
          <p:cNvPicPr/>
          <p:nvPr/>
        </p:nvPicPr>
        <p:blipFill>
          <a:blip r:embed="rId1"/>
          <a:stretch/>
        </p:blipFill>
        <p:spPr>
          <a:xfrm>
            <a:off x="990720" y="1360440"/>
            <a:ext cx="6248160" cy="34369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611280" y="494172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-Name of relationship typ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-Describes its fun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buClr>
                <a:srgbClr val="000066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er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buClr>
                <a:srgbClr val="000066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tter to be unique for ER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E572-458E-42AD-B4EF-18BFF7CE93A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gree of a Relationshi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umber of participating entities in  relationship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 of degree 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wo is binary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ree is tern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ur is quatern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7F56-8F4D-4920-B66D-0E429D43C83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9250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Binary relationship called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P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Ow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8" name="Picture 5" descr="DS3-Figure 11-06"/>
          <p:cNvPicPr/>
          <p:nvPr/>
        </p:nvPicPr>
        <p:blipFill>
          <a:blip r:embed="rId1"/>
          <a:stretch/>
        </p:blipFill>
        <p:spPr>
          <a:xfrm>
            <a:off x="609480" y="1905120"/>
            <a:ext cx="7791480" cy="1692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5BA4-B9FF-4B00-BBFE-9718AAF1CD0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ernary relationship called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Register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2" name="Picture 5" descr="DS3-Figure 11-07"/>
          <p:cNvPicPr/>
          <p:nvPr/>
        </p:nvPicPr>
        <p:blipFill>
          <a:blip r:embed="rId1"/>
          <a:stretch/>
        </p:blipFill>
        <p:spPr>
          <a:xfrm>
            <a:off x="609480" y="1905120"/>
            <a:ext cx="7315200" cy="26492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76B0-92B6-4174-A547-F4E68FBCD93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aternary relationship called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Arrang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6" name="Picture 5" descr="DS3-Figure 11-08"/>
          <p:cNvPicPr/>
          <p:nvPr/>
        </p:nvPicPr>
        <p:blipFill>
          <a:blip r:embed="rId1"/>
          <a:stretch/>
        </p:blipFill>
        <p:spPr>
          <a:xfrm>
            <a:off x="685800" y="1752480"/>
            <a:ext cx="7162920" cy="35942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2125-9D66-4B60-A7C8-353EA78638C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ursive Relationship (unary relationship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 type where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ame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entity type participates more than once in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fferent roles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s may be given role names to indicate purpose that each participating entity type plays in a relationship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A3B4-09CC-4E12-8CE1-EA11009A75A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ecursive relationship called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Supervises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with role nam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4" name="Picture 5" descr="DS3-Figure 11-09"/>
          <p:cNvPicPr/>
          <p:nvPr/>
        </p:nvPicPr>
        <p:blipFill>
          <a:blip r:embed="rId1"/>
          <a:stretch/>
        </p:blipFill>
        <p:spPr>
          <a:xfrm>
            <a:off x="762120" y="1828800"/>
            <a:ext cx="6933960" cy="31971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0FA1-3C31-4399-AECB-0A37D7B6565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ntities associated through two distinct relationships with role nam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28" name="Picture 5" descr="DS3-Figure 11-10"/>
          <p:cNvPicPr/>
          <p:nvPr/>
        </p:nvPicPr>
        <p:blipFill>
          <a:blip r:embed="rId1"/>
          <a:stretch/>
        </p:blipFill>
        <p:spPr>
          <a:xfrm>
            <a:off x="990720" y="1600200"/>
            <a:ext cx="6095880" cy="46782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6FA3-1651-4942-8030-904AC6EC6FF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12.3 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perty of an entity or a relationship typ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Doma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t of allowable values for one or more attribut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17F2-0C94-49E6-8A29-6C8A7F91E4E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277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mple Attribute ( atomic 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composed of a single component with an independent exist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Ex.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Position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salary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of the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staff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entit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posite Attribut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composed of multiple components, each with an independent exist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Ex. The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address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attribute of the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branch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entit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009F-43F1-4B6C-B705-021A7E3ACF7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2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w to use Entity–Relationship (ER) modeling in database design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asic concepts associated with ER model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matic technique for displaying ER model using Unified Modeling Language (UML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w to identify and resolve problems with ER models called connection trap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w to build an ER model from a requirements specification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1C2F-C45B-4167-BD57-E9C90B4A764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ngle-valu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holds a single value for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e.g., branch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-valu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holds multiple values for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e.g., tel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47A0-C8DE-473F-B0C1-B3E4217E379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riv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represents a value that is derivable from value of a related attribute, or set of attributes, not necessarily in the same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e.g., 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duration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attribute is derived from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startDate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endDate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attribute 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1967-AF7A-4C6C-B27A-B05E26FB1D2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andidate Ke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nimal set of attributes that uniquely identifies each occurrence of an entity type.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nnot contain a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null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.g, SSN and sutdentI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imary Ke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andidate key selected to uniquely identify each occurrence of an entity type.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mposite Ke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candidate key that consists of two or more attributes.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e.g., pNo,newspaperName, and pdateAdver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1B33-264D-4A00-BA58-9533D357AFA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iagram of 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Staff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nd 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Branch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entities and their 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52" name="Picture 1032" descr="DS3-Figure 11-11"/>
          <p:cNvPicPr/>
          <p:nvPr/>
        </p:nvPicPr>
        <p:blipFill>
          <a:blip r:embed="rId1"/>
          <a:stretch/>
        </p:blipFill>
        <p:spPr>
          <a:xfrm>
            <a:off x="533520" y="1752480"/>
            <a:ext cx="7543800" cy="39625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033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1AB2-BAF7-44FC-B04B-37BF9EE130F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12.4 Entity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83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trong 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tity type that is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t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existence-dependent on some other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It is occurrence is uniquely identifiable using the PK attribute of that entity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Weak 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tity type that is existence-dependent on some other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It is occurrence cannot be uniquely identifiable using only attributes associated with that entity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49DF-21F4-4C09-8CF0-6AAA24278CE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trong entity type called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Cli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and weak entity type called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Preferenc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60" name="Picture 8" descr="DS3-Figure 11-12"/>
          <p:cNvPicPr/>
          <p:nvPr/>
        </p:nvPicPr>
        <p:blipFill>
          <a:blip r:embed="rId1"/>
          <a:stretch/>
        </p:blipFill>
        <p:spPr>
          <a:xfrm>
            <a:off x="990720" y="1484280"/>
            <a:ext cx="6324480" cy="3610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0" y="537372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eak entity types referred to as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child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ependen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subordinat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entit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rong entity types referred to as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paren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owner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ominan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entit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05F9-E292-409B-BE58-49447A0D6B2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with 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65" name="Picture 5" descr="DS3-Figure 11-13"/>
          <p:cNvPicPr/>
          <p:nvPr/>
        </p:nvPicPr>
        <p:blipFill>
          <a:blip r:embed="rId1"/>
          <a:stretch/>
        </p:blipFill>
        <p:spPr>
          <a:xfrm>
            <a:off x="914400" y="1828800"/>
            <a:ext cx="6858000" cy="38386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972E-08EC-4091-B49E-F5754BD140A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12.6 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491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ain type of constraint on relationships is called </a:t>
            </a:r>
            <a:r>
              <a:rPr b="0" i="1" lang="en-GB" sz="2800" spc="-1" strike="noStrike">
                <a:solidFill>
                  <a:srgbClr val="000066"/>
                </a:solidFill>
                <a:latin typeface="Times New Roman"/>
              </a:rPr>
              <a:t>multiplicity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plicity - 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umber (or range) of possible occurrences of an entity type that may relate to a single occurrence of an associated entity type through a particular relationship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plicity constrains the way that entities are relate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presents policies (calle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business rule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) established by user or compan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8CAE-D01E-45AE-AAFE-18E66D28974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most common degree for relationships is binar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inary relationships are generally referred to as being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one (1:1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member of staff manages a branc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many (1: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member of staff oversees properties for r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y-to-many (*: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ewspaper advertise properties for r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A977-91C8-4361-9164-A969AFE7A85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Manages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Branch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7" name="Picture 7" descr="DS3-Figure 11-14a"/>
          <p:cNvPicPr/>
          <p:nvPr/>
        </p:nvPicPr>
        <p:blipFill>
          <a:blip r:embed="rId1"/>
          <a:stretch/>
        </p:blipFill>
        <p:spPr>
          <a:xfrm>
            <a:off x="684360" y="1484280"/>
            <a:ext cx="7391160" cy="38862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Box 1"/>
          <p:cNvSpPr/>
          <p:nvPr/>
        </p:nvSpPr>
        <p:spPr>
          <a:xfrm>
            <a:off x="250920" y="5516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ach relationship (rn) represents the association between a singl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Staff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entity occurrence and a singl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Branch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entity occurre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152B-0C70-46B7-A2F4-C7ABB9003D0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iagram of Branch user views of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reamHom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0" name="Picture 8" descr="DS3-Figure 11-01"/>
          <p:cNvPicPr/>
          <p:nvPr/>
        </p:nvPicPr>
        <p:blipFill>
          <a:blip r:embed="rId1"/>
          <a:stretch/>
        </p:blipFill>
        <p:spPr>
          <a:xfrm>
            <a:off x="762120" y="1447920"/>
            <a:ext cx="6095880" cy="48765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985F-23E6-4576-9D8F-49462DC35BB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Manag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Branch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1:1) relationship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2" name="Picture 8" descr="DS3-Figure 11-14b"/>
          <p:cNvPicPr/>
          <p:nvPr/>
        </p:nvPicPr>
        <p:blipFill>
          <a:blip r:embed="rId1"/>
          <a:stretch/>
        </p:blipFill>
        <p:spPr>
          <a:xfrm>
            <a:off x="609480" y="1752480"/>
            <a:ext cx="7010640" cy="3581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F2EF-ECDE-4B52-9CA9-83E4D6EE52E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Oversees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6" name="Picture 9" descr="DS3-Figure 11-15a"/>
          <p:cNvPicPr/>
          <p:nvPr/>
        </p:nvPicPr>
        <p:blipFill>
          <a:blip r:embed="rId1"/>
          <a:stretch/>
        </p:blipFill>
        <p:spPr>
          <a:xfrm>
            <a:off x="609480" y="1752480"/>
            <a:ext cx="7239240" cy="36576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D6C9-8F77-4AE9-8D73-3D074DAC0BE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Overse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1:*)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0" name="Picture 8" descr="DS3-Figure 11-15b"/>
          <p:cNvPicPr/>
          <p:nvPr/>
        </p:nvPicPr>
        <p:blipFill>
          <a:blip r:embed="rId1"/>
          <a:stretch/>
        </p:blipFill>
        <p:spPr>
          <a:xfrm>
            <a:off x="685800" y="1828800"/>
            <a:ext cx="7238880" cy="35812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5302-01F3-4701-9C41-E22B612735D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Newspaper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4" name="Picture 7" descr="DS3-Figure 11-16a"/>
          <p:cNvPicPr/>
          <p:nvPr/>
        </p:nvPicPr>
        <p:blipFill>
          <a:blip r:embed="rId1"/>
          <a:stretch/>
        </p:blipFill>
        <p:spPr>
          <a:xfrm>
            <a:off x="685800" y="1676520"/>
            <a:ext cx="7010280" cy="4022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E385-DCC1-45C8-8EBA-5D4997C6DB2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Newspaper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*:*) relationship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8" name="Picture 8" descr="DS3-Figure 11-16b"/>
          <p:cNvPicPr/>
          <p:nvPr/>
        </p:nvPicPr>
        <p:blipFill>
          <a:blip r:embed="rId1"/>
          <a:stretch/>
        </p:blipFill>
        <p:spPr>
          <a:xfrm>
            <a:off x="685800" y="1752480"/>
            <a:ext cx="7391520" cy="35816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7646-EBF1-467F-944B-632F9C80E23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ultiplicity for Complex Relationships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umber (or range) of possible occurrences of an entity type in an </a:t>
            </a:r>
            <a:r>
              <a:rPr b="1" i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ary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lationship when other (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1) values are fixed.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6DC5-59A8-466A-8C9F-9D6D56CDB09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ternary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Register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with values for Staff and Branch entities fixed</a:t>
            </a:r>
            <a:r>
              <a:rPr b="0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06" name="Picture 5" descr="DS3-Figure 11-17a"/>
          <p:cNvPicPr/>
          <p:nvPr/>
        </p:nvPicPr>
        <p:blipFill>
          <a:blip r:embed="rId1"/>
          <a:stretch/>
        </p:blipFill>
        <p:spPr>
          <a:xfrm>
            <a:off x="609480" y="1828800"/>
            <a:ext cx="7391520" cy="37339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C4AA-7B17-4A87-AF68-E91E7377044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ternary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Register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10" name="Picture 1029" descr="DS3-Figure 11-17b"/>
          <p:cNvPicPr/>
          <p:nvPr/>
        </p:nvPicPr>
        <p:blipFill>
          <a:blip r:embed="rId1"/>
          <a:stretch/>
        </p:blipFill>
        <p:spPr>
          <a:xfrm>
            <a:off x="609480" y="1905120"/>
            <a:ext cx="7315200" cy="29718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108000" y="5157720"/>
            <a:ext cx="89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Staff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Branch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values are fixed the multiplicity for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Clien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s 0..*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Staff/Clien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values are fixed the multiplicity for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Branch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s 1..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Client/Branch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values are fixed the multiplicity for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Staff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s 1..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48CF-A868-4E17-930F-542F9A785F7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ummary of multiplic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6" name="Picture 6" descr="DS3-Table 11-01"/>
          <p:cNvPicPr/>
          <p:nvPr/>
        </p:nvPicPr>
        <p:blipFill>
          <a:blip r:embed="rId1"/>
          <a:srcRect l="85" t="12512" r="0" b="0"/>
          <a:stretch/>
        </p:blipFill>
        <p:spPr>
          <a:xfrm>
            <a:off x="468360" y="1773360"/>
            <a:ext cx="7991280" cy="32893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E5F4-B0A4-427F-BFAC-A06BACE3F30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7338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plicity is made up of two types of restrictions on relationships: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cardinality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participation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E6B2-AB24-472F-A3D5-F20DC1C53E5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oncepts of the ER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typ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type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DE89-5DEA-436E-B4DE-79B71EAB45F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rdinality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scribes maximum number of possible relationship occurrences for an entity participating in a given relationship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articip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termines whether all (mandatory) or only some (optional) entity occurrences participate in a relationship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947D-5E6E-4D09-976E-3FBA6E3026A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as cardinality and participation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28" name="Picture 1029" descr="DS3-Figure 11-18"/>
          <p:cNvPicPr/>
          <p:nvPr/>
        </p:nvPicPr>
        <p:blipFill>
          <a:blip r:embed="rId1"/>
          <a:stretch/>
        </p:blipFill>
        <p:spPr>
          <a:xfrm>
            <a:off x="1523880" y="1523880"/>
            <a:ext cx="5791320" cy="46278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2D25-6811-4BD8-B2EC-CF746A2C560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12.7 Problems with ER Mod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blems may arise when designing a conceptual data model called 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connection trap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ften due to a misinterpretation of the meaning of certain relationship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wo main types of connection traps are called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fan traps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chasm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trap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E6FC-82AC-4690-803A-1B73DC477B0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12.7 Problems with ER Mod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an Tra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here a model represents a relationship between entity types, but pathway between certain entity occurrences is ambiguou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hasm Tra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here a model suggests the existence of a relationship between entity types, but pathway does not exist between certain entity occurrenc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190B-F3E4-438E-9591-C64DD069225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 Example of a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40" name="Picture 8" descr="DS3-Figure 11-19a"/>
          <p:cNvPicPr/>
          <p:nvPr/>
        </p:nvPicPr>
        <p:blipFill>
          <a:blip r:embed="rId1"/>
          <a:stretch/>
        </p:blipFill>
        <p:spPr>
          <a:xfrm>
            <a:off x="380880" y="2133720"/>
            <a:ext cx="8229600" cy="10252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457200" y="364500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Fan Trap may exist where two or mor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1:* 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s fan out from the same entit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ere two 1:* relationships  ( </a:t>
            </a:r>
            <a:r>
              <a:rPr b="0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as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nd </a:t>
            </a:r>
            <a:r>
              <a:rPr b="0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erates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emanating from the same entity called </a:t>
            </a:r>
            <a:r>
              <a:rPr b="0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vis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290E-D742-4165-84A2-D15171FDC39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ER Model with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At which branch office does staff number SG37 work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6" name="Picture 8" descr="DS3-Figure 11-19b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285768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F266-A79A-4144-B9B4-3241B9A9BB9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structuring ER model to remove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50" name="Picture 8" descr="DS3-Figure 11-20a"/>
          <p:cNvPicPr/>
          <p:nvPr/>
        </p:nvPicPr>
        <p:blipFill>
          <a:blip r:embed="rId1"/>
          <a:stretch/>
        </p:blipFill>
        <p:spPr>
          <a:xfrm>
            <a:off x="533520" y="1905120"/>
            <a:ext cx="7848360" cy="23619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E2B2-DD26-45A2-A124-00F1400B9C7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Restructured ER Model with Fan Trap Remove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G37 works at branch B003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55" name="Picture 9" descr="DS3-Figure 11-20b"/>
          <p:cNvPicPr/>
          <p:nvPr/>
        </p:nvPicPr>
        <p:blipFill>
          <a:blip r:embed="rId1"/>
          <a:stretch/>
        </p:blipFill>
        <p:spPr>
          <a:xfrm>
            <a:off x="533520" y="1828800"/>
            <a:ext cx="7619760" cy="2828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76E5-00EE-4F2A-A316-E38FB4C21CF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 Example of a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59" name="Picture 9" descr="DS3-Figure 11-21a"/>
          <p:cNvPicPr/>
          <p:nvPr/>
        </p:nvPicPr>
        <p:blipFill>
          <a:blip r:embed="rId1"/>
          <a:stretch/>
        </p:blipFill>
        <p:spPr>
          <a:xfrm>
            <a:off x="457200" y="2057400"/>
            <a:ext cx="8305920" cy="11430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457200" y="364500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Chasm Trap may occur wher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one or mor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relationships with a minimum multiplicity of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zero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(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the is optional participating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) forming part of pathway between related entit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92AD-D5BC-47D4-86E2-38DCAF8B27F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ER Model with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 which branch office is property PA14 available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5" name="Picture 8" descr="DS3-Figure 11-21b"/>
          <p:cNvPicPr/>
          <p:nvPr/>
        </p:nvPicPr>
        <p:blipFill>
          <a:blip r:embed="rId1"/>
          <a:stretch/>
        </p:blipFill>
        <p:spPr>
          <a:xfrm>
            <a:off x="609480" y="1752480"/>
            <a:ext cx="7467840" cy="27054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F030-FF25-4B0A-8948-8FD6507B99F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12.1 Entity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roup of objects with same properties,  identified by enterprise as having an independent existenc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occurr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iquely identifiable object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9CB7-2879-439C-873D-5D9F1E8F747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R Model restructured to remove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69" name="Picture 9" descr="DS3-Figure 11-22a"/>
          <p:cNvPicPr/>
          <p:nvPr/>
        </p:nvPicPr>
        <p:blipFill>
          <a:blip r:embed="rId1"/>
          <a:stretch/>
        </p:blipFill>
        <p:spPr>
          <a:xfrm>
            <a:off x="685800" y="1905120"/>
            <a:ext cx="7543800" cy="242568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826920" y="4653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- To solve chasm trap, identify the missing relationship which is here :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offer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elationshi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CB5F-0661-47A9-BFD0-86C4AEDC46B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Restructured ER Model with Chasm Trap Remove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74" name="Picture 9" descr="DS3-Figure 11-22b"/>
          <p:cNvPicPr/>
          <p:nvPr/>
        </p:nvPicPr>
        <p:blipFill>
          <a:blip r:embed="rId1"/>
          <a:stretch/>
        </p:blipFill>
        <p:spPr>
          <a:xfrm>
            <a:off x="1066680" y="1600200"/>
            <a:ext cx="5943600" cy="456264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55F5-D212-440D-8364-CEFF5FCB7EA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Examples of Entity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6" descr="DS3-Figure 11-02"/>
          <p:cNvPicPr/>
          <p:nvPr/>
        </p:nvPicPr>
        <p:blipFill>
          <a:blip r:embed="rId1"/>
          <a:stretch/>
        </p:blipFill>
        <p:spPr>
          <a:xfrm>
            <a:off x="1600200" y="1752480"/>
            <a:ext cx="4038480" cy="354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F33B-F878-48CA-B7E2-ED4F762BC83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059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iagram of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Staff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nd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 Branch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ntity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6" name="Picture 8" descr="DS3-Figure 11-03"/>
          <p:cNvPicPr/>
          <p:nvPr/>
        </p:nvPicPr>
        <p:blipFill>
          <a:blip r:embed="rId1"/>
          <a:stretch/>
        </p:blipFill>
        <p:spPr>
          <a:xfrm>
            <a:off x="1295280" y="2057400"/>
            <a:ext cx="5105520" cy="29401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258920" y="544500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ngular nou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rts with upper case in UM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10DC-B1C6-4510-A6FB-AB6AC75F779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12.2 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t of meaningful associations among entity typ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occurr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iquely identifiable association, which includes one occurrence from each participating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17E5-1AA0-49B4-851E-D772CF6A45E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emantic net of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Has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relationship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5" name="Picture 1029" descr="DS3-Figure 11-04"/>
          <p:cNvPicPr/>
          <p:nvPr/>
        </p:nvPicPr>
        <p:blipFill>
          <a:blip r:embed="rId1"/>
          <a:stretch/>
        </p:blipFill>
        <p:spPr>
          <a:xfrm>
            <a:off x="533520" y="1600200"/>
            <a:ext cx="73152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14:58:02Z</dcterms:created>
  <dc:creator>Thomas Connolly and Carolyn Begg</dc:creator>
  <dc:description>Transparencies for Chapter 11 of textbook
Database Systems: A Practical Approach to Design, Implementation, and Management</dc:description>
  <dc:language>en-US</dc:language>
  <cp:lastModifiedBy>Sahar Bayoumi Ali</cp:lastModifiedBy>
  <cp:lastPrinted>1998-06-24T16:37:58Z</cp:lastPrinted>
  <dcterms:modified xsi:type="dcterms:W3CDTF">2014-09-16T04:59:47Z</dcterms:modified>
  <cp:revision>103</cp:revision>
  <dc:subject>Database Systems</dc:subject>
  <dc:title>Chapter 11</dc:title>
</cp:coreProperties>
</file>