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0281-71FD-4EFC-94F4-8CA377F8C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7A49-B5C7-49F1-8624-95D4AEBA3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5D0A-D02F-4F14-A151-FF2C46978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B918-B5BB-41FC-96CC-C75B2F877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B28EB-0408-4BBE-96BA-C00DBC0B7C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59492-6F59-461E-BAD8-8BFD57712E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F1D8-F612-465D-A602-BD5E09FB8A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8C39-FB28-4FD0-A9E0-CC777714CF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75EC6-E5DF-4557-AEDD-A7818899BE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1F44-1FEE-49EA-BB89-FCE76227EB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91C1A-A61D-4281-B9C7-D6165289FC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0414-EB18-449E-BB55-79FA98A6F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A4202-29C4-48C0-94F3-A81B563018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E5D1A-1C27-4AE9-90BB-01EA8C6B30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E2EE-CA78-456F-A23D-FE70B61FB5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D292-59F0-4679-ADBE-9BF6636314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07A1-941D-42D2-92C3-B152C480C4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FD1-9468-4444-B560-A73F56FD00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D6D-6F8F-4EDF-81D5-ED49F4F377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DFE-34EC-4CC1-B0DC-3BF075DA99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710-0BBB-49C0-86A1-B2C96C0A79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D53-AFCF-4228-9128-1BB3CCD563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F25E-AAB5-4B6D-A85A-26DD032F3E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95E-E269-44A4-8913-5C36597DAF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648-3B20-4C4B-AA06-F400C23D0E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39E-F294-46CA-96AE-E513DCECAD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B5F-FC6F-4C4E-B5E5-BE4B5E0335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1AE-7976-4FAF-BFFD-978026E7F4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596-3143-4150-A7FF-24C4518339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09A-17CA-422E-B0B3-3A835AC061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5B9E6-FC58-4B42-BAA6-AE7EF12DD6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8B826-B70F-4881-9F6A-E8860FBCA1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CD849-FFBA-4294-9AD3-51D374520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58C1-438C-418B-A2D1-829F8067AA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0186F-5D02-4872-AD72-2243651821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80E69-AEBA-49AF-948D-BA6A5E6267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FF4E6-4636-4488-8B73-8CAC51B71C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AD47A-D8BA-4DE4-A7E6-D37D03B631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41178-7541-47F7-9A86-5240702785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41C2E-6DD1-43D0-9147-01F2D066CA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AC363-9AB8-451C-AF7F-29CBFE960C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8957B-D224-4000-9AD4-31081F68A1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69681-7784-41DD-9AD3-4B7835F67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1907-FA91-41D9-8270-1C159D31D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D56F-9C20-4698-9587-5C079C6EE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EBC2-DCEB-4FA7-9F59-687761FB9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BE06-7905-456D-8D57-C2C39093B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B0C2-EA65-45EB-9C01-5CC047522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B2F5-C58C-4D1D-87B8-7868A4480D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6C6E-0A5F-4DC9-97EB-F024F67352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88E3-287D-4BA8-A4BC-0682627EF7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4523-3F7A-4283-8F4A-146DCBE5F2E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2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-Relationship Model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1B80-DDE2-43DD-AE1B-EC002B179DD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iagram of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Branch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Has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 Staff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elationship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9" name="Picture 6" descr="DS3-Figure 11-05"/>
          <p:cNvPicPr/>
          <p:nvPr/>
        </p:nvPicPr>
        <p:blipFill>
          <a:blip r:embed="rId1"/>
          <a:stretch/>
        </p:blipFill>
        <p:spPr>
          <a:xfrm>
            <a:off x="990720" y="1360440"/>
            <a:ext cx="6248160" cy="34369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611280" y="494172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-Name of relationship typ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-Describes its fun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buClr>
                <a:srgbClr val="000066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er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buClr>
                <a:srgbClr val="000066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tter to be unique for ER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D9F3-AAE7-441F-AAA9-E54DD3873DA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gree of a Relationshi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umber of participating entities in  relationship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 of degree 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wo is binary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ree is tern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ur is quatern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34F0-9E67-4365-B6AE-17847FB1BA5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9250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inary relationship called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Ow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8" name="Picture 5" descr="DS3-Figure 11-06"/>
          <p:cNvPicPr/>
          <p:nvPr/>
        </p:nvPicPr>
        <p:blipFill>
          <a:blip r:embed="rId1"/>
          <a:stretch/>
        </p:blipFill>
        <p:spPr>
          <a:xfrm>
            <a:off x="609480" y="1905120"/>
            <a:ext cx="7791480" cy="1692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3099-9F0E-4A6A-9FE4-86CD64E2BA0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ernary relationship called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Register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2" name="Picture 5" descr="DS3-Figure 11-07"/>
          <p:cNvPicPr/>
          <p:nvPr/>
        </p:nvPicPr>
        <p:blipFill>
          <a:blip r:embed="rId1"/>
          <a:stretch/>
        </p:blipFill>
        <p:spPr>
          <a:xfrm>
            <a:off x="609480" y="1905120"/>
            <a:ext cx="7315200" cy="26492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FAAB-044D-47D1-9B1C-CC2B8A6DFC8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aternary relationship called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Arrang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6" name="Picture 5" descr="DS3-Figure 11-08"/>
          <p:cNvPicPr/>
          <p:nvPr/>
        </p:nvPicPr>
        <p:blipFill>
          <a:blip r:embed="rId1"/>
          <a:stretch/>
        </p:blipFill>
        <p:spPr>
          <a:xfrm>
            <a:off x="685800" y="1752480"/>
            <a:ext cx="7162920" cy="35942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9D68-0486-468E-9905-573233451A0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ursive Relationship (unary relationship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 type where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ame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entity type participates more than once in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fferent roles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s may be given role names to indicate purpose that each participating entity type plays in a relationship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7E14-D41E-4CB9-A934-85570329A8B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ecursive relationship called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Supervises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with role nam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4" name="Picture 5" descr="DS3-Figure 11-09"/>
          <p:cNvPicPr/>
          <p:nvPr/>
        </p:nvPicPr>
        <p:blipFill>
          <a:blip r:embed="rId1"/>
          <a:stretch/>
        </p:blipFill>
        <p:spPr>
          <a:xfrm>
            <a:off x="762120" y="1828800"/>
            <a:ext cx="6933960" cy="31971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277F-AA8A-47D9-907D-9BF5112E943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ntities associated through two distinct relationships with role nam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8" name="Picture 5" descr="DS3-Figure 11-10"/>
          <p:cNvPicPr/>
          <p:nvPr/>
        </p:nvPicPr>
        <p:blipFill>
          <a:blip r:embed="rId1"/>
          <a:stretch/>
        </p:blipFill>
        <p:spPr>
          <a:xfrm>
            <a:off x="990720" y="1600200"/>
            <a:ext cx="6095880" cy="46782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F404-A341-4022-A2C0-DAE5546EA47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12.3 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perty of an entity or a relationship typ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Doma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t of allowable values for one or more attribut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D09D-30BE-4B58-8090-288CB470C36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277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mple Attribute ( atomic 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composed of a single component with an independent exist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Ex.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Position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salary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of the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staff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entit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posite Attribut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composed of multiple components, each with an independent exist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Ex. The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address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attribute of the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branch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entit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D7C0-FADB-461A-814A-7F87266FD64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2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w to use Entity–Relationship (ER) modeling in database design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asic concepts associated with ER model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matic technique for displaying ER model using Unified Modeling Language (UML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w to identify and resolve problems with ER models called connection trap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w to build an ER model from a requirements specification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A651-7BF1-4540-A9EE-48CD433762D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ngle-valu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holds a single value for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e.g., branch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-valu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holds multiple values for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e.g., tel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9BD2-1867-45E6-91D2-3B5AAB2B903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riv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represents a value that is derivable from value of a related attribute, or set of attributes, not necessarily in the same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e.g., 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duration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attribute is derived from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startDate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endDate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attribute 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2996-6719-4CAD-B1EF-A01B17D241A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andidate Ke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nimal set of attributes that uniquely identifies each occurrence of an entity type.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nnot contain a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null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.g, SSN and sutdentI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imary Ke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andidate key selected to uniquely identify each occurrence of an entity type.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mposite Ke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candidate key that consists of two or more attributes.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e.g., pNo,newspaperName, and pdateAdver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B648-1D4C-485A-8E60-0BF70AE447F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iagram of 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Staff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nd 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Branch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entities and their 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52" name="Picture 1032" descr="DS3-Figure 11-11"/>
          <p:cNvPicPr/>
          <p:nvPr/>
        </p:nvPicPr>
        <p:blipFill>
          <a:blip r:embed="rId1"/>
          <a:stretch/>
        </p:blipFill>
        <p:spPr>
          <a:xfrm>
            <a:off x="533520" y="1752480"/>
            <a:ext cx="7543800" cy="39625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033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E84E-3189-4118-91C4-7A03F4FFDDB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12.4 Entity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trong 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tity type that is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t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existence-dependent on some other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It is occurrence is uniquely identifiable using the PK attribute of that entity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Weak 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tity type that is existence-dependent on some other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It is occurrence cannot be uniquely identifiable using only attributes associated with that entity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EE25-ECC1-4D87-AA53-83DD0C07202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trong entity type called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Cli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and weak entity type called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Preferenc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60" name="Picture 8" descr="DS3-Figure 11-12"/>
          <p:cNvPicPr/>
          <p:nvPr/>
        </p:nvPicPr>
        <p:blipFill>
          <a:blip r:embed="rId1"/>
          <a:stretch/>
        </p:blipFill>
        <p:spPr>
          <a:xfrm>
            <a:off x="990720" y="1484280"/>
            <a:ext cx="6324480" cy="3610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0" y="537372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eak entity types referred to as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child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ependen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subordinat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entit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rong entity types referred to as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paren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owner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ominan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entit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6EAA-8BFF-466C-99A9-BF22C519E7E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with 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65" name="Picture 5" descr="DS3-Figure 11-13"/>
          <p:cNvPicPr/>
          <p:nvPr/>
        </p:nvPicPr>
        <p:blipFill>
          <a:blip r:embed="rId1"/>
          <a:stretch/>
        </p:blipFill>
        <p:spPr>
          <a:xfrm>
            <a:off x="914400" y="1828800"/>
            <a:ext cx="6858000" cy="38386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7D9C-7205-4D35-883D-B39A4C15ACA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12.6 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9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ain type of constraint on relationships is called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multiplicity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plicity - 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umber (or range) of possible occurrences of an entity type that may relate to a single occurrence of an associated entity type through a particular relationship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plicity constrains the way that entities are relate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presents policies (calle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business rule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) established by user or compan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82EA-7089-4DBE-8E13-94097FEEE7A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most common degree for relationships is binar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inary relationships are generally referred to as being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one (1:1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member of staff manages a branc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many (1: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member of staff oversees properties for r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y-to-many (*: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ewspaper advertise properties for r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222B-B212-4D6C-9D82-CD091FD51B3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Manages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Branch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7" name="Picture 7" descr="DS3-Figure 11-14a"/>
          <p:cNvPicPr/>
          <p:nvPr/>
        </p:nvPicPr>
        <p:blipFill>
          <a:blip r:embed="rId1"/>
          <a:stretch/>
        </p:blipFill>
        <p:spPr>
          <a:xfrm>
            <a:off x="684360" y="1484280"/>
            <a:ext cx="7391160" cy="38862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Box 1"/>
          <p:cNvSpPr/>
          <p:nvPr/>
        </p:nvSpPr>
        <p:spPr>
          <a:xfrm>
            <a:off x="250920" y="5516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ach relationship (rn) represents the association between a singl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Staff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entity occurrence and a singl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Branch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entity occurre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16EF-85E6-4945-B085-ADFB8B34F14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iagram of Branch user views of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reamHom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0" name="Picture 8" descr="DS3-Figure 11-01"/>
          <p:cNvPicPr/>
          <p:nvPr/>
        </p:nvPicPr>
        <p:blipFill>
          <a:blip r:embed="rId1"/>
          <a:stretch/>
        </p:blipFill>
        <p:spPr>
          <a:xfrm>
            <a:off x="762120" y="1447920"/>
            <a:ext cx="6095880" cy="48765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A4D8-2185-4C43-912C-381DE1C6297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Manag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Branch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1:1) relationship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2" name="Picture 8" descr="DS3-Figure 11-14b"/>
          <p:cNvPicPr/>
          <p:nvPr/>
        </p:nvPicPr>
        <p:blipFill>
          <a:blip r:embed="rId1"/>
          <a:stretch/>
        </p:blipFill>
        <p:spPr>
          <a:xfrm>
            <a:off x="609480" y="1752480"/>
            <a:ext cx="7010640" cy="3581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E95C-B4D7-466C-94BD-EC9B1246CB2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Oversees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6" name="Picture 9" descr="DS3-Figure 11-15a"/>
          <p:cNvPicPr/>
          <p:nvPr/>
        </p:nvPicPr>
        <p:blipFill>
          <a:blip r:embed="rId1"/>
          <a:stretch/>
        </p:blipFill>
        <p:spPr>
          <a:xfrm>
            <a:off x="609480" y="1752480"/>
            <a:ext cx="7239240" cy="36576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EBD3-64BF-4234-9325-3140C20D807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Overse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1:*)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0" name="Picture 8" descr="DS3-Figure 11-15b"/>
          <p:cNvPicPr/>
          <p:nvPr/>
        </p:nvPicPr>
        <p:blipFill>
          <a:blip r:embed="rId1"/>
          <a:stretch/>
        </p:blipFill>
        <p:spPr>
          <a:xfrm>
            <a:off x="685800" y="1828800"/>
            <a:ext cx="7238880" cy="35812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4DF2-7235-478C-A0D1-EBA58BDF76E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Newspaper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4" name="Picture 7" descr="DS3-Figure 11-16a"/>
          <p:cNvPicPr/>
          <p:nvPr/>
        </p:nvPicPr>
        <p:blipFill>
          <a:blip r:embed="rId1"/>
          <a:stretch/>
        </p:blipFill>
        <p:spPr>
          <a:xfrm>
            <a:off x="685800" y="1676520"/>
            <a:ext cx="7010280" cy="4022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4F15-5BCC-40FC-A1CF-729C911B9F8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Newspaper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*:*) relationship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8" name="Picture 8" descr="DS3-Figure 11-16b"/>
          <p:cNvPicPr/>
          <p:nvPr/>
        </p:nvPicPr>
        <p:blipFill>
          <a:blip r:embed="rId1"/>
          <a:stretch/>
        </p:blipFill>
        <p:spPr>
          <a:xfrm>
            <a:off x="685800" y="1752480"/>
            <a:ext cx="7391520" cy="35816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6B00-3D58-4B59-93E2-383805B5E4D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ultiplicity for Complex Relationships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umber (or range) of possible occurrences of an entity type in an </a:t>
            </a:r>
            <a:r>
              <a:rPr b="1" i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ary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lationship when other (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1) values are fixed.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AA09-F05B-4BEB-9289-7597D41CED1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ternary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Register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with values for Staff and Branch entities fixed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06" name="Picture 5" descr="DS3-Figure 11-17a"/>
          <p:cNvPicPr/>
          <p:nvPr/>
        </p:nvPicPr>
        <p:blipFill>
          <a:blip r:embed="rId1"/>
          <a:stretch/>
        </p:blipFill>
        <p:spPr>
          <a:xfrm>
            <a:off x="609480" y="1828800"/>
            <a:ext cx="7391520" cy="37339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9182-C2D6-4258-B352-83A1C639FAB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ternary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Register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10" name="Picture 1029" descr="DS3-Figure 11-17b"/>
          <p:cNvPicPr/>
          <p:nvPr/>
        </p:nvPicPr>
        <p:blipFill>
          <a:blip r:embed="rId1"/>
          <a:stretch/>
        </p:blipFill>
        <p:spPr>
          <a:xfrm>
            <a:off x="609480" y="1905120"/>
            <a:ext cx="7315200" cy="29718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108000" y="5157720"/>
            <a:ext cx="89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Staff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Branch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values are fixed the multiplicity for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Clien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s 0..*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Staff/Clien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values are fixed the multiplicity for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Branch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s 1..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Client/Branch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values are fixed the multiplicity for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Staff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s 1..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B0D7-1C82-45E5-8F7B-BC2A37E1EE6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ummary of multiplic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6" name="Picture 6" descr="DS3-Table 11-01"/>
          <p:cNvPicPr/>
          <p:nvPr/>
        </p:nvPicPr>
        <p:blipFill>
          <a:blip r:embed="rId1"/>
          <a:srcRect l="85" t="12512" r="0" b="0"/>
          <a:stretch/>
        </p:blipFill>
        <p:spPr>
          <a:xfrm>
            <a:off x="468360" y="1773360"/>
            <a:ext cx="7991280" cy="32893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4563-D373-4FD3-98D2-E143604B7AB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7338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plicity is made up of two types of restrictions on relationships: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cardinality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participation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4B17-10BF-4F05-A257-D9CE1CFEDE5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oncepts of the ER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typ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type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E1F9-3A8F-497D-8636-09E3C58E038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rdinality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scribes maximum number of possible relationship occurrences for an entity participating in a given relationship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articip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termines whether all (mandatory) or only some (optional) entity occurrences participate in a relationship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8D1B-CC90-43F3-B72F-5338EAB6DE0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as cardinality and participation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28" name="Picture 1029" descr="DS3-Figure 11-18"/>
          <p:cNvPicPr/>
          <p:nvPr/>
        </p:nvPicPr>
        <p:blipFill>
          <a:blip r:embed="rId1"/>
          <a:stretch/>
        </p:blipFill>
        <p:spPr>
          <a:xfrm>
            <a:off x="1523880" y="1523880"/>
            <a:ext cx="5791320" cy="46278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316E-70AB-4EC5-BDDC-F3C1F0A2DE7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12.7 Problems with ER Mod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blems may arise when designing a conceptual data model calle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connection trap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ften due to a misinterpretation of the meaning of certain relationship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wo main types of connection traps are called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fan traps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chasm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trap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02B9-9F36-4BF2-B8C2-FD8F493022A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12.7 Problems with ER Mod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an Tra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here a model represents a relationship between entity types, but pathway between certain entity occurrences is ambiguou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hasm Tra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here a model suggests the existence of a relationship between entity types, but pathway does not exist between certain entity occurrenc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D925-801A-4B5B-A224-C7BC61D8A27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 Example of a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40" name="Picture 8" descr="DS3-Figure 11-19a"/>
          <p:cNvPicPr/>
          <p:nvPr/>
        </p:nvPicPr>
        <p:blipFill>
          <a:blip r:embed="rId1"/>
          <a:stretch/>
        </p:blipFill>
        <p:spPr>
          <a:xfrm>
            <a:off x="380880" y="2133720"/>
            <a:ext cx="8229600" cy="10252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457200" y="364500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Fan Trap may exist where two or mor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1:* 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s fan out from the same entit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ere two 1:* relationships  ( </a:t>
            </a:r>
            <a:r>
              <a:rPr b="0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as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nd </a:t>
            </a:r>
            <a:r>
              <a:rPr b="0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erates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emanating from the same entity called </a:t>
            </a:r>
            <a:r>
              <a:rPr b="0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vis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FD7D-5EDD-4292-9AAC-D5DCE965D66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ER Model with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At which branch office does staff number SG37 work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6" name="Picture 8" descr="DS3-Figure 11-19b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28576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155B-2CA1-4F6C-90EE-2742F4317A9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structuring ER model to remove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50" name="Picture 8" descr="DS3-Figure 11-20a"/>
          <p:cNvPicPr/>
          <p:nvPr/>
        </p:nvPicPr>
        <p:blipFill>
          <a:blip r:embed="rId1"/>
          <a:stretch/>
        </p:blipFill>
        <p:spPr>
          <a:xfrm>
            <a:off x="533520" y="1905120"/>
            <a:ext cx="7848360" cy="23619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3044-0083-4779-9182-C21E0FBDD9B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Restructured ER Model with Fan Trap Remove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G37 works at branch B003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55" name="Picture 9" descr="DS3-Figure 11-20b"/>
          <p:cNvPicPr/>
          <p:nvPr/>
        </p:nvPicPr>
        <p:blipFill>
          <a:blip r:embed="rId1"/>
          <a:stretch/>
        </p:blipFill>
        <p:spPr>
          <a:xfrm>
            <a:off x="533520" y="1828800"/>
            <a:ext cx="7619760" cy="2828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A53F-8B74-4189-98AF-97F09CD1143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 Example of a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59" name="Picture 9" descr="DS3-Figure 11-21a"/>
          <p:cNvPicPr/>
          <p:nvPr/>
        </p:nvPicPr>
        <p:blipFill>
          <a:blip r:embed="rId1"/>
          <a:stretch/>
        </p:blipFill>
        <p:spPr>
          <a:xfrm>
            <a:off x="457200" y="2057400"/>
            <a:ext cx="8305920" cy="11430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457200" y="364500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Chasm Trap may occur wher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one or mor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relationships with a minimum multiplicity of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zero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(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the is optional participating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) forming part of pathway between related entit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CC1B-F828-4F73-BEDF-3B7996D69F8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ER Model with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 which branch office is property PA14 available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5" name="Picture 8" descr="DS3-Figure 11-21b"/>
          <p:cNvPicPr/>
          <p:nvPr/>
        </p:nvPicPr>
        <p:blipFill>
          <a:blip r:embed="rId1"/>
          <a:stretch/>
        </p:blipFill>
        <p:spPr>
          <a:xfrm>
            <a:off x="609480" y="1752480"/>
            <a:ext cx="7467840" cy="27054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FAEF-4F78-4171-8FB0-C4FD585F695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12.1 Entity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roup of objects with same properties,  identified by enterprise as having an independent existenc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occurr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iquely identifiable object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D36F-4340-4DB4-BDD2-386A2823789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R Model restructured to remove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69" name="Picture 9" descr="DS3-Figure 11-22a"/>
          <p:cNvPicPr/>
          <p:nvPr/>
        </p:nvPicPr>
        <p:blipFill>
          <a:blip r:embed="rId1"/>
          <a:stretch/>
        </p:blipFill>
        <p:spPr>
          <a:xfrm>
            <a:off x="685800" y="1905120"/>
            <a:ext cx="7543800" cy="242568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826920" y="4653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- To solve chasm trap, identify the missing relationship which is here :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offer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elationshi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111D-A401-4120-868F-8A2FD1C54BE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Restructured ER Model with Chasm Trap Remove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74" name="Picture 9" descr="DS3-Figure 11-22b"/>
          <p:cNvPicPr/>
          <p:nvPr/>
        </p:nvPicPr>
        <p:blipFill>
          <a:blip r:embed="rId1"/>
          <a:stretch/>
        </p:blipFill>
        <p:spPr>
          <a:xfrm>
            <a:off x="1066680" y="1600200"/>
            <a:ext cx="5943600" cy="456264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254F-B2B7-403E-A45B-A6E56805987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Examples of Entity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6" descr="DS3-Figure 11-02"/>
          <p:cNvPicPr/>
          <p:nvPr/>
        </p:nvPicPr>
        <p:blipFill>
          <a:blip r:embed="rId1"/>
          <a:stretch/>
        </p:blipFill>
        <p:spPr>
          <a:xfrm>
            <a:off x="1600200" y="1752480"/>
            <a:ext cx="4038480" cy="354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31BA-563B-4984-8E13-CE20AB7860F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iagram of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Staff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nd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 Branch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ntity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6" name="Picture 8" descr="DS3-Figure 11-03"/>
          <p:cNvPicPr/>
          <p:nvPr/>
        </p:nvPicPr>
        <p:blipFill>
          <a:blip r:embed="rId1"/>
          <a:stretch/>
        </p:blipFill>
        <p:spPr>
          <a:xfrm>
            <a:off x="1295280" y="2057400"/>
            <a:ext cx="5105520" cy="29401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258920" y="544500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ngular nou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rts with upper case in UM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96FB-A9D9-4CF0-8672-194BEABBA9D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12.2 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t of meaningful associations among entity typ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occurr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iquely identifiable association, which includes one occurrence from each participating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CCD2-10D4-4DB7-9EED-ACFCE9EA0FD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emantic net of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Has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relationship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5" name="Picture 1029" descr="DS3-Figure 11-04"/>
          <p:cNvPicPr/>
          <p:nvPr/>
        </p:nvPicPr>
        <p:blipFill>
          <a:blip r:embed="rId1"/>
          <a:stretch/>
        </p:blipFill>
        <p:spPr>
          <a:xfrm>
            <a:off x="533520" y="1600200"/>
            <a:ext cx="73152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14:58:02Z</dcterms:created>
  <dc:creator>Thomas Connolly and Carolyn Begg</dc:creator>
  <dc:description>Transparencies for Chapter 11 of textbook
Database Systems: A Practical Approach to Design, Implementation, and Management</dc:description>
  <dc:language>en-US</dc:language>
  <cp:lastModifiedBy>Sahar Bayoumi Ali</cp:lastModifiedBy>
  <cp:lastPrinted>1998-06-24T16:37:58Z</cp:lastPrinted>
  <dcterms:modified xsi:type="dcterms:W3CDTF">2014-09-16T04:59:47Z</dcterms:modified>
  <cp:revision>103</cp:revision>
  <dc:subject>Database Systems</dc:subject>
  <dc:title>Chapter 11</dc:title>
</cp:coreProperties>
</file>