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DING.WAV" ContentType="audio/x-wav"/>
  <Override PartName="/ppt/media/image5.wmf" ContentType="image/x-wmf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3CCD-FED6-4CF6-9E7B-D82DB23CFA8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ACD0-0DFE-48C0-ADC3-CD2333AC47F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4BF-BD9C-4C7C-A2FD-323DA13C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F45-ECAA-4DD2-BC64-8648B244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6FE-557A-44B3-ACFC-AFE0778B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AE4-F2C0-402A-B79E-E7D69F95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EA1D-9255-4D8B-8445-D3F34A18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41BE-C16C-4942-BE46-42E387BB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5572-85B2-446E-90AA-0E0D61C8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3B20-5F12-4483-99A5-C18CC293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6C58-2D68-42C1-AD07-5442FD67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C675-D6F0-4410-8D60-AFC29F3C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5E20-6A58-43DC-BCD0-D09AA45C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6BC-B34B-4715-BD6A-7EFA880C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B28B-6323-4F84-84B4-BFE7B133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C931-5EE5-43D1-B05A-434346F5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6953-C879-4CC3-866D-91166F46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0008-4BA5-45CA-9E96-9CF460F7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B2AF-5689-442B-96FF-724FC565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D118-D1F7-46EF-A4E7-D7E16CEB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ACD4C-5254-4BA6-BEC0-516F5950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76D4D-DA1B-4F6A-8A2F-2EF5D3E7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9DAC7-A9A7-46CC-9913-B21A4063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126D-B71F-4204-8D14-DF2D74B3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22A-4DF0-4E36-937B-0160E537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44324-7A03-43B9-AD12-F6F3E5D5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5C55-B5A0-4986-9006-667B2B9D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3720D-E8CB-4720-85F6-C9AB10DC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3F128-545E-4600-ACE5-6F7F1F2C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520EC-96B3-496D-95BF-AFFF092F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027C-0ED0-41C2-9283-95561424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541F8-BED0-4D91-86B3-6827E93E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82163-718F-4D3E-9326-74C6017B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9B788-0B57-426B-BE70-14FB2BC1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FE23-8525-4E80-A2AC-F234E40C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C43-76AF-44E3-A454-D2AB91FA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08FA-14B2-431C-BC6F-729AE25B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CDF14-6AD1-4EBF-89E6-48E1DCEC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3D9F7-E6A3-4D0D-9820-F32DFE45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2079C-FE89-4161-8479-C4535C2F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6196B-A337-45DF-9EC2-4B51DB1D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8D22B-2352-4762-9E67-E99180D1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4BCAE-C440-428D-B71A-132BC009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DAF2B-6189-4C88-95B6-74D37475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730B9-191C-4A05-9BDC-82BE582D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008C1-331A-4325-9CD0-0C4D70C3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65A-73C7-4340-8659-86F7332A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FA0CB-9637-4622-A8F1-F90B31CA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D632C-3A49-467D-AA81-EC40A1C3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A76FA-416B-4F06-A2C4-D184BD49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BDA09-6DD4-4A05-97EF-DC8CCE6E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DDB36-C588-4DB4-B342-3F435A9D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A046C-3512-42E9-A055-DA4F6BE3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02869-6A8A-47CB-9ABD-2E3D7774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8ADFF-31AC-49B0-BB6A-1A3DE460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42684-1990-4312-9B02-AB72B0C4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421C2-C901-492B-9A7D-17A307C8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742-C36C-4288-8983-9B62DA2E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9CF20-8968-46A0-8168-A7FD9105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2A0-60B6-4C14-9272-E01441B7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7E4-C3EA-4811-A72A-578F30AF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50F-2ECA-4787-BBED-03B1BCE3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8984-3A5C-4737-9D9B-924329EF7C5A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934B-60B1-445F-95A7-388A53646898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7113-4774-46C7-A446-76497416B9F5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BAE4-D333-4C95-A154-1B45ED7A1289}" type="slidenum">
              <a:rPr b="0" lang="ar-SA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2B05-4A71-4558-9C9E-06C95C614157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7"/>
          <p:cNvSpPr txBox="1"/>
          <p:nvPr/>
        </p:nvSpPr>
        <p:spPr>
          <a:xfrm>
            <a:off x="755640" y="189000"/>
            <a:ext cx="69264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0080"/>
                  </a:outerShdw>
                </a:effectLst>
                <a:latin typeface="Arial"/>
              </a:rPr>
              <a:t>المعايير التكنولوجية لبرامج التلفزيون للأطفال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0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8" name="Picture 19" descr="jii"/>
          <p:cNvPicPr/>
          <p:nvPr/>
        </p:nvPicPr>
        <p:blipFill>
          <a:blip r:embed="rId1"/>
          <a:stretch/>
        </p:blipFill>
        <p:spPr>
          <a:xfrm>
            <a:off x="7885080" y="117360"/>
            <a:ext cx="1143000" cy="10796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708000" y="1557360"/>
            <a:ext cx="347508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  <a:cs typeface="MCS Khaybar S_U normal."/>
              </a:rPr>
              <a:t>خصائص البرنامج التلفزيوني الجي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1" descr=""/>
          <p:cNvPicPr/>
          <p:nvPr/>
        </p:nvPicPr>
        <p:blipFill>
          <a:blip r:embed="rId1"/>
          <a:srcRect l="35970" t="36221" r="55177" b="54708"/>
          <a:stretch/>
        </p:blipFill>
        <p:spPr>
          <a:xfrm>
            <a:off x="4357800" y="0"/>
            <a:ext cx="2158920" cy="907920"/>
          </a:xfrm>
          <a:prstGeom prst="rect">
            <a:avLst/>
          </a:prstGeom>
          <a:ln w="0">
            <a:noFill/>
          </a:ln>
        </p:spPr>
      </p:pic>
      <p:sp>
        <p:nvSpPr>
          <p:cNvPr id="253" name="Line 23"/>
          <p:cNvSpPr/>
          <p:nvPr/>
        </p:nvSpPr>
        <p:spPr>
          <a:xfrm>
            <a:off x="0" y="907920"/>
            <a:ext cx="8172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39640" y="1152360"/>
          <a:ext cx="6626160" cy="4245120"/>
        </p:xfrm>
        <a:graphic>
          <a:graphicData uri="http://schemas.openxmlformats.org/drawingml/2006/table">
            <a:tbl>
              <a:tblPr/>
              <a:tblGrid>
                <a:gridCol w="1114560"/>
                <a:gridCol w="1224000"/>
                <a:gridCol w="1103400"/>
                <a:gridCol w="318420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e4580a"/>
                          </a:solidFill>
                          <a:latin typeface="Arial"/>
                          <a:cs typeface="PT Bold Heading"/>
                        </a:rPr>
                        <a:t>المعايير الترب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0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درجة توافر المعيا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المعي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منعدم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ea typeface="PT Bold Heading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متوسط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ea typeface="PT Bold Heading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كبي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ea typeface="PT Bold Heading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e4580a"/>
                          </a:solidFill>
                          <a:latin typeface="Arial"/>
                          <a:cs typeface="PT Bold Heading"/>
                        </a:rPr>
                        <a:t>المعايير التكنولوج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0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درجة توافر المعيا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المعي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منعدم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ea typeface="PT Bold Heading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متوسط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ea typeface="PT Bold Heading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كبي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ea typeface="PT Bold Heading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المجموع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PT Bold Heading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من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PT Bold Heading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درجة تقييم البرنام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WordArt 24"/>
          <p:cNvSpPr txBox="1"/>
          <p:nvPr/>
        </p:nvSpPr>
        <p:spPr>
          <a:xfrm>
            <a:off x="250920" y="71280"/>
            <a:ext cx="67294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2246aa"/>
                </a:solidFill>
                <a:latin typeface="Arial"/>
              </a:rPr>
              <a:t>استمارة تحليل وتقويم البرامج التلفزيونية التربوية للأطفال</a:t>
            </a:r>
            <a:endParaRPr b="0" lang="en-US" sz="1800" spc="1" strike="noStrike">
              <a:ln w="0">
                <a:noFill/>
              </a:ln>
              <a:solidFill>
                <a:srgbClr val="2246aa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4"/>
          <p:cNvSpPr/>
          <p:nvPr/>
        </p:nvSpPr>
        <p:spPr>
          <a:xfrm>
            <a:off x="0" y="907920"/>
            <a:ext cx="8172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7"/>
          <p:cNvSpPr/>
          <p:nvPr/>
        </p:nvSpPr>
        <p:spPr>
          <a:xfrm>
            <a:off x="682560" y="1424160"/>
            <a:ext cx="7345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0066"/>
                </a:solidFill>
                <a:latin typeface="Arial"/>
                <a:cs typeface="PT Bold Heading"/>
              </a:rPr>
              <a:t>رأي المحللة الشخصي حول البرنامج: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ea typeface="PT Bold Heading"/>
              </a:rPr>
              <a:t>-----------------------</a:t>
            </a:r>
            <a:br>
              <a:rPr sz="2500"/>
            </a:br>
            <a:r>
              <a:rPr b="0" lang="ar-SA" sz="2500" spc="-1" strike="noStrike">
                <a:solidFill>
                  <a:srgbClr val="f4e7ed"/>
                </a:solidFill>
                <a:latin typeface="Arial"/>
                <a:cs typeface="PT Bold Heading"/>
              </a:rPr>
              <a:t>الجوانب الايجابية في البرنامج: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ea typeface="PT Bold Heading"/>
              </a:rPr>
              <a:t> -----------------------------------------------------------------------------------------</a:t>
            </a:r>
            <a:r>
              <a:rPr b="0" lang="ar-SA" sz="2500" spc="-1" strike="noStrike">
                <a:solidFill>
                  <a:srgbClr val="f4e7ed"/>
                </a:solidFill>
                <a:latin typeface="Arial"/>
                <a:cs typeface="PT Bold Heading"/>
              </a:rPr>
              <a:t>الجوانب السلبية في البرنامج: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ea typeface="PT Bold Heading"/>
              </a:rPr>
              <a:t> ----------------------------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0066"/>
                </a:solidFill>
                <a:latin typeface="Arial"/>
                <a:cs typeface="PT Bold Heading"/>
              </a:rPr>
              <a:t>هل البرنامج صالح للاستخدام التعليمي؟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ea typeface="PT Bold Heading"/>
              </a:rPr>
              <a:t> 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698920" y="4359240"/>
          <a:ext cx="3174840" cy="2498760"/>
        </p:xfrm>
        <a:graphic>
          <a:graphicData uri="http://schemas.openxmlformats.org/drawingml/2006/table">
            <a:tbl>
              <a:tblPr/>
              <a:tblGrid>
                <a:gridCol w="812520"/>
                <a:gridCol w="1095480"/>
                <a:gridCol w="1266840"/>
              </a:tblGrid>
              <a:tr h="459720">
                <a:tc gridSpan="3">
                  <a:txBody>
                    <a:bodyPr lIns="45720" rIns="4572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0066"/>
                          </a:solidFill>
                          <a:latin typeface="Trebuchet MS"/>
                          <a:cs typeface="PT Bold Heading"/>
                        </a:rPr>
                        <a:t>تقدير البرنام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0066"/>
                          </a:solidFill>
                          <a:latin typeface="Trebuchet MS"/>
                          <a:cs typeface="PT Bold Heading"/>
                        </a:rPr>
                        <a:t>ممتا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ac66bb"/>
                          </a:solidFill>
                          <a:latin typeface="Trebuchet MS"/>
                          <a:ea typeface="PT Bold Heading"/>
                        </a:rPr>
                        <a:t>135</a:t>
                      </a:r>
                      <a:r>
                        <a:rPr b="0" lang="ar-SA" sz="2000" spc="-1" strike="noStrike">
                          <a:solidFill>
                            <a:srgbClr val="ac66bb"/>
                          </a:solidFill>
                          <a:latin typeface="Trebuchet MS"/>
                          <a:cs typeface="PT Bold Heading"/>
                        </a:rPr>
                        <a:t>فأكث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0066"/>
                          </a:solidFill>
                          <a:latin typeface="Trebuchet MS"/>
                          <a:cs typeface="PT Bold Heading"/>
                        </a:rPr>
                        <a:t>جيد جدا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b13f9a"/>
                          </a:solidFill>
                          <a:latin typeface="Trebuchet MS"/>
                          <a:ea typeface="PT Bold Heading"/>
                        </a:rPr>
                        <a:t>120</a:t>
                      </a:r>
                      <a:r>
                        <a:rPr b="0" lang="ar-SA" sz="2000" spc="-1" strike="noStrike">
                          <a:solidFill>
                            <a:srgbClr val="b13f9a"/>
                          </a:solidFill>
                          <a:latin typeface="Trebuchet MS"/>
                          <a:ea typeface="PT Bold Heading"/>
                        </a:rPr>
                        <a:t>- </a:t>
                      </a:r>
                      <a:r>
                        <a:rPr b="0" lang="ar-SA" sz="2000" spc="-1" strike="noStrike">
                          <a:solidFill>
                            <a:srgbClr val="b13f9a"/>
                          </a:solidFill>
                          <a:latin typeface="Trebuchet MS"/>
                          <a:ea typeface="PT Bold Heading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0066"/>
                          </a:solidFill>
                          <a:latin typeface="Trebuchet MS"/>
                          <a:cs typeface="PT Bold Heading"/>
                        </a:rPr>
                        <a:t>ج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990099"/>
                          </a:solidFill>
                          <a:latin typeface="Trebuchet MS"/>
                          <a:ea typeface="PT Bold Heading"/>
                        </a:rPr>
                        <a:t>105</a:t>
                      </a:r>
                      <a:r>
                        <a:rPr b="0" lang="ar-SA" sz="2000" spc="-1" strike="noStrike">
                          <a:solidFill>
                            <a:srgbClr val="990099"/>
                          </a:solidFill>
                          <a:latin typeface="Trebuchet MS"/>
                          <a:ea typeface="PT Bold Heading"/>
                        </a:rPr>
                        <a:t>- </a:t>
                      </a:r>
                      <a:r>
                        <a:rPr b="0" lang="ar-SA" sz="2000" spc="-1" strike="noStrike">
                          <a:solidFill>
                            <a:srgbClr val="990099"/>
                          </a:solidFill>
                          <a:latin typeface="Trebuchet MS"/>
                          <a:ea typeface="PT Bold Heading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0066"/>
                          </a:solidFill>
                          <a:latin typeface="Trebuchet MS"/>
                          <a:cs typeface="PT Bold Heading"/>
                        </a:rPr>
                        <a:t>مقب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e0c70a"/>
                          </a:solidFill>
                          <a:latin typeface="Trebuchet MS"/>
                          <a:ea typeface="PT Bold Heading"/>
                        </a:rPr>
                        <a:t>75</a:t>
                      </a:r>
                      <a:r>
                        <a:rPr b="0" lang="ar-SA" sz="2000" spc="-1" strike="noStrike">
                          <a:solidFill>
                            <a:srgbClr val="e0c70a"/>
                          </a:solidFill>
                          <a:latin typeface="Trebuchet MS"/>
                          <a:ea typeface="PT Bold Heading"/>
                        </a:rPr>
                        <a:t>- </a:t>
                      </a:r>
                      <a:r>
                        <a:rPr b="0" lang="ar-SA" sz="2000" spc="-1" strike="noStrike">
                          <a:solidFill>
                            <a:srgbClr val="e0c70a"/>
                          </a:solidFill>
                          <a:latin typeface="Trebuchet MS"/>
                          <a:ea typeface="PT Bold Heading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0066"/>
                          </a:solidFill>
                          <a:latin typeface="Trebuchet MS"/>
                          <a:cs typeface="PT Bold Heading"/>
                        </a:rPr>
                        <a:t>ضع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3300"/>
                          </a:solidFill>
                          <a:latin typeface="Trebuchet MS"/>
                          <a:ea typeface="PT Bold Heading"/>
                        </a:rPr>
                        <a:t>74</a:t>
                      </a:r>
                      <a:r>
                        <a:rPr b="0" lang="ar-SA" sz="2000" spc="-1" strike="noStrike">
                          <a:solidFill>
                            <a:srgbClr val="ff3300"/>
                          </a:solidFill>
                          <a:latin typeface="Trebuchet MS"/>
                          <a:cs typeface="PT Bold Heading"/>
                        </a:rPr>
                        <a:t>فأ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8174160" y="0"/>
            <a:ext cx="645840" cy="6858000"/>
          </a:xfrm>
          <a:prstGeom prst="rect">
            <a:avLst/>
          </a:prstGeom>
          <a:solidFill>
            <a:srgbClr val="600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826920" y="6164280"/>
            <a:ext cx="360360" cy="360360"/>
          </a:xfrm>
          <a:prstGeom prst="rect">
            <a:avLst/>
          </a:prstGeom>
          <a:solidFill>
            <a:srgbClr val="7bcf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835280" y="6164280"/>
            <a:ext cx="360360" cy="360360"/>
          </a:xfrm>
          <a:prstGeom prst="rect">
            <a:avLst/>
          </a:prstGeom>
          <a:solidFill>
            <a:srgbClr val="e754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1332000" y="6164280"/>
            <a:ext cx="360360" cy="360360"/>
          </a:xfrm>
          <a:prstGeom prst="rect">
            <a:avLst/>
          </a:prstGeom>
          <a:solidFill>
            <a:srgbClr val="224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24000" y="6164280"/>
            <a:ext cx="360360" cy="360360"/>
          </a:xfrm>
          <a:prstGeom prst="rect">
            <a:avLst/>
          </a:prstGeom>
          <a:solidFill>
            <a:srgbClr val="600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468360" y="1557360"/>
            <a:ext cx="719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 لكي يكون البرنامج التلفزيوني التعليمي جذاباً ومؤثراً. يقبل عليه المتعلمون، ولكي يقوم بالأدوار والمهمات المطلوبة منه. ينبغي أن تتوفر فيه الخصائص التال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2124000" y="476280"/>
            <a:ext cx="397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91f4d"/>
                </a:solidFill>
                <a:latin typeface="Trebuchet MS"/>
                <a:cs typeface="MCS Khaybar S_U normal."/>
              </a:rPr>
              <a:t>خصائص البرنامج التلفزيوني الج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8"/>
          <p:cNvSpPr/>
          <p:nvPr/>
        </p:nvSpPr>
        <p:spPr>
          <a:xfrm>
            <a:off x="395280" y="765000"/>
            <a:ext cx="6913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كون هناك ضرورة لتقديم الدرس تلفزيونيا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كون مادته العلمية صحيح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كون مادته التعليمية مناسبة لعرضها تلفزيونيا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كون مدة البرنامج مناسبة وتتراوح بي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PT Bold Heading"/>
              </a:rPr>
              <a:t>1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PT Bold Heading"/>
              </a:rPr>
              <a:t>2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دقيق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بدأ البرنامج بافتتاحية مثيرة تجذب الطلاب للمشاهد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ستغل البرنامج خصائص وإمكانيات التلفزيو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قدم البرنامج ما لا يستطيع معلم الفصل تقديمه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2124000" y="476280"/>
            <a:ext cx="397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91f4d"/>
                </a:solidFill>
                <a:latin typeface="Trebuchet MS"/>
                <a:cs typeface="MCS Khaybar S_U normal."/>
              </a:rPr>
              <a:t>خصائص البرنامج التلفزيوني الج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24000" y="1125360"/>
            <a:ext cx="74167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يقدم الدرس بصورة جذابة ومثيرة للانتبا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يبتعد البرنامج بقدر الإمكان عن طريقة المحاضر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ينوع البرامج طرائق العرض وأساليب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يقدم البرنامج بأسلوب يحث الطفل على التفكير ويجعله قادرا على الربط بين عناصر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يشجع البرنامج الطفل على المشاركة النشطة والتفكير الابتكار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يشتمل البرنامج على أمثلة تثري الطفل دون إسها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عرض البرنامج المادة التعليمية بشكل واضح ومنظم يفهمه الطف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2124000" y="476280"/>
            <a:ext cx="397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91f4d"/>
                </a:solidFill>
                <a:latin typeface="Trebuchet MS"/>
                <a:cs typeface="MCS Khaybar S_U normal."/>
              </a:rPr>
              <a:t>خصائص البرنامج التلفزيوني الج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7"/>
          <p:cNvSpPr/>
          <p:nvPr/>
        </p:nvSpPr>
        <p:spPr>
          <a:xfrm>
            <a:off x="539640" y="1052640"/>
            <a:ext cx="73119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عرض اللقطات بشكل مناسب ومعتد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عتدال في استخدام اللقطات المقربة والمتوسطة والطويلة وبما يحقق الهدف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كون الانتقال من نقطة لأخرى في الدرس انتقالا يمكن المتعلمين من متابعته على الشاش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كون أسلوب الانتقال مناسبا للهدف والموضوع 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مكث اللقطة على الشاشة مدة كافية تمكن المشاهد من قراءتها وتفسير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2124000" y="476280"/>
            <a:ext cx="397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91f4d"/>
                </a:solidFill>
                <a:latin typeface="Trebuchet MS"/>
                <a:cs typeface="MCS Khaybar S_U normal."/>
              </a:rPr>
              <a:t>خصائص البرنامج التلفزيوني الج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3"/>
          <p:cNvSpPr/>
          <p:nvPr/>
        </p:nvSpPr>
        <p:spPr>
          <a:xfrm>
            <a:off x="611280" y="1413000"/>
            <a:ext cx="698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كون صوت المعلم واضحا ومسموعا، ويمكن تتبعه، وبلغة يفهمها الطف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كون المصطلحات والمفردات اللغوية واضحة للطف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ظهر الصور أولا ثم التعلي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ستخدم المؤثرات الصوتية بشكل وظيفي مناسب وفعال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2124000" y="476280"/>
            <a:ext cx="397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91f4d"/>
                </a:solidFill>
                <a:latin typeface="Trebuchet MS"/>
                <a:cs typeface="MCS Khaybar S_U normal."/>
              </a:rPr>
              <a:t>خصائص البرنامج التلفزيوني الج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95280" y="260280"/>
            <a:ext cx="8569440" cy="935280"/>
          </a:xfrm>
          <a:prstGeom prst="rect">
            <a:avLst/>
          </a:prstGeom>
          <a:solidFill>
            <a:srgbClr val="fb78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CS Khaybar S_U normal."/>
              </a:rPr>
              <a:t>رابعاً: ال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0" y="907920"/>
            <a:ext cx="817236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ستخدم في البرنامج الوسائل من صور ورسوم ومجسمات  وأفلام بشكل مناسب وفعا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عدم الإسراف في عرض الص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كون محتوى الرسم أو الصور بسيطا ويحتوي على العناصر المهمة فق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كون محتوى الرسم أو الصورة بنفس نسبة أبعاد الشاشة وهي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4: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و مضاعفات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79280" y="3573360"/>
            <a:ext cx="8028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عمل حساب لفقد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1/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مساحة الصور على الجوانب الأرب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كون اللوحات والمشاهد المعروضة واضحة يسهل قراءتها ومشاهدت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ستخدم الحيل الفنية لجذب انتباه الطفل وتوجيهه إلى ما يجب ملاحظت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عمل على كسر الرتابة والملل بعرض بعض الأشياء المثير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324000" y="928800"/>
            <a:ext cx="8569080" cy="934920"/>
          </a:xfrm>
          <a:prstGeom prst="rect">
            <a:avLst/>
          </a:prstGeom>
          <a:solidFill>
            <a:srgbClr val="600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CS Khaybar S_U normal."/>
              </a:rPr>
              <a:t>خامساً: النص المكتو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900000" y="1989000"/>
            <a:ext cx="66582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كون الكتابة بخط النسخ لبساطة قراءته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لا يقل ارتفاع الحرف ع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PT Bold Heading"/>
              </a:rPr>
              <a:t>1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PT Bold Heading"/>
              </a:rPr>
              <a:t>% من ارتفاع اللوحة المكتوب عليها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لا تقل المسافة بين كلمة والتي تليها  ع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PT Bold Heading"/>
              </a:rPr>
              <a:t>1.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PT Bold Heading"/>
              </a:rPr>
              <a:t> من عرض حرف من الحروف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لا يزيد.عدد السطور في اللوحة عن خمسة أسط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24000" y="785880"/>
            <a:ext cx="8569080" cy="934920"/>
          </a:xfrm>
          <a:prstGeom prst="rect">
            <a:avLst/>
          </a:prstGeom>
          <a:solidFill>
            <a:srgbClr val="7bcf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CS Khaybar S_U normal."/>
              </a:rPr>
              <a:t>سادساً: أساليب التفاعل مع البرنام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684360" y="1628640"/>
            <a:ext cx="6694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ستخدم أساليب التغذية الراجعة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تيح البرنامج الفرصة للطفل للاستجابة لكي يكون دوره ايجابياً أثنا ء المشاهد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ستخدم المؤثرات الصوتية بشكل فعال لتعزيز التعل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كرر بعض النقاط وتلخص الأفكار بطرق مختلفة لتعزيز التعلم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نتهي البرنامج بتلخيص الموضوع وذكر النقاط الرئيسية فيه وتحديد الواجبات و الأنشطة للمتعلمين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كون الدرس مفتوح النهاية لكي يشجع المتعلمين على التفكير الابتكاري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8:15:38Z</dcterms:created>
  <dc:creator>Mfc</dc:creator>
  <dc:description/>
  <dc:language>en-US</dc:language>
  <cp:lastModifiedBy>nora</cp:lastModifiedBy>
  <dcterms:modified xsi:type="dcterms:W3CDTF">2013-02-16T19:37:53Z</dcterms:modified>
  <cp:revision>47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51025</vt:lpwstr>
  </property>
</Properties>
</file>