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DING.WAV" ContentType="audio/x-wav"/>
  <Override PartName="/ppt/media/image5.wmf" ContentType="image/x-wmf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AA80-6138-4874-BAF4-DCB6266374A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896F-D471-40E2-B3F2-6B041F9E81E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8DD0-AFD3-46C2-A9CE-D572D84A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5024-F235-4AE3-9C47-DA05B968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84C9-ADD9-468E-96D8-67C2E3AB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0B89-6D29-45A8-AD35-4DD2AB07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09EB-52E5-44EF-ACC3-3BB346BD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FA79-D46A-4173-B489-6D24C12A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7652-599B-44F9-83B0-157D6DB8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B76C-5D0C-40E1-AB26-AFEF5112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3968-47A5-4C15-B196-0B8503C7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6CC9-FFF7-4AF9-B3E0-E91DB5BD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F510-765B-4A4C-8388-6261FD89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B2B5-8900-4262-B1C9-07800E6E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7EF0-532E-4142-A81E-D7DB0B2C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E3F8-3B76-446F-87E0-58D1121F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5BA4-494B-4443-BFC6-63F9AC5C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92DE-434D-4846-93D9-AF3F293E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5E9E-7DF9-4B5B-BC36-CE727634A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6FF1E-1A5E-4A9F-8905-60A84646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747A6-043A-43BB-8097-B9573415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0F4C1-A8CC-4331-9351-BCAD9770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2C49D-DD0C-48F4-8D98-9F496C3F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84C2B-98B8-4BF9-B0C0-09B8E856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9AA4-5D74-4BC3-AB32-8C43F1EC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C2316-D910-49E2-85CF-DF060919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0D200-E9C5-468E-9521-4339CF19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F4C9F-0201-4CAD-B67B-9B76C64C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C47BA-9073-4B8D-880D-4196A153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343FA-1EE4-4166-874F-FCBAEB4E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5E2E6-B878-4513-BB29-D1B7A07B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75100-2A53-4945-9BFE-6BD6ABBC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72C77-629E-4074-B160-49211F8B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B4E90-551B-4770-AA3D-DAA1CFB5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F230D-998B-4448-8CA7-25CCFB7E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61F2-C188-4A9D-8611-057D4C84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7CDAC-C50E-42D1-A4CF-72C8D260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C1BB9-C407-4FB4-93AC-4AF7167A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1BB34-5102-47E9-8B82-B900A59D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A4F13-BD93-4D8B-A8E6-D872BFE6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D669E-BCDC-4874-A3CA-B9FF1CE8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62D63-8225-449D-BFEC-8564306E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65FFD-C2C6-40E9-B54A-AD175EA5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A70A1-4984-4491-BFF6-F901B2FA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25931-989F-4CCC-AE09-3EB6CFF9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D3E7C-51FD-4A70-B6C6-39609AC5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4C84-C35C-4F5F-9AB8-F69A8222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D32A7-64D0-4C5D-BFF2-82F0097A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638B5-C62D-4E4E-9F21-AA698823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1DF01-8E01-44FE-B1FE-1C5CE02D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6D804-F83A-41E3-BB35-81423B84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55138-1B18-48C4-ADFD-C3298499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B3D6E-B2C6-47A6-B748-12C79428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2D744-CED5-401F-A0B7-308AF078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F10A8-973E-41E7-A4A4-6B7A52CA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0B05F-BED7-40FE-8C4A-1303A890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B1BFB-49A7-4992-A175-4D917B27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0D7-D732-4D11-BF51-526D69E7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F1510-745C-4E51-A9AB-52FEE213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4B70-4D3B-487E-9A6A-6355C406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9CE9-BE9A-4125-8D39-2567AFC2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ECFC-2309-4E9B-ABD3-1CF39722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386F-D903-476D-A22D-299222E1C9EE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1CCB-2B36-4838-99C8-CB6319185096}" type="slidenum">
              <a:rPr b="0" lang="ar-S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CF56-FECA-41F2-B836-5F647E96A797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8486-2CD8-4B94-B449-AC64265B7460}" type="slidenum">
              <a:rPr b="0" lang="ar-SA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0949-CBDA-4768-BCEA-1291151B7099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7"/>
          <p:cNvSpPr txBox="1"/>
          <p:nvPr/>
        </p:nvSpPr>
        <p:spPr>
          <a:xfrm>
            <a:off x="755640" y="189000"/>
            <a:ext cx="69264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0080"/>
                  </a:outerShdw>
                </a:effectLst>
                <a:latin typeface="Arial"/>
              </a:rPr>
              <a:t>المعايير التكنولوجية لبرامج التلفزيون للأطفال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800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8" name="Picture 19" descr="jii"/>
          <p:cNvPicPr/>
          <p:nvPr/>
        </p:nvPicPr>
        <p:blipFill>
          <a:blip r:embed="rId1"/>
          <a:stretch/>
        </p:blipFill>
        <p:spPr>
          <a:xfrm>
            <a:off x="7885080" y="117360"/>
            <a:ext cx="1143000" cy="10796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708000" y="1557360"/>
            <a:ext cx="3475080" cy="79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ebuchet MS"/>
                <a:cs typeface="MCS Khaybar S_U normal."/>
              </a:rPr>
              <a:t>خصائص البرنامج التلفزيوني الجيد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1" descr=""/>
          <p:cNvPicPr/>
          <p:nvPr/>
        </p:nvPicPr>
        <p:blipFill>
          <a:blip r:embed="rId1"/>
          <a:srcRect l="35970" t="36221" r="55177" b="54708"/>
          <a:stretch/>
        </p:blipFill>
        <p:spPr>
          <a:xfrm>
            <a:off x="4357800" y="0"/>
            <a:ext cx="2158920" cy="907920"/>
          </a:xfrm>
          <a:prstGeom prst="rect">
            <a:avLst/>
          </a:prstGeom>
          <a:ln w="0">
            <a:noFill/>
          </a:ln>
        </p:spPr>
      </p:pic>
      <p:sp>
        <p:nvSpPr>
          <p:cNvPr id="253" name="Line 23"/>
          <p:cNvSpPr/>
          <p:nvPr/>
        </p:nvSpPr>
        <p:spPr>
          <a:xfrm>
            <a:off x="0" y="907920"/>
            <a:ext cx="8172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539640" y="1152360"/>
          <a:ext cx="6626160" cy="4245120"/>
        </p:xfrm>
        <a:graphic>
          <a:graphicData uri="http://schemas.openxmlformats.org/drawingml/2006/table">
            <a:tbl>
              <a:tblPr/>
              <a:tblGrid>
                <a:gridCol w="1114560"/>
                <a:gridCol w="1224000"/>
                <a:gridCol w="1103400"/>
                <a:gridCol w="3184200"/>
              </a:tblGrid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e4580a"/>
                          </a:solidFill>
                          <a:latin typeface="Arial"/>
                          <a:cs typeface="PT Bold Heading"/>
                        </a:rPr>
                        <a:t>المعايير التربو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d80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درجة توافر المعيا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المعي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منعدم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ea typeface="PT Bold Heading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متوسط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ea typeface="PT Bold Heading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كبي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ea typeface="PT Bold Heading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e4580a"/>
                          </a:solidFill>
                          <a:latin typeface="Arial"/>
                          <a:cs typeface="PT Bold Heading"/>
                        </a:rPr>
                        <a:t>المعايير التكنولوج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d80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0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درجة توافر المعيا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المعي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منعدم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ea typeface="PT Bold Heading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متوسط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ea typeface="PT Bold Heading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كبي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ea typeface="PT Bold Heading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المجموع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PT Bold Heading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من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ea typeface="PT Bold Heading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درجة تقييم البرنام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WordArt 24"/>
          <p:cNvSpPr txBox="1"/>
          <p:nvPr/>
        </p:nvSpPr>
        <p:spPr>
          <a:xfrm>
            <a:off x="250920" y="71280"/>
            <a:ext cx="67294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2246aa"/>
                </a:solidFill>
                <a:latin typeface="Arial"/>
              </a:rPr>
              <a:t>استمارة تحليل وتقويم البرامج التلفزيونية التربوية للأطفال</a:t>
            </a:r>
            <a:endParaRPr b="0" lang="en-US" sz="1800" spc="1" strike="noStrike">
              <a:ln w="0">
                <a:noFill/>
              </a:ln>
              <a:solidFill>
                <a:srgbClr val="2246aa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Line 4"/>
          <p:cNvSpPr/>
          <p:nvPr/>
        </p:nvSpPr>
        <p:spPr>
          <a:xfrm>
            <a:off x="0" y="907920"/>
            <a:ext cx="8172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7"/>
          <p:cNvSpPr/>
          <p:nvPr/>
        </p:nvSpPr>
        <p:spPr>
          <a:xfrm>
            <a:off x="682560" y="1424160"/>
            <a:ext cx="7345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0066"/>
                </a:solidFill>
                <a:latin typeface="Arial"/>
                <a:cs typeface="PT Bold Heading"/>
              </a:rPr>
              <a:t>رأي المحللة الشخصي حول البرنامج: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ea typeface="PT Bold Heading"/>
              </a:rPr>
              <a:t>-----------------------</a:t>
            </a:r>
            <a:br>
              <a:rPr sz="2500"/>
            </a:br>
            <a:r>
              <a:rPr b="0" lang="ar-SA" sz="2500" spc="-1" strike="noStrike">
                <a:solidFill>
                  <a:srgbClr val="f4e7ed"/>
                </a:solidFill>
                <a:latin typeface="Arial"/>
                <a:cs typeface="PT Bold Heading"/>
              </a:rPr>
              <a:t>الجوانب الايجابية في البرنامج: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ea typeface="PT Bold Heading"/>
              </a:rPr>
              <a:t> -----------------------------------------------------------------------------------------</a:t>
            </a:r>
            <a:r>
              <a:rPr b="0" lang="ar-SA" sz="2500" spc="-1" strike="noStrike">
                <a:solidFill>
                  <a:srgbClr val="f4e7ed"/>
                </a:solidFill>
                <a:latin typeface="Arial"/>
                <a:cs typeface="PT Bold Heading"/>
              </a:rPr>
              <a:t>الجوانب السلبية في البرنامج: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ea typeface="PT Bold Heading"/>
              </a:rPr>
              <a:t> ---------------------------------------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0066"/>
                </a:solidFill>
                <a:latin typeface="Arial"/>
                <a:cs typeface="PT Bold Heading"/>
              </a:rPr>
              <a:t>هل البرنامج صالح للاستخدام التعليمي؟</a:t>
            </a:r>
            <a:r>
              <a:rPr b="0" lang="ar-SA" sz="2500" spc="-1" strike="noStrike">
                <a:solidFill>
                  <a:srgbClr val="000000"/>
                </a:solidFill>
                <a:latin typeface="Arial"/>
                <a:ea typeface="PT Bold Heading"/>
              </a:rPr>
              <a:t> 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698920" y="4359240"/>
          <a:ext cx="3174840" cy="2498760"/>
        </p:xfrm>
        <a:graphic>
          <a:graphicData uri="http://schemas.openxmlformats.org/drawingml/2006/table">
            <a:tbl>
              <a:tblPr/>
              <a:tblGrid>
                <a:gridCol w="812520"/>
                <a:gridCol w="1095480"/>
                <a:gridCol w="1266840"/>
              </a:tblGrid>
              <a:tr h="459720">
                <a:tc gridSpan="3">
                  <a:txBody>
                    <a:bodyPr lIns="45720" rIns="4572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0066"/>
                          </a:solidFill>
                          <a:latin typeface="Trebuchet MS"/>
                          <a:cs typeface="PT Bold Heading"/>
                        </a:rPr>
                        <a:t>تقدير البرنام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0066"/>
                          </a:solidFill>
                          <a:latin typeface="Trebuchet MS"/>
                          <a:cs typeface="PT Bold Heading"/>
                        </a:rPr>
                        <a:t>ممتا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ac66bb"/>
                          </a:solidFill>
                          <a:latin typeface="Trebuchet MS"/>
                          <a:ea typeface="PT Bold Heading"/>
                        </a:rPr>
                        <a:t>135</a:t>
                      </a:r>
                      <a:r>
                        <a:rPr b="0" lang="ar-SA" sz="2000" spc="-1" strike="noStrike">
                          <a:solidFill>
                            <a:srgbClr val="ac66bb"/>
                          </a:solidFill>
                          <a:latin typeface="Trebuchet MS"/>
                          <a:cs typeface="PT Bold Heading"/>
                        </a:rPr>
                        <a:t>فأكث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0066"/>
                          </a:solidFill>
                          <a:latin typeface="Trebuchet MS"/>
                          <a:cs typeface="PT Bold Heading"/>
                        </a:rPr>
                        <a:t>جيد جدا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b13f9a"/>
                          </a:solidFill>
                          <a:latin typeface="Trebuchet MS"/>
                          <a:ea typeface="PT Bold Heading"/>
                        </a:rPr>
                        <a:t>120</a:t>
                      </a:r>
                      <a:r>
                        <a:rPr b="0" lang="ar-SA" sz="2000" spc="-1" strike="noStrike">
                          <a:solidFill>
                            <a:srgbClr val="b13f9a"/>
                          </a:solidFill>
                          <a:latin typeface="Trebuchet MS"/>
                          <a:ea typeface="PT Bold Heading"/>
                        </a:rPr>
                        <a:t>- </a:t>
                      </a:r>
                      <a:r>
                        <a:rPr b="0" lang="ar-SA" sz="2000" spc="-1" strike="noStrike">
                          <a:solidFill>
                            <a:srgbClr val="b13f9a"/>
                          </a:solidFill>
                          <a:latin typeface="Trebuchet MS"/>
                          <a:ea typeface="PT Bold Heading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0066"/>
                          </a:solidFill>
                          <a:latin typeface="Trebuchet MS"/>
                          <a:cs typeface="PT Bold Heading"/>
                        </a:rPr>
                        <a:t>ج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990099"/>
                          </a:solidFill>
                          <a:latin typeface="Trebuchet MS"/>
                          <a:ea typeface="PT Bold Heading"/>
                        </a:rPr>
                        <a:t>105</a:t>
                      </a:r>
                      <a:r>
                        <a:rPr b="0" lang="ar-SA" sz="2000" spc="-1" strike="noStrike">
                          <a:solidFill>
                            <a:srgbClr val="990099"/>
                          </a:solidFill>
                          <a:latin typeface="Trebuchet MS"/>
                          <a:ea typeface="PT Bold Heading"/>
                        </a:rPr>
                        <a:t>- </a:t>
                      </a:r>
                      <a:r>
                        <a:rPr b="0" lang="ar-SA" sz="2000" spc="-1" strike="noStrike">
                          <a:solidFill>
                            <a:srgbClr val="990099"/>
                          </a:solidFill>
                          <a:latin typeface="Trebuchet MS"/>
                          <a:ea typeface="PT Bold Heading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0066"/>
                          </a:solidFill>
                          <a:latin typeface="Trebuchet MS"/>
                          <a:cs typeface="PT Bold Heading"/>
                        </a:rPr>
                        <a:t>مقب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e0c70a"/>
                          </a:solidFill>
                          <a:latin typeface="Trebuchet MS"/>
                          <a:ea typeface="PT Bold Heading"/>
                        </a:rPr>
                        <a:t>75</a:t>
                      </a:r>
                      <a:r>
                        <a:rPr b="0" lang="ar-SA" sz="2000" spc="-1" strike="noStrike">
                          <a:solidFill>
                            <a:srgbClr val="e0c70a"/>
                          </a:solidFill>
                          <a:latin typeface="Trebuchet MS"/>
                          <a:ea typeface="PT Bold Heading"/>
                        </a:rPr>
                        <a:t>- </a:t>
                      </a:r>
                      <a:r>
                        <a:rPr b="0" lang="ar-SA" sz="2000" spc="-1" strike="noStrike">
                          <a:solidFill>
                            <a:srgbClr val="e0c70a"/>
                          </a:solidFill>
                          <a:latin typeface="Trebuchet MS"/>
                          <a:ea typeface="PT Bold Heading"/>
                        </a:rPr>
                        <a:t>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0066"/>
                          </a:solidFill>
                          <a:latin typeface="Trebuchet MS"/>
                          <a:cs typeface="PT Bold Heading"/>
                        </a:rPr>
                        <a:t>ضعي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3300"/>
                          </a:solidFill>
                          <a:latin typeface="Trebuchet MS"/>
                          <a:ea typeface="PT Bold Heading"/>
                        </a:rPr>
                        <a:t>74</a:t>
                      </a:r>
                      <a:r>
                        <a:rPr b="0" lang="ar-SA" sz="2000" spc="-1" strike="noStrike">
                          <a:solidFill>
                            <a:srgbClr val="ff3300"/>
                          </a:solidFill>
                          <a:latin typeface="Trebuchet MS"/>
                          <a:cs typeface="PT Bold Heading"/>
                        </a:rPr>
                        <a:t>فأق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8174160" y="0"/>
            <a:ext cx="645840" cy="6858000"/>
          </a:xfrm>
          <a:prstGeom prst="rect">
            <a:avLst/>
          </a:prstGeom>
          <a:solidFill>
            <a:srgbClr val="600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826920" y="6164280"/>
            <a:ext cx="360360" cy="360360"/>
          </a:xfrm>
          <a:prstGeom prst="rect">
            <a:avLst/>
          </a:prstGeom>
          <a:solidFill>
            <a:srgbClr val="7bcf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1835280" y="6164280"/>
            <a:ext cx="360360" cy="360360"/>
          </a:xfrm>
          <a:prstGeom prst="rect">
            <a:avLst/>
          </a:prstGeom>
          <a:solidFill>
            <a:srgbClr val="e754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1332000" y="6164280"/>
            <a:ext cx="360360" cy="360360"/>
          </a:xfrm>
          <a:prstGeom prst="rect">
            <a:avLst/>
          </a:prstGeom>
          <a:solidFill>
            <a:srgbClr val="2246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24000" y="6164280"/>
            <a:ext cx="360360" cy="360360"/>
          </a:xfrm>
          <a:prstGeom prst="rect">
            <a:avLst/>
          </a:prstGeom>
          <a:solidFill>
            <a:srgbClr val="600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468360" y="1557360"/>
            <a:ext cx="719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   لكي يكون البرنامج التلفزيوني التعليمي جذاباً ومؤثراً. يقبل عليه المتعلمون، ولكي يقوم بالأدوار والمهمات المطلوبة منه. ينبغي أن تتوفر فيه الخصائص التال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2124000" y="476280"/>
            <a:ext cx="397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91f4d"/>
                </a:solidFill>
                <a:latin typeface="Trebuchet MS"/>
                <a:cs typeface="MCS Khaybar S_U normal."/>
              </a:rPr>
              <a:t>خصائص البرنامج التلفزيوني الج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8"/>
          <p:cNvSpPr/>
          <p:nvPr/>
        </p:nvSpPr>
        <p:spPr>
          <a:xfrm>
            <a:off x="395280" y="765000"/>
            <a:ext cx="6913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ن تكون هناك ضرورة لتقديم الدرس تلفزيونيا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ن تكون مادته العلمية صحيحة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ن تكون مادته التعليمية مناسبة لعرضها تلفزيونيا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ن تكون مدة البرنامج مناسبة وتتراوح بين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PT Bold Heading"/>
              </a:rPr>
              <a:t>15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PT Bold Heading"/>
              </a:rPr>
              <a:t>2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دقيق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ن يبدأ البرنامج بافتتاحية مثيرة تجذب الطلاب للمشاهد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ن يستغل البرنامج خصائص وإمكانيات التلفزيون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ن يقدم البرنامج ما لا يستطيع معلم الفصل تقديمه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2124000" y="476280"/>
            <a:ext cx="397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91f4d"/>
                </a:solidFill>
                <a:latin typeface="Trebuchet MS"/>
                <a:cs typeface="MCS Khaybar S_U normal."/>
              </a:rPr>
              <a:t>خصائص البرنامج التلفزيوني الج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324000" y="1125360"/>
            <a:ext cx="741672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أن يقدم الدرس بصورة جذابة ومثيرة للانتبا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أن يبتعد البرنامج بقدر الإمكان عن طريقة المحاضر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أن ينوع البرامج طرائق العرض وأساليب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أن يقدم البرنامج بأسلوب يحث الطفل على التفكير ويجعله قادرا على الربط بين عناصر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أن يشجع البرنامج الطفل على المشاركة النشطة والتفكير الابتكار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أن يشتمل البرنامج على أمثلة تثري الطفل دون إسها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أن يعرض البرنامج المادة التعليمية بشكل واضح ومنظم يفهمه الطف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2124000" y="476280"/>
            <a:ext cx="397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91f4d"/>
                </a:solidFill>
                <a:latin typeface="Trebuchet MS"/>
                <a:cs typeface="MCS Khaybar S_U normal."/>
              </a:rPr>
              <a:t>خصائص البرنامج التلفزيوني الج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7"/>
          <p:cNvSpPr/>
          <p:nvPr/>
        </p:nvSpPr>
        <p:spPr>
          <a:xfrm>
            <a:off x="539640" y="1052640"/>
            <a:ext cx="731196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ن تعرض اللقطات بشكل مناسب ومعتدل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الاعتدال في استخدام اللقطات المقربة والمتوسطة والطويلة وبما يحقق الهدف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ن يكون الانتقال من نقطة لأخرى في الدرس انتقالا يمكن المتعلمين من متابعته على الشاش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ن يكون أسلوب الانتقال مناسبا للهدف والموضوع 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أن تمكث اللقطة على الشاشة مدة كافية تمكن المشاهد من قراءتها وتفسير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2124000" y="476280"/>
            <a:ext cx="397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91f4d"/>
                </a:solidFill>
                <a:latin typeface="Trebuchet MS"/>
                <a:cs typeface="MCS Khaybar S_U normal."/>
              </a:rPr>
              <a:t>خصائص البرنامج التلفزيوني الج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3"/>
          <p:cNvSpPr/>
          <p:nvPr/>
        </p:nvSpPr>
        <p:spPr>
          <a:xfrm>
            <a:off x="611280" y="1413000"/>
            <a:ext cx="6985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ن يكون صوت المعلم واضحا ومسموعا، ويمكن تتبعه، وبلغة يفهمها الطفل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ن تكون المصطلحات والمفردات اللغوية واضحة للطفل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ن تظهر الصور أولا ثم التعلي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ن تستخدم المؤثرات الصوتية بشكل وظيفي مناسب وفعال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2124000" y="476280"/>
            <a:ext cx="397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91f4d"/>
                </a:solidFill>
                <a:latin typeface="Trebuchet MS"/>
                <a:cs typeface="MCS Khaybar S_U normal."/>
              </a:rPr>
              <a:t>خصائص البرنامج التلفزيوني الج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95280" y="260280"/>
            <a:ext cx="8569440" cy="935280"/>
          </a:xfrm>
          <a:prstGeom prst="rect">
            <a:avLst/>
          </a:prstGeom>
          <a:solidFill>
            <a:srgbClr val="fb78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MCS Khaybar S_U normal."/>
              </a:rPr>
              <a:t>رابعاً: الصو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0" y="907920"/>
            <a:ext cx="817236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أن يستخدم في البرنامج الوسائل من صور ورسوم ومجسمات  وأفلام بشكل مناسب وفعا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عدم الإسراف في عرض الصو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أن يكون محتوى الرسم أو الصور بسيطا ويحتوي على العناصر المهمة فق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أن يكون محتوى الرسم أو الصورة بنفس نسبة أبعاد الشاشة وهي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4: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و مضاعفات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179280" y="3573360"/>
            <a:ext cx="80280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أن يعمل حساب لفقدا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1/6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مساحة الصور على الجوانب الأربع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أن تكون اللوحات والمشاهد المعروضة واضحة يسهل قراءتها ومشاهدت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أن تستخدم الحيل الفنية لجذب انتباه الطفل وتوجيهه إلى ما يجب ملاحظت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أن تعمل على كسر الرتابة والملل بعرض بعض الأشياء المثير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324000" y="928800"/>
            <a:ext cx="8569080" cy="934920"/>
          </a:xfrm>
          <a:prstGeom prst="rect">
            <a:avLst/>
          </a:prstGeom>
          <a:solidFill>
            <a:srgbClr val="6004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MCS Khaybar S_U normal."/>
              </a:rPr>
              <a:t>خامساً: النص المكتو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900000" y="1989000"/>
            <a:ext cx="66582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ن تكون الكتابة بخط النسخ لبساطة قراءته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لا يقل ارتفاع الحرف عن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PT Bold Heading"/>
              </a:rPr>
              <a:t>12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PT Bold Heading"/>
              </a:rPr>
              <a:t>% من ارتفاع اللوحة المكتوب عليها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لا تقل المسافة بين كلمة والتي تليها  عن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PT Bold Heading"/>
              </a:rPr>
              <a:t>1.5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PT Bold Heading"/>
              </a:rPr>
              <a:t> من عرض حرف من الحروف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PT Bold Heading"/>
              </a:rPr>
              <a:t>أن لا يزيد.عدد السطور في اللوحة عن خمسة أسط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24000" y="785880"/>
            <a:ext cx="8569080" cy="934920"/>
          </a:xfrm>
          <a:prstGeom prst="rect">
            <a:avLst/>
          </a:prstGeom>
          <a:solidFill>
            <a:srgbClr val="7bcf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MCS Khaybar S_U normal."/>
              </a:rPr>
              <a:t>سادساً: أساليب التفاعل مع البرنام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684360" y="1628640"/>
            <a:ext cx="6694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PT Bold Heading"/>
              </a:rPr>
              <a:t>أن يستخدم أساليب التغذية الراجعة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PT Bold Heading"/>
              </a:rPr>
              <a:t>أن يتيح البرنامج الفرصة للطفل للاستجابة لكي يكون دوره ايجابياً أثنا ء المشاهدة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PT Bold Heading"/>
              </a:rPr>
              <a:t>أن تستخدم المؤثرات الصوتية بشكل فعال لتعزيز التعل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PT Bold Heading"/>
              </a:rPr>
              <a:t>أن تكرر بعض النقاط وتلخص الأفكار بطرق مختلفة لتعزيز التعلم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PT Bold Heading"/>
              </a:rPr>
              <a:t>أن ينتهي البرنامج بتلخيص الموضوع وذكر النقاط الرئيسية فيه وتحديد الواجبات و الأنشطة للمتعلمين 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Arial"/>
                <a:cs typeface="PT Bold Heading"/>
              </a:rPr>
              <a:t>أن يكون الدرس مفتوح النهاية لكي يشجع المتعلمين على التفكير الابتكاري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8:15:38Z</dcterms:created>
  <dc:creator>Mfc</dc:creator>
  <dc:description/>
  <dc:language>en-US</dc:language>
  <cp:lastModifiedBy>nora</cp:lastModifiedBy>
  <dcterms:modified xsi:type="dcterms:W3CDTF">2013-02-16T19:37:53Z</dcterms:modified>
  <cp:revision>47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51025</vt:lpwstr>
  </property>
</Properties>
</file>