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97091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09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00800" y="-36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00800" y="6513120"/>
            <a:ext cx="4208400" cy="343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D184-81FA-40A1-98F1-EB3A618EB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557-31E2-47DB-9D2F-18BB98C9E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0DD9-C43F-45F7-BB08-E8F3C14FE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F78B-A9E0-4417-AE4A-EF9A03FA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58D5-13A4-4242-B45E-E164ADB23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8A24-9DAE-45E8-9525-FC891E9C3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F07D-FEB2-460D-8DCB-DB63B5D27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05C6-E7F5-473F-A780-4B6C8212F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0B70-F91E-498E-A8FC-BF4CCB339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87EC-EB48-4B4D-8282-0085DF46E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B273-1BCC-46C9-8F1A-06C575FE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8C29-4597-44D1-98A4-4ACB1EED9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2BAB-29F4-4042-B6EA-B457342AC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7A8F-7350-4972-BEE5-519DEA015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6C26-8E97-456B-94C3-F112C6619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474A-593A-4EDD-AEB9-7BAA6388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CF5B-60EF-4159-B808-D59F7BCC9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79B5-93B0-4FA6-86D8-CB5B71EC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5DCC-F74C-4959-9D1C-4F00C1E3B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F110-0AF4-40D0-912F-1692E5148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A033-43A0-499B-AFE2-1D5639F3E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42AF-4F93-4CBB-9389-AD3184266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6A33-1B52-4252-8E0F-54207823C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EE04-D3F5-4F24-81B8-DA8BAF99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4236-CC9A-415A-9067-E645CC39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319E-656F-43E0-83AC-24B1DC40C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F043-DD0F-44EF-A648-4AEBA5CB1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B60E-4D6B-4407-9336-309F22172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9E9-3853-4B0F-8674-5799D7228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3CA7-A5C4-4D6A-A38E-286EC00E1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2407-34BF-4D08-9E74-0CFFC72D9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2359-2B33-4CFD-82F0-6C0E471E6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F91B-3659-4DF8-95E5-7A76FD4A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D4A3-6C8D-448D-9339-864C46B92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A907-CDE3-4AFE-B50F-DA6BE75DA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13B9-CF25-4204-AD82-EA637CCE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943E-F5FE-44B2-BD82-F550D70A1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1BA1-C6AA-4E95-AB12-C40DBA5B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1399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69840" y="3257640"/>
            <a:ext cx="77709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5500800" y="6513480"/>
            <a:ext cx="4208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B9A2-979D-40B1-9DEF-2B7B9C3DC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D203-5E63-4A1E-A24A-A9743F9D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035-DA25-490D-99E5-C5400D66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8D3-25C7-4B01-90C2-C3C2654A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BF2-58DA-4420-928C-263174D5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F34-35D0-443C-89D2-B35DBB59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14E9-D11C-4784-91B3-5B234C75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11A-735F-4199-A62D-03CEF29F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B5C-2610-43B7-8A05-73A01447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D9D-CFE6-4096-AD53-D61FA0D5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B57-604A-4C68-A53E-5D2F6FBF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6B36-8051-45D5-8EF2-4C96CB37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A17F-146F-4F3C-BFA1-7431C275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1A8C-0AC2-464E-8A4D-5A82812494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0"/>
          <p:cNvSpPr/>
          <p:nvPr/>
        </p:nvSpPr>
        <p:spPr>
          <a:xfrm>
            <a:off x="1476360" y="32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he family as client: assessment and diagnosis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epared  by Suhail  Al Hu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mou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84360" y="435780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285840" y="135720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he family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s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lient: home vis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A7B5B91-EDCA-4A8D-A114-CBE70D1D603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8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Health task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285840" y="1571760"/>
            <a:ext cx="8607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gnizing interruptions of health or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eking health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Health and non- health c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ing nursing care to the sick, disabled and dependent member of the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ing a home environment conductive to good health and personal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taining a reciprocal relationship with the community and health and instit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9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B1990F0-9C9F-487A-A111-95BA593619BA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9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mportance of family heal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285840" y="1571760"/>
            <a:ext cx="835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mily as a unit of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 of the family health on individual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 of family on community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0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C7D95FD-F3F1-4438-97A4-29360EE3982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1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mily health assess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285840" y="157176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sessing family health in a systematic fashion require thre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eptual framework upon which to dbase the 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clearly defined set of assessment categories for 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ethod for measuring a family’s level of functio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2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EDCACFA-EB5F-4FFF-AE3F-BB6D75235400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2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onceptual frame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285840" y="1571760"/>
            <a:ext cx="86072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conceptual framework is a set of concepts integrated into meaningful explanation that helps one interpret human behavior or sit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ee conceptual frameworks are particularly useful in community health nur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3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54E0627-8A43-4F37-A9BF-210F6035D0D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4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eractional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285840" y="157176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scribes the family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it of interact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sonaliti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mphasize communica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o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ing pattern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cision-making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 focus on internal relationship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5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D469A8F-9C08-438C-9555-5BD8792B97C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5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714240" y="857160"/>
            <a:ext cx="79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e structual-functional frame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285840" y="157176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scribes the family as a social system relating to other social systems in the external environment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ligion pla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alth care sys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6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3C110E0-1F2D-4548-A205-B2D5986C600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7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he developmental framewo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285840" y="157176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udies family from lifecycle perspective by examine members changes roles and tasks in each progressive life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8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8CE6E33-5321-47F9-B4D2-F9E3187A8E7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28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amily developmental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285840" y="1571760"/>
            <a:ext cx="835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ginn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blishing a mutually satisfying marri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to have or not have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Childbear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ving and adjusting to inf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Support needs of all three me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Renegotiating marit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29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F77ACAC-DE04-4C61-9E26-A45F8A7BF34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0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"/>
          <p:cNvSpPr/>
          <p:nvPr/>
        </p:nvSpPr>
        <p:spPr>
          <a:xfrm>
            <a:off x="395280" y="98100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with pre- school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cost of family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apting to needs of pre-school children to stimulate growth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ping and parental loss of energy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Family with school age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the activity of growing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ting joint decision making between children and par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couraging and supporting children’s educational achie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12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A446EE5-C2B2-4DBC-AD1D-5CD438C60F2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18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24000" y="765000"/>
            <a:ext cx="8358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Family with teenagers and young ad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open communication among me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porting ethical and moral values within the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lancing freedom with responsibility of teena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easing rituals and as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rengthening marital 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supportive home base young adults with appropri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2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F669FF2-CE0C-4B93-8B6D-B779565E87D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10"/>
          <p:cNvSpPr/>
          <p:nvPr/>
        </p:nvSpPr>
        <p:spPr>
          <a:xfrm>
            <a:off x="468360" y="208080"/>
            <a:ext cx="86058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: </a:t>
            </a:r>
            <a:r>
              <a:rPr b="0" lang="en-US" sz="20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obj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611280" y="857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fter completion the lecture the students en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85840" y="1285920"/>
            <a:ext cx="8572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e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roles and functions of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different types of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acknowledge why family is considered as the unit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cognize the developmental tasks and health tasks of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cribe the decision making in the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umerate and apply the different steps in Decision Ma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ss how to prepare for a home health care visit and how to conduct the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y personal safety precautions a home care nurse should take  when making home vis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7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1EC60D5-0C5B-4221-BB27-35A2F396B92D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3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324000" y="76500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- parental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paring for reti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taining ties with younger and older gen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 Aging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justing to retir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Adjusting to loss of spo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Closing family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4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D1820FA-EEA3-446D-85C6-1799F69DF75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4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Rectangle 10"/>
          <p:cNvSpPr/>
          <p:nvPr/>
        </p:nvSpPr>
        <p:spPr>
          <a:xfrm>
            <a:off x="1357200" y="11484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ata collection catego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285840" y="1643040"/>
            <a:ext cx="864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ist of 12 data collection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demographic  ( composition, socioeconom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Physica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. housing and the conditions inside, outside and surrounding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. Any existing safety or environmental haza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. The amount and quality or services avail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. Geography and climat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5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6A943D4-EADD-4B52-BF13-0CBC255E0D3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6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4"/>
          <p:cNvSpPr/>
          <p:nvPr/>
        </p:nvSpPr>
        <p:spPr>
          <a:xfrm>
            <a:off x="179280" y="836640"/>
            <a:ext cx="864396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Psychological and spiritual environment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tual respect, support, promation and members self-es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Family structure and ro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sion of labor and al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of authority and pow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 Family functions refers to a a family’s ability to carry out apporopriate developmental tasks and provide for it’s members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 family values and beliefs influence all aspects of family life, E.g making and spending money, education, work and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71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B7C513E6-3893-42A8-B265-23B8B3107E3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77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250920" y="907920"/>
            <a:ext cx="8643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. Family communication pattern include the frequency and quality of communication with a family and between the family and its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. Family decision-making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 Family problem so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. Family coping patterns , family support system, responses to stress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. Family health behav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. Family social and culture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38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321EE86-0F2F-4A2B-9B9E-FC275D12177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39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10"/>
          <p:cNvSpPr/>
          <p:nvPr/>
        </p:nvSpPr>
        <p:spPr>
          <a:xfrm>
            <a:off x="1357200" y="57240"/>
            <a:ext cx="771696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assessment methods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4"/>
          <p:cNvSpPr/>
          <p:nvPr/>
        </p:nvSpPr>
        <p:spPr>
          <a:xfrm>
            <a:off x="539640" y="907920"/>
            <a:ext cx="8104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ssessmen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comap: is diagram of the connection between a family and the other system in its ecological enviroment or it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icture of the family’s patter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rses can use an ecomap to identi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resources that are pre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ily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ions that are present or abs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alance or lack of balance between a family's needs and the resources available to the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Slide Number Placeholder 7"/>
          <p:cNvGrpSpPr/>
          <p:nvPr/>
        </p:nvGrpSpPr>
        <p:grpSpPr>
          <a:xfrm>
            <a:off x="8296200" y="6364440"/>
            <a:ext cx="903240" cy="603000"/>
            <a:chOff x="8296200" y="6364440"/>
            <a:chExt cx="903240" cy="603000"/>
          </a:xfrm>
        </p:grpSpPr>
        <p:pic>
          <p:nvPicPr>
            <p:cNvPr id="401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64440"/>
              <a:ext cx="903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92930F9-4DA0-4493-A884-D54A7020C42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07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4"/>
          <p:cNvSpPr/>
          <p:nvPr/>
        </p:nvSpPr>
        <p:spPr>
          <a:xfrm>
            <a:off x="214200" y="928800"/>
            <a:ext cx="84297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graphic picture of family history, usually used over three or more generatio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enogram maps such information as/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ationships among family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ortant life ev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of res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racteristics such as race, culture and religious affili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Slide Number Placeholder 7"/>
          <p:cNvGrpSpPr/>
          <p:nvPr/>
        </p:nvGrpSpPr>
        <p:grpSpPr>
          <a:xfrm>
            <a:off x="8296200" y="6364440"/>
            <a:ext cx="903240" cy="603000"/>
            <a:chOff x="8296200" y="6364440"/>
            <a:chExt cx="903240" cy="603000"/>
          </a:xfrm>
        </p:grpSpPr>
        <p:pic>
          <p:nvPicPr>
            <p:cNvPr id="416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64440"/>
              <a:ext cx="90324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8358120" y="6399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374E3D5-FCEF-47FF-A9AE-E851BF9E98F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22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9"/>
          <p:cNvSpPr/>
          <p:nvPr/>
        </p:nvSpPr>
        <p:spPr>
          <a:xfrm>
            <a:off x="642960" y="428616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5"/>
          <p:cNvSpPr/>
          <p:nvPr/>
        </p:nvSpPr>
        <p:spPr>
          <a:xfrm>
            <a:off x="357120" y="714240"/>
            <a:ext cx="828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amily assessment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357120" y="1143000"/>
            <a:ext cx="878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lain" startAt="7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5                           48                               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ung                         heart                          car                            br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r                    disea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ccident                        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2                                                                         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abetes                                                                 bre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6"/>
          <p:cNvSpPr/>
          <p:nvPr/>
        </p:nvSpPr>
        <p:spPr>
          <a:xfrm>
            <a:off x="1000080" y="1785960"/>
            <a:ext cx="35712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7"/>
          <p:cNvSpPr/>
          <p:nvPr/>
        </p:nvSpPr>
        <p:spPr>
          <a:xfrm>
            <a:off x="2143080" y="1643040"/>
            <a:ext cx="428760" cy="3571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8"/>
          <p:cNvSpPr/>
          <p:nvPr/>
        </p:nvSpPr>
        <p:spPr>
          <a:xfrm>
            <a:off x="5357880" y="1785960"/>
            <a:ext cx="285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"/>
          <p:cNvSpPr/>
          <p:nvPr/>
        </p:nvSpPr>
        <p:spPr>
          <a:xfrm>
            <a:off x="6929280" y="1714680"/>
            <a:ext cx="214560" cy="214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0"/>
          <p:cNvSpPr/>
          <p:nvPr/>
        </p:nvSpPr>
        <p:spPr>
          <a:xfrm>
            <a:off x="1643040" y="2857680"/>
            <a:ext cx="35712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21"/>
          <p:cNvSpPr/>
          <p:nvPr/>
        </p:nvSpPr>
        <p:spPr>
          <a:xfrm>
            <a:off x="5857920" y="2786040"/>
            <a:ext cx="357120" cy="428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23"/>
          <p:cNvSpPr/>
          <p:nvPr/>
        </p:nvSpPr>
        <p:spPr>
          <a:xfrm flipH="1">
            <a:off x="2426760" y="2143080"/>
            <a:ext cx="180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25"/>
          <p:cNvSpPr/>
          <p:nvPr/>
        </p:nvSpPr>
        <p:spPr>
          <a:xfrm flipH="1">
            <a:off x="1141560" y="214308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27"/>
          <p:cNvSpPr/>
          <p:nvPr/>
        </p:nvSpPr>
        <p:spPr>
          <a:xfrm>
            <a:off x="1143000" y="2428920"/>
            <a:ext cx="12859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31"/>
          <p:cNvSpPr/>
          <p:nvPr/>
        </p:nvSpPr>
        <p:spPr>
          <a:xfrm flipH="1">
            <a:off x="5500800" y="2071800"/>
            <a:ext cx="144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33"/>
          <p:cNvSpPr/>
          <p:nvPr/>
        </p:nvSpPr>
        <p:spPr>
          <a:xfrm flipH="1">
            <a:off x="7071840" y="2000160"/>
            <a:ext cx="18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35"/>
          <p:cNvSpPr/>
          <p:nvPr/>
        </p:nvSpPr>
        <p:spPr>
          <a:xfrm>
            <a:off x="5500800" y="2357280"/>
            <a:ext cx="1571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37"/>
          <p:cNvSpPr/>
          <p:nvPr/>
        </p:nvSpPr>
        <p:spPr>
          <a:xfrm flipH="1">
            <a:off x="5928840" y="2428920"/>
            <a:ext cx="7164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39"/>
          <p:cNvSpPr/>
          <p:nvPr/>
        </p:nvSpPr>
        <p:spPr>
          <a:xfrm>
            <a:off x="1785240" y="2500200"/>
            <a:ext cx="34920" cy="35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41"/>
          <p:cNvSpPr/>
          <p:nvPr/>
        </p:nvSpPr>
        <p:spPr>
          <a:xfrm>
            <a:off x="6072120" y="3286080"/>
            <a:ext cx="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44"/>
          <p:cNvSpPr/>
          <p:nvPr/>
        </p:nvSpPr>
        <p:spPr>
          <a:xfrm>
            <a:off x="1820160" y="3286080"/>
            <a:ext cx="3636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46"/>
          <p:cNvSpPr/>
          <p:nvPr/>
        </p:nvSpPr>
        <p:spPr>
          <a:xfrm flipH="1" flipV="1">
            <a:off x="1857240" y="3499920"/>
            <a:ext cx="42148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48"/>
          <p:cNvSpPr/>
          <p:nvPr/>
        </p:nvSpPr>
        <p:spPr>
          <a:xfrm flipH="1">
            <a:off x="3927600" y="3502080"/>
            <a:ext cx="144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51"/>
          <p:cNvSpPr/>
          <p:nvPr/>
        </p:nvSpPr>
        <p:spPr>
          <a:xfrm>
            <a:off x="5500800" y="4429080"/>
            <a:ext cx="64296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Oval 52"/>
          <p:cNvSpPr/>
          <p:nvPr/>
        </p:nvSpPr>
        <p:spPr>
          <a:xfrm>
            <a:off x="4357800" y="4429080"/>
            <a:ext cx="64296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3"/>
          <p:cNvSpPr/>
          <p:nvPr/>
        </p:nvSpPr>
        <p:spPr>
          <a:xfrm>
            <a:off x="2928960" y="4572000"/>
            <a:ext cx="50004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4"/>
          <p:cNvSpPr/>
          <p:nvPr/>
        </p:nvSpPr>
        <p:spPr>
          <a:xfrm>
            <a:off x="1714680" y="4643280"/>
            <a:ext cx="500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56"/>
          <p:cNvCxnSpPr>
            <a:endCxn id="449" idx="7"/>
          </p:cNvCxnSpPr>
          <p:nvPr/>
        </p:nvCxnSpPr>
        <p:spPr>
          <a:xfrm flipH="1">
            <a:off x="6049080" y="4285080"/>
            <a:ext cx="523080" cy="23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4" name="Straight Connector 60"/>
          <p:cNvSpPr/>
          <p:nvPr/>
        </p:nvSpPr>
        <p:spPr>
          <a:xfrm>
            <a:off x="1643040" y="4143240"/>
            <a:ext cx="428616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62"/>
          <p:cNvSpPr/>
          <p:nvPr/>
        </p:nvSpPr>
        <p:spPr>
          <a:xfrm>
            <a:off x="5786280" y="4214880"/>
            <a:ext cx="3672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4"/>
          <p:cNvSpPr/>
          <p:nvPr/>
        </p:nvSpPr>
        <p:spPr>
          <a:xfrm>
            <a:off x="4572000" y="4214880"/>
            <a:ext cx="712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66"/>
          <p:cNvSpPr/>
          <p:nvPr/>
        </p:nvSpPr>
        <p:spPr>
          <a:xfrm>
            <a:off x="3071160" y="4143240"/>
            <a:ext cx="1062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68"/>
          <p:cNvSpPr/>
          <p:nvPr/>
        </p:nvSpPr>
        <p:spPr>
          <a:xfrm flipH="1">
            <a:off x="2069640" y="421632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46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483808B-6433-4CED-A913-125C917042C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6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14"/>
          <p:cNvSpPr/>
          <p:nvPr/>
        </p:nvSpPr>
        <p:spPr>
          <a:xfrm>
            <a:off x="214200" y="928800"/>
            <a:ext cx="84297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Family Health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cord of diseases that occur in a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used to tr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eases that have genetic b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vironmental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al health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47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3A19FF7-411B-4EF9-9E3E-3391BA609577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8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4"/>
          <p:cNvSpPr/>
          <p:nvPr/>
        </p:nvSpPr>
        <p:spPr>
          <a:xfrm>
            <a:off x="214200" y="928800"/>
            <a:ext cx="842976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two systems of nursing diag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NA ND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s nursing diagnosis labe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b. Omaha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for community health nurs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 rating scale for outcom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49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C330813-4B0A-4555-A194-0C2106B543D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49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4"/>
          <p:cNvSpPr/>
          <p:nvPr/>
        </p:nvSpPr>
        <p:spPr>
          <a:xfrm>
            <a:off x="214200" y="928800"/>
            <a:ext cx="842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idelines for family health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us  on the family as a tot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tilize goal-directed ques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adequate time for data col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quantitive data with qualitativ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rcise professional jud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0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C158B59-17E4-4B81-86ED-5254BA0BB09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8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10"/>
          <p:cNvSpPr/>
          <p:nvPr/>
        </p:nvSpPr>
        <p:spPr>
          <a:xfrm>
            <a:off x="971640" y="168120"/>
            <a:ext cx="8102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14240" y="857160"/>
            <a:ext cx="714384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Working in a community setting generally involves working with families. CHN must there for understand the interactions and  dynamics of families so that they can provide appropriate family assessment , planning, intervention and evalu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8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8097EFF-98FF-4AFA-925E-66D0DAFE6BB4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1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Rectangle 10"/>
          <p:cNvSpPr/>
          <p:nvPr/>
        </p:nvSpPr>
        <p:spPr>
          <a:xfrm>
            <a:off x="3071880" y="62640"/>
            <a:ext cx="607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assessment and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4"/>
          <p:cNvSpPr/>
          <p:nvPr/>
        </p:nvSpPr>
        <p:spPr>
          <a:xfrm>
            <a:off x="179280" y="765000"/>
            <a:ext cx="84297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emb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ning and intervention for families must be in partnership with family members, not imposed from by C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nning and intervention for families by CHN must used the three level of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with the family collectiv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t where the family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t nursing intervention to the family stage of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gnize the validity of family structural var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phasize family strength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2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3B41AFC-C119-4EB0-A272-AC1DF74B3885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2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214200" y="928800"/>
            <a:ext cx="842976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oals of primary health nursing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ften met through providing health c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milies in their home. It can b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iting nurse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ublic health depar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me health agen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distric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3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0ED8F7E-55F4-46A0-B9D9-70206B173AA3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4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4"/>
          <p:cNvSpPr/>
          <p:nvPr/>
        </p:nvSpPr>
        <p:spPr>
          <a:xfrm>
            <a:off x="285840" y="785880"/>
            <a:ext cx="8643960" cy="68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tages of home vis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visits cost less than hospital care, with better outcomes, especially when chronic health issues are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ents have greater control over their health and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mmunity health nurse gains access to families to provide health education and other prevention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rse can observe family and environment factors that influence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 visits allow for primary intervention, to prevent disease or injury from occur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me visits facilitate family participation and promote family fo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5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DD16F4B-8887-48D4-BF75-AE8292865A0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5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4"/>
          <p:cNvSpPr/>
          <p:nvPr/>
        </p:nvSpPr>
        <p:spPr>
          <a:xfrm>
            <a:off x="500040" y="785880"/>
            <a:ext cx="86439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advantages of home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urses skills, personality, or physical ability may not be compatible with providing home vi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e visits are time consuming; travel time is required to get to the persons needing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re is no easy access to emergency equipment or consultation with other health professionals if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ome visits may present issues regarding the nurse personal safety in some community or family  set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nurse has less control over the care setting (for example, cleanliness, noise, privacy, or distract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6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EDAE563-9F2A-4379-B8FE-DD120938019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7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4"/>
          <p:cNvSpPr/>
          <p:nvPr/>
        </p:nvSpPr>
        <p:spPr>
          <a:xfrm>
            <a:off x="500040" y="785880"/>
            <a:ext cx="86439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ommunity health nurse develops objectives for primary, secondary, and tertiary prevention levels, in consultation with the family. To accomplish these objectives, the nurse needs to: Assess clients ability or willingness to comply with treatment directions and/ or change certain behaviors. Anticipate family needs, such as the timing of visits, the need to educate family members, respite care,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8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2CEDA0C-7BDC-4580-BE41-4D8DA93EA1EF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58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4"/>
          <p:cNvSpPr/>
          <p:nvPr/>
        </p:nvSpPr>
        <p:spPr>
          <a:xfrm>
            <a:off x="500040" y="785880"/>
            <a:ext cx="86439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unity health nurse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quirements include equipment for basic assessment, medical asepsis, and waste dis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se precautions must be followed to avoid contamination from blood, body secretions, excretions, or contaminated i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ash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Use glo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ear eye and face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Wear g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Handle client care equipm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 carefu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Clean environmental su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Use proper sharps disposal contai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59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35BE955-48DC-4E7E-9E1F-6DF0C8F2A7A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0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14"/>
          <p:cNvSpPr/>
          <p:nvPr/>
        </p:nvSpPr>
        <p:spPr>
          <a:xfrm>
            <a:off x="500040" y="785880"/>
            <a:ext cx="86439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community health nurse doing home visits usually works as part of a home health care team that can includes social workers, rehabilitation specialists, and home health nurses or aides. Cooperation and communication with other care providers are ess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1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119F667D-804D-4853-AA74-84D6F9056EA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16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Rectangle 10"/>
          <p:cNvSpPr/>
          <p:nvPr/>
        </p:nvSpPr>
        <p:spPr>
          <a:xfrm>
            <a:off x="3071880" y="214920"/>
            <a:ext cx="607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4"/>
          <p:cNvSpPr/>
          <p:nvPr/>
        </p:nvSpPr>
        <p:spPr>
          <a:xfrm>
            <a:off x="500040" y="785880"/>
            <a:ext cx="864396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three most common intervention in home health care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elping families deal with stress created by health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ing referrals for community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ing and educating clients, with the focus on strengths rather than weak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25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7022091-779E-42D8-9023-A23D28B07062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631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Rectangle 10"/>
          <p:cNvSpPr/>
          <p:nvPr/>
        </p:nvSpPr>
        <p:spPr>
          <a:xfrm>
            <a:off x="4286160" y="21492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empus Sans ITC"/>
              </a:rPr>
              <a:t>The family as client: home vi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3"/>
          <p:cNvSpPr/>
          <p:nvPr/>
        </p:nvSpPr>
        <p:spPr>
          <a:xfrm>
            <a:off x="714240" y="1571760"/>
            <a:ext cx="75009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4"/>
          <p:cNvSpPr/>
          <p:nvPr/>
        </p:nvSpPr>
        <p:spPr>
          <a:xfrm>
            <a:off x="0" y="428760"/>
            <a:ext cx="9144000" cy="76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valu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the ongoing process that continually assesses clients progress toward expected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ermination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f home visits occurs when both client and nurse are satisfied that goals have been met or that appropriate referrals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elemedicine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ch use phone and computer technologies to monitor clients and provide care without the nurse making a home vis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Slide Number Placeholder 7"/>
          <p:cNvGrpSpPr/>
          <p:nvPr/>
        </p:nvGrpSpPr>
        <p:grpSpPr>
          <a:xfrm>
            <a:off x="8326440" y="6345360"/>
            <a:ext cx="873000" cy="598320"/>
            <a:chOff x="8326440" y="6345360"/>
            <a:chExt cx="873000" cy="598320"/>
          </a:xfrm>
        </p:grpSpPr>
        <p:pic>
          <p:nvPicPr>
            <p:cNvPr id="640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326440" y="6345360"/>
              <a:ext cx="8730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"/>
            <p:cNvSpPr/>
            <p:nvPr/>
          </p:nvSpPr>
          <p:spPr>
            <a:xfrm>
              <a:off x="8388360" y="6381720"/>
              <a:ext cx="755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4BE751E-3BF8-4B94-A2AE-F61F189C966B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95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10"/>
          <p:cNvSpPr/>
          <p:nvPr/>
        </p:nvSpPr>
        <p:spPr>
          <a:xfrm>
            <a:off x="755640" y="209520"/>
            <a:ext cx="8318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nt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642960" y="4429080"/>
            <a:ext cx="77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ntroduction Cont….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85840" y="1571760"/>
            <a:ext cx="7742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us an understanding of family dynamics and the context of the community assists the nurse in planning c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family is the client, the nurse determines the health status of the family and its individual members, the level of family functioning, family interaction family strengths and wea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04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1ECC958-5E54-452F-AB83-E47B32CF766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10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10"/>
          <p:cNvSpPr/>
          <p:nvPr/>
        </p:nvSpPr>
        <p:spPr>
          <a:xfrm>
            <a:off x="1357200" y="209520"/>
            <a:ext cx="77169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: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empus Sans ITC"/>
              </a:rPr>
              <a:t>Defin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85840" y="157176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amily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is  two or more persons related by birth, marriage, or adoption who reside together in a house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amily is a structural unit composed of a man and women who are married and have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19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ADF001B-9CCD-4519-B40D-F8DA86AB281E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25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10"/>
          <p:cNvSpPr/>
          <p:nvPr/>
        </p:nvSpPr>
        <p:spPr>
          <a:xfrm>
            <a:off x="684360" y="209520"/>
            <a:ext cx="83898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Characterist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395280" y="857160"/>
            <a:ext cx="842472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racteristics of the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is a soci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s a it’s own cultural values and r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is the first social group to which the individual is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s a struc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have certain bas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ery family moves through stages in its life cyc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3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5BC6E7B-A39F-4C70-846B-78F0ADA96141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3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0"/>
          <p:cNvSpPr/>
          <p:nvPr/>
        </p:nvSpPr>
        <p:spPr>
          <a:xfrm>
            <a:off x="1427040" y="360"/>
            <a:ext cx="771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ypes of family 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285840" y="157176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clear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tende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une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ly of ori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lende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ngle parent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ally married or traditionally married. It’s the only form accepted culturally in our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4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364EE83-8266-4503-9512-BC6ABCF86669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54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714240" y="85716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unction of the fam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285840" y="1571760"/>
            <a:ext cx="8358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ection, love, care, an emotional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fili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cia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nse of belonging and of history  and pl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ly rituals for rejoicing and griev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ystems for earning money , supporting partners and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ing of labor, chores required to keep the family run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63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7718CBF-DB83-49C1-8F18-13652EA3903C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04840" y="561960"/>
            <a:ext cx="847080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297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8648640" y="498600"/>
            <a:ext cx="306360" cy="122040"/>
            <a:chOff x="8648640" y="498600"/>
            <a:chExt cx="306360" cy="122040"/>
          </a:xfrm>
        </p:grpSpPr>
        <p:sp>
          <p:nvSpPr>
            <p:cNvPr id="169" name="AutoShape 7"/>
            <p:cNvSpPr/>
            <p:nvPr/>
          </p:nvSpPr>
          <p:spPr>
            <a:xfrm>
              <a:off x="8648640" y="498600"/>
              <a:ext cx="134640" cy="1220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"/>
            <p:cNvSpPr/>
            <p:nvPr/>
          </p:nvSpPr>
          <p:spPr>
            <a:xfrm>
              <a:off x="873432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>
              <a:off x="8820000" y="498600"/>
              <a:ext cx="135000" cy="122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22040"/>
                <a:gd name="textAreaBottom" fmla="*/ 122040 h 1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1357200" y="87840"/>
            <a:ext cx="771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Franklin Gothic Heavy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66ff"/>
                </a:solidFill>
                <a:latin typeface="Tempus Sans ITC"/>
              </a:rPr>
              <a:t>The family as client: assessment and diagnosis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:      </a:t>
            </a:r>
            <a:r>
              <a:rPr b="1" lang="en-US" sz="1600" spc="-1" strike="noStrike">
                <a:solidFill>
                  <a:srgbClr val="ff0000"/>
                </a:solidFill>
                <a:latin typeface="Tempus Sans ITC"/>
              </a:rPr>
              <a:t>Int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79280" y="6669000"/>
            <a:ext cx="88315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714240" y="4357800"/>
            <a:ext cx="777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714240" y="857160"/>
            <a:ext cx="79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racteristics of healthy fami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285840" y="157176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cilitative interaction among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hancement of individual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ive structuring of relation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ve coping ef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althy environment and lifesty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ular link with the border commin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Slide Number Placeholder 7"/>
          <p:cNvGrpSpPr/>
          <p:nvPr/>
        </p:nvGrpSpPr>
        <p:grpSpPr>
          <a:xfrm>
            <a:off x="8296200" y="6334200"/>
            <a:ext cx="903240" cy="609480"/>
            <a:chOff x="8296200" y="6334200"/>
            <a:chExt cx="903240" cy="609480"/>
          </a:xfrm>
        </p:grpSpPr>
        <p:pic>
          <p:nvPicPr>
            <p:cNvPr id="178" name="Slide Number Placeholder 7" descr=""/>
            <p:cNvPicPr/>
            <p:nvPr/>
          </p:nvPicPr>
          <p:blipFill>
            <a:blip r:embed="rId1"/>
            <a:stretch/>
          </p:blipFill>
          <p:spPr>
            <a:xfrm>
              <a:off x="8296200" y="633420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8358120" y="6372360"/>
              <a:ext cx="78588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AF2320B-A89E-4753-A004-33FC4B965936}" type="slidenum">
                <a:rPr b="1" lang="ar-SA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&lt;number&gt;</a:t>
              </a:fld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7:47:33Z</dcterms:created>
  <dc:creator>Carole Morrison</dc:creator>
  <dc:description/>
  <dc:language>en-US</dc:language>
  <cp:lastModifiedBy>user</cp:lastModifiedBy>
  <cp:lastPrinted>2008-03-05T21:18:32Z</cp:lastPrinted>
  <dcterms:modified xsi:type="dcterms:W3CDTF">2010-11-07T21:14:07Z</dcterms:modified>
  <cp:revision>272</cp:revision>
  <dc:subject/>
  <dc:title>Slide 1</dc:title>
</cp:coreProperties>
</file>