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091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080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080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A9B-23AC-45BE-BCBA-FCD78B64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57F-F888-44C5-9871-8E0E6184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2BD9-0E5B-4D78-939B-C333687A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D875-A3E4-47FE-96C7-3582E179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932-50ED-4127-81EA-5F74DE99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9CC-03FB-446B-AB27-0EA87A6C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BA3-E77B-4D07-A5D2-29785134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738-D47B-4CC5-BD03-5D608688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8098-F53F-4837-96C3-D6049615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BDE-78BA-4026-9961-E6891147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34A-CB34-4298-B93D-31722776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1E27-D416-45A7-BCAD-3D5BFA3E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939-8779-46CF-A00E-43346D7D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3E8-FD0B-4BD5-AFDC-D84B73618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20D-8D6B-45DA-9933-487C1061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70DF-036B-4FB2-88AF-73AA52F3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49A-69F2-4F59-89A6-96C84E1D3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1C36-D012-4A26-AE54-E38A8FF6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3BA-B394-4983-89ED-18D46E8C3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38D4-B757-4019-BCDF-05EB1DD3E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A24-D8D8-43A2-8BD2-E1D72C3A4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2E14-0465-4BFE-80E4-650C8768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403-E012-42ED-8AA4-9C6AF70B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256-651D-4B1C-9748-7C277A22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4F3-77C7-4C47-9ABC-0C382142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61A-BF36-496D-AC7B-BE269452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20F-C175-4D1E-B4E9-F5F2275D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071-73D9-4365-9AF5-F6360E9E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7117-D523-472C-9BF8-58EA7DE6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E7A7-E1E4-4AED-84ED-F6B2D41D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C50A-2E4C-4082-96E4-3D8E6896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40A-DCE1-43E5-BB5C-DABF7E586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3B37-B91A-416E-A7B5-BD2F7E78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C05F-6961-4A81-A9E8-D5885CA9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1642-683C-468A-ABE0-03271A4F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695C-803D-4145-B1D4-610C386A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2D7-81D8-4B5B-A2B8-072A1A6D9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4412-2046-410B-B697-2FC9BDF2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A953-D942-44C4-8088-2A4602776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0E8-347D-423C-B52A-84A6AD96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DB-A8B2-46C4-9A90-95CB9070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713-C9CB-4DBB-BEEB-3389854C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674-86C9-4304-AF66-658CD86E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078-0AA7-42B0-97A4-798231F2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9C9-303B-4B3E-9A65-647B1C7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721-F3B5-40AF-BACD-38381AC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4B9-4E11-489A-AF98-8CC721A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B44-4D61-4A6B-B20C-B649D98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FDC-0400-4804-8C2A-947D034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230-4D66-4566-AAED-28615CB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E0C-44DB-46E1-92C1-70840E7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D9B6-F4E6-4123-A143-303D3D2E71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32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family as client: assessment and diagnosis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epared  by Suhail  Al Hu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mo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85840" y="1357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family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ent: home vis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84FCF15-0072-426E-9685-FF96736B827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85840" y="1571760"/>
            <a:ext cx="86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5B4A94C-D9C2-4FC8-9BD9-6FB14640141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9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85840" y="157176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0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7692B8-7414-41D6-81A6-DAA3EE51764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1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health assess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85840" y="157176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ing family health in a systematic fashion require thre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eptual framework upon which to dbase th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learly defined set of assessment categories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ethod for measuring a family’s level of functi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2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E5D0E4B-A631-473A-B1AF-183FB3B2250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285840" y="1571760"/>
            <a:ext cx="86072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conceptual frameworks are particularly useful in community health nu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3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57EF0EE-5A23-444A-B265-F7A06224E4C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 of interac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it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hasize communic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ing pattern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ision-making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focus on internal relationshi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5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1B29D8D-5516-4DDC-B69C-BFEA7EB6492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714240" y="857160"/>
            <a:ext cx="79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structual-functional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285840" y="157176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 a social system relating to other social systems in the external environment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gion pl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 care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6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737D245-A4EA-4D61-A7E9-CD6CF4A4CBA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7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developmental frame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85840" y="15717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 family from lifecycle perspective by examine members changes roles and tasks in each progressiv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8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9A3A59-E7D3-4F3F-97CD-99C2FD6F584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ing a mutually satisfying marri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to have or not hav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Childbear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and adjusting to inf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Support needs of all three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Renegotiating marit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9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F8F55B-3A4C-4EEF-B217-C70E8610BE6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0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95280" y="981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with pre- school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cost of family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ing to needs of pre-school children to stimulate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ping and parental loss of energy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with school ag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the activity of growing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joint decision making between children and 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ouraging and supporting children’s educational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1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E713CC0-4D9A-4578-9004-1B1C21AD091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18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24000" y="765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with teenagers and young ad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open communication among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ing ethical and moral values within the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ing freedom with responsibility of teena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rituals and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ngthening marital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supportive home base young adults with appropri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2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0627872-4B24-4D22-B9CA-68EF34DEECF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</a:t>
            </a:r>
            <a:r>
              <a:rPr b="0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85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85840" y="128592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acknowledge why family is considered as the unit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cognize the developmental tasks and health task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ecision making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umerate and apply the different steps in Decision 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 how to prepare for a home health care visit and how to conduct th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personal safety precautions a home care nurse should take  when making home vi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E36DB37-E11F-4CA8-B568-2DE7DFB388F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3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24000" y="76500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 parental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ing for ret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ties with younger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Ag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reti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Adjusting to loss of sp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Closing famil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2F04DF-8713-406A-92C0-675FB12D3BE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10"/>
          <p:cNvSpPr/>
          <p:nvPr/>
        </p:nvSpPr>
        <p:spPr>
          <a:xfrm>
            <a:off x="1357200" y="11484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ata collection categ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285840" y="164304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st of 12 data collec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demographic  ( composition, socioeconom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housing and the conditions inside, outside and surround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Any existing safety or environmental haz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The amount and quality or services avail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Geography and clim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EA4446A-91A0-41B7-825F-D5F88FEB58F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6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179280" y="836640"/>
            <a:ext cx="86439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Psychological and spiritual environment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respect, support, promation and members self-es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structure and ro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labor and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authority and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functions refers to a a family’s ability to carry out apporopriate developmental tasks and provide for it’s members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family values and beliefs influence all aspects of family life, E.g making and spending money, education, work and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7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DA41625-415B-46CE-A211-528931DF045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250920" y="9079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Family communication pattern include the frequency and quality of communication with a family and between the family and its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Family decision-making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Family problem so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Family coping patterns , family support system, responses to str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Family health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Family social and culture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8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C0BE0A-A642-4BCE-A97E-F5574E57587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9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1357200" y="57240"/>
            <a:ext cx="7716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assessment method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539640" y="907920"/>
            <a:ext cx="810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map: is diagram of the connection between a family and the other system in its ecological enviroment or it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0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959CFD-B53F-446D-9218-78A084C2C92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0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214200" y="928800"/>
            <a:ext cx="84297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phic picture of family history, usually used over three or more generati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ogram maps such information as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s among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lif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of res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such as race, culture and religious affil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1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3899580-9212-44E0-B33C-B67E498A405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2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42960" y="42861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357120" y="714240"/>
            <a:ext cx="828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mily assessmen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357120" y="114300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5                           48                              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ng                         heart                          car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                  dise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ident                        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2                                                                        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betes                                     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1000080" y="1785960"/>
            <a:ext cx="3571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2143080" y="1643040"/>
            <a:ext cx="42876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5357880" y="1785960"/>
            <a:ext cx="285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6929280" y="17146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1643040" y="28576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1"/>
          <p:cNvSpPr/>
          <p:nvPr/>
        </p:nvSpPr>
        <p:spPr>
          <a:xfrm>
            <a:off x="5857920" y="2786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3"/>
          <p:cNvSpPr/>
          <p:nvPr/>
        </p:nvSpPr>
        <p:spPr>
          <a:xfrm flipH="1">
            <a:off x="2426760" y="2143080"/>
            <a:ext cx="18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5"/>
          <p:cNvSpPr/>
          <p:nvPr/>
        </p:nvSpPr>
        <p:spPr>
          <a:xfrm flipH="1">
            <a:off x="1141560" y="21430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7"/>
          <p:cNvSpPr/>
          <p:nvPr/>
        </p:nvSpPr>
        <p:spPr>
          <a:xfrm>
            <a:off x="1143000" y="242892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31"/>
          <p:cNvSpPr/>
          <p:nvPr/>
        </p:nvSpPr>
        <p:spPr>
          <a:xfrm flipH="1">
            <a:off x="5500800" y="20718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3"/>
          <p:cNvSpPr/>
          <p:nvPr/>
        </p:nvSpPr>
        <p:spPr>
          <a:xfrm flipH="1">
            <a:off x="7071840" y="200016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35"/>
          <p:cNvSpPr/>
          <p:nvPr/>
        </p:nvSpPr>
        <p:spPr>
          <a:xfrm>
            <a:off x="5500800" y="2357280"/>
            <a:ext cx="1571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37"/>
          <p:cNvSpPr/>
          <p:nvPr/>
        </p:nvSpPr>
        <p:spPr>
          <a:xfrm flipH="1">
            <a:off x="5928840" y="2428920"/>
            <a:ext cx="716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39"/>
          <p:cNvSpPr/>
          <p:nvPr/>
        </p:nvSpPr>
        <p:spPr>
          <a:xfrm>
            <a:off x="1785240" y="2500200"/>
            <a:ext cx="3492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41"/>
          <p:cNvSpPr/>
          <p:nvPr/>
        </p:nvSpPr>
        <p:spPr>
          <a:xfrm>
            <a:off x="6072120" y="3286080"/>
            <a:ext cx="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44"/>
          <p:cNvSpPr/>
          <p:nvPr/>
        </p:nvSpPr>
        <p:spPr>
          <a:xfrm>
            <a:off x="1820160" y="3286080"/>
            <a:ext cx="363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6"/>
          <p:cNvSpPr/>
          <p:nvPr/>
        </p:nvSpPr>
        <p:spPr>
          <a:xfrm flipH="1" flipV="1">
            <a:off x="1857240" y="3499920"/>
            <a:ext cx="4214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48"/>
          <p:cNvSpPr/>
          <p:nvPr/>
        </p:nvSpPr>
        <p:spPr>
          <a:xfrm flipH="1">
            <a:off x="3927600" y="3502080"/>
            <a:ext cx="144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1"/>
          <p:cNvSpPr/>
          <p:nvPr/>
        </p:nvSpPr>
        <p:spPr>
          <a:xfrm>
            <a:off x="5500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2"/>
          <p:cNvSpPr/>
          <p:nvPr/>
        </p:nvSpPr>
        <p:spPr>
          <a:xfrm>
            <a:off x="4357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3"/>
          <p:cNvSpPr/>
          <p:nvPr/>
        </p:nvSpPr>
        <p:spPr>
          <a:xfrm>
            <a:off x="2928960" y="45720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4"/>
          <p:cNvSpPr/>
          <p:nvPr/>
        </p:nvSpPr>
        <p:spPr>
          <a:xfrm>
            <a:off x="1714680" y="4643280"/>
            <a:ext cx="500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56"/>
          <p:cNvCxnSpPr>
            <a:endCxn id="449" idx="7"/>
          </p:cNvCxnSpPr>
          <p:nvPr/>
        </p:nvCxnSpPr>
        <p:spPr>
          <a:xfrm flipH="1">
            <a:off x="6049080" y="4285080"/>
            <a:ext cx="52308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4" name="Straight Connector 60"/>
          <p:cNvSpPr/>
          <p:nvPr/>
        </p:nvSpPr>
        <p:spPr>
          <a:xfrm>
            <a:off x="1643040" y="4143240"/>
            <a:ext cx="42861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786280" y="4214880"/>
            <a:ext cx="367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4"/>
          <p:cNvSpPr/>
          <p:nvPr/>
        </p:nvSpPr>
        <p:spPr>
          <a:xfrm>
            <a:off x="4572000" y="4214880"/>
            <a:ext cx="71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66"/>
          <p:cNvSpPr/>
          <p:nvPr/>
        </p:nvSpPr>
        <p:spPr>
          <a:xfrm>
            <a:off x="3071160" y="4143240"/>
            <a:ext cx="1062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68"/>
          <p:cNvSpPr/>
          <p:nvPr/>
        </p:nvSpPr>
        <p:spPr>
          <a:xfrm flipH="1">
            <a:off x="2069640" y="421632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4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1E03C3-D682-4E24-BF32-B6D9C25C73B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214200" y="928800"/>
            <a:ext cx="84297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Family Health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ord of diseases that occur in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used to tr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eases that have genetic 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ironmental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al health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448640-39AA-44F3-8623-F55C15AC0D3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4"/>
          <p:cNvSpPr/>
          <p:nvPr/>
        </p:nvSpPr>
        <p:spPr>
          <a:xfrm>
            <a:off x="214200" y="928800"/>
            <a:ext cx="84297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systems of nursing diag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NA ND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nursing diagnosis lab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. Omah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 community health nur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ating scale for outcom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9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290121-F5A4-4FBE-9F80-45A38006E28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9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214200" y="92880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goal-directed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dequate time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quantitive data with qualit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se professional ju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0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A4C8C0-3B5C-4695-A159-2E160043421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0"/>
          <p:cNvSpPr/>
          <p:nvPr/>
        </p:nvSpPr>
        <p:spPr>
          <a:xfrm>
            <a:off x="971640" y="168120"/>
            <a:ext cx="8102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4240" y="857160"/>
            <a:ext cx="7143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ing in a community setting generally involves working with families. CHN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D3637A-73FA-465D-906B-944FFED3D09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1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179280" y="765000"/>
            <a:ext cx="84297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must be in partnership with family members, not imposed from by C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by CHN must used the three level of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the family coll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here the famil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 nursing intervention to the family stage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e the validity of family structural var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family strength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77972B-0310-4B93-AB8E-ABA4FA53600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214200" y="928800"/>
            <a:ext cx="84297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oals of primary health nursing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met through providing health c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ies in their home. It can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ing nurse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health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health ag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distric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3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02C1548-C3C1-4C4E-B7B9-1C514452A14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85840" y="785880"/>
            <a:ext cx="864396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visits cost less than hospital care, with better outcomes, especially when chronic health issue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have greater control over their health and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munity health nurse gains access to families to provide health education and other prevention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rse can observe family and environment factors that influenc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allow for primary intervention, to prevent disease or injury from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facilitate family participation and promote family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C5B9D4-8349-4273-8BD6-19CE125C39D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00040" y="785880"/>
            <a:ext cx="86439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advantages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s skills, personality, or physical ability may not be compatible with providing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are time consuming; travel time is required to get to the persons needing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no easy access to emergency equipment or consultation with other health professionals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may present issues regarding the nurse personal safety in some community or family 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 has less control over the care setting (for example, cleanliness, noise, privacy, or distrac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6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8CC7BE-646F-4B71-8CAF-D74671A27D4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7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4"/>
          <p:cNvSpPr/>
          <p:nvPr/>
        </p:nvSpPr>
        <p:spPr>
          <a:xfrm>
            <a:off x="500040" y="785880"/>
            <a:ext cx="864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unity health nurse develops objectives for primary, secondary, and tertiary prevention levels, in consultation with the family. To accomplish these objectives, the nurse needs to: Assess clients ability or willingness to comply with treatment directions and/ or change certain behaviors. Anticipate family needs, such as the timing of visits, the need to educate family members, respite care,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8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A5F3C6D-51CB-4EB0-9C7B-DDD038FC4F6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8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4"/>
          <p:cNvSpPr/>
          <p:nvPr/>
        </p:nvSpPr>
        <p:spPr>
          <a:xfrm>
            <a:off x="500040" y="785880"/>
            <a:ext cx="8643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ty health nurse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Handle client care equip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9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1A2B1B-3CE4-41AF-89A3-2C16732041A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0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500040" y="785880"/>
            <a:ext cx="8643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1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FFF3D2D-D4A7-433F-937C-D5D9360D7F7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1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00040" y="785880"/>
            <a:ext cx="8643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three most common intervention in home health car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ping families deal with stress created by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ing referrals for community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ing and educating clients, with the focus on strengths rather than wea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2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849AFA4-D998-4B03-B207-279A52A20C8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3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0"/>
          <p:cNvSpPr/>
          <p:nvPr/>
        </p:nvSpPr>
        <p:spPr>
          <a:xfrm>
            <a:off x="4286160" y="2149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4"/>
          <p:cNvSpPr/>
          <p:nvPr/>
        </p:nvSpPr>
        <p:spPr>
          <a:xfrm>
            <a:off x="0" y="428760"/>
            <a:ext cx="9144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ongoing process that continually assesses clients progress toward expected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rminati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home visits occurs when both client and nurse are satisfied that goals have been met or that appropriate referrals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lemedicine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use phone and computer technologies to monitor clients and provide care without the nurse making a home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04E7DE-2987-4FA6-AEA4-220CED5AE44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755640" y="209520"/>
            <a:ext cx="8318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42960" y="442908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 Cont….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85840" y="1571760"/>
            <a:ext cx="77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family is the client, the nurse determines the health status of the family and its individual members, the level of family functioning, family interaction family strengths and 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2BAEE23-1D7E-4962-BD3F-F2FCB8758E4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85840" y="157176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mily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 two or more persons related by birth, marriage, or adoption who reside together in a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is a structural unit composed of a man and women who are married and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20CD6FC-2DA2-4793-968B-4436B13B016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2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0"/>
          <p:cNvSpPr/>
          <p:nvPr/>
        </p:nvSpPr>
        <p:spPr>
          <a:xfrm>
            <a:off x="684360" y="209520"/>
            <a:ext cx="838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95280" y="857160"/>
            <a:ext cx="84247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is a soci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it’s own cultural values and r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is the first social group to which the individual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ve certain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moves through stages in its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3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E8BC23D-CACC-4C77-8DC5-05AA307458F8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3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427040" y="36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85840" y="157176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ar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ori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ly married or traditionally married. It’s the only form accepted culturally in ou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4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F34567F-B253-4F04-AEDD-9B25B1827C6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5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85840" y="1571760"/>
            <a:ext cx="835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ion, love, care, an emo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il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nse of belonging and of history  and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rituals for rejoicing and gri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for earning money , supporting partners and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labor, chores required to keep the family 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2BB10A9-B1C2-4796-9FAE-FBE04F86234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6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healthy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85840" y="15717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ilitative interaction amo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hancement of individu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structuring of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ve coping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y environment and lifest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 link with the border comm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494883F-3F76-4F21-839C-81A5BB704C2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</cp:lastModifiedBy>
  <cp:lastPrinted>2008-03-05T21:18:32Z</cp:lastPrinted>
  <dcterms:modified xsi:type="dcterms:W3CDTF">2010-11-07T21:14:07Z</dcterms:modified>
  <cp:revision>272</cp:revision>
  <dc:subject/>
  <dc:title>Slide 1</dc:title>
</cp:coreProperties>
</file>