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091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00800" y="-36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00800" y="651312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698F-8471-4471-B9AC-DC173B84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B80E-85AB-4FBC-A6FE-99240F64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30FC-B3B6-4BED-BA32-2A929B23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2224-F8A6-460D-8D8D-C9360801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932-614E-444E-B9CB-4AB2CF18B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34AE-8694-40E1-8C18-7540611D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63C8-1818-4E71-852B-50247641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2C0E-2367-48AA-816F-13B57F680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2AAC-D60D-452B-9FA3-38C8A4A20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43BF-F0AD-434A-BE08-18A84025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9EE6-B7B3-450F-8313-CEEB8013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B4D5-1B4D-4EFA-A821-20BE1AE6C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19D9-F8AF-400F-AFE1-B1D4F700E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28DE-5843-4FCF-A986-B4D626D4A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1CB2-3968-4F74-9919-FEDDCB01A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E483-4C14-4D64-BC45-C55E7F95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96D4-9078-45A2-957C-F61367F0F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D037-25E3-41AC-8B37-2771E1E01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6200-40A2-4658-965B-56C09F36F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C77D-8E1E-41F3-A319-C3142471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AD05-9A20-4DFA-922D-D70D1F4C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ADBB-3FA3-4C33-AF31-6C478481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6EB6-9E28-47B2-8A1A-C4A86A42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C0BC-9B61-40A3-8697-C56DBFE0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C92B-3986-4498-BE7F-4DAB2F410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20A1-E92E-4177-B601-6C58418D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16B0-5897-476D-B477-1F10BB744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3C5B-FD3E-43DE-B7D0-B8ABA58F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841B-6F26-41EA-978C-6D19B3F1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E491-8FE3-4B87-9964-9D4BFF997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2A6A-433B-4BCC-9544-85FD00373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105-2267-41E0-8C35-02F695C94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5FEB-C3D3-43BB-B00B-1C03DCCF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3057-4777-4A05-B50A-6BB6A707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B346-2873-4E68-AC26-C663F0910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E473-8486-45F5-A886-1C83867DD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FC6D-092A-4003-8588-859AAE235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2133-9577-413C-82E9-469CED5A9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BEFC-9B50-43C2-BCEA-A6711417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EB3-6DF3-4E10-9DB0-32D1078D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2D1-07A6-46A6-BC2D-4850A68D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43F-FF90-4311-BBC2-CFA14A49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284-93BC-4D62-BC1B-D29D53AF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F44-EF26-4460-AA9A-B0A67E3F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50F-DD25-4E83-9460-93F54416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3ED-0761-4BC2-990C-3FB7DC47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76A-2BAE-4B75-8D6D-A3022DC0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17D-2F00-4E32-AE55-9B5C5F7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5C3-32C0-4C94-BDF5-3198EAB0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A0F-0F83-4AF9-81A6-4AEEFD7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AE4-70FF-4624-85B6-1B78B0A2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994E-6657-4D52-8E8C-157934F48B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0"/>
          <p:cNvSpPr/>
          <p:nvPr/>
        </p:nvSpPr>
        <p:spPr>
          <a:xfrm>
            <a:off x="1476360" y="32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family as client: assessment and diagnosis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epared  by Suhail  Al Hu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mo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84360" y="43578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285840" y="135720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 family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ient: home vis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69BEE6C-2BD6-4519-AE61-4D3E58B04F5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8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ealth task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285840" y="1571760"/>
            <a:ext cx="860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gnizing interruptions of health or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king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Health and non- health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ing nursing care to the sick, disabled and dependent member of the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ing a home environment conductive to good health and personal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ing a reciprocal relationship with the community and health and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9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5C809BE-9851-492A-B5D9-A8C2AB81933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9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mportance of family heal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85840" y="157176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mily as a unit of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 of the family health on individu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 of family on community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0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55DC35B-73B9-49B8-B019-B92276D5035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1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health assess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285840" y="157176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essing family health in a systematic fashion require thre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eptual framework upon which to dbase th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clearly defined set of assessment categories for 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ethod for measuring a family’s level of functio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2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F243B8D-539F-4AD5-A0A2-9F8F893CA45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2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nceptual frame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285840" y="1571760"/>
            <a:ext cx="86072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conceptual framework is a set of concepts integrated into meaningful explanation that helps one interpret human behavior or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ee conceptual frameworks are particularly useful in community health nu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3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6473D6D-2250-418A-AF37-A2BF25153CE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4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erac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285840" y="15717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scribes the family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t of interact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sonaliti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phasize communic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ing pattern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cision-making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focus on internal relationshi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5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81AE0C8-7B6A-48BE-9954-0E062D066C7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5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714240" y="857160"/>
            <a:ext cx="79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structual-functional frame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285840" y="157176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scribes the family as a social system relating to other social systems in the external environment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gion pl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lth care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6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82C1D0A-2474-4423-B118-E48B1F7A828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7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 developmental frame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285840" y="157176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ies family from lifecycle perspective by examine members changes roles and tasks in each progressive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8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E5C23B8-7991-4DDB-9E44-8C326A38B2D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8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developmental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285840" y="15717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ginn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ing a mutually satisfying marri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to have or not hav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Childbear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 and adjusting to inf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Support needs of all three me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Renegotiating marit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9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977045C-BAEA-44FE-88D9-FF5FB9108828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0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95280" y="98100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with pre- school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cost of family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apting to needs of pre-school children to stimulate growth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ping and parental loss of energy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Family with school ag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the activity of growing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ing joint decision making between children and par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couraging and supporting children’s educational achie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1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9DFFB67-39B4-41BC-8567-127ECAB6C95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18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24000" y="76500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Family with teenagers and young ad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open communication among me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ing ethical and moral values within the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ing freedom with responsibility of teena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easing rituals and as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ngthening marital 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supportive home base young adults with appropri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2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6A0BA3-8ACA-4E3A-9B3B-EFA98CE6806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10"/>
          <p:cNvSpPr/>
          <p:nvPr/>
        </p:nvSpPr>
        <p:spPr>
          <a:xfrm>
            <a:off x="468360" y="208080"/>
            <a:ext cx="8605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: </a:t>
            </a:r>
            <a:r>
              <a:rPr b="0" lang="en-US" sz="2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obj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611280" y="857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fter completion the lecture the students en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85840" y="128592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roles and function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different types of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acknowledge why family is considered as the unit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cognize the developmental tasks and health task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decision making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umerate and apply the different steps in Decision M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ss how to prepare for a home health care visit and how to conduct th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personal safety precautions a home care nurse should take  when making home vis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8D8B285-F09F-49AD-A7E4-197A5E3FAFA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3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324000" y="76500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- parental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ing for ret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ties with younger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 Ag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retir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Adjusting to loss of spo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Closing family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4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4818DB6-93B5-45FE-AA1E-9EC599C9D03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4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10"/>
          <p:cNvSpPr/>
          <p:nvPr/>
        </p:nvSpPr>
        <p:spPr>
          <a:xfrm>
            <a:off x="1357200" y="11484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ata collection categ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285840" y="164304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ist of 12 data collection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demographic  ( composition, socioeconom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Phys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housing and the conditions inside, outside and surrounding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Any existing safety or environmental haz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The amount and quality or services avail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 Geography and clima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5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D240732-D90A-4A97-8C04-7C965F8974B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6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179280" y="836640"/>
            <a:ext cx="864396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Psychological and spiritual environment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ual respect, support, promation and members self-es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Family structure and ro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labor and al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authority and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Family functions refers to a a family’s ability to carry out apporopriate developmental tasks and provide for it’s members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 family values and beliefs influence all aspects of family life, E.g making and spending money, education, work and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7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E3EC8F6-BD36-4861-B678-963CACA68BA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77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250920" y="90792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 Family communication pattern include the frequency and quality of communication with a family and between the family and its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Family decision-making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 Family problem so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Family coping patterns , family support system, responses to str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. Family health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. Family social and culture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8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F2C06F3-3ED5-4943-A8C3-341AC2BBCC88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9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10"/>
          <p:cNvSpPr/>
          <p:nvPr/>
        </p:nvSpPr>
        <p:spPr>
          <a:xfrm>
            <a:off x="1357200" y="57240"/>
            <a:ext cx="77169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assessment methods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4"/>
          <p:cNvSpPr/>
          <p:nvPr/>
        </p:nvSpPr>
        <p:spPr>
          <a:xfrm>
            <a:off x="539640" y="907920"/>
            <a:ext cx="810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comap: is diagram of the connection between a family and the other system in its ecological enviroment or it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icture of the family’s patter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rses can use an ecomap to ident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resources that are pre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s that are present or ab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alance or lack of balance between a family's needs and the resources available to the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Slide Number Placeholder 7"/>
          <p:cNvGrpSpPr/>
          <p:nvPr/>
        </p:nvGrpSpPr>
        <p:grpSpPr>
          <a:xfrm>
            <a:off x="8296200" y="6364440"/>
            <a:ext cx="903240" cy="603000"/>
            <a:chOff x="8296200" y="6364440"/>
            <a:chExt cx="903240" cy="603000"/>
          </a:xfrm>
        </p:grpSpPr>
        <p:pic>
          <p:nvPicPr>
            <p:cNvPr id="40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64440"/>
              <a:ext cx="903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A570C2-6724-476D-8B83-AF0445A6EBE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07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214200" y="928800"/>
            <a:ext cx="84297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raphic picture of family history, usually used over three or more generatio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ogram maps such information as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ships among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t lif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of res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istics such as race, culture and religious affil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Slide Number Placeholder 7"/>
          <p:cNvGrpSpPr/>
          <p:nvPr/>
        </p:nvGrpSpPr>
        <p:grpSpPr>
          <a:xfrm>
            <a:off x="8296200" y="6364440"/>
            <a:ext cx="903240" cy="603000"/>
            <a:chOff x="8296200" y="6364440"/>
            <a:chExt cx="903240" cy="603000"/>
          </a:xfrm>
        </p:grpSpPr>
        <p:pic>
          <p:nvPicPr>
            <p:cNvPr id="41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64440"/>
              <a:ext cx="903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75D585D-B04A-4A64-B4A0-9CADB7A0C45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2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642960" y="428616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357120" y="714240"/>
            <a:ext cx="828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mily assessment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357120" y="114300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lain" startAt="7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5                           48                               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ung                         heart                          car                            br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r                    dise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ident                        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2                                                                        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betes                                                                 br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1000080" y="1785960"/>
            <a:ext cx="3571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7"/>
          <p:cNvSpPr/>
          <p:nvPr/>
        </p:nvSpPr>
        <p:spPr>
          <a:xfrm>
            <a:off x="2143080" y="1643040"/>
            <a:ext cx="42876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8"/>
          <p:cNvSpPr/>
          <p:nvPr/>
        </p:nvSpPr>
        <p:spPr>
          <a:xfrm>
            <a:off x="5357880" y="1785960"/>
            <a:ext cx="285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"/>
          <p:cNvSpPr/>
          <p:nvPr/>
        </p:nvSpPr>
        <p:spPr>
          <a:xfrm>
            <a:off x="6929280" y="171468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0"/>
          <p:cNvSpPr/>
          <p:nvPr/>
        </p:nvSpPr>
        <p:spPr>
          <a:xfrm>
            <a:off x="1643040" y="28576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1"/>
          <p:cNvSpPr/>
          <p:nvPr/>
        </p:nvSpPr>
        <p:spPr>
          <a:xfrm>
            <a:off x="5857920" y="278604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23"/>
          <p:cNvSpPr/>
          <p:nvPr/>
        </p:nvSpPr>
        <p:spPr>
          <a:xfrm flipH="1">
            <a:off x="2426760" y="2143080"/>
            <a:ext cx="180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25"/>
          <p:cNvSpPr/>
          <p:nvPr/>
        </p:nvSpPr>
        <p:spPr>
          <a:xfrm flipH="1">
            <a:off x="1141560" y="214308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27"/>
          <p:cNvSpPr/>
          <p:nvPr/>
        </p:nvSpPr>
        <p:spPr>
          <a:xfrm>
            <a:off x="1143000" y="2428920"/>
            <a:ext cx="1285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31"/>
          <p:cNvSpPr/>
          <p:nvPr/>
        </p:nvSpPr>
        <p:spPr>
          <a:xfrm flipH="1">
            <a:off x="5500800" y="20718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33"/>
          <p:cNvSpPr/>
          <p:nvPr/>
        </p:nvSpPr>
        <p:spPr>
          <a:xfrm flipH="1">
            <a:off x="7071840" y="2000160"/>
            <a:ext cx="18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35"/>
          <p:cNvSpPr/>
          <p:nvPr/>
        </p:nvSpPr>
        <p:spPr>
          <a:xfrm>
            <a:off x="5500800" y="2357280"/>
            <a:ext cx="1571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37"/>
          <p:cNvSpPr/>
          <p:nvPr/>
        </p:nvSpPr>
        <p:spPr>
          <a:xfrm flipH="1">
            <a:off x="5928840" y="2428920"/>
            <a:ext cx="716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39"/>
          <p:cNvSpPr/>
          <p:nvPr/>
        </p:nvSpPr>
        <p:spPr>
          <a:xfrm>
            <a:off x="1785240" y="2500200"/>
            <a:ext cx="34920" cy="35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41"/>
          <p:cNvSpPr/>
          <p:nvPr/>
        </p:nvSpPr>
        <p:spPr>
          <a:xfrm>
            <a:off x="6072120" y="3286080"/>
            <a:ext cx="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44"/>
          <p:cNvSpPr/>
          <p:nvPr/>
        </p:nvSpPr>
        <p:spPr>
          <a:xfrm>
            <a:off x="1820160" y="3286080"/>
            <a:ext cx="363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46"/>
          <p:cNvSpPr/>
          <p:nvPr/>
        </p:nvSpPr>
        <p:spPr>
          <a:xfrm flipH="1" flipV="1">
            <a:off x="1857240" y="3499920"/>
            <a:ext cx="4214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48"/>
          <p:cNvSpPr/>
          <p:nvPr/>
        </p:nvSpPr>
        <p:spPr>
          <a:xfrm flipH="1">
            <a:off x="3927600" y="3502080"/>
            <a:ext cx="144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51"/>
          <p:cNvSpPr/>
          <p:nvPr/>
        </p:nvSpPr>
        <p:spPr>
          <a:xfrm>
            <a:off x="5500800" y="4429080"/>
            <a:ext cx="64296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2"/>
          <p:cNvSpPr/>
          <p:nvPr/>
        </p:nvSpPr>
        <p:spPr>
          <a:xfrm>
            <a:off x="4357800" y="4429080"/>
            <a:ext cx="64296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3"/>
          <p:cNvSpPr/>
          <p:nvPr/>
        </p:nvSpPr>
        <p:spPr>
          <a:xfrm>
            <a:off x="2928960" y="45720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4"/>
          <p:cNvSpPr/>
          <p:nvPr/>
        </p:nvSpPr>
        <p:spPr>
          <a:xfrm>
            <a:off x="1714680" y="4643280"/>
            <a:ext cx="500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56"/>
          <p:cNvCxnSpPr>
            <a:endCxn id="449" idx="7"/>
          </p:cNvCxnSpPr>
          <p:nvPr/>
        </p:nvCxnSpPr>
        <p:spPr>
          <a:xfrm flipH="1">
            <a:off x="6049080" y="4285080"/>
            <a:ext cx="52308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4" name="Straight Connector 60"/>
          <p:cNvSpPr/>
          <p:nvPr/>
        </p:nvSpPr>
        <p:spPr>
          <a:xfrm>
            <a:off x="1643040" y="4143240"/>
            <a:ext cx="428616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62"/>
          <p:cNvSpPr/>
          <p:nvPr/>
        </p:nvSpPr>
        <p:spPr>
          <a:xfrm>
            <a:off x="5786280" y="4214880"/>
            <a:ext cx="367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4"/>
          <p:cNvSpPr/>
          <p:nvPr/>
        </p:nvSpPr>
        <p:spPr>
          <a:xfrm>
            <a:off x="4572000" y="4214880"/>
            <a:ext cx="712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66"/>
          <p:cNvSpPr/>
          <p:nvPr/>
        </p:nvSpPr>
        <p:spPr>
          <a:xfrm>
            <a:off x="3071160" y="4143240"/>
            <a:ext cx="1062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68"/>
          <p:cNvSpPr/>
          <p:nvPr/>
        </p:nvSpPr>
        <p:spPr>
          <a:xfrm flipH="1">
            <a:off x="2069640" y="421632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4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F56CBFA-7C33-4B1C-865C-EA091437A2AD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4"/>
          <p:cNvSpPr/>
          <p:nvPr/>
        </p:nvSpPr>
        <p:spPr>
          <a:xfrm>
            <a:off x="214200" y="928800"/>
            <a:ext cx="84297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Family Health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cord of diseases that occur in a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used to tr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eases that have genetic b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vironmental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al health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4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D7D94F0-4ACC-42B2-9D1A-B2856E6E640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4"/>
          <p:cNvSpPr/>
          <p:nvPr/>
        </p:nvSpPr>
        <p:spPr>
          <a:xfrm>
            <a:off x="214200" y="928800"/>
            <a:ext cx="842976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systems of nursing diag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NA ND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s nursing diagnosis lab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b. Omah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 community health nur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ating scale for outcom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49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6CAA608-24CC-4701-AE22-10A00DBBF95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9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4"/>
          <p:cNvSpPr/>
          <p:nvPr/>
        </p:nvSpPr>
        <p:spPr>
          <a:xfrm>
            <a:off x="214200" y="92880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idelines for family health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 on the family as a tot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e goal-directed qu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adequate time for 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quantitive data with qualita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rcise professional jud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0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16FCBE3-D714-4640-8D9B-9F8F958E98A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0"/>
          <p:cNvSpPr/>
          <p:nvPr/>
        </p:nvSpPr>
        <p:spPr>
          <a:xfrm>
            <a:off x="971640" y="168120"/>
            <a:ext cx="8102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14240" y="857160"/>
            <a:ext cx="71438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ing in a community setting generally involves working with families. CHN must there for understand the interactions and  dynamics of families so that they can provide appropriate family assessment , planning, intervention and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ABF0E48-3F4C-4D84-8F43-323026F5CD9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1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4"/>
          <p:cNvSpPr/>
          <p:nvPr/>
        </p:nvSpPr>
        <p:spPr>
          <a:xfrm>
            <a:off x="179280" y="765000"/>
            <a:ext cx="84297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ing and intervention for families must be in partnership with family members, not imposed from by C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ing and intervention for families by CHN must used the three level of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with the family collect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where the famil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t nursing intervention to the family stage of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gnize the validity of family structural var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 family strength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2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942D08B-C94F-4886-9B59-4155233C76D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214200" y="928800"/>
            <a:ext cx="842976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oals of primary health nursing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ten met through providing health c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milies in their home. It can b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iting nurse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health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 health agen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distric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3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2FC8F1B-E6BA-479B-AEBC-7B3F04F3F54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4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285840" y="785880"/>
            <a:ext cx="8643960" cy="68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tages of home vis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visits cost less than hospital care, with better outcomes, especially when chronic health issues ar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s have greater control over their health and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munity health nurse gains access to families to provide health education and other prevention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rse can observe family and environment factors that influence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visits allow for primary intervention, to prevent disease or injury from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visits facilitate family participation and promote family fo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5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E94A46D-C2A8-4793-B28D-AC2CE3825F8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5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4"/>
          <p:cNvSpPr/>
          <p:nvPr/>
        </p:nvSpPr>
        <p:spPr>
          <a:xfrm>
            <a:off x="500040" y="785880"/>
            <a:ext cx="86439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advantages of hom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urses skills, personality, or physical ability may not be compatible with providing hom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 visits are time consuming; travel time is required to get to the persons needing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no easy access to emergency equipment or consultation with other health professionals if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 visits may present issues regarding the nurse personal safety in some community or family 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urse has less control over the care setting (for example, cleanliness, noise, privacy, or distrac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6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DF5D14C-9E43-44E5-8E37-8D49FB992ED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7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4"/>
          <p:cNvSpPr/>
          <p:nvPr/>
        </p:nvSpPr>
        <p:spPr>
          <a:xfrm>
            <a:off x="500040" y="785880"/>
            <a:ext cx="86439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mmunity health nurse develops objectives for primary, secondary, and tertiary prevention levels, in consultation with the family. To accomplish these objectives, the nurse needs to: Assess clients ability or willingness to comply with treatment directions and/ or change certain behaviors. Anticipate family needs, such as the timing of visits, the need to educate family members, respite care,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8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F840FBE-FC11-4628-8BC4-DFE2303DA6B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8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4"/>
          <p:cNvSpPr/>
          <p:nvPr/>
        </p:nvSpPr>
        <p:spPr>
          <a:xfrm>
            <a:off x="500040" y="785880"/>
            <a:ext cx="8643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ty health nurse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quirements include equipment for basic assessment, medical asepsis, and waste dis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se precautions must be followed to avoid contamination from blood, body secretions, excretions, or contaminated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ash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Use gl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ear eye and fac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ear g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Handle client care equipm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Clean environmental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Use proper sharps disposal cont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9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B786EC9-D440-4D64-BEDB-8EA7FAF1164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0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4"/>
          <p:cNvSpPr/>
          <p:nvPr/>
        </p:nvSpPr>
        <p:spPr>
          <a:xfrm>
            <a:off x="500040" y="785880"/>
            <a:ext cx="8643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community health nurse doing home visits usually works as part of a home health care team that can includes social workers, rehabilitation specialists, and home health nurses or aides. Cooperation and communication with other care providers are ess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1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65709A0-A11B-439F-9535-6289D404667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1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4"/>
          <p:cNvSpPr/>
          <p:nvPr/>
        </p:nvSpPr>
        <p:spPr>
          <a:xfrm>
            <a:off x="500040" y="785880"/>
            <a:ext cx="864396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three most common intervention in home health care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lping families deal with stress created by health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ing referrals for community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ing and educating clients, with the focus on strengths rather than wea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2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FF8D170-A558-40CA-B349-1E838B6D808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3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0"/>
          <p:cNvSpPr/>
          <p:nvPr/>
        </p:nvSpPr>
        <p:spPr>
          <a:xfrm>
            <a:off x="4286160" y="21492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4"/>
          <p:cNvSpPr/>
          <p:nvPr/>
        </p:nvSpPr>
        <p:spPr>
          <a:xfrm>
            <a:off x="0" y="428760"/>
            <a:ext cx="9144000" cy="76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ongoing process that continually assesses clients progress toward expected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erminati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home visits occurs when both client and nurse are satisfied that goals have been met or that appropriate referrals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elemedicine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use phone and computer technologies to monitor clients and provide care without the nurse making a home vis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4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CAD78F1-49AC-4FAD-A1C2-2838719F0C3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9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0"/>
          <p:cNvSpPr/>
          <p:nvPr/>
        </p:nvSpPr>
        <p:spPr>
          <a:xfrm>
            <a:off x="755640" y="209520"/>
            <a:ext cx="8318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642960" y="442908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 Cont….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85840" y="1571760"/>
            <a:ext cx="77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 an understanding of family dynamics and the context of the community assists the nurse in planning c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family is the client, the nurse determines the health status of the family and its individual members, the level of family functioning, family interaction family strengths and wea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0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49ED254-4E8A-49E3-9EA9-448CD4320B2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10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: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Defin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85840" y="157176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mily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 two or more persons related by birth, marriage, or adoption who reside together in a house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amily is a structural unit composed of a man and women who are married and have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1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ED48464-3FE6-4203-BF90-4DB1763F60E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2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0"/>
          <p:cNvSpPr/>
          <p:nvPr/>
        </p:nvSpPr>
        <p:spPr>
          <a:xfrm>
            <a:off x="684360" y="209520"/>
            <a:ext cx="838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Character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395280" y="857160"/>
            <a:ext cx="84247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racteristic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is a soci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s a it’s own cultural values and r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is the first social group to which the individual is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s a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ve certain bas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moves through stages in its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3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E506B12-6D4F-41DF-9648-5D5F1A4E339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3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1427040" y="360"/>
            <a:ext cx="77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ypes of family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85840" y="157176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clear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une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ly of ori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l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gle parent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ly married or traditionally married. It’s the only form accepted culturally in our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4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3869232-6BAC-4CBF-9741-935BEA42F4F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5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unction of the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285840" y="1571760"/>
            <a:ext cx="835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ection, love, care, an emotional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il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i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nse of belonging and of history  and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y rituals for rejoicing and gri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for earning money , supporting partners and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ing of labor, chores required to keep the family ru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6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7DB64B-5CF1-4340-A708-2ACBC2C8A40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6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racteristics of healthy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85840" y="157176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ilitative interaction among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hancement of individu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structuring of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ve coping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lthy environment and lifesty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ular link with the border commi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7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F73F865-EA27-4D29-ABC1-82F95EC19D5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47:33Z</dcterms:created>
  <dc:creator>Carole Morrison</dc:creator>
  <dc:description/>
  <dc:language>en-US</dc:language>
  <cp:lastModifiedBy>user</cp:lastModifiedBy>
  <cp:lastPrinted>2008-03-05T21:18:32Z</cp:lastPrinted>
  <dcterms:modified xsi:type="dcterms:W3CDTF">2010-11-07T21:14:07Z</dcterms:modified>
  <cp:revision>272</cp:revision>
  <dc:subject/>
  <dc:title>Slide 1</dc:title>
</cp:coreProperties>
</file>