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091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00800" y="-36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00800" y="651312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D581-2470-426C-A18F-95BEC501D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AE87-5187-455B-AE74-1968E87D5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14F8-5C6A-434B-BF57-21838B69D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CB9A-330A-4197-825B-BFB1E8C94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DE43-9DEC-4F2B-A695-082AC9F5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F6C3-582A-4B94-A53C-E7E714F9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5D13-7B10-4922-941A-B32E0FC5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6FCD-0CF8-4C20-9052-02BBA9F9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458C-0FD1-4594-96F6-B07AC7CF1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309F-9DC4-405A-A33D-13B6CC480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B642-61D7-4076-AFDD-F62646723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5B18-26D4-4803-B792-CE85BCF7D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5399-1BE1-45D1-9B4E-BAFC2E31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D48-7D83-4771-865B-A7A1E3C47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510-C380-4AD7-8FC0-2C88F57A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47F2-AACB-469D-9DEF-BE071D58D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B19A-112C-4242-BCE4-020AA572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A741-33D1-4357-A3C5-81CF87BEE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1F07-147A-4CEB-BED6-AC9E9BDCD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6828-CAD9-463B-AB8B-EE1C4BB8B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94B6-B40A-4BAA-98A9-2CFDAD482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B737-B8BD-4868-BCAC-3CF1FD78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0D77-F6D2-4C54-969B-A19CA67F9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8D6-095F-438C-BE7D-C6B5F3E78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DFCE-B20A-42A3-A589-653AC1129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BA70-08A4-4CFC-B665-AE494B31C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6D63-5488-474F-A4D0-7B9E778AB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24A1-D715-4D90-85EE-F8BF8181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1DFF-EA2E-48AA-A1E8-CB19DA23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7113-8444-4F19-B2A7-F30054ABD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DD5F-E661-4361-AD26-E9BB31ECC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17B5-1094-4A24-B3ED-C0F177DB8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D5B0-5880-4009-B973-98F55B36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1DD7-44FF-4153-BA7F-2920F1AD9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7AB5-BAF7-43C4-AF45-08E1F064A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70A4-C7BA-45AB-B17F-7FBE4AD7D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08B4-7636-4299-B89F-E2CD770C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39ED-8554-4A0E-879E-7523406B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CBFA-5699-4270-BC24-AB02BB374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DE6-3E13-4DBE-A9AB-4F6FE39D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3AD-1A1F-42FA-A404-5EF66DA8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EFA-F77D-4A31-B087-2FEEB4C5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9F2-966D-47D7-A523-C51F400E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1F1-4F53-43B9-9490-E8745BFF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E98-42A8-4796-AE22-B891CDD7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8AF-3DA1-4BBB-AD68-AFAA657C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D79-2B6B-4F1A-A88A-13AD4475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12F-AA77-4C9D-AB7C-9B8C30FB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F29-D0FE-4067-9672-F7344706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665-7016-4CA7-B9B8-CE9D6B4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F8F-E9F6-4FF0-82F7-FDAA3F0A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998-7691-4D94-A9EB-3ED2159D79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0"/>
          <p:cNvSpPr/>
          <p:nvPr/>
        </p:nvSpPr>
        <p:spPr>
          <a:xfrm>
            <a:off x="1476360" y="32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family as client: assessment and diagnosis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epared  by Suhail  Al Hu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mo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84360" y="43578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285840" y="135720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 family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ient: home vis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94A39D3-6813-4219-9449-8238A458AF3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8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ealth task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285840" y="1571760"/>
            <a:ext cx="860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gnizing interruptions of health or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king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Health and non- health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ing nursing care to the sick, disabled and dependent member of the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ing a home environment conductive to good health and personal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ing a reciprocal relationship with the community and health and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9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DBC1A0F-5DAA-4DA6-8F06-3F9ED1D54C78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9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mportance of family heal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85840" y="157176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mily as a unit of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 of the family health on individu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 of family on community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0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69D92FD-299A-4D15-9259-1BC5EF7ED38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1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health assess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285840" y="157176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essing family health in a systematic fashion require thre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eptual framework upon which to dbase th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clearly defined set of assessment categories for 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ethod for measuring a family’s level of functio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2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05208B7-57F0-4ED5-8DE2-FFB6C56631C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2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nceptual frame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285840" y="1571760"/>
            <a:ext cx="86072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conceptual framework is a set of concepts integrated into meaningful explanation that helps one interpret human behavior or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ee conceptual frameworks are particularly useful in community health nu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3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B6E4A90-2AA5-42D6-A419-4975D137928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4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erac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285840" y="15717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scribes the family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t of interact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sonaliti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phasize communic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ing pattern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cision-making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focus on internal relationshi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5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3559F5E-BFB8-488D-8FD7-D406DF36F7C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5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714240" y="857160"/>
            <a:ext cx="79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structual-functional frame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285840" y="157176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scribes the family as a social system relating to other social systems in the external environment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gion pl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lth care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6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5266610-906B-48BF-83E1-4DEEAF35A12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7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 developmental frame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285840" y="157176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ies family from lifecycle perspective by examine members changes roles and tasks in each progressive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8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B1ED89A-67A1-4D07-9506-2E84FFC6A78D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8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developmental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285840" y="15717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ginn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ing a mutually satisfying marri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to have or not hav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Childbear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 and adjusting to inf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Support needs of all three me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Renegotiating marit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9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720FA1C-17DA-41AA-8B9F-A1679D7D215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0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95280" y="98100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with pre- school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cost of family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apting to needs of pre-school children to stimulate growth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ping and parental loss of energy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Family with school ag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the activity of growing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ing joint decision making between children and par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couraging and supporting children’s educational achie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1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B5FDE9A-12EE-443C-BF9E-C3544255C16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18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24000" y="76500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Family with teenagers and young ad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open communication among me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ing ethical and moral values within the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ing freedom with responsibility of teena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easing rituals and as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ngthening marital 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supportive home base young adults with appropri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2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AA9B8A1-648B-411C-9AEB-D390CC1C47E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10"/>
          <p:cNvSpPr/>
          <p:nvPr/>
        </p:nvSpPr>
        <p:spPr>
          <a:xfrm>
            <a:off x="468360" y="208080"/>
            <a:ext cx="8605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: </a:t>
            </a:r>
            <a:r>
              <a:rPr b="0" lang="en-US" sz="2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obj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611280" y="857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fter completion the lecture the students en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85840" y="128592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roles and function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different types of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acknowledge why family is considered as the unit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cognize the developmental tasks and health task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decision making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umerate and apply the different steps in Decision M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ss how to prepare for a home health care visit and how to conduct th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personal safety precautions a home care nurse should take  when making home vis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C1A3683-44F8-40ED-884C-6E288245AB2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3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324000" y="76500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- parental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ing for ret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ties with younger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 Ag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retir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Adjusting to loss of spo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Closing family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4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04AE815-3F4A-4FC6-A161-D6D134E7C0B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4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10"/>
          <p:cNvSpPr/>
          <p:nvPr/>
        </p:nvSpPr>
        <p:spPr>
          <a:xfrm>
            <a:off x="1357200" y="11484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ata collection categ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285840" y="164304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ist of 12 data collection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demographic  ( composition, socioeconom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Phys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housing and the conditions inside, outside and surrounding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Any existing safety or environmental haz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The amount and quality or services avail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 Geography and clima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5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2DB9011-8BC5-4127-9119-67002B38EFF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6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179280" y="836640"/>
            <a:ext cx="864396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Psychological and spiritual environment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ual respect, support, promation and members self-es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Family structure and ro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labor and al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authority and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Family functions refers to a a family’s ability to carry out apporopriate developmental tasks and provide for it’s members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 family values and beliefs influence all aspects of family life, E.g making and spending money, education, work and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7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52EA506-B1F3-432D-A13A-1094265C758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77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250920" y="90792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 Family communication pattern include the frequency and quality of communication with a family and between the family and its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Family decision-making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 Family problem so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Family coping patterns , family support system, responses to str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. Family health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. Family social and culture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8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D6D9E4-8E12-40B2-A182-3B503A991C1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9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10"/>
          <p:cNvSpPr/>
          <p:nvPr/>
        </p:nvSpPr>
        <p:spPr>
          <a:xfrm>
            <a:off x="1357200" y="57240"/>
            <a:ext cx="77169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assessment methods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4"/>
          <p:cNvSpPr/>
          <p:nvPr/>
        </p:nvSpPr>
        <p:spPr>
          <a:xfrm>
            <a:off x="539640" y="907920"/>
            <a:ext cx="810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comap: is diagram of the connection between a family and the other system in its ecological enviroment or it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icture of the family’s patter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rses can use an ecomap to ident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resources that are pre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s that are present or ab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alance or lack of balance between a family's needs and the resources available to the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Slide Number Placeholder 7"/>
          <p:cNvGrpSpPr/>
          <p:nvPr/>
        </p:nvGrpSpPr>
        <p:grpSpPr>
          <a:xfrm>
            <a:off x="8296200" y="6364440"/>
            <a:ext cx="903240" cy="603000"/>
            <a:chOff x="8296200" y="6364440"/>
            <a:chExt cx="903240" cy="603000"/>
          </a:xfrm>
        </p:grpSpPr>
        <p:pic>
          <p:nvPicPr>
            <p:cNvPr id="40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64440"/>
              <a:ext cx="903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5297885-97B8-4C07-A94E-792C0C1CB85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07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214200" y="928800"/>
            <a:ext cx="84297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raphic picture of family history, usually used over three or more generatio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ogram maps such information as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ships among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t lif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of res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istics such as race, culture and religious affil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Slide Number Placeholder 7"/>
          <p:cNvGrpSpPr/>
          <p:nvPr/>
        </p:nvGrpSpPr>
        <p:grpSpPr>
          <a:xfrm>
            <a:off x="8296200" y="6364440"/>
            <a:ext cx="903240" cy="603000"/>
            <a:chOff x="8296200" y="6364440"/>
            <a:chExt cx="903240" cy="603000"/>
          </a:xfrm>
        </p:grpSpPr>
        <p:pic>
          <p:nvPicPr>
            <p:cNvPr id="41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64440"/>
              <a:ext cx="903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266DF27-DD55-41BE-9DF5-F7B3528BC56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2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642960" y="428616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357120" y="714240"/>
            <a:ext cx="828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mily assessment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357120" y="114300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lain" startAt="7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5                           48                               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ung                         heart                          car                            br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r                    dise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ident                        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2                                                                        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betes                                                                 br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1000080" y="1785960"/>
            <a:ext cx="3571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7"/>
          <p:cNvSpPr/>
          <p:nvPr/>
        </p:nvSpPr>
        <p:spPr>
          <a:xfrm>
            <a:off x="2143080" y="1643040"/>
            <a:ext cx="42876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8"/>
          <p:cNvSpPr/>
          <p:nvPr/>
        </p:nvSpPr>
        <p:spPr>
          <a:xfrm>
            <a:off x="5357880" y="1785960"/>
            <a:ext cx="285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"/>
          <p:cNvSpPr/>
          <p:nvPr/>
        </p:nvSpPr>
        <p:spPr>
          <a:xfrm>
            <a:off x="6929280" y="171468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0"/>
          <p:cNvSpPr/>
          <p:nvPr/>
        </p:nvSpPr>
        <p:spPr>
          <a:xfrm>
            <a:off x="1643040" y="28576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1"/>
          <p:cNvSpPr/>
          <p:nvPr/>
        </p:nvSpPr>
        <p:spPr>
          <a:xfrm>
            <a:off x="5857920" y="278604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23"/>
          <p:cNvSpPr/>
          <p:nvPr/>
        </p:nvSpPr>
        <p:spPr>
          <a:xfrm flipH="1">
            <a:off x="2426760" y="2143080"/>
            <a:ext cx="180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25"/>
          <p:cNvSpPr/>
          <p:nvPr/>
        </p:nvSpPr>
        <p:spPr>
          <a:xfrm flipH="1">
            <a:off x="1141560" y="214308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27"/>
          <p:cNvSpPr/>
          <p:nvPr/>
        </p:nvSpPr>
        <p:spPr>
          <a:xfrm>
            <a:off x="1143000" y="2428920"/>
            <a:ext cx="1285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31"/>
          <p:cNvSpPr/>
          <p:nvPr/>
        </p:nvSpPr>
        <p:spPr>
          <a:xfrm flipH="1">
            <a:off x="5500800" y="20718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33"/>
          <p:cNvSpPr/>
          <p:nvPr/>
        </p:nvSpPr>
        <p:spPr>
          <a:xfrm flipH="1">
            <a:off x="7071840" y="2000160"/>
            <a:ext cx="18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35"/>
          <p:cNvSpPr/>
          <p:nvPr/>
        </p:nvSpPr>
        <p:spPr>
          <a:xfrm>
            <a:off x="5500800" y="2357280"/>
            <a:ext cx="1571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37"/>
          <p:cNvSpPr/>
          <p:nvPr/>
        </p:nvSpPr>
        <p:spPr>
          <a:xfrm flipH="1">
            <a:off x="5928840" y="2428920"/>
            <a:ext cx="716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39"/>
          <p:cNvSpPr/>
          <p:nvPr/>
        </p:nvSpPr>
        <p:spPr>
          <a:xfrm>
            <a:off x="1785240" y="2500200"/>
            <a:ext cx="34920" cy="35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41"/>
          <p:cNvSpPr/>
          <p:nvPr/>
        </p:nvSpPr>
        <p:spPr>
          <a:xfrm>
            <a:off x="6072120" y="3286080"/>
            <a:ext cx="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44"/>
          <p:cNvSpPr/>
          <p:nvPr/>
        </p:nvSpPr>
        <p:spPr>
          <a:xfrm>
            <a:off x="1820160" y="3286080"/>
            <a:ext cx="363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46"/>
          <p:cNvSpPr/>
          <p:nvPr/>
        </p:nvSpPr>
        <p:spPr>
          <a:xfrm flipH="1" flipV="1">
            <a:off x="1857240" y="3499920"/>
            <a:ext cx="4214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48"/>
          <p:cNvSpPr/>
          <p:nvPr/>
        </p:nvSpPr>
        <p:spPr>
          <a:xfrm flipH="1">
            <a:off x="3927600" y="3502080"/>
            <a:ext cx="144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51"/>
          <p:cNvSpPr/>
          <p:nvPr/>
        </p:nvSpPr>
        <p:spPr>
          <a:xfrm>
            <a:off x="5500800" y="4429080"/>
            <a:ext cx="64296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2"/>
          <p:cNvSpPr/>
          <p:nvPr/>
        </p:nvSpPr>
        <p:spPr>
          <a:xfrm>
            <a:off x="4357800" y="4429080"/>
            <a:ext cx="64296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3"/>
          <p:cNvSpPr/>
          <p:nvPr/>
        </p:nvSpPr>
        <p:spPr>
          <a:xfrm>
            <a:off x="2928960" y="45720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4"/>
          <p:cNvSpPr/>
          <p:nvPr/>
        </p:nvSpPr>
        <p:spPr>
          <a:xfrm>
            <a:off x="1714680" y="4643280"/>
            <a:ext cx="500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56"/>
          <p:cNvCxnSpPr>
            <a:endCxn id="449" idx="7"/>
          </p:cNvCxnSpPr>
          <p:nvPr/>
        </p:nvCxnSpPr>
        <p:spPr>
          <a:xfrm flipH="1">
            <a:off x="6049080" y="4285080"/>
            <a:ext cx="52308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4" name="Straight Connector 60"/>
          <p:cNvSpPr/>
          <p:nvPr/>
        </p:nvSpPr>
        <p:spPr>
          <a:xfrm>
            <a:off x="1643040" y="4143240"/>
            <a:ext cx="428616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62"/>
          <p:cNvSpPr/>
          <p:nvPr/>
        </p:nvSpPr>
        <p:spPr>
          <a:xfrm>
            <a:off x="5786280" y="4214880"/>
            <a:ext cx="367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4"/>
          <p:cNvSpPr/>
          <p:nvPr/>
        </p:nvSpPr>
        <p:spPr>
          <a:xfrm>
            <a:off x="4572000" y="4214880"/>
            <a:ext cx="712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66"/>
          <p:cNvSpPr/>
          <p:nvPr/>
        </p:nvSpPr>
        <p:spPr>
          <a:xfrm>
            <a:off x="3071160" y="4143240"/>
            <a:ext cx="1062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68"/>
          <p:cNvSpPr/>
          <p:nvPr/>
        </p:nvSpPr>
        <p:spPr>
          <a:xfrm flipH="1">
            <a:off x="2069640" y="421632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4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B4FEABA-91D2-4FD5-AF17-69B61E65177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4"/>
          <p:cNvSpPr/>
          <p:nvPr/>
        </p:nvSpPr>
        <p:spPr>
          <a:xfrm>
            <a:off x="214200" y="928800"/>
            <a:ext cx="84297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Family Health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cord of diseases that occur in a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used to tr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eases that have genetic b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vironmental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al health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4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EBEE531-FDA7-4CEA-AF82-B9E3E90D975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4"/>
          <p:cNvSpPr/>
          <p:nvPr/>
        </p:nvSpPr>
        <p:spPr>
          <a:xfrm>
            <a:off x="214200" y="928800"/>
            <a:ext cx="842976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systems of nursing diag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NA ND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s nursing diagnosis lab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b. Omah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 community health nur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ating scale for outcom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49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46988CD-C267-41B9-8A55-5947B9C3AE9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9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4"/>
          <p:cNvSpPr/>
          <p:nvPr/>
        </p:nvSpPr>
        <p:spPr>
          <a:xfrm>
            <a:off x="214200" y="92880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idelines for family health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 on the family as a tot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e goal-directed qu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adequate time for 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quantitive data with qualita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rcise professional jud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0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F3CA178-3772-470B-80A4-7B660C35485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0"/>
          <p:cNvSpPr/>
          <p:nvPr/>
        </p:nvSpPr>
        <p:spPr>
          <a:xfrm>
            <a:off x="971640" y="168120"/>
            <a:ext cx="8102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14240" y="857160"/>
            <a:ext cx="71438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ing in a community setting generally involves working with families. CHN must there for understand the interactions and  dynamics of families so that they can provide appropriate family assessment , planning, intervention and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4B67FA5-E0E2-41B7-B9A8-E5463269E2C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1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4"/>
          <p:cNvSpPr/>
          <p:nvPr/>
        </p:nvSpPr>
        <p:spPr>
          <a:xfrm>
            <a:off x="179280" y="765000"/>
            <a:ext cx="84297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ing and intervention for families must be in partnership with family members, not imposed from by C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ing and intervention for families by CHN must used the three level of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with the family collect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where the famil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t nursing intervention to the family stage of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gnize the validity of family structural var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 family strength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2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9A4D581-0314-485D-B5A1-ADD5DEE9F50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214200" y="928800"/>
            <a:ext cx="842976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oals of primary health nursing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ten met through providing health c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milies in their home. It can b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iting nurse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health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 health agen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distric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3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F94184B-E447-4E02-B6BE-7C75AECF096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4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285840" y="785880"/>
            <a:ext cx="8643960" cy="68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tages of home vis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visits cost less than hospital care, with better outcomes, especially when chronic health issues ar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s have greater control over their health and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munity health nurse gains access to families to provide health education and other prevention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rse can observe family and environment factors that influence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visits allow for primary intervention, to prevent disease or injury from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visits facilitate family participation and promote family fo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5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18A0781-2DE7-4719-8A64-8DE8C3663F5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5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4"/>
          <p:cNvSpPr/>
          <p:nvPr/>
        </p:nvSpPr>
        <p:spPr>
          <a:xfrm>
            <a:off x="500040" y="785880"/>
            <a:ext cx="86439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advantages of hom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urses skills, personality, or physical ability may not be compatible with providing hom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 visits are time consuming; travel time is required to get to the persons needing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no easy access to emergency equipment or consultation with other health professionals if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 visits may present issues regarding the nurse personal safety in some community or family 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urse has less control over the care setting (for example, cleanliness, noise, privacy, or distrac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6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EF5F319-A7E9-4F29-AABE-6ECE8D3183A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7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4"/>
          <p:cNvSpPr/>
          <p:nvPr/>
        </p:nvSpPr>
        <p:spPr>
          <a:xfrm>
            <a:off x="500040" y="785880"/>
            <a:ext cx="86439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mmunity health nurse develops objectives for primary, secondary, and tertiary prevention levels, in consultation with the family. To accomplish these objectives, the nurse needs to: Assess clients ability or willingness to comply with treatment directions and/ or change certain behaviors. Anticipate family needs, such as the timing of visits, the need to educate family members, respite care,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8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B8AC334-D2FB-4C40-B73D-AC40AA43937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8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4"/>
          <p:cNvSpPr/>
          <p:nvPr/>
        </p:nvSpPr>
        <p:spPr>
          <a:xfrm>
            <a:off x="500040" y="785880"/>
            <a:ext cx="8643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ty health nurse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quirements include equipment for basic assessment, medical asepsis, and waste dis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se precautions must be followed to avoid contamination from blood, body secretions, excretions, or contaminated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ash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Use gl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ear eye and fac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ear g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Handle client care equipm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Clean environmental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Use proper sharps disposal cont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9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9DE2FC0-5DE3-4B62-9DC8-3DDF591DC71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0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4"/>
          <p:cNvSpPr/>
          <p:nvPr/>
        </p:nvSpPr>
        <p:spPr>
          <a:xfrm>
            <a:off x="500040" y="785880"/>
            <a:ext cx="8643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community health nurse doing home visits usually works as part of a home health care team that can includes social workers, rehabilitation specialists, and home health nurses or aides. Cooperation and communication with other care providers are ess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1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A82A838-6894-48AA-9CB1-66E497B183D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1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4"/>
          <p:cNvSpPr/>
          <p:nvPr/>
        </p:nvSpPr>
        <p:spPr>
          <a:xfrm>
            <a:off x="500040" y="785880"/>
            <a:ext cx="864396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three most common intervention in home health care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lping families deal with stress created by health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ing referrals for community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ing and educating clients, with the focus on strengths rather than wea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2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1478D97-9719-445D-9A9E-C06936768A5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3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0"/>
          <p:cNvSpPr/>
          <p:nvPr/>
        </p:nvSpPr>
        <p:spPr>
          <a:xfrm>
            <a:off x="4286160" y="21492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4"/>
          <p:cNvSpPr/>
          <p:nvPr/>
        </p:nvSpPr>
        <p:spPr>
          <a:xfrm>
            <a:off x="0" y="428760"/>
            <a:ext cx="9144000" cy="76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ongoing process that continually assesses clients progress toward expected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erminati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home visits occurs when both client and nurse are satisfied that goals have been met or that appropriate referrals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elemedicine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use phone and computer technologies to monitor clients and provide care without the nurse making a home vis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4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D4FB097-AD3E-465F-8F8A-CD48141DFFC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9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0"/>
          <p:cNvSpPr/>
          <p:nvPr/>
        </p:nvSpPr>
        <p:spPr>
          <a:xfrm>
            <a:off x="755640" y="209520"/>
            <a:ext cx="8318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642960" y="442908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 Cont….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85840" y="1571760"/>
            <a:ext cx="77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 an understanding of family dynamics and the context of the community assists the nurse in planning c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family is the client, the nurse determines the health status of the family and its individual members, the level of family functioning, family interaction family strengths and wea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0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3842D98-6048-4EBA-B99F-38277BE4643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10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: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Defin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85840" y="157176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mily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 two or more persons related by birth, marriage, or adoption who reside together in a house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amily is a structural unit composed of a man and women who are married and have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1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206D507-8A7F-4119-B7CE-52086AF4575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2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0"/>
          <p:cNvSpPr/>
          <p:nvPr/>
        </p:nvSpPr>
        <p:spPr>
          <a:xfrm>
            <a:off x="684360" y="209520"/>
            <a:ext cx="838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Character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395280" y="857160"/>
            <a:ext cx="84247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racteristic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is a soci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s a it’s own cultural values and r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is the first social group to which the individual is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s a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ve certain bas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moves through stages in its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3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FA8D181-061D-4082-99EA-D80EAF79A27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3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1427040" y="360"/>
            <a:ext cx="77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ypes of family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85840" y="157176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clear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une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ly of ori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l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gle parent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ly married or traditionally married. It’s the only form accepted culturally in our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4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672680C-6DD4-43C6-B3F3-A16AE955F838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5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unction of the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285840" y="1571760"/>
            <a:ext cx="835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ection, love, care, an emotional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il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i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nse of belonging and of history  and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y rituals for rejoicing and gri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for earning money , supporting partners and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ing of labor, chores required to keep the family ru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6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06A4DF-582D-42EF-8D75-84254C23580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6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racteristics of healthy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85840" y="157176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ilitative interaction among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hancement of individu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structuring of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ve coping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lthy environment and lifesty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ular link with the border commi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7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51F92AB-A157-4E52-BE6A-E8F4CCFB3F6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47:33Z</dcterms:created>
  <dc:creator>Carole Morrison</dc:creator>
  <dc:description/>
  <dc:language>en-US</dc:language>
  <cp:lastModifiedBy>user</cp:lastModifiedBy>
  <cp:lastPrinted>2008-03-05T21:18:32Z</cp:lastPrinted>
  <dcterms:modified xsi:type="dcterms:W3CDTF">2010-11-07T21:14:07Z</dcterms:modified>
  <cp:revision>272</cp:revision>
  <dc:subject/>
  <dc:title>Slide 1</dc:title>
</cp:coreProperties>
</file>