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AB2-87CD-423B-9250-6F603ABE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3EF-04F0-4360-ACE0-514DD4AD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3BD-ECFD-46AA-9EB0-10F93B14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CFB-213D-4C72-86C5-88E87A1A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FD89-1773-426D-AA75-893118F0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D517-17C9-40EB-BB37-71498A96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3B1A-3FBA-4656-A027-8383C8F5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38E9-9324-47ED-9738-8FDBE6A7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7EB5-3503-4F19-83A2-49A27C90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09E0-7C28-4D4E-A4E5-9EB486DE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A168-E2CC-4774-AB86-F6C5D363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26B-C94D-4FEC-A05D-A70C9B1D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3550-BE7F-4F79-9E12-DAE3CACD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0C04-3E2E-41B2-9486-11A63BFE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B880-3B91-451F-90AF-EB43E0F6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1A22-AB22-4F59-B8E5-34D9142D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C7C3-DA9E-41B7-BD6F-EAF6544F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A17-270D-4B45-A6FF-AFB23584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D75-F8B4-4E75-9ED9-75ED0BD7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D91-D5AB-4B67-9B4F-923D83C8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5B4-B7C2-4D92-A738-57059198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0C0-259F-4171-A050-D9F3847A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146-BB59-4D12-89B4-782DDF79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1DD-1BFD-4D45-A454-3FB973E7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CF34-762E-494F-8B88-EEDE064A3A64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-19080" y="1371600"/>
            <a:ext cx="9163080" cy="1440"/>
          </a:xfrm>
          <a:prstGeom prst="line">
            <a:avLst/>
          </a:prstGeom>
          <a:ln w="9360">
            <a:solidFill>
              <a:srgbClr val="f25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96C9-183B-4901-A07A-FF8D1D3D00E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990720" y="2828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ing for Patients With Coronary Heart Disease and Dysrhythm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ification of Cholesterol and LDL Level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7" name="Picture 2" descr="Table 16-2.jpg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theroscleros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theromas develop in lining of medium, large arter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ause unkn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laque occludes vessel lum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Leads to ischem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ells do not have enough blood and oxygen to meet their metabolic nee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anifest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ymptom free until about 75% of lumen of affected vessels occlud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ymptoms indicating myocardial ischem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gina pecto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ute myocardial infar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tic tes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otal serum choleste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ipid pa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lasma levels of C-reactive pro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lood glucose lev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kle-brachial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isk factor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mo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i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lood pressure and diabe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tat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each common side effec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Verdana"/>
              </a:rPr>
              <a:t>Headache, gastrointestinal upse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Verdana"/>
              </a:rPr>
              <a:t>Rhabdomyolysi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uscle aches, skin rash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iver function tests and muscle enzymes are monitore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Nicotinic ac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Flushing, prurit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holesterol bi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Gastrointestinal side effec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Teach smoking cess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althy weigh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xerci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ntrol high blood pressure, diabetes, lipid leve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educe stre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ngina Pector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hest pain that occurs when there is a temporary imbalance between myocardial blood supply and dem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atter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xercise brings on p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st relieves p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Obstructed coronary arte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Increased myocardial oxygen dem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Lactic acid release leads to pai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Three typ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inzme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Learning Outco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escribe the causes, pathophysiology, effects, and manifestations of coronary heart disease and heart rhythm disruption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fferentiate among the effects of coronary heart disease: angina pectoris, acute coronary syndrome, and myocardial infarc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anifest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hest pai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adiat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Onset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With 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n women, associated with stress, strong emo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elieved by rest, nitroglycerin (NTG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OB, pallor, fe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tic tes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lectrocardi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ay be normal if patient res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maging stud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ET or EB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Echocardiogra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adionuclear scann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oronary angiograph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ute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ublingual nitroglycerin (NTG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Verdana"/>
              </a:rPr>
              <a:t>Rapid-acting spra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hronic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NT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eta block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alcium channel block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ow-dose aspir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rioritiz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aintain adequate coronary blood flow, perfusion of heart musc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alth promo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anaging risk fa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ss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History of heart dis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a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Identifying potential compl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ute myocardial infar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ther acute cardiac ev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omptly report chest pain unrelieved by BTG or accompanied by SOB, anxiety, clammy sk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or acut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adiness for enhanced self-health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gina teach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ardiac rehabilitation progra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valua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anagement of epis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ocu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requency, duration, and precipitating fa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ntinuity of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afe medication storage and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When to go to 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cute Coronary Syndrome/Unstable Angin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ndition that include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Unstable angina (U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ute myocardial ischemia with or without muscle da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ssociated with coronary artery stenosis and atherosclerotic plaq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ronary artery stenos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therosclerotic plaq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upture, erosion of pla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lood clot at the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ronary muscle spas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tic tes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C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erum mar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Nitrates and beta blockers to reduce myocardial ische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ibrinolytic drugs to prevent clo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Learning Outco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scuss nursing implications, and safely administer drugs commonly prescribed for patients with coronary heart disease or dysrhythm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rovide culturally sensitive individualized nursing care for patients undergoing invasive procedures or surgery of the hear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urgery and revascularization proced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ercutaneous coronary intervention (PC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alloon angioplas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therectom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oronary artery bypass graft (CA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urgery and revascularization proced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ardiopulmonary bypass pum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inimally invasive coronary artery surg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ransmyocardial laser revascular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rioritiz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store blood flow, oxygenation of 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event complications, future epis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alth promo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event, slow progression of CH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ss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ymptoms, previous epis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Identifying potential compl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ysrhythmias, sudden cardiac de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or acut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or blee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anag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ital signs once s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valua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ree from compl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ocu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pparent understanding of information, need for follow-up trea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ntinuity of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eaching to slow progr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eoperative teaching when surgery anticip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cute Myocardial Infarc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ells in area of cardiac muscle infarct or necrose (die) due to lack of blood, oxy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Life-threatening event leading to cardiogenic shock and dea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ost deaths within first hour of manifes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Occluded coronary artery stops blood flow to part of cardiac musc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ellular dea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Tissue necros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escription of heart area affec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lassifi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anifest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hest pai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adiates to shoulder, neck, jaw, ar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Lasting longer than 15–20 minut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Not relieved with NT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ense of impending doo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O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phores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Nausea and vomi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anifest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In women and elder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ay be atyp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Upper abdominal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No chest pain but other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caine-induced myocardial infar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ncreased workload of 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of dysrhythm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elated to size and location of infar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ysrhythmi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inus tachycar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ump fail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ardiogenic sh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Other compl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ericardit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xtension or expan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Learning Outco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Use the nursing process to conduct a focused assessment, contribute to care planning, and provide nursing care based on patient values, preferences, and expressed needs for patients with coronary heart disease and dysrhythm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tic tes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erum cardiac mar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lectrocardi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chocardi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yocardial nuclear sc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yocardial perfusion imaging sc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l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V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ed rest with bedside comm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Quiet calm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ain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tianxi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ibrinolytic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eeding disord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are during infu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are postinfu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spir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Hepar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tidysrhythmic med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eta bloc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E inhibi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V NT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evasculariz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mmediate, early inter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gioplasty with st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Other invasive proced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ABP (intra-aortic balloon pum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ADs (vascular assist devic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ardiac rehabili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lanned program of activity, psychologic support, and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upervised outpatient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ifetime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nterprofessional 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rioritiz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duce workload of 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liminat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aintain CO and tissue per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alth promo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actor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mportance of promptly seeking medical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ss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vidence of adequate tissue per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hysical assessment find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mmediate and hour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C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Identifying potential compl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ontinuously monitor heart rhy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ut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igns of pa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Oxyg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hysical and psychologic r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orph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Ongoing chest pa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ecreased cardiac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hange in heart rate, rhy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O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kin appeara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Heart and breath sound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EC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Learning Outco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rovide and reinforce appropriate and evidence-based teaching for patients with coronary heart disease or dysrhythmias and their famili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Use electronic resources to plan and document nursing care and teaching for patients with coronary heart disease or dysrhythm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ecreased cardiac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tidysrhythmics as prescrib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neffective co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ru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Deni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g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oping ski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neffective co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ivac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atient's percep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Encourage ques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tianxiety medica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tress redu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anag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s appropri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valua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ffectiveness of interven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ocu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etails of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CG rhythm, per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ntinuity of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duce risk of future ev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i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fer to cardiac rehabili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ommunity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earn CP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25822"/>
                </a:solidFill>
                <a:latin typeface="Verdana"/>
              </a:rPr>
              <a:t>Cardiac Rhythm Disorder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ardiac Dysrhythmia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rrhythm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sturbance or irregularity in electrical system of the hea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ay be benign or life threaten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"Normal" events such as exercise or 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athologic chan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ue to altered formation of impulses or altered conduction of the impulse through the hea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ctopic bea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art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eentry phenomen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lassified to the site of impulse formation or the site and degree of conduction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upraventricular dysrhythmi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inus tachycar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inus bradycar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trial flu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trial fibril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Junc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Ventricular dysrhythmi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emature ventricular contractions (PVC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entricular tachycar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entricular fibril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V conduction blo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First degr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econd degr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hird degr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ronary Heart Disea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Leading cause of death in U.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Narrowing coronary arter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theroscler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ay hav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No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gina pecto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 event such as ACS or myocardial infar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trioventricular conduction blo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irst-degree AV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econd-degree AV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ype 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ype I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hird-degree AV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tic tes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ardiac monit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ontinuous cardiac monit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ortable cardiac monitoring (telemet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tidysrhythm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ardioversion/defibril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lectrical shock depolarizes all ce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ynchroniz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efibrillation an emergency trea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emedicate with anticoagu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utomatic implantable cardioverter–defibrillator (AIC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acemak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empo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erman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oth sensing and pacing fun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urge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blation when site of ectopic focus can be identif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rioritiz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aintain adequate cardiac output to ensure delivery of oxygen, nutr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alth promo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easures to reduce risks for CH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imit caffe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top smok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Eliminate other sympathetic nervous system stimula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ss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efore treating with dysrhythmia med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alpi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kin 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OC, mental st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ss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Heart sounds, peripheral pu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spiratory st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xi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Identifying potential compl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gular focused assessment of cardiovascular st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port changes in vital signs, anxie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ecreased cardiac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ssess for manifestations of decreased cardiac outpu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EC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V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ab valu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IV acces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ecreased cardiac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Emergency procedures pr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or ineffective cerebral tissue per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OC, orientation × 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Neurologic statu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Oxygen therap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or ineffective cerebral tissue per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HOB 15-degree ang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xi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Keep family and patient informe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isk Fa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Gend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thnic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red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anag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rained monitor technici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valua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ffectiveness based on data on cardiac output, cerebral per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ocu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uring epis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sponse, presence of family, significant other(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ntinuity of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oping strate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pecific trea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each about pacemaker if applic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ncourage training in and maintenance of current CPR techniqu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udden Cardiac Death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eath within 1 hour after onset of cardiac S/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V-fibrillation and cardiac arre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PR started within 2 to 4 minut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an automated external defibrillator (AED) for sudden cardiac death.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2" name="Picture 3" descr="AACWZBP0"/>
          <p:cNvPicPr/>
          <p:nvPr/>
        </p:nvPicPr>
        <p:blipFill>
          <a:blip r:embed="rId1"/>
          <a:stretch/>
        </p:blipFill>
        <p:spPr>
          <a:xfrm>
            <a:off x="762120" y="1981080"/>
            <a:ext cx="7545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isk Fa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hysiologic risk fa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Hyperten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High blood lipids (hyperlipidem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etabolic syndr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isk Fa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Lifestyle risk fa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mo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be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i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hysical in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0:36:43Z</dcterms:created>
  <dc:creator>Thomas Dunn</dc:creator>
  <dc:description/>
  <dc:language>en-US</dc:language>
  <cp:lastModifiedBy>Alshehri</cp:lastModifiedBy>
  <dcterms:modified xsi:type="dcterms:W3CDTF">2016-03-30T06:31:58Z</dcterms:modified>
  <cp:revision>24</cp:revision>
  <dc:subject/>
  <dc:title>Slide 1</dc:title>
</cp:coreProperties>
</file>