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918-ED00-4E1E-BE77-CBE962E7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CCA-D261-4AA1-AF75-A1A26B8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883-C105-4F78-B136-F44182EF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0E7-8E73-4324-BA53-D37759A8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F0EE-395B-44E5-889E-D6213FA1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BB50-7025-4E07-B29E-233CD6C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FD57-4086-4DC4-BF15-D68AAA3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A62D-0F56-430E-9E68-2423057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5D22-3260-4409-9F1B-7BF4582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A00-F81C-4DCA-A17E-BF55141D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A262-9CB4-4DD6-B56A-5E112FD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FD7-BB32-4145-8CE0-63494E9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469A-559C-4DDE-BB5A-3FF0DC2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3C7A-21B0-43A9-B041-14BC239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020-B119-48B5-BE28-67DF9E6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280-C8DD-424B-8FAB-C4AA9842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F04-8AB6-47EA-A60A-B8EB89E1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596-6FBC-4A58-9A1F-FD8B580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83B-9CA6-482E-ACD6-DE7C761F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B81-8A19-41B7-AF60-89CA4F5A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7B4-B1A7-48D9-BD89-85EC092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2DB-92BA-4A3E-A6E5-0A2E252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D15-8A6C-41BD-A39A-CD536DF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960-FC0E-4A58-8CA2-C383EE2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5B26-8E12-4BE0-AAD2-970E20F174B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-19080" y="1371600"/>
            <a:ext cx="9163080" cy="1440"/>
          </a:xfrm>
          <a:prstGeom prst="line">
            <a:avLst/>
          </a:prstGeom>
          <a:ln w="9360">
            <a:solidFill>
              <a:srgbClr val="f25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8D5-67AA-4AB4-AAB6-1C2B8E2C303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990720" y="2828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ing for Patients With Coronary Heart Disease and Dysrhythm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ification of Cholesterol and LDL Level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7" name="Picture 2" descr="Table 16-2.jpg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therosclero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heromas develop in lining of medium, large arter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use unkn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laque occludes vessel lum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eads to ischem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ells do not have enough blood and oxygen to meet their metabolic nee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ymptom free until about 75% of lumen of affected vessels occlu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ymptoms indicating myocardial ischem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gina pecto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yocardial infar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otal serum choleste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ipid pa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lasma levels of C-reactive pro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lood glucose lev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kle-brachial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isk factor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mo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lood pressure and 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ta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ach common side eff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Headache, gastrointestinal upse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Rhabdomyolysi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uscle aches, skin rash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iver function tests and muscle enzymes are monitor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icotinic ac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lushing, prurit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holesterol bi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Gastrointestinal side eff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Teach smoking cess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y weigh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xerci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rol high blood pressure, diabetes, lipid leve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duce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ngina Pector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hest pain that occurs when there is a temporary imbalance between myocardial blood supply and dem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atter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ercise brings on p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t relieves p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bstructed coronary arte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ncreased myocardial oxygen dem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actic acid release leads to pai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Three typ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inzm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escribe the causes, pathophysiology, effects, and manifestations of coronary heart disease and heart rhythm disruption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fferentiate among the effects of coronary heart disease: angina pectoris, acute coronary syndrome, and myocardial infar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hest 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adiat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nse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With 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 women, associated with stress, strong emo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lieved by rest, nitroglycerin (NTG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OB, pallor, fe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ectrocardi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ay be normal if patient res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aging stu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ET or EB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chocardiogr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adionuclear scann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oronary angiograph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ublingual nitroglycerin (NTG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Verdana"/>
              </a:rPr>
              <a:t>Rapid-acting spra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hronic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T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eta block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lcium channel block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ow-dose aspir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intain adequate coronary blood flow, perfusion of heart mus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naging risk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istory of heart dis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yocardial infar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ther acute cardiac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omptly report chest pain unrelieved by BTG or accompanied by SOB, anxiety, clammy sk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acu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adiness for enhanced self-health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gina teach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rdiac rehabilitation progr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nagement of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requency, duration, and precipitating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afe medication storage and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When to go to 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cute Coronary Syndrome/Unstable Angin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dition that include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nstable angina (U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myocardial ischemia with or without muscle da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ociated with coronary artery stenosis and atherosclerotic pla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ronary artery steno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therosclerotic pla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upture, erosion of pla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lood clot at the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ronary muscle spas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rum mar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itrates and beta blockers to reduce myocardial ische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brinolytic drugs to prevent clo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scuss nursing implications, and safely administer drugs commonly prescribed for patients with coronary heart disease or dysrhythm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ovide culturally sensitive individualized nursing care for patients undergoing invasive procedures or surgery of the hear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rgery and revascularization proced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ercutaneous coronary intervention (P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alloon angioplas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therectom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ronary artery bypass graft (CA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rgery and revascularization proced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rdiopulmonary bypass pu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inimally invasive coronary artery surg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ransmyocardial laser revascular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tore blood flow, oxygenation of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vent complications, future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vent, slow progression of CH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ymptoms, previous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ysrhythmias, sudden cardiac dea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acu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ble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nag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ital signs once s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ree from compl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pparent understanding of information, need for follow-up trea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eaching to slow prog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operative teaching when surgery anticip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cute Myocardial Infarc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ells in area of cardiac muscle infarct or necrose (die) due to lack of blood, oxy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ife-threatening event leading to cardiogenic shock and de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ost deaths within first hour of manifes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ccluded coronary artery stops blood flow to part of cardiac musc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ellular de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Tissue necro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escription of heart area affec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lassif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hest 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adiates to shoulder, neck, jaw, ar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asting longer than 15–20 minut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Not relieved with NT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ense of impending do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O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phores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Nausea and vomi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anifest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n women and elder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y be aty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Upper abdominal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o chest pain but other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caine-induced myocardial infar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creased workload of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of dysrhythm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lated to size and location of infar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ysrhythm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inus tach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ump fail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rdiogenic sh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ther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ericardit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tension or expan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Use the nursing process to conduct a focused assessment, contribute to care planning, and provide nursing care based on patient values, preferences, and expressed needs for patients with coronary heart disease and dysrhythm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rum cardiac mar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ectrocardi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hocardi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yocardial nuclear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yocardial perfusion imaging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l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V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d rest with bedside com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Quiet calm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in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tianx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brinolytic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Bleeding disord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re during in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are postin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spir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epar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tidysrhythmic 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E inhibi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V N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vasculariz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mediate, early inter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gioplasty with s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Other invasive proced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ABP (intra-aortic balloon pum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ADs (vascular assist devic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ardiac rehabili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lanned program of activity, psychologic support, and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upervised outpatient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ifetime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terprofessional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duce workload of 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imina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intain CO and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actor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portance of promptly seeking medical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vidence of adequate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hysical assessment fin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mmediate and hour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ntinuously monitor heart rhy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ut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igns of p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Oxyg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hysical and psychologic r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Morph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Ongoing chest p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hange in heart rate, rhy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O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kin appeara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Heart and breath soun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ovide and reinforce appropriate and evidence-based teaching for patients with coronary heart disease or dysrhythmias and their famili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Use electronic resources to plan and document nursing care and teaching for patients with coronary heart disease or dysrhythm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tidysrhythmics as prescrib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effective co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ru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Deni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g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Coping ski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neffective co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rivac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Patient's percep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ncourage ques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ntianxiety medica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tress redu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nag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s appropri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ffectiveness of interven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tails of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CG rhythm, per protoc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duce risk of future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fer to cardiac rehabil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mmunity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earn CP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25822"/>
                </a:solidFill>
                <a:latin typeface="Verdana"/>
              </a:rPr>
              <a:t>Cardiac Rhythm Disorde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ardiac Dysrhythmia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rrhythm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sturbance or irregularity in electrical system of the he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y be benign or life threaten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"Normal" events such as exercise or 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thologic chan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ue to altered formation of impulses or altered conduction of the impulse through the he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ctopic bea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rt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Reentry phenomen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lassified to the site of impulse formation or the site and degree of conduction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praventricular dysrhythm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inus tach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inus brad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rial flu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rial fibril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Junc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Ventricular dysrhythm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mature ventricular contractions (PVC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entricular tachycar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entricular fibril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V conduction blo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First degr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econd degr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hird degr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ronary Heart Disea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eading cause of death in U.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Narrowing coronary arte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theroscler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y hav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o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gina pecto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 event such as ACS or myocardial infar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trioventricular conduction 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rst-degree AV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econd-degree AV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ype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Type I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hird-degree AV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tic tes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ardiac 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ntinuous cardiac 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ortable cardiac monitoring (teleme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ed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tidysrhythm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ardioversion/defibril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lectrical shock depolarizes all ce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ynchroniz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fibrillation an emergency trea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remedicate with anticoag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utomatic implantable cardioverter–defibrillator (AIC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ollaborative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acemak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empo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erma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oth sensing and pacing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Surge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blation when site of ectopic focus can be ident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rioritiz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aintain adequate cardiac output to ensure delivery of oxygen, nutr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alth promo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asures to reduce risks for CH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imit caffe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Stop smok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liminate other sympathetic nervous system stimul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fore treating with dysrhythmia 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alp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kin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OC, mental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ss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eart sounds, peripheral pu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iratory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x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potential complic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gular focused assessment of cardiovascular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port changes in vital signs, anxi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Assess for manifestations of decreased cardiac outpu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C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V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ab valu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IV acces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ecreased cardiac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Emergency procedures pr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ineffective cerebral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LOC, orientation ×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Neurologic statu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Oxygen therap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iagnosing, planning, and imple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isk for ineffective cerebral tissue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HOB 15-degree ang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R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nx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Verdana"/>
              </a:rPr>
              <a:t>Keep family and patient inform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isk Fa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Gend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thnic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Hered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Managing nursing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rained monitor technic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Evalua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ffectiveness based on data on cardiac output, cerebral per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ocumen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uring epis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onse, presence of family, significant other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Nursing C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ontinuity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oping strate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pecific trea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each about pacemaker if applic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ncourage training in and maintenance of current CPR techniq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udden Cardiac Death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Death within 1 hour after onset of cardiac S/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V-fibrillation and cardiac arre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CPR started within 2 to 4 minut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A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an automated external defibrillator (AED) for sudden cardiac death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Picture 3" descr="AACWZBP0"/>
          <p:cNvPicPr/>
          <p:nvPr/>
        </p:nvPicPr>
        <p:blipFill>
          <a:blip r:embed="rId1"/>
          <a:stretch/>
        </p:blipFill>
        <p:spPr>
          <a:xfrm>
            <a:off x="762120" y="1981080"/>
            <a:ext cx="754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isk Fa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Physiologic risk fa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yperten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High blood lipids (hyperlipidem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Metabolic syndr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isk Fa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Lifestyle risk fa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mo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Physical in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0:36:43Z</dcterms:created>
  <dc:creator>Thomas Dunn</dc:creator>
  <dc:description/>
  <dc:language>en-US</dc:language>
  <cp:lastModifiedBy>Alshehri</cp:lastModifiedBy>
  <dcterms:modified xsi:type="dcterms:W3CDTF">2016-03-30T06:31:58Z</dcterms:modified>
  <cp:revision>24</cp:revision>
  <dc:subject/>
  <dc:title>Slide 1</dc:title>
</cp:coreProperties>
</file>