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763-078C-4449-AE0C-903C5F2E0F5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C54-BD9F-4E7F-B989-5FD2338B5C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5052-3AA6-443E-8178-124D758A7D2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FDA-72F9-4BBB-A975-4E962360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4CC-7D19-4ABF-B46F-85C52F6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452-6E6F-4C14-ADB2-D824C573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CAC-721B-48BC-97D8-DF633D97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4DD-8845-4BD1-9752-B36BC71B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4FB-9106-45F3-9F6B-873764B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FAD-774A-45C5-9909-038D513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DA3B-1C08-4855-B49D-8CFF9A12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1856-B362-48D7-A635-15C6586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93C5-84D6-4BA4-BC0B-A723538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A51-ED75-4219-9B50-7F8E5209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0D7-E0E0-4382-B50F-64EBB0B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23FA-E7A4-435B-A1F1-7DE46129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0B21-3238-445F-937A-18E7F1C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486-19F7-4D52-AC1F-7C54D5A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295D-5C06-4341-8AB0-05831DF2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F14-FD73-4E45-81C3-D171E337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C7D4-B9AD-475D-A0EF-4EAF8CBE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868E-3E57-413B-8D86-1CEEC59F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7968-E1B2-4129-BA8C-7DDE050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AE88-F3B4-4D0C-BE9C-AF73C8E4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4AA8-53F9-48D9-B762-5EFA805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48F-9129-4DAC-8DCF-23FDD525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BB83C-7BB5-4F92-996E-BD47F73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0729-CC84-4DEC-B53C-9975A71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9751-CFCC-4197-A232-D9A79413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E76C-BBBD-4498-B2C6-8CED560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5A0B-B761-44AC-A47B-56F9B44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A560-72C9-4304-81DD-14F87694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DB09-6ED8-46A0-ADF2-713B4FA8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772-3ED5-4CF4-92DC-99D2D31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F63-7271-49BD-9696-B58856B9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B94-0055-4B64-803C-28FD26A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48D-1EA3-4BBB-B808-45C040A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9F8-D7A3-4602-9ED0-04E886B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014-98B9-4D2E-9064-18CEF85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2E81-9B3C-433C-B7EC-AA659DF2DA1E}" type="slidenum">
              <a:rPr b="1" lang="ar-SA" sz="2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65A-9C6A-40E0-87B4-833C7FB6CABD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C73-36BE-4BB5-BCB0-0E6C62F7F697}" type="slidenum"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 Black"/>
              </a:rPr>
              <a:t>BCH 302 [PRACTICAL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684360" y="1773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مستطيل 1"/>
          <p:cNvSpPr/>
          <p:nvPr/>
        </p:nvSpPr>
        <p:spPr>
          <a:xfrm>
            <a:off x="250920" y="189000"/>
            <a:ext cx="86421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 standard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t is a graph that  shows the relationship  between different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known concentra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 substance and the absorbance at a </a:t>
            </a: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specific wave length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tandard curve are most commonly used to determine the concentration of a substance, using serial dilution of solutions of  known concentrations[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tandard solution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what is standard solutions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standard solu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olution containing a precisely known concentration of an element or a subst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rcRect l="56657" t="50005" r="24426" b="33465"/>
          <a:stretch/>
        </p:blipFill>
        <p:spPr>
          <a:xfrm>
            <a:off x="2620800" y="1700280"/>
            <a:ext cx="317520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62" name="رابط كسهم مستقيم 2"/>
          <p:cNvCxnSpPr/>
          <p:nvPr/>
        </p:nvCxnSpPr>
        <p:spPr>
          <a:xfrm>
            <a:off x="1907640" y="3499920"/>
            <a:ext cx="4653720" cy="108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63" name="مربع نص 3"/>
          <p:cNvSpPr/>
          <p:nvPr/>
        </p:nvSpPr>
        <p:spPr>
          <a:xfrm>
            <a:off x="0" y="367668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concentration =&gt; Increased color intensity =&gt; Increased absorbance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مستطيل 1"/>
          <p:cNvSpPr/>
          <p:nvPr/>
        </p:nvSpPr>
        <p:spPr>
          <a:xfrm>
            <a:off x="395280" y="765000"/>
            <a:ext cx="80643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Quantitative Proteins Estimation by lowry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determination of unknown protein concentration in a sample using  standard curve obtained using lowry method]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hat is a standard curve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ستطيل 1"/>
          <p:cNvSpPr/>
          <p:nvPr/>
        </p:nvSpPr>
        <p:spPr>
          <a:xfrm>
            <a:off x="470880" y="314172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2"/>
          <p:cNvSpPr/>
          <p:nvPr/>
        </p:nvSpPr>
        <p:spPr>
          <a:xfrm>
            <a:off x="471240" y="404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ستطيل 3"/>
          <p:cNvSpPr/>
          <p:nvPr/>
        </p:nvSpPr>
        <p:spPr>
          <a:xfrm>
            <a:off x="179280" y="112536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descriptions or distinctions based on some quality or characteristic rather than on some quantity or measured value. It can be a form of analysis that yields the identity of a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ستطيل 4"/>
          <p:cNvSpPr/>
          <p:nvPr/>
        </p:nvSpPr>
        <p:spPr>
          <a:xfrm>
            <a:off x="179280" y="3716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a type of information based in quantities or else quantifi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tent Placeholder 2"/>
          <p:cNvSpPr/>
          <p:nvPr/>
        </p:nvSpPr>
        <p:spPr>
          <a:xfrm>
            <a:off x="457200" y="198108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-Quantitative assays e.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the concentration of a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Protein assays are one of the most widely used methods in life science research. Estimation of protein concentration is necessary in protein, cell biology, molecular biology and other research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 necessary before processing protein samples for isolation, separation and ana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ستطيل 5"/>
          <p:cNvSpPr/>
          <p:nvPr/>
        </p:nvSpPr>
        <p:spPr>
          <a:xfrm>
            <a:off x="684360" y="620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mportance of determining concentration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مستطيل 1"/>
          <p:cNvSpPr/>
          <p:nvPr/>
        </p:nvSpPr>
        <p:spPr>
          <a:xfrm>
            <a:off x="1225440" y="40464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</a:rPr>
              <a:t>Specificity and Sensitivity of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559480" y="3557520"/>
            <a:ext cx="290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Specificity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ssay relates to how good the assay is in discriminating between the requested analyte and interfering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Elbow Connector 6"/>
          <p:cNvCxnSpPr/>
          <p:nvPr/>
        </p:nvCxnSpPr>
        <p:spPr>
          <a:xfrm rot="5400000">
            <a:off x="2001240" y="1390680"/>
            <a:ext cx="2304000" cy="1916640"/>
          </a:xfrm>
          <a:prstGeom prst="bentConnector3">
            <a:avLst>
              <a:gd name="adj1" fmla="val 49992"/>
            </a:avLst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sp>
        <p:nvSpPr>
          <p:cNvPr id="148" name="Rectangle 4"/>
          <p:cNvSpPr/>
          <p:nvPr/>
        </p:nvSpPr>
        <p:spPr>
          <a:xfrm>
            <a:off x="785880" y="35146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Sensitivity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ssay is a measure of how little of the analyte the method can det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Elbow Connector 6"/>
          <p:cNvCxnSpPr/>
          <p:nvPr/>
        </p:nvCxnSpPr>
        <p:spPr>
          <a:xfrm flipH="1" rot="16200000">
            <a:off x="4410720" y="1458720"/>
            <a:ext cx="2304000" cy="1748520"/>
          </a:xfrm>
          <a:prstGeom prst="bentConnector3">
            <a:avLst>
              <a:gd name="adj1" fmla="val 49992"/>
            </a:avLst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19"/>
          <p:cNvSpPr/>
          <p:nvPr/>
        </p:nvSpPr>
        <p:spPr>
          <a:xfrm>
            <a:off x="395280" y="2602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Most familiar spectrophotometric methods for  Determination of proteins concen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6092"/>
                </a:solidFill>
                <a:uFillTx/>
                <a:latin typeface="Calibri"/>
              </a:rPr>
              <a:t>Lowry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cinchoninic acid (BCA, Smith)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dfor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burg-Christian Method ( A280/ A260 Metho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uret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ستطيل 20"/>
          <p:cNvSpPr/>
          <p:nvPr/>
        </p:nvSpPr>
        <p:spPr>
          <a:xfrm>
            <a:off x="395280" y="43657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he factors that you should consider in choosing a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esence of interfering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 available of th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مستطيل 1"/>
          <p:cNvSpPr/>
          <p:nvPr/>
        </p:nvSpPr>
        <p:spPr>
          <a:xfrm>
            <a:off x="3145320" y="26028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owe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2"/>
          <p:cNvSpPr/>
          <p:nvPr/>
        </p:nvSpPr>
        <p:spPr>
          <a:xfrm>
            <a:off x="108000" y="1182600"/>
            <a:ext cx="871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Is based on two chemical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 first reac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reduction of copper ions under alkaline conditions, which forms a complex with peptide bond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he second reaction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reduction of Folin-Ciocalteu reagent by the copper-peptide bond complex, which subsequently causes a color change of the solution into blue with an absorption in the range of 650 to 750 nm detectable with a spectrophoto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3"/>
          <p:cNvSpPr/>
          <p:nvPr/>
        </p:nvSpPr>
        <p:spPr>
          <a:xfrm>
            <a:off x="108000" y="543888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376092"/>
                </a:solidFill>
                <a:latin typeface="Calibri"/>
              </a:rPr>
              <a:t>The advantages of this assay a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sensitivity, and most importantly, accu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-Howev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requires more time than other ass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rotein Quantitation Figure 3"/>
          <p:cNvPicPr/>
          <p:nvPr/>
        </p:nvPicPr>
        <p:blipFill>
          <a:blip r:embed="rId1"/>
          <a:stretch/>
        </p:blipFill>
        <p:spPr>
          <a:xfrm>
            <a:off x="34920" y="1700280"/>
            <a:ext cx="9043920" cy="2127240"/>
          </a:xfrm>
          <a:prstGeom prst="rect">
            <a:avLst/>
          </a:prstGeom>
          <a:ln w="28440">
            <a:solidFill>
              <a:srgbClr val="404040"/>
            </a:solidFill>
            <a:miter/>
          </a:ln>
        </p:spPr>
      </p:pic>
      <p:sp>
        <p:nvSpPr>
          <p:cNvPr id="156" name="مستطيل 2"/>
          <p:cNvSpPr/>
          <p:nvPr/>
        </p:nvSpPr>
        <p:spPr>
          <a:xfrm>
            <a:off x="2541960" y="407664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g: two chemical reactions of low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19783" t="36048" r="21156" b="27534"/>
          <a:stretch/>
        </p:blipFill>
        <p:spPr>
          <a:xfrm>
            <a:off x="468360" y="1268280"/>
            <a:ext cx="7980480" cy="2952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58" name="مستطيل 3"/>
          <p:cNvSpPr/>
          <p:nvPr/>
        </p:nvSpPr>
        <p:spPr>
          <a:xfrm>
            <a:off x="2749320" y="429264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How a spectrophotomete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7:02:01Z</dcterms:created>
  <dc:creator>لينة</dc:creator>
  <dc:description/>
  <dc:language>en-US</dc:language>
  <cp:lastModifiedBy>لينة</cp:lastModifiedBy>
  <dcterms:modified xsi:type="dcterms:W3CDTF">2014-10-25T15:26:47Z</dcterms:modified>
  <cp:revision>18</cp:revision>
  <dc:subject/>
  <dc:title>عرض تقديمي في PowerPoint</dc:title>
</cp:coreProperties>
</file>