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983-A551-4B2D-8DB5-27FADC495FE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99B0-E449-4A34-9430-082C9373A1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549-BCAF-4A27-8431-39A5A70A9A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4ED-6E1D-45F2-B95A-EEBD2908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1CB-6EEF-47A6-ACE1-0A015DF4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DDE-F0E6-4DEE-B2C0-FF4015C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67B-0C47-4516-A48D-FD79169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D13-36DD-40A4-B0A4-D15C7D41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BFB4-B680-4128-94CD-131BA957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108D-3706-447A-B559-D51B423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E41B-F4F5-4101-96EC-09AB13E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8A7-7338-4912-98A0-1BC92E33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EDB-F99A-4078-8A9C-EAE26C5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C1D0-FF4B-490A-8E28-79FC4D0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8F8-F912-4940-A9F5-B77D154F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073-A4C6-43B6-89E4-527EB06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D7B2-9822-4D13-AF58-FB7CD09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2228-2189-4815-A192-11DA3F96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92EA-4715-4A7A-8744-566507E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FAE2-B393-49AA-8444-1C6A63B6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3D2C-B226-4FD7-B0CE-A1DB65B6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D1E5-7ED7-40D1-8CC7-77A37663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E28B-E168-42FA-B269-D0F80F7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3AB8-7476-42B2-AD37-1715477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E882-D464-4905-8985-FC7772B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6A3-D3ED-4107-B1BF-CCD90EB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F7D7-2A67-4ECE-A9D9-DE2C13C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C8DA-01AA-459C-AB21-F5694E4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6299-9489-406D-B4C9-58E4223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1F87-3584-4A6C-A183-D8338E2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CA9A-17B9-4F7A-94C7-04D6819C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F09B-F037-4901-AE7F-E120F0D1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52C3-ECB8-42CE-B143-99B0393C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203-271E-41AA-9F62-0AAE705C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348-E31F-4376-B67F-BAB415D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A5E-9230-42C5-B10E-2CDE230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C9A-31D5-44CD-8D87-7EE51D4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2E2-EBED-44EC-85FB-9DBC448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7A6-6499-4F0E-A1D0-416696A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F30-A9EF-49C6-B384-B00B7CE8715E}" type="slidenum">
              <a:rPr b="1" lang="ar-SA" sz="2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58F-4FF3-4590-96A9-543BD769E40A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F5D-A363-4A40-BE7E-2B5FEE4BF237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 Black"/>
              </a:rPr>
              <a:t>BCH 302 [PRACTICAL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684360" y="1773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مستطيل 1"/>
          <p:cNvSpPr/>
          <p:nvPr/>
        </p:nvSpPr>
        <p:spPr>
          <a:xfrm>
            <a:off x="250920" y="189000"/>
            <a:ext cx="86421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 standard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t is a graph that  shows the relationship  between different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known concentra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 substance and the absorbance at a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specific wave length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tandard curve are most commonly used to determine the concentration of a substance, using serial dilution of solutions of  known concentrations[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tandard solution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what is standard solutions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tandard solu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olution containing a precisely known concentration of an element or a subst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rcRect l="56657" t="50005" r="24426" b="33465"/>
          <a:stretch/>
        </p:blipFill>
        <p:spPr>
          <a:xfrm>
            <a:off x="2620800" y="1700280"/>
            <a:ext cx="317520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62" name="رابط كسهم مستقيم 2"/>
          <p:cNvCxnSpPr/>
          <p:nvPr/>
        </p:nvCxnSpPr>
        <p:spPr>
          <a:xfrm>
            <a:off x="1907640" y="3499920"/>
            <a:ext cx="4653720" cy="108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63" name="مربع نص 3"/>
          <p:cNvSpPr/>
          <p:nvPr/>
        </p:nvSpPr>
        <p:spPr>
          <a:xfrm>
            <a:off x="0" y="367668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concentration =&gt; Increased color intensity =&gt; Increased absorbance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مستطيل 1"/>
          <p:cNvSpPr/>
          <p:nvPr/>
        </p:nvSpPr>
        <p:spPr>
          <a:xfrm>
            <a:off x="395280" y="765000"/>
            <a:ext cx="80643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Quantitative Proteins Estimation by lowry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determination of unknown protein concentration in a sample using  standard curve obtained using lowry method]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hat is a standard curve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ستطيل 1"/>
          <p:cNvSpPr/>
          <p:nvPr/>
        </p:nvSpPr>
        <p:spPr>
          <a:xfrm>
            <a:off x="470880" y="31417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2"/>
          <p:cNvSpPr/>
          <p:nvPr/>
        </p:nvSpPr>
        <p:spPr>
          <a:xfrm>
            <a:off x="471240" y="404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ستطيل 3"/>
          <p:cNvSpPr/>
          <p:nvPr/>
        </p:nvSpPr>
        <p:spPr>
          <a:xfrm>
            <a:off x="179280" y="112536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descriptions or distinctions based on some quality or characteristic rather than on some quantity or measured value. It can be a form of analysis that yields the identity of a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ستطيل 4"/>
          <p:cNvSpPr/>
          <p:nvPr/>
        </p:nvSpPr>
        <p:spPr>
          <a:xfrm>
            <a:off x="179280" y="3716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a type of information based in quantities or else quantifi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t Placeholder 2"/>
          <p:cNvSpPr/>
          <p:nvPr/>
        </p:nvSpPr>
        <p:spPr>
          <a:xfrm>
            <a:off x="457200" y="198108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Quantitative assays e.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the concentration of a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Protein assays are one of the most widely used methods in life science research. Estimation of protein concentration is necessary in protein, cell biology, molecular biology and other research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 necessary before processing protein samples for isolation, separation and ana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ستطيل 5"/>
          <p:cNvSpPr/>
          <p:nvPr/>
        </p:nvSpPr>
        <p:spPr>
          <a:xfrm>
            <a:off x="684360" y="620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mportance of determining concentration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مستطيل 1"/>
          <p:cNvSpPr/>
          <p:nvPr/>
        </p:nvSpPr>
        <p:spPr>
          <a:xfrm>
            <a:off x="1225440" y="40464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</a:rPr>
              <a:t>Specificity and Sensitivity of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559480" y="3557520"/>
            <a:ext cx="290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Specificity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ssay relates to how good the assay is in discriminating between the requested analyte and interfering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Elbow Connector 6"/>
          <p:cNvCxnSpPr/>
          <p:nvPr/>
        </p:nvCxnSpPr>
        <p:spPr>
          <a:xfrm rot="5400000">
            <a:off x="2001240" y="1390680"/>
            <a:ext cx="2304000" cy="1916640"/>
          </a:xfrm>
          <a:prstGeom prst="bentConnector3">
            <a:avLst>
              <a:gd name="adj1" fmla="val 49992"/>
            </a:avLst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148" name="Rectangle 4"/>
          <p:cNvSpPr/>
          <p:nvPr/>
        </p:nvSpPr>
        <p:spPr>
          <a:xfrm>
            <a:off x="785880" y="35146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Sensitivity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ssay is a measure of how little of the analyte the method can det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Elbow Connector 6"/>
          <p:cNvCxnSpPr/>
          <p:nvPr/>
        </p:nvCxnSpPr>
        <p:spPr>
          <a:xfrm flipH="1" rot="16200000">
            <a:off x="4410720" y="1458720"/>
            <a:ext cx="2304000" cy="1748520"/>
          </a:xfrm>
          <a:prstGeom prst="bentConnector3">
            <a:avLst>
              <a:gd name="adj1" fmla="val 49992"/>
            </a:avLst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9"/>
          <p:cNvSpPr/>
          <p:nvPr/>
        </p:nvSpPr>
        <p:spPr>
          <a:xfrm>
            <a:off x="395280" y="2602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Most familiar spectrophotometric methods for  Determination of proteins concen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6092"/>
                </a:solidFill>
                <a:uFillTx/>
                <a:latin typeface="Calibri"/>
              </a:rPr>
              <a:t>Lowry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cinchoninic acid (BCA, Smith)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dfor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burg-Christian Method ( A280/ A260 Metho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uret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ستطيل 20"/>
          <p:cNvSpPr/>
          <p:nvPr/>
        </p:nvSpPr>
        <p:spPr>
          <a:xfrm>
            <a:off x="395280" y="43657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he factors that you should consider in choosing a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esence of interfering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 available of th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ستطيل 1"/>
          <p:cNvSpPr/>
          <p:nvPr/>
        </p:nvSpPr>
        <p:spPr>
          <a:xfrm>
            <a:off x="3145320" y="26028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owe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2"/>
          <p:cNvSpPr/>
          <p:nvPr/>
        </p:nvSpPr>
        <p:spPr>
          <a:xfrm>
            <a:off x="108000" y="1182600"/>
            <a:ext cx="871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s based on two chemical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 first reac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reduction of copper ions under alkaline conditions, which forms a complex with peptide bond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 second reac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reduction of Folin-Ciocalteu reagent by the copper-peptide bond complex, which subsequently causes a color change of the solution into blue with an absorption in the range of 650 to 750 nm detectable with a spectrophoto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3"/>
          <p:cNvSpPr/>
          <p:nvPr/>
        </p:nvSpPr>
        <p:spPr>
          <a:xfrm>
            <a:off x="108000" y="543888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The advantages of this assay a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sensitivity, and most importantly, accu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-Howev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requires more time than other ass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rotein Quantitation Figure 3"/>
          <p:cNvPicPr/>
          <p:nvPr/>
        </p:nvPicPr>
        <p:blipFill>
          <a:blip r:embed="rId1"/>
          <a:stretch/>
        </p:blipFill>
        <p:spPr>
          <a:xfrm>
            <a:off x="34920" y="1700280"/>
            <a:ext cx="9043920" cy="2127240"/>
          </a:xfrm>
          <a:prstGeom prst="rect">
            <a:avLst/>
          </a:prstGeom>
          <a:ln w="28440">
            <a:solidFill>
              <a:srgbClr val="404040"/>
            </a:solidFill>
            <a:miter/>
          </a:ln>
        </p:spPr>
      </p:pic>
      <p:sp>
        <p:nvSpPr>
          <p:cNvPr id="156" name="مستطيل 2"/>
          <p:cNvSpPr/>
          <p:nvPr/>
        </p:nvSpPr>
        <p:spPr>
          <a:xfrm>
            <a:off x="2541960" y="407664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g: two chemical reactions of low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19783" t="36048" r="21156" b="27534"/>
          <a:stretch/>
        </p:blipFill>
        <p:spPr>
          <a:xfrm>
            <a:off x="468360" y="1268280"/>
            <a:ext cx="7980480" cy="2952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58" name="مستطيل 3"/>
          <p:cNvSpPr/>
          <p:nvPr/>
        </p:nvSpPr>
        <p:spPr>
          <a:xfrm>
            <a:off x="2749320" y="429264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How a spectrophotomete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7:02:01Z</dcterms:created>
  <dc:creator>لينة</dc:creator>
  <dc:description/>
  <dc:language>en-US</dc:language>
  <cp:lastModifiedBy>لينة</cp:lastModifiedBy>
  <dcterms:modified xsi:type="dcterms:W3CDTF">2014-10-25T15:26:47Z</dcterms:modified>
  <cp:revision>18</cp:revision>
  <dc:subject/>
  <dc:title>عرض تقديمي في PowerPoint</dc:title>
</cp:coreProperties>
</file>