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3525-D205-46E3-B37E-630C6056C4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DCD2-7AD6-49A8-8A8A-6A04046050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are compliant, have a tendency to conform and a high need for affiliation, need to be liked by others, and are other-directed are more receptive to group influences. Competitive people who desire to control other people and events and are inner-directed are less likely to look for guidance from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6992-43B4-4AF7-9283-17B0696EC2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credibility </a:t>
            </a:r>
            <a:r>
              <a:rPr b="0" lang="en-US" sz="1200" spc="-1" strike="noStrike">
                <a:solidFill>
                  <a:srgbClr val="000000"/>
                </a:solidFill>
                <a:latin typeface="Calibri"/>
              </a:rPr>
              <a:t>is the believability of the endorser, spokesperson, or individual in an advertisement. A spokesperson can be an actual customer, a company employee, a celebrity, or a model. Researchers have identified the following dimensions in measuring the credibility of a person or organization:  expertise, trustworthiness, attractiveness, and likability.</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29B9-8396-4DA4-B61B-D4C6C7C9D3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cognize that the intentions of commercial sources (e.g., manufacturers, service companies, financial institutions, retailers) are clearly profit and view them as less credible than informal reference groups. Companies can convey their credibility through solid past performance, good reputation, product quality, and good service. Their perceived credibility is also a function of the image and attractiveness of their spokespersons, the reputation of the retailers that carry their offerings, and the media where they adv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1" lang="en-US" sz="1200" spc="-1" strike="noStrike">
                <a:solidFill>
                  <a:srgbClr val="000000"/>
                </a:solidFill>
                <a:latin typeface="Calibri"/>
              </a:rPr>
              <a:t>institutional advertising</a:t>
            </a:r>
            <a:r>
              <a:rPr b="0" lang="en-US" sz="1200" spc="-1" strike="noStrike">
                <a:solidFill>
                  <a:srgbClr val="000000"/>
                </a:solidFill>
                <a:latin typeface="Calibri"/>
              </a:rPr>
              <a:t>, which consists of promoting a company’s image without referring to any of its specific offerings.</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E660-0D2F-46C0-85B9-266672421A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ynergy between the endorser and the type of product or service advertised is very important. The greater the fit between the celebrity and the product endorsed, the higher the persuasiveness of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ndorsers whose demographic characteristics (e.g., age and ethnicity) are similar to those of the target audiences are viewed as more credible and persuasive than those whose characteristics are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lthough consumers may like an ad featuring a famous endorser, they will buy the product advertised only if they trust the marketer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arketers who use celebrities in testimonials or endorsements must ensure that the message contents are congruent with spokespersons’ qualif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ensure that there is a synergy among the celebrity’s trustworthiness, expertise, physical attractiveness, and the product or brand endorsed. They must also take into account the celebrity’s number of prior endorsements, because consumers perceive celebrities who appear in commercials too often as less credible than celebs with lesser commercial exposure.</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D79E-F2A0-412F-B672-44BE2C001B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ebrities, particularly movie stars, TV personalities, popular entertainers, and sports icons, are a symbolic reference group because they are liked, admired, and often have a high degree of perceived credibility. The “pitchman” (or woman) who appears in a promotional message has enormous influence on the credibility of the message. Credibility is the most important thing the celebrity offers – the audience’s perception of both the celebrity’s </a:t>
            </a:r>
            <a:r>
              <a:rPr b="0" i="1" lang="en-US" sz="1200" spc="-1" strike="noStrike">
                <a:solidFill>
                  <a:srgbClr val="000000"/>
                </a:solidFill>
                <a:latin typeface="Calibri"/>
              </a:rPr>
              <a:t>expertise </a:t>
            </a:r>
            <a:r>
              <a:rPr b="0" lang="en-US" sz="1200" spc="-1" strike="noStrike">
                <a:solidFill>
                  <a:srgbClr val="000000"/>
                </a:solidFill>
                <a:latin typeface="Calibri"/>
              </a:rPr>
              <a:t>(how much the celebrity knows about the product area) and </a:t>
            </a:r>
            <a:r>
              <a:rPr b="0" i="1" lang="en-US" sz="1200" spc="-1" strike="noStrike">
                <a:solidFill>
                  <a:srgbClr val="000000"/>
                </a:solidFill>
                <a:latin typeface="Calibri"/>
              </a:rPr>
              <a:t>trustworthiness </a:t>
            </a:r>
            <a:r>
              <a:rPr b="0" lang="en-US" sz="1200" spc="-1" strike="noStrike">
                <a:solidFill>
                  <a:srgbClr val="000000"/>
                </a:solidFill>
                <a:latin typeface="Calibri"/>
              </a:rPr>
              <a:t>(how honest the celebrity is about what he or she says about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mploy celebrities in promotion in the following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Celebrity testimonial</a:t>
            </a:r>
            <a:r>
              <a:rPr b="0" lang="en-US" sz="1200" spc="-1" strike="noStrike">
                <a:solidFill>
                  <a:srgbClr val="000000"/>
                </a:solidFill>
                <a:latin typeface="Calibri"/>
              </a:rPr>
              <a:t>—Based on personal usage, the celebrity attests to the product’s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Celebrity endorsement</a:t>
            </a:r>
            <a:r>
              <a:rPr b="0" lang="en-US" sz="1200" spc="-1" strike="noStrike">
                <a:solidFill>
                  <a:srgbClr val="000000"/>
                </a:solidFill>
                <a:latin typeface="Calibri"/>
              </a:rPr>
              <a:t>—Celebrities appear on behalf of products, with which they may or may not have direct experience or familiarity, for extended periods. Figure 9.6 features “K.J.” Noons—a kickboxing and martial arts champion—as a spokesperson for a not-for-profit organization named People for the Ethical Treatment of Animals (PETA). “K.J.” is a tough fighter and he states that while he and his opponents in the ring are equally matched, animals often need protection from violence and abuse by bigger and stronger hum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Celebrity actor</a:t>
            </a:r>
            <a:r>
              <a:rPr b="0" lang="en-US" sz="1200" spc="-1" strike="noStrike">
                <a:solidFill>
                  <a:srgbClr val="000000"/>
                </a:solidFill>
                <a:latin typeface="Calibri"/>
              </a:rPr>
              <a:t>—The celebrity plays a part in a commercial for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Celebrity spokesperson</a:t>
            </a:r>
            <a:r>
              <a:rPr b="0" lang="en-US" sz="1200" spc="-1" strike="noStrike">
                <a:solidFill>
                  <a:srgbClr val="000000"/>
                </a:solidFill>
                <a:latin typeface="Calibri"/>
              </a:rPr>
              <a:t>—The celebrity represents the brand or company over an extended period. </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3745-6E62-427A-88B8-E32F093EBE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people who engender confidence and who give the impression of honesty and integrity are most persuasive. A salesperson who “looks you in the eye” often is perceived as more honest than one who evades direct eye contact. For many products, a sales representative who dresses well and drives an expensive, late-model car may have more credibility than one without such outward signs of success.  For other products, a salesperson may achieve more credibility by dressing in the role of an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retailer who sells the product has a major influence on message credibility. Products sold by well-known, quality stores carry the added endorsement (and implicit guarantee) of the store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s previous experience with the product or vendor has a major impact on the credibility of the message. Fulfilled product expectations increase the credibility accorded to future messages by the same advertiser; unfulfilled product claims or disappointing product experiences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dibility of future messages. Thus, the key basis for message credibility is the ability of the product, service, or brand to deliver consistent quality, value, and satisfaction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medium that carries the advertisement also enhances the credibility of the message. Most consumers believe that a respectable medium would only advertise products that it “knows” to be of good quality. Because specialization in an area implies knowledge and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gard advertising they see in special-interest magazines and websites as more credible than ads in general-interest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nformation is transferred from the short-term memory to the cerebral cortex (where long-term memory is located), over time, it is separated from the context in which it was learned. One’s disassociation of the message from its source over time, and remembering only the message content but not its source, is called the </a:t>
            </a:r>
            <a:r>
              <a:rPr b="1" lang="en-US" sz="1200" spc="-1" strike="noStrike">
                <a:solidFill>
                  <a:srgbClr val="000000"/>
                </a:solidFill>
                <a:latin typeface="Calibri"/>
              </a:rPr>
              <a:t>sleeper effect</a:t>
            </a:r>
            <a:r>
              <a:rPr b="0" lang="en-US" sz="1200" spc="-1" strike="noStrike">
                <a:solidFill>
                  <a:srgbClr val="000000"/>
                </a:solidFill>
                <a:latin typeface="Calibri"/>
              </a:rPr>
              <a:t>. Thus, though a high-credibility source is initially more influential than a low-credibility source,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both positive and negative credibility effects tend to disappear after six weeks or so. Furthermore, the theory of </a:t>
            </a:r>
            <a:r>
              <a:rPr b="1" lang="en-US" sz="1200" spc="-1" strike="noStrike">
                <a:solidFill>
                  <a:srgbClr val="000000"/>
                </a:solidFill>
                <a:latin typeface="Calibri"/>
              </a:rPr>
              <a:t>differential decay </a:t>
            </a:r>
            <a:r>
              <a:rPr b="0" lang="en-US" sz="1200" spc="-1" strike="noStrike">
                <a:solidFill>
                  <a:srgbClr val="000000"/>
                </a:solidFill>
                <a:latin typeface="Calibri"/>
              </a:rPr>
              <a:t>suggests that the memory of a negative cue (e.g., a low credibility source) simply decays faster than the message itself, leaving behind the primary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322E-6513-4004-B83D-F8A9C18B4F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inion leadership</a:t>
            </a:r>
            <a:r>
              <a:rPr b="0" lang="en-US" sz="1200" spc="-1" strike="noStrike">
                <a:solidFill>
                  <a:srgbClr val="000000"/>
                </a:solidFill>
                <a:latin typeface="Calibri"/>
              </a:rPr>
              <a:t>, defined as the process by which one person—the opinion leader—informally influences others, who might be either opinion seekers or recipients, occurs between two or more people, neither of whom is or represents a commercial seller or would gain directly from prov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ce or informa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EDB1-3F7F-4E78-ABF5-60BCA6B16B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hat opinion leaders transmit includes advice on selecting the best brands, using the products correctly, where to buy the products, and other aspects. Opinion leaders important in recommending service providers with whom they have had personal relationships, such as doctors, lawyers, hairdressers, garage mechanics, restaurants, or travel companies, because small service businesses have very limited advertising resources, and the main way they can get new customers is via recommendations by existing clients. opinion leadership is </a:t>
            </a:r>
            <a:r>
              <a:rPr b="0" i="1" lang="en-US" sz="1200" spc="-1" strike="noStrike">
                <a:solidFill>
                  <a:srgbClr val="000000"/>
                </a:solidFill>
                <a:latin typeface="Calibri"/>
              </a:rPr>
              <a:t>category specific</a:t>
            </a:r>
            <a:r>
              <a:rPr b="0" lang="en-US" sz="1200" spc="-1" strike="noStrike">
                <a:solidFill>
                  <a:srgbClr val="000000"/>
                </a:solidFill>
                <a:latin typeface="Calibri"/>
              </a:rPr>
              <a:t>; that is, opinion leaders often specialize in certain product categories about which they offer information and advice. The motivations of opinion leaders and receivers are shown in Table 9.4</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7A63-333A-4DFD-BD59-2B69C43A3C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Opinion leaders are highly knowledgeable regarding a particular product category, follow new products that come into the markets, and are often consumer innovators in their area of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pinion leaders are self-confident, outgoing, and sociable. They readily discuss products and consumption behavior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Opinion leaders read special-interest publications and regularly visit websites devoted to the specific topic or product category in which they specialize. They have specialized knowledge that enables them to make effective recommendations to relatives, friends, and neighb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Usually, opinion leaders and receivers belong to the same socioeconomic and age group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A9D6-82DD-4F89-9D59-2228881961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lf-designating method </a:t>
            </a:r>
            <a:r>
              <a:rPr b="0" lang="en-US" sz="1200" spc="-1" strike="noStrike">
                <a:solidFill>
                  <a:srgbClr val="000000"/>
                </a:solidFill>
                <a:latin typeface="Calibri"/>
              </a:rPr>
              <a:t>employs a self-administered questionnaire that requires respondents to evaluate the extent to which they have provided others with information about a product category or specific brand or have otherwise influenced the purchase decisions of others. The </a:t>
            </a:r>
            <a:r>
              <a:rPr b="1" lang="en-US" sz="1200" spc="-1" strike="noStrike">
                <a:solidFill>
                  <a:srgbClr val="000000"/>
                </a:solidFill>
                <a:latin typeface="Calibri"/>
              </a:rPr>
              <a:t>sociometric method </a:t>
            </a:r>
            <a:r>
              <a:rPr b="0" lang="en-US" sz="1200" spc="-1" strike="noStrike">
                <a:solidFill>
                  <a:srgbClr val="000000"/>
                </a:solidFill>
                <a:latin typeface="Calibri"/>
              </a:rPr>
              <a:t>measures the person-to-person communications about a product or brand among members of a community where most people know each other by name (e.g., a college dormitory or sorority). Respondents are asked to ident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pecific individuals (if any) to whom they provided advice or information about the product or brand under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specific individuals (if any) who provided them with advice or information about the same product or brand. If respondents identify one or more individuals to whom they have provided some form of product information and those individuals confirm this attribution, the respondents receive “opinion leadership points.” On the basis of these interviews, respondents receive “opinion receivership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can also study opinion leadership by using a </a:t>
            </a:r>
            <a:r>
              <a:rPr b="1" lang="en-US" sz="1200" spc="-1" strike="noStrike">
                <a:solidFill>
                  <a:srgbClr val="000000"/>
                </a:solidFill>
                <a:latin typeface="Calibri"/>
              </a:rPr>
              <a:t>key informant</a:t>
            </a:r>
            <a:r>
              <a:rPr b="0" lang="en-US" sz="1200" spc="-1" strike="noStrike">
                <a:solidFill>
                  <a:srgbClr val="000000"/>
                </a:solidFill>
                <a:latin typeface="Calibri"/>
              </a:rPr>
              <a:t>, that is, a person who is keenly knowledgeable about the nature of social communications among members of a specific group</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D3F2-9080-4921-BEA6-4D2E67C3AB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are strongly influenced by what others think and how they behave. The chapter discusses source credibility and influences of selected reference groups; sources of information that are sponsored by marketers, such as spokespersons and endorsers; the process of opinion leadership; and an overview of the strategic applications of word-of-mouth.</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5AB7-B78F-4D9D-B11C-6AEE54ACA9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keting, word-of-mouth consists of transmitting advice and other types of information about products, brands, and shopping experiences. Word-of-mouth taking place online is called </a:t>
            </a:r>
            <a:r>
              <a:rPr b="1" lang="en-US" sz="1200" spc="-1" strike="noStrike">
                <a:solidFill>
                  <a:srgbClr val="000000"/>
                </a:solidFill>
                <a:latin typeface="Calibri"/>
              </a:rPr>
              <a:t>e-wom </a:t>
            </a:r>
            <a:r>
              <a:rPr b="0" lang="en-US" sz="1200" spc="-1" strike="noStrike">
                <a:solidFill>
                  <a:srgbClr val="000000"/>
                </a:solidFill>
                <a:latin typeface="Calibri"/>
              </a:rPr>
              <a:t>and occurs in social networks, brand communities, blogs, chat rooms, and tweet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80A0-3B43-4A03-A9B0-E1895F797D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dimensions underly consumers’ engagement in e-wom: </a:t>
            </a:r>
            <a:r>
              <a:rPr b="1" lang="en-US" sz="1200" spc="-1" strike="noStrike">
                <a:solidFill>
                  <a:srgbClr val="000000"/>
                </a:solidFill>
                <a:latin typeface="Calibri"/>
              </a:rPr>
              <a:t>1. </a:t>
            </a:r>
            <a:r>
              <a:rPr b="0" i="1" lang="en-US" sz="1200" spc="-1" strike="noStrike">
                <a:solidFill>
                  <a:srgbClr val="000000"/>
                </a:solidFill>
                <a:latin typeface="Calibri"/>
              </a:rPr>
              <a:t>Tie strength</a:t>
            </a:r>
            <a:r>
              <a:rPr b="0" lang="en-US" sz="1200" spc="-1" strike="noStrike">
                <a:solidFill>
                  <a:srgbClr val="000000"/>
                </a:solidFill>
                <a:latin typeface="Calibri"/>
              </a:rPr>
              <a:t>—the degree of intimacy and frequency of contacts between the information seeker and the source.  </a:t>
            </a:r>
            <a:r>
              <a:rPr b="1" lang="en-US" sz="1200" spc="-1" strike="noStrike">
                <a:solidFill>
                  <a:srgbClr val="000000"/>
                </a:solidFill>
                <a:latin typeface="Calibri"/>
              </a:rPr>
              <a:t>2. </a:t>
            </a:r>
            <a:r>
              <a:rPr b="0" i="1" lang="en-US" sz="1200" spc="-1" strike="noStrike">
                <a:solidFill>
                  <a:srgbClr val="000000"/>
                </a:solidFill>
                <a:latin typeface="Calibri"/>
              </a:rPr>
              <a:t>Similarity </a:t>
            </a:r>
            <a:r>
              <a:rPr b="0" lang="en-US" sz="1200" spc="-1" strike="noStrike">
                <a:solidFill>
                  <a:srgbClr val="000000"/>
                </a:solidFill>
                <a:latin typeface="Calibri"/>
              </a:rPr>
              <a:t>among the group’s members in terms of demographics and lifestyles.  </a:t>
            </a:r>
            <a:r>
              <a:rPr b="1" lang="en-US" sz="1200" spc="-1" strike="noStrike">
                <a:solidFill>
                  <a:srgbClr val="000000"/>
                </a:solidFill>
                <a:latin typeface="Calibri"/>
              </a:rPr>
              <a:t>3. </a:t>
            </a:r>
            <a:r>
              <a:rPr b="0" i="1" lang="en-US" sz="1200" spc="-1" strike="noStrike">
                <a:solidFill>
                  <a:srgbClr val="000000"/>
                </a:solidFill>
                <a:latin typeface="Calibri"/>
              </a:rPr>
              <a:t>Source credibility</a:t>
            </a:r>
            <a:r>
              <a:rPr b="0" lang="en-US" sz="1200" spc="-1" strike="noStrike">
                <a:solidFill>
                  <a:srgbClr val="000000"/>
                </a:solidFill>
                <a:latin typeface="Calibri"/>
              </a:rPr>
              <a:t>—the information seeker’s perceptions of the source’s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reviews of </a:t>
            </a:r>
            <a:r>
              <a:rPr b="0" i="1" lang="en-US" sz="1200" spc="-1" strike="noStrike">
                <a:solidFill>
                  <a:srgbClr val="000000"/>
                </a:solidFill>
                <a:latin typeface="Calibri"/>
              </a:rPr>
              <a:t>hedonic </a:t>
            </a:r>
            <a:r>
              <a:rPr b="0" lang="en-US" sz="1200" spc="-1" strike="noStrike">
                <a:solidFill>
                  <a:srgbClr val="000000"/>
                </a:solidFill>
                <a:latin typeface="Calibri"/>
              </a:rPr>
              <a:t>(i.e., products used mainly for pleasure) products where considered less useful/attributed to the reviewer; negative reviews for utilitarian products were attributed to the product.  Involved consumers transfer and receive more rational product information than information appealing to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a:t>
            </a:r>
            <a:r>
              <a:rPr b="1" lang="en-US" sz="1200" spc="-1" strike="noStrike">
                <a:solidFill>
                  <a:srgbClr val="000000"/>
                </a:solidFill>
                <a:latin typeface="Calibri"/>
              </a:rPr>
              <a:t>social networks </a:t>
            </a:r>
            <a:r>
              <a:rPr b="0" lang="en-US" sz="1200" spc="-1" strike="noStrike">
                <a:solidFill>
                  <a:srgbClr val="000000"/>
                </a:solidFill>
                <a:latin typeface="Calibri"/>
              </a:rPr>
              <a:t>are virtual communities where people share information about themselves with others, generally with similar interests, with whom they have established relationships that, for the most part, exist only in cyberspace. The major social networks are Facebook, YouTube, Twitter, and My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brand community </a:t>
            </a:r>
            <a:r>
              <a:rPr b="0" lang="en-US" sz="1200" spc="-1" strike="noStrike">
                <a:solidFill>
                  <a:srgbClr val="000000"/>
                </a:solidFill>
                <a:latin typeface="Calibri"/>
              </a:rPr>
              <a:t>is a specialized, nongeographically bound community formed on the basis of attachment to a product or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1" lang="en-US" sz="1200" spc="-1" strike="noStrike">
                <a:solidFill>
                  <a:srgbClr val="000000"/>
                </a:solidFill>
                <a:latin typeface="Calibri"/>
              </a:rPr>
              <a:t> blog </a:t>
            </a:r>
            <a:r>
              <a:rPr b="0" lang="en-US" sz="1200" spc="-1" strike="noStrike">
                <a:solidFill>
                  <a:srgbClr val="000000"/>
                </a:solidFill>
                <a:latin typeface="Calibri"/>
              </a:rPr>
              <a:t>is a discussion or informational site published on the Internet and consists of discrete entries (“posts”). A </a:t>
            </a:r>
            <a:r>
              <a:rPr b="1" lang="en-US" sz="1200" spc="-1" strike="noStrike">
                <a:solidFill>
                  <a:srgbClr val="000000"/>
                </a:solidFill>
                <a:latin typeface="Calibri"/>
              </a:rPr>
              <a:t>microblog </a:t>
            </a:r>
            <a:r>
              <a:rPr b="0" lang="en-US" sz="1200" spc="-1" strike="noStrike">
                <a:solidFill>
                  <a:srgbClr val="000000"/>
                </a:solidFill>
                <a:latin typeface="Calibri"/>
              </a:rPr>
              <a:t>has less content than the traditional blog and allow users to exchange small elements of content, such as short sentences, individual images, and video links, mostly via Twitter. </a:t>
            </a:r>
            <a:r>
              <a:rPr b="1" lang="en-US" sz="1200" spc="-1" strike="noStrike">
                <a:solidFill>
                  <a:srgbClr val="000000"/>
                </a:solidFill>
                <a:latin typeface="Calibri"/>
              </a:rPr>
              <a:t>Twitter </a:t>
            </a:r>
            <a:r>
              <a:rPr b="0" lang="en-US" sz="1200" spc="-1" strike="noStrike">
                <a:solidFill>
                  <a:srgbClr val="000000"/>
                </a:solidFill>
                <a:latin typeface="Calibri"/>
              </a:rPr>
              <a:t>is an online social networking service and microblogging service that enables its users to send and read text-based messages of up to 140 characters, known as “tweet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CE77-AD0C-407B-80BD-E27055DFE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long ago realized the power of word-of-mouth communications between consumers, which it is almost always more effective than promotional messages paid for by advertisers, and they often encourage it in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al marketing (viral advertising) </a:t>
            </a:r>
            <a:r>
              <a:rPr b="0" lang="en-US" sz="1200" spc="-1" strike="noStrike">
                <a:solidFill>
                  <a:srgbClr val="000000"/>
                </a:solidFill>
                <a:latin typeface="Calibri"/>
              </a:rPr>
              <a:t>is a marketing technique that uses pre-existing social networks and other technologies to produce increases in brand awareness or to achieve other marketing objectives through encouraging individuals to pass along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on of the motivations for passing along emails found that:</a:t>
            </a:r>
            <a:r>
              <a:rPr b="1" lang="en-US" sz="1200" spc="-1" strike="noStrike">
                <a:solidFill>
                  <a:srgbClr val="000000"/>
                </a:solidFill>
                <a:latin typeface="Calibri"/>
              </a:rPr>
              <a:t>1. </a:t>
            </a:r>
            <a:r>
              <a:rPr b="0" lang="en-US" sz="1200" spc="-1" strike="noStrike">
                <a:solidFill>
                  <a:srgbClr val="000000"/>
                </a:solidFill>
                <a:latin typeface="Calibri"/>
              </a:rPr>
              <a:t>People were receptive only to emails from people they knew. The kind of emails they received included jokes, virus alerts, inspirational stories, requests to vote on certain issues, video clips, and links to other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main reasons for not forwarding emails were outdated, dull, and inappropriate contents. About one-third of the forwarded emails included personalized notes from the forwarders, and most of the senders did not alter the emails’ original subject lines. </a:t>
            </a:r>
            <a:r>
              <a:rPr b="1" lang="en-US" sz="1200" spc="-1" strike="noStrike">
                <a:solidFill>
                  <a:srgbClr val="000000"/>
                </a:solidFill>
                <a:latin typeface="Calibri"/>
              </a:rPr>
              <a:t>3. </a:t>
            </a:r>
            <a:r>
              <a:rPr b="0" lang="en-US" sz="1200" spc="-1" strike="noStrike">
                <a:solidFill>
                  <a:srgbClr val="000000"/>
                </a:solidFill>
                <a:latin typeface="Calibri"/>
              </a:rPr>
              <a:t>The key reasons for forwarding emails were enjoyment (e.g., fun, entertaining, exciting) and helping others (i.e., let others know that the senders care about them). The forwarders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that they only passed along contents that they believed the receivers would find intere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irms enlist typical consumers to serve as their </a:t>
            </a:r>
            <a:r>
              <a:rPr b="1" lang="en-US" sz="1200" spc="-1" strike="noStrike">
                <a:solidFill>
                  <a:srgbClr val="000000"/>
                </a:solidFill>
                <a:latin typeface="Calibri"/>
              </a:rPr>
              <a:t>buzz agents</a:t>
            </a:r>
            <a:r>
              <a:rPr b="0" lang="en-US" sz="1200" spc="-1" strike="noStrike">
                <a:solidFill>
                  <a:srgbClr val="000000"/>
                </a:solidFill>
                <a:latin typeface="Calibri"/>
              </a:rPr>
              <a:t>—consumers who promote products clandestinely and generally receive free product samples but not monetary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hare negative experiences with others much more readily than positive ones. Consumers attend to negative information because it is less common than positive information and to protect themselves.  Online media made it easier for consumers to spread negative word-of-mouth.  One study discovered that some consumers who posted unfavorable information wanted to vent negative feelings or warn others. Others sought exposure, self-enhancement, social benefits, and even economic reward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889D-429E-467A-9FA5-EA172FE83E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positive word-of-mouth leads to the widespread adoption of products that fulfill needs, work well, are clearly differentiated, and provide value.</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3A11-B13D-4BD6-9DD2-4837E29667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pt of </a:t>
            </a:r>
            <a:r>
              <a:rPr b="1" lang="en-US" sz="1200" spc="-1" strike="noStrike">
                <a:solidFill>
                  <a:srgbClr val="000000"/>
                </a:solidFill>
                <a:latin typeface="Calibri"/>
              </a:rPr>
              <a:t>adopter categories </a:t>
            </a:r>
            <a:r>
              <a:rPr b="0" lang="en-US" sz="1200" spc="-1" strike="noStrike">
                <a:solidFill>
                  <a:srgbClr val="000000"/>
                </a:solidFill>
                <a:latin typeface="Calibri"/>
              </a:rPr>
              <a:t>is a classification that depicts where consumers stand in relation to other consumers in terms of the first time they purchase an innovation (e.g., a new product o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logically, the model assumes that </a:t>
            </a:r>
            <a:r>
              <a:rPr b="0" i="1" lang="en-US" sz="1200" spc="-1" strike="noStrike">
                <a:solidFill>
                  <a:srgbClr val="000000"/>
                </a:solidFill>
                <a:latin typeface="Calibri"/>
              </a:rPr>
              <a:t>all </a:t>
            </a:r>
            <a:r>
              <a:rPr b="0" lang="en-US" sz="1200" spc="-1" strike="noStrike">
                <a:solidFill>
                  <a:srgbClr val="000000"/>
                </a:solidFill>
                <a:latin typeface="Calibri"/>
              </a:rPr>
              <a:t>members of a given society would, eventually, adopt the innovation. Thus, the number of people belonging to each category was calculated in a manner </a:t>
            </a:r>
            <a:r>
              <a:rPr b="0" lang="it-IT" sz="1200" spc="-1" strike="noStrike">
                <a:solidFill>
                  <a:srgbClr val="000000"/>
                </a:solidFill>
                <a:latin typeface="Calibri"/>
              </a:rPr>
              <a:t>resembling a statistical normal distribution: innovators— </a:t>
            </a:r>
            <a:r>
              <a:rPr b="0" lang="en-US" sz="1200" spc="-1" strike="noStrike">
                <a:solidFill>
                  <a:srgbClr val="000000"/>
                </a:solidFill>
                <a:latin typeface="Calibri"/>
              </a:rPr>
              <a:t>the first 2.5% to adopt; early adopters—the next 13.5%; early majority—the next 34%; late majority—the following  34%; and the laggards—the last 15%.</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9ED8-D83A-411A-A1FE-CB8F485368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ovators </a:t>
            </a:r>
            <a:r>
              <a:rPr b="0" lang="en-US" sz="1200" spc="-1" strike="noStrike">
                <a:solidFill>
                  <a:srgbClr val="000000"/>
                </a:solidFill>
                <a:latin typeface="Calibri"/>
              </a:rPr>
              <a:t>are the earliest consumers to buy new products. They are prepared to take the risk that the product will not work well, become unavailable, or be quickly replaced by an improved model (i.e., they are broad categorizers). They are often willing to pay somewhat higher price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introduced products, because they enjoy being the first to own gadgets and show them off.  The table shows the shopping activities of fashion innovator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5723-A6C1-4D4A-923A-BBC04A38C2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adopters </a:t>
            </a:r>
            <a:r>
              <a:rPr b="0" lang="en-US" sz="1200" spc="-1" strike="noStrike">
                <a:solidFill>
                  <a:srgbClr val="000000"/>
                </a:solidFill>
                <a:latin typeface="Calibri"/>
              </a:rPr>
              <a:t>are consumers who buy new products within a relatively short period following introduction, but not as early as the innovators. They are venturesome, likely to engage in word-of-mouth, and also likely to assist others who are considering adopting the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majority </a:t>
            </a:r>
            <a:r>
              <a:rPr b="0" lang="en-US" sz="1200" spc="-1" strike="noStrike">
                <a:solidFill>
                  <a:srgbClr val="000000"/>
                </a:solidFill>
                <a:latin typeface="Calibri"/>
              </a:rPr>
              <a:t>consists of consumers who buy innovations after the early adopters have done so.  This segment is larger than the preceding two groups combined. </a:t>
            </a:r>
            <a:r>
              <a:rPr b="1" lang="en-US" sz="1200" spc="-1" strike="noStrike">
                <a:solidFill>
                  <a:srgbClr val="000000"/>
                </a:solidFill>
                <a:latin typeface="Calibri"/>
              </a:rPr>
              <a:t>Risk aversion </a:t>
            </a:r>
            <a:r>
              <a:rPr b="0" lang="en-US" sz="1200" spc="-1" strike="noStrike">
                <a:solidFill>
                  <a:srgbClr val="000000"/>
                </a:solidFill>
                <a:latin typeface="Calibri"/>
              </a:rPr>
              <a:t>is defined as the reluctance to take risks and low tolerance of ambiguous situations, as illustrated by the consumption-related characteristics of risk-averse consumers in Table 9.8.  Members of the early majority are somewhat risk averse, whereas the late majority and laggards are highly risk-aver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e </a:t>
            </a:r>
            <a:r>
              <a:rPr b="1" lang="en-US" sz="1200" spc="-1" strike="noStrike">
                <a:solidFill>
                  <a:srgbClr val="000000"/>
                </a:solidFill>
                <a:latin typeface="Calibri"/>
              </a:rPr>
              <a:t>late majority </a:t>
            </a:r>
            <a:r>
              <a:rPr b="0" lang="en-US" sz="1200" spc="-1" strike="noStrike">
                <a:solidFill>
                  <a:srgbClr val="000000"/>
                </a:solidFill>
                <a:latin typeface="Calibri"/>
              </a:rPr>
              <a:t>are risk averse and slow to adopt innovation. They wait until most other consumers have adopted the new product before buy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laggards </a:t>
            </a:r>
            <a:r>
              <a:rPr b="0" lang="en-US" sz="1200" spc="-1" strike="noStrike">
                <a:solidFill>
                  <a:srgbClr val="000000"/>
                </a:solidFill>
                <a:latin typeface="Calibri"/>
              </a:rPr>
              <a:t>are the very last consumers to adopt innovations. By the time they get around to purchasing their first electronic readers, the innovators and early adopters are already switching to more advanced models with advanced features. Laggards are generally high-risk perceivers and the 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to recognize the value of innovativ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write off” non-adopters, but not all non-adopters are the same, and understanding nonusers is important. For instance, one study found two distinct segments among non-adopters of Internet ba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Prospective adopters, </a:t>
            </a:r>
            <a:r>
              <a:rPr b="0" lang="en-US" sz="1200" spc="-1" strike="noStrike">
                <a:solidFill>
                  <a:srgbClr val="000000"/>
                </a:solidFill>
                <a:latin typeface="Calibri"/>
              </a:rPr>
              <a:t>who could potentially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ersistent non-adopters, </a:t>
            </a:r>
            <a:r>
              <a:rPr b="0" lang="en-US" sz="1200" spc="-1" strike="noStrike">
                <a:solidFill>
                  <a:srgbClr val="000000"/>
                </a:solidFill>
                <a:latin typeface="Calibri"/>
              </a:rPr>
              <a:t>who are very unlikely to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suggested that online banks should identify prospective customers among nonusers rather than lump all nonusers into a single categor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EB38-3FD4-4F6B-8016-2BA824FE76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567E-5C97-4627-BFC8-92BCC94A5C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reference group is the family because it provides children with the skills, knowledge, attitudes, and experiences necessary to function as consumers, a process called consumer socialization.</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E6B6-2C5F-4BC2-B756-5CAC413C66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particularly informal ones, have a high degree of </a:t>
            </a:r>
            <a:r>
              <a:rPr b="1" lang="en-US" sz="1200" spc="-1" strike="noStrike">
                <a:solidFill>
                  <a:srgbClr val="000000"/>
                </a:solidFill>
                <a:latin typeface="Calibri"/>
              </a:rPr>
              <a:t>source credibility</a:t>
            </a:r>
            <a:r>
              <a:rPr b="0" lang="en-US" sz="1200" spc="-1" strike="noStrike">
                <a:solidFill>
                  <a:srgbClr val="000000"/>
                </a:solidFill>
                <a:latin typeface="Calibri"/>
              </a:rPr>
              <a:t>, defined as a source’s persuasive impact, stemming from its perceived expertise, trustworthiness, and believability.  When the source of communications about a product is well respected and highly thought of by the intended audience, the message is much more likely to be belie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formal source </a:t>
            </a:r>
            <a:r>
              <a:rPr b="0" lang="en-US" sz="1200" spc="-1" strike="noStrike">
                <a:solidFill>
                  <a:srgbClr val="000000"/>
                </a:solidFill>
                <a:latin typeface="Calibri"/>
              </a:rPr>
              <a:t>is either a person or medium providing consumption-related information and hired and paid by an organization. An </a:t>
            </a:r>
            <a:r>
              <a:rPr b="1" lang="en-US" sz="1200" spc="-1" strike="noStrike">
                <a:solidFill>
                  <a:srgbClr val="000000"/>
                </a:solidFill>
                <a:latin typeface="Calibri"/>
              </a:rPr>
              <a:t>informal source </a:t>
            </a:r>
            <a:r>
              <a:rPr b="0" lang="en-US" sz="1200" spc="-1" strike="noStrike">
                <a:solidFill>
                  <a:srgbClr val="000000"/>
                </a:solidFill>
                <a:latin typeface="Calibri"/>
              </a:rPr>
              <a:t>is a person whom the message receiver knows personally, such as a parent or friend who gives product information or advice, or an individual met and respected online.</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E019-B212-434F-8D8B-8E470C4BFC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E3FB-B9C0-4760-9B79-BB7DFCD8CA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serve as comparative and normative frames of reference for a person’s values and behaviors. </a:t>
            </a:r>
            <a:r>
              <a:rPr b="1" lang="en-US" sz="1200" spc="-1" strike="noStrike">
                <a:solidFill>
                  <a:srgbClr val="000000"/>
                </a:solidFill>
                <a:latin typeface="Calibri"/>
              </a:rPr>
              <a:t>Normative influence </a:t>
            </a:r>
            <a:r>
              <a:rPr b="0" lang="en-US" sz="1200" spc="-1" strike="noStrike">
                <a:solidFill>
                  <a:srgbClr val="000000"/>
                </a:solidFill>
                <a:latin typeface="Calibri"/>
              </a:rPr>
              <a:t>consists of learning and adopting a group’s norms, values, and behaviors. The most pertinent normative influence comes from groups to which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ly belong, such as family, peers, and other members of one’s community. </a:t>
            </a:r>
            <a:r>
              <a:rPr b="1" lang="en-US" sz="1200" spc="-1" strike="noStrike">
                <a:solidFill>
                  <a:srgbClr val="000000"/>
                </a:solidFill>
                <a:latin typeface="Calibri"/>
              </a:rPr>
              <a:t>Comparative influence </a:t>
            </a:r>
            <a:r>
              <a:rPr b="0" lang="en-US" sz="1200" spc="-1" strike="noStrike">
                <a:solidFill>
                  <a:srgbClr val="000000"/>
                </a:solidFill>
                <a:latin typeface="Calibri"/>
              </a:rPr>
              <a:t>arises when people compare themselves to others whom they respect and admire, and then adopt some of those people’s values or imitate their behav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to which a person belongs to, or realistically can join, is called a </a:t>
            </a:r>
            <a:r>
              <a:rPr b="1" lang="en-US" sz="1200" spc="-1" strike="noStrike">
                <a:solidFill>
                  <a:srgbClr val="000000"/>
                </a:solidFill>
                <a:latin typeface="Calibri"/>
              </a:rPr>
              <a:t>membership group</a:t>
            </a:r>
            <a:r>
              <a:rPr b="0" lang="en-US" sz="1200" spc="-1" strike="noStrike">
                <a:solidFill>
                  <a:srgbClr val="000000"/>
                </a:solidFill>
                <a:latin typeface="Calibri"/>
              </a:rPr>
              <a:t>.  A </a:t>
            </a:r>
            <a:r>
              <a:rPr b="1" lang="en-US" sz="1200" spc="-1" strike="noStrike">
                <a:solidFill>
                  <a:srgbClr val="000000"/>
                </a:solidFill>
                <a:latin typeface="Calibri"/>
              </a:rPr>
              <a:t>symbolic group </a:t>
            </a:r>
            <a:r>
              <a:rPr b="0" lang="en-US" sz="1200" spc="-1" strike="noStrike">
                <a:solidFill>
                  <a:srgbClr val="000000"/>
                </a:solidFill>
                <a:latin typeface="Calibri"/>
              </a:rPr>
              <a:t>is a group to which an individual is unlikely to belong, but whose values and behaviors that person adopt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A8CB-F788-4226-BA50-D0863CC759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ption-related groups that influence consumers’ attitudes and behavior include friendship groups, shopping groups, virtual communities, and advocacy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s fulfill a wide range of needs: They provide companionship, security, and opportunities to discuss problems that an individual may be reluctant to discuss with family members.  They may be a credible source of information about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ay shop together just to enjoy shopping or to reduce their perceived risk; that is, they may bring someone along whose expertise regarding a particular product category will reduce their chances of making incorrect purchases. Referral programs are an important element of shopping groups. Another example of a shopping group is the shared experience of waiting in line. Retail experts say that by standing in a crowd, shoppers see themselves as making the right buying decision—a concept known as “social pro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bsites encourage consumers to leave comments and have others respond to them. Most young adults have extensive “buddy lists” and regularly communicate with people whom they have met online but never in person. The fact that people can share their interests, hobbies, and opinions with thousands of peers online has benefited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onsumption-focused advocacy groups is to assist consumers in making consumption decisions and support their rights. There are two types of advocacy groups: entities organized to correct a specific consumer abuse and then disband, and groups whose purpose is to address bro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pervasive problem areas and operate over an extended period of time.</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4F7D-6AD7-4411-B0F2-4BD88B9A05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influence that a reference group exerts on an individual’s behavior depends on the individual, product, and social factors. These factors include conformity, the group’s power and expertise, the individual’s experience and personality, and the conspicuousness of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fluence its members, a reference group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Inform or make members aware that the brand or product ex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Provide the individual with the opportunity to compare his or her own thinking with the attitudes and behavior of th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Influence the individual to adopt attitudes and behavior that are consistent with the group’s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egitimize the member’s decision to use the same products as other member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2DEE-C236-4F1B-9167-5F2792D19D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eference groups may influence the beliefs, attitudes, and behaviors of individuals at different times or under different circumstances. Consumers who are primarily concerned with approval from others usually adopt the same products and brands as those group members who have status. When consumers are preoccupied with the power that a person or group can exert over them, they often adopt products that conform to the norms of that person or group in order to be complimented on their choices. However, unlike reference groups that are not power based, “power groups” may bring about behaviors, but not changes in attitu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have firsthand experience with a product or service, or can easily obtain detailed information about it, are less likely to be influenced by the advice or example of others. In contrast, persons who have little or no experience with a product or service, and do not trust advertising messages, are more likely to seek out the advice or example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reference group influence on purchase decisions varies according to product conspicuousness. Products that are especially conspic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tatus revealing are most likely to be purchased with an eye to the reactions of relevant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EAE9-0A39-4F38-AD5E-068F2DCBE6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DD6C87F-169F-4C97-9BD4-32F1A9310FB9}"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C9D21CA-7BF2-487D-9267-28C09B30C67B}"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F97CAA9-09E1-4303-A3AB-B8A7A4BA2137}"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99402D6-434B-4A49-AD06-D4FD47BBAEF1}"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D155968-38E3-48D1-8A52-32671E37BF0C}"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A9300A7-CFE6-4E84-89DC-428D343652E1}"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7C5EC00-7507-43C5-A8FA-921B685CA1C4}"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BC010F1-84D5-4C9A-9F0E-2C26DD5332BB}"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9</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4" descr=""/>
          <p:cNvPicPr/>
          <p:nvPr/>
        </p:nvPicPr>
        <p:blipFill>
          <a:blip r:embed="rId2"/>
          <a:stretch/>
        </p:blipFill>
        <p:spPr>
          <a:xfrm>
            <a:off x="3568680" y="380880"/>
            <a:ext cx="2143080" cy="1762200"/>
          </a:xfrm>
          <a:prstGeom prst="rect">
            <a:avLst/>
          </a:prstGeom>
          <a:ln w="0">
            <a:noFill/>
          </a:ln>
        </p:spPr>
      </p:pic>
      <p:pic>
        <p:nvPicPr>
          <p:cNvPr id="366" name="Picture 15" descr=""/>
          <p:cNvPicPr/>
          <p:nvPr/>
        </p:nvPicPr>
        <p:blipFill>
          <a:blip r:embed="rId3"/>
          <a:stretch/>
        </p:blipFill>
        <p:spPr>
          <a:xfrm>
            <a:off x="814320" y="3176640"/>
            <a:ext cx="7515360" cy="504720"/>
          </a:xfrm>
          <a:prstGeom prst="rect">
            <a:avLst/>
          </a:prstGeom>
          <a:ln w="0">
            <a:noFill/>
          </a:ln>
        </p:spPr>
      </p:pic>
      <p:sp>
        <p:nvSpPr>
          <p:cNvPr id="367" name="TextBox 1"/>
          <p:cNvSpPr/>
          <p:nvPr/>
        </p:nvSpPr>
        <p:spPr>
          <a:xfrm>
            <a:off x="763560" y="6400800"/>
            <a:ext cx="3732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personality traits affect reference group influence?</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390" name="Picture 2" descr="C:\Users\ashleyc\AppData\Local\Microsoft\Windows\Temporary Internet Files\Content.IE5\PUNGN9LL\MC900441498[1].png"/>
          <p:cNvPicPr/>
          <p:nvPr/>
        </p:nvPicPr>
        <p:blipFill>
          <a:blip r:embed="rId1"/>
          <a:stretch/>
        </p:blipFill>
        <p:spPr>
          <a:xfrm>
            <a:off x="5784840" y="2359080"/>
            <a:ext cx="1968480" cy="19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2</a:t>
            </a:r>
            <a:endParaRPr b="0" lang="en-US" sz="4400" spc="-1" strike="noStrike">
              <a:solidFill>
                <a:srgbClr val="000000"/>
              </a:solidFill>
              <a:latin typeface="Calibri"/>
            </a:endParaRPr>
          </a:p>
        </p:txBody>
      </p:sp>
      <p:sp>
        <p:nvSpPr>
          <p:cNvPr id="39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2 To understand the persuasive power and credibility of spokespersons, endorsers, celebrities, salespersons, vendors, and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ast perform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Reput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Serv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 and attractiveness of spokespersons</a:t>
            </a:r>
            <a:endParaRPr b="0" lang="en-US" sz="3200" spc="-1" strike="noStrike">
              <a:solidFill>
                <a:srgbClr val="000000"/>
              </a:solidFill>
              <a:latin typeface="Calibri"/>
            </a:endParaRPr>
          </a:p>
        </p:txBody>
      </p:sp>
      <p:sp>
        <p:nvSpPr>
          <p:cNvPr id="39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putation of retailers that carry offering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where they advert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nstitutional advertising</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veying Company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ynergy between endorser and type of product/service advertised important</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dorsers with demographics similar to target audience more credible &amp; persuasiv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must trust the marketer (even if they like the endorser)</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ontents must be congruent with spokesperson’s qualifications</a:t>
            </a:r>
            <a:endParaRPr b="0" lang="en-US" sz="32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ndorsers and Spokesper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testimo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endorsemen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spokespersons</a:t>
            </a:r>
            <a:endParaRPr b="0" lang="en-US" sz="2800" spc="-1" strike="noStrike">
              <a:solidFill>
                <a:srgbClr val="000000"/>
              </a:solidFill>
              <a:latin typeface="Calibri"/>
            </a:endParaRPr>
          </a:p>
        </p:txBody>
      </p:sp>
      <p:pic>
        <p:nvPicPr>
          <p:cNvPr id="399" name="Content Placeholder 5" descr=""/>
          <p:cNvPicPr/>
          <p:nvPr/>
        </p:nvPicPr>
        <p:blipFill>
          <a:blip r:embed="rId1"/>
          <a:stretch/>
        </p:blipFill>
        <p:spPr>
          <a:xfrm>
            <a:off x="4800600" y="1143000"/>
            <a:ext cx="4114800" cy="5376960"/>
          </a:xfrm>
          <a:prstGeom prst="rect">
            <a:avLst/>
          </a:prstGeom>
          <a:ln w="0">
            <a:noFill/>
          </a:ln>
        </p:spPr>
      </p:pic>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elebrity Uses in Advertis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alesperson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ndor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redibility (previous experience)</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um credibility</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es time affect the influence of source credibility on message persuasiveness?  </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Sources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3</a:t>
            </a:r>
            <a:endParaRPr b="0" lang="en-US" sz="4400" spc="-1" strike="noStrike">
              <a:solidFill>
                <a:srgbClr val="000000"/>
              </a:solidFill>
              <a:latin typeface="Calibri"/>
            </a:endParaRPr>
          </a:p>
        </p:txBody>
      </p:sp>
      <p:sp>
        <p:nvSpPr>
          <p:cNvPr id="40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3 To understand the dynamics and measurement of opinion leadership and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formation provided</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est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of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here to buy</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for servi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tegory specifi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s</a:t>
            </a:r>
            <a:endParaRPr b="0" lang="en-US" sz="2800" spc="-1" strike="noStrike">
              <a:solidFill>
                <a:srgbClr val="000000"/>
              </a:solidFill>
              <a:latin typeface="Calibri"/>
            </a:endParaRPr>
          </a:p>
        </p:txBody>
      </p:sp>
      <p:pic>
        <p:nvPicPr>
          <p:cNvPr id="406" name="Content Placeholder 6" descr=""/>
          <p:cNvPicPr/>
          <p:nvPr/>
        </p:nvPicPr>
        <p:blipFill>
          <a:blip r:embed="rId1"/>
          <a:stretch/>
        </p:blipFill>
        <p:spPr>
          <a:xfrm>
            <a:off x="4145040" y="2057400"/>
            <a:ext cx="4938480" cy="2743200"/>
          </a:xfrm>
          <a:prstGeom prst="rect">
            <a:avLst/>
          </a:prstGeom>
          <a:ln w="0">
            <a:noFill/>
          </a:ln>
        </p:spPr>
      </p:pic>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inion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able in product categor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fident, outgoing, sociable</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d special-interest publications and websit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ften same socioeconomic &amp; age group as receivers</a:t>
            </a:r>
            <a:endParaRPr b="0" lang="en-US" sz="2800" spc="-1" strike="noStrike">
              <a:solidFill>
                <a:srgbClr val="000000"/>
              </a:solidFill>
              <a:latin typeface="Calibri"/>
            </a:endParaRPr>
          </a:p>
        </p:txBody>
      </p:sp>
      <p:pic>
        <p:nvPicPr>
          <p:cNvPr id="409" name="Content Placeholder 6" descr=""/>
          <p:cNvPicPr/>
          <p:nvPr/>
        </p:nvPicPr>
        <p:blipFill>
          <a:blip r:embed="rId1"/>
          <a:stretch/>
        </p:blipFill>
        <p:spPr>
          <a:xfrm>
            <a:off x="4572000" y="2362320"/>
            <a:ext cx="4522680" cy="1828800"/>
          </a:xfrm>
          <a:prstGeom prst="rect">
            <a:avLst/>
          </a:prstGeom>
          <a:ln w="0">
            <a:noFill/>
          </a:ln>
        </p:spPr>
      </p:pic>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haracteristics of Opinion Lea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1828440"/>
            <a:ext cx="3429000" cy="4297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designating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ometric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ey informa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lout score</a:t>
            </a:r>
            <a:endParaRPr b="0" lang="en-US" sz="2800" spc="-1" strike="noStrike">
              <a:solidFill>
                <a:srgbClr val="000000"/>
              </a:solidFill>
              <a:latin typeface="Calibri"/>
            </a:endParaRPr>
          </a:p>
        </p:txBody>
      </p:sp>
      <p:pic>
        <p:nvPicPr>
          <p:cNvPr id="412" name="Content Placeholder 7" descr=""/>
          <p:cNvPicPr/>
          <p:nvPr/>
        </p:nvPicPr>
        <p:blipFill>
          <a:blip r:embed="rId1"/>
          <a:stretch/>
        </p:blipFill>
        <p:spPr>
          <a:xfrm>
            <a:off x="3798720" y="2819520"/>
            <a:ext cx="5235840" cy="1904760"/>
          </a:xfrm>
          <a:prstGeom prst="rect">
            <a:avLst/>
          </a:prstGeom>
          <a:ln w="0">
            <a:noFill/>
          </a:ln>
        </p:spPr>
      </p:pic>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Opinion Lea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9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1 To understand the credibility of reference groups and their influence on consumer behavior.</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2 To understand the persuasive power and credibility of spokespersons, endorsers, celebrities, salespersons, vendors, and media.</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3 To understand the dynamics and measurement of opinion leadership and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4 To understand the strategic applications, advantages, and potential perils of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5 To understand the process for diffusion of innovations, and adopter categories as distinct market segments.</a:t>
            </a:r>
            <a:endParaRPr b="0" lang="en-US" sz="2600" spc="-1" strike="noStrike">
              <a:solidFill>
                <a:srgbClr val="000000"/>
              </a:solidFill>
              <a:latin typeface="Calibri"/>
            </a:endParaRPr>
          </a:p>
        </p:txBody>
      </p:sp>
      <p:pic>
        <p:nvPicPr>
          <p:cNvPr id="370" name="Picture 7" descr=""/>
          <p:cNvPicPr/>
          <p:nvPr/>
        </p:nvPicPr>
        <p:blipFill>
          <a:blip r:embed="rId1"/>
          <a:stretch/>
        </p:blipFill>
        <p:spPr>
          <a:xfrm>
            <a:off x="8001000" y="38160"/>
            <a:ext cx="914400" cy="8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4</a:t>
            </a:r>
            <a:endParaRPr b="0" lang="en-US" sz="4400" spc="-1" strike="noStrike">
              <a:solidFill>
                <a:srgbClr val="000000"/>
              </a:solidFill>
              <a:latin typeface="Calibri"/>
            </a:endParaRPr>
          </a:p>
        </p:txBody>
      </p:sp>
      <p:sp>
        <p:nvSpPr>
          <p:cNvPr id="41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4 To understand the strategic applications, advantages, and potential perils of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engag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netwo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rand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logs and microblogs</a:t>
            </a: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W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al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ations for passing along emai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zz age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do consumer share negative rumors about companies and their products/services?</a:t>
            </a:r>
            <a:endParaRPr b="0" lang="en-US" sz="32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ating Word of M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5</a:t>
            </a:r>
            <a:endParaRPr b="0" lang="en-US" sz="4400" spc="-1" strike="noStrike">
              <a:solidFill>
                <a:srgbClr val="000000"/>
              </a:solidFill>
              <a:latin typeface="Calibri"/>
            </a:endParaRPr>
          </a:p>
        </p:txBody>
      </p:sp>
      <p:sp>
        <p:nvSpPr>
          <p:cNvPr id="42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To understand the process for diffusion of innovations, and adopter categories as distinct market seg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p:txBody>
      </p:sp>
      <p:sp>
        <p:nvSpPr>
          <p:cNvPr id="42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opter Categories</a:t>
            </a:r>
            <a:endParaRPr b="0" lang="en-US" sz="4400" spc="-1" strike="noStrike">
              <a:solidFill>
                <a:srgbClr val="000000"/>
              </a:solidFill>
              <a:latin typeface="Calibri"/>
            </a:endParaRPr>
          </a:p>
        </p:txBody>
      </p:sp>
      <p:pic>
        <p:nvPicPr>
          <p:cNvPr id="425" name="Picture 7" descr=""/>
          <p:cNvPicPr/>
          <p:nvPr/>
        </p:nvPicPr>
        <p:blipFill>
          <a:blip r:embed="rId1"/>
          <a:stretch/>
        </p:blipFill>
        <p:spPr>
          <a:xfrm>
            <a:off x="3429000" y="3152880"/>
            <a:ext cx="5656320" cy="34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609480" y="1981080"/>
            <a:ext cx="7810560" cy="350532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52280" y="1600200"/>
            <a:ext cx="41911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spective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istent non-adopters</a:t>
            </a:r>
            <a:endParaRPr b="0" lang="en-US" sz="2800" spc="-1" strike="noStrike">
              <a:solidFill>
                <a:srgbClr val="000000"/>
              </a:solidFill>
              <a:latin typeface="Calibri"/>
            </a:endParaRPr>
          </a:p>
        </p:txBody>
      </p:sp>
      <p:pic>
        <p:nvPicPr>
          <p:cNvPr id="429" name="Content Placeholder 4" descr=""/>
          <p:cNvPicPr/>
          <p:nvPr/>
        </p:nvPicPr>
        <p:blipFill>
          <a:blip r:embed="rId1"/>
          <a:stretch/>
        </p:blipFill>
        <p:spPr>
          <a:xfrm>
            <a:off x="3429000" y="1752480"/>
            <a:ext cx="5643720" cy="1828800"/>
          </a:xfrm>
          <a:prstGeom prst="rect">
            <a:avLst/>
          </a:prstGeom>
          <a:ln w="0">
            <a:noFill/>
          </a:ln>
        </p:spPr>
      </p:pic>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dopter Categories – Non-Innov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Picture 4" descr="cid:3287383400_2177562"/>
          <p:cNvPicPr/>
          <p:nvPr/>
        </p:nvPicPr>
        <p:blipFill>
          <a:blip r:embed="rId1"/>
          <a:stretch/>
        </p:blipFill>
        <p:spPr>
          <a:xfrm>
            <a:off x="762120" y="685800"/>
            <a:ext cx="8118360" cy="2647800"/>
          </a:xfrm>
          <a:prstGeom prst="rect">
            <a:avLst/>
          </a:prstGeom>
          <a:ln w="0">
            <a:noFill/>
          </a:ln>
        </p:spPr>
      </p:pic>
      <p:sp>
        <p:nvSpPr>
          <p:cNvPr id="43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3" descr=""/>
          <p:cNvPicPr/>
          <p:nvPr/>
        </p:nvPicPr>
        <p:blipFill>
          <a:blip r:embed="rId1"/>
          <a:stretch/>
        </p:blipFill>
        <p:spPr>
          <a:xfrm>
            <a:off x="2209680" y="990720"/>
            <a:ext cx="3810240" cy="555120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mily = Most Important Reference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1</a:t>
            </a:r>
            <a:endParaRPr b="0" lang="en-US" sz="4400" spc="-1" strike="noStrike">
              <a:solidFill>
                <a:srgbClr val="000000"/>
              </a:solidFill>
              <a:latin typeface="Calibri"/>
            </a:endParaRPr>
          </a:p>
        </p:txBody>
      </p:sp>
      <p:sp>
        <p:nvSpPr>
          <p:cNvPr id="37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1 To understand the credibility of reference groups and their influenc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source’s persuasive impact, stemming from its perceived expertise, trustworthiness, and believability. </a:t>
            </a:r>
            <a:endParaRPr b="0" lang="en-US" sz="3600" spc="-1" strike="noStrike">
              <a:solidFill>
                <a:srgbClr val="000000"/>
              </a:solidFill>
              <a:latin typeface="Calibri"/>
            </a:endParaRPr>
          </a:p>
        </p:txBody>
      </p:sp>
      <p:sp>
        <p:nvSpPr>
          <p:cNvPr id="37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urce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rmative influ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influence</a:t>
            </a:r>
            <a:endParaRPr b="0" lang="en-US" sz="3200" spc="-1" strike="noStrike">
              <a:solidFill>
                <a:srgbClr val="000000"/>
              </a:solidFill>
              <a:latin typeface="Calibri"/>
            </a:endParaRPr>
          </a:p>
        </p:txBody>
      </p:sp>
      <p:sp>
        <p:nvSpPr>
          <p:cNvPr id="37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ference Group Influence </a:t>
            </a:r>
            <a:endParaRPr b="0" lang="en-US" sz="4400" spc="-1" strike="noStrike">
              <a:solidFill>
                <a:srgbClr val="000000"/>
              </a:solidFill>
              <a:latin typeface="Calibri"/>
            </a:endParaRPr>
          </a:p>
        </p:txBody>
      </p:sp>
      <p:pic>
        <p:nvPicPr>
          <p:cNvPr id="379" name="Picture 1" descr=""/>
          <p:cNvPicPr/>
          <p:nvPr/>
        </p:nvPicPr>
        <p:blipFill>
          <a:blip r:embed="rId1"/>
          <a:stretch/>
        </p:blipFill>
        <p:spPr>
          <a:xfrm>
            <a:off x="304920" y="3505320"/>
            <a:ext cx="866772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hip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pping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tual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dvocacy group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ption-Related Reference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143000"/>
            <a:ext cx="4038480" cy="4983120"/>
          </a:xfrm>
          <a:prstGeom prst="rect">
            <a:avLst/>
          </a:prstGeom>
          <a:noFill/>
          <a:ln w="0">
            <a:noFill/>
          </a:ln>
        </p:spPr>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Conformity</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o influence its members, a reference group mus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orm members that the brand or product exis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rovide opportunity to compare thinking with the attitudes/behavior of the group.</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luence individual to adopt attitudes and behavior that are consistent with the group’s norm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gitimize the member’s decision to use the same products as other member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83" name="Content Placeholder 5" descr=""/>
          <p:cNvPicPr/>
          <p:nvPr/>
        </p:nvPicPr>
        <p:blipFill>
          <a:blip r:embed="rId1"/>
          <a:stretch/>
        </p:blipFill>
        <p:spPr>
          <a:xfrm>
            <a:off x="4724280" y="1066680"/>
            <a:ext cx="4114800" cy="551520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143000"/>
            <a:ext cx="8305920" cy="2209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roup power and expertis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levant information and experien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conspicuousness</a:t>
            </a:r>
            <a:endParaRPr b="0" lang="en-US" sz="2800" spc="-1" strike="noStrike">
              <a:solidFill>
                <a:srgbClr val="000000"/>
              </a:solidFill>
              <a:latin typeface="Calibri"/>
            </a:endParaRPr>
          </a:p>
        </p:txBody>
      </p:sp>
      <p:pic>
        <p:nvPicPr>
          <p:cNvPr id="386" name="Content Placeholder 6" descr=""/>
          <p:cNvPicPr/>
          <p:nvPr/>
        </p:nvPicPr>
        <p:blipFill>
          <a:blip r:embed="rId1"/>
          <a:stretch/>
        </p:blipFill>
        <p:spPr>
          <a:xfrm>
            <a:off x="1523880" y="3352680"/>
            <a:ext cx="6172200" cy="321624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6T11:04:40Z</dcterms:modified>
  <cp:revision>1</cp:revision>
  <dc:subject/>
  <dc:title/>
</cp:coreProperties>
</file>