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48274-A807-47B9-817F-E3F326A4D6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A7C28-BB92-4C06-A188-08A9E36D380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3FED4-3D10-419B-ABA1-5CC768AE1B8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9B095-09A5-48F4-82BE-9CA6F84D2C8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2B99A-6D8C-40A7-9976-9E82A478BFC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ED9A4-6660-4A5B-B48B-7353298233C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E9994-9A5E-4976-B7BA-9DA02450BA1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733DB-183E-4F4F-A92C-B39D25DC165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83440-C9F4-4CF5-8774-DFC9FE6AB27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D6293-5CE8-461D-92DD-5628A3D4D9A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4F291-2124-46DA-B5B9-9F2A8116E42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762B9-8F29-43EB-8AC3-6854D5F1AD5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2F5A5-8FCF-45D5-986F-A2480C0E70E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D3776-43F4-4ACF-AC2B-946F07E9676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1B86-18BC-4EEB-ADEC-356C6D4A3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D031-4A55-4F1A-A2EE-86B4DE1A6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8D18-6C13-40CA-9F4B-4363763D0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E95E-5FCE-490D-9A07-DADCAA5FB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3E58-1524-4264-8F76-14D1484F1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35C2-54BB-4FB1-88B9-B718ECAAA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B096-3F6B-4E94-B9E8-77760036E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0936-9BF8-452B-A570-FEB7FCB2E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A8FD-4D98-45E6-A334-54E4F3FF6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68DE-8936-4BC9-8DB4-D6CF75C5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EBF7-FE8C-4BC8-BB7B-F240DCF8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4C8E-0556-4AFE-9EDA-1CFC5D37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6C0B8-308D-46C1-AA97-4207DE677FB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PMingLiU"/>
              </a:rPr>
              <a:t>313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PMingLiU"/>
              </a:rPr>
              <a:t>PH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b #1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roduction &amp; Dose Response Curve of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fferent Doses of Acetylcholin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ose cycle &amp; contact time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28600" y="17521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ose cycle (NT)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time between different drugs addition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tact time (CT)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duration of drug presence  in the organ bath until its removal  by  washing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T=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 sec,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60 sec, washing 3 times 30 sec for each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tal cycle tim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3 min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pparatus for experiments with isolated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mphibian and mammalian tissue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10600" y="1752480"/>
            <a:ext cx="8628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ysiograph and thermostatically controlled organ bath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rugs acting on the isolated tissue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lated rabbit intestine ha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ormal myogenic contractio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ch is under the control of the Autonomic nervous system (ANS)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effect of drugs that act on the intestine could b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timulator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.e. increase in the intestinal contraction o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hibitor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.e. decrease in the intestinal contraction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The intestine innervated by ANS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: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33520" y="1447920"/>
            <a:ext cx="3962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Sympathetic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ransmitter:</a:t>
            </a:r>
            <a:r>
              <a:rPr b="0" lang="en-US" sz="24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adrenalin mainly, Adrenaline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ceptors present i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intestine):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renergic: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B2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tion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hibitory (↓contraction)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laxation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 algn="r" rtl="1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876560" y="1371600"/>
            <a:ext cx="3809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arasympathetic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tylcholine (Ach)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linergic: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entra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icotinic (Nn)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eriphera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muscarinic (M3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itatory (↑contraction)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ntrac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r" rtl="1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is increase or decrease in muscle contraction is observed as follows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76" name="Group 18"/>
          <p:cNvGrpSpPr/>
          <p:nvPr/>
        </p:nvGrpSpPr>
        <p:grpSpPr>
          <a:xfrm>
            <a:off x="2284560" y="4371840"/>
            <a:ext cx="863280" cy="914400"/>
            <a:chOff x="2284560" y="4371840"/>
            <a:chExt cx="863280" cy="914400"/>
          </a:xfrm>
        </p:grpSpPr>
        <p:sp>
          <p:nvSpPr>
            <p:cNvPr id="77" name="Rectangle 6"/>
            <p:cNvSpPr/>
            <p:nvPr/>
          </p:nvSpPr>
          <p:spPr>
            <a:xfrm>
              <a:off x="2571840" y="4371840"/>
              <a:ext cx="288720" cy="914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Rectangle 12"/>
            <p:cNvSpPr/>
            <p:nvPr/>
          </p:nvSpPr>
          <p:spPr>
            <a:xfrm>
              <a:off x="2860560" y="4803480"/>
              <a:ext cx="287280" cy="4827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Rectangle 13"/>
            <p:cNvSpPr/>
            <p:nvPr/>
          </p:nvSpPr>
          <p:spPr>
            <a:xfrm>
              <a:off x="2284560" y="4803480"/>
              <a:ext cx="287280" cy="4827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" name="Group 17"/>
          <p:cNvGrpSpPr/>
          <p:nvPr/>
        </p:nvGrpSpPr>
        <p:grpSpPr>
          <a:xfrm>
            <a:off x="5991120" y="4357800"/>
            <a:ext cx="863640" cy="914400"/>
            <a:chOff x="5991120" y="4357800"/>
            <a:chExt cx="863640" cy="914400"/>
          </a:xfrm>
        </p:grpSpPr>
        <p:sp>
          <p:nvSpPr>
            <p:cNvPr id="81" name="Rectangle 16"/>
            <p:cNvSpPr/>
            <p:nvPr/>
          </p:nvSpPr>
          <p:spPr>
            <a:xfrm>
              <a:off x="5991120" y="4357800"/>
              <a:ext cx="287280" cy="4827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Rectangle 17"/>
            <p:cNvSpPr/>
            <p:nvPr/>
          </p:nvSpPr>
          <p:spPr>
            <a:xfrm>
              <a:off x="6567480" y="4357800"/>
              <a:ext cx="287280" cy="4827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Rectangle 18"/>
            <p:cNvSpPr/>
            <p:nvPr/>
          </p:nvSpPr>
          <p:spPr>
            <a:xfrm>
              <a:off x="6279840" y="4357800"/>
              <a:ext cx="288720" cy="9144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" name="Rectangle 19"/>
          <p:cNvSpPr/>
          <p:nvPr/>
        </p:nvSpPr>
        <p:spPr>
          <a:xfrm>
            <a:off x="1371600" y="3200400"/>
            <a:ext cx="2819520" cy="9144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↑ </a:t>
            </a: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amplitude</a:t>
            </a:r>
            <a:r>
              <a:rPr b="0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0"/>
          <p:cNvSpPr/>
          <p:nvPr/>
        </p:nvSpPr>
        <p:spPr>
          <a:xfrm>
            <a:off x="5486400" y="3200400"/>
            <a:ext cx="2666880" cy="838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↓ </a:t>
            </a: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amplitu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990360" y="175248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O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88" name="Group 17"/>
          <p:cNvGrpSpPr/>
          <p:nvPr/>
        </p:nvGrpSpPr>
        <p:grpSpPr>
          <a:xfrm>
            <a:off x="1871640" y="4156200"/>
            <a:ext cx="1657440" cy="1130040"/>
            <a:chOff x="1871640" y="4156200"/>
            <a:chExt cx="1657440" cy="1130040"/>
          </a:xfrm>
        </p:grpSpPr>
        <p:sp>
          <p:nvSpPr>
            <p:cNvPr id="89" name="Rectangle 4"/>
            <p:cNvSpPr/>
            <p:nvPr/>
          </p:nvSpPr>
          <p:spPr>
            <a:xfrm>
              <a:off x="2375280" y="4156200"/>
              <a:ext cx="649800" cy="2156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5"/>
            <p:cNvSpPr/>
            <p:nvPr/>
          </p:nvSpPr>
          <p:spPr>
            <a:xfrm>
              <a:off x="2375280" y="4156200"/>
              <a:ext cx="0" cy="1079280"/>
            </a:xfrm>
            <a:prstGeom prst="line">
              <a:avLst/>
            </a:prstGeom>
            <a:ln w="381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6"/>
            <p:cNvSpPr/>
            <p:nvPr/>
          </p:nvSpPr>
          <p:spPr>
            <a:xfrm>
              <a:off x="3023640" y="4156200"/>
              <a:ext cx="0" cy="1079280"/>
            </a:xfrm>
            <a:prstGeom prst="line">
              <a:avLst/>
            </a:prstGeom>
            <a:ln w="381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Rectangle 7"/>
            <p:cNvSpPr/>
            <p:nvPr/>
          </p:nvSpPr>
          <p:spPr>
            <a:xfrm>
              <a:off x="1871640" y="4803840"/>
              <a:ext cx="503640" cy="4824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Rectangle 8"/>
            <p:cNvSpPr/>
            <p:nvPr/>
          </p:nvSpPr>
          <p:spPr>
            <a:xfrm>
              <a:off x="3023640" y="4803840"/>
              <a:ext cx="505440" cy="482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" name="Group 18"/>
          <p:cNvGrpSpPr/>
          <p:nvPr/>
        </p:nvGrpSpPr>
        <p:grpSpPr>
          <a:xfrm>
            <a:off x="5646600" y="4133880"/>
            <a:ext cx="1511280" cy="1152360"/>
            <a:chOff x="5646600" y="4133880"/>
            <a:chExt cx="1511280" cy="1152360"/>
          </a:xfrm>
        </p:grpSpPr>
        <p:sp>
          <p:nvSpPr>
            <p:cNvPr id="95" name="Rectangle 9"/>
            <p:cNvSpPr/>
            <p:nvPr/>
          </p:nvSpPr>
          <p:spPr>
            <a:xfrm>
              <a:off x="6149880" y="5070600"/>
              <a:ext cx="649080" cy="2156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10"/>
            <p:cNvSpPr/>
            <p:nvPr/>
          </p:nvSpPr>
          <p:spPr>
            <a:xfrm>
              <a:off x="6149880" y="4206600"/>
              <a:ext cx="0" cy="1079640"/>
            </a:xfrm>
            <a:prstGeom prst="line">
              <a:avLst/>
            </a:prstGeom>
            <a:ln w="381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11"/>
            <p:cNvSpPr/>
            <p:nvPr/>
          </p:nvSpPr>
          <p:spPr>
            <a:xfrm>
              <a:off x="6797520" y="4206600"/>
              <a:ext cx="0" cy="1079640"/>
            </a:xfrm>
            <a:prstGeom prst="line">
              <a:avLst/>
            </a:prstGeom>
            <a:ln w="381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Rectangle 12"/>
            <p:cNvSpPr/>
            <p:nvPr/>
          </p:nvSpPr>
          <p:spPr>
            <a:xfrm>
              <a:off x="5646600" y="4133880"/>
              <a:ext cx="503280" cy="4824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Rectangle 13"/>
            <p:cNvSpPr/>
            <p:nvPr/>
          </p:nvSpPr>
          <p:spPr>
            <a:xfrm>
              <a:off x="6797520" y="4133880"/>
              <a:ext cx="360360" cy="4824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" name="Rectangle 16"/>
          <p:cNvSpPr/>
          <p:nvPr/>
        </p:nvSpPr>
        <p:spPr>
          <a:xfrm>
            <a:off x="1295280" y="3048120"/>
            <a:ext cx="2895840" cy="8254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↑ </a:t>
            </a: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t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17"/>
          <p:cNvSpPr/>
          <p:nvPr/>
        </p:nvSpPr>
        <p:spPr>
          <a:xfrm>
            <a:off x="5334120" y="3048120"/>
            <a:ext cx="2743200" cy="812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↓ </a:t>
            </a: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t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7524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O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04" name="Group 15"/>
          <p:cNvGrpSpPr/>
          <p:nvPr/>
        </p:nvGrpSpPr>
        <p:grpSpPr>
          <a:xfrm>
            <a:off x="1787400" y="4159080"/>
            <a:ext cx="1656000" cy="1130400"/>
            <a:chOff x="1787400" y="4159080"/>
            <a:chExt cx="1656000" cy="1130400"/>
          </a:xfrm>
        </p:grpSpPr>
        <p:sp>
          <p:nvSpPr>
            <p:cNvPr id="105" name="Rectangle 4"/>
            <p:cNvSpPr/>
            <p:nvPr/>
          </p:nvSpPr>
          <p:spPr>
            <a:xfrm>
              <a:off x="2290680" y="4159080"/>
              <a:ext cx="649440" cy="576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5"/>
            <p:cNvSpPr/>
            <p:nvPr/>
          </p:nvSpPr>
          <p:spPr>
            <a:xfrm>
              <a:off x="2290680" y="4159080"/>
              <a:ext cx="0" cy="1079640"/>
            </a:xfrm>
            <a:prstGeom prst="line">
              <a:avLst/>
            </a:prstGeom>
            <a:ln w="381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Line 6"/>
            <p:cNvSpPr/>
            <p:nvPr/>
          </p:nvSpPr>
          <p:spPr>
            <a:xfrm>
              <a:off x="2938680" y="4159080"/>
              <a:ext cx="0" cy="1079640"/>
            </a:xfrm>
            <a:prstGeom prst="line">
              <a:avLst/>
            </a:prstGeom>
            <a:ln w="381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Rectangle 7"/>
            <p:cNvSpPr/>
            <p:nvPr/>
          </p:nvSpPr>
          <p:spPr>
            <a:xfrm>
              <a:off x="1787400" y="4806720"/>
              <a:ext cx="503280" cy="4827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Rectangle 8"/>
            <p:cNvSpPr/>
            <p:nvPr/>
          </p:nvSpPr>
          <p:spPr>
            <a:xfrm>
              <a:off x="2938680" y="4806720"/>
              <a:ext cx="504720" cy="4827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" name="Group 16"/>
          <p:cNvGrpSpPr/>
          <p:nvPr/>
        </p:nvGrpSpPr>
        <p:grpSpPr>
          <a:xfrm>
            <a:off x="5753160" y="4137120"/>
            <a:ext cx="1511280" cy="1152360"/>
            <a:chOff x="5753160" y="4137120"/>
            <a:chExt cx="1511280" cy="1152360"/>
          </a:xfrm>
        </p:grpSpPr>
        <p:sp>
          <p:nvSpPr>
            <p:cNvPr id="111" name="Rectangle 9"/>
            <p:cNvSpPr/>
            <p:nvPr/>
          </p:nvSpPr>
          <p:spPr>
            <a:xfrm>
              <a:off x="6256440" y="4713120"/>
              <a:ext cx="649080" cy="5763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Line 10"/>
            <p:cNvSpPr/>
            <p:nvPr/>
          </p:nvSpPr>
          <p:spPr>
            <a:xfrm>
              <a:off x="6256440" y="4209840"/>
              <a:ext cx="0" cy="1079640"/>
            </a:xfrm>
            <a:prstGeom prst="line">
              <a:avLst/>
            </a:prstGeom>
            <a:ln w="381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Line 11"/>
            <p:cNvSpPr/>
            <p:nvPr/>
          </p:nvSpPr>
          <p:spPr>
            <a:xfrm>
              <a:off x="6904080" y="4209840"/>
              <a:ext cx="0" cy="1079640"/>
            </a:xfrm>
            <a:prstGeom prst="line">
              <a:avLst/>
            </a:prstGeom>
            <a:ln w="381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5753160" y="4137120"/>
              <a:ext cx="503280" cy="4824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>
              <a:off x="6904080" y="4137120"/>
              <a:ext cx="360360" cy="4824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" name="Rectangle 14"/>
          <p:cNvSpPr/>
          <p:nvPr/>
        </p:nvSpPr>
        <p:spPr>
          <a:xfrm>
            <a:off x="1143000" y="3124080"/>
            <a:ext cx="2895480" cy="838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↑ </a:t>
            </a: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tone &amp; amplitu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15"/>
          <p:cNvSpPr/>
          <p:nvPr/>
        </p:nvSpPr>
        <p:spPr>
          <a:xfrm>
            <a:off x="5334120" y="3124080"/>
            <a:ext cx="2895480" cy="838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↓ </a:t>
            </a: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tone &amp; amplitu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The effect of different doses of acetylcholine on smooth muscle of intestine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19" name="Group 23"/>
          <p:cNvGrpSpPr/>
          <p:nvPr/>
        </p:nvGrpSpPr>
        <p:grpSpPr>
          <a:xfrm>
            <a:off x="380880" y="1600200"/>
            <a:ext cx="8305920" cy="4304520"/>
            <a:chOff x="380880" y="1600200"/>
            <a:chExt cx="8305920" cy="4304520"/>
          </a:xfrm>
        </p:grpSpPr>
        <p:sp>
          <p:nvSpPr>
            <p:cNvPr id="120" name="Rectangle 4"/>
            <p:cNvSpPr/>
            <p:nvPr/>
          </p:nvSpPr>
          <p:spPr>
            <a:xfrm>
              <a:off x="1477440" y="2988720"/>
              <a:ext cx="516240" cy="14702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5"/>
            <p:cNvSpPr/>
            <p:nvPr/>
          </p:nvSpPr>
          <p:spPr>
            <a:xfrm>
              <a:off x="1994040" y="3683160"/>
              <a:ext cx="1027440" cy="7758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6"/>
            <p:cNvSpPr/>
            <p:nvPr/>
          </p:nvSpPr>
          <p:spPr>
            <a:xfrm>
              <a:off x="574920" y="3683160"/>
              <a:ext cx="902520" cy="775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7"/>
            <p:cNvSpPr/>
            <p:nvPr/>
          </p:nvSpPr>
          <p:spPr>
            <a:xfrm>
              <a:off x="3021480" y="2523960"/>
              <a:ext cx="513720" cy="19346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Rectangle 8"/>
            <p:cNvSpPr/>
            <p:nvPr/>
          </p:nvSpPr>
          <p:spPr>
            <a:xfrm>
              <a:off x="3535200" y="3683160"/>
              <a:ext cx="1027440" cy="7758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Rectangle 9"/>
            <p:cNvSpPr/>
            <p:nvPr/>
          </p:nvSpPr>
          <p:spPr>
            <a:xfrm>
              <a:off x="4565520" y="2062080"/>
              <a:ext cx="771840" cy="239688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10"/>
            <p:cNvSpPr/>
            <p:nvPr/>
          </p:nvSpPr>
          <p:spPr>
            <a:xfrm>
              <a:off x="5337720" y="3683160"/>
              <a:ext cx="902520" cy="77580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11"/>
            <p:cNvSpPr/>
            <p:nvPr/>
          </p:nvSpPr>
          <p:spPr>
            <a:xfrm>
              <a:off x="6240240" y="1600200"/>
              <a:ext cx="771840" cy="28587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12"/>
            <p:cNvSpPr/>
            <p:nvPr/>
          </p:nvSpPr>
          <p:spPr>
            <a:xfrm>
              <a:off x="7012440" y="3683160"/>
              <a:ext cx="902520" cy="7758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13"/>
            <p:cNvSpPr/>
            <p:nvPr/>
          </p:nvSpPr>
          <p:spPr>
            <a:xfrm>
              <a:off x="7914960" y="1600200"/>
              <a:ext cx="771840" cy="28587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Line 15"/>
            <p:cNvSpPr/>
            <p:nvPr/>
          </p:nvSpPr>
          <p:spPr>
            <a:xfrm flipV="1">
              <a:off x="702720" y="4494600"/>
              <a:ext cx="0" cy="696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Line 16"/>
            <p:cNvSpPr/>
            <p:nvPr/>
          </p:nvSpPr>
          <p:spPr>
            <a:xfrm flipV="1">
              <a:off x="1605240" y="4494600"/>
              <a:ext cx="0" cy="696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Line 17"/>
            <p:cNvSpPr/>
            <p:nvPr/>
          </p:nvSpPr>
          <p:spPr>
            <a:xfrm flipV="1">
              <a:off x="3021480" y="4494600"/>
              <a:ext cx="0" cy="696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Line 18"/>
            <p:cNvSpPr/>
            <p:nvPr/>
          </p:nvSpPr>
          <p:spPr>
            <a:xfrm flipV="1">
              <a:off x="4565520" y="4494600"/>
              <a:ext cx="0" cy="696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Line 19"/>
            <p:cNvSpPr/>
            <p:nvPr/>
          </p:nvSpPr>
          <p:spPr>
            <a:xfrm flipV="1">
              <a:off x="6368040" y="4494600"/>
              <a:ext cx="0" cy="696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20"/>
            <p:cNvSpPr/>
            <p:nvPr/>
          </p:nvSpPr>
          <p:spPr>
            <a:xfrm flipV="1">
              <a:off x="8042760" y="4494600"/>
              <a:ext cx="0" cy="696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Text Box 21"/>
            <p:cNvSpPr/>
            <p:nvPr/>
          </p:nvSpPr>
          <p:spPr>
            <a:xfrm>
              <a:off x="380880" y="5189040"/>
              <a:ext cx="802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 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N           0.05                   0.1                       0.2                            0.3                       0.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Text Box 23"/>
            <p:cNvSpPr/>
            <p:nvPr/>
          </p:nvSpPr>
          <p:spPr>
            <a:xfrm>
              <a:off x="1259280" y="5536440"/>
              <a:ext cx="700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ch 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          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ch                  Ach                         Ach                  Ac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urpose of Pharmacological Experiments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6108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pharmacological experiments largely divided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to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  </a:t>
            </a:r>
            <a:r>
              <a:rPr b="0" lang="ar-SA" sz="24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Qualitative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determine ( analyze) the activity of drug (i.e. analgesi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ypotensive and hypoglycemi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determine mechanism of drugs a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Quantitative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assay (measure) the potency of drugs (e.g. toxic level, therapeutic level, LD50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ypes of pharmacological experiments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28600" y="14475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A- In vitro experimen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 Study the action of drugs on isolated preparation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)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ssue e.g. (intestine, ileum)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rgan e.g. (heart)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vantages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er to study MOA (qualitative)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er to study its potency (quantitative)  e.g. DRC on rectus abdomini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sadvantages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no interference by compensatory mechanisms of body that may affect the direct action of drug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ot easy to study the chemical and biological effect of the drug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3120"/>
            <a:ext cx="8229600" cy="5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900" spc="-1" strike="noStrike">
              <a:solidFill>
                <a:srgbClr val="632523"/>
              </a:solidFill>
              <a:latin typeface="Comic Sans MS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8052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- In vivo experimen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udy the action of drugs on the whole body 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act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vantages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serve the direct drug action(actual effect)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er to study the chemical and biological effect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sadvantages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fficulty to determine the exact mechanism of a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مربع نص 3"/>
          <p:cNvSpPr/>
          <p:nvPr/>
        </p:nvSpPr>
        <p:spPr>
          <a:xfrm>
            <a:off x="4952880" y="1143000"/>
            <a:ext cx="3200400" cy="11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vitro experimen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53720" y="1371240"/>
            <a:ext cx="88376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) Experimental conditions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isolated organ or muscle should be bathed in a suitable media that is resemble to the normal condition in the body regarding (pH,osmolarity,temperature)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refore, tissue is bathed in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solution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ntaining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PMingLiU"/>
              </a:rPr>
              <a:t>.</a:t>
            </a:r>
            <a:r>
              <a:rPr b="0" lang="ar-SA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ectrolyt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trient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PMingLiU"/>
              </a:rPr>
              <a:t>.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justed Physiological pH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PMingLiU"/>
              </a:rPr>
              <a:t>.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ant temperatur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er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.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: 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hysiological Salt Solu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28600" y="14475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ording t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ifferent tissu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be used, there is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ifferent physiological solu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epared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t all or most of them contain the following ingredients at different concentrations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ac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→ to adjust the isotonicity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Glucos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nutrient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+2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K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sometimes Mg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+2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as CL salt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to maintain normal muscle contraction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52280" y="159984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- Sodium bicarbonat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to adjust pH similar to that of blood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- NaH2PO4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odium di hydrogen phosphate) buffer→ to compensate for any change in pH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two most commonly used physiological solutions are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Tyrode’s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Krebs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eration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ysiological salt solutions should be aerated by a suitable gas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Pure oxyge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for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r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issue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Normal air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for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sti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- Carbogen (95% O2, 5% CO2)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used for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teru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emperature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28600" y="16765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mmalian tissue must be bathed in a warmed solution adjusted at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7º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 Isolated rabbit intestin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temperature should be decreased in some experiments to reduce the myogenic contraction, the warmed solution adjusted at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2º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Guinea-pig ileu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phibian tissues survive at room temperatur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25ºC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g rectus abdominis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0T16:18:50Z</dcterms:created>
  <dc:creator>noufy</dc:creator>
  <dc:description/>
  <dc:language>en-US</dc:language>
  <cp:lastModifiedBy>Hana</cp:lastModifiedBy>
  <dcterms:modified xsi:type="dcterms:W3CDTF">2010-10-04T17:38:33Z</dcterms:modified>
  <cp:revision>112</cp:revision>
  <dc:subject/>
  <dc:title>الشريحة 1</dc:title>
</cp:coreProperties>
</file>