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9A72-5D08-421C-9FBB-A4ABA17CB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2291-C3AB-4385-A8F0-0EA223D77A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193C-27EC-4F66-BC33-176FF66123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07C9-A18E-4132-81D3-92181024D4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CAE8-A0E8-45E0-8AFF-C1E2994AE7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CF1A-AB99-40A9-9F42-C3206A3641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F887-DEB4-4907-8BDE-DA9352BD34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9A62-490D-4E6C-AD84-715852D645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7F21-27CD-495B-A58F-3E4225300A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5E70-FA85-4968-A033-1B3DB7FBA9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77F0-7CD9-44AF-8C68-D98574FD64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0731-EEA4-4711-B558-B813E2AF01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4BC1-C6AB-41EC-A6C5-3CF88A89F8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8738-95B1-4118-BD6C-B1E1DDBD4C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201-D556-41F8-B97F-E25E8D04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9D6-FD90-453A-80C4-D59484F0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01D-03C1-43B2-9031-04AAA342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56F-D614-4874-8D69-F8A56720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542-39B1-4253-8ED7-2CFD8E1E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2B1-039C-4232-8C7F-30626147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023C-92C2-4EBB-8F49-5A174E44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227-BA6A-4CFD-82AA-81C327DE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EB6-A01B-4FBD-B036-1F56D634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3BD-C17A-415F-A041-8AA6AE6F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FF3E-90A5-4091-8799-92CAA19F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420-7EE5-4B7B-95C2-C47AD262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927C-C5DF-4B5D-B1E8-9E0D8BC1B2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PMingLiU"/>
              </a:rPr>
              <a:t>313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PMingLiU"/>
              </a:rPr>
              <a:t>PH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b #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&amp; Dose Response Curve o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Doses of Acetylcho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se cycle &amp; contact tim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se cycle (NT)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ime between different drugs addi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ct time (CT)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uration of drug presence  in the organ bath until its removal  by  washing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T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sec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60 sec, washing 3 times 30 sec for each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tal cycle tim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3 mi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paratus for experiments with isolated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phibian and mammalian tissu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0600" y="1752480"/>
            <a:ext cx="8628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ograph and thermostatically controlled organ bath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 acting on the isolated tissu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d rabbit intestine h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l myogenic contrac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s under the control of the Autonomic nervous system (ANS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ffect of drugs that act on the intestine could b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imulat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.e. increase in the intestinal contraction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hibit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.e. decrease in the intestinal contrac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he intestine innervated by ANS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1447920"/>
            <a:ext cx="3962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ympathetic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mitter:</a:t>
            </a: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adrenalin mainly, Adrenaline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eptors present 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ntestine)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: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B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ibitory (↓contraction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xation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7656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arasympathet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tylcholine (Ach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inergic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entr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otinic (Nn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ipher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muscarinic (M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itatory (↑contraction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tra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s increase or decrease in muscle contraction is observed as follow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2284560" y="4371840"/>
            <a:ext cx="863280" cy="914400"/>
            <a:chOff x="2284560" y="4371840"/>
            <a:chExt cx="863280" cy="914400"/>
          </a:xfrm>
        </p:grpSpPr>
        <p:sp>
          <p:nvSpPr>
            <p:cNvPr id="77" name="Rectangle 6"/>
            <p:cNvSpPr/>
            <p:nvPr/>
          </p:nvSpPr>
          <p:spPr>
            <a:xfrm>
              <a:off x="2571840" y="4371840"/>
              <a:ext cx="28872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2860560" y="4803480"/>
              <a:ext cx="287280" cy="482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2284560" y="4803480"/>
              <a:ext cx="287280" cy="48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Group 17"/>
          <p:cNvGrpSpPr/>
          <p:nvPr/>
        </p:nvGrpSpPr>
        <p:grpSpPr>
          <a:xfrm>
            <a:off x="5991120" y="4357800"/>
            <a:ext cx="863640" cy="914400"/>
            <a:chOff x="5991120" y="4357800"/>
            <a:chExt cx="863640" cy="914400"/>
          </a:xfrm>
        </p:grpSpPr>
        <p:sp>
          <p:nvSpPr>
            <p:cNvPr id="81" name="Rectangle 16"/>
            <p:cNvSpPr/>
            <p:nvPr/>
          </p:nvSpPr>
          <p:spPr>
            <a:xfrm>
              <a:off x="5991120" y="4357800"/>
              <a:ext cx="287280" cy="482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17"/>
            <p:cNvSpPr/>
            <p:nvPr/>
          </p:nvSpPr>
          <p:spPr>
            <a:xfrm>
              <a:off x="6567480" y="4357800"/>
              <a:ext cx="287280" cy="482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18"/>
            <p:cNvSpPr/>
            <p:nvPr/>
          </p:nvSpPr>
          <p:spPr>
            <a:xfrm>
              <a:off x="6279840" y="4357800"/>
              <a:ext cx="288720" cy="914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Rectangle 19"/>
          <p:cNvSpPr/>
          <p:nvPr/>
        </p:nvSpPr>
        <p:spPr>
          <a:xfrm>
            <a:off x="1371600" y="3200400"/>
            <a:ext cx="281952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↑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mplitude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5486400" y="3200400"/>
            <a:ext cx="2666880" cy="838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↓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mpl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360" y="17524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8" name="Group 17"/>
          <p:cNvGrpSpPr/>
          <p:nvPr/>
        </p:nvGrpSpPr>
        <p:grpSpPr>
          <a:xfrm>
            <a:off x="1871640" y="4156200"/>
            <a:ext cx="1657440" cy="1130040"/>
            <a:chOff x="1871640" y="4156200"/>
            <a:chExt cx="1657440" cy="1130040"/>
          </a:xfrm>
        </p:grpSpPr>
        <p:sp>
          <p:nvSpPr>
            <p:cNvPr id="89" name="Rectangle 4"/>
            <p:cNvSpPr/>
            <p:nvPr/>
          </p:nvSpPr>
          <p:spPr>
            <a:xfrm>
              <a:off x="2375280" y="4156200"/>
              <a:ext cx="649800" cy="215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5"/>
            <p:cNvSpPr/>
            <p:nvPr/>
          </p:nvSpPr>
          <p:spPr>
            <a:xfrm>
              <a:off x="2375280" y="4156200"/>
              <a:ext cx="0" cy="107928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"/>
            <p:cNvSpPr/>
            <p:nvPr/>
          </p:nvSpPr>
          <p:spPr>
            <a:xfrm>
              <a:off x="3023640" y="4156200"/>
              <a:ext cx="0" cy="107928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1871640" y="4803840"/>
              <a:ext cx="503640" cy="482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3023640" y="4803840"/>
              <a:ext cx="505440" cy="482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18"/>
          <p:cNvGrpSpPr/>
          <p:nvPr/>
        </p:nvGrpSpPr>
        <p:grpSpPr>
          <a:xfrm>
            <a:off x="5646600" y="4133880"/>
            <a:ext cx="1511280" cy="1152360"/>
            <a:chOff x="5646600" y="4133880"/>
            <a:chExt cx="1511280" cy="1152360"/>
          </a:xfrm>
        </p:grpSpPr>
        <p:sp>
          <p:nvSpPr>
            <p:cNvPr id="95" name="Rectangle 9"/>
            <p:cNvSpPr/>
            <p:nvPr/>
          </p:nvSpPr>
          <p:spPr>
            <a:xfrm>
              <a:off x="6149880" y="5070600"/>
              <a:ext cx="649080" cy="215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>
              <a:off x="6149880" y="420660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>
              <a:off x="6797520" y="420660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5646600" y="4133880"/>
              <a:ext cx="503280" cy="482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6797520" y="4133880"/>
              <a:ext cx="360360" cy="482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Rectangle 16"/>
          <p:cNvSpPr/>
          <p:nvPr/>
        </p:nvSpPr>
        <p:spPr>
          <a:xfrm>
            <a:off x="1295280" y="3048120"/>
            <a:ext cx="2895840" cy="825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↑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5334120" y="3048120"/>
            <a:ext cx="2743200" cy="812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↓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7524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1787400" y="4159080"/>
            <a:ext cx="1656000" cy="1130400"/>
            <a:chOff x="1787400" y="4159080"/>
            <a:chExt cx="1656000" cy="1130400"/>
          </a:xfrm>
        </p:grpSpPr>
        <p:sp>
          <p:nvSpPr>
            <p:cNvPr id="105" name="Rectangle 4"/>
            <p:cNvSpPr/>
            <p:nvPr/>
          </p:nvSpPr>
          <p:spPr>
            <a:xfrm>
              <a:off x="2290680" y="4159080"/>
              <a:ext cx="649440" cy="576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>
              <a:off x="2290680" y="415908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>
              <a:off x="2938680" y="415908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1787400" y="4806720"/>
              <a:ext cx="503280" cy="482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2938680" y="4806720"/>
              <a:ext cx="504720" cy="48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16"/>
          <p:cNvGrpSpPr/>
          <p:nvPr/>
        </p:nvGrpSpPr>
        <p:grpSpPr>
          <a:xfrm>
            <a:off x="5753160" y="4137120"/>
            <a:ext cx="1511280" cy="1152360"/>
            <a:chOff x="5753160" y="4137120"/>
            <a:chExt cx="1511280" cy="1152360"/>
          </a:xfrm>
        </p:grpSpPr>
        <p:sp>
          <p:nvSpPr>
            <p:cNvPr id="111" name="Rectangle 9"/>
            <p:cNvSpPr/>
            <p:nvPr/>
          </p:nvSpPr>
          <p:spPr>
            <a:xfrm>
              <a:off x="6256440" y="4713120"/>
              <a:ext cx="649080" cy="576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0"/>
            <p:cNvSpPr/>
            <p:nvPr/>
          </p:nvSpPr>
          <p:spPr>
            <a:xfrm>
              <a:off x="6256440" y="420984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1"/>
            <p:cNvSpPr/>
            <p:nvPr/>
          </p:nvSpPr>
          <p:spPr>
            <a:xfrm>
              <a:off x="6904080" y="420984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5753160" y="4137120"/>
              <a:ext cx="503280" cy="482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6904080" y="4137120"/>
              <a:ext cx="360360" cy="482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Rectangle 14"/>
          <p:cNvSpPr/>
          <p:nvPr/>
        </p:nvSpPr>
        <p:spPr>
          <a:xfrm>
            <a:off x="1143000" y="3124080"/>
            <a:ext cx="2895480" cy="83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↑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ne &amp; ampl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5334120" y="3124080"/>
            <a:ext cx="2895480" cy="83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↓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ne &amp; ampl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he effect of different doses of acetylcholine on smooth muscle of intestine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9" name="Group 23"/>
          <p:cNvGrpSpPr/>
          <p:nvPr/>
        </p:nvGrpSpPr>
        <p:grpSpPr>
          <a:xfrm>
            <a:off x="380880" y="1600200"/>
            <a:ext cx="8305920" cy="4304520"/>
            <a:chOff x="380880" y="1600200"/>
            <a:chExt cx="8305920" cy="4304520"/>
          </a:xfrm>
        </p:grpSpPr>
        <p:sp>
          <p:nvSpPr>
            <p:cNvPr id="120" name="Rectangle 4"/>
            <p:cNvSpPr/>
            <p:nvPr/>
          </p:nvSpPr>
          <p:spPr>
            <a:xfrm>
              <a:off x="1477440" y="2988720"/>
              <a:ext cx="516240" cy="1470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1994040" y="3683160"/>
              <a:ext cx="1027440" cy="77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574920" y="3683160"/>
              <a:ext cx="902520" cy="77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3021480" y="2523960"/>
              <a:ext cx="513720" cy="1934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535200" y="3683160"/>
              <a:ext cx="1027440" cy="775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4565520" y="2062080"/>
              <a:ext cx="771840" cy="23968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337720" y="3683160"/>
              <a:ext cx="902520" cy="775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6240240" y="1600200"/>
              <a:ext cx="771840" cy="2858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7012440" y="3683160"/>
              <a:ext cx="902520" cy="7758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7914960" y="1600200"/>
              <a:ext cx="771840" cy="28587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 flipV="1">
              <a:off x="70272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6"/>
            <p:cNvSpPr/>
            <p:nvPr/>
          </p:nvSpPr>
          <p:spPr>
            <a:xfrm flipV="1">
              <a:off x="160524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7"/>
            <p:cNvSpPr/>
            <p:nvPr/>
          </p:nvSpPr>
          <p:spPr>
            <a:xfrm flipV="1">
              <a:off x="302148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8"/>
            <p:cNvSpPr/>
            <p:nvPr/>
          </p:nvSpPr>
          <p:spPr>
            <a:xfrm flipV="1">
              <a:off x="456552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9"/>
            <p:cNvSpPr/>
            <p:nvPr/>
          </p:nvSpPr>
          <p:spPr>
            <a:xfrm flipV="1">
              <a:off x="636804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 flipV="1">
              <a:off x="804276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380880" y="5189040"/>
              <a:ext cx="802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           0.05                   0.1                       0.2                            0.3                       0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23"/>
            <p:cNvSpPr/>
            <p:nvPr/>
          </p:nvSpPr>
          <p:spPr>
            <a:xfrm>
              <a:off x="1259280" y="5536440"/>
              <a:ext cx="700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h 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h                  Ach                         Ach                  Ac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urpose of Pharmacological Experimen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610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harmacological experiments largely divide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to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litativ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rmine ( analyze) the activity of drug (i.e. analges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otensive and hypoglycem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rmine mechanism of drugs 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ntitativ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ssay (measure) the potency of drugs (e.g. toxic level, therapeutic level, LD50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pharmacological experimen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- In vitro experi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Study the action of drugs on isolated prepara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e e.g. (intestine, ileum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gan e.g. (heart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 to study MOA (qualitative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 to study its potency (quantitative)  e.g. DRC on rectus abdomini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advantage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no interference by compensatory mechanisms of body that may affect the direct action of drug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t easy to study the chemical and biological effect of the dru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900" spc="-1" strike="noStrike">
              <a:solidFill>
                <a:srgbClr val="632523"/>
              </a:solidFill>
              <a:latin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In vivo experi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dy the action of drugs on the whole body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ac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erve the direct drug action(actual effect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 to study the chemical and biological effect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advantage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iculty to determine the exact mechanism of 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مربع نص 3"/>
          <p:cNvSpPr/>
          <p:nvPr/>
        </p:nvSpPr>
        <p:spPr>
          <a:xfrm>
            <a:off x="4952880" y="1143000"/>
            <a:ext cx="32004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vitro experim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3720" y="1371240"/>
            <a:ext cx="8837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Experimental conditio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isolated organ or muscle should be bathed in a suitable media that is resemble to the normal condition in the body regarding (pH,osmolarity,temperature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efore, tissue is bathed in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lution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ntain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PMingLiU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ly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tri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PMingLiU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ed Physiological p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PMingLiU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tempera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siological Salt Solu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rding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fferent tissu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e used, there is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fferent physiological solu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ep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ll or most of them contain the following ingredients at different concentration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c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→ to adjust the isotonicit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Gluco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nutrient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K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sometimes Mg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2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s CL sal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to maintain normal muscle contrac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Sodium bicarbonat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to adjust pH similar to that of blood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NaH2PO4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odium di hydrogen phosphate) buffer→ to compensate for any change in pH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wo most commonly used physiological solutions ar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yrode’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Kreb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era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ological salt solutions should be aerated by a suitable ga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Pure oxyge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iss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Normal ai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st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Carbogen (95% O2, 5% CO2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used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er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mperatur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mmalian tissue must be bathed in a warmed solution adjusted a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º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 Isolated rabbit intestin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emperature should be decreased in some experiments to reduce the myogenic contraction, the warmed solution adjusted a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2º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Guinea-pig ile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hibian tissues survive at room temperatur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5ºC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g rectus abdomini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6:18:50Z</dcterms:created>
  <dc:creator>noufy</dc:creator>
  <dc:description/>
  <dc:language>en-US</dc:language>
  <cp:lastModifiedBy>Hana</cp:lastModifiedBy>
  <dcterms:modified xsi:type="dcterms:W3CDTF">2010-10-04T17:38:33Z</dcterms:modified>
  <cp:revision>112</cp:revision>
  <dc:subject/>
  <dc:title>الشريحة 1</dc:title>
</cp:coreProperties>
</file>