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25A-EC52-4815-8A65-5C6C1AADA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FBA-37C0-43CF-8B8A-F0A84EF4D0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743-1DA6-4C91-94F9-2477C07A73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204F-206A-4CAA-9189-6AB7065DC5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2625-D8E0-405F-922F-9BC47B324E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8E38-71C0-4813-B1A1-BE140D8880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F5D2-CD75-40FC-A184-C9EBB5C522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6E9-1752-4022-A5EA-C3B3C2D2C7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A736-8B95-43F2-AD05-D54553288A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B71-6F13-45FA-97A1-6A3089459F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D6C-0729-4AAF-A344-73CC43D491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672-2FDF-41DE-9DDE-100F1677E6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163-88D2-4C29-99D7-82D8DE2088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E53F-7702-4BB3-B9EB-61A078F8A5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06F-20F4-477A-A45C-E44685A5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2A-3C99-4680-AD18-D9368DBD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047-67A9-4AA7-A6CD-60DC0209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6E8-2184-48AE-9BE7-A0120650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D87-5C7B-474F-B789-805D89A6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932-277E-4E46-B9C0-C1309C6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9D7-C7BD-4734-A71C-FA9DE37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FE6-0752-40C1-9794-A15BE9C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349-7DF0-4026-AA56-F28AD0B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39A-8ED9-4E45-A6B9-BFF90A1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B3A-90E8-478E-90E4-B8013FD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E5A-EAAF-4129-A2C6-1C68E70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0CB-48F4-4C6C-8D64-8A30860B97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313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PMingLiU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&amp; Dose Response Curve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Doses of Acetylcho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&amp; contact tim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se cycle (N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between different drugs addi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ct time (CT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uration of drug presence  in the organ bath until its removal  by  washing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T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sec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60 sec, washing 3 times 30 sec for ea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 cycle ti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3 mi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aratus for experiments with isolat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hibian and mammalian tissu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0600" y="1752480"/>
            <a:ext cx="86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graph and thermostatically controlled organ bath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 acting on the isolated tissu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rabbit intestine h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l myogenic contra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under the control of the Autonomic nervous system (ANS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ect of drugs that act on the intestine could b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imula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increase in the intestinal contraction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hibit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.e. decrease in the intestinal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intestine innervated by AN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ympathetic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(Nn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iphe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uscarinic 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ncrease or decrease in muscle contraction is observed as follow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2284560" y="4371840"/>
            <a:ext cx="863280" cy="914400"/>
            <a:chOff x="2284560" y="4371840"/>
            <a:chExt cx="863280" cy="914400"/>
          </a:xfrm>
        </p:grpSpPr>
        <p:sp>
          <p:nvSpPr>
            <p:cNvPr id="77" name="Rectangle 6"/>
            <p:cNvSpPr/>
            <p:nvPr/>
          </p:nvSpPr>
          <p:spPr>
            <a:xfrm>
              <a:off x="2571840" y="4371840"/>
              <a:ext cx="2887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2860560" y="4803480"/>
              <a:ext cx="287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284560" y="4803480"/>
              <a:ext cx="28728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7"/>
          <p:cNvGrpSpPr/>
          <p:nvPr/>
        </p:nvGrpSpPr>
        <p:grpSpPr>
          <a:xfrm>
            <a:off x="5991120" y="4357800"/>
            <a:ext cx="863640" cy="914400"/>
            <a:chOff x="5991120" y="4357800"/>
            <a:chExt cx="863640" cy="914400"/>
          </a:xfrm>
        </p:grpSpPr>
        <p:sp>
          <p:nvSpPr>
            <p:cNvPr id="81" name="Rectangle 16"/>
            <p:cNvSpPr/>
            <p:nvPr/>
          </p:nvSpPr>
          <p:spPr>
            <a:xfrm>
              <a:off x="5991120" y="4357800"/>
              <a:ext cx="28728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6567480" y="4357800"/>
              <a:ext cx="287280" cy="482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6279840" y="4357800"/>
              <a:ext cx="288720" cy="914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Rectangle 19"/>
          <p:cNvSpPr/>
          <p:nvPr/>
        </p:nvSpPr>
        <p:spPr>
          <a:xfrm>
            <a:off x="1371600" y="32004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486400" y="320040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36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8" name="Group 17"/>
          <p:cNvGrpSpPr/>
          <p:nvPr/>
        </p:nvGrpSpPr>
        <p:grpSpPr>
          <a:xfrm>
            <a:off x="1871640" y="4156200"/>
            <a:ext cx="1657440" cy="1130040"/>
            <a:chOff x="1871640" y="4156200"/>
            <a:chExt cx="1657440" cy="1130040"/>
          </a:xfrm>
        </p:grpSpPr>
        <p:sp>
          <p:nvSpPr>
            <p:cNvPr id="89" name="Rectangle 4"/>
            <p:cNvSpPr/>
            <p:nvPr/>
          </p:nvSpPr>
          <p:spPr>
            <a:xfrm>
              <a:off x="2375280" y="4156200"/>
              <a:ext cx="649800" cy="21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5"/>
            <p:cNvSpPr/>
            <p:nvPr/>
          </p:nvSpPr>
          <p:spPr>
            <a:xfrm>
              <a:off x="237528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023640" y="4156200"/>
              <a:ext cx="0" cy="107928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871640" y="4803840"/>
              <a:ext cx="503640" cy="482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3023640" y="4803840"/>
              <a:ext cx="505440" cy="48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5646600" y="4133880"/>
            <a:ext cx="1511280" cy="1152360"/>
            <a:chOff x="5646600" y="4133880"/>
            <a:chExt cx="1511280" cy="1152360"/>
          </a:xfrm>
        </p:grpSpPr>
        <p:sp>
          <p:nvSpPr>
            <p:cNvPr id="95" name="Rectangle 9"/>
            <p:cNvSpPr/>
            <p:nvPr/>
          </p:nvSpPr>
          <p:spPr>
            <a:xfrm>
              <a:off x="6149880" y="5070600"/>
              <a:ext cx="649080" cy="215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14988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6797520" y="420660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5646600" y="413388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6797520" y="413388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Rectangle 16"/>
          <p:cNvSpPr/>
          <p:nvPr/>
        </p:nvSpPr>
        <p:spPr>
          <a:xfrm>
            <a:off x="1295280" y="3048120"/>
            <a:ext cx="2895840" cy="82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34120" y="3048120"/>
            <a:ext cx="2743200" cy="812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1787400" y="4159080"/>
            <a:ext cx="1656000" cy="1130400"/>
            <a:chOff x="1787400" y="4159080"/>
            <a:chExt cx="1656000" cy="1130400"/>
          </a:xfrm>
        </p:grpSpPr>
        <p:sp>
          <p:nvSpPr>
            <p:cNvPr id="105" name="Rectangle 4"/>
            <p:cNvSpPr/>
            <p:nvPr/>
          </p:nvSpPr>
          <p:spPr>
            <a:xfrm>
              <a:off x="2290680" y="4159080"/>
              <a:ext cx="64944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290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2938680" y="415908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787400" y="4806720"/>
              <a:ext cx="503280" cy="48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2938680" y="4806720"/>
              <a:ext cx="5047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5753160" y="4137120"/>
            <a:ext cx="1511280" cy="1152360"/>
            <a:chOff x="5753160" y="4137120"/>
            <a:chExt cx="1511280" cy="1152360"/>
          </a:xfrm>
        </p:grpSpPr>
        <p:sp>
          <p:nvSpPr>
            <p:cNvPr id="111" name="Rectangle 9"/>
            <p:cNvSpPr/>
            <p:nvPr/>
          </p:nvSpPr>
          <p:spPr>
            <a:xfrm>
              <a:off x="6256440" y="4713120"/>
              <a:ext cx="649080" cy="576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625644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>
              <a:off x="6904080" y="4209840"/>
              <a:ext cx="0" cy="1079640"/>
            </a:xfrm>
            <a:prstGeom prst="line">
              <a:avLst/>
            </a:prstGeom>
            <a:ln w="381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5753160" y="4137120"/>
              <a:ext cx="503280" cy="482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6904080" y="4137120"/>
              <a:ext cx="360360" cy="48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Rectangle 14"/>
          <p:cNvSpPr/>
          <p:nvPr/>
        </p:nvSpPr>
        <p:spPr>
          <a:xfrm>
            <a:off x="114300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↑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334120" y="3124080"/>
            <a:ext cx="28954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↓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one &amp; ampl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he effect of different doses of acetylcholine on smooth muscle of intestin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380880" y="1600200"/>
            <a:ext cx="8305920" cy="4304520"/>
            <a:chOff x="380880" y="1600200"/>
            <a:chExt cx="8305920" cy="4304520"/>
          </a:xfrm>
        </p:grpSpPr>
        <p:sp>
          <p:nvSpPr>
            <p:cNvPr id="120" name="Rectangle 4"/>
            <p:cNvSpPr/>
            <p:nvPr/>
          </p:nvSpPr>
          <p:spPr>
            <a:xfrm>
              <a:off x="1477440" y="2988720"/>
              <a:ext cx="516240" cy="147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994040" y="3683160"/>
              <a:ext cx="1027440" cy="77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74920" y="3683160"/>
              <a:ext cx="902520" cy="77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3021480" y="2523960"/>
              <a:ext cx="513720" cy="1934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535200" y="3683160"/>
              <a:ext cx="1027440" cy="77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65520" y="2062080"/>
              <a:ext cx="771840" cy="2396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7720" y="3683160"/>
              <a:ext cx="902520" cy="77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6240240" y="1600200"/>
              <a:ext cx="771840" cy="2858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7012440" y="3683160"/>
              <a:ext cx="902520" cy="775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7914960" y="1600200"/>
              <a:ext cx="771840" cy="2858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7027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 flipV="1">
              <a:off x="16052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302148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456552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636804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V="1">
              <a:off x="8042760" y="4494600"/>
              <a:ext cx="0" cy="69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380880" y="5189040"/>
              <a:ext cx="802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           0.05                   0.1                       0.2                            0.3                       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23"/>
            <p:cNvSpPr/>
            <p:nvPr/>
          </p:nvSpPr>
          <p:spPr>
            <a:xfrm>
              <a:off x="1259280" y="5536440"/>
              <a:ext cx="700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h                  Ach                         Ach                  A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61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harmacological experiments largely divi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t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( analyze) the activity of drug (i.e. analges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tensive and hypoglycem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mechanism of drugs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ssay (measure) the potency of drugs (e.g. toxic level, therapeutic level, LD5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pharmacological experimen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- In vitr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tudy the action of drugs on isolated prepara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e.g. (intestine, ileum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gan e.g. (hear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MOA (qualitativ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its potency (quantitative)  e.g. DRC on rectus abdomin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interference by compensatory mechanisms of body that may affect the direct action of dru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t easy to study the chemical and biological effect of the dru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632523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In vivo experi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y the action of drugs on the whole body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ac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 the direct drug action(actual effect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study the chemical and biological effec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advantage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iculty to determine the exact mechanism of 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4952880" y="1143000"/>
            <a:ext cx="32004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vitro experi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3720" y="1371240"/>
            <a:ext cx="8837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Experimental conditio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isolated organ or muscle should be bathed in a suitable media that is resemble to the normal condition in the body regarding (pH,osmolarity,temperatur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fore, tissue is bathed i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ntain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ly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ed Physiological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tempera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ological Salt Solu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used, there is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 physiological solu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par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ll or most of them contain the following ingredients at different concentration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c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→ to adjust the isotonic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Gluc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nutrient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K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ometimes Mg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s CL sal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maintain normal muscle contrac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to adjust pH similar to that of blood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NaH2PO4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odium di hydrogen phosphate) buffer→ to compensate for any change in p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most commonly used physiological solutions 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yrode’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Kreb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er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 salt solutions should be aerated by a suitable ga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Pure oxyg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issu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ormal ai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Carbogen (95% O2, 5% CO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used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peratur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mmalian tissue must be bathed in a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Isolated rabbit intesti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should be decreased in some experiments to reduce the myogenic contraction, the warmed solution adjusted 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2º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Guinea-pig ile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ibian tissues survive at room temperatu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5º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g rectus abdomini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18:50Z</dcterms:created>
  <dc:creator>noufy</dc:creator>
  <dc:description/>
  <dc:language>en-US</dc:language>
  <cp:lastModifiedBy>Hana</cp:lastModifiedBy>
  <dcterms:modified xsi:type="dcterms:W3CDTF">2010-10-04T17:38:33Z</dcterms:modified>
  <cp:revision>112</cp:revision>
  <dc:subject/>
  <dc:title>الشريحة 1</dc:title>
</cp:coreProperties>
</file>