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9BD-5464-4331-A0C0-E3778DE3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390-A80F-4561-A91B-226C1D7A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988-40EC-45BD-8912-6E0FA988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823-0952-4604-8DF3-27B1766A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431-9600-44CD-A945-7E712B09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872-90FB-4DF8-B7B0-ED21C07B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BC6-07A1-4222-97E1-51D8378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B9D-0F8E-4AEF-8C87-E142EC0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EBA-3B68-4D2E-A2F9-53EBD7D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97A-BE23-4320-9E6F-647CE36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5AE-6446-4C39-9B34-D157915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A24-F671-4BAB-8FD9-115CACF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EFB1-C818-421F-9D3F-05A03721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79246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יֵשׁ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אֵין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יֵשׁ כּוֹחַ </a:t>
            </a:r>
            <a:r>
              <a:rPr b="0" lang="ar-SA" sz="3200" spc="-1" strike="noStrike">
                <a:solidFill>
                  <a:srgbClr val="cc00cc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יֵשׁ כּוֹחַ - יֵשׁ עֲבוֹד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יֵשׁ עֲבוֹדָה – יֵשׁ כֶּסֶף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 כֶּסֶף – יֵשׁ אִישָּׁה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יֵשׁ אִישָּׁה – יֵשׁ י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33"/>
                </a:solidFill>
                <a:latin typeface="Arial"/>
                <a:cs typeface="FrankRuehl"/>
              </a:rPr>
              <a:t>יֵשׁ יְלָדִים – אֵין כּוֹחַ </a:t>
            </a:r>
            <a:r>
              <a:rPr b="0" lang="ar-SA" sz="3200" spc="-1" strike="noStrike">
                <a:solidFill>
                  <a:srgbClr val="660033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ֵין כּוֹחַ </a:t>
            </a:r>
            <a:r>
              <a:rPr b="0" lang="ar-SA" sz="3200" spc="-1" strike="noStrike">
                <a:solidFill>
                  <a:srgbClr val="990099"/>
                </a:solidFill>
                <a:latin typeface="Arial"/>
                <a:ea typeface="FrankRuehl"/>
              </a:rPr>
              <a:t>– </a:t>
            </a: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ֵין עֲבוֹד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00"/>
                </a:solidFill>
                <a:latin typeface="Arial"/>
                <a:cs typeface="FrankRuehl"/>
              </a:rPr>
              <a:t>אֵין עֲבוֹדָה – אֵין כֶּסֶף </a:t>
            </a:r>
            <a:r>
              <a:rPr b="0" lang="ar-SA" sz="3200" spc="-1" strike="noStrike">
                <a:solidFill>
                  <a:srgbClr val="9966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אֵין כֶּסֶף – אֵין אִישָּׁה</a:t>
            </a:r>
            <a:r>
              <a:rPr b="0" lang="ar-SA" sz="3200" spc="-1" strike="noStrike">
                <a:solidFill>
                  <a:srgbClr val="6600cc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0033"/>
                </a:solidFill>
                <a:latin typeface="Arial"/>
                <a:cs typeface="FrankRuehl"/>
              </a:rPr>
              <a:t>אֵין אִישָּׁה – אֵין י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ֵין יְלָדִים – יֵשׁ כּוֹח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6668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183240"/>
            <a:ext cx="62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הַמִּלִּים הַחֲדָשׁוֹת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–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F_Hijaz"/>
              </a:rPr>
              <a:t>الكلمات الجديد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1295280"/>
          <a:ext cx="7772400" cy="3740400"/>
        </p:xfrm>
        <a:graphic>
          <a:graphicData uri="http://schemas.openxmlformats.org/drawingml/2006/table">
            <a:tbl>
              <a:tblPr/>
              <a:tblGrid>
                <a:gridCol w="1832040"/>
                <a:gridCol w="1596960"/>
                <a:gridCol w="2073240"/>
                <a:gridCol w="22701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لايوج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ֵי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يوج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ֵש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عم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ֲבוֹדָ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قو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ּוֹח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إمرأة – زوج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ִישָּׁ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نقو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ֶּסֶף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أطفال – أول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ְלָדִים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2:43:13Z</dcterms:created>
  <dc:creator>DR.FOUAD</dc:creator>
  <dc:description/>
  <dc:language>en-US</dc:language>
  <cp:lastModifiedBy>DR.FOUAD</cp:lastModifiedBy>
  <dcterms:modified xsi:type="dcterms:W3CDTF">2009-03-28T23:16:28Z</dcterms:modified>
  <cp:revision>2</cp:revision>
  <dc:subject/>
  <dc:title>الشريحة 1</dc:title>
</cp:coreProperties>
</file>