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48E-B31A-428F-9394-437B8EC0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ADC-A568-4F9C-9C10-7058448F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BD7-6E9D-43FA-9FE6-0915A95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293-6647-49E1-99A9-89AC4AB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F17-EE6B-4C95-B470-36DA61DE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2AC-077B-4DAB-BE11-6635DE6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867-3EB0-45C8-AC2B-58B2B785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7B5-CD05-4058-8A33-D7A0D98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5AA-4C65-467B-9D38-115D84E3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5AF-0A21-4DCE-BF29-4A02B66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B87-7ED8-4CE6-959E-2362CB5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7E4-1018-43DE-BCF1-B4FFCCFB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76D6-8483-46DD-AEAF-64AA0D4E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79246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יֵשׁ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אֵין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יֵשׁ כּוֹחַ </a:t>
            </a:r>
            <a:r>
              <a:rPr b="0" lang="ar-SA" sz="3200" spc="-1" strike="noStrike">
                <a:solidFill>
                  <a:srgbClr val="cc00cc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יֵשׁ כּוֹחַ - יֵשׁ עֲבוֹד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יֵשׁ עֲבוֹדָה – יֵשׁ כֶּסֶף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 כֶּסֶף – יֵשׁ אִישָּׁה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cs typeface="FrankRuehl"/>
              </a:rPr>
              <a:t>יֵשׁ אִישָּׁה – יֵשׁ י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33"/>
                </a:solidFill>
                <a:latin typeface="Arial"/>
                <a:cs typeface="FrankRuehl"/>
              </a:rPr>
              <a:t>יֵשׁ יְלָדִים – אֵין כּוֹחַ </a:t>
            </a:r>
            <a:r>
              <a:rPr b="0" lang="ar-SA" sz="3200" spc="-1" strike="noStrike">
                <a:solidFill>
                  <a:srgbClr val="660033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ֵין כּוֹחַ </a:t>
            </a:r>
            <a:r>
              <a:rPr b="0" lang="ar-SA" sz="3200" spc="-1" strike="noStrike">
                <a:solidFill>
                  <a:srgbClr val="990099"/>
                </a:solidFill>
                <a:latin typeface="Arial"/>
                <a:ea typeface="FrankRuehl"/>
              </a:rPr>
              <a:t>– </a:t>
            </a:r>
            <a:r>
              <a:rPr b="0" lang="he-IL" sz="3200" spc="-1" strike="noStrike">
                <a:solidFill>
                  <a:srgbClr val="990099"/>
                </a:solidFill>
                <a:latin typeface="Arial"/>
                <a:cs typeface="FrankRuehl"/>
              </a:rPr>
              <a:t>אֵין עֲבוֹד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00"/>
                </a:solidFill>
                <a:latin typeface="Arial"/>
                <a:cs typeface="FrankRuehl"/>
              </a:rPr>
              <a:t>אֵין עֲבוֹדָה – אֵין כֶּסֶף </a:t>
            </a:r>
            <a:r>
              <a:rPr b="0" lang="ar-SA" sz="3200" spc="-1" strike="noStrike">
                <a:solidFill>
                  <a:srgbClr val="9966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6600cc"/>
                </a:solidFill>
                <a:latin typeface="Arial"/>
                <a:cs typeface="FrankRuehl"/>
              </a:rPr>
              <a:t>אֵין כֶּסֶף – אֵין אִישָּׁה</a:t>
            </a:r>
            <a:r>
              <a:rPr b="0" lang="ar-SA" sz="3200" spc="-1" strike="noStrike">
                <a:solidFill>
                  <a:srgbClr val="6600cc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0033"/>
                </a:solidFill>
                <a:latin typeface="Arial"/>
                <a:cs typeface="FrankRuehl"/>
              </a:rPr>
              <a:t>אֵין אִישָּׁה – אֵין יְלָדִ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ֵין יְלָדִים – יֵשׁ כּוֹח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6668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9fe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183240"/>
            <a:ext cx="62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הַמִּלִּים הַחֲדָשׁוֹת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–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F_Hijaz"/>
              </a:rPr>
              <a:t>الكلمات الجديد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1295280"/>
          <a:ext cx="7772400" cy="3740400"/>
        </p:xfrm>
        <a:graphic>
          <a:graphicData uri="http://schemas.openxmlformats.org/drawingml/2006/table">
            <a:tbl>
              <a:tblPr/>
              <a:tblGrid>
                <a:gridCol w="1832040"/>
                <a:gridCol w="1596960"/>
                <a:gridCol w="2073240"/>
                <a:gridCol w="22701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9900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لايوج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ֵין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يوج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ֵש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عم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עֲבוֹדָ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قو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ּוֹח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إمرأة – زوج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אִישָּׁ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نقو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כֶּסֶף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00cc"/>
                          </a:solidFill>
                          <a:latin typeface="Times New Roman"/>
                          <a:cs typeface="AF_Najed"/>
                        </a:rPr>
                        <a:t>أطفال – أول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4400" spc="-1" strike="noStrike">
                          <a:solidFill>
                            <a:srgbClr val="ff3300"/>
                          </a:solidFill>
                          <a:latin typeface="Times New Roman"/>
                          <a:cs typeface="FrankRuehl"/>
                        </a:rPr>
                        <a:t>יְלָדִים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2:43:13Z</dcterms:created>
  <dc:creator>DR.FOUAD</dc:creator>
  <dc:description/>
  <dc:language>en-US</dc:language>
  <cp:lastModifiedBy>DR.FOUAD</cp:lastModifiedBy>
  <dcterms:modified xsi:type="dcterms:W3CDTF">2009-03-28T23:16:28Z</dcterms:modified>
  <cp:revision>2</cp:revision>
  <dc:subject/>
  <dc:title>الشريحة 1</dc:title>
</cp:coreProperties>
</file>