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3859-8EA9-466C-AD02-ED6E2C524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610D-3540-4A78-A959-9511AD5CA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61CB-9F99-4E11-802E-A52C43261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0F2A-609D-44C7-9287-5ECF19E23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71AC-2E2E-4183-B932-AA9246299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4FB9-F8D6-40F2-B0F5-CE7DFE35C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DAE2-D7BC-45FD-90CD-B1DB1C9BF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F838-F8C3-4883-8B34-40C3945DB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B725-DD8C-441E-A241-1C3126DD0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9E0D-8F5A-4AD4-964A-5E0731794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7BAA-5604-4E10-880B-AC992B729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AC91-E333-452F-8515-3BC3B46E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157D7-F26B-4F07-A58B-FD3C56AB08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video" Target="file:///tmp/home/.config/libreoffice/4/user/gallery/&#1589;&#1608;&#1578;%20&#1605;&#1587;&#1580;&#1617;&#1604;" TargetMode="External"/><Relationship Id="rId3" Type="http://schemas.microsoft.com/office/2007/relationships/media" Target="file:///tmp/home/.config/libreoffice/4/user/gallery/&#1589;&#1608;&#1578;%20&#1605;&#1587;&#1580;&#1617;&#1604;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533520"/>
            <a:ext cx="75438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Arial"/>
              </a:rPr>
              <a:t>חֶדֶר בְּמָלוֹן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  <a:cs typeface="FrankRuehl"/>
              </a:rPr>
              <a:t>זֶה חֶדֶר בְּמָלוֹן . זֶה חֶדֶר קָטָן . בַּחֶדֶר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FrankRuehl"/>
              </a:rPr>
              <a:t> 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  <a:cs typeface="FrankRuehl"/>
              </a:rPr>
              <a:t>יֵשׁ רַק  מִטָּה  גְּדוֹלָה אָרוֹן , כִּיסֵּא  וְשׁוּלְחָן . עַל הַשּׁוּלְחָן יֵשׁ טֶלֶפוֹן. אֵין פֹּה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FrankRuehl"/>
              </a:rPr>
              <a:t> 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  <a:cs typeface="FrankRuehl"/>
              </a:rPr>
              <a:t>מִטְבָּח, אֲבָל יֵשׁ שֵׁרוּתִים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FrankRueh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09480" y="2666880"/>
          <a:ext cx="8229600" cy="41594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9999"/>
                          </a:solidFill>
                          <a:latin typeface="Times New Roman"/>
                          <a:cs typeface="Monotype Koufi"/>
                        </a:rPr>
                        <a:t>معناه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9999"/>
                          </a:solidFill>
                          <a:latin typeface="Times New Roman"/>
                          <a:cs typeface="Monotype Koufi"/>
                        </a:rPr>
                        <a:t>الكلم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9999"/>
                          </a:solidFill>
                          <a:latin typeface="Times New Roman"/>
                          <a:cs typeface="Monotype Koufi"/>
                        </a:rPr>
                        <a:t>معناه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9999"/>
                          </a:solidFill>
                          <a:latin typeface="Times New Roman"/>
                          <a:cs typeface="Monotype Koufi"/>
                        </a:rPr>
                        <a:t>الكلم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ff"/>
                          </a:solidFill>
                          <a:latin typeface="Times New Roman"/>
                          <a:cs typeface="AF_Najed"/>
                        </a:rPr>
                        <a:t>صغي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3200" spc="-1" strike="noStrike">
                          <a:solidFill>
                            <a:srgbClr val="ff0000"/>
                          </a:solidFill>
                          <a:latin typeface="Times New Roman"/>
                          <a:cs typeface="FrankRuehl"/>
                        </a:rPr>
                        <a:t>קָטָן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ff"/>
                          </a:solidFill>
                          <a:latin typeface="Times New Roman"/>
                          <a:cs typeface="AF_Najed"/>
                        </a:rPr>
                        <a:t>فى الفند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3200" spc="-1" strike="noStrike">
                          <a:solidFill>
                            <a:srgbClr val="ff0000"/>
                          </a:solidFill>
                          <a:latin typeface="Times New Roman"/>
                          <a:cs typeface="FrankRuehl"/>
                        </a:rPr>
                        <a:t>בְּמָלוֹן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ff"/>
                          </a:solidFill>
                          <a:latin typeface="Times New Roman"/>
                          <a:cs typeface="AF_Najed"/>
                        </a:rPr>
                        <a:t>سرير كبي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3200" spc="-1" strike="noStrike">
                          <a:solidFill>
                            <a:srgbClr val="ff0000"/>
                          </a:solidFill>
                          <a:latin typeface="Times New Roman"/>
                          <a:cs typeface="FrankRuehl"/>
                        </a:rPr>
                        <a:t>מִטָּה  גְּדוֹלָה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ff"/>
                          </a:solidFill>
                          <a:latin typeface="Times New Roman"/>
                          <a:cs typeface="AF_Najed"/>
                        </a:rPr>
                        <a:t>يوجد فق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3200" spc="-1" strike="noStrike">
                          <a:solidFill>
                            <a:srgbClr val="ff0000"/>
                          </a:solidFill>
                          <a:latin typeface="Times New Roman"/>
                          <a:cs typeface="FrankRuehl"/>
                        </a:rPr>
                        <a:t>יֵשׁ רַק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ff"/>
                          </a:solidFill>
                          <a:latin typeface="Times New Roman"/>
                          <a:cs typeface="AF_Najed"/>
                        </a:rPr>
                        <a:t>كرس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3200" spc="-1" strike="noStrike">
                          <a:solidFill>
                            <a:srgbClr val="ff0000"/>
                          </a:solidFill>
                          <a:latin typeface="Times New Roman"/>
                          <a:cs typeface="FrankRuehl"/>
                        </a:rPr>
                        <a:t>כִּיסֵּא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ff"/>
                          </a:solidFill>
                          <a:latin typeface="Times New Roman"/>
                          <a:cs typeface="AF_Najed"/>
                        </a:rPr>
                        <a:t>دولاب </a:t>
                      </a:r>
                      <a:r>
                        <a:rPr b="0" lang="ar-EG" sz="2800" spc="-1" strike="noStrike">
                          <a:solidFill>
                            <a:srgbClr val="0000ff"/>
                          </a:solidFill>
                          <a:latin typeface="Times New Roman"/>
                          <a:cs typeface="AF_Najed"/>
                        </a:rPr>
                        <a:t>،</a:t>
                      </a:r>
                      <a:r>
                        <a:rPr b="0" lang="ar-SA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AF_Najed"/>
                        </a:rPr>
                        <a:t> خزان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3200" spc="-1" strike="noStrike">
                          <a:solidFill>
                            <a:srgbClr val="ff0000"/>
                          </a:solidFill>
                          <a:latin typeface="Times New Roman"/>
                          <a:cs typeface="FrankRuehl"/>
                        </a:rPr>
                        <a:t>אָרוֹן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ff"/>
                          </a:solidFill>
                          <a:latin typeface="Times New Roman"/>
                          <a:cs typeface="AF_Najed"/>
                        </a:rPr>
                        <a:t>تليفون – هات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3200" spc="-1" strike="noStrike">
                          <a:solidFill>
                            <a:srgbClr val="ff0000"/>
                          </a:solidFill>
                          <a:latin typeface="Times New Roman"/>
                          <a:cs typeface="FrankRuehl"/>
                        </a:rPr>
                        <a:t>טֶלֶפוֹן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ff"/>
                          </a:solidFill>
                          <a:latin typeface="Times New Roman"/>
                          <a:cs typeface="AF_Najed"/>
                        </a:rPr>
                        <a:t>طاولة - منضد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3200" spc="-1" strike="noStrike">
                          <a:solidFill>
                            <a:srgbClr val="ff0000"/>
                          </a:solidFill>
                          <a:latin typeface="Times New Roman"/>
                          <a:cs typeface="FrankRuehl"/>
                        </a:rPr>
                        <a:t>שׁוּלְחָן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ff"/>
                          </a:solidFill>
                          <a:latin typeface="Times New Roman"/>
                          <a:cs typeface="AF_Najed"/>
                        </a:rPr>
                        <a:t>مطبخ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3200" spc="-1" strike="noStrike">
                          <a:solidFill>
                            <a:srgbClr val="ff0000"/>
                          </a:solidFill>
                          <a:latin typeface="Times New Roman"/>
                          <a:cs typeface="FrankRuehl"/>
                        </a:rPr>
                        <a:t>מִטְבָּח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ff"/>
                          </a:solidFill>
                          <a:latin typeface="Times New Roman"/>
                          <a:cs typeface="AF_Najed"/>
                        </a:rPr>
                        <a:t>هن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3200" spc="-1" strike="noStrike">
                          <a:solidFill>
                            <a:srgbClr val="ff0000"/>
                          </a:solidFill>
                          <a:latin typeface="Times New Roman"/>
                          <a:cs typeface="FrankRuehl"/>
                        </a:rPr>
                        <a:t>פֹּה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ff"/>
                          </a:solidFill>
                          <a:latin typeface="Times New Roman"/>
                          <a:cs typeface="AF_Najed"/>
                        </a:rPr>
                        <a:t>دورة ميا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3200" spc="-1" strike="noStrike">
                          <a:solidFill>
                            <a:srgbClr val="ff0000"/>
                          </a:solidFill>
                          <a:latin typeface="Times New Roman"/>
                          <a:cs typeface="FrankRuehl"/>
                        </a:rPr>
                        <a:t>שֵׁרוּתִים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ff"/>
                          </a:solidFill>
                          <a:latin typeface="Times New Roman"/>
                          <a:cs typeface="AF_Najed"/>
                        </a:rPr>
                        <a:t>لك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3200" spc="-1" strike="noStrike">
                          <a:solidFill>
                            <a:srgbClr val="ff0000"/>
                          </a:solidFill>
                          <a:latin typeface="Times New Roman"/>
                          <a:cs typeface="FrankRuehl"/>
                        </a:rPr>
                        <a:t>אֲבָל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3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228600" y="2286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4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4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700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8T23:13:52Z</dcterms:created>
  <dc:creator>DR.FOUAD</dc:creator>
  <dc:description/>
  <dc:language>en-US</dc:language>
  <cp:lastModifiedBy>DR.FOUAD</cp:lastModifiedBy>
  <dcterms:modified xsi:type="dcterms:W3CDTF">2009-04-01T16:47:29Z</dcterms:modified>
  <cp:revision>4</cp:revision>
  <dc:subject/>
  <dc:title>الشريحة 1</dc:title>
</cp:coreProperties>
</file>