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CD8B-EFA7-4647-8167-7860ED9B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0F3C-0D40-493D-84E2-01F8D167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C23A-F1A6-42E4-B72B-94878ADD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C8C-0AA3-4156-8997-25958EC8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429C-5CCB-43A9-8F67-8F7264C2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75F-6107-4B0E-A071-067B11D3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2E38-D2DF-441B-A15F-1561E6C9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E34-DC71-438D-AF8B-5B75BF2B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762-CF3B-4AA3-B535-13D36055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664A-452B-46D0-875F-F24DE4DF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368-CD2C-45BE-895F-59C4F1B5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9413-D16E-4DC8-9B09-246F89C4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753B-EA87-4D50-B764-1A3FA0D4A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1589;&#1608;&#1578;%20&#1605;&#1587;&#1580;&#1617;&#1604;" TargetMode="External"/><Relationship Id="rId3" Type="http://schemas.microsoft.com/office/2007/relationships/media" Target="file:///tmp/home/.config/libreoffice/4/user/gallery/&#1589;&#1608;&#1578;%20&#1605;&#1587;&#1580;&#1617;&#1604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533520"/>
            <a:ext cx="7543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חֶדֶר בְּמָלוֹן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זֶה חֶדֶר בְּמָלוֹן . זֶה חֶדֶר קָטָן . בַּחֶדֶ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FrankRuehl"/>
              </a:rPr>
              <a:t> 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יֵשׁ רַק  מִטָּה  גְּדוֹלָה אָרוֹן , כִּיסֵּא  וְשׁוּלְחָן . עַל הַשּׁוּלְחָן יֵשׁ טֶלֶפוֹן. אֵין פֹּה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FrankRuehl"/>
              </a:rPr>
              <a:t> 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cs typeface="FrankRuehl"/>
              </a:rPr>
              <a:t>מִטְבָּח, אֲבָל יֵשׁ שֵׁרוּתִים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FrankRueh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2666880"/>
          <a:ext cx="8229600" cy="4159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9999"/>
                          </a:solidFill>
                          <a:latin typeface="Times New Roman"/>
                          <a:cs typeface="Monotype Koufi"/>
                        </a:rPr>
                        <a:t>معنا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9999"/>
                          </a:solidFill>
                          <a:latin typeface="Times New Roman"/>
                          <a:cs typeface="Monotype Koufi"/>
                        </a:rPr>
                        <a:t>الكل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9999"/>
                          </a:solidFill>
                          <a:latin typeface="Times New Roman"/>
                          <a:cs typeface="Monotype Koufi"/>
                        </a:rPr>
                        <a:t>معنا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9999"/>
                          </a:solidFill>
                          <a:latin typeface="Times New Roman"/>
                          <a:cs typeface="Monotype Koufi"/>
                        </a:rPr>
                        <a:t>الكل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صغي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קָטָ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فى الفند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בְּמָלוֹ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سرير كبي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מִטָּה  גְּדוֹלָ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يوجد فق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יֵשׁ רַק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كرس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כִּיסֵּ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دولاب </a:t>
                      </a:r>
                      <a:r>
                        <a:rPr b="0" lang="ar-EG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،</a:t>
                      </a: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AF_Najed"/>
                        </a:rPr>
                        <a:t> خزا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אָרוֹ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تليفون – هات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טֶלֶפוֹ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طاولة - منضد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שׁוּלְחָ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مطب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מִטְבָּח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هن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פֹּ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دورة ميا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שֵׁרוּתִי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AF_Najed"/>
                        </a:rPr>
                        <a:t>لك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אֲבָ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286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7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23:13:52Z</dcterms:created>
  <dc:creator>DR.FOUAD</dc:creator>
  <dc:description/>
  <dc:language>en-US</dc:language>
  <cp:lastModifiedBy>DR.FOUAD</cp:lastModifiedBy>
  <dcterms:modified xsi:type="dcterms:W3CDTF">2009-04-01T16:47:29Z</dcterms:modified>
  <cp:revision>4</cp:revision>
  <dc:subject/>
  <dc:title>الشريحة 1</dc:title>
</cp:coreProperties>
</file>