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9B8-92B6-4724-8E20-F42F005C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3BD-5CD8-44EF-A5F8-EB46F65F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C91-7E36-4F3D-825E-E2FEB8D9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732-D839-4AAD-AD41-0CAD1ABA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B19-FE3B-4DA5-AA6C-73B1DD97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D56-6B4A-419F-8839-5E607A17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B99-550E-45DC-B51D-F598F0B6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95B-4809-46C3-B399-46BB60F9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033-04BD-45BD-BF49-081767FC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0A4-5F4A-4705-B882-65FD507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A39F-FBA0-4E6E-93F8-E3433505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A9F-5AD6-44D5-92B1-6471E7AA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4DC9-E46E-4566-804D-F19E4B97C0C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صورة 4" descr="IMG_020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22:57Z</dcterms:created>
  <dc:creator>ندا بنت حسن الحميد</dc:creator>
  <dc:description/>
  <dc:language>en-US</dc:language>
  <cp:lastModifiedBy>ندا بنت حسن الحميد</cp:lastModifiedBy>
  <dcterms:modified xsi:type="dcterms:W3CDTF">2012-10-04T15:42:35Z</dcterms:modified>
  <cp:revision>2</cp:revision>
  <dc:subject/>
  <dc:title>الشريحة 1</dc:title>
</cp:coreProperties>
</file>