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B99B-B1A5-43A5-8F9B-8483ADBD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8E20-208C-4A4C-AC52-F2F3AD05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B844-B1BC-4CC0-A3FC-E133824B5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E646-23B3-4078-9342-54EF12491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02B8-9AD9-4433-8819-4F99D31C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7A2D-723F-4A1F-9242-E397D2CA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2FFE-9CDD-42A6-90D5-42550682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362D-EE08-49CF-ABE6-C2094442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9920-BE76-48CC-84FD-AF1F1419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E1B4-3D4A-4AD0-9D70-FEA8BDA4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E4DA-5E84-443F-AB34-3FAD0FD8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76A3-3ABC-4359-BE1B-F528699E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B027-D03B-48F3-B41E-2ACB3AC78FB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صورة 4" descr="IMG_020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15:22:57Z</dcterms:created>
  <dc:creator>ندا بنت حسن الحميد</dc:creator>
  <dc:description/>
  <dc:language>en-US</dc:language>
  <cp:lastModifiedBy>ندا بنت حسن الحميد</cp:lastModifiedBy>
  <dcterms:modified xsi:type="dcterms:W3CDTF">2012-10-04T15:42:35Z</dcterms:modified>
  <cp:revision>2</cp:revision>
  <dc:subject/>
  <dc:title>الشريحة 1</dc:title>
</cp:coreProperties>
</file>