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2B63-6ED9-461F-B2DD-A63D59CE3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4D12-AB5E-4671-B9DC-CAAC6D23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8D3E-BE8A-4E98-8B62-B7B21768B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3046-3CBC-45AD-B777-16DE4D543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7F00-350D-4981-944D-DE25AD3F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3ABE-F85E-4A88-813E-C7697FDE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0563-287C-4684-9F17-EC1A6E33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728B-1A43-4360-9C1F-628E06A7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937C-EE6B-4FF3-B1BD-79D99AC6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B767-0040-48B5-A6B2-8C03E084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2BA6-3A12-4FF0-ABDF-5B8A5406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5FCA-B590-469A-A6F2-ACB41E54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C6C6-6CBD-46B3-82A9-70410D6DB64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صورة 4" descr="IMG_020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15:22:57Z</dcterms:created>
  <dc:creator>ندا بنت حسن الحميد</dc:creator>
  <dc:description/>
  <dc:language>en-US</dc:language>
  <cp:lastModifiedBy>ندا بنت حسن الحميد</cp:lastModifiedBy>
  <dcterms:modified xsi:type="dcterms:W3CDTF">2012-10-04T15:42:35Z</dcterms:modified>
  <cp:revision>2</cp:revision>
  <dc:subject/>
  <dc:title>الشريحة 1</dc:title>
</cp:coreProperties>
</file>