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45A-4A1A-4C5B-91D8-460F5C43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3D9-4829-445F-AF49-8B110227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1D1-0F04-4CC4-9794-80184370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8DA-4769-4F3B-AC3A-A10ED411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A16-1260-4003-9CCF-86E1B5F9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A87-F169-4A57-A7AB-4FEA7FD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C0C-C5F9-4136-BB99-B97B9476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C82-B109-46CC-9529-32FAC12B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DA9-7E47-49CF-8ACC-38E91CF5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465-9DCD-4A6A-AEB0-BD32DF1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487-3315-41DF-A1E3-21E752D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5AA-8673-4950-BF4D-2178A19B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695C-DA49-4385-8AFF-36772F5BBF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صورة 4" descr="IMG_02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2:57Z</dcterms:created>
  <dc:creator>ندا بنت حسن الحميد</dc:creator>
  <dc:description/>
  <dc:language>en-US</dc:language>
  <cp:lastModifiedBy>ندا بنت حسن الحميد</cp:lastModifiedBy>
  <dcterms:modified xsi:type="dcterms:W3CDTF">2012-10-04T15:42:35Z</dcterms:modified>
  <cp:revision>2</cp:revision>
  <dc:subject/>
  <dc:title>الشريحة 1</dc:title>
</cp:coreProperties>
</file>