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7F4-3878-4AF1-ACB3-2A25A1DB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DD6-E3DC-4C7C-82A2-9EBDC3A3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73F-5BD0-4BD7-B0D7-CDEB3FF6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3A8-14FC-4617-B4D2-C0068BF1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3CB-2BC4-4D98-8BA0-0735142A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D99-2D21-41C2-AEBD-5A4BB62D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8D5-8CFE-4771-B7E8-82E43B00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0D3-7698-44E7-9825-F2FA8905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1EF-A24D-4C8A-A2BF-2EE4AA07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67B-C119-48CF-B4A4-A27E6C9D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20C-BD9D-4E20-A5DC-0208EECD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903-F5C0-42FA-AA69-10AA7FBB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2e2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0EFE-EA46-43B2-8622-FD9117291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589;&#1608;&#1578;%20&#1605;&#1587;&#1580;&#1617;&#1604;" TargetMode="External"/><Relationship Id="rId2" Type="http://schemas.microsoft.com/office/2007/relationships/media" Target="file:///tmp/home/.config/libreoffice/4/user/gallery/&#1589;&#1608;&#1578;%20&#1605;&#1587;&#1580;&#1617;&#1604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589;&#1608;&#1578;%20&#1605;&#1587;&#1580;&#1617;&#1604;" TargetMode="External"/><Relationship Id="rId5" Type="http://schemas.microsoft.com/office/2007/relationships/media" Target="file:///tmp/home/.config/libreoffice/4/user/gallery/&#1589;&#1608;&#1578;%20&#1605;&#1587;&#1580;&#1617;&#1604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2e2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38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ַּדִּירָה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c3300"/>
                </a:solidFill>
                <a:latin typeface="Arial"/>
                <a:cs typeface="FrankRuehl"/>
              </a:rPr>
              <a:t>זֹאת דִּירָה גְּדוֹלָ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cc3300"/>
                </a:solidFill>
                <a:latin typeface="Arial"/>
                <a:ea typeface="FrankRuehl"/>
              </a:rPr>
              <a:t>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00cc"/>
                </a:solidFill>
                <a:latin typeface="Arial"/>
                <a:cs typeface="FrankRuehl"/>
              </a:rPr>
              <a:t>הֲדִירָה בְּבִנְיָן גָּדוֹל בִּרְחוֹב בֶּן יְהוּדָה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6666"/>
                </a:solidFill>
                <a:latin typeface="Arial"/>
                <a:cs typeface="FrankRuehl"/>
              </a:rPr>
              <a:t>בַּדִּירָה יֵשׁ חֲדָרִים יָפִים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9900cc"/>
                </a:solidFill>
                <a:latin typeface="Arial"/>
                <a:cs typeface="FrankRuehl"/>
              </a:rPr>
              <a:t>יֵשׁ גַּם 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  <a:ea typeface="FrankRuehl"/>
              </a:rPr>
              <a:t> </a:t>
            </a:r>
            <a:r>
              <a:rPr b="0" lang="he-IL" sz="3200" spc="-1" strike="noStrike">
                <a:solidFill>
                  <a:srgbClr val="9900cc"/>
                </a:solidFill>
                <a:latin typeface="Arial"/>
                <a:cs typeface="FrankRuehl"/>
              </a:rPr>
              <a:t>מִטְבָּח גָּדוֹל , שֵׁרוּתִים וּמִקְלַחַת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080" y="1600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2514600"/>
            <a:ext cx="8077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ַּחֶדֶר שֶׁל וָאן ֿגוֹך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c3300"/>
                </a:solidFill>
                <a:latin typeface="Arial"/>
                <a:cs typeface="FrankRuehl"/>
              </a:rPr>
              <a:t>זֶה  הַחֶדֶר שֶׁל וָאן ֿגוֹך . </a:t>
            </a:r>
            <a:r>
              <a:rPr b="0" lang="he-IL" sz="3200" spc="-1" strike="noStrike">
                <a:solidFill>
                  <a:srgbClr val="9900cc"/>
                </a:solidFill>
                <a:latin typeface="Arial"/>
                <a:cs typeface="FrankRuehl"/>
              </a:rPr>
              <a:t>הַחֶדֶר שֶׁל וָאן ֿגוֹך קָטָן . בַּחֶדֶר יֵשׁ רַק מִטָּה, שׁוּלְחָן קָטָן , כִּסֵּא עַל יָד הַמִטָּה וְכִסֵּא עַל יָד הַדֶּלֶת .</a:t>
            </a:r>
            <a:r>
              <a:rPr b="0" lang="he-IL" sz="3200" spc="-1" strike="noStrike">
                <a:solidFill>
                  <a:srgbClr val="cc33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6666"/>
                </a:solidFill>
                <a:latin typeface="Arial"/>
                <a:cs typeface="FrankRuehl"/>
              </a:rPr>
              <a:t>עַל הַקִּיר יֵשׁ תְּמוּנוֹת . אֵין שֵׁרוּתִים, אֵין מִטְבָּח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90720" y="4114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2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4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1:21Z</dcterms:created>
  <dc:creator>DR.FOUAD</dc:creator>
  <dc:description/>
  <dc:language>en-US</dc:language>
  <cp:lastModifiedBy>DR.FOUAD</cp:lastModifiedBy>
  <dcterms:modified xsi:type="dcterms:W3CDTF">2009-04-01T16:49:30Z</dcterms:modified>
  <cp:revision>4</cp:revision>
  <dc:subject/>
  <dc:title>الشريحة 1</dc:title>
</cp:coreProperties>
</file>