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707-D218-4DDA-936F-E221C182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B5E-2223-4CBE-906A-4A3D92CB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F2F-9E72-4AA5-8817-4B90B3D2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6A9-0EC6-42CA-A54E-8FC529FF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FAD-9C4A-4A6A-862C-0E2245B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51D-3291-44D9-B7AB-4C347830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32E-910E-4AA8-83A3-5093A699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50F-0E5E-42C5-A853-E4B5586E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D56-22EA-4334-91CB-746CE0B6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740-713F-45FB-9B10-9A4FED15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D0C-5C8A-4394-828D-17C3099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34C-657A-4D86-B6CD-A568B589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2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6189-076C-4E46-B632-CBC27DC40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589;&#1608;&#1578;%20&#1605;&#1587;&#1580;&#1617;&#1604;" TargetMode="External"/><Relationship Id="rId2" Type="http://schemas.microsoft.com/office/2007/relationships/media" Target="file:///tmp/home/.config/libreoffice/4/user/gallery/&#1589;&#1608;&#1578;%20&#1605;&#1587;&#1580;&#1617;&#1604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589;&#1608;&#1578;%20&#1605;&#1587;&#1580;&#1617;&#1604;" TargetMode="External"/><Relationship Id="rId5" Type="http://schemas.microsoft.com/office/2007/relationships/media" Target="file:///tmp/home/.config/libreoffice/4/user/gallery/&#1589;&#1608;&#1578;%20&#1605;&#1587;&#1580;&#1617;&#1604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2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ַּדִּירָה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3300"/>
                </a:solidFill>
                <a:latin typeface="Arial"/>
                <a:cs typeface="FrankRuehl"/>
              </a:rPr>
              <a:t>זֹאת דִּירָה גְּדוֹלָ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cc3300"/>
                </a:solidFill>
                <a:latin typeface="Arial"/>
                <a:ea typeface="FrankRuehl"/>
              </a:rPr>
              <a:t>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00cc"/>
                </a:solidFill>
                <a:latin typeface="Arial"/>
                <a:cs typeface="FrankRuehl"/>
              </a:rPr>
              <a:t>הֲדִירָה בְּבִנְיָן גָּדוֹל בִּרְחוֹב בֶּן יְהוּדָה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6666"/>
                </a:solidFill>
                <a:latin typeface="Arial"/>
                <a:cs typeface="FrankRuehl"/>
              </a:rPr>
              <a:t>בַּדִּירָה יֵשׁ חֲדָרִים יָפִים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9900cc"/>
                </a:solidFill>
                <a:latin typeface="Arial"/>
                <a:cs typeface="FrankRuehl"/>
              </a:rPr>
              <a:t>יֵשׁ גַּם 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  <a:ea typeface="FrankRuehl"/>
              </a:rPr>
              <a:t> </a:t>
            </a:r>
            <a:r>
              <a:rPr b="0" lang="he-IL" sz="3200" spc="-1" strike="noStrike">
                <a:solidFill>
                  <a:srgbClr val="9900cc"/>
                </a:solidFill>
                <a:latin typeface="Arial"/>
                <a:cs typeface="FrankRuehl"/>
              </a:rPr>
              <a:t>מִטְבָּח גָּדוֹל , שֵׁרוּתִים וּמִקְלַחַת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080" y="1600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2514600"/>
            <a:ext cx="807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ַּחֶדֶר שֶׁל וָאן ֿגוֹך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3300"/>
                </a:solidFill>
                <a:latin typeface="Arial"/>
                <a:cs typeface="FrankRuehl"/>
              </a:rPr>
              <a:t>זֶה  הַחֶדֶר שֶׁל וָאן ֿגוֹך . </a:t>
            </a:r>
            <a:r>
              <a:rPr b="0" lang="he-IL" sz="3200" spc="-1" strike="noStrike">
                <a:solidFill>
                  <a:srgbClr val="9900cc"/>
                </a:solidFill>
                <a:latin typeface="Arial"/>
                <a:cs typeface="FrankRuehl"/>
              </a:rPr>
              <a:t>הַחֶדֶר שֶׁל וָאן ֿגוֹך קָטָן . בַּחֶדֶר יֵשׁ רַק מִטָּה, שׁוּלְחָן קָטָן , כִּסֵּא עַל יָד הַמִטָּה וְכִסֵּא עַל יָד הַדֶּלֶת .</a:t>
            </a:r>
            <a:r>
              <a:rPr b="0" lang="he-IL" sz="3200" spc="-1" strike="noStrike">
                <a:solidFill>
                  <a:srgbClr val="cc33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6666"/>
                </a:solidFill>
                <a:latin typeface="Arial"/>
                <a:cs typeface="FrankRuehl"/>
              </a:rPr>
              <a:t>עַל הַקִּיר יֵשׁ תְּמוּנוֹת . אֵין שֵׁרוּתִים, אֵין מִטְבָּח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9072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2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4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1:21Z</dcterms:created>
  <dc:creator>DR.FOUAD</dc:creator>
  <dc:description/>
  <dc:language>en-US</dc:language>
  <cp:lastModifiedBy>DR.FOUAD</cp:lastModifiedBy>
  <dcterms:modified xsi:type="dcterms:W3CDTF">2009-04-01T16:49:30Z</dcterms:modified>
  <cp:revision>4</cp:revision>
  <dc:subject/>
  <dc:title>الشريحة 1</dc:title>
</cp:coreProperties>
</file>