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AD5-9FC2-4EFC-B5D7-9582018F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01A-BA4E-4677-93FD-341949AE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9D3-7771-4C0C-84C0-2DDFE3D8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5B3-7105-4A7D-A7F8-4A395F25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073-F276-4C7A-8B40-9B967815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E2C-B74E-4396-95E1-D0910F66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24C-2267-4105-8437-70D13540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151-333E-4227-AC23-F4DE7F5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737-898D-4F4C-9A31-F8411145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A36-DF55-49AE-ADCF-D4F731E3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E0F6-B6F2-46B5-9293-08D1A9A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13D-1217-4EB7-BE06-E787442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E691-142C-48FA-B822-DAC1775CA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0574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 from Igneous Phase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snapshot of all compositions at given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remains at same point but diagram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F = C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 = 2, then P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hases = number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=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T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nO, BaO, SrO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,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plot a maximum of three components using triangl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cess),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excess or 0)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cess 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into apatite, 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to albite, T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rutile or ilmenite, 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to chromite, F into fluorite or apatite, Cl into h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MnO with FeO, BaO and SrO with CaO, F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eO, Cl with 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major elements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 reduced to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Ca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O, (FeO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KF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(FeO + MgO)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M 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aO – MgO used for carbonat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Molar amounts, not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s denote two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ular subfields denote three coexisting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Diagram is snapshot of mineral combinations under given T,P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tracked by changes i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really interested in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450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arb450"/>
          <p:cNvPicPr/>
          <p:nvPr/>
        </p:nvPicPr>
        <p:blipFill>
          <a:blip r:embed="rId1"/>
          <a:stretch/>
        </p:blipFill>
        <p:spPr>
          <a:xfrm>
            <a:off x="1371600" y="1133640"/>
            <a:ext cx="66294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Phas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 F = 2, C = 3, P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reaction curve, F = 1, P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get 4 Phases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in Middle of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hase Appears on Ti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 Line Breaks and New One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eta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inerals 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Minerals Dis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ilities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ate Rocks at Low 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arb100"/>
          <p:cNvPicPr/>
          <p:nvPr/>
        </p:nvPicPr>
        <p:blipFill>
          <a:blip r:embed="rId1"/>
          <a:stretch/>
        </p:blipFill>
        <p:spPr>
          <a:xfrm>
            <a:off x="1295280" y="936720"/>
            <a:ext cx="685800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0 C: New Phase on Tie Lin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Quartz + Brucite -&gt; Tal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MPDEV1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 C: One Tie Line Replaced by An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Dolomite -&gt; Calcite + Tal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MPDEV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 C: New Phase in Middle of Fi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uartz + Talc + Calcite -&gt; Tremol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MPDEV3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H2OPhase"/>
          <p:cNvPicPr/>
          <p:nvPr/>
        </p:nvPicPr>
        <p:blipFill>
          <a:blip r:embed="rId1"/>
          <a:stretch/>
        </p:blipFill>
        <p:spPr>
          <a:xfrm>
            <a:off x="2362320" y="9144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most versatile and instructiv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K-spar and al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CaO - 3.3 *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Ca in apa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cf000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’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–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,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– variable Ca (epidote, garnet, anorth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 + MgO + MnO – amount in diopside or hornbl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es K-feldspar and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’KF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KF000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F and A’KF Diagrams are often pai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eO, MgO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-section through a tetrahed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re MgO and FeO don’t fully sub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includ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because of 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/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+FeO+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g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FeO/ (FeO + M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afm000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M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fm001"/>
          <p:cNvPicPr/>
          <p:nvPr/>
        </p:nvPicPr>
        <p:blipFill>
          <a:blip r:embed="rId1"/>
          <a:stretch/>
        </p:blipFill>
        <p:spPr>
          <a:xfrm>
            <a:off x="1600200" y="1600200"/>
            <a:ext cx="61722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O-MgO-Si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carb000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ase Rule (Gibbs, 19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(Distinct Materials or Sta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s of Freedom (Independent Variab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Rule and Phase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2OPhase1"/>
          <p:cNvPicPr/>
          <p:nvPr/>
        </p:nvPicPr>
        <p:blipFill>
          <a:blip r:embed="rId1"/>
          <a:stretch/>
        </p:blipFill>
        <p:spPr>
          <a:xfrm>
            <a:off x="2286000" y="91440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A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l2SiO5Phase1"/>
          <p:cNvPicPr/>
          <p:nvPr/>
        </p:nvPicPr>
        <p:blipFill>
          <a:blip r:embed="rId1"/>
          <a:stretch/>
        </p:blipFill>
        <p:spPr>
          <a:xfrm>
            <a:off x="76212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for 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IcePhase"/>
          <p:cNvPicPr/>
          <p:nvPr/>
        </p:nvPicPr>
        <p:blipFill>
          <a:blip r:embed="rId1"/>
          <a:stretch/>
        </p:blipFill>
        <p:spPr>
          <a:xfrm>
            <a:off x="1981080" y="1066680"/>
            <a:ext cx="4867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Diagram of Sil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SiO2Phase"/>
          <p:cNvPicPr/>
          <p:nvPr/>
        </p:nvPicPr>
        <p:blipFill>
          <a:blip r:embed="rId1"/>
          <a:stretch/>
        </p:blipFill>
        <p:spPr>
          <a:xfrm>
            <a:off x="160020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fug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 Degrees of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ignore pH, Eh, Oxygen fugacity for most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sulfid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care about T,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ilicates,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0 and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7:39:59Z</dcterms:created>
  <dc:creator>New User</dc:creator>
  <dc:description/>
  <dc:language>en-US</dc:language>
  <cp:lastModifiedBy>Dell</cp:lastModifiedBy>
  <dcterms:modified xsi:type="dcterms:W3CDTF">2011-10-05T23:46:01Z</dcterms:modified>
  <cp:revision>6</cp:revision>
  <dc:subject/>
  <dc:title>Metamorphic Phase Diagrams</dc:title>
</cp:coreProperties>
</file>