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E0B-6432-43A9-9860-2B014FC9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9E9-DBF4-413F-945C-FA375000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4FA-C6C1-4A95-95C7-0A26DC1E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D06-046D-4E6D-A748-F46E8FF2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7E8-C584-4F19-B4E3-D7B82D6A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5D2-E5C7-44EB-A590-D9B08A81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FC4-F819-4330-A2F4-749BA319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1E96-88BC-4E44-B184-27D09719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4BF-9D31-4BEE-8929-498BB7DC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6EE-65B1-44E2-829C-4BBCBA57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CAA-0E61-4C35-AF0C-A944348A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41F-3180-44A5-B6E1-6D965FB2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DC0C-98C5-40D0-9A88-67ACE160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from Igneous Phas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snapshot of all compositions at given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remains at same point but diagram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F = C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 = 2, then P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hases = number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T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nO, BaO, SrO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,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plot a maximum of three components using triangl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ss)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excess or 0)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cess 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into apatite,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to albite, 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rutile or ilmenite,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o chromite, F into fluorite or apatite, Cl into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MnO with FeO, BaO and SrO with CaO,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eO, Cl with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major elements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reduced to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O, (FeO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K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(FeO + MgO)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M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aO – MgO used for carbonat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Molar amounts, no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s denote two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ubfields denote three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is snapshot of mineral combinations under given T,P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tracked by changes i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nterested in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450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rb450"/>
          <p:cNvPicPr/>
          <p:nvPr/>
        </p:nvPicPr>
        <p:blipFill>
          <a:blip r:embed="rId1"/>
          <a:stretch/>
        </p:blipFill>
        <p:spPr>
          <a:xfrm>
            <a:off x="1371600" y="1133640"/>
            <a:ext cx="6629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F = 2, C = 3, P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reaction curve, F = 1, P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et 4 Phas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in Middle of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on Ti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 Breaks and New On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eta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inerals 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Minerals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ies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Low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arb100"/>
          <p:cNvPicPr/>
          <p:nvPr/>
        </p:nvPicPr>
        <p:blipFill>
          <a:blip r:embed="rId1"/>
          <a:stretch/>
        </p:blipFill>
        <p:spPr>
          <a:xfrm>
            <a:off x="1295280" y="936720"/>
            <a:ext cx="6858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 C: New Phase on Tie Li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Quartz + Brucite -&gt; Tal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PDEV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 C: One Tie Line Replaced by An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Dolomite -&gt; Calcite + Ta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PDEV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C: New Phase in Middle of F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Talc + Calcite -&gt; Tremol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PDEV3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2OPhase"/>
          <p:cNvPicPr/>
          <p:nvPr/>
        </p:nvPicPr>
        <p:blipFill>
          <a:blip r:embed="rId1"/>
          <a:stretch/>
        </p:blipFill>
        <p:spPr>
          <a:xfrm>
            <a:off x="2362320" y="9144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st versatile and instructiv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K-spar and al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CaO - 3.3 *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a in apa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cf000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– variable Ca (epidote, garnet, anorth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 – amount in diopside or horn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K-feldspar and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KF000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and A’KF Diagrams are often pa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ection through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re MgO and FeO don’t fully sub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ecause of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/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+FeO+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g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fm000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fm001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O-MgO-Si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arb000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se Rule (Gibbs, 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(Distinct Materials or St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(Independent Vari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Rule and Phas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2OPhase1"/>
          <p:cNvPicPr/>
          <p:nvPr/>
        </p:nvPicPr>
        <p:blipFill>
          <a:blip r:embed="rId1"/>
          <a:stretch/>
        </p:blipFill>
        <p:spPr>
          <a:xfrm>
            <a:off x="228600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A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l2SiO5Phase1"/>
          <p:cNvPicPr/>
          <p:nvPr/>
        </p:nvPicPr>
        <p:blipFill>
          <a:blip r:embed="rId1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IcePhase"/>
          <p:cNvPicPr/>
          <p:nvPr/>
        </p:nvPicPr>
        <p:blipFill>
          <a:blip r:embed="rId1"/>
          <a:stretch/>
        </p:blipFill>
        <p:spPr>
          <a:xfrm>
            <a:off x="1981080" y="1066680"/>
            <a:ext cx="4867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of 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SiO2Phase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fug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gnore pH, Eh, Oxygen fugacity for most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ulfid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are about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 and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9:59Z</dcterms:created>
  <dc:creator>New User</dc:creator>
  <dc:description/>
  <dc:language>en-US</dc:language>
  <cp:lastModifiedBy>Dell</cp:lastModifiedBy>
  <dcterms:modified xsi:type="dcterms:W3CDTF">2011-10-05T23:46:01Z</dcterms:modified>
  <cp:revision>6</cp:revision>
  <dc:subject/>
  <dc:title>Metamorphic Phase Diagrams</dc:title>
</cp:coreProperties>
</file>