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BB2B-5808-4D09-93C4-AEF84F578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454C-D924-4D03-9307-C917DB52C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032C-8E27-4DA5-B582-78267F58B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3E6B-3CB9-4B58-9615-DFB29081A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BE66-6183-4133-B752-EBCFCC049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3E8B-8BCA-4319-B683-E2E109152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9346-19D1-43C3-92A5-3AD75E188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BD7E-EE77-4D99-A70A-2236D82F5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B92E-9AE5-40CD-BA7A-66F9F86F4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B5F7-E0EB-4F95-95C9-AB42FB7BB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A20D-C314-442D-9717-D815575B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10AC-8086-4DE7-AD5D-4DC531E32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A7A3E-B498-4A46-9D16-6A8CAF405F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morphic Phase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0720" y="20574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 from Igneous Phase 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 snapshot of all compositions at given T,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ck remains at same point but diagram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ifying Degrees of Freed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+ F = C +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F = 2, then P =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phases = number of com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nents = Si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F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FeO, CaO, MgO, 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,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, Ti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C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MnO, BaO, SrO,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,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F, 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ifying Compon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plot a maximum of three components using triangle dia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gnore Si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excess),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(excess or 0),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excess or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oes into apatite, N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into albite, Ti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o rutile or ilmenite, C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into chromite, F into fluorite or apatite, Cl into hal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MnO with FeO, BaO and SrO with CaO, F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A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FeO, Cl with 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tract major elements as necess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ifying Compon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nents reduced to 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FeO, CaO, MgO,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F graphs 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CaO, (FeO+ M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’KF graphs 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(FeO + MgO),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M graphs 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FeO, MgO,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in a tetrahed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CaO – MgO used for carbonat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ot Molar amounts, not we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morphic Phase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e lines denote two coexisting ph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angular subfields denote three coexisting ph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ase Diagram is snapshot of mineral combinations under given T,P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ution tracked by changes in 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really interested in amou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bonate Rocks at 450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Carb450"/>
          <p:cNvPicPr/>
          <p:nvPr/>
        </p:nvPicPr>
        <p:blipFill>
          <a:blip r:embed="rId1"/>
          <a:stretch/>
        </p:blipFill>
        <p:spPr>
          <a:xfrm>
            <a:off x="1371600" y="1133640"/>
            <a:ext cx="662940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morphic Phase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ly F = 2, C = 3, P =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a reaction curve, F = 1, P =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get 4 Phases Togeth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Phase Appears in Middle of F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Phase Appears on Tie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e Line Breaks and New One 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 in Metamorph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Minerals App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d Minerals Disapp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tibilities Shi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bonate Rocks at Low 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carb100"/>
          <p:cNvPicPr/>
          <p:nvPr/>
        </p:nvPicPr>
        <p:blipFill>
          <a:blip r:embed="rId1"/>
          <a:stretch/>
        </p:blipFill>
        <p:spPr>
          <a:xfrm>
            <a:off x="1295280" y="936720"/>
            <a:ext cx="6858000" cy="59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30592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00 C: New Phase on Tie Lin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Quartz + Brucite -&gt; Talc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MPDEV1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50 C: One Tie Line Replaced by Anoth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Quartz + Dolomite -&gt; Calcite + Tal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MPDEV2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 C: New Phase in Middle of Fiel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Quartz + Talc + Calcite -&gt; Tremoli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MPDEV3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hase Diagram for Wa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H2OPhase"/>
          <p:cNvPicPr/>
          <p:nvPr/>
        </p:nvPicPr>
        <p:blipFill>
          <a:blip r:embed="rId1"/>
          <a:stretch/>
        </p:blipFill>
        <p:spPr>
          <a:xfrm>
            <a:off x="2362320" y="914400"/>
            <a:ext cx="44575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F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ly most versatile and instructive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= (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F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– (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, +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tract A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K-spar and alb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= CaO - 3.3 *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tract Ca in apat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 = FeO + MgO + M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CF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acf000"/>
          <p:cNvPicPr/>
          <p:nvPr/>
        </p:nvPicPr>
        <p:blipFill>
          <a:blip r:embed="rId1"/>
          <a:stretch/>
        </p:blipFill>
        <p:spPr>
          <a:xfrm>
            <a:off x="838080" y="1447920"/>
            <a:ext cx="739152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’KF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’ = (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F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– (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, +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) – variable Ca (epidote, garnet, anorthi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 =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 = FeO + MgO + MnO – amount in diopside or hornble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inguishes K-feldspar and m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’KF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AKF000"/>
          <p:cNvPicPr/>
          <p:nvPr/>
        </p:nvPicPr>
        <p:blipFill>
          <a:blip r:embed="rId1"/>
          <a:stretch/>
        </p:blipFill>
        <p:spPr>
          <a:xfrm>
            <a:off x="914400" y="1523880"/>
            <a:ext cx="731520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F and A’KF Diagrams are often pai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M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s 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FeO, MgO,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-section through a tetrahed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where MgO and FeO don’t fully sub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include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because of m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= (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3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)/(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3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+FeO+M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 = MgO/ (FeO + M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 = FeO/ (FeO + M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M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afm000"/>
          <p:cNvPicPr/>
          <p:nvPr/>
        </p:nvPicPr>
        <p:blipFill>
          <a:blip r:embed="rId1"/>
          <a:stretch/>
        </p:blipFill>
        <p:spPr>
          <a:xfrm>
            <a:off x="914400" y="1600200"/>
            <a:ext cx="7315200" cy="48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M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afm001"/>
          <p:cNvPicPr/>
          <p:nvPr/>
        </p:nvPicPr>
        <p:blipFill>
          <a:blip r:embed="rId1"/>
          <a:stretch/>
        </p:blipFill>
        <p:spPr>
          <a:xfrm>
            <a:off x="1600200" y="1600200"/>
            <a:ext cx="617220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O-MgO-Si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carb000"/>
          <p:cNvPicPr/>
          <p:nvPr/>
        </p:nvPicPr>
        <p:blipFill>
          <a:blip r:embed="rId1"/>
          <a:stretch/>
        </p:blipFill>
        <p:spPr>
          <a:xfrm>
            <a:off x="1523880" y="1219320"/>
            <a:ext cx="61722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hase Rule (Gibbs, 192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9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ases (Distinct Materials or Sta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grees of Freedom (Independent Variabl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hase Rule and Phase Diagra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H2OPhase1"/>
          <p:cNvPicPr/>
          <p:nvPr/>
        </p:nvPicPr>
        <p:blipFill>
          <a:blip r:embed="rId1"/>
          <a:stretch/>
        </p:blipFill>
        <p:spPr>
          <a:xfrm>
            <a:off x="2286000" y="914400"/>
            <a:ext cx="44578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hase Diagram for Al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Al2SiO5Phase1"/>
          <p:cNvPicPr/>
          <p:nvPr/>
        </p:nvPicPr>
        <p:blipFill>
          <a:blip r:embed="rId1"/>
          <a:stretch/>
        </p:blipFill>
        <p:spPr>
          <a:xfrm>
            <a:off x="762120" y="1028880"/>
            <a:ext cx="777240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hase Diagram for 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IcePhase"/>
          <p:cNvPicPr/>
          <p:nvPr/>
        </p:nvPicPr>
        <p:blipFill>
          <a:blip r:embed="rId1"/>
          <a:stretch/>
        </p:blipFill>
        <p:spPr>
          <a:xfrm>
            <a:off x="1981080" y="1066680"/>
            <a:ext cx="48675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hase Diagram of Sil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SiO2Phase"/>
          <p:cNvPicPr/>
          <p:nvPr/>
        </p:nvPicPr>
        <p:blipFill>
          <a:blip r:embed="rId1"/>
          <a:stretch/>
        </p:blipFill>
        <p:spPr>
          <a:xfrm>
            <a:off x="1600200" y="11430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grees of Freed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ygen fuga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ifying Degrees of Freed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ly ignore pH, Eh, Oxygen fugacity for most r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 for sulfide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care about T,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P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=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silicates, P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P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silicates, P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P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= 0 and P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 in some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4T17:39:59Z</dcterms:created>
  <dc:creator>New User</dc:creator>
  <dc:description/>
  <dc:language>en-US</dc:language>
  <cp:lastModifiedBy>Dell</cp:lastModifiedBy>
  <dcterms:modified xsi:type="dcterms:W3CDTF">2011-10-05T23:46:01Z</dcterms:modified>
  <cp:revision>6</cp:revision>
  <dc:subject/>
  <dc:title>Metamorphic Phase Diagrams</dc:title>
</cp:coreProperties>
</file>