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661-B5C8-48D1-A85E-893AC509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957-3209-4197-8352-3BC706BC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1FB-A89C-452E-A2A2-05EC04CE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585-8CE0-4B2F-8EA3-5819892C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A23-AA09-43A1-A977-F05F8486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39E-0409-422C-8FF6-A4E86B11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354-EF80-4A04-B107-81B3EEEE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020-0B38-4FDA-A01C-94992141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D73-B49A-41A6-975E-4E7E4255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DCB-8BC3-4829-8253-51F1C883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48E-BDE2-4168-81C3-EE21C954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DCA-F431-49ED-82E7-07BAA54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E6E0-A489-4B15-9E41-640D0C471A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44953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nges in Rock Composition or Tex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ue to Heat, Pressure and Action of Flui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WhereToastGo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Don't Roc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"De-metamorphose"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Can't Reverse Because Ingredients Lo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Al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H)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3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y Mineral == Andalusite + Quartz + Water (Lo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ample of carbonate metamorph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lomite + Quartz == 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"Freeze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Does Happen if Fluid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ograde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surface we call it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liation is a sheetlike structure that forms when rocks are deform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990360"/>
            <a:ext cx="2666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at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in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al Mel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every case, the foli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direction of least resist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right angles to the direction of greatest compres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morphic Grade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 to Which the Rock Has Changed 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ften See Original Bed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ometimes Even See Deformed Fossi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High Grades, Rocks Can Often Lose All Trace of Their Original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MetCoal1"/>
          <p:cNvPicPr/>
          <p:nvPr/>
        </p:nvPicPr>
        <p:blipFill>
          <a:blip r:embed="rId1"/>
          <a:stretch/>
        </p:blipFill>
        <p:spPr>
          <a:xfrm>
            <a:off x="609480" y="380880"/>
            <a:ext cx="815364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etLimest1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Do Not Live at “Normal”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standards of Earth’s interior, we live in a frozen vacu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gs that look “abnormal” to us are normal behavior f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react chemically with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iven material can have several different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MetSandst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etBasalt1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etshal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Other Rock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etCgl1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Fac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1397160"/>
          <a:ext cx="8534160" cy="522432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447920"/>
                <a:gridCol w="182520"/>
                <a:gridCol w="808200"/>
                <a:gridCol w="1066680"/>
                <a:gridCol w="1066680"/>
                <a:gridCol w="9144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\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ol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 Metamorph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Andalusite fo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 - 3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chist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, Biot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, Staurolite, Kyan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u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 form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ovite breaks down to K-feldspa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 Mel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sch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km - 6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km - 9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km - 12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F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log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Mantl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field_trip_map_1"/>
          <p:cNvPicPr/>
          <p:nvPr/>
        </p:nvPicPr>
        <p:blipFill>
          <a:blip r:embed="rId1"/>
          <a:stretch/>
        </p:blipFill>
        <p:spPr>
          <a:xfrm>
            <a:off x="1295280" y="1219320"/>
            <a:ext cx="693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tle Ro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antleRx1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amorphism and 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METZONE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Changes in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s about 200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ide range of normal near-surface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the Heat Come fro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and Thori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ther Elements + Lead + Radiation (about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ssium-40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cium-40 or Argon-40 + Radiation (about 1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y some primordial heat (controvers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Does the Pressure Come from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Pressure = 14 P.s.i. (1 Atmosphere or 1 Bar = 100 kP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Beneath 10 Meters (33 Ft.) Of Water = 1 Atm. = 1 B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Pressure Beneath 3.5 m (10 ft.) Of 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n Deepest Part of Ocean = 1000 B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under One Mile of Rock = 500 B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0 Bars (2 Mi. or 3.5 km Of Rock) = 1 Kilobar (Kb.) = 100 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Newton (N) = gravitational attraction on 100 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Newton = 7 Fig Newt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(Pa) = 1 N/square me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 = pressure under thin cardboard or 0.1 mm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n section exerts about 1 Pa pressure on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bar = 1 atm = 100 kP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MPa = 10 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GPa = 10 kilo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Intrusions or Local Heat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Accompanied by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aring and fault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ra-high pressures and rapid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Happens During 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React to Form New Miner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rtz + Dolomite == Pyroxe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Chang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alusite == Kyani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Materials Are Added (Metasomat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Dolomite + Quart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in Solution == Ore Bod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rystal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ck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alu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im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 - 6 high pressure 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ond - Graph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- Arago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ridymite - Cristobalite (increasing temperatu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esite - Stishovite (increasing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19:48:41Z</dcterms:created>
  <dc:creator>Steven Dutch</dc:creator>
  <dc:description/>
  <dc:language>en-US</dc:language>
  <cp:lastModifiedBy>Dell</cp:lastModifiedBy>
  <dcterms:modified xsi:type="dcterms:W3CDTF">2011-10-05T23:40:39Z</dcterms:modified>
  <cp:revision>16</cp:revision>
  <dc:subject/>
  <dc:title>Metamorphism</dc:title>
</cp:coreProperties>
</file>