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755B-919F-4E46-AD64-7B399941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0679-4E20-4DF0-B101-35123000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CAA0-8186-448D-A2F7-8A362257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FEC2-43AD-4EE4-B383-ADAD4C4C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B6B8-495D-46F1-925F-AA06CE31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1472-355C-4439-B87F-3E94C8C9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7CA0-2583-4606-BA2F-CB830CA8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F552-706A-46A2-A565-9425B722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1244-9EB9-496A-B11B-651E0664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60C-09FB-4AC3-A38B-8D29A268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74CF-B619-4C1C-9A5C-8DE63EA0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67D0-9D28-402A-BEB0-75790A1D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137E-A2CF-4B4D-AAA5-CBB8735A3E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tamorph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449532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nges in Rock Composition or Tex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ue to Heat, Pressure and Action of Flui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WhereToastGo"/>
          <p:cNvPicPr/>
          <p:nvPr/>
        </p:nvPicPr>
        <p:blipFill>
          <a:blip r:embed="rId1"/>
          <a:stretch/>
        </p:blipFill>
        <p:spPr>
          <a:xfrm>
            <a:off x="304920" y="1371600"/>
            <a:ext cx="853416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y Don't Rock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"De-metamorphose"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tions Can't Reverse Because Ingredients Lo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Al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OH) == 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3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y Mineral == Andalusite + Quartz + Water (Los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xample of carbonate metamorphis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Mg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2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CaMg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2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lomite + Quartz == Pyroxene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Lo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tions "Freeze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it Does Happen if Fluids Pres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rograde Metamorph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the surface we call it weath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l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600200"/>
            <a:ext cx="266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liation is a sheetlike structure that forms when rocks are deformed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19112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ol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990360"/>
            <a:ext cx="2666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latt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in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Miner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tial Mel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ea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19112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2743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ol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440" y="1600200"/>
            <a:ext cx="3048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every case, the foliation 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the direction of least resist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 right angles to the direction of greatest compress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419112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tamorphic Grade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gree to Which the Rock Has Changed 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Often See Original Bed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Sometimes Even See Deformed Fossi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High Grades, Rocks Can Often Lose All Trace of Their Original Appea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MetCoal1"/>
          <p:cNvPicPr/>
          <p:nvPr/>
        </p:nvPicPr>
        <p:blipFill>
          <a:blip r:embed="rId1"/>
          <a:stretch/>
        </p:blipFill>
        <p:spPr>
          <a:xfrm>
            <a:off x="609480" y="380880"/>
            <a:ext cx="815364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MetLimest1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 Do Not Live at “Normal” Condi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440" y="19810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the standards of Earth’s interior, we live in a frozen vacu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gs that look “abnormal” to us are normal behavior for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ds can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ds can react chemically with each 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iven material can have several different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MetSandst1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MetBasalt1"/>
          <p:cNvPicPr/>
          <p:nvPr/>
        </p:nvPicPr>
        <p:blipFill>
          <a:blip r:embed="rId1"/>
          <a:stretch/>
        </p:blipFill>
        <p:spPr>
          <a:xfrm>
            <a:off x="380880" y="380880"/>
            <a:ext cx="822960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Metshale1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bout Other Rock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MetCgl1"/>
          <p:cNvPicPr/>
          <p:nvPr/>
        </p:nvPicPr>
        <p:blipFill>
          <a:blip r:embed="rId1"/>
          <a:stretch/>
        </p:blipFill>
        <p:spPr>
          <a:xfrm>
            <a:off x="1066680" y="1219320"/>
            <a:ext cx="71629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morphic Fac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04920" y="1397160"/>
          <a:ext cx="8534160" cy="5224320"/>
        </p:xfrm>
        <a:graphic>
          <a:graphicData uri="http://schemas.openxmlformats.org/drawingml/2006/table">
            <a:tbl>
              <a:tblPr/>
              <a:tblGrid>
                <a:gridCol w="1752480"/>
                <a:gridCol w="1295280"/>
                <a:gridCol w="1447920"/>
                <a:gridCol w="182520"/>
                <a:gridCol w="808200"/>
                <a:gridCol w="1066680"/>
                <a:gridCol w="1066680"/>
                <a:gridCol w="914400"/>
              </a:tblGrid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th\Te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eol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ct Metamorphis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Andalusite for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km - 3 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chist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, Biotite for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, Staurolite, Kyanite for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ulit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 form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covite breaks down to K-feldspa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 Melt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esch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km - 6 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km - 9 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km - 12 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F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log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Mantl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morphic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field_trip_map_1"/>
          <p:cNvPicPr/>
          <p:nvPr/>
        </p:nvPicPr>
        <p:blipFill>
          <a:blip r:embed="rId1"/>
          <a:stretch/>
        </p:blipFill>
        <p:spPr>
          <a:xfrm>
            <a:off x="1295280" y="1219320"/>
            <a:ext cx="69343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ntle Roc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MantleRx1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tamorphism and Plate Tecton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METZONE"/>
          <p:cNvPicPr/>
          <p:nvPr/>
        </p:nvPicPr>
        <p:blipFill>
          <a:blip r:embed="rId1"/>
          <a:stretch/>
        </p:blipFill>
        <p:spPr>
          <a:xfrm>
            <a:off x="533520" y="16002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ical Changes in R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th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Su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e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dimentary Ro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morph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s about 200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side range of normal near-surface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ere Does the Heat Come fro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 and Thoriu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ther Elements + Lead + Radiation (about 9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ssium-40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lcium-40 or Argon-40 + Radiation (about 1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y some primordial heat (controversi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re Does the Pressure Come from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 Pressure = 14 P.s.i. (1 Atmosphere or 1 Bar = 100 kPa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Beneath 10 Meters (33 Ft.) Of Water = 1 Atm. = 1 B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e Pressure Beneath 3.5 m (10 ft.) Of Roc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in Deepest Part of Ocean = 1000 Ba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under One Mile of Rock = 500 B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00 Bars (2 Mi. or 3.5 km Of Rock) = 1 Kilobar (Kb.) = 100 M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sure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Newton (N) = gravitational attraction on 100 gr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Newton = 7 Fig Newt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Pascal (Pa) = 1 N/square me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Pascal  = pressure under thin cardboard or 0.1 mm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Thin section exerts about 1 Pa pressure on the sl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bar = 1 atm = 100 kP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MPa = 10 b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GPa = 10 kilob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ypes of Metamorph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4479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ound Intrusions or Local Heat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g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Accompanied by De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tacl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aring and fault z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ltra-high pressures and rapid de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Happens During Metamorph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nerals React to Form New Miner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CaMg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CaMg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2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rtz + Dolomite == Pyroxe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nerals Change 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alusite == Kyani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9807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w Materials Are Added (Metasomatis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Mg(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 2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CaMg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2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yroxene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Dolomite + Quart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nerals in Solution == Ore Bod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rystal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tacla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hock Metamorph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lymorph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alus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ya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lima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e - 6 high pressure for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mond - Graphi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ite - Arago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z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Tridymite - Cristobalite (increasing temperatur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oesite - Stishovite (increasing pressu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9T19:48:41Z</dcterms:created>
  <dc:creator>Steven Dutch</dc:creator>
  <dc:description/>
  <dc:language>en-US</dc:language>
  <cp:lastModifiedBy>Dell</cp:lastModifiedBy>
  <dcterms:modified xsi:type="dcterms:W3CDTF">2011-10-05T23:40:39Z</dcterms:modified>
  <cp:revision>16</cp:revision>
  <dc:subject/>
  <dc:title>Metamorphism</dc:title>
</cp:coreProperties>
</file>