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590-AE68-45D9-95B1-F4F27390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D04-7646-41FD-AD2D-9962DDEC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BFD-A927-456B-9075-FE333597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C6F-F972-4EE6-80C7-DFB0944C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0FF-7514-4E75-B6A0-CB77B388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BE0-AE05-4738-A171-9495A12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411-823C-4B9E-ADA5-2F544638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F30-8544-49C8-98FF-C45C27B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BC2-5C43-4E87-8DFC-D3A5D4D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F1E-9D97-49E6-86B5-18B881AB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7BC-C57A-4B61-AB2E-62430BF5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093-E1EA-4BF6-892B-9DEA1152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D3B0-B609-4CCC-806B-DCEDDBAE0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WhereToastGo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Dell</cp:lastModifiedBy>
  <dcterms:modified xsi:type="dcterms:W3CDTF">2011-10-05T23:40:39Z</dcterms:modified>
  <cp:revision>16</cp:revision>
  <dc:subject/>
  <dc:title>Metamorphism</dc:title>
</cp:coreProperties>
</file>