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B73-73D1-479B-BBCC-70B62571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4AD-C77F-4BCE-9C86-135E0FB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57C-0551-4B0C-B9F1-0137C8B9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DEE-273C-4B62-A68B-B269CE7D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41B-8301-48EE-9F8B-59330904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67A-6B17-4428-879A-4ECBC62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5E2-CC06-4F8E-B07A-F7AD2E6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432-8AAD-45C2-A182-4E55DD2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731-FF0E-44F6-9C60-874F59A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A3B-5816-41E9-9448-5DE8989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221-7141-4EE2-B3E4-C4307F3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38C-77F6-4DC2-AD78-A5BA662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94D4-13D1-4527-A4F9-426B16700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WhereToastGo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Dell</cp:lastModifiedBy>
  <dcterms:modified xsi:type="dcterms:W3CDTF">2011-10-05T23:40:39Z</dcterms:modified>
  <cp:revision>16</cp:revision>
  <dc:subject/>
  <dc:title>Metamorphism</dc:title>
</cp:coreProperties>
</file>