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05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4121280" y="0"/>
            <a:ext cx="3208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9155160"/>
            <a:ext cx="320508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F641-5F8D-4EAE-8649-AF7319B1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951C-6EFE-4796-8BB6-16BD07094A0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A43F-3AA7-4683-BD41-E0332D38346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Hand-Generator-Powered Heat P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8D6F-F89A-4704-A66A-9CB5E5E7941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nimation: Hot box, Cold box, Entropy block, and Entropy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6D1D-4D97-4D65-B5EE-DD94FEE7848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Liquid Nitrogen Evapo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C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Cylinder Making Dry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325F-3CB2-4CE1-B534-61B6721C13B5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Pump Air into a Gallon Jug with Thermo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DB8D-7544-4EB2-8380-7526FF62180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4121280" y="9155160"/>
            <a:ext cx="3208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A398-1D75-4084-A7A5-1B8B7DF67FA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307800" y="687240"/>
            <a:ext cx="6715440" cy="503568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151920" y="5951160"/>
            <a:ext cx="70246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Pump Air into a Gallon Jug with Thermometer and Pop the 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monstration: Air Conditioner/Refrigerator/Dehumidifier Opened and Ope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719-9540-46D0-A63A-50EEE32C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EE6-7E95-47C3-99F8-02500B27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02D04-8EDF-4D33-8E4A-7BEA1FE2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9FAD9-35D6-44CD-9E75-AEDE590C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E0908-3213-43D9-B8DA-E02E2D02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54B4C-35FB-4519-93EF-CA07594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68335-A9DD-4B92-898B-9CF654B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3B3BB-756C-4ED9-9E30-57E3CD5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FFB49-6C49-4DDB-9F6C-9ABE12E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4307B-0003-4430-9DD8-13534934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305B9-E84D-41EB-B023-7CCB3B5A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FC022-E735-4000-97C1-50A90FE0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1EA-144A-477A-A49C-1706BCBC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A7F3D-A584-43CD-968A-1D7B8BAC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47D50-4D05-4A16-978E-6CDA0D94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E0AE0-CD88-4C7D-8C6F-8F2D4E6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A1097-BE26-43D0-9DE1-0C77A2CD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89FC5-F527-4342-B204-155299AC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8A284-019B-46B5-8CA7-93639E6B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BF9A-8DB1-440E-BB84-97D1A5E9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5EBA3-8BB9-4D0F-85F9-AB06C19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3389-B34D-4612-A669-CF9D314A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1A8BB-E3AD-4580-8C78-F4C621A7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911-C395-4050-B0CF-517E7C30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7EDC0-C64B-4D20-A10C-848A3C7A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EACDD-C7F4-47C6-80B9-8660DE6C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3915E-EEF0-461E-9635-8E1FD4B3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C9FAF-110A-4568-8C77-3B178AEB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5C37-D59B-4384-AD00-8792880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E8AF-00FE-47A0-A965-BF4BE2A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91FB7-1260-4EBD-AFDD-17C2FF60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F6898-E09B-4E89-9E82-A08658F3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5B6C2-D8DC-4797-BE2C-EF39C0BF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80EC6-59C5-473E-83D5-D58FCDC2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3686-DC8C-4E59-B406-699B7DBB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33ECD-2CB1-4605-9955-8024E126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2B709-543E-4683-85F7-DCA00D5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0B3B-2017-4DA0-BAD4-6E95C3C1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D8C2-1FEC-4D52-80CE-E44B226B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E183C-409D-42B3-A74E-AC62AD3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1B667-B359-43C1-B1CD-1F29DBB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E872C-46E5-4F61-B0FD-5C450BC7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7A6D3-A473-4403-BE21-EEE7FB17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9E358-0F34-4C6A-BCB1-DF7D3EEC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2DF48-B14A-4126-8280-79CEAD0D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31C-2C6E-4B0C-AD81-6A9CDDB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4487F-D83F-444C-95C1-0EE7F157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859A9-31E4-4AB5-AD3F-81D149BC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7BE41-F0DF-44A1-A4C9-23C83E12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F9C9D-DCCD-420F-B757-031DEB52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E992C-98BF-4F9D-B7EE-3DA961F9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0065-FBEC-4FD7-9B26-2CD28873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948C-13FB-4FB1-B9AE-C82A9EB5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F21E-B9E3-424C-B44E-88AC2CA3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4CB3-ABFB-468C-970A-F609B064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4DB6-DFE1-4421-8B20-D87DFE26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067-1F3F-47D5-A30B-438EE794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B4AB-3910-4A27-B122-E2A4282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B9BB-BA6A-49DE-AD56-AC59A12C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2604-581B-4182-BDAC-04565E25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2D8C-C84D-4CF8-9954-861A43BC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DCAC-A63E-4063-9C54-64D18A11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9B7C-B9E7-499A-B900-4980178A0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62BA-0A7E-48D0-AA01-04D1ADF2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4E154-2DEE-4F9E-9964-F8A7C132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2E05-089F-435F-9A36-DC9563A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0707-9C6A-4CA6-8541-3D6A21FB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8A8-2474-473B-9FED-25C2AB97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DDCD-56D3-4603-B7C1-FE3DB31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ADB84-CF56-4ACE-81BF-70E5B4A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34003-C686-4AB6-92C2-1A604D2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70141-1061-49FE-8EC9-591C9B4F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4080-A85E-494E-A192-3390ED59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091C-F9F0-4AFB-89EC-4A00AFEF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E532-77DF-47D5-8435-2AE4305C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E454-A7FD-4432-8A1C-9DD659D2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D581-39C3-49B7-BA9A-CAAB849A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7CD9-5B70-428B-8CE0-3FA199A2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53C-CB7B-4F26-9631-AB4F580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1CA91-04ED-4479-969D-F8A41BC9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11CBD-F88C-459D-8786-85B1F3DF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EB0E-2455-4B89-A5DF-B4DACC3F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E7B93-9C9E-4D3F-A546-DE2C4988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947D-4CA4-43B3-9872-C6D8628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7A2CB-0328-46BF-86D5-ECC2817B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FC620-E610-4EAE-9140-CE243A0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B7ACD-8450-4231-ADD4-365B34F8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2A9F-A15B-45CD-94CD-B9F93A80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4AAA1-B6A9-41A6-A9C4-AD0C8CAA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3F6-6D4E-40A7-8F59-C7F78D63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058D4-7319-44DF-8A0C-4531AA98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9AB9-7A16-4690-B8EE-95339D60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A25E-98BA-4EB3-A9ED-B3837090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9FFB-41A4-4964-8280-A4BFB00F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47C59-6145-4BEC-A5FC-D5F2519E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98439-365E-461C-9A3B-D8CB3163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6265-5D75-4896-8877-6887FB4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A8C5-50C5-4B79-9108-0215DFB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3E179-ADDC-4E5A-AFBF-FC809164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609B-87A9-41E5-887A-DDECD223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ED7-DF93-4DC1-BD5A-1F14FF1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E5F9-7AA9-41AC-A781-9B895706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4565-1279-4D8E-AAA1-9E114DF7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8A0D-7C1B-4BF3-B2B0-EEDA00FB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E180D-CAA5-42AB-9062-7A9568F1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E351-64AE-4477-99A0-F167DDD7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601F9-F6D0-466B-AA74-717764E8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40F0-86B0-4A1C-A60A-34285F0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29F25-8DA7-4AAE-9707-24CA1C9A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CC3CE-F35E-45EF-8AF0-897FB6D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6A2A4-6BF5-4180-8A46-166EC6A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F1E-B81A-45C3-AC3D-D5685F93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A279-601B-462E-848A-AC3AF46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8EE0-DFB4-4F60-B047-D62F09F3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1014-85D6-42F7-BE47-3C152971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2EF72-908C-4ED8-A96E-36DE6C64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0CD13-F93A-4751-B45B-C59F3594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2DF5F-CBD5-4182-A25A-2AA6140E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8C929-963D-4D46-BCD4-B216CDD9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38569-1F33-4025-B459-14547649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F3EE9-E8B2-436E-BF23-ADF81C71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67F45-74DA-4D94-90CC-0DF8A3D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500-7199-431B-87D0-8D643648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14946-4C9E-4BC0-A7A2-D6BB17C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CAC01-511E-4D0D-B4BE-05602C04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9C6D8-EE15-4043-8DC5-314D922E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76449-9BD7-4AC6-A941-137ED4C7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B788E-1782-4834-B57B-04BED332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B73BD-C795-443F-9FCC-B3462139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36C46-FEAA-4B44-931B-67FFC58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52802-9627-4EA7-A528-651B8B8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7A699-4DBD-4672-9579-3A1F9E9F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0DEFE-D9A3-449F-BFE4-0F61D63E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58E-A68F-4206-9164-99BA6F8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FE0B5-682E-45F8-9A5D-90E67D7D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9D731-6C4C-49FB-9ADB-B0BE75B1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EFB6-ED7F-48D5-A64B-791C417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F8B55-7706-4487-9DBA-61E8E09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15F37-D8A7-4494-81E7-E78E5299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0FE14-5751-4852-9AA0-A95C1F7D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F389-AB74-4690-9D5A-38592F45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0D2F7-AD0A-4AED-AFE2-CB78BCB9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42BAA-3556-43FD-A93C-FE78448E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E1EAB-569F-482B-9D03-E7CFC214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BB2-5183-4FB8-8BF5-98CEE8B6A878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D9B-E61A-4D8D-994B-D86707956C8B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7"/>
          <p:cNvSpPr/>
          <p:nvPr/>
        </p:nvSpPr>
        <p:spPr>
          <a:xfrm>
            <a:off x="304920" y="763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e503"/>
                </a:solidFill>
                <a:latin typeface="Arial"/>
              </a:rPr>
              <a:t>Air Conditioners </a:t>
            </a:r>
            <a:fld id="{FC19AB71-19EC-4EFB-BFDF-A5FE9DDC9EBC}" type="slidenum">
              <a:rPr b="0" i="1" lang="en-US" sz="1400" spc="-1" strike="noStrike">
                <a:solidFill>
                  <a:srgbClr val="e5e50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مستطيل 18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رابط مستقيم 19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مجموعة 20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22" name="رابط مستقيم 23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رابط مستقيم 24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رابط مستقيم 25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مجموعة 26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26" name="رابط مستقيم 27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رابط مستقيم 28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رابط مستقيم 29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" name="مجموعة 30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30" name="رابط مستقيم 31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رابط مستقيم 32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رابط مستقيم 33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3EBF-96D2-4C33-BE5C-A801FE589526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FB04-29CB-4513-B68B-72607F2332B4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658E-661D-4615-B436-F91E350F4E42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6FB1-DB47-4F92-A927-2820DAF10F2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668-097E-46FC-A9C4-351A8D72E84F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6D83-F3C4-44FB-A502-DDF823FFD9B7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مستطيل 18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مستطيل 28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AF5A-B49D-414C-B72E-E39F266F4B33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0BE5-4EE1-48BA-82F1-79D4AF51889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FFDC-3B83-48A5-9DDB-0881CA45C0AE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930-3C4B-4D5A-AC5A-BD37A6E7EE1C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شكل حر 18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00ff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شكل حر 19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00fff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شكل حر 20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101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شكل حر 23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شكل حر 24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شكل حر 25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شكل حر 26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شكل حر 27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شكل حر 28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شكل حر 29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شكل حر 30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شكل حر 31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شكل حر 32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شكل حر 33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0505e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شكل حر 34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101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مستطيل 35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101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مستطيل 36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مستطيل 37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مستطيل 38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مستطيل 39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مستطيل 40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D12-3BDA-45DA-83F2-F86315663596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F6BE-6A98-4DF8-AD2E-4BC6AA94EC0B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2AC-5E99-4565-830E-B48A9233DE2B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4BC8-8C06-4282-B376-E665D21652FE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مستطيل 18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101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مستطيل 19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مستطيل 20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مستطيل 23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مستطيل 24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مستطيل 25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مستطيل 26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مستطيل 27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مستطيل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مستطيل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4D2-0232-4FCB-B27B-722C723AD27E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8DDF-25F2-440C-8392-D52AF1D1402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B4CE-2237-4E74-A5D3-4967E7038CF0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A2B-106B-4C4C-ADA0-4A2E3C4ACF78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D5BB-F460-4D9B-A830-40FE3D566273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E71-88B6-4682-9C32-907FB0936BB8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aaaac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aa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BAE-F2C3-429A-85AF-896872B52A4E}" type="datetime"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275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5e503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e5e5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333-EADE-457C-BBFB-AF54A252E906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wams@ksu.edu.sa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33"/>
                </a:solidFill>
                <a:latin typeface="Corbel"/>
              </a:rPr>
              <a:t>Dr.Salwa Alsale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ff"/>
                </a:solidFill>
                <a:uFillTx/>
                <a:latin typeface="Corbel"/>
                <a:hlinkClick r:id="rId1"/>
              </a:rPr>
              <a:t>Salwams@ksu.edu.sa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ac.ksu.edu.sa/salwa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WordArt 1027"/>
          <p:cNvSpPr txBox="1"/>
          <p:nvPr/>
        </p:nvSpPr>
        <p:spPr>
          <a:xfrm>
            <a:off x="1295280" y="1295280"/>
            <a:ext cx="6477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rmal &amp; Statistical Phys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HYS 343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Entropy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44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Entropy is measure of object’s disor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Corbel"/>
              </a:rPr>
              <a:t>Includes both thermal and structural disorde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Isolated system’s disorder never decre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But entropy can move or be transferr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56F6-2483-431D-8161-C70034B6BC3F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nd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Law about </a:t>
            </a: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Disorder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 (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Entropy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Entropy of a thermally isolated system never decreases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167-BB6F-47B0-A5FD-A80BF4CD26A4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3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rd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Entropy and Temperatur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An object’s entropy approaches zero as its temperature approaches absolute zero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FCDC-3A80-4EAD-BB03-65552488A5EF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More on the 2nd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According to the 2nd Law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Entropy of a thermally isolated system can’t decrea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But entropy can be redistributed within the system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Part of the system can become hotter while another part becomes colder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5566-B90C-4CEC-A937-C45DCD732D79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Natural Heat Flo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naturally flows from hot to col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Removing heat from a hot object,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</a:t>
            </a: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ntropy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dding heat to a cold object, </a:t>
            </a:r>
            <a:r>
              <a:rPr b="0" lang="en-US" sz="26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600" spc="-1" strike="noStrike">
                <a:solidFill>
                  <a:srgbClr val="ffff00"/>
                </a:solidFill>
                <a:latin typeface="MS Shell Dlg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Entropy of combined system increas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1 J of thermal energy is more disordering to a cold object than to a hot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A6D0-DC79-40E9-8A32-2FB2AF1EFE3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Unnatural Heat Flo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Heat can’t naturally flow from cold to h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Removing heat from cold object,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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Adding heat to hot object,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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 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More entropy removed than add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80400" indent="-26280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Energy is conserved, but </a:t>
            </a:r>
            <a:r>
              <a:rPr b="1" lang="en-US" sz="2600" spc="-1" strike="noStrike">
                <a:solidFill>
                  <a:srgbClr val="99ffcc"/>
                </a:solidFill>
                <a:latin typeface="Symbol"/>
                <a:ea typeface="Symbol"/>
              </a:rPr>
              <a:t></a:t>
            </a:r>
            <a:r>
              <a:rPr b="1" lang="en-US" sz="2600" spc="-1" strike="noStrike">
                <a:solidFill>
                  <a:srgbClr val="99ffcc"/>
                </a:solidFill>
                <a:latin typeface="Corbel"/>
              </a:rPr>
              <a:t> total entrop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To save 2nd law, we need more entrop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Ordered energy must become disorder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A425-364B-481D-BF3D-2DD6D973DE35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s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Moves heat against its natural f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Flows from cold room air to hot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Converts ordered into dis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Doesn’t decrease the world’s total entropy!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Uses fluid to transfer heat – working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luid absorbs heat from cool room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Fluid releases heat to warm outside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869-9222-4224-80A5-C1DD1FACC2DD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s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Evaporator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i="1" lang="en-US" sz="3000" spc="-1" strike="noStrike">
                <a:solidFill>
                  <a:srgbClr val="ffff00"/>
                </a:solidFill>
                <a:latin typeface="Corbel"/>
              </a:rPr>
              <a:t>– </a:t>
            </a:r>
            <a:r>
              <a:rPr b="1" i="1" lang="en-US" sz="3000" spc="-1" strike="noStrike">
                <a:solidFill>
                  <a:srgbClr val="99ffcc"/>
                </a:solidFill>
                <a:latin typeface="Corbel"/>
              </a:rPr>
              <a:t>located in room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transfers heat from room air 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Condenser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 – 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transfers heat from fluid 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ffff"/>
                </a:solidFill>
                <a:latin typeface="Corbel"/>
              </a:rPr>
              <a:t>Compressor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 – 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does work on fluid and creates entropy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A94C-8067-4BA6-99DE-FD20FC2AE645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tantia"/>
              </a:rPr>
              <a:t>Evaporator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2514240"/>
            <a:ext cx="77724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Heat exchanger made from long metal pip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Fluid approaches evaporat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s a high pressure liquid near room tempera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A constriction reduces the fluid’s press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rbel"/>
              </a:rPr>
              <a:t>Fluid enters evaporato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s a low pressure liquid near room temperatu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001-4978-403A-AAD1-C1A245F303F5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Evaporator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evaporates in the evapor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Breaking bonds uses thermal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Fluid becomes colder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Heat flows from room air in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evapor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s a low pressure gas near room temp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has left the room</a:t>
            </a: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91F-37CF-44F0-932D-3BB8CDFF5B10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comic"/>
              </a:rPr>
              <a:t>                    </a:t>
            </a:r>
            <a:r>
              <a:rPr b="0" lang="en-US" sz="4000" spc="-1" strike="noStrike">
                <a:solidFill>
                  <a:srgbClr val="ffc000"/>
                </a:solidFill>
                <a:latin typeface="comic"/>
              </a:rPr>
              <a:t>Lecture 13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050920" y="3276720"/>
            <a:ext cx="464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" spc="-1" strike="noStrike">
                <a:solidFill>
                  <a:srgbClr val="33cc33"/>
                </a:solidFill>
                <a:latin typeface="Corbel"/>
                <a:ea typeface="Tahoma"/>
              </a:rPr>
              <a:t>    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tantia"/>
              </a:rPr>
              <a:t>Air Conditioners</a:t>
            </a:r>
            <a:r>
              <a:rPr b="1" i="1" lang="en-US" sz="3600" spc="-1" strike="noStrike">
                <a:solidFill>
                  <a:srgbClr val="00ff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00"/>
                </a:solidFill>
                <a:latin typeface="Constantia"/>
              </a:rPr>
              <a:t>   </a:t>
            </a:r>
            <a:r>
              <a:rPr b="1" i="1" lang="en-US" sz="3000" spc="-1" strike="noStrike">
                <a:solidFill>
                  <a:srgbClr val="00ff00"/>
                </a:solidFill>
                <a:latin typeface="Constantia"/>
              </a:rPr>
              <a:t>Air Condit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5e503"/>
                </a:solidFill>
                <a:latin typeface="Constantia"/>
              </a:rPr>
              <a:t>    </a:t>
            </a:r>
            <a:r>
              <a:rPr b="1" i="1" lang="en-US" sz="2800" spc="-1" strike="noStrike">
                <a:solidFill>
                  <a:srgbClr val="e5e503"/>
                </a:solidFill>
                <a:latin typeface="Constantia"/>
              </a:rPr>
              <a:t>Air Condition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Constantia"/>
              </a:rPr>
              <a:t>       </a:t>
            </a:r>
            <a:r>
              <a:rPr b="1" i="1" lang="en-US" sz="2400" spc="-1" strike="noStrike">
                <a:solidFill>
                  <a:srgbClr val="ff0066"/>
                </a:solidFill>
                <a:latin typeface="Constantia"/>
              </a:rPr>
              <a:t>Air Condition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ffff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i="1" lang="en-US" sz="800" spc="-1" strike="noStrike">
                <a:solidFill>
                  <a:srgbClr val="00ff00"/>
                </a:solidFill>
                <a:latin typeface="Corbel"/>
              </a:rPr>
              <a:t>   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600" spc="-1" strike="noStrike">
                <a:solidFill>
                  <a:srgbClr val="ffc000"/>
                </a:solidFill>
                <a:latin typeface="Corbel"/>
                <a:ea typeface="Tahoma"/>
              </a:rPr>
              <a:t>                      </a:t>
            </a: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marL="171720" indent="-1717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cc33"/>
                </a:solidFill>
                <a:latin typeface="Corbel"/>
              </a:rPr>
              <a:t>                     </a:t>
            </a:r>
            <a:r>
              <a:rPr b="0" lang="ar-SA" sz="800" spc="-1" strike="noStrike">
                <a:solidFill>
                  <a:srgbClr val="33cc33"/>
                </a:solidFill>
                <a:latin typeface="Corbel"/>
                <a:ea typeface="Tahom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67" name="Picture 10" descr="newton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mpressor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enters compress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a low pressure gas near room temp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mpressor does work on fluid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Pushes gas inward as the gas moves inwar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Gas temperature rises (first law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Ordered energy becomes dis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compress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hot, high pressure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986-C736-48D9-9D78-95DD176A4405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ndenser, Part 1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exchanger made from metal pi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Fluid enters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a hot, high pressure g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heat flows from fluid 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DAA-9F0C-4AAF-AA48-F94B90E841E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Condenser, Part 2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ing Fluid condenses in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forming bonds releases thermal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Fluid becomes hotter liq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More heat flows from fluid into outside ai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Fluid leaves conden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s high-pressure room-temperature liq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has reached the outside air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82E8-CF57-4C2B-857E-5F92408E5F7A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Air conditioner Overvie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Evaporato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room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ransfers heat from room air to flui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mpresso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does work on fluid, so fluid gets hott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ndenser</a:t>
            </a: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 </a:t>
            </a:r>
            <a:r>
              <a:rPr b="1" lang="en-US" sz="3000" spc="-1" strike="noStrike">
                <a:solidFill>
                  <a:srgbClr val="66ffff"/>
                </a:solidFill>
                <a:latin typeface="Corbel"/>
              </a:rPr>
              <a:t>– </a:t>
            </a:r>
            <a:r>
              <a:rPr b="1" lang="en-US" sz="3000" spc="-1" strike="noStrike">
                <a:solidFill>
                  <a:srgbClr val="ccffff"/>
                </a:solidFill>
                <a:latin typeface="Corbel"/>
              </a:rPr>
              <a:t>located in outside ai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ransfers heat from fluid to outside air,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including thermal energy extracted from inside ai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nd thermal energy added by compresso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07C5-42C4-45D1-806A-7D3150C0B892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If you operate a window air conditioner on a table in the middle of a room, the average temperature in the room w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col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ho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y the s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EDB7-06D2-46AC-846A-4F6C359DA181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Summary About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Air Conditioners</a:t>
            </a:r>
            <a:endParaRPr b="0" lang="en-US" sz="36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pump heat from cold to h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don’t violate thermodynam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consume ordered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ey are most efficient for small temperature differenc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6948-0F84-468D-8B51-0F3FA6DCBF32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Question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If you operate a window air conditioner on a table in the middle of a room, the average temperature in the room w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cold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become hot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09480" indent="-609480">
              <a:spcBef>
                <a:spcPts val="700"/>
              </a:spcBef>
              <a:buClr>
                <a:srgbClr val="e5e503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y the sa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87F-0E02-4052-A78E-FD803F661C2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Observations About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Consolas"/>
              </a:rPr>
              <a:t>Air Conditioners</a:t>
            </a:r>
            <a:endParaRPr b="0" lang="en-US" sz="36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040" y="17845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ool room air on hot da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emit hot air from their outside vent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onsume lots of electric pow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are less efficient on hotter day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They can sometimes heat houses, to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A6C4-F8E5-483B-8960-2929F195E24A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Heat Machines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Air conditione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use work to transfer heat from cold to ho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re a type of heat pump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ff"/>
                </a:solidFill>
                <a:latin typeface="Corbel"/>
              </a:rPr>
              <a:t>Automobi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use flow of heat from hot to cold to do wor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are a type of heat eng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D94-4D83-4DCC-AE12-FA1E36900183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Thermodynamics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440" y="2514600"/>
            <a:ext cx="80773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Rules governing thermal energy f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Relationships betwe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hermal energy and mechanical work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00fff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disordered energy and ordered energ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Codified in four laws of thermodynam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47CE-AF87-42BD-AB96-A39EE10659B4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0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Consolas"/>
              </a:rPr>
              <a:t>th</a:t>
            </a: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Thermal Equilibriu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“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If two objects are in thermal equilibrium with a third object, then they are in thermal equilibrium with each other.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0B52-582C-4D53-B2AE-09FB9683FE60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1st Law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ffff"/>
                </a:solidFill>
                <a:latin typeface="Corbel"/>
              </a:rPr>
              <a:t>Law about Conservation of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Corbel"/>
              </a:rPr>
              <a:t>Change in internal energy equals heat in minus work out</a:t>
            </a:r>
            <a:r>
              <a:rPr b="1" i="1" lang="en-US" sz="3000" spc="-1" strike="noStrike">
                <a:solidFill>
                  <a:srgbClr val="ff0000"/>
                </a:solidFill>
                <a:latin typeface="Corbe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rbel"/>
              </a:rPr>
              <a:t>wher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cc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nternal energy: thermal + stored energi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Heat in:  heat transferred into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Work out:  external work done by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5D0-0369-4FC4-8B27-881E45CAD3D8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nsolas"/>
              </a:rPr>
              <a:t>Order versus Disorder</a:t>
            </a:r>
            <a:endParaRPr b="0" lang="en-US" sz="4000" spc="-1" strike="noStrike">
              <a:solidFill>
                <a:srgbClr val="ffff00"/>
              </a:solidFill>
              <a:latin typeface="Consolas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t is easy to convert ordered energy into thermal (disordered)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It is hard to converting thermal energy into ordered energ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5e50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rbel"/>
              </a:rPr>
              <a:t>Statistically, order to disorder is one-wa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عنصر نائب للتذييل 6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275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5e503"/>
                </a:solidFill>
                <a:latin typeface="Times New Roman"/>
                <a:ea typeface="Tahoma"/>
              </a:rPr>
              <a:t>342 phys- Dr.S.Al Sale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عنصر نائب لرقم الشريحة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e5e503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33ED-1256-49BE-8ECA-9FAE4B249C4B}" type="slidenum">
              <a:rPr b="0" lang="en-US" sz="1200" spc="-1" strike="noStrike">
                <a:solidFill>
                  <a:srgbClr val="e5e50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1T19:25:18Z</dcterms:created>
  <dc:creator>Louis Bloomfield</dc:creator>
  <dc:description/>
  <dc:language>en-US</dc:language>
  <cp:lastModifiedBy>Salwa Alsaleh</cp:lastModifiedBy>
  <cp:lastPrinted>1999-11-12T15:17:42Z</cp:lastPrinted>
  <dcterms:modified xsi:type="dcterms:W3CDTF">2017-04-08T15:24:30Z</dcterms:modified>
  <cp:revision>164</cp:revision>
  <dc:subject/>
  <dc:title>How Things Work</dc:title>
</cp:coreProperties>
</file>