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20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dt" idx="37"/>
          </p:nvPr>
        </p:nvSpPr>
        <p:spPr>
          <a:xfrm>
            <a:off x="4121280" y="0"/>
            <a:ext cx="32083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sldImg"/>
          </p:nvPr>
        </p:nvSpPr>
        <p:spPr>
          <a:xfrm>
            <a:off x="307800" y="687240"/>
            <a:ext cx="6715440" cy="503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body"/>
          </p:nvPr>
        </p:nvSpPr>
        <p:spPr>
          <a:xfrm>
            <a:off x="151920" y="5951160"/>
            <a:ext cx="702468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ftr" idx="38"/>
          </p:nvPr>
        </p:nvSpPr>
        <p:spPr>
          <a:xfrm>
            <a:off x="-360" y="9155160"/>
            <a:ext cx="320508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 type="sldNum" idx="39"/>
          </p:nvPr>
        </p:nvSpPr>
        <p:spPr>
          <a:xfrm>
            <a:off x="4121280" y="9155160"/>
            <a:ext cx="320832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52A1-5815-44F0-BC0C-6C268E009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4121280" y="9155160"/>
            <a:ext cx="32083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6FD5-82F9-4091-88F1-4B2536B4328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307800" y="687240"/>
            <a:ext cx="6715440" cy="503568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151920" y="5951160"/>
            <a:ext cx="702468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emonstration: Animation: Hot box, Cold box, Entropy block, and Entropy 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4121280" y="9155160"/>
            <a:ext cx="32083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02E0-E891-4CFE-BFBF-C26C065E69B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307800" y="687240"/>
            <a:ext cx="6715440" cy="503568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151920" y="5951160"/>
            <a:ext cx="702468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emonstration: Animation: Hot box, Cold box, Entropy block, and Entropy 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emonstration: Hand-Generator-Powered Heat P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4121280" y="9155160"/>
            <a:ext cx="32083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A6A7-AEA8-4B55-9872-199E12480E2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307800" y="687240"/>
            <a:ext cx="6715440" cy="503568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151920" y="5951160"/>
            <a:ext cx="702468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emonstration: Animation: Hot box, Cold box, Entropy block, and Entropy 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4121280" y="9155160"/>
            <a:ext cx="32083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D540-B880-4B37-A006-777206C1EF7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307800" y="687240"/>
            <a:ext cx="6715440" cy="503568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151920" y="5951160"/>
            <a:ext cx="702468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emonstration: Liquid Nitrogen Evapor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emonstration: CO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Cylinder Making Dry 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4121280" y="9155160"/>
            <a:ext cx="32083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C683-0302-429D-AEC0-0AACDAE00F3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307800" y="687240"/>
            <a:ext cx="6715440" cy="503568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151920" y="5951160"/>
            <a:ext cx="702468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emonstration: Pump Air into a Gallon Jug with Thermo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4121280" y="9155160"/>
            <a:ext cx="32083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CECE-F3DD-490E-888E-1D71C9936B5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307800" y="687240"/>
            <a:ext cx="6715440" cy="503568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151920" y="5951160"/>
            <a:ext cx="7024680" cy="29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4121280" y="9155160"/>
            <a:ext cx="32083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E00B-B92D-468A-8CD4-32393548EDC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307800" y="687240"/>
            <a:ext cx="6715440" cy="503568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151920" y="5951160"/>
            <a:ext cx="702468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emonstration: Pump Air into a Gallon Jug with Thermometer and Pop the 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emonstration: Air Conditioner/Refrigerator/Dehumidifier Opened and Oper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F69C-2328-4925-917C-E6B014D69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7DE4-B008-4972-89ED-59F10204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6839A-7F6B-47B0-8287-663E32CA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E31DB1-0C03-41F6-B596-824AA37E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B760D2-E755-4DE7-8D0B-7141F4A7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90CA15-3B39-4A5C-829A-F4762E45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F16D15-DC84-4A9D-B060-0767F83E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B7DE69-20A7-4147-A6A8-22584978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4A6123-AFF2-4BD7-B0E5-42338654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6D094-8DB4-40D4-826E-138B5C5DA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FE0C5-A4CC-49E8-8E22-22AB090CE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C7995E-07EF-4EAE-9FF6-47F57F23D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DD50-FB10-4263-93CA-DE457D3F5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27599A-0553-4607-8CD3-A2ED75A9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F3CC06-C6F9-4E8F-856C-759CA3F9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7678A1-09F5-4B7D-AC20-1A5DF360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B36053-6416-4A39-A5C0-1FFED9BF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9459CD-061A-4C16-B00B-B6BB00D6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F4718-46FD-4AED-ADE7-EA67BA47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7C058A-4BE4-4E1D-BF2E-7CB894E9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B457FD-26FE-448A-933A-50F55548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047864-6A56-4FAB-9851-B5ECB6EE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AE75DE-351A-403C-A051-0F3A18400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A145-A2F3-4494-95C2-F97A32BBE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8D2ECE-C77E-4E75-9943-0D6261ABD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7A89E5-E7CB-4B51-9440-16C80C569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AD1FC-C39B-42BE-8806-38C578A1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990224-515F-4A0C-AA5A-524C3967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31BBD-A09A-4659-B684-8581B7EB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D8246-CFC1-4B1A-A152-9D02326A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87AD7-057B-4712-82DF-082A8EFE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C9723-E7C9-4507-B130-BA763164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B6BA11-4A8D-44B2-AAA5-64ED765B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786633-FADB-4088-9363-30F4E932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2932-9CEA-4F9D-A0F4-FEFD41B55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CF380-3C46-4CEE-A0EE-8F2007BF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6E901-D409-4266-A3C5-9F05418D9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FDE1FD-A5DF-426B-AFDB-99E64ADB0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95D3F3-BB43-4E9E-A1F9-4814FC9ED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56A075-5101-4487-9997-0F5438AC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581E66-D774-4BA2-9B9D-3AC6E71F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2AAB90-6B3D-4D17-8CF4-D86A83F5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06B47D-52A9-44A1-8939-32D5BCC3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434240-B81C-4A59-8B0A-79EB2FB7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D720DD-037C-4AFC-8432-56431BC2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B3EED-F671-48F8-957A-0768288F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25CFBD-F404-4DA3-A8D5-6F2D2F76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F032FC-1436-42DD-A461-569EAF0E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7128FE-4AEA-4E2E-9D0E-D8C844BD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01FD3A-5FD4-4EA2-908E-4338D7D8C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283564-4C53-46EA-A021-E8D1AACEC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A70C-3318-45A1-A11E-FB82B32F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6BBC1-6C2E-495C-B596-44E36501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87C0-AFE0-4EDB-BB77-6F78D8CE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17BF-C58E-4E45-B5A1-9C5A3F2D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224C9-F244-41EC-93B4-C1FA2738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9ACB-845B-4498-9C75-B9EB08D0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432D5-13E3-4E0A-8E48-214CA604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4ADF5-E296-4ED6-BE30-FB67F6BA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538A-48E3-4A7D-801F-5DDFFC75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87E8-956D-4BA4-8B7D-2EDF6C60F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BEB8A-1DF2-4383-9E95-69E4CD4E4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4444D-542B-4AF4-AB21-E2CBA73A9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F11D5-5C4A-412E-B3D8-D7C655DB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B3919-1C58-4EB1-85EB-D47203BF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EFAE8-A3AB-40F3-A22A-AC519201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8D524-DA95-4E7F-81AF-E44D01D0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C7CB-C880-47A4-BDB0-0F7C29E0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FB0BF-17D7-4ECD-B179-00932263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8BC5F-ED61-43A6-91C7-6FC6BBE9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660E3-7050-4C52-98C3-B30396FB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7F3C3-F8E9-43E8-85E8-2203C116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485B0-771E-4679-8C5B-31CB5A30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1865D-E0A0-4D31-8FE3-60BFBF7D7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84974-FEDB-4B0A-BCF0-0D5D2AF1E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27A6A-16F9-4AF4-B268-02ECC822F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582C0-E928-4E72-B006-05DA8725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262B6-3BF7-4F41-B65C-AFE5A6C1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9CE2-3608-4305-BD4E-CDC23749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02078-5A5E-45EE-8618-AE46D9E7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BF6FA-ABE4-45BF-B6D7-62295FCA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EA5B9-CFD1-4BF1-A48D-2441D9E2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24A77-3979-47F5-A449-3B5FE47C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90754-30B4-4558-908B-8EFBF40D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6B00D-884D-4F4F-A186-764DDA03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89BBC-515D-4F6E-ACB2-31D97D7B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7BB82-152B-4043-BECC-FEB51925C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C14D6-48EA-4450-893E-AD9E4916A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BAE6A-4775-41E4-AB3A-8D30FCFFE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7FEF-4847-457C-B1AA-CFB0DD5A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1A357-2F08-49FC-A55B-C7540A1E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3BD2F-41DA-44D9-94FA-0922B833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A08CF-C51E-4384-89D8-7136EBF6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3F6A0-931E-4977-9BF5-A43B50D2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40A40-7D28-4DF7-8AB5-ECED5780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1F9D0-9B00-4E2C-B946-29977279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A1A91-521C-4FD7-92F7-D78466E0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652E4-7D97-49D7-9708-E7A8A887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0B26A-F418-496F-A5D5-B7C08194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A27DC-021F-46F6-8EEF-04E17082E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8A0A-28C7-4FDE-BB2D-7BC8BA12F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88D48-27C9-478E-A805-8F1D5A18D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B5577-B936-429E-AEA7-61CBD01FC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EB2DC-83F2-4085-AAA5-6014EA32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E486D-D262-46F2-BAB7-8487BF73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6AA1E-8F3D-4696-A3BB-434AEA54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7BB60-6F69-4CDF-95C7-AB1C8526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4AC45-1E53-4C72-841E-673C9324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EE51E-1743-4C94-8E95-2A934AB4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2798D-8E1A-474D-81F7-BAFA792A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968E7-54F2-4CC8-AB4B-3DEB5EC9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7279-1502-4A50-B97B-19367AA3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311B1-41B4-4A7F-A2A9-DCD90C84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CD63B-0CA3-46DE-B723-1EA7BEF8D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737C1-679F-4A36-8A31-7B6107854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F9A77-8D6D-4355-9973-1AF90FC02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568BA-D8DE-4B17-A3A9-4C913A79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936FD-8D84-45B3-B370-AF3C2C05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91A14-3591-417C-83C8-4065CB63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0500A-C92B-48D8-91E1-857FEAFA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3BF30-F2A9-46E2-BBE0-336FBD9E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47144-7A3F-4D61-8032-7FF72A03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28CA-A3E5-499C-B562-834DECF6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90638-C670-4EF9-AF59-9790B084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1F936-1D3F-4BFB-B222-F0BA5659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D6D6E-D88F-482A-82C5-EACF850D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DC977-A493-4F32-92A0-BC080E22A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C4507-1638-4B7B-95C3-5BEDD4661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57326-75D2-44F8-960A-5FAA6982F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34108-2A99-49A1-81D3-4F3E3EEB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67B75-62C9-486B-AD46-5C5B0955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C97D8-82E2-4A4C-B499-05EF905A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5D83B-73B4-4AF3-855C-35EEB2C7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B481-8DD5-40BF-AA00-74C01ECF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F9676-CE15-416E-B41E-0DC88978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50CB8-219E-4BC1-81E1-C94F4992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CE02C-6D02-4DBD-899B-A9C2D299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81362-F322-4D9D-BD30-759AA150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96EE8-2C3F-4778-BD22-F44FE342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A257B-EC9C-4887-8DC5-99A5C5595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33D1B-1837-476C-8D39-4D0CABAEB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861C68-E8E1-49CB-AAF7-92049D2DE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1EEA23-B443-4CBC-94D5-A8839BEA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1EB9D1-E7BF-48EB-816C-8DFF717E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مستطيل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مستطيل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aa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مستطيل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0000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مستطيل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مستطيل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مستطيل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مستطيل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مستطيل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00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aaaac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aa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9C65-2D2F-40F9-99A4-BF2A59255AD9}" type="datetime">
              <a:rPr b="0" lang="en-US" sz="1100" spc="-1" strike="noStrike">
                <a:solidFill>
                  <a:srgbClr val="e5e503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EAFD-5FF6-4CBB-A9DE-75590DAD2189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Rectangle 7"/>
          <p:cNvSpPr/>
          <p:nvPr/>
        </p:nvSpPr>
        <p:spPr>
          <a:xfrm>
            <a:off x="304920" y="7632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5e503"/>
                </a:solidFill>
                <a:latin typeface="Arial"/>
              </a:rPr>
              <a:t>Air Conditioners </a:t>
            </a:r>
            <a:fld id="{286A9C7A-3FB3-42A2-9222-6CCBA6CF2066}" type="slidenum">
              <a:rPr b="0" i="1" lang="en-US" sz="1400" spc="-1" strike="noStrike">
                <a:solidFill>
                  <a:srgbClr val="e5e50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مستطيل 18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رابط مستقيم 19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1" name="مجموعة 20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422" name="رابط مستقيم 23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رابط مستقيم 24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رابط مستقيم 25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5" name="مجموعة 26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426" name="رابط مستقيم 27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رابط مستقيم 28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رابط مستقيم 29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9" name="مجموعة 30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430" name="رابط مستقيم 31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رابط مستقيم 32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رابط مستقيم 33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00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aaaac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aa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A6C1-8DC6-4D84-921A-ABCD4D972191}" type="datetime">
              <a:rPr b="0" lang="en-US" sz="1100" spc="-1" strike="noStrike">
                <a:solidFill>
                  <a:srgbClr val="e5e503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6C4A-B60C-40FA-B19D-9432AE060FDE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00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aaaac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aa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77AD-2057-4C14-8BE0-6F2E01C7C190}" type="datetime">
              <a:rPr b="0" lang="en-US" sz="1100" spc="-1" strike="noStrike">
                <a:solidFill>
                  <a:srgbClr val="e5e503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98FC-ACD1-4FFE-B17B-920F7E3DF9E3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00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aaaac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aa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C389-0B92-4E32-B1E8-6273C2671BFB}" type="datetime">
              <a:rPr b="0" lang="en-US" sz="1100" spc="-1" strike="noStrike">
                <a:solidFill>
                  <a:srgbClr val="e5e503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015E-BD31-4E7C-8675-D99A8232B72E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مستطيل 18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مستطيل 19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مستطيل 20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مستطيل 23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مستطيل 24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مستطيل 25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مستطيل 26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aa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مستطيل 27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0000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مستطيل 28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00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aaaac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aa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E0AD-F508-4B53-962F-9DA672A2C8FB}" type="datetime">
              <a:rPr b="0" lang="en-US" sz="1100" spc="-1" strike="noStrike">
                <a:solidFill>
                  <a:srgbClr val="e5e503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EF6B-4714-48D8-8E2F-F9B4390855A3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00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aaaac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aa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7ADB-28FC-44D5-940E-49A406D5A5AC}" type="datetime">
              <a:rPr b="0" lang="en-US" sz="1100" spc="-1" strike="noStrike">
                <a:solidFill>
                  <a:srgbClr val="e5e503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1498-DA4D-4E68-A541-338896A1F79F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شكل حر 18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00ffff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شكل حر 19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00ffff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شكل حر 20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1010e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شكل حر 23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0505e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شكل حر 24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0505e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شكل حر 25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0505e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شكل حر 26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0505e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شكل حر 27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0505e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شكل حر 28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0505e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شكل حر 29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0505e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شكل حر 30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0505e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شكل حر 31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0505e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شكل حر 32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0505e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شكل حر 33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0505e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شكل حر 34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1010e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مستطيل 35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1010e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مستطيل 36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مستطيل 37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مستطيل 38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مستطيل 39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مستطيل 40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00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aaaac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aa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A8FD-0912-4F98-88D0-7C898A255B7C}" type="datetime">
              <a:rPr b="0" lang="en-US" sz="1100" spc="-1" strike="noStrike">
                <a:solidFill>
                  <a:srgbClr val="e5e503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0582-8834-4E5A-B776-D4F5C4701981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00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aaaac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aa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EF86-809B-49CE-B23E-09DD8744B079}" type="datetime">
              <a:rPr b="0" lang="en-US" sz="1100" spc="-1" strike="noStrike">
                <a:solidFill>
                  <a:srgbClr val="e5e503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CB45-5300-4AD4-AA61-2CBB65D111E9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مستطيل 18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1010e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مستطيل 19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0000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مستطيل 20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0000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مستطيل 23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0000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مستطيل 24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0000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مستطيل 25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0000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مستطيل 26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0000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مستطيل 27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0000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مستطيل 28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0000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مستطيل 29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0000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00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aaaac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aa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A850-8A4B-48CC-988E-C404745B5A0B}" type="datetime">
              <a:rPr b="0" lang="en-US" sz="1100" spc="-1" strike="noStrike">
                <a:solidFill>
                  <a:srgbClr val="e5e503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A7FE-CADE-4A05-85A5-2C124E174E6A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00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aaaac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aa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E641-1E8A-4843-A459-FAF4206E5747}" type="datetime">
              <a:rPr b="0" lang="en-US" sz="1100" spc="-1" strike="noStrike">
                <a:solidFill>
                  <a:srgbClr val="e5e503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7008-1EA5-430A-8639-B52D036F588B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00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aaaac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aa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E7DC-F89B-4173-BA27-752D830A6605}" type="datetime">
              <a:rPr b="0" lang="en-US" sz="1100" spc="-1" strike="noStrike">
                <a:solidFill>
                  <a:srgbClr val="e5e503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3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FA85-2802-431E-A9DD-619036AC4053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00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aaaac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aa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5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88FC-A110-4F07-A903-B8AA18EB3376}" type="datetime">
              <a:rPr b="0" lang="en-US" sz="1100" spc="-1" strike="noStrike">
                <a:solidFill>
                  <a:srgbClr val="e5e503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6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27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1AC9-B691-47E7-A471-16B2FA9F68CC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alwams@ksu.edu.sa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33"/>
                </a:solidFill>
                <a:latin typeface="Corbel"/>
              </a:rPr>
              <a:t>Dr.Salwa Alsaleh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00ff"/>
                </a:solidFill>
                <a:uFillTx/>
                <a:latin typeface="Corbel"/>
                <a:hlinkClick r:id="rId1"/>
              </a:rPr>
              <a:t>Salwams@ksu.edu.sa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ac.ksu.edu.sa/salwam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4" name="WordArt 1027"/>
          <p:cNvSpPr txBox="1"/>
          <p:nvPr/>
        </p:nvSpPr>
        <p:spPr>
          <a:xfrm>
            <a:off x="1295280" y="1295280"/>
            <a:ext cx="64771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hermal &amp; Statistical Physics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HYS 343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nsolas"/>
              </a:rPr>
              <a:t>Entropy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685440" y="251424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orbel"/>
              </a:rPr>
              <a:t>Entropy is measure of object’s disord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ff"/>
                </a:solidFill>
                <a:latin typeface="Corbel"/>
              </a:rPr>
              <a:t>Includes both thermal and structural disorder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orbel"/>
              </a:rPr>
              <a:t>Isolated system’s disorder never decreas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orbel"/>
              </a:rPr>
              <a:t>But entropy can move or be transferre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8" name="عنصر نائب للتذييل 6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spcBef>
                <a:spcPts val="275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  <a:ea typeface="Tahoma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عنصر نائب لرقم الشريحة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9B72-6802-42BC-865C-EA2068FBEB46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nsolas"/>
              </a:rPr>
              <a:t>2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Consolas"/>
              </a:rPr>
              <a:t>nd</a:t>
            </a:r>
            <a:r>
              <a:rPr b="1" i="1" lang="en-US" sz="4000" spc="-1" strike="noStrike">
                <a:solidFill>
                  <a:srgbClr val="ff0000"/>
                </a:solidFill>
                <a:latin typeface="Consolas"/>
              </a:rPr>
              <a:t> Law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99ffcc"/>
                </a:solidFill>
                <a:latin typeface="Corbel"/>
              </a:rPr>
              <a:t>Law about </a:t>
            </a:r>
            <a:r>
              <a:rPr b="1" i="1" lang="en-US" sz="3000" spc="-1" strike="noStrike">
                <a:solidFill>
                  <a:srgbClr val="00ffff"/>
                </a:solidFill>
                <a:latin typeface="Corbel"/>
              </a:rPr>
              <a:t>Disorder</a:t>
            </a:r>
            <a:r>
              <a:rPr b="1" i="1" lang="en-US" sz="3000" spc="-1" strike="noStrike">
                <a:solidFill>
                  <a:srgbClr val="99ffcc"/>
                </a:solidFill>
                <a:latin typeface="Corbel"/>
              </a:rPr>
              <a:t> (</a:t>
            </a:r>
            <a:r>
              <a:rPr b="1" i="1" lang="en-US" sz="3000" spc="-1" strike="noStrike">
                <a:solidFill>
                  <a:srgbClr val="ff0000"/>
                </a:solidFill>
                <a:latin typeface="Corbel"/>
              </a:rPr>
              <a:t>Entropy</a:t>
            </a:r>
            <a:r>
              <a:rPr b="1" i="1" lang="en-US" sz="3000" spc="-1" strike="noStrike">
                <a:solidFill>
                  <a:srgbClr val="99ffcc"/>
                </a:solidFill>
                <a:latin typeface="Corbe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ffcc"/>
                </a:solidFill>
                <a:latin typeface="Corbe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Corbel"/>
              </a:rPr>
              <a:t>“</a:t>
            </a:r>
            <a:r>
              <a:rPr b="1" lang="en-US" sz="3000" spc="-1" strike="noStrike">
                <a:solidFill>
                  <a:srgbClr val="ffff00"/>
                </a:solidFill>
                <a:latin typeface="Corbel"/>
              </a:rPr>
              <a:t>Entropy of a thermally isolated system never decreases”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2" name="عنصر نائب للتذييل 6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spcBef>
                <a:spcPts val="275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  <a:ea typeface="Tahoma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عنصر نائب لرقم الشريحة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BE75-7176-4931-AE25-96410496749A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nsolas"/>
              </a:rPr>
              <a:t>3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Consolas"/>
              </a:rPr>
              <a:t>rd</a:t>
            </a:r>
            <a:r>
              <a:rPr b="1" i="1" lang="en-US" sz="4000" spc="-1" strike="noStrike">
                <a:solidFill>
                  <a:srgbClr val="ff0000"/>
                </a:solidFill>
                <a:latin typeface="Consolas"/>
              </a:rPr>
              <a:t> Law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ffff"/>
                </a:solidFill>
                <a:latin typeface="Corbel"/>
              </a:rPr>
              <a:t>Law about Entropy and Temperatur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ffcc"/>
                </a:solidFill>
                <a:latin typeface="Corbel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Corbel"/>
              </a:rPr>
              <a:t>“</a:t>
            </a:r>
            <a:r>
              <a:rPr b="1" lang="en-US" sz="3000" spc="-1" strike="noStrike">
                <a:solidFill>
                  <a:srgbClr val="ffff00"/>
                </a:solidFill>
                <a:latin typeface="Corbel"/>
              </a:rPr>
              <a:t>An object’s entropy approaches zero as its temperature approaches absolute zero</a:t>
            </a:r>
            <a:r>
              <a:rPr b="0" lang="en-US" sz="3000" spc="-1" strike="noStrike">
                <a:solidFill>
                  <a:srgbClr val="ff0000"/>
                </a:solidFill>
                <a:latin typeface="Corbel"/>
              </a:rPr>
              <a:t>”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6" name="عنصر نائب للتذييل 6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spcBef>
                <a:spcPts val="275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  <a:ea typeface="Tahoma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عنصر نائب لرقم الشريحة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2402-3D3E-423E-A60D-CB52D8E0C2D4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nsolas"/>
              </a:rPr>
              <a:t>More on the 2nd Law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ffff"/>
                </a:solidFill>
                <a:latin typeface="Corbel"/>
              </a:rPr>
              <a:t>According to the 2nd Law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rbel"/>
              </a:rPr>
              <a:t>Entropy of a thermally isolated system can’t decreas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rbel"/>
              </a:rPr>
              <a:t>But entropy can be redistributed within the system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rbel"/>
              </a:rPr>
              <a:t>Part of the system can become hotter while another part becomes colder!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0" name="عنصر نائب للتذييل 6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spcBef>
                <a:spcPts val="275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  <a:ea typeface="Tahoma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عنصر نائب لرقم الشريحة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40DEB-1556-422D-B9B0-5B38811E8281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nsolas"/>
              </a:rPr>
              <a:t>Natural Heat Flow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Corbel"/>
              </a:rPr>
              <a:t>Heat naturally flows from hot to col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rbel"/>
              </a:rPr>
              <a:t>Removing heat from a hot object, </a:t>
            </a:r>
            <a:r>
              <a:rPr b="0" lang="en-US" sz="2600" spc="-1" strike="noStrike">
                <a:solidFill>
                  <a:srgbClr val="ffff00"/>
                </a:solidFill>
                <a:latin typeface="Symbol"/>
                <a:ea typeface="Symbol"/>
              </a:rPr>
              <a:t></a:t>
            </a:r>
            <a:r>
              <a:rPr b="0" lang="en-US" sz="2600" spc="-1" strike="noStrike">
                <a:solidFill>
                  <a:srgbClr val="ffff00"/>
                </a:solidFill>
                <a:latin typeface="Corbel"/>
              </a:rPr>
              <a:t>entropy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rbel"/>
              </a:rPr>
              <a:t>Adding heat to a cold object, </a:t>
            </a:r>
            <a:r>
              <a:rPr b="0" lang="en-US" sz="26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0" lang="en-US" sz="2600" spc="-1" strike="noStrike">
                <a:solidFill>
                  <a:srgbClr val="ffff00"/>
                </a:solidFill>
                <a:latin typeface="MS Shell Dlg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Corbel"/>
              </a:rPr>
              <a:t>entropy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Corbel"/>
              </a:rPr>
              <a:t>Entropy of combined system increas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Corbel"/>
              </a:rPr>
              <a:t>1 J of thermal energy is more disordering to a cold object than to a hot objec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4" name="عنصر نائب للتذييل 6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spcBef>
                <a:spcPts val="275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  <a:ea typeface="Tahoma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عنصر نائب لرقم الشريحة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F57A-247B-47EC-97ED-398F18D609BE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nsolas"/>
              </a:rPr>
              <a:t>Unnatural Heat Flow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orbel"/>
              </a:rPr>
              <a:t>Heat can’t naturally flow from cold to ho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80400" indent="-26280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ffcc"/>
                </a:solidFill>
                <a:latin typeface="Corbel"/>
              </a:rPr>
              <a:t>Removing heat from cold object, </a:t>
            </a:r>
            <a:r>
              <a:rPr b="1" lang="en-US" sz="2600" spc="-1" strike="noStrike">
                <a:solidFill>
                  <a:srgbClr val="99ffcc"/>
                </a:solidFill>
                <a:latin typeface="Symbol"/>
                <a:ea typeface="Symbol"/>
              </a:rPr>
              <a:t></a:t>
            </a:r>
            <a:r>
              <a:rPr b="1" lang="en-US" sz="2600" spc="-1" strike="noStrike">
                <a:solidFill>
                  <a:srgbClr val="99ffcc"/>
                </a:solidFill>
                <a:latin typeface="Corbel"/>
              </a:rPr>
              <a:t>entropy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80400" indent="-26280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ffcc"/>
                </a:solidFill>
                <a:latin typeface="Corbel"/>
              </a:rPr>
              <a:t>Adding heat to hot object, </a:t>
            </a:r>
            <a:r>
              <a:rPr b="1" lang="en-US" sz="2600" spc="-1" strike="noStrike">
                <a:solidFill>
                  <a:srgbClr val="99ffcc"/>
                </a:solidFill>
                <a:latin typeface="Symbol"/>
                <a:ea typeface="Symbol"/>
              </a:rPr>
              <a:t></a:t>
            </a:r>
            <a:r>
              <a:rPr b="1" lang="en-US" sz="2600" spc="-1" strike="noStrike">
                <a:solidFill>
                  <a:srgbClr val="99ffcc"/>
                </a:solidFill>
                <a:latin typeface="Corbel"/>
              </a:rPr>
              <a:t> entropy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80400" indent="-26280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ffcc"/>
                </a:solidFill>
                <a:latin typeface="Corbel"/>
              </a:rPr>
              <a:t>More entropy removed than added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80400" indent="-26280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ffcc"/>
                </a:solidFill>
                <a:latin typeface="Corbel"/>
              </a:rPr>
              <a:t>Energy is conserved, but </a:t>
            </a:r>
            <a:r>
              <a:rPr b="1" lang="en-US" sz="2600" spc="-1" strike="noStrike">
                <a:solidFill>
                  <a:srgbClr val="99ffcc"/>
                </a:solidFill>
                <a:latin typeface="Symbol"/>
                <a:ea typeface="Symbol"/>
              </a:rPr>
              <a:t></a:t>
            </a:r>
            <a:r>
              <a:rPr b="1" lang="en-US" sz="2600" spc="-1" strike="noStrike">
                <a:solidFill>
                  <a:srgbClr val="99ffcc"/>
                </a:solidFill>
                <a:latin typeface="Corbel"/>
              </a:rPr>
              <a:t> total entropy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orbel"/>
              </a:rPr>
              <a:t>To save 2nd law, we need more entrop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orbel"/>
              </a:rPr>
              <a:t>Ordered energy must become disordere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8" name="عنصر نائب للتذييل 6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spcBef>
                <a:spcPts val="275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  <a:ea typeface="Tahoma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عنصر نائب لرقم الشريحة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0657-6F18-4E33-9B12-6E5CFF0860BE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nsolas"/>
              </a:rPr>
              <a:t>Air conditioners, Part 1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Corbel"/>
              </a:rPr>
              <a:t>Moves heat against its natural flow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rbel"/>
              </a:rPr>
              <a:t>Flows from cold room air to hot outside air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rbel"/>
              </a:rPr>
              <a:t>Converts ordered into disordered energy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rbel"/>
              </a:rPr>
              <a:t>Doesn’t decrease the world’s total entropy!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rbel"/>
              </a:rPr>
              <a:t>Uses fluid to transfer heat – working fluid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00ffff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rbel"/>
              </a:rPr>
              <a:t>Fluid absorbs heat from cool room air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00ffff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rbel"/>
              </a:rPr>
              <a:t>Fluid releases heat to warm outside air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2" name="عنصر نائب للتذييل 6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spcBef>
                <a:spcPts val="275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  <a:ea typeface="Tahoma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عنصر نائب لرقم الشريحة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DDBC-03FB-4B05-BBC2-09CDABCDE211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nsolas"/>
              </a:rPr>
              <a:t>Air conditioners, Part 2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66ffff"/>
                </a:solidFill>
                <a:latin typeface="Corbel"/>
              </a:rPr>
              <a:t>Evaporator</a:t>
            </a:r>
            <a:r>
              <a:rPr b="1" i="1" lang="en-US" sz="3000" spc="-1" strike="noStrike">
                <a:solidFill>
                  <a:srgbClr val="99ffcc"/>
                </a:solidFill>
                <a:latin typeface="Corbel"/>
              </a:rPr>
              <a:t> </a:t>
            </a:r>
            <a:r>
              <a:rPr b="1" i="1" lang="en-US" sz="3000" spc="-1" strike="noStrike">
                <a:solidFill>
                  <a:srgbClr val="ffff00"/>
                </a:solidFill>
                <a:latin typeface="Corbel"/>
              </a:rPr>
              <a:t>– </a:t>
            </a:r>
            <a:r>
              <a:rPr b="1" i="1" lang="en-US" sz="3000" spc="-1" strike="noStrike">
                <a:solidFill>
                  <a:srgbClr val="99ffcc"/>
                </a:solidFill>
                <a:latin typeface="Corbel"/>
              </a:rPr>
              <a:t>located in room ai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rbel"/>
              </a:rPr>
              <a:t>transfers heat from room air to fluid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66ffff"/>
                </a:solidFill>
                <a:latin typeface="Corbel"/>
              </a:rPr>
              <a:t>Condenser</a:t>
            </a:r>
            <a:r>
              <a:rPr b="1" lang="en-US" sz="3000" spc="-1" strike="noStrike">
                <a:solidFill>
                  <a:srgbClr val="ffff00"/>
                </a:solidFill>
                <a:latin typeface="Corbel"/>
              </a:rPr>
              <a:t> – </a:t>
            </a:r>
            <a:r>
              <a:rPr b="1" lang="en-US" sz="3000" spc="-1" strike="noStrike">
                <a:solidFill>
                  <a:srgbClr val="99ffcc"/>
                </a:solidFill>
                <a:latin typeface="Corbel"/>
              </a:rPr>
              <a:t>located in outside ai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rbel"/>
              </a:rPr>
              <a:t>transfers heat from fluid to outside air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66ffff"/>
                </a:solidFill>
                <a:latin typeface="Corbel"/>
              </a:rPr>
              <a:t>Compressor</a:t>
            </a:r>
            <a:r>
              <a:rPr b="1" lang="en-US" sz="3000" spc="-1" strike="noStrike">
                <a:solidFill>
                  <a:srgbClr val="ffff00"/>
                </a:solidFill>
                <a:latin typeface="Corbel"/>
              </a:rPr>
              <a:t> – </a:t>
            </a:r>
            <a:r>
              <a:rPr b="1" lang="en-US" sz="3000" spc="-1" strike="noStrike">
                <a:solidFill>
                  <a:srgbClr val="99ffcc"/>
                </a:solidFill>
                <a:latin typeface="Corbel"/>
              </a:rPr>
              <a:t>located in outside ai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rbel"/>
              </a:rPr>
              <a:t>does work on fluid and creates entropy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6" name="عنصر نائب للتذييل 6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spcBef>
                <a:spcPts val="275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  <a:ea typeface="Tahoma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عنصر نائب لرقم الشريحة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8F07-AEA7-4A47-9654-619F2CFE1763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nstantia"/>
              </a:rPr>
              <a:t>Evaporator, Part 1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685800" y="2514240"/>
            <a:ext cx="7772400" cy="38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rbel"/>
              </a:rPr>
              <a:t>Heat exchanger made from long metal pip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rbel"/>
              </a:rPr>
              <a:t>Fluid approaches evaporator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09920" indent="-274320">
              <a:spcBef>
                <a:spcPts val="601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rbel"/>
              </a:rPr>
              <a:t>as a high pressure liquid near room temperatu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rbel"/>
              </a:rPr>
              <a:t>A constriction reduces the fluid’s pressur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rbel"/>
              </a:rPr>
              <a:t>Fluid enters evaporator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09920" indent="-274320">
              <a:spcBef>
                <a:spcPts val="601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rbel"/>
              </a:rPr>
              <a:t>as a low pressure liquid near room temperatu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0" name="عنصر نائب للتذييل 6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spcBef>
                <a:spcPts val="275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  <a:ea typeface="Tahoma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عنصر نائب لرقم الشريحة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6467-05F4-45C8-80B6-6353AD5D3C6A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nsolas"/>
              </a:rPr>
              <a:t>Evaporator, Part 2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Corbel"/>
              </a:rPr>
              <a:t>Working fluid evaporates in the evaporato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rbel"/>
              </a:rPr>
              <a:t>Breaking bonds uses thermal energy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rbel"/>
              </a:rPr>
              <a:t>Fluid becomes colder ga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rbel"/>
              </a:rPr>
              <a:t>Heat flows from room air into fluid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Corbel"/>
              </a:rPr>
              <a:t>Fluid leaves evaporato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rbel"/>
              </a:rPr>
              <a:t>as a low pressure gas near room temperatur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Corbel"/>
              </a:rPr>
              <a:t>Heat has left the room</a:t>
            </a:r>
            <a:r>
              <a:rPr b="0" lang="en-US" sz="3000" spc="-1" strike="noStrike">
                <a:solidFill>
                  <a:srgbClr val="00ffff"/>
                </a:solidFill>
                <a:latin typeface="Corbel"/>
              </a:rPr>
              <a:t>!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4" name="عنصر نائب للتذييل 6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spcBef>
                <a:spcPts val="275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  <a:ea typeface="Tahoma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عنصر نائب لرقم الشريحة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DF05-E06A-43F6-8DF5-F17F0EAFF45C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comic"/>
              </a:rPr>
              <a:t>                    </a:t>
            </a:r>
            <a:r>
              <a:rPr b="0" lang="en-US" sz="4000" spc="-1" strike="noStrike">
                <a:solidFill>
                  <a:srgbClr val="ffc000"/>
                </a:solidFill>
                <a:latin typeface="comic"/>
              </a:rPr>
              <a:t>Lecture 13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2050920" y="3276720"/>
            <a:ext cx="46497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171720" indent="-171720"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00" spc="-1" strike="noStrike">
                <a:solidFill>
                  <a:srgbClr val="33cc33"/>
                </a:solidFill>
                <a:latin typeface="Corbel"/>
                <a:ea typeface="Tahoma"/>
              </a:rPr>
              <a:t>      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171720" indent="-171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onstantia"/>
              </a:rPr>
              <a:t>Air Conditioners</a:t>
            </a:r>
            <a:r>
              <a:rPr b="1" i="1" lang="en-US" sz="3600" spc="-1" strike="noStrike">
                <a:solidFill>
                  <a:srgbClr val="00ff00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171720" indent="-171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ff00"/>
                </a:solidFill>
                <a:latin typeface="Constantia"/>
              </a:rPr>
              <a:t>   </a:t>
            </a:r>
            <a:r>
              <a:rPr b="1" i="1" lang="en-US" sz="3000" spc="-1" strike="noStrike">
                <a:solidFill>
                  <a:srgbClr val="00ff00"/>
                </a:solidFill>
                <a:latin typeface="Constantia"/>
              </a:rPr>
              <a:t>Air Conditioner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171720" indent="-171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e5e503"/>
                </a:solidFill>
                <a:latin typeface="Constantia"/>
              </a:rPr>
              <a:t>    </a:t>
            </a:r>
            <a:r>
              <a:rPr b="1" i="1" lang="en-US" sz="2800" spc="-1" strike="noStrike">
                <a:solidFill>
                  <a:srgbClr val="e5e503"/>
                </a:solidFill>
                <a:latin typeface="Constantia"/>
              </a:rPr>
              <a:t>Air Conditioner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71720" indent="-171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Constantia"/>
              </a:rPr>
              <a:t>       </a:t>
            </a:r>
            <a:r>
              <a:rPr b="1" i="1" lang="en-US" sz="2400" spc="-1" strike="noStrike">
                <a:solidFill>
                  <a:srgbClr val="ff0066"/>
                </a:solidFill>
                <a:latin typeface="Constantia"/>
              </a:rPr>
              <a:t>Air Conditioner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71720" indent="-171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ffff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71720" indent="-171720"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171720" indent="-171720"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rbel"/>
            </a:endParaRPr>
          </a:p>
          <a:p>
            <a:pPr marL="171720" indent="-171720"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i="1" lang="en-US" sz="800" spc="-1" strike="noStrike">
                <a:solidFill>
                  <a:srgbClr val="00ff00"/>
                </a:solidFill>
                <a:latin typeface="Corbel"/>
              </a:rPr>
              <a:t>     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171720" indent="-171720"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600" spc="-1" strike="noStrike">
                <a:solidFill>
                  <a:srgbClr val="ffc000"/>
                </a:solidFill>
                <a:latin typeface="Corbel"/>
                <a:ea typeface="Tahoma"/>
              </a:rPr>
              <a:t>                      </a:t>
            </a:r>
            <a:endParaRPr b="0" lang="en-US" sz="600" spc="-1" strike="noStrike">
              <a:solidFill>
                <a:srgbClr val="ffffff"/>
              </a:solidFill>
              <a:latin typeface="Corbel"/>
            </a:endParaRPr>
          </a:p>
          <a:p>
            <a:pPr marL="171720" indent="-1717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cc33"/>
                </a:solidFill>
                <a:latin typeface="Corbel"/>
              </a:rPr>
              <a:t>                     </a:t>
            </a:r>
            <a:r>
              <a:rPr b="0" lang="ar-SA" sz="800" spc="-1" strike="noStrike">
                <a:solidFill>
                  <a:srgbClr val="33cc33"/>
                </a:solidFill>
                <a:latin typeface="Corbel"/>
                <a:ea typeface="Tahoma"/>
              </a:rPr>
              <a:t>  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67" name="Picture 10" descr="newton"/>
          <p:cNvPicPr/>
          <p:nvPr/>
        </p:nvPicPr>
        <p:blipFill>
          <a:blip r:embed="rId1"/>
          <a:stretch/>
        </p:blipFill>
        <p:spPr>
          <a:xfrm>
            <a:off x="6781680" y="457200"/>
            <a:ext cx="190512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nsolas"/>
              </a:rPr>
              <a:t>Compressor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Corbel"/>
              </a:rPr>
              <a:t>Working fluid enters compresso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rbel"/>
              </a:rPr>
              <a:t>as a low pressure gas near room temperatur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Corbel"/>
              </a:rPr>
              <a:t>Compressor does work on fluid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rbel"/>
              </a:rPr>
              <a:t>Pushes gas inward as the gas moves inward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rbel"/>
              </a:rPr>
              <a:t>Gas temperature rises (first law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rbel"/>
              </a:rPr>
              <a:t>Ordered energy becomes disordered energy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Corbel"/>
              </a:rPr>
              <a:t>Fluid leaves compresso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rbel"/>
              </a:rPr>
              <a:t>as hot, high pressure ga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8" name="عنصر نائب للتذييل 6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spcBef>
                <a:spcPts val="275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  <a:ea typeface="Tahoma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عنصر نائب لرقم الشريحة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99BB-92F3-4DD0-96B8-FD67ED35EDDC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nsolas"/>
              </a:rPr>
              <a:t>Condenser, Part 1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Corbel"/>
              </a:rPr>
              <a:t>Heat exchanger made from metal pip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ffff"/>
                </a:solidFill>
                <a:latin typeface="Corbel"/>
              </a:rPr>
              <a:t>Fluid enters condens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rbel"/>
              </a:rPr>
              <a:t>as a hot, high pressure ga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rbel"/>
              </a:rPr>
              <a:t>heat flows from fluid to outside air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2" name="عنصر نائب للتذييل 6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spcBef>
                <a:spcPts val="275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  <a:ea typeface="Tahoma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عنصر نائب لرقم الشريحة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9500-9630-409D-A9FC-31A669D918F7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nsolas"/>
              </a:rPr>
              <a:t>Condenser, Part 2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Corbel"/>
              </a:rPr>
              <a:t>Working Fluid condenses in condens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rbel"/>
              </a:rPr>
              <a:t>forming bonds releases thermal energy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rbel"/>
              </a:rPr>
              <a:t>Fluid becomes hotter liquid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rbel"/>
              </a:rPr>
              <a:t>More heat flows from fluid into outside air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Corbel"/>
              </a:rPr>
              <a:t>Fluid leaves condens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rbel"/>
              </a:rPr>
              <a:t>as high-pressure room-temperature liquid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Corbel"/>
              </a:rPr>
              <a:t>Heat has reached the outside air!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6" name="عنصر نائب للتذييل 6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spcBef>
                <a:spcPts val="275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  <a:ea typeface="Tahoma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عنصر نائب لرقم الشريحة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94B5-A885-4DDC-B3E0-702BB5BC1DF9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nsolas"/>
              </a:rPr>
              <a:t>Air conditioner Overview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Corbel"/>
              </a:rPr>
              <a:t>Evaporator</a:t>
            </a:r>
            <a:r>
              <a:rPr b="1" lang="en-US" sz="3000" spc="-1" strike="noStrike">
                <a:solidFill>
                  <a:srgbClr val="99ffcc"/>
                </a:solidFill>
                <a:latin typeface="Corbel"/>
              </a:rPr>
              <a:t> </a:t>
            </a:r>
            <a:r>
              <a:rPr b="1" lang="en-US" sz="3000" spc="-1" strike="noStrike">
                <a:solidFill>
                  <a:srgbClr val="66ffff"/>
                </a:solidFill>
                <a:latin typeface="Corbel"/>
              </a:rPr>
              <a:t>– </a:t>
            </a:r>
            <a:r>
              <a:rPr b="1" lang="en-US" sz="3000" spc="-1" strike="noStrike">
                <a:solidFill>
                  <a:srgbClr val="ccffff"/>
                </a:solidFill>
                <a:latin typeface="Corbel"/>
              </a:rPr>
              <a:t>located in room ai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rbel"/>
              </a:rPr>
              <a:t>transfers heat from room air to fluid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Corbel"/>
              </a:rPr>
              <a:t>Compressor</a:t>
            </a:r>
            <a:r>
              <a:rPr b="1" lang="en-US" sz="3000" spc="-1" strike="noStrike">
                <a:solidFill>
                  <a:srgbClr val="99ffcc"/>
                </a:solidFill>
                <a:latin typeface="Corbel"/>
              </a:rPr>
              <a:t> </a:t>
            </a:r>
            <a:r>
              <a:rPr b="1" lang="en-US" sz="3000" spc="-1" strike="noStrike">
                <a:solidFill>
                  <a:srgbClr val="66ffff"/>
                </a:solidFill>
                <a:latin typeface="Corbel"/>
              </a:rPr>
              <a:t>– </a:t>
            </a:r>
            <a:r>
              <a:rPr b="1" lang="en-US" sz="3000" spc="-1" strike="noStrike">
                <a:solidFill>
                  <a:srgbClr val="ccffff"/>
                </a:solidFill>
                <a:latin typeface="Corbel"/>
              </a:rPr>
              <a:t>located in outside ai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rbel"/>
              </a:rPr>
              <a:t>does work on fluid, so fluid gets hotter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Corbel"/>
              </a:rPr>
              <a:t>Condenser</a:t>
            </a:r>
            <a:r>
              <a:rPr b="1" lang="en-US" sz="3000" spc="-1" strike="noStrike">
                <a:solidFill>
                  <a:srgbClr val="99ffcc"/>
                </a:solidFill>
                <a:latin typeface="Corbel"/>
              </a:rPr>
              <a:t> </a:t>
            </a:r>
            <a:r>
              <a:rPr b="1" lang="en-US" sz="3000" spc="-1" strike="noStrike">
                <a:solidFill>
                  <a:srgbClr val="66ffff"/>
                </a:solidFill>
                <a:latin typeface="Corbel"/>
              </a:rPr>
              <a:t>– </a:t>
            </a:r>
            <a:r>
              <a:rPr b="1" lang="en-US" sz="3000" spc="-1" strike="noStrike">
                <a:solidFill>
                  <a:srgbClr val="ccffff"/>
                </a:solidFill>
                <a:latin typeface="Corbel"/>
              </a:rPr>
              <a:t>located in outside ai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rbel"/>
              </a:rPr>
              <a:t>transfers heat from fluid to outside air,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rbel"/>
              </a:rPr>
              <a:t>including thermal energy extracted from inside air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rbel"/>
              </a:rPr>
              <a:t>and thermal energy added by compressor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0" name="عنصر نائب للتذييل 6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spcBef>
                <a:spcPts val="275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  <a:ea typeface="Tahoma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عنصر نائب لرقم الشريحة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7420-82C8-4BC9-918F-8540FC8A0F91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nsolas"/>
              </a:rPr>
              <a:t>Question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ffcc"/>
                </a:solidFill>
                <a:latin typeface="Corbel"/>
              </a:rPr>
              <a:t>If you operate a window air conditioner on a table in the middle of a room, the average temperature in the room wil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spcBef>
                <a:spcPts val="700"/>
              </a:spcBef>
              <a:buClr>
                <a:srgbClr val="e5e503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become cold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spcBef>
                <a:spcPts val="700"/>
              </a:spcBef>
              <a:buClr>
                <a:srgbClr val="e5e503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become hott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spcBef>
                <a:spcPts val="700"/>
              </a:spcBef>
              <a:buClr>
                <a:srgbClr val="e5e503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stay the sam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4" name="عنصر نائب للتذييل 6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spcBef>
                <a:spcPts val="275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  <a:ea typeface="Tahoma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عنصر نائب لرقم الشريحة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9F57-ED9C-40E8-ACD8-CE31E33AB134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onsolas"/>
              </a:rPr>
              <a:t>Summary About</a:t>
            </a:r>
            <a:br>
              <a:rPr sz="3600"/>
            </a:br>
            <a:r>
              <a:rPr b="1" i="1" lang="en-US" sz="3600" spc="-1" strike="noStrike">
                <a:solidFill>
                  <a:srgbClr val="ff0000"/>
                </a:solidFill>
                <a:latin typeface="Consolas"/>
              </a:rPr>
              <a:t>Air Conditioners</a:t>
            </a:r>
            <a:endParaRPr b="0" lang="en-US" sz="36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They pump heat from cold to ho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They don’t violate thermodynamic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They consume ordered energ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They are most efficient for small temperature differenc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8" name="عنصر نائب للتذييل 6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spcBef>
                <a:spcPts val="275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  <a:ea typeface="Tahoma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عنصر نائب لرقم الشريحة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A97D-3F0D-4845-8FEA-FF849FE7A922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nsolas"/>
              </a:rPr>
              <a:t>Question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ff"/>
                </a:solidFill>
                <a:latin typeface="Corbel"/>
              </a:rPr>
              <a:t>If you operate a window air conditioner on a table in the middle of a room, the average temperature in the room wil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spcBef>
                <a:spcPts val="700"/>
              </a:spcBef>
              <a:buClr>
                <a:srgbClr val="e5e503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become cold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spcBef>
                <a:spcPts val="700"/>
              </a:spcBef>
              <a:buClr>
                <a:srgbClr val="e5e503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become hott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spcBef>
                <a:spcPts val="700"/>
              </a:spcBef>
              <a:buClr>
                <a:srgbClr val="e5e503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stay the sam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0" name="عنصر نائب للتذييل 6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spcBef>
                <a:spcPts val="275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  <a:ea typeface="Tahoma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عنصر نائب لرقم الشريحة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BB85-58AD-49C8-9333-532321A8F133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onsolas"/>
              </a:rPr>
              <a:t>Observations About</a:t>
            </a:r>
            <a:br>
              <a:rPr sz="3600"/>
            </a:br>
            <a:r>
              <a:rPr b="1" i="1" lang="en-US" sz="3600" spc="-1" strike="noStrike">
                <a:solidFill>
                  <a:srgbClr val="ff0000"/>
                </a:solidFill>
                <a:latin typeface="Consolas"/>
              </a:rPr>
              <a:t>Air Conditioners</a:t>
            </a:r>
            <a:endParaRPr b="0" lang="en-US" sz="36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914040" y="17845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ff"/>
                </a:solidFill>
                <a:latin typeface="Corbel"/>
              </a:rPr>
              <a:t>They cool room air on hot day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ff"/>
                </a:solidFill>
                <a:latin typeface="Corbel"/>
              </a:rPr>
              <a:t>They emit hot air from their outside ven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ff"/>
                </a:solidFill>
                <a:latin typeface="Corbel"/>
              </a:rPr>
              <a:t>They consume lots of electric pow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ff"/>
                </a:solidFill>
                <a:latin typeface="Corbel"/>
              </a:rPr>
              <a:t>They are less efficient on hotter day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ff"/>
                </a:solidFill>
                <a:latin typeface="Corbel"/>
              </a:rPr>
              <a:t>They can sometimes heat houses, to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4" name="عنصر نائب للتذييل 6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spcBef>
                <a:spcPts val="275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  <a:ea typeface="Tahoma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عنصر نائب لرقم الشريحة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4246-9CCA-4661-BEA5-8E5BCED9EFFC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nsolas"/>
              </a:rPr>
              <a:t>Heat Machines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ff"/>
                </a:solidFill>
                <a:latin typeface="Corbel"/>
              </a:rPr>
              <a:t>Air conditioner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rbel"/>
              </a:rPr>
              <a:t>use work to transfer heat from cold to ho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rbel"/>
              </a:rPr>
              <a:t>are a type of heat pump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ff"/>
                </a:solidFill>
                <a:latin typeface="Corbel"/>
              </a:rPr>
              <a:t>Automobil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rbel"/>
              </a:rPr>
              <a:t>use flow of heat from hot to cold to do work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rbel"/>
              </a:rPr>
              <a:t>are a type of heat engin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8" name="عنصر نائب للتذييل 6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spcBef>
                <a:spcPts val="275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  <a:ea typeface="Tahoma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عنصر نائب لرقم الشريحة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8F57-1D24-418D-A2F1-A718000D4CC9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nsolas"/>
              </a:rPr>
              <a:t>Thermodynamics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685440" y="2514600"/>
            <a:ext cx="807732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Corbel"/>
              </a:rPr>
              <a:t>Rules governing thermal energy flow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Corbel"/>
              </a:rPr>
              <a:t>Relationships between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rbel"/>
              </a:rPr>
              <a:t>thermal energy and mechanical work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rbel"/>
              </a:rPr>
              <a:t>disordered energy and ordered energy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Corbel"/>
              </a:rPr>
              <a:t>Codified in four laws of thermodynamic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2" name="عنصر نائب للتذييل 6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spcBef>
                <a:spcPts val="275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  <a:ea typeface="Tahoma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عنصر نائب لرقم الشريحة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3D6A-996E-441F-8F40-2F7C96BBDDE5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nsolas"/>
              </a:rPr>
              <a:t>0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Consolas"/>
              </a:rPr>
              <a:t>th</a:t>
            </a:r>
            <a:r>
              <a:rPr b="1" i="1" lang="en-US" sz="4000" spc="-1" strike="noStrike">
                <a:solidFill>
                  <a:srgbClr val="ff0000"/>
                </a:solidFill>
                <a:latin typeface="Consolas"/>
              </a:rPr>
              <a:t> Law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ffff"/>
                </a:solidFill>
                <a:latin typeface="Corbel"/>
              </a:rPr>
              <a:t>Law about Thermal Equilibriu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ffcc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“</a:t>
            </a:r>
            <a:r>
              <a:rPr b="1" lang="en-US" sz="3000" spc="-1" strike="noStrike">
                <a:solidFill>
                  <a:srgbClr val="ffff00"/>
                </a:solidFill>
                <a:latin typeface="Corbel"/>
              </a:rPr>
              <a:t>If two objects are in thermal equilibrium with a third object, then they are in thermal equilibrium with each other.”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6" name="عنصر نائب للتذييل 6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spcBef>
                <a:spcPts val="275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  <a:ea typeface="Tahoma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عنصر نائب لرقم الشريحة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2F0E-A1EB-4500-B1D7-744DE6A72EC1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nsolas"/>
              </a:rPr>
              <a:t>1st Law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9144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ffff"/>
                </a:solidFill>
                <a:latin typeface="Corbel"/>
              </a:rPr>
              <a:t>Law about Conservation of Energ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ffcc"/>
                </a:solidFill>
                <a:latin typeface="Corbel"/>
              </a:rPr>
              <a:t>	</a:t>
            </a:r>
            <a:r>
              <a:rPr b="1" i="1" lang="en-US" sz="3000" spc="-1" strike="noStrike">
                <a:solidFill>
                  <a:srgbClr val="ff0000"/>
                </a:solidFill>
                <a:latin typeface="Corbel"/>
              </a:rPr>
              <a:t>“</a:t>
            </a:r>
            <a:r>
              <a:rPr b="1" i="1" lang="en-US" sz="3000" spc="-1" strike="noStrike">
                <a:solidFill>
                  <a:srgbClr val="ffff00"/>
                </a:solidFill>
                <a:latin typeface="Corbel"/>
              </a:rPr>
              <a:t>Change in internal energy equals heat in minus work out</a:t>
            </a:r>
            <a:r>
              <a:rPr b="1" i="1" lang="en-US" sz="3000" spc="-1" strike="noStrike">
                <a:solidFill>
                  <a:srgbClr val="ff0000"/>
                </a:solidFill>
                <a:latin typeface="Corbel"/>
              </a:rPr>
              <a:t>”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Corbel"/>
              </a:rPr>
              <a:t>where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ffcc"/>
                </a:solidFill>
                <a:latin typeface="Corbe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Corbel"/>
              </a:rPr>
              <a:t>Internal energy: thermal + stored energi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Corbe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Corbel"/>
              </a:rPr>
              <a:t>Heat in:  heat transferred into objec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Corbe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Corbel"/>
              </a:rPr>
              <a:t>Work out:  external work done by objec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0" name="عنصر نائب للتذييل 6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spcBef>
                <a:spcPts val="275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  <a:ea typeface="Tahoma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عنصر نائب لرقم الشريحة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E073-009A-477E-BC20-CF264D4FA077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nsolas"/>
              </a:rPr>
              <a:t>Order versus Disorder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Corbel"/>
              </a:rPr>
              <a:t>It is easy to convert ordered energy into thermal (disordered) energ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Corbel"/>
              </a:rPr>
              <a:t>It is hard to converting thermal energy into ordered energ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Corbel"/>
              </a:rPr>
              <a:t>Statistically, order to disorder is one-wa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4" name="عنصر نائب للتذييل 6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spcBef>
                <a:spcPts val="275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  <a:ea typeface="Tahoma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عنصر نائب لرقم الشريحة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C8A0-301D-43BB-BD04-489A3DD98D20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31T19:25:18Z</dcterms:created>
  <dc:creator>Louis Bloomfield</dc:creator>
  <dc:description/>
  <dc:language>en-US</dc:language>
  <cp:lastModifiedBy>Salwa Alsaleh</cp:lastModifiedBy>
  <cp:lastPrinted>1999-11-12T15:17:42Z</cp:lastPrinted>
  <dcterms:modified xsi:type="dcterms:W3CDTF">2017-04-08T15:24:30Z</dcterms:modified>
  <cp:revision>164</cp:revision>
  <dc:subject/>
  <dc:title>How Things Work</dc:title>
</cp:coreProperties>
</file>