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21.png" ContentType="image/png"/>
  <Override PartName="/ppt/media/image12.wmf" ContentType="image/x-wmf"/>
  <Override PartName="/ppt/media/image4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.jpeg" ContentType="image/jpeg"/>
  <Override PartName="/ppt/media/image19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ED8B-203E-48AF-9ADE-D3F0326864A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1A48-8C83-4EA7-9E31-90CCE6D7BCA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BD13-EADF-4326-AE8F-A0B0622CC64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8CBD-28A9-46DB-B47B-8023560E7A1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C16E-1C67-41BB-942B-B4D11666FC1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B15B-B218-434F-B14D-A111F7FE401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90FF-73CF-45F1-8591-6DBAEA84D01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017E-0A1D-4654-B553-17836F2DDE4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3F2A-B755-4038-82B7-F04CBCE7D2E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2440-CF08-461B-8913-0D66440243A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2165-9CA4-49E5-8D0B-874CC819BE9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515D-851C-4833-A563-94245055BC2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4076-4D07-4960-B77F-F3BCFEF0DFF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0462-5B4C-473C-8A11-0896BA19F81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AC62-206D-4B2C-82CD-BC8644A37E7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12E4-BEED-44BE-8283-8970F115535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E4A8-55F4-4D95-B46C-08DDA9BA4A9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4CA8-D22B-42AB-AD58-A6DA8FF267F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C7DF-F2FE-4964-B23A-90B60A09454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2A9C-F215-4E93-9AAF-2C60A180AB9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53FD-407D-49A7-947F-D8395471DB6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B35-6730-458F-A863-DAA8EE89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491-F27A-45F9-9BFE-740379CA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AFB-5797-4D2C-AD72-AED73D3D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8C5-E326-49EF-8E41-FC9F806E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903-C9DC-45A8-944D-0AE10A0F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5EB-D55D-4A67-85F8-04D2A17E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594-AEE5-4BD5-B92D-7CBF0AF0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0DE-0C56-4DF7-BE53-2192AC14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BD99-CAF6-497F-BA52-0A79E591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AA63-5C12-4B98-920C-DB733B48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6E7-E3E1-48F0-AE42-95C602BD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5C5-6B8C-453F-96C9-3803D82B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47B2-F9A4-48C8-9289-81C93D361FD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09480" y="2133720"/>
            <a:ext cx="198144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762120" y="2133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HL.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over2"/>
          <p:cNvPicPr/>
          <p:nvPr/>
        </p:nvPicPr>
        <p:blipFill>
          <a:blip r:embed="rId1"/>
          <a:stretch/>
        </p:blipFill>
        <p:spPr>
          <a:xfrm>
            <a:off x="3352680" y="304920"/>
            <a:ext cx="546120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143000" y="5029200"/>
            <a:ext cx="70102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 A. Alshamrani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Assist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Pharmacology &amp; Toxicolog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Pharmacy , King Saud University</a:t>
            </a:r>
            <a:br>
              <a:rPr sz="20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aalshamrani@ksu.edu.sa</a:t>
            </a:r>
            <a:br>
              <a:rPr sz="14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523880" y="228600"/>
            <a:ext cx="56390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28600" y="1522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371600" y="2286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  <a:ea typeface="Arial"/>
              </a:rPr>
              <a:t>Dose – Response Curve</a:t>
            </a:r>
            <a:r>
              <a:rPr b="0" lang="en-GB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914400" y="1600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 + R             DR complex                      Respo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1295280" y="4572000"/>
            <a:ext cx="6098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590920" y="4572000"/>
            <a:ext cx="990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191120" y="4572000"/>
            <a:ext cx="990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5943600" y="4572000"/>
            <a:ext cx="99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7696080" y="457200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19051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2590920" y="3962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358128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V="1">
            <a:off x="4191120" y="3428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V="1">
            <a:off x="5181480" y="3124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 flipV="1">
            <a:off x="5943600" y="28951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6934320" y="28951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 flipV="1">
            <a:off x="7696080" y="28951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1905120" y="3936960"/>
            <a:ext cx="685800" cy="355680"/>
          </a:xfrm>
          <a:custGeom>
            <a:avLst/>
            <a:gdLst/>
            <a:ahLst/>
            <a:rect l="l" t="t" r="r" b="b"/>
            <a:pathLst>
              <a:path w="432" h="224">
                <a:moveTo>
                  <a:pt x="0" y="160"/>
                </a:moveTo>
                <a:cubicBezTo>
                  <a:pt x="16" y="184"/>
                  <a:pt x="32" y="208"/>
                  <a:pt x="48" y="208"/>
                </a:cubicBezTo>
                <a:cubicBezTo>
                  <a:pt x="64" y="208"/>
                  <a:pt x="80" y="160"/>
                  <a:pt x="96" y="160"/>
                </a:cubicBezTo>
                <a:cubicBezTo>
                  <a:pt x="112" y="160"/>
                  <a:pt x="136" y="224"/>
                  <a:pt x="144" y="208"/>
                </a:cubicBezTo>
                <a:cubicBezTo>
                  <a:pt x="152" y="192"/>
                  <a:pt x="128" y="80"/>
                  <a:pt x="144" y="64"/>
                </a:cubicBezTo>
                <a:cubicBezTo>
                  <a:pt x="160" y="48"/>
                  <a:pt x="224" y="120"/>
                  <a:pt x="240" y="112"/>
                </a:cubicBezTo>
                <a:cubicBezTo>
                  <a:pt x="256" y="104"/>
                  <a:pt x="216" y="16"/>
                  <a:pt x="240" y="16"/>
                </a:cubicBezTo>
                <a:cubicBezTo>
                  <a:pt x="264" y="16"/>
                  <a:pt x="360" y="112"/>
                  <a:pt x="384" y="112"/>
                </a:cubicBezTo>
                <a:cubicBezTo>
                  <a:pt x="408" y="112"/>
                  <a:pt x="376" y="32"/>
                  <a:pt x="384" y="16"/>
                </a:cubicBezTo>
                <a:cubicBezTo>
                  <a:pt x="392" y="0"/>
                  <a:pt x="424" y="16"/>
                  <a:pt x="43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0"/>
          <p:cNvSpPr/>
          <p:nvPr/>
        </p:nvSpPr>
        <p:spPr>
          <a:xfrm>
            <a:off x="3581280" y="3403440"/>
            <a:ext cx="609840" cy="343080"/>
          </a:xfrm>
          <a:custGeom>
            <a:avLst/>
            <a:gdLst/>
            <a:ahLst/>
            <a:rect l="l" t="t" r="r" b="b"/>
            <a:pathLst>
              <a:path w="384" h="216">
                <a:moveTo>
                  <a:pt x="0" y="208"/>
                </a:moveTo>
                <a:cubicBezTo>
                  <a:pt x="40" y="212"/>
                  <a:pt x="80" y="216"/>
                  <a:pt x="96" y="208"/>
                </a:cubicBezTo>
                <a:cubicBezTo>
                  <a:pt x="112" y="200"/>
                  <a:pt x="80" y="168"/>
                  <a:pt x="96" y="160"/>
                </a:cubicBezTo>
                <a:cubicBezTo>
                  <a:pt x="112" y="152"/>
                  <a:pt x="176" y="168"/>
                  <a:pt x="192" y="160"/>
                </a:cubicBezTo>
                <a:cubicBezTo>
                  <a:pt x="208" y="152"/>
                  <a:pt x="184" y="120"/>
                  <a:pt x="192" y="112"/>
                </a:cubicBezTo>
                <a:cubicBezTo>
                  <a:pt x="200" y="104"/>
                  <a:pt x="224" y="128"/>
                  <a:pt x="240" y="112"/>
                </a:cubicBezTo>
                <a:cubicBezTo>
                  <a:pt x="256" y="96"/>
                  <a:pt x="272" y="32"/>
                  <a:pt x="288" y="16"/>
                </a:cubicBezTo>
                <a:cubicBezTo>
                  <a:pt x="304" y="0"/>
                  <a:pt x="320" y="16"/>
                  <a:pt x="336" y="16"/>
                </a:cubicBezTo>
                <a:cubicBezTo>
                  <a:pt x="352" y="16"/>
                  <a:pt x="376" y="16"/>
                  <a:pt x="384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1"/>
          <p:cNvSpPr/>
          <p:nvPr/>
        </p:nvSpPr>
        <p:spPr>
          <a:xfrm>
            <a:off x="5181480" y="2882880"/>
            <a:ext cx="762120" cy="330120"/>
          </a:xfrm>
          <a:custGeom>
            <a:avLst/>
            <a:gdLst/>
            <a:ahLst/>
            <a:rect l="l" t="t" r="r" b="b"/>
            <a:pathLst>
              <a:path w="480" h="208">
                <a:moveTo>
                  <a:pt x="0" y="152"/>
                </a:moveTo>
                <a:cubicBezTo>
                  <a:pt x="40" y="180"/>
                  <a:pt x="80" y="208"/>
                  <a:pt x="96" y="200"/>
                </a:cubicBezTo>
                <a:cubicBezTo>
                  <a:pt x="112" y="192"/>
                  <a:pt x="80" y="112"/>
                  <a:pt x="96" y="104"/>
                </a:cubicBezTo>
                <a:cubicBezTo>
                  <a:pt x="112" y="96"/>
                  <a:pt x="176" y="160"/>
                  <a:pt x="192" y="152"/>
                </a:cubicBezTo>
                <a:cubicBezTo>
                  <a:pt x="208" y="144"/>
                  <a:pt x="176" y="72"/>
                  <a:pt x="192" y="56"/>
                </a:cubicBezTo>
                <a:cubicBezTo>
                  <a:pt x="208" y="40"/>
                  <a:pt x="264" y="64"/>
                  <a:pt x="288" y="56"/>
                </a:cubicBezTo>
                <a:cubicBezTo>
                  <a:pt x="312" y="48"/>
                  <a:pt x="320" y="16"/>
                  <a:pt x="336" y="8"/>
                </a:cubicBezTo>
                <a:cubicBezTo>
                  <a:pt x="352" y="0"/>
                  <a:pt x="360" y="8"/>
                  <a:pt x="384" y="8"/>
                </a:cubicBezTo>
                <a:cubicBezTo>
                  <a:pt x="408" y="8"/>
                  <a:pt x="464" y="8"/>
                  <a:pt x="48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2"/>
          <p:cNvSpPr/>
          <p:nvPr/>
        </p:nvSpPr>
        <p:spPr>
          <a:xfrm>
            <a:off x="6934320" y="2819520"/>
            <a:ext cx="761760" cy="88920"/>
          </a:xfrm>
          <a:custGeom>
            <a:avLst/>
            <a:gdLst/>
            <a:ahLst/>
            <a:rect l="l" t="t" r="r" b="b"/>
            <a:pathLst>
              <a:path w="480" h="56">
                <a:moveTo>
                  <a:pt x="0" y="48"/>
                </a:moveTo>
                <a:cubicBezTo>
                  <a:pt x="16" y="48"/>
                  <a:pt x="32" y="48"/>
                  <a:pt x="48" y="48"/>
                </a:cubicBezTo>
                <a:cubicBezTo>
                  <a:pt x="64" y="48"/>
                  <a:pt x="72" y="48"/>
                  <a:pt x="96" y="48"/>
                </a:cubicBezTo>
                <a:cubicBezTo>
                  <a:pt x="120" y="48"/>
                  <a:pt x="176" y="56"/>
                  <a:pt x="192" y="48"/>
                </a:cubicBezTo>
                <a:cubicBezTo>
                  <a:pt x="208" y="40"/>
                  <a:pt x="184" y="0"/>
                  <a:pt x="192" y="0"/>
                </a:cubicBezTo>
                <a:cubicBezTo>
                  <a:pt x="200" y="0"/>
                  <a:pt x="224" y="40"/>
                  <a:pt x="240" y="48"/>
                </a:cubicBezTo>
                <a:cubicBezTo>
                  <a:pt x="256" y="56"/>
                  <a:pt x="264" y="48"/>
                  <a:pt x="288" y="48"/>
                </a:cubicBezTo>
                <a:cubicBezTo>
                  <a:pt x="312" y="48"/>
                  <a:pt x="360" y="48"/>
                  <a:pt x="384" y="48"/>
                </a:cubicBezTo>
                <a:cubicBezTo>
                  <a:pt x="408" y="48"/>
                  <a:pt x="416" y="48"/>
                  <a:pt x="432" y="48"/>
                </a:cubicBezTo>
                <a:cubicBezTo>
                  <a:pt x="448" y="48"/>
                  <a:pt x="472" y="48"/>
                  <a:pt x="48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 flipH="1">
            <a:off x="7596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 flipV="1">
            <a:off x="68580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 flipV="1">
            <a:off x="129528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6"/>
          <p:cNvSpPr/>
          <p:nvPr/>
        </p:nvSpPr>
        <p:spPr>
          <a:xfrm>
            <a:off x="685800" y="4330800"/>
            <a:ext cx="609480" cy="101520"/>
          </a:xfrm>
          <a:custGeom>
            <a:avLst/>
            <a:gdLst/>
            <a:ahLst/>
            <a:rect l="l" t="t" r="r" b="b"/>
            <a:pathLst>
              <a:path w="384" h="64">
                <a:moveTo>
                  <a:pt x="0" y="56"/>
                </a:moveTo>
                <a:cubicBezTo>
                  <a:pt x="12" y="60"/>
                  <a:pt x="24" y="64"/>
                  <a:pt x="48" y="56"/>
                </a:cubicBezTo>
                <a:cubicBezTo>
                  <a:pt x="72" y="48"/>
                  <a:pt x="112" y="8"/>
                  <a:pt x="144" y="8"/>
                </a:cubicBezTo>
                <a:cubicBezTo>
                  <a:pt x="176" y="8"/>
                  <a:pt x="224" y="56"/>
                  <a:pt x="240" y="56"/>
                </a:cubicBezTo>
                <a:cubicBezTo>
                  <a:pt x="256" y="56"/>
                  <a:pt x="216" y="16"/>
                  <a:pt x="240" y="8"/>
                </a:cubicBezTo>
                <a:cubicBezTo>
                  <a:pt x="264" y="0"/>
                  <a:pt x="324" y="4"/>
                  <a:pt x="384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7"/>
          <p:cNvSpPr/>
          <p:nvPr/>
        </p:nvSpPr>
        <p:spPr>
          <a:xfrm>
            <a:off x="6019920" y="29718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6324480" y="3429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 flipV="1">
            <a:off x="68580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V="1">
            <a:off x="190512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 flipV="1">
            <a:off x="358128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2"/>
          <p:cNvSpPr/>
          <p:nvPr/>
        </p:nvSpPr>
        <p:spPr>
          <a:xfrm flipV="1">
            <a:off x="518148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 flipV="1">
            <a:off x="693432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1676520" y="54100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380880" y="5105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0.1ml         0.2ml                   0.4ml                 0.8ml                1.6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6"/>
          <p:cNvSpPr/>
          <p:nvPr/>
        </p:nvSpPr>
        <p:spPr>
          <a:xfrm flipV="1">
            <a:off x="1371600" y="28954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1981080" y="25909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w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8"/>
          <p:cNvSpPr/>
          <p:nvPr/>
        </p:nvSpPr>
        <p:spPr>
          <a:xfrm>
            <a:off x="19051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9"/>
          <p:cNvSpPr/>
          <p:nvPr/>
        </p:nvSpPr>
        <p:spPr>
          <a:xfrm>
            <a:off x="4419720" y="190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523880" y="228600"/>
            <a:ext cx="56390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594440" y="228600"/>
            <a:ext cx="565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  <a:ea typeface="Arial"/>
              </a:rPr>
              <a:t>Dose – Response Curve</a:t>
            </a:r>
            <a:r>
              <a:rPr b="0" lang="en-GB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9320" y="1447920"/>
          <a:ext cx="6095880" cy="45021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1206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s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/R max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)*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6753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1090440" y="1101600"/>
          <a:ext cx="696312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1101600"/>
                    <a:ext cx="696312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228600" y="685800"/>
          <a:ext cx="8686800" cy="54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85800"/>
                    <a:ext cx="86868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4"/>
          <p:cNvSpPr/>
          <p:nvPr/>
        </p:nvSpPr>
        <p:spPr>
          <a:xfrm>
            <a:off x="1219320" y="3581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373392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733920" y="4419720"/>
            <a:ext cx="175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D 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50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 3.75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Imprint MT Shadow"/>
              </a:rPr>
              <a:t>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30E0-39EA-4D04-B835-83D47F2CBC8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ic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ic is a combination of two words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uto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om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ng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many organs &amp; muscles ( involuntary )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ardiac muscle, intestinal smooth muscles, stomach , and Blood vessel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3FB9-04D7-4076-A17B-2434C5E9EBF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I10-51-ANS2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9933-BBCB-4B5A-A539-28DCB938879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5"/>
          <p:cNvGrpSpPr/>
          <p:nvPr/>
        </p:nvGrpSpPr>
        <p:grpSpPr>
          <a:xfrm>
            <a:off x="304920" y="152280"/>
            <a:ext cx="8228880" cy="4524840"/>
            <a:chOff x="304920" y="152280"/>
            <a:chExt cx="8228880" cy="4524840"/>
          </a:xfrm>
        </p:grpSpPr>
        <p:sp>
          <p:nvSpPr>
            <p:cNvPr id="161" name="AutoShape 4"/>
            <p:cNvSpPr/>
            <p:nvPr/>
          </p:nvSpPr>
          <p:spPr>
            <a:xfrm>
              <a:off x="304920" y="152280"/>
              <a:ext cx="8228880" cy="45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_s12300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074200" y="1306080"/>
              <a:ext cx="905400" cy="22154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2298"/>
            <p:cNvCxnSpPr>
              <a:stCxn id="166" idx="0"/>
              <a:endCxn id="164" idx="2"/>
            </p:cNvCxnSpPr>
            <p:nvPr/>
          </p:nvCxnSpPr>
          <p:spPr>
            <a:xfrm flipH="1" flipV="1" rot="5400000">
              <a:off x="2858400" y="1306080"/>
              <a:ext cx="905400" cy="2216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2294"/>
            <p:cNvSpPr/>
            <p:nvPr/>
          </p:nvSpPr>
          <p:spPr>
            <a:xfrm>
              <a:off x="2520720" y="15228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Imprint MT Shadow"/>
                  <a:ea typeface="Arial"/>
                </a:rPr>
                <a:t>Autonomic Nervous System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2295"/>
            <p:cNvSpPr/>
            <p:nvPr/>
          </p:nvSpPr>
          <p:spPr>
            <a:xfrm>
              <a:off x="304920" y="286704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Parasympatheic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st , Digest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nserving the energ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2297"/>
            <p:cNvSpPr/>
            <p:nvPr/>
          </p:nvSpPr>
          <p:spPr>
            <a:xfrm>
              <a:off x="4735800" y="286704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Sympathetic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ight , Fligh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Utilizing the energ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4237-45DE-4C78-9215-A117CC75EA9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4557600" y="3413160"/>
          <a:ext cx="27000" cy="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0" y="3413160"/>
                    <a:ext cx="27000" cy="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CF09-B4A6-4E44-806E-E1931F81FC5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rgic Re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8"/>
          <p:cNvGrpSpPr/>
          <p:nvPr/>
        </p:nvGrpSpPr>
        <p:grpSpPr>
          <a:xfrm>
            <a:off x="0" y="685800"/>
            <a:ext cx="8457120" cy="2971440"/>
            <a:chOff x="0" y="685800"/>
            <a:chExt cx="8457120" cy="2971440"/>
          </a:xfrm>
        </p:grpSpPr>
        <p:sp>
          <p:nvSpPr>
            <p:cNvPr id="174" name="AutoShape 7"/>
            <p:cNvSpPr/>
            <p:nvPr/>
          </p:nvSpPr>
          <p:spPr>
            <a:xfrm>
              <a:off x="0" y="685800"/>
              <a:ext cx="8457120" cy="29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5" name="_s16401"/>
            <p:cNvCxnSpPr>
              <a:stCxn id="176" idx="1"/>
              <a:endCxn id="177" idx="2"/>
            </p:cNvCxnSpPr>
            <p:nvPr/>
          </p:nvCxnSpPr>
          <p:spPr>
            <a:xfrm rot="10800000">
              <a:off x="2536200" y="1427760"/>
              <a:ext cx="846360" cy="185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6397"/>
            <p:cNvCxnSpPr>
              <a:stCxn id="179" idx="1"/>
              <a:endCxn id="177" idx="2"/>
            </p:cNvCxnSpPr>
            <p:nvPr/>
          </p:nvCxnSpPr>
          <p:spPr>
            <a:xfrm rot="10800000">
              <a:off x="2536200" y="1427760"/>
              <a:ext cx="846360" cy="743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7" name="_s16393"/>
            <p:cNvSpPr/>
            <p:nvPr/>
          </p:nvSpPr>
          <p:spPr>
            <a:xfrm>
              <a:off x="0" y="685800"/>
              <a:ext cx="5074200" cy="742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olinergic Recep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6394"/>
            <p:cNvSpPr/>
            <p:nvPr/>
          </p:nvSpPr>
          <p:spPr>
            <a:xfrm>
              <a:off x="3382560" y="1800000"/>
              <a:ext cx="5074200" cy="742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uscarini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sympathetic Postjuncional Neuroeffector si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1,M2,M3,M4,M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6400"/>
            <p:cNvSpPr/>
            <p:nvPr/>
          </p:nvSpPr>
          <p:spPr>
            <a:xfrm>
              <a:off x="3382560" y="2914200"/>
              <a:ext cx="5074200" cy="742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Nicotini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 the ganglia of both the Parasympathetic &amp; Sympathetic branches of the A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uromuscular junctions of the Somatic nervous syste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0" name="Object 18"/>
          <p:cNvGraphicFramePr/>
          <p:nvPr/>
        </p:nvGraphicFramePr>
        <p:xfrm>
          <a:off x="3276720" y="3733920"/>
          <a:ext cx="3124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733920"/>
                    <a:ext cx="3124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5135-C3AE-4BAE-96B6-F2D323B8513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4556160" y="1471680"/>
          <a:ext cx="31680" cy="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6160" y="1471680"/>
                    <a:ext cx="31680" cy="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4"/>
          <p:cNvSpPr/>
          <p:nvPr/>
        </p:nvSpPr>
        <p:spPr>
          <a:xfrm>
            <a:off x="762120" y="4267080"/>
            <a:ext cx="7162560" cy="1371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6320" y="3048120"/>
            <a:ext cx="906768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“Muscarinic Actions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- Similar to those 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asympathetic st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•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1): CNS, PNS, Gastric Parietal Ce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•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2): Conducting tiss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•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3): Exocrine glands; smooth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nervoussystem"/>
          <p:cNvPicPr/>
          <p:nvPr/>
        </p:nvPicPr>
        <p:blipFill>
          <a:blip r:embed="rId1"/>
          <a:stretch/>
        </p:blipFill>
        <p:spPr>
          <a:xfrm>
            <a:off x="762120" y="83808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7779-C425-4FEE-B372-807232A24B5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rg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sympathomimetics]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9999"/>
                </a:solidFill>
                <a:uFillTx/>
                <a:latin typeface="Times New Roman"/>
                <a:ea typeface="ＭＳ Ｐゴシック"/>
              </a:rPr>
              <a:t>Direct acting agonists:</a:t>
            </a: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duced by chemical substitutions. These substitutions produce compounds that are more resistant to acetyl cholinesterase and have longer durations of action which act by direct interaction with cholinergic recep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Bethanech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ilocarp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Carbach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9999"/>
                </a:solidFill>
                <a:uFillTx/>
                <a:latin typeface="Times New Roman"/>
                <a:ea typeface="ＭＳ Ｐゴシック"/>
              </a:rPr>
              <a:t>Indirect acting agon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y are generally acetyl cholinesterase inhibitors and are divided into two major cla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Reversible (short-acting) agents: [ Carbamic acid esters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Physostig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Neostig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yridostig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Ambenon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B)   Irreversible (long-acting) agents: [ Organophosphate esters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sofluro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chothioph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2247-C3DC-4847-975F-D9E9299D052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rg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agon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holinergic Agent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the actions of acetylcholine at muscarinic or nicotinic cholinoceptors. Cholinergic antagonists </a:t>
            </a:r>
            <a:r>
              <a:rPr b="1" i="1" lang="en-US" sz="1600" spc="-1" strike="noStrike">
                <a:solidFill>
                  <a:srgbClr val="336600"/>
                </a:solidFill>
                <a:latin typeface="Arial"/>
              </a:rPr>
              <a:t>competitively inhib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he activity of endogenous 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</a:rPr>
              <a:t>Antimuscarinic agen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 muscarinic receptor-mediated respon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Atrop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Scopola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Ipratrop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</a:rPr>
              <a:t>Ganglionic-blocking agent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hibit nicotini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ptor-mediated responses at the gangl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Hexamethon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Pentamethon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</a:rPr>
              <a:t>Neuromuscular-blocking agent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hibit nicotini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ptor-mediated responses at the neuromuscular j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on-depolarizing 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D-tubocurar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epolarizing 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suxamethonium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052F-F01B-48A3-9E7E-18DC95D9457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Imprint MT Shadow"/>
              </a:rPr>
              <a:t>Lab#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Imprint MT Shadow"/>
              </a:rPr>
              <a:t>Effect of cholinergic drugs on intestine and % of antagonism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9926-4BE8-4924-9209-8421174493E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ffect Of Nicotine &amp; Hexametho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19520" y="1828800"/>
            <a:ext cx="3657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f antagonis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* 1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 flipH="1">
            <a:off x="3504960" y="2895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38088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2209680" y="4724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"/>
          <p:cNvSpPr/>
          <p:nvPr/>
        </p:nvSpPr>
        <p:spPr>
          <a:xfrm>
            <a:off x="1600200" y="3276720"/>
            <a:ext cx="635040" cy="1460520"/>
          </a:xfrm>
          <a:custGeom>
            <a:avLst/>
            <a:gdLst/>
            <a:ahLst/>
            <a:rect l="l" t="t" r="r" b="b"/>
            <a:pathLst>
              <a:path w="400" h="920">
                <a:moveTo>
                  <a:pt x="0" y="920"/>
                </a:moveTo>
                <a:cubicBezTo>
                  <a:pt x="16" y="808"/>
                  <a:pt x="32" y="696"/>
                  <a:pt x="48" y="632"/>
                </a:cubicBezTo>
                <a:cubicBezTo>
                  <a:pt x="64" y="568"/>
                  <a:pt x="72" y="568"/>
                  <a:pt x="96" y="536"/>
                </a:cubicBezTo>
                <a:cubicBezTo>
                  <a:pt x="120" y="504"/>
                  <a:pt x="160" y="472"/>
                  <a:pt x="192" y="440"/>
                </a:cubicBezTo>
                <a:cubicBezTo>
                  <a:pt x="224" y="408"/>
                  <a:pt x="256" y="416"/>
                  <a:pt x="288" y="344"/>
                </a:cubicBezTo>
                <a:cubicBezTo>
                  <a:pt x="320" y="272"/>
                  <a:pt x="368" y="16"/>
                  <a:pt x="384" y="8"/>
                </a:cubicBezTo>
                <a:cubicBezTo>
                  <a:pt x="400" y="0"/>
                  <a:pt x="384" y="224"/>
                  <a:pt x="384" y="296"/>
                </a:cubicBezTo>
                <a:cubicBezTo>
                  <a:pt x="384" y="368"/>
                  <a:pt x="384" y="336"/>
                  <a:pt x="384" y="440"/>
                </a:cubicBezTo>
                <a:cubicBezTo>
                  <a:pt x="384" y="544"/>
                  <a:pt x="384" y="840"/>
                  <a:pt x="384" y="9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9"/>
          <p:cNvSpPr/>
          <p:nvPr/>
        </p:nvSpPr>
        <p:spPr>
          <a:xfrm>
            <a:off x="3733920" y="4648320"/>
            <a:ext cx="304560" cy="75960"/>
          </a:xfrm>
          <a:custGeom>
            <a:avLst/>
            <a:gdLst/>
            <a:ahLst/>
            <a:rect l="l" t="t" r="r" b="b"/>
            <a:pathLst>
              <a:path w="192" h="160">
                <a:moveTo>
                  <a:pt x="0" y="160"/>
                </a:moveTo>
                <a:cubicBezTo>
                  <a:pt x="36" y="124"/>
                  <a:pt x="72" y="88"/>
                  <a:pt x="96" y="64"/>
                </a:cubicBezTo>
                <a:cubicBezTo>
                  <a:pt x="120" y="40"/>
                  <a:pt x="128" y="0"/>
                  <a:pt x="144" y="16"/>
                </a:cubicBezTo>
                <a:cubicBezTo>
                  <a:pt x="160" y="32"/>
                  <a:pt x="184" y="136"/>
                  <a:pt x="192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0"/>
          <p:cNvSpPr/>
          <p:nvPr/>
        </p:nvSpPr>
        <p:spPr>
          <a:xfrm>
            <a:off x="6629400" y="4559400"/>
            <a:ext cx="1066680" cy="190440"/>
          </a:xfrm>
          <a:custGeom>
            <a:avLst/>
            <a:gdLst/>
            <a:ahLst/>
            <a:rect l="l" t="t" r="r" b="b"/>
            <a:pathLst>
              <a:path w="672" h="120">
                <a:moveTo>
                  <a:pt x="0" y="104"/>
                </a:moveTo>
                <a:cubicBezTo>
                  <a:pt x="8" y="88"/>
                  <a:pt x="16" y="72"/>
                  <a:pt x="48" y="56"/>
                </a:cubicBezTo>
                <a:cubicBezTo>
                  <a:pt x="80" y="40"/>
                  <a:pt x="160" y="0"/>
                  <a:pt x="192" y="8"/>
                </a:cubicBezTo>
                <a:cubicBezTo>
                  <a:pt x="224" y="16"/>
                  <a:pt x="160" y="88"/>
                  <a:pt x="240" y="104"/>
                </a:cubicBezTo>
                <a:cubicBezTo>
                  <a:pt x="320" y="120"/>
                  <a:pt x="496" y="112"/>
                  <a:pt x="672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1"/>
          <p:cNvSpPr/>
          <p:nvPr/>
        </p:nvSpPr>
        <p:spPr>
          <a:xfrm flipV="1">
            <a:off x="22096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2"/>
          <p:cNvSpPr/>
          <p:nvPr/>
        </p:nvSpPr>
        <p:spPr>
          <a:xfrm flipV="1">
            <a:off x="3962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 flipV="1">
            <a:off x="68580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1219320" y="55627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l. 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3124080" y="5562720"/>
            <a:ext cx="2133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examethonium (C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5715000" y="5562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l. 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H="1">
            <a:off x="2819520" y="44197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320040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as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9"/>
          <p:cNvSpPr/>
          <p:nvPr/>
        </p:nvSpPr>
        <p:spPr>
          <a:xfrm>
            <a:off x="4267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487692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 Was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1"/>
          <p:cNvSpPr/>
          <p:nvPr/>
        </p:nvSpPr>
        <p:spPr>
          <a:xfrm>
            <a:off x="2362320" y="33526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2"/>
          <p:cNvSpPr/>
          <p:nvPr/>
        </p:nvSpPr>
        <p:spPr>
          <a:xfrm>
            <a:off x="7086600" y="4419720"/>
            <a:ext cx="76320" cy="228600"/>
          </a:xfrm>
          <a:custGeom>
            <a:avLst/>
            <a:gdLst>
              <a:gd name="textAreaLeft" fmla="*/ 0 w 76320"/>
              <a:gd name="textAreaRight" fmla="*/ 27360 w 763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2666880" y="37339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4"/>
          <p:cNvSpPr/>
          <p:nvPr/>
        </p:nvSpPr>
        <p:spPr>
          <a:xfrm>
            <a:off x="7162920" y="42670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94AD-8098-4B49-B36A-FDE05588AEA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ffect Of Ach &amp; Atropi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819520" y="1828800"/>
            <a:ext cx="3657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f antagonis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* 1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"/>
          <p:cNvSpPr/>
          <p:nvPr/>
        </p:nvSpPr>
        <p:spPr>
          <a:xfrm flipH="1">
            <a:off x="3504960" y="2895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"/>
          <p:cNvSpPr/>
          <p:nvPr/>
        </p:nvSpPr>
        <p:spPr>
          <a:xfrm>
            <a:off x="38088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2209680" y="4724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8"/>
          <p:cNvSpPr/>
          <p:nvPr/>
        </p:nvSpPr>
        <p:spPr>
          <a:xfrm>
            <a:off x="1600200" y="3276720"/>
            <a:ext cx="635040" cy="1460520"/>
          </a:xfrm>
          <a:custGeom>
            <a:avLst/>
            <a:gdLst/>
            <a:ahLst/>
            <a:rect l="l" t="t" r="r" b="b"/>
            <a:pathLst>
              <a:path w="400" h="920">
                <a:moveTo>
                  <a:pt x="0" y="920"/>
                </a:moveTo>
                <a:cubicBezTo>
                  <a:pt x="16" y="808"/>
                  <a:pt x="32" y="696"/>
                  <a:pt x="48" y="632"/>
                </a:cubicBezTo>
                <a:cubicBezTo>
                  <a:pt x="64" y="568"/>
                  <a:pt x="72" y="568"/>
                  <a:pt x="96" y="536"/>
                </a:cubicBezTo>
                <a:cubicBezTo>
                  <a:pt x="120" y="504"/>
                  <a:pt x="160" y="472"/>
                  <a:pt x="192" y="440"/>
                </a:cubicBezTo>
                <a:cubicBezTo>
                  <a:pt x="224" y="408"/>
                  <a:pt x="256" y="416"/>
                  <a:pt x="288" y="344"/>
                </a:cubicBezTo>
                <a:cubicBezTo>
                  <a:pt x="320" y="272"/>
                  <a:pt x="368" y="16"/>
                  <a:pt x="384" y="8"/>
                </a:cubicBezTo>
                <a:cubicBezTo>
                  <a:pt x="400" y="0"/>
                  <a:pt x="384" y="224"/>
                  <a:pt x="384" y="296"/>
                </a:cubicBezTo>
                <a:cubicBezTo>
                  <a:pt x="384" y="368"/>
                  <a:pt x="384" y="336"/>
                  <a:pt x="384" y="440"/>
                </a:cubicBezTo>
                <a:cubicBezTo>
                  <a:pt x="384" y="544"/>
                  <a:pt x="384" y="840"/>
                  <a:pt x="384" y="9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9"/>
          <p:cNvSpPr/>
          <p:nvPr/>
        </p:nvSpPr>
        <p:spPr>
          <a:xfrm>
            <a:off x="3733920" y="4648320"/>
            <a:ext cx="304560" cy="75960"/>
          </a:xfrm>
          <a:custGeom>
            <a:avLst/>
            <a:gdLst/>
            <a:ahLst/>
            <a:rect l="l" t="t" r="r" b="b"/>
            <a:pathLst>
              <a:path w="192" h="160">
                <a:moveTo>
                  <a:pt x="0" y="160"/>
                </a:moveTo>
                <a:cubicBezTo>
                  <a:pt x="36" y="124"/>
                  <a:pt x="72" y="88"/>
                  <a:pt x="96" y="64"/>
                </a:cubicBezTo>
                <a:cubicBezTo>
                  <a:pt x="120" y="40"/>
                  <a:pt x="128" y="0"/>
                  <a:pt x="144" y="16"/>
                </a:cubicBezTo>
                <a:cubicBezTo>
                  <a:pt x="160" y="32"/>
                  <a:pt x="184" y="136"/>
                  <a:pt x="192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"/>
          <p:cNvSpPr/>
          <p:nvPr/>
        </p:nvSpPr>
        <p:spPr>
          <a:xfrm>
            <a:off x="6629400" y="4559400"/>
            <a:ext cx="1066680" cy="190440"/>
          </a:xfrm>
          <a:custGeom>
            <a:avLst/>
            <a:gdLst/>
            <a:ahLst/>
            <a:rect l="l" t="t" r="r" b="b"/>
            <a:pathLst>
              <a:path w="672" h="120">
                <a:moveTo>
                  <a:pt x="0" y="104"/>
                </a:moveTo>
                <a:cubicBezTo>
                  <a:pt x="8" y="88"/>
                  <a:pt x="16" y="72"/>
                  <a:pt x="48" y="56"/>
                </a:cubicBezTo>
                <a:cubicBezTo>
                  <a:pt x="80" y="40"/>
                  <a:pt x="160" y="0"/>
                  <a:pt x="192" y="8"/>
                </a:cubicBezTo>
                <a:cubicBezTo>
                  <a:pt x="224" y="16"/>
                  <a:pt x="160" y="88"/>
                  <a:pt x="240" y="104"/>
                </a:cubicBezTo>
                <a:cubicBezTo>
                  <a:pt x="320" y="120"/>
                  <a:pt x="496" y="112"/>
                  <a:pt x="672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 flipV="1">
            <a:off x="19051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 flipV="1">
            <a:off x="3886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3"/>
          <p:cNvSpPr/>
          <p:nvPr/>
        </p:nvSpPr>
        <p:spPr>
          <a:xfrm flipV="1">
            <a:off x="68580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914400" y="5715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2895480" y="5715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tro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5791320" y="5791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7"/>
          <p:cNvSpPr/>
          <p:nvPr/>
        </p:nvSpPr>
        <p:spPr>
          <a:xfrm flipH="1">
            <a:off x="2819520" y="44197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320040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as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4267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487692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 Was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1"/>
          <p:cNvSpPr/>
          <p:nvPr/>
        </p:nvSpPr>
        <p:spPr>
          <a:xfrm>
            <a:off x="2362320" y="33526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2"/>
          <p:cNvSpPr/>
          <p:nvPr/>
        </p:nvSpPr>
        <p:spPr>
          <a:xfrm>
            <a:off x="7086600" y="4419720"/>
            <a:ext cx="76320" cy="228600"/>
          </a:xfrm>
          <a:custGeom>
            <a:avLst/>
            <a:gdLst>
              <a:gd name="textAreaLeft" fmla="*/ 0 w 76320"/>
              <a:gd name="textAreaRight" fmla="*/ 27360 w 763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2666880" y="37339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7162920" y="42670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07E2-891C-4FDD-BF5F-64AB4302B85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0" y="30492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ffect Of Bac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&amp; Atropi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04920" y="1295280"/>
            <a:ext cx="3657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f antagonis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* 1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 flipH="1">
            <a:off x="91404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38088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22096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657600" y="4724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8"/>
          <p:cNvSpPr/>
          <p:nvPr/>
        </p:nvSpPr>
        <p:spPr>
          <a:xfrm>
            <a:off x="1600200" y="3276720"/>
            <a:ext cx="635040" cy="1460520"/>
          </a:xfrm>
          <a:custGeom>
            <a:avLst/>
            <a:gdLst/>
            <a:ahLst/>
            <a:rect l="l" t="t" r="r" b="b"/>
            <a:pathLst>
              <a:path w="400" h="920">
                <a:moveTo>
                  <a:pt x="0" y="920"/>
                </a:moveTo>
                <a:cubicBezTo>
                  <a:pt x="16" y="808"/>
                  <a:pt x="32" y="696"/>
                  <a:pt x="48" y="632"/>
                </a:cubicBezTo>
                <a:cubicBezTo>
                  <a:pt x="64" y="568"/>
                  <a:pt x="72" y="568"/>
                  <a:pt x="96" y="536"/>
                </a:cubicBezTo>
                <a:cubicBezTo>
                  <a:pt x="120" y="504"/>
                  <a:pt x="160" y="472"/>
                  <a:pt x="192" y="440"/>
                </a:cubicBezTo>
                <a:cubicBezTo>
                  <a:pt x="224" y="408"/>
                  <a:pt x="256" y="416"/>
                  <a:pt x="288" y="344"/>
                </a:cubicBezTo>
                <a:cubicBezTo>
                  <a:pt x="320" y="272"/>
                  <a:pt x="368" y="16"/>
                  <a:pt x="384" y="8"/>
                </a:cubicBezTo>
                <a:cubicBezTo>
                  <a:pt x="400" y="0"/>
                  <a:pt x="384" y="224"/>
                  <a:pt x="384" y="296"/>
                </a:cubicBezTo>
                <a:cubicBezTo>
                  <a:pt x="384" y="368"/>
                  <a:pt x="384" y="336"/>
                  <a:pt x="384" y="440"/>
                </a:cubicBezTo>
                <a:cubicBezTo>
                  <a:pt x="384" y="544"/>
                  <a:pt x="384" y="840"/>
                  <a:pt x="384" y="9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9"/>
          <p:cNvSpPr/>
          <p:nvPr/>
        </p:nvSpPr>
        <p:spPr>
          <a:xfrm>
            <a:off x="3124080" y="4572000"/>
            <a:ext cx="533520" cy="152280"/>
          </a:xfrm>
          <a:custGeom>
            <a:avLst/>
            <a:gdLst/>
            <a:ahLst/>
            <a:rect l="l" t="t" r="r" b="b"/>
            <a:pathLst>
              <a:path w="192" h="160">
                <a:moveTo>
                  <a:pt x="0" y="160"/>
                </a:moveTo>
                <a:cubicBezTo>
                  <a:pt x="36" y="124"/>
                  <a:pt x="72" y="88"/>
                  <a:pt x="96" y="64"/>
                </a:cubicBezTo>
                <a:cubicBezTo>
                  <a:pt x="120" y="40"/>
                  <a:pt x="128" y="0"/>
                  <a:pt x="144" y="16"/>
                </a:cubicBezTo>
                <a:cubicBezTo>
                  <a:pt x="160" y="32"/>
                  <a:pt x="184" y="136"/>
                  <a:pt x="192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1600200" y="4876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 flipV="1">
            <a:off x="327672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 flipV="1">
            <a:off x="5181480" y="4876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533520" y="5410080"/>
            <a:ext cx="2133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ac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2286000" y="5410080"/>
            <a:ext cx="213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examethonium (C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191120" y="5410080"/>
            <a:ext cx="2133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ac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6"/>
          <p:cNvSpPr/>
          <p:nvPr/>
        </p:nvSpPr>
        <p:spPr>
          <a:xfrm flipH="1">
            <a:off x="2819160" y="4419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29718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as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 flipV="1">
            <a:off x="3886200" y="426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88620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o Wash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0"/>
          <p:cNvSpPr/>
          <p:nvPr/>
        </p:nvSpPr>
        <p:spPr>
          <a:xfrm>
            <a:off x="2362320" y="33526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1"/>
          <p:cNvSpPr/>
          <p:nvPr/>
        </p:nvSpPr>
        <p:spPr>
          <a:xfrm>
            <a:off x="5410080" y="342900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2666880" y="37339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5257800" y="3733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4"/>
          <p:cNvSpPr/>
          <p:nvPr/>
        </p:nvSpPr>
        <p:spPr>
          <a:xfrm>
            <a:off x="5562720" y="4724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5"/>
          <p:cNvSpPr/>
          <p:nvPr/>
        </p:nvSpPr>
        <p:spPr>
          <a:xfrm flipV="1">
            <a:off x="5562720" y="44956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6"/>
          <p:cNvSpPr/>
          <p:nvPr/>
        </p:nvSpPr>
        <p:spPr>
          <a:xfrm>
            <a:off x="586728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as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7"/>
          <p:cNvSpPr/>
          <p:nvPr/>
        </p:nvSpPr>
        <p:spPr>
          <a:xfrm>
            <a:off x="609588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5410080" y="5410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tro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9"/>
          <p:cNvSpPr/>
          <p:nvPr/>
        </p:nvSpPr>
        <p:spPr>
          <a:xfrm flipV="1">
            <a:off x="6477120" y="4876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6553080" y="4191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o Wash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1"/>
          <p:cNvSpPr/>
          <p:nvPr/>
        </p:nvSpPr>
        <p:spPr>
          <a:xfrm flipV="1">
            <a:off x="6629400" y="44956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2"/>
          <p:cNvSpPr/>
          <p:nvPr/>
        </p:nvSpPr>
        <p:spPr>
          <a:xfrm>
            <a:off x="6400800" y="3200400"/>
            <a:ext cx="1752480" cy="1778040"/>
          </a:xfrm>
          <a:custGeom>
            <a:avLst/>
            <a:gdLst/>
            <a:ahLst/>
            <a:rect l="l" t="t" r="r" b="b"/>
            <a:pathLst>
              <a:path w="1104" h="1120">
                <a:moveTo>
                  <a:pt x="0" y="960"/>
                </a:moveTo>
                <a:cubicBezTo>
                  <a:pt x="12" y="936"/>
                  <a:pt x="24" y="912"/>
                  <a:pt x="48" y="912"/>
                </a:cubicBezTo>
                <a:cubicBezTo>
                  <a:pt x="72" y="912"/>
                  <a:pt x="120" y="952"/>
                  <a:pt x="144" y="960"/>
                </a:cubicBezTo>
                <a:cubicBezTo>
                  <a:pt x="168" y="968"/>
                  <a:pt x="168" y="960"/>
                  <a:pt x="192" y="960"/>
                </a:cubicBezTo>
                <a:cubicBezTo>
                  <a:pt x="216" y="960"/>
                  <a:pt x="248" y="960"/>
                  <a:pt x="288" y="960"/>
                </a:cubicBezTo>
                <a:cubicBezTo>
                  <a:pt x="328" y="960"/>
                  <a:pt x="384" y="960"/>
                  <a:pt x="432" y="960"/>
                </a:cubicBezTo>
                <a:cubicBezTo>
                  <a:pt x="480" y="960"/>
                  <a:pt x="520" y="1120"/>
                  <a:pt x="576" y="960"/>
                </a:cubicBezTo>
                <a:cubicBezTo>
                  <a:pt x="632" y="800"/>
                  <a:pt x="704" y="0"/>
                  <a:pt x="768" y="0"/>
                </a:cubicBezTo>
                <a:cubicBezTo>
                  <a:pt x="832" y="0"/>
                  <a:pt x="904" y="800"/>
                  <a:pt x="960" y="960"/>
                </a:cubicBezTo>
                <a:cubicBezTo>
                  <a:pt x="1016" y="1120"/>
                  <a:pt x="1080" y="960"/>
                  <a:pt x="1104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7010280" y="541008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ac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4"/>
          <p:cNvSpPr/>
          <p:nvPr/>
        </p:nvSpPr>
        <p:spPr>
          <a:xfrm flipV="1">
            <a:off x="7238880" y="4876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5"/>
          <p:cNvSpPr/>
          <p:nvPr/>
        </p:nvSpPr>
        <p:spPr>
          <a:xfrm>
            <a:off x="4648320" y="3327480"/>
            <a:ext cx="990360" cy="1473120"/>
          </a:xfrm>
          <a:custGeom>
            <a:avLst/>
            <a:gdLst/>
            <a:ahLst/>
            <a:rect l="l" t="t" r="r" b="b"/>
            <a:pathLst>
              <a:path w="624" h="928">
                <a:moveTo>
                  <a:pt x="0" y="880"/>
                </a:moveTo>
                <a:cubicBezTo>
                  <a:pt x="40" y="456"/>
                  <a:pt x="80" y="32"/>
                  <a:pt x="144" y="16"/>
                </a:cubicBezTo>
                <a:cubicBezTo>
                  <a:pt x="208" y="0"/>
                  <a:pt x="312" y="640"/>
                  <a:pt x="384" y="784"/>
                </a:cubicBezTo>
                <a:cubicBezTo>
                  <a:pt x="456" y="928"/>
                  <a:pt x="536" y="864"/>
                  <a:pt x="576" y="880"/>
                </a:cubicBezTo>
                <a:cubicBezTo>
                  <a:pt x="616" y="896"/>
                  <a:pt x="620" y="888"/>
                  <a:pt x="624" y="8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6"/>
          <p:cNvSpPr/>
          <p:nvPr/>
        </p:nvSpPr>
        <p:spPr>
          <a:xfrm>
            <a:off x="8001000" y="342900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7848720" y="38098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1"/>
          <p:cNvSpPr/>
          <p:nvPr/>
        </p:nvSpPr>
        <p:spPr>
          <a:xfrm>
            <a:off x="3962520" y="1295280"/>
            <a:ext cx="4572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of antago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* 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2"/>
          <p:cNvSpPr/>
          <p:nvPr/>
        </p:nvSpPr>
        <p:spPr>
          <a:xfrm>
            <a:off x="5562720" y="2666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rint MT Shadow"/>
              </a:rPr>
              <a:t>Lab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Imprint MT Shadow"/>
              </a:rPr>
              <a:t>Effect of adrenergic drugs on intestine and identification of unkn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Object 2"/>
          <p:cNvGraphicFramePr/>
          <p:nvPr/>
        </p:nvGraphicFramePr>
        <p:xfrm>
          <a:off x="4557600" y="3413160"/>
          <a:ext cx="27000" cy="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0" y="3413160"/>
                    <a:ext cx="27000" cy="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4556160" y="3600360"/>
          <a:ext cx="31680" cy="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6160" y="3600360"/>
                    <a:ext cx="31680" cy="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rint MT Shadow"/>
              </a:rPr>
              <a:t>Catecholami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s are sympathomimetic   hormones produced by the adrenal glands, which are found on top of the kidney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called catecholamines because they contain a catechol or 3,4-dihydroxylphenyl group and an ethylamine moiety. They are derived from the amino acid tyros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released into the blood during times of physical or emotional stres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human body, the most abundant catecholamines are epinephrine (adrenaline), norepinephrine (noradrenaline) and dopamine, all of which are produced from phenylalanine and tyros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inergic neuro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ympathomime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arinic action.(M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Sites of rel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anglionic synapses of both sympathetic and parasympathetic gang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ympathetic postganglionic neuroeffector j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omatic motor end-plates on skeletal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99cc00">
              <a:alpha val="76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rint MT Shadow"/>
              </a:rPr>
              <a:t>Acetylcholine (ACh)</a:t>
            </a:r>
            <a:r>
              <a:rPr b="0" lang="en-US" sz="44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264px-Catecholamines_biosynthesis_svg"/>
          <p:cNvPicPr/>
          <p:nvPr/>
        </p:nvPicPr>
        <p:blipFill>
          <a:blip r:embed="rId1"/>
          <a:stretch/>
        </p:blipFill>
        <p:spPr>
          <a:xfrm>
            <a:off x="2971800" y="-152280"/>
            <a:ext cx="32767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rint MT Shadow"/>
              </a:rPr>
              <a:t>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s are produced mainly by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hromaffin c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adrenal medulla and the postganglionic fibers of the sympathetic nervous system. Dopamine, which acts as a neurotransmitter in the central nervous system, is largely produced in neuronal cell bodies in two areas of the brain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ANS%20neurotransmitters-receptors"/>
          <p:cNvPicPr/>
          <p:nvPr/>
        </p:nvPicPr>
        <p:blipFill>
          <a:blip r:embed="rId1"/>
          <a:stretch/>
        </p:blipFill>
        <p:spPr>
          <a:xfrm>
            <a:off x="4425840" y="1295280"/>
            <a:ext cx="4718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rosine is created from the essential amino acid phenylalanine. The convers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atalyzed by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nzyme Phenylalanin Hydroxy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synthesis is inhibited by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pha- methyl-p- tyrosine (AMP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inhibits tyrosine hydroxylase ( Rate limiting step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rint MT Shadow"/>
              </a:rPr>
              <a:t>Degra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s have a half-life of a few minutes when circulating in the blood. They can be degraded either by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methy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atechol-O-methyltransferases (COM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by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deamin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onoamine oxidases (MA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etamines and MAOIs bind to MAO in order to inhibit its action of breaking down catecholamines. This is the primary reason why the effects of amphetamines have a longer lifespan than those of cocaine and other substances. Amphetamines not only cause a release of dopamine, epinephrine, and norepinephrine into the blood stream but also suppress re-absor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28600" y="304920"/>
          <a:ext cx="8763120" cy="5676840"/>
        </p:xfrm>
        <a:graphic>
          <a:graphicData uri="http://schemas.openxmlformats.org/drawingml/2006/table">
            <a:tbl>
              <a:tblPr/>
              <a:tblGrid>
                <a:gridCol w="898560"/>
                <a:gridCol w="1423800"/>
                <a:gridCol w="1868760"/>
                <a:gridCol w="1676160"/>
                <a:gridCol w="1371600"/>
                <a:gridCol w="152424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ptor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onist selected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han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on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agon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junctional recep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ial SM of the i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erio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 sphinct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socon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oth muscle contra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itatory respon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3 / D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1- agon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epinephr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ylephr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oxam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1-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uzosin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xazosin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tolam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zosin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msulosin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azosin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junctional recep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onary ar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er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ipose tiss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 smooth mus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c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socon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sodilat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ibition  of lipolys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rease motil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ibition of insulin relea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te the inhibition of neurotransmitter rel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2- agon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nid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fexid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ylaz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zanid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2-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himb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azoxan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Rectangle 167"/>
          <p:cNvSpPr/>
          <p:nvPr/>
        </p:nvSpPr>
        <p:spPr>
          <a:xfrm>
            <a:off x="0" y="643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82"/>
          <p:cNvSpPr/>
          <p:nvPr/>
        </p:nvSpPr>
        <p:spPr>
          <a:xfrm>
            <a:off x="2293920" y="6172200"/>
            <a:ext cx="47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epinephrine ≥Epinephrine &gt;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soprena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7"/>
          <p:cNvSpPr/>
          <p:nvPr/>
        </p:nvSpPr>
        <p:spPr>
          <a:xfrm flipV="1">
            <a:off x="4648320" y="1371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90"/>
          <p:cNvSpPr/>
          <p:nvPr/>
        </p:nvSpPr>
        <p:spPr>
          <a:xfrm>
            <a:off x="480060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97"/>
          <p:cNvSpPr/>
          <p:nvPr/>
        </p:nvSpPr>
        <p:spPr>
          <a:xfrm>
            <a:off x="213372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98"/>
          <p:cNvSpPr/>
          <p:nvPr/>
        </p:nvSpPr>
        <p:spPr>
          <a:xfrm>
            <a:off x="2057400" y="4800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99"/>
          <p:cNvSpPr/>
          <p:nvPr/>
        </p:nvSpPr>
        <p:spPr>
          <a:xfrm>
            <a:off x="243828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04"/>
          <p:cNvSpPr/>
          <p:nvPr/>
        </p:nvSpPr>
        <p:spPr>
          <a:xfrm>
            <a:off x="22096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05"/>
          <p:cNvSpPr/>
          <p:nvPr/>
        </p:nvSpPr>
        <p:spPr>
          <a:xfrm>
            <a:off x="2133720" y="5638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6400800" y="5181480"/>
            <a:ext cx="25909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6324480" y="510552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rect Relax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 papave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52280" y="228600"/>
          <a:ext cx="8763120" cy="4172040"/>
        </p:xfrm>
        <a:graphic>
          <a:graphicData uri="http://schemas.openxmlformats.org/drawingml/2006/table">
            <a:tbl>
              <a:tblPr/>
              <a:tblGrid>
                <a:gridCol w="914400"/>
                <a:gridCol w="1752840"/>
                <a:gridCol w="1676160"/>
                <a:gridCol w="1905120"/>
                <a:gridCol w="1371600"/>
                <a:gridCol w="11430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ptor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onist potency 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onist selected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han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on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agon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junc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p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ocard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v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motropic eff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otropic eff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ronotropic eff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itatory respon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epinephr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amote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bu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prolo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enol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butal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junc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p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 of vasculatu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nchio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eru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oth muscle relax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itatory respon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butam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otero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prena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metero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buta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oxam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Rectangle 154"/>
          <p:cNvSpPr/>
          <p:nvPr/>
        </p:nvSpPr>
        <p:spPr>
          <a:xfrm>
            <a:off x="383400" y="457200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β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55"/>
          <p:cNvSpPr/>
          <p:nvPr/>
        </p:nvSpPr>
        <p:spPr>
          <a:xfrm>
            <a:off x="383400" y="51814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β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6"/>
          <p:cNvSpPr/>
          <p:nvPr/>
        </p:nvSpPr>
        <p:spPr>
          <a:xfrm>
            <a:off x="793800" y="4572000"/>
            <a:ext cx="49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soprena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gt; Epinephrine = Norepineph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57"/>
          <p:cNvSpPr/>
          <p:nvPr/>
        </p:nvSpPr>
        <p:spPr>
          <a:xfrm>
            <a:off x="921240" y="5181480"/>
            <a:ext cx="48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soprena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gt; Epinephrine &gt;&gt; Norepineph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59"/>
          <p:cNvSpPr/>
          <p:nvPr/>
        </p:nvSpPr>
        <p:spPr>
          <a:xfrm flipV="1">
            <a:off x="4800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75"/>
          <p:cNvSpPr/>
          <p:nvPr/>
        </p:nvSpPr>
        <p:spPr>
          <a:xfrm flipV="1">
            <a:off x="47242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 of unkn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unknown produce contraction of the tissue , it may be nicotinic agonist , muscarinic agonist or direct drug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0.2ml of dil. nicotine , record &amp; wa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0.3ml of C6- blocker, leave 2 min. , add 0.2ml of dil. Nicotine (must block) without wash add 0.2ml of ( unknown ) , block ,,,,,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cotine-like dru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re is a response, it means the unknown may be muscarinic or direct- like dru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check for muscarinic or direct acting activit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0.2ml of Ach. , record &amp; wa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0.3ml of atropine , leave 2 min. , add 0.2ml of Ach. without wash add 0.2ml of  ( unknown ) , block ,,,,,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scarin-like dru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f not that mean it is direct acting dru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Imprint MT Shadow"/>
              </a:rPr>
              <a:t>Lab#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Imprint MT Shadow"/>
              </a:rPr>
              <a:t>Effect of Nm blockers on frog's rectus abdominis mus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rint MT Shadow"/>
                <a:ea typeface="Times New Roman"/>
              </a:rPr>
              <a:t>Rectus Abdominis  Mus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ary muscle which receive motor somatic innervations (lack the ganglia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of receptors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otinic receptors.( N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of recep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muscular junctions of the Somatic nervous system. (motor nerve end-plat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d neurotransmitt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 [Cholinergic neurotransmitter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 deactivat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ylcholinesteras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" descr="outer_core_muscles"/>
          <p:cNvPicPr/>
          <p:nvPr/>
        </p:nvPicPr>
        <p:blipFill>
          <a:blip r:embed="rId1"/>
          <a:stretch/>
        </p:blipFill>
        <p:spPr>
          <a:xfrm>
            <a:off x="6324480" y="1066680"/>
            <a:ext cx="2590920" cy="266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10"/>
          <p:cNvGraphicFramePr/>
          <p:nvPr/>
        </p:nvGraphicFramePr>
        <p:xfrm>
          <a:off x="5105520" y="3809880"/>
          <a:ext cx="304776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3809880"/>
                    <a:ext cx="30477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Nm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191120" cy="5334120"/>
          </a:xfrm>
          <a:prstGeom prst="rect">
            <a:avLst/>
          </a:prstGeom>
          <a:solidFill>
            <a:srgbClr val="ffff99"/>
          </a:solidFill>
          <a:ln w="2232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Castellar"/>
                <a:ea typeface="Times New Roman"/>
              </a:rPr>
              <a:t>Agon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</a:rPr>
              <a:t>Direct acting agon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Bethanech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ilocarp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Carbach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</a:rPr>
              <a:t>Indirect acting agon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r>
              <a:rPr b="1" lang="en-GB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versible (short-acting) ag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Physostig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Prostig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Neostig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yridostig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Ambenon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B)   Irreversible (long-acting) ag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[ Organophosphate esters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sofluro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chothioph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267080" cy="5334120"/>
          </a:xfrm>
          <a:prstGeom prst="rect">
            <a:avLst/>
          </a:prstGeom>
          <a:solidFill>
            <a:srgbClr val="ccffcc"/>
          </a:solidFill>
          <a:ln w="22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Castellar"/>
                <a:ea typeface="Times New Roman"/>
              </a:rPr>
              <a:t>Antagonists ( Blockers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</a:rPr>
              <a:t>Neuromuscular-blocking agen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- Non-depolarizing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D-tubocurar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Atracu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- Depolarizing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Suxamethonium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[Succinylcholin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99cc00">
              <a:alpha val="8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rint MT Shadow"/>
              </a:rPr>
              <a:t>Acetylcholine (A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533520" y="1600200"/>
          <a:ext cx="80769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769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rint MT Shadow"/>
              </a:rPr>
              <a:t>Difference between Non-depolarizing &amp; Depolarizing Neuromuscular Blocking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Non-depolarizing blocking 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ct by competitively blocking the binding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t's recep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 not depolarize the motor end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gents constitute the majority of the clinically-relevant neuromuscular block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Depolarizing blocking 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larizing the plasma membrane of the muscle fiber, similar to acetylcholine. This persistent depolarization makes the muscle fiber resistant to further stimulation by A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gents are more resistant to degradation by acetylcholinester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There are two phases to the depolarizing bloc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Depolarizing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Desensitizing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rint MT Shadow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rog-ringer 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 ,K ,PO4, Na ,HCO3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o Mg+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No relax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sion 0.5-4 g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emp. 25 </a:t>
            </a:r>
            <a:r>
              <a:rPr b="0" lang="en-GB" sz="3200" spc="-1" strike="noStrike" baseline="30000">
                <a:solidFill>
                  <a:srgbClr val="ff3300"/>
                </a:solidFill>
                <a:latin typeface="Times New Roman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Cold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>
            <a:off x="243828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>
            <a:off x="2666880" y="4800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rint MT Shadow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 Add 0.2ml of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record ,wash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  Add 0.2ml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arbacho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record ,wash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Add 0.2ml of </a:t>
            </a:r>
            <a:r>
              <a:rPr b="0" lang="en-GB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rostigm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wait for 2 min. then, add 0.2ml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record ,w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   Add 0.2ml </a:t>
            </a:r>
            <a:r>
              <a:rPr b="0" lang="en-GB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uccinylchol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record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  Add 0.2ml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record ,wash ,Add 0.2ml </a:t>
            </a:r>
            <a:r>
              <a:rPr b="0" lang="en-GB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tracuri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 2 min. then, add 0.2ml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record ,w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Imprint MT Shadow"/>
              </a:rPr>
              <a:t>Lab#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Imprint MT Shadow"/>
              </a:rPr>
              <a:t>Effects of drugs on Isolated Rabbit’s He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334800" y="244440"/>
            <a:ext cx="8474400" cy="13892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4"/>
          <p:cNvSpPr/>
          <p:nvPr/>
        </p:nvSpPr>
        <p:spPr>
          <a:xfrm>
            <a:off x="2786040" y="1928880"/>
            <a:ext cx="3643200" cy="450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953735"/>
            </a:solidFill>
            <a:miter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Calibri"/>
                <a:ea typeface="Arial"/>
              </a:rPr>
              <a:t>N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for depolar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alibri"/>
                <a:ea typeface="Arial"/>
              </a:rPr>
              <a:t>K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for repolariz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alibri"/>
                <a:ea typeface="Arial"/>
              </a:rPr>
              <a:t>Glucos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for 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alibri"/>
                <a:ea typeface="Arial"/>
              </a:rPr>
              <a:t>C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to prevent arrhythm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alibri"/>
                <a:ea typeface="Arial"/>
              </a:rPr>
              <a:t>HCO3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for adjust 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emp. 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Oxygen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165240" y="317520"/>
            <a:ext cx="8472240" cy="9619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4"/>
          <p:cNvSpPr/>
          <p:nvPr/>
        </p:nvSpPr>
        <p:spPr>
          <a:xfrm>
            <a:off x="2071800" y="2071800"/>
            <a:ext cx="53179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David"/>
                <a:ea typeface="David"/>
              </a:rPr>
              <a:t>Heart rate :</a:t>
            </a:r>
            <a:r>
              <a:rPr b="1" lang="en-US" sz="2400" spc="-1" strike="noStrike">
                <a:solidFill>
                  <a:srgbClr val="953735"/>
                </a:solidFill>
                <a:latin typeface="David"/>
                <a:ea typeface="David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David"/>
                <a:ea typeface="David"/>
              </a:rPr>
              <a:t>Beats/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David"/>
                <a:ea typeface="David"/>
              </a:rPr>
              <a:t>Force of cont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David"/>
                <a:ea typeface="David"/>
              </a:rPr>
              <a:t>Coronary Flow Rate: </a:t>
            </a:r>
            <a:r>
              <a:rPr b="0" lang="en-US" sz="2400" spc="-1" strike="noStrike">
                <a:solidFill>
                  <a:srgbClr val="333399"/>
                </a:solidFill>
                <a:latin typeface="David"/>
                <a:ea typeface="David"/>
              </a:rPr>
              <a:t>ml/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David"/>
                <a:ea typeface="Davi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219240" y="317520"/>
            <a:ext cx="8474040" cy="96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"/>
          <p:cNvSpPr/>
          <p:nvPr/>
        </p:nvSpPr>
        <p:spPr>
          <a:xfrm>
            <a:off x="714240" y="1500120"/>
            <a:ext cx="785844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A) Adrenergic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-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Epinephrine ( adrenalin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Hear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     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Force of contraction of cardiac Muscle (</a:t>
            </a:r>
            <a:r>
              <a:rPr b="0" lang="el-GR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β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- Recep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(--)  Flow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-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Norepinephrine ( noradrenalin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Hear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     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less effect on Force of contraction (more on </a:t>
            </a:r>
            <a:r>
              <a:rPr b="0" lang="el-GR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α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(--) Flow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   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- Isoproterenol ( Isoprenaline non selective </a:t>
            </a:r>
            <a:r>
              <a:rPr b="1" lang="el-GR" sz="18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β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-Agon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Hear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     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Force of contraction (</a:t>
            </a:r>
            <a:r>
              <a:rPr b="0" lang="el-GR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β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 - Recep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(--) Flow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6"/>
          <p:cNvSpPr/>
          <p:nvPr/>
        </p:nvSpPr>
        <p:spPr>
          <a:xfrm flipV="1">
            <a:off x="1857240" y="228600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 flipV="1">
            <a:off x="1857240" y="3714480"/>
            <a:ext cx="0" cy="21564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6"/>
          <p:cNvSpPr/>
          <p:nvPr/>
        </p:nvSpPr>
        <p:spPr>
          <a:xfrm flipV="1">
            <a:off x="1857240" y="4000320"/>
            <a:ext cx="0" cy="21564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6"/>
          <p:cNvSpPr/>
          <p:nvPr/>
        </p:nvSpPr>
        <p:spPr>
          <a:xfrm flipV="1">
            <a:off x="1857240" y="5143320"/>
            <a:ext cx="0" cy="21564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 flipV="1">
            <a:off x="1857240" y="2571480"/>
            <a:ext cx="0" cy="21564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"/>
          <p:cNvSpPr/>
          <p:nvPr/>
        </p:nvSpPr>
        <p:spPr>
          <a:xfrm flipV="1">
            <a:off x="1857240" y="542916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219240" y="317520"/>
            <a:ext cx="8474040" cy="9619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4"/>
          <p:cNvSpPr/>
          <p:nvPr/>
        </p:nvSpPr>
        <p:spPr>
          <a:xfrm>
            <a:off x="785880" y="1452600"/>
            <a:ext cx="7715160" cy="48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B) Cholinergic Drug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ylcho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            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Heart Rate and cardiac outp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            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(--) Force of contraction of cardiac Muscle (Beta2- Recep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            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(--)  Flow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ropine (          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             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Hear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              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(--) Flow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C) Calcium channel block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erapami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                  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Heart rate         Force of Contraction  (--)   Flow r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mlodip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                  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Heart rate         Force of Contraction  (--)   Flow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"/>
          <p:cNvSpPr/>
          <p:nvPr/>
        </p:nvSpPr>
        <p:spPr>
          <a:xfrm flipV="1">
            <a:off x="2571840" y="378612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2500200" y="228600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3809880" y="60958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2500200" y="60706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3809880" y="525780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2500200" y="528624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219240" y="317520"/>
            <a:ext cx="8474040" cy="96192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4"/>
          <p:cNvSpPr/>
          <p:nvPr/>
        </p:nvSpPr>
        <p:spPr>
          <a:xfrm>
            <a:off x="857160" y="1357200"/>
            <a:ext cx="714384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D) C.H.F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- 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Digox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Heart rate         Force of Contraction         Flow rate</a:t>
            </a:r>
            <a:r>
              <a:rPr b="0" lang="en-US" sz="24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Bretylium ( Adrenergic Neuronal  Blocker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Heart rate         Force of Con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Amiodarone ( Adrenergic Neuronal  Blocker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Heart rate          Force of Con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 </a:t>
            </a:r>
            <a:r>
              <a:rPr b="1" lang="el-GR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β</a:t>
            </a:r>
            <a:r>
              <a:rPr b="1" lang="en-US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agonist ( Dobutamin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Heart rate          Force of Contr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1"/>
          <p:cNvSpPr/>
          <p:nvPr/>
        </p:nvSpPr>
        <p:spPr>
          <a:xfrm>
            <a:off x="2286000" y="357192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1"/>
          <p:cNvSpPr/>
          <p:nvPr/>
        </p:nvSpPr>
        <p:spPr>
          <a:xfrm>
            <a:off x="3733920" y="35812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"/>
          <p:cNvSpPr/>
          <p:nvPr/>
        </p:nvSpPr>
        <p:spPr>
          <a:xfrm flipV="1">
            <a:off x="3733920" y="24382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 flipV="1">
            <a:off x="2286000" y="54100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"/>
          <p:cNvSpPr/>
          <p:nvPr/>
        </p:nvSpPr>
        <p:spPr>
          <a:xfrm flipV="1">
            <a:off x="3733920" y="54100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1"/>
          <p:cNvSpPr/>
          <p:nvPr/>
        </p:nvSpPr>
        <p:spPr>
          <a:xfrm>
            <a:off x="2286000" y="4500720"/>
            <a:ext cx="0" cy="21564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1"/>
          <p:cNvSpPr/>
          <p:nvPr/>
        </p:nvSpPr>
        <p:spPr>
          <a:xfrm>
            <a:off x="3733920" y="44956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"/>
          <p:cNvSpPr/>
          <p:nvPr/>
        </p:nvSpPr>
        <p:spPr>
          <a:xfrm flipV="1">
            <a:off x="6019920" y="24382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1"/>
          <p:cNvSpPr/>
          <p:nvPr/>
        </p:nvSpPr>
        <p:spPr>
          <a:xfrm>
            <a:off x="2209680" y="24382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219240" y="317520"/>
            <a:ext cx="8474040" cy="9619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4"/>
          <p:cNvSpPr/>
          <p:nvPr/>
        </p:nvSpPr>
        <p:spPr>
          <a:xfrm>
            <a:off x="642960" y="1285920"/>
            <a:ext cx="77868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E) Vasodilator Drug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Isosorbide (Isord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 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Heart rate         Force of Contraction  (--)   Flow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F) Anti-arrhythmic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Procainami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Heart rate          Force of Contraction  (--)   Flow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Lido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Heart rate          Force of Contraction  (--)   Flow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 </a:t>
            </a:r>
            <a:r>
              <a:rPr b="1" lang="el-GR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blocker ( Propranolol 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Heart rate          Force of Contraction  (--)   Flow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2500200" y="407196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2500200" y="492912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>
            <a:off x="4191120" y="58672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1"/>
          <p:cNvSpPr/>
          <p:nvPr/>
        </p:nvSpPr>
        <p:spPr>
          <a:xfrm>
            <a:off x="4191120" y="49528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2500200" y="585792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>
            <a:off x="4191120" y="40384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1"/>
          <p:cNvSpPr/>
          <p:nvPr/>
        </p:nvSpPr>
        <p:spPr>
          <a:xfrm>
            <a:off x="2571840" y="250020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1"/>
          <p:cNvSpPr/>
          <p:nvPr/>
        </p:nvSpPr>
        <p:spPr>
          <a:xfrm>
            <a:off x="4267080" y="251460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Imprint MT Shadow"/>
              </a:rPr>
              <a:t>Lab#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Imprint MT Shadow"/>
              </a:rPr>
              <a:t>Dose-Response Curv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Definition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relationship between dose &amp; response which describes the change in effect on an organ caused by differing levels of exposure (or doses) to a stressor (usually a chemical) after a certain exposur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Objectives</a:t>
            </a:r>
            <a:r>
              <a:rPr b="0" lang="en-US" sz="4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 curve we can determi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99"/>
                </a:solidFill>
                <a:uFillTx/>
                <a:latin typeface="Imprint MT Shadow"/>
              </a:rPr>
              <a:t>Potency 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sure of the activity of a drug in a biological system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99"/>
                </a:solidFill>
                <a:uFillTx/>
                <a:latin typeface="Imprint MT Shadow"/>
                <a:ea typeface="Times New Roman"/>
              </a:rPr>
              <a:t>Efficacy 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apacity to produce an eff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99"/>
                </a:solidFill>
                <a:uFillTx/>
                <a:latin typeface="Imprint MT Shadow"/>
              </a:rPr>
              <a:t>Therapeutic index</a:t>
            </a:r>
            <a:r>
              <a:rPr b="0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 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erapeutic index or ratio), is a comparison of the amount of a therapeutic agent that causes the therapeutic effect to the amount that causes drug toxi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99"/>
                </a:solidFill>
                <a:uFillTx/>
                <a:latin typeface="Imprint MT Shadow"/>
              </a:rPr>
              <a:t>ED 50 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drug that produces a therapeutic response in 50% of the people taking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e5907df3c838824bdf883384bd0092b7"/>
          <p:cNvPicPr/>
          <p:nvPr/>
        </p:nvPicPr>
        <p:blipFill>
          <a:blip r:embed="rId1"/>
          <a:stretch/>
        </p:blipFill>
        <p:spPr>
          <a:xfrm>
            <a:off x="2895480" y="4495680"/>
            <a:ext cx="33530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0" y="685800"/>
            <a:ext cx="426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Appar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914400" y="2209680"/>
            <a:ext cx="24382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34290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"/>
          <p:cNvSpPr/>
          <p:nvPr/>
        </p:nvSpPr>
        <p:spPr>
          <a:xfrm>
            <a:off x="4800600" y="2514600"/>
            <a:ext cx="30492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4952880" y="27432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876920" y="4724280"/>
            <a:ext cx="152280" cy="685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4572000" y="4114800"/>
            <a:ext cx="685800" cy="2057400"/>
          </a:xfrm>
          <a:prstGeom prst="can">
            <a:avLst>
              <a:gd name="adj" fmla="val 130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4800600" y="5943600"/>
            <a:ext cx="228600" cy="6858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5257800" y="434304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5257800" y="42667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 flipV="1">
            <a:off x="6553080" y="35053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V="1">
            <a:off x="6477120" y="35053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6400800" y="2514600"/>
            <a:ext cx="609480" cy="990720"/>
          </a:xfrm>
          <a:prstGeom prst="can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V="1">
            <a:off x="6095880" y="502884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6"/>
          <p:cNvSpPr/>
          <p:nvPr/>
        </p:nvSpPr>
        <p:spPr>
          <a:xfrm>
            <a:off x="7543800" y="457200"/>
            <a:ext cx="1371600" cy="5410080"/>
          </a:xfrm>
          <a:prstGeom prst="can">
            <a:avLst>
              <a:gd name="adj" fmla="val 40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 flipV="1">
            <a:off x="6095880" y="4952880"/>
            <a:ext cx="1447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8"/>
          <p:cNvSpPr/>
          <p:nvPr/>
        </p:nvSpPr>
        <p:spPr>
          <a:xfrm>
            <a:off x="7543800" y="1523880"/>
            <a:ext cx="1371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9"/>
          <p:cNvSpPr/>
          <p:nvPr/>
        </p:nvSpPr>
        <p:spPr>
          <a:xfrm flipH="1">
            <a:off x="5257800" y="51814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 flipH="1">
            <a:off x="5257800" y="51055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6934320" y="4876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2"/>
          <p:cNvSpPr/>
          <p:nvPr/>
        </p:nvSpPr>
        <p:spPr>
          <a:xfrm flipH="1">
            <a:off x="6934320" y="48769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>
            <a:off x="5943600" y="5257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4"/>
          <p:cNvSpPr/>
          <p:nvPr/>
        </p:nvSpPr>
        <p:spPr>
          <a:xfrm>
            <a:off x="5867280" y="53341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5"/>
          <p:cNvSpPr/>
          <p:nvPr/>
        </p:nvSpPr>
        <p:spPr>
          <a:xfrm flipH="1">
            <a:off x="5943600" y="5334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6"/>
          <p:cNvSpPr/>
          <p:nvPr/>
        </p:nvSpPr>
        <p:spPr>
          <a:xfrm flipH="1">
            <a:off x="5791320" y="54100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5486400" y="5791320"/>
            <a:ext cx="914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V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Wa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6553080" y="4419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v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6324480" y="28954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0"/>
          <p:cNvSpPr/>
          <p:nvPr/>
        </p:nvSpPr>
        <p:spPr>
          <a:xfrm>
            <a:off x="12193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hysiogra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1"/>
          <p:cNvSpPr/>
          <p:nvPr/>
        </p:nvSpPr>
        <p:spPr>
          <a:xfrm>
            <a:off x="2438280" y="4648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2"/>
          <p:cNvSpPr/>
          <p:nvPr/>
        </p:nvSpPr>
        <p:spPr>
          <a:xfrm>
            <a:off x="2438280" y="5257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3"/>
          <p:cNvSpPr/>
          <p:nvPr/>
        </p:nvSpPr>
        <p:spPr>
          <a:xfrm>
            <a:off x="7772400" y="685800"/>
            <a:ext cx="106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yro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olutio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609480" y="51055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ntestine 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990720" y="441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358128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2362320" y="60199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xygen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7543800" y="1752480"/>
            <a:ext cx="13716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NaC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soten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aCl2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ntraction of musc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ucose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NaHCO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3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MgCL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elax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I ALSHAMRANI</cp:lastModifiedBy>
  <dcterms:modified xsi:type="dcterms:W3CDTF">2012-06-25T00:36:1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