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336-2C95-4888-8754-2A30177E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55B-EC5C-414B-90C8-2746FF86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B46-CE5E-438C-B42C-0BB33CEA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8CB-444B-42EF-A33D-95361CD4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8F8-73BB-4FB1-86AD-F3B6FC50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B12-E993-49D7-9B73-F5A0C1AE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B40-A2A5-41F8-9508-96103608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FF9-69BF-4A35-81E2-454DDA6A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117-37FA-4244-BB00-D145D5E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919-4F4E-41EC-B2D2-CC4441A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356-B112-42CE-A066-C9EF2C2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9C2-9FFA-4C27-8632-2B2C5E26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E540-2FF2-485F-9F0F-5EC8D69AF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80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פְּעוּלּוֹת דִּבּוּר – פְּתִיחוֹת  לַשִּׂיח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  <a:cs typeface="David"/>
              </a:rPr>
              <a:t>פוֹרְמָלִי אוֹ לֹא פוֹרְמָלִ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יֵשׁ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קָפִיטֶרְיָה בַּמְּעוֹנוֹת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כֵּן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סְלִיחָה , אֲדוֹנִי , אֵיפֹה הַמִּשְׂרָ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זֶה הַמִּשְׂרָד , גְּבֶרֶ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מַה שִּׁמְךָ , בְּבַקָּשָׁ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שְׁמִי אוּרִי כּוֹהֵ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יֶלֶד , אֵיךְ קוֹרְאִים לְך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אוּרִי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7524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5335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סְלִיחָה , הַפְּקִידָה דַּלְיָה בַּמִּשְׂרָ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לֹא , הַפְּקִידָה דַּלְיָה עַכְשָׁיו , בַּכִּתָּה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אַתֶּם רוֹצִים קָפֶה אוֹ תֵּ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לֹא קָפֶה וְלֹא תֵּה , בִּירָ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מַה הַגְּבֶרֶת רוֹצָ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אֲנִי רוֹצָה קָפֶה בְּבַקָּשָׁ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66688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5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6:32:34Z</dcterms:created>
  <dc:creator>DR.FOUAD</dc:creator>
  <dc:description/>
  <dc:language>en-US</dc:language>
  <cp:lastModifiedBy>DR.FOUAD</cp:lastModifiedBy>
  <dcterms:modified xsi:type="dcterms:W3CDTF">2009-04-04T06:32:45Z</dcterms:modified>
  <cp:revision>1</cp:revision>
  <dc:subject/>
  <dc:title>الشريحة 1</dc:title>
</cp:coreProperties>
</file>