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E20-EA8E-4171-B85E-7F57315D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4A2-54E1-4BA8-A76C-43117F47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105-4272-4425-B76C-CA76B59C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89C-5C35-4983-B58A-C28D7BE3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49C-14F6-42BA-A539-C91F4D1E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59C-E3DF-4B16-BB40-8002E1E3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C0A-B771-4A81-A122-535AB550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F12-B5B6-4120-BB75-3E62AB11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8DA-B2F9-488D-BB3F-C042630C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94D-57C5-40E6-A14A-7FDFE4F3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676-6BCE-423C-8894-A23D7E17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A3B-AAA9-4CC4-815E-C10CB1B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FF82-1FDB-404C-9B8F-549988129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80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פְּעוּלּוֹת דִּבּוּר – פְּתִיחוֹת  לַשִּׂיח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פוֹרְמָלִי אוֹ לֹא פוֹרְמָלִ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יֵשׁ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קָפִיטֶרְיָה בַּמְּעוֹנוֹת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כֵּן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סְלִיחָה , אֲדוֹנִי , אֵיפֹה הַמִּשְׂרָ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זֶה הַמִּשְׂרָד , גְּבֶרֶ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מַה שִּׁמְךָ , בְּבַקָּשָׁ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שְׁמִי אוּרִי כּוֹהֵ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יֶלֶד , אֵיךְ קוֹרְאִים לְך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אוּרִי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7524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5335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סְלִיחָה , הַפְּקִידָה דַּלְיָה בַּמִּשְׂרָ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לֹא , הַפְּקִידָה דַּלְיָה עַכְשָׁיו , בַּכִּתָּה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אַתֶּם רוֹצִים קָפֶה אוֹ תֵּ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לֹא קָפֶה וְלֹא תֵּה , בִּירָ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מַה הַגְּבֶרֶת רוֹצָ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אֲנִי רוֹצָה קָפֶה בְּבַקָּשָׁ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66688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5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6:32:34Z</dcterms:created>
  <dc:creator>DR.FOUAD</dc:creator>
  <dc:description/>
  <dc:language>en-US</dc:language>
  <cp:lastModifiedBy>DR.FOUAD</cp:lastModifiedBy>
  <dcterms:modified xsi:type="dcterms:W3CDTF">2009-04-04T06:32:45Z</dcterms:modified>
  <cp:revision>1</cp:revision>
  <dc:subject/>
  <dc:title>الشريحة 1</dc:title>
</cp:coreProperties>
</file>