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0C4-351B-4B09-9F1B-C69A7F56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CD9-A1AF-499E-93FF-FA9E55EB64D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CB3-C9E9-4833-A3B6-5FA8A61A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4C7-7E15-41CC-A90D-560EA66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8E6-2CCD-45D4-A74A-F54A302E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FC3-EF38-4E50-8AA5-4B5CA361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5F4-A42B-45A1-993E-CE4D1F96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BF22-45B0-4675-93B7-F8BCEF72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320C-6A7A-459C-B9E0-4CB9CBE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49E8-29AC-46F2-BA46-CCA9D59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76AA-5A1B-4396-BFBE-0156E6B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90B-42B4-400B-A2EC-E989AE12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855-E3AA-4205-A92B-1D26467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9BF-A88D-4488-8A09-0945B1B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A347-691E-4CD5-98A2-1815A9A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455-FACA-4169-AE15-3A3EED3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A12C-F4D3-40C1-8B12-B637153C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F3D9-487F-4A6C-84CD-E1D5A53B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1A47-39CA-418F-9E0E-3DE0DC80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F3E7-FB8C-4464-B123-A82E1090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6161-16B2-4C42-875D-2125FBB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258D-CE71-4BAF-BAA0-55389B84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69A6-F183-46B9-862B-34E68BE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C6E9-8F03-4BC2-940A-D91C9B2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E88-AB5B-4CEC-B637-CD06278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E510-8F0E-4E51-8C12-B89814AA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83DE-1A9C-4C25-9571-B53BB18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AA25-E0D6-42E2-8986-E2D7E9C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9450-B917-48B4-87C2-4967F73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CDE3-DC0C-4451-83C4-FCB1427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688E-954E-48C5-A840-6CC24964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CBB6-3E6F-4366-AB9D-98E6624A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926A-BFB1-4174-980F-A2EEA06E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15FF-5F60-4DFF-9489-91637E09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C11E-8D31-467C-A550-50A418A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68F-DED4-4419-B810-848CB82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82AB-91ED-4FC0-9B47-9323494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3125-2231-4A19-A565-E6D9CCC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4119-287B-41CB-B5EF-C8CBF633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1D60-D7A7-4CED-984A-41E5754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966A-A58F-4F40-ACA5-DA2157A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AF92-E67D-4D77-922E-AC14528F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78BC-60CB-4249-A1F9-36294F5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8954-B4C1-47B5-BF52-6FEDD22D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07DF-70B6-4839-9D13-C34CBCA6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FFB5-5392-49F2-8159-A28A84B2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1B1-714A-4D64-8BC0-3D31812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5C80-52B8-4816-9694-C525B1A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9E75-C4FA-4B5C-8366-8808BEA5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3585-C04A-4464-9B05-BB31AB29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8BA3-DAC2-4F14-AF30-3D4B06BD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4708B-E318-4059-8979-9B920B59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94B3-FB3E-4265-BC7C-454D4936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26B07-3149-4F0B-BCF6-045B15B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AB2A-FF87-48A1-B9F5-3148EF1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744D-5803-42AB-B564-3A24C8C8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E201-1A87-4881-8C2A-B1B99E58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21C-064C-4C9F-B0C1-7A202608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1070-2A6E-4D83-9BC8-3C6E3388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A68-515E-4EE8-8BCD-4DBFFEA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CF7-719F-49F4-8B6B-50B2AE7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5B0-E8CF-42E4-9B61-DF7D911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719-42C0-475F-B880-88E0E99CD1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78F6-D513-40F9-9B55-20E695B93D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9967-24D6-4817-8B56-5244D33A3A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4883-CC16-4498-B37D-A59F6E3864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691-B608-4B00-98EC-D6B82247FE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1980720"/>
            <a:ext cx="72388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Inverse of a Matrix an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Determinants 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2523960"/>
            <a:ext cx="8077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0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7200" y="541008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07732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09480" y="2652840"/>
            <a:ext cx="8077320" cy="2300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1143000" y="5257800"/>
            <a:ext cx="70102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15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6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077320" cy="1600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79246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533520" y="2971800"/>
            <a:ext cx="8076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238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845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1818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80880" y="5791320"/>
            <a:ext cx="8153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nt: Use row operations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2 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>
            <a:off x="445752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39" name="Straight Arrow Connector 7"/>
          <p:cNvCxnSpPr/>
          <p:nvPr/>
        </p:nvCxnSpPr>
        <p:spPr>
          <a:xfrm>
            <a:off x="5790960" y="6019560"/>
            <a:ext cx="11484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0" name="Straight Arrow Connector 8"/>
          <p:cNvCxnSpPr/>
          <p:nvPr/>
        </p:nvCxnSpPr>
        <p:spPr>
          <a:xfrm>
            <a:off x="7315200" y="602568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>
            <a:off x="1276200" y="640044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2" name="Straight Arrow Connector 10"/>
          <p:cNvCxnSpPr/>
          <p:nvPr/>
        </p:nvCxnSpPr>
        <p:spPr>
          <a:xfrm>
            <a:off x="2666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243" name="Straight Arrow Connector 11"/>
          <p:cNvCxnSpPr/>
          <p:nvPr/>
        </p:nvCxnSpPr>
        <p:spPr>
          <a:xfrm>
            <a:off x="3809880" y="6393960"/>
            <a:ext cx="115200" cy="1080"/>
          </a:xfrm>
          <a:prstGeom prst="straightConnector1">
            <a:avLst/>
          </a:prstGeom>
          <a:ln w="9360">
            <a:solidFill>
              <a:srgbClr val="93a2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1876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833400" y="2664000"/>
            <a:ext cx="7772400" cy="25174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838080" y="5257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</a:rPr>
              <a:t>Hence, the original matrix does not have an inverse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39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3962520" y="6095880"/>
            <a:ext cx="12952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6-10-05T07:52:40Z</cp:lastPrinted>
  <dcterms:modified xsi:type="dcterms:W3CDTF">2017-02-08T20:49:09Z</dcterms:modified>
  <cp:revision>302</cp:revision>
  <dc:subject/>
  <dc:title>PowerPoint Presentation</dc:title>
</cp:coreProperties>
</file>