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80B7-83F3-4E07-A761-AB93282F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D0F2-460E-4595-867D-19A3476AE48D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B7D-AD27-4FB9-B63F-1E30796E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4DB-4573-486D-9C11-F365B47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8C1-6801-4661-846F-BB6B6C4B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7BE-2BEA-4258-B5AE-30C853AA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D503-AA5A-47F4-A2DE-9CAA7112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9B58-854F-4526-9982-80B1A7B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40B-EC96-44EC-91E6-79E600A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3041-A7BE-409B-844A-D9CA85E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277A-DA5A-40AD-AE59-DB12CF51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BDF0-D4F3-406B-8B49-292990D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21A-65A1-4F1F-920A-36D4F54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650-024D-4542-929D-4AB2DB2D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2569-AE07-447A-9008-004EACE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9963-430D-4345-AB66-F176A4D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2A9-9429-47B0-86B1-32048D19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C55D-5FC3-4D31-8211-98592DF8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EBA-4E2D-464B-ABB5-5823986C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8A11-7DFA-45A5-BE64-6F3FF654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D1B0-D9F0-408E-BB9D-0C6E3C79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DCAA-1CBC-4947-B96D-EA3F448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7F5B-CD99-4CEC-A372-3D4A376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6500-E65A-4B29-B453-276DF852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5C3-5F54-467F-90E5-1C8141DF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B427-BCD6-4321-BBBE-4361D96A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9A6F-662A-4524-A34D-37DC146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A5DC-431C-4636-8835-35C4A0A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BC7B-8724-4BDB-A8C6-EFD6B3A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443B-E5DB-469F-8320-50A549F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3766-0C41-4ACD-8B73-EDDB2823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FCE6-A78C-4A58-A564-D2345B94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C8EF-FFA8-4E7F-B779-BE9234B6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20B8-0435-48E1-A938-AE2E177A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0C1A-EFDB-41C0-A15C-3F7D5FBA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F87-0B57-418D-9690-5FB3397D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A832-AD68-4BB0-9982-4410C83C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95EB-C47C-4DA2-9768-6DD16310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49DC-6459-451C-B082-23201EC3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CBA0-EB9D-4AE1-95B8-B4B20C5F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2E4C8-4D41-4A52-A92C-7C2C161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80F9-EFD3-4E0F-9187-E9C350C9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2DAB-D48B-4EE8-AC6C-C5C91C9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7BFD-ADBB-40FC-A82D-4DA14A9D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6B2B-EC14-49BA-9D80-504FA2D3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946C-32F9-46A7-9558-B3014518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4D-AA4A-4D45-924F-8613115F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4322-7191-4D0E-8182-53FECCC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246D-57FC-45BD-A870-F6354E8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E061-F4EA-49CE-8C5B-287E1A1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9702D-05B7-4B83-BCF4-7FE7C571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B3585-5E8B-452B-BF98-45636D9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A374-7FF1-464A-9C70-B06DA84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37231-F981-4ABA-8B2C-321C26C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1B9B-2384-4236-926E-409A208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6B82-8D25-4934-9BF2-3C139ED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7121-B2F4-4299-9AA9-F52834A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39B-A7E3-431E-883F-BEB01908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2326-2B29-4659-B556-1ED2AC4F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2BD-EAEB-4D85-9859-E600551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1BC-3858-4173-A298-F1E405E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E81-D2D4-41E1-9A6D-B1046AD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1BBC-E0CA-4BCC-ADEF-54AD1ADAA9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666-2DC2-494D-BAD3-F7A610C5FA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325-CB43-4927-8E7E-F0217D4D1E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01E0-4025-41AC-9ACC-C28C07BE49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69A-6488-4419-BCE0-00B2B3E15D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1980720"/>
            <a:ext cx="72388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Inverse of a Matrix an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Determinants 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2523960"/>
            <a:ext cx="8077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0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7200" y="541008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7732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09480" y="2652840"/>
            <a:ext cx="8077320" cy="2300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70102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15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6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077320" cy="160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79246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533520" y="2971800"/>
            <a:ext cx="8076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2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845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1818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80880" y="5791320"/>
            <a:ext cx="815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nt: Use row operations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2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>
            <a:off x="445752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39" name="Straight Arrow Connector 7"/>
          <p:cNvCxnSpPr/>
          <p:nvPr/>
        </p:nvCxnSpPr>
        <p:spPr>
          <a:xfrm>
            <a:off x="579096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0" name="Straight Arrow Connector 8"/>
          <p:cNvCxnSpPr/>
          <p:nvPr/>
        </p:nvCxnSpPr>
        <p:spPr>
          <a:xfrm>
            <a:off x="7315200" y="602568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>
            <a:off x="1276200" y="640044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2" name="Straight Arrow Connector 10"/>
          <p:cNvCxnSpPr/>
          <p:nvPr/>
        </p:nvCxnSpPr>
        <p:spPr>
          <a:xfrm>
            <a:off x="2666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3" name="Straight Arrow Connector 11"/>
          <p:cNvCxnSpPr/>
          <p:nvPr/>
        </p:nvCxnSpPr>
        <p:spPr>
          <a:xfrm>
            <a:off x="3809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1876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833400" y="2664000"/>
            <a:ext cx="7772400" cy="25174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83808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Hence, the original matrix does not have an invers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39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3962520" y="6095880"/>
            <a:ext cx="12952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6-10-05T07:52:40Z</cp:lastPrinted>
  <dcterms:modified xsi:type="dcterms:W3CDTF">2017-02-08T20:49:09Z</dcterms:modified>
  <cp:revision>302</cp:revision>
  <dc:subject/>
  <dc:title>PowerPoint Presentation</dc:title>
</cp:coreProperties>
</file>