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10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9.wmf" ContentType="image/x-wmf"/>
  <Override PartName="/ppt/media/image1.jpeg" ContentType="image/jpeg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D354-DB5F-46AB-97DD-E56450F28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E681-075D-461C-8A7E-D5DC6F3B8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A67E-9CD2-4DBB-BA35-BCE9833D9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E051-596E-48A7-A02F-605B7B8DB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E8AA6-C62C-4359-BC4A-DBFCD854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4ED0B-6D85-4793-8F25-B3E4533E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4802B-6968-4E6A-9115-349950B3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7D015-8AA4-4E9D-B7D6-4D1BA2A3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FD721-EBFC-4294-A8F1-07D8B59E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0D908-933C-4DE6-B7DB-FD1966E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5C6A-4525-4C1F-9BCA-E5C05A50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BF64-FE4C-4B33-BDF8-7CC1AB233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ED0CD-DD0F-4B4A-A16F-F90F778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08353-E458-4CA2-9982-B3BD0BD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A6E5-87E6-4B6E-9B47-A60E1063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54B91-EC08-4ADE-8B84-3F69A61F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21D7B-D06F-44DE-BC57-AB80E231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2E69-7A82-4774-82AD-C1F1EE352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6F44-0B6D-46A4-A109-D748A8025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EF40-E089-4344-8369-57383C911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BE24-0341-4975-8E85-03A80D4CC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9653-C89F-4552-8423-0F8D1370E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9861-68D4-4342-AA8B-BC9B4FD96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FF1E-CE1C-418A-A58C-27211F087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2438280" y="6575040"/>
            <a:ext cx="4724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4-</a:t>
            </a:r>
            <a:fld id="{1159E2F6-4069-4D13-9FC2-7C0DEBF007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1160" y="6576840"/>
            <a:ext cx="28954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4  Franchis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60DE-87B0-4581-BFC5-BCB34DB823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ranchiseregistry.com/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401AC391-5A3F-42F9-B9BF-9ABE146B4C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559560" cy="1828800"/>
          </a:xfrm>
          <a:prstGeom prst="rect">
            <a:avLst/>
          </a:prstGeom>
          <a:solidFill>
            <a:srgbClr val="ffff99"/>
          </a:solidFill>
          <a:ln w="50760">
            <a:solidFill>
              <a:srgbClr val="333333"/>
            </a:solidFill>
            <a:miter/>
          </a:ln>
        </p:spPr>
        <p:txBody>
          <a:bodyPr lIns="88920" rIns="88920" tIns="46080" bIns="46080" anchor="ctr">
            <a:noAutofit/>
          </a:bodyPr>
          <a:p>
            <a:pPr marL="316080"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ranchising and the Entrepreneu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6" descr="MPj03961740000[1]"/>
          <p:cNvPicPr/>
          <p:nvPr/>
        </p:nvPicPr>
        <p:blipFill>
          <a:blip r:embed="rId1"/>
          <a:stretch/>
        </p:blipFill>
        <p:spPr>
          <a:xfrm>
            <a:off x="3048120" y="2362320"/>
            <a:ext cx="2874960" cy="190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MPj03862470000[1]"/>
          <p:cNvPicPr/>
          <p:nvPr/>
        </p:nvPicPr>
        <p:blipFill>
          <a:blip r:embed="rId2"/>
          <a:srcRect l="0" t="19045" r="0" b="0"/>
          <a:stretch/>
        </p:blipFill>
        <p:spPr>
          <a:xfrm>
            <a:off x="6583320" y="4282920"/>
            <a:ext cx="1847880" cy="2271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MPj03958630000[1]"/>
          <p:cNvPicPr/>
          <p:nvPr/>
        </p:nvPicPr>
        <p:blipFill>
          <a:blip r:embed="rId3"/>
          <a:stretch/>
        </p:blipFill>
        <p:spPr>
          <a:xfrm>
            <a:off x="2986200" y="4410000"/>
            <a:ext cx="2869920" cy="191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MPj03864310000[1]"/>
          <p:cNvPicPr/>
          <p:nvPr/>
        </p:nvPicPr>
        <p:blipFill>
          <a:blip r:embed="rId4"/>
          <a:stretch/>
        </p:blipFill>
        <p:spPr>
          <a:xfrm>
            <a:off x="461880" y="4417920"/>
            <a:ext cx="1575000" cy="220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5" descr="Something Sweet image"/>
          <p:cNvPicPr/>
          <p:nvPr/>
        </p:nvPicPr>
        <p:blipFill>
          <a:blip r:embed="rId5"/>
          <a:stretch/>
        </p:blipFill>
        <p:spPr>
          <a:xfrm>
            <a:off x="396720" y="2557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8" descr=""/>
          <p:cNvPicPr/>
          <p:nvPr/>
        </p:nvPicPr>
        <p:blipFill>
          <a:blip r:embed="rId6"/>
          <a:stretch/>
        </p:blipFill>
        <p:spPr>
          <a:xfrm>
            <a:off x="6629400" y="2405160"/>
            <a:ext cx="1760400" cy="1730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2C202F1E-9127-4D80-8E54-A552248CEF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1200" y="498600"/>
            <a:ext cx="8002440" cy="65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eater Chance for Suc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6240" y="1919160"/>
            <a:ext cx="6391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: After 5 years, 90% of franchises are still in business compared to 40% of independent busines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ffere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ces, assistance, and guidance that experienced franchisers offer their franchise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7266"/>
          <p:cNvPicPr/>
          <p:nvPr/>
        </p:nvPicPr>
        <p:blipFill>
          <a:blip r:embed="rId1"/>
          <a:stretch/>
        </p:blipFill>
        <p:spPr>
          <a:xfrm>
            <a:off x="7315200" y="2286000"/>
            <a:ext cx="1828800" cy="31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-228600" y="914400"/>
          <a:ext cx="93726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914400"/>
                    <a:ext cx="9372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3"/>
          <p:cNvSpPr/>
          <p:nvPr/>
        </p:nvSpPr>
        <p:spPr>
          <a:xfrm>
            <a:off x="230400" y="5867280"/>
            <a:ext cx="56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ource: National Federation of Independent Businesses and U.S. Department of Commerce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279440" y="6613560"/>
            <a:ext cx="656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8610480" y="6629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0" y="6629400"/>
            <a:ext cx="19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4 Franchis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1EA28F1E-575B-4447-8E85-2A4E793818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Franchisers Want in Franchise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lity to be coach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7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business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 to capi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preneurial minds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industry ski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CC507D3F-42D8-4D7F-A378-E2D71287CF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0796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rawback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hise fees and revenue sh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-up costs range from $2,000 to $250,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yalty: 1% to 11% of s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ct adherence to standardized op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ions on purcha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rcRect l="37733" t="21257" r="40938" b="28832"/>
          <a:stretch/>
        </p:blipFill>
        <p:spPr>
          <a:xfrm>
            <a:off x="7489800" y="4486320"/>
            <a:ext cx="1492200" cy="2352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3941EF09-20C1-46EF-8247-8ADBFEDAAC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0796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rawback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6548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produc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atisfactory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 satu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ppy prisoner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37733" t="21257" r="40938" b="28832"/>
          <a:stretch/>
        </p:blipFill>
        <p:spPr>
          <a:xfrm>
            <a:off x="7489800" y="4486320"/>
            <a:ext cx="1492200" cy="2352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3C0B9179-9055-4D7C-9790-57995164E3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 Myth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hising is the safest way to go into business because franchises never f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ll be able to open my franchise for less money than the franchiser estim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gger the franchise organization, the more successful I’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884AC2A7-03BC-40B4-9018-9A7FE251EB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 Myth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ll use 80 percent of the franchiser’s business system, but I’ll improve upon it by substituting my experience and know-ho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franchises are the s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don’t have to be a “hands-on” manager. I can be an absentee owner and be very successfu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6E97E2DD-53A4-4C5B-843D-4D8928EECF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n Myth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one can be a satisfied, successful franchise ow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hising is the cheapest way to get into business for you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ranchiser will solve my business problems for me; after all, that’s why I pay an ongoing royal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I open my franchise, I’ll be able to run things the way I wan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666E7B06-CB54-4718-855D-0CBDFF223F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93840"/>
            <a:ext cx="7543800" cy="13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o Buy a Franch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, common sense, and patience are vital ingredients in choosing the right franch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yourself – What do you like and dis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the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 your franchise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a copy of the franchiser’s Uniform Franchise Disclosure Document (UFDD) and stud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A7BD7EC2-28AC-440B-9A98-82AB400E60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Should You Look Fo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unique concept or marketing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gistered trade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j0140231"/>
          <p:cNvPicPr/>
          <p:nvPr/>
        </p:nvPicPr>
        <p:blipFill>
          <a:blip r:embed="rId1"/>
          <a:stretch/>
        </p:blipFill>
        <p:spPr>
          <a:xfrm>
            <a:off x="6400800" y="3962520"/>
            <a:ext cx="2212920" cy="219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1301265E-52F2-4B3F-8719-DFCB9C97AFA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7086600" y="304920"/>
          <a:ext cx="180036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04920"/>
                    <a:ext cx="180036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The Franchising Boom!!!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ppers can now buy virtually every product or service imaginable through franchi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854,000 franchise outlets in the United St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 almost 9.6 millio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e $835 billion in annual output – an amount that is 5.8% of the country’s GD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Group 35"/>
          <p:cNvGrpSpPr/>
          <p:nvPr/>
        </p:nvGrpSpPr>
        <p:grpSpPr>
          <a:xfrm>
            <a:off x="7010280" y="0"/>
            <a:ext cx="2133720" cy="2193840"/>
            <a:chOff x="7010280" y="0"/>
            <a:chExt cx="2133720" cy="2193840"/>
          </a:xfrm>
        </p:grpSpPr>
        <p:graphicFrame>
          <p:nvGraphicFramePr>
            <p:cNvPr id="125" name="Object 3"/>
            <p:cNvGraphicFramePr/>
            <p:nvPr/>
          </p:nvGraphicFramePr>
          <p:xfrm>
            <a:off x="7162920" y="0"/>
            <a:ext cx="1981080" cy="21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920" y="0"/>
                      <a:ext cx="1981080" cy="21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Picture 8" descr="dd00942_"/>
            <p:cNvPicPr/>
            <p:nvPr/>
          </p:nvPicPr>
          <p:blipFill>
            <a:blip r:embed="rId5"/>
            <a:stretch/>
          </p:blipFill>
          <p:spPr>
            <a:xfrm>
              <a:off x="7010280" y="228600"/>
              <a:ext cx="2133720" cy="145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C05769CD-1D76-43EB-AC91-31D0D026B0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Should You Look Fo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usiness system that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olid train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ord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sitive relationship with franchi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5" descr="j0140231"/>
          <p:cNvPicPr/>
          <p:nvPr/>
        </p:nvPicPr>
        <p:blipFill>
          <a:blip r:embed="rId1"/>
          <a:stretch/>
        </p:blipFill>
        <p:spPr>
          <a:xfrm>
            <a:off x="6400800" y="3962520"/>
            <a:ext cx="2212920" cy="2197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7667640" y="1600200"/>
            <a:ext cx="11379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73D63A6E-7E9D-4E6C-9A43-D85C8E2B08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93840"/>
            <a:ext cx="7543800" cy="13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o Buy a Franchi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 to existing franchi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the franchiser some tough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your ch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667640" y="1600200"/>
            <a:ext cx="11379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8600" y="151200"/>
            <a:ext cx="693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 4.4  Advantages and Disadvantages of Buying a New vs. an Established Franch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990720"/>
          <a:ext cx="8686800" cy="5456160"/>
        </p:xfrm>
        <a:graphic>
          <a:graphicData uri="http://schemas.openxmlformats.org/drawingml/2006/table">
            <a:tbl>
              <a:tblPr/>
              <a:tblGrid>
                <a:gridCol w="1600200"/>
                <a:gridCol w="3560760"/>
                <a:gridCol w="352584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3ba"/>
                    </a:solidFill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Franch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 be new and exci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concept can be fresh and different in the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ility of getting lower fees as a “pioneer” of the conce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tial for a high return on inves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is not tested or established in the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known brand and trade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ility that the concept is a fad with no staying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 may lack the experience to deliver valuable services to franchis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3b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ed Franch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concept likely is well-known to consumers and market for the products or services is already establish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 has experience in delivering services to franchis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 has had time to work the “bugs” out of the business sys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3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franchise fees and costs that often are non-negot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pt may be on the wane in the 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’s brand and trademark may remind customers of an outdated conce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hiser’s “trade dress” may be in need of updating and redesig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63"/>
          <p:cNvSpPr/>
          <p:nvPr/>
        </p:nvSpPr>
        <p:spPr>
          <a:xfrm>
            <a:off x="0" y="6401520"/>
            <a:ext cx="502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ource: Based on Andrew A. Caffey, “Age Issues,”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preneur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January 2002. p. 118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2819520" y="6629400"/>
            <a:ext cx="460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0" y="6629400"/>
            <a:ext cx="142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hapter 4 Franchisin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8534520" y="66294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2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C197BFED-EA71-46F0-AD11-EA3AB6E79E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Global Franchising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2% of U.S. franchisers have international outlet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the U.S. franchisers who operate globally, 30% of their total outlets are located in other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 markets: Europe and Pacific Rim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9" descr="j0431167"/>
          <p:cNvPicPr/>
          <p:nvPr/>
        </p:nvPicPr>
        <p:blipFill>
          <a:blip r:embed="rId1"/>
          <a:stretch/>
        </p:blipFill>
        <p:spPr>
          <a:xfrm>
            <a:off x="2895480" y="4648320"/>
            <a:ext cx="2845080" cy="189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2F02BE6A-6B29-44C7-B727-CF203DDDE1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65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Franchising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6582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hising – semi-independent business owners pay fees and royalties to a parent company in exchange for the right to sell its products and services under the franchiser’s trade name and often to use its business format and syste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j0149993"/>
          <p:cNvPicPr/>
          <p:nvPr/>
        </p:nvPicPr>
        <p:blipFill>
          <a:blip r:embed="rId1"/>
          <a:stretch/>
        </p:blipFill>
        <p:spPr>
          <a:xfrm>
            <a:off x="3657600" y="4724280"/>
            <a:ext cx="1828800" cy="18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60" y="56880"/>
            <a:ext cx="358128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Figure 4.1 The Franchising Relationship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3" descr="j0384118"/>
          <p:cNvPicPr/>
          <p:nvPr/>
        </p:nvPicPr>
        <p:blipFill>
          <a:blip r:embed="rId1"/>
          <a:stretch/>
        </p:blipFill>
        <p:spPr>
          <a:xfrm>
            <a:off x="2362320" y="838080"/>
            <a:ext cx="2057400" cy="970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j0297295"/>
          <p:cNvPicPr/>
          <p:nvPr/>
        </p:nvPicPr>
        <p:blipFill>
          <a:blip r:embed="rId2"/>
          <a:stretch/>
        </p:blipFill>
        <p:spPr>
          <a:xfrm>
            <a:off x="6858000" y="838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0" y="538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ranchis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324480" y="533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ranchis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79800" y="1935000"/>
            <a:ext cx="3287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sees and approves; may choose s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otype desig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general recommendations and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ning sugges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s product or servic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only recommend pr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es quality standards; provid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of approved suppliers; may requ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anchisees to purchase from the franchiso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s and coordinates national a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paign; may require minimum level of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nding on local adverti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s quality standards and enforces the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inspections; trains franchise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support through an establishe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siness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32480" y="1935000"/>
            <a:ext cx="34257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oses site with franchiser’s appro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s for and implements desig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res, manages, and fir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es only with franchiser’s appro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s final pr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meet quality standards; must purchas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from approved suppliers; must purchas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supplier if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s for national ad campaign; complies wi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l advertising requirements; gets franchis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roval on local a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s quality standards; trains employe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implement qualit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es business on a day-to-day basis wi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anchiser’s 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19160" y="1924200"/>
            <a:ext cx="18320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e sele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ts and serv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ch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0" y="538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0" y="6488280"/>
            <a:ext cx="836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ource: Adapted from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Economic Impact of Franchised Businesses: A Study for the International Franchise Association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, National Economic Consulting Practice of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iceWaterhouseCoopers, (IFA Educational Foundation, New York: 2004), pp. 3,5.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77C36BAC-9AF7-481B-999B-D9ECAD49F4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79200" y="382680"/>
            <a:ext cx="5769000" cy="76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Types of Franchising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506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084320" y="2494080"/>
            <a:ext cx="7581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 dis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100160" y="3032280"/>
            <a:ext cx="8001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e (Business form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0" descr="MPj03866450000[1]"/>
          <p:cNvPicPr/>
          <p:nvPr/>
        </p:nvPicPr>
        <p:blipFill>
          <a:blip r:embed="rId1"/>
          <a:stretch/>
        </p:blipFill>
        <p:spPr>
          <a:xfrm>
            <a:off x="6176880" y="1590840"/>
            <a:ext cx="2667240" cy="190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MPj03057330000[1]"/>
          <p:cNvPicPr/>
          <p:nvPr/>
        </p:nvPicPr>
        <p:blipFill>
          <a:blip r:embed="rId2"/>
          <a:stretch/>
        </p:blipFill>
        <p:spPr>
          <a:xfrm>
            <a:off x="4572000" y="3962520"/>
            <a:ext cx="3657600" cy="245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splash2"/>
          <p:cNvPicPr/>
          <p:nvPr/>
        </p:nvPicPr>
        <p:blipFill>
          <a:blip r:embed="rId3"/>
          <a:stretch/>
        </p:blipFill>
        <p:spPr>
          <a:xfrm>
            <a:off x="1066680" y="3886200"/>
            <a:ext cx="233388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FDB59861-F61B-41F6-AE6B-CF0EE2186F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Buy a Franchise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hisees are buying the franchiser’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erienc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ing into busines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bu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hisees get a proven business system and avoid having to learn by trial-and-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fore buying, ask: “What can a franchise do for me that I cannot do for myself?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0B1D9EDE-9C76-48DC-85BD-3BC526A45F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1200" y="498600"/>
            <a:ext cx="6877080" cy="65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t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training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 name appe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n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ized quality of goods and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advertising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j0234700"/>
          <p:cNvPicPr/>
          <p:nvPr/>
        </p:nvPicPr>
        <p:blipFill>
          <a:blip r:embed="rId1"/>
          <a:stretch/>
        </p:blipFill>
        <p:spPr>
          <a:xfrm>
            <a:off x="7467480" y="529272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2438280" y="6575400"/>
            <a:ext cx="4724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©2012 Pearson Education, Inc. publishing as Prentice Hal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238880" y="6680160"/>
            <a:ext cx="190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4-</a:t>
            </a:r>
            <a:fld id="{72FF72A7-4621-481F-878F-46F37CAA10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1200" y="498600"/>
            <a:ext cx="6877080" cy="65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enefits of Franchis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Franchise Regi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n products and business form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ized buying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e selection and territorial pro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er chance for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j0234700"/>
          <p:cNvPicPr/>
          <p:nvPr/>
        </p:nvPicPr>
        <p:blipFill>
          <a:blip r:embed="rId2"/>
          <a:stretch/>
        </p:blipFill>
        <p:spPr>
          <a:xfrm>
            <a:off x="7467480" y="529272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3:02:00Z</dcterms:created>
  <dc:creator>Norman M. Scarborough</dc:creator>
  <dc:description>Esentials, 2/e.</dc:description>
  <cp:keywords/>
  <dc:language>en-US</dc:language>
  <cp:lastModifiedBy>UsEr</cp:lastModifiedBy>
  <cp:lastPrinted>1995-03-21T17:16:20Z</cp:lastPrinted>
  <dcterms:modified xsi:type="dcterms:W3CDTF">2015-09-13T11:38:47Z</dcterms:modified>
  <cp:revision>128</cp:revision>
  <dc:subject/>
  <dc:title> Chapter 1:The Foundations of Entrepreneurship</dc:title>
</cp:coreProperties>
</file>