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9.wmf" ContentType="image/x-wmf"/>
  <Override PartName="/ppt/media/image1.jpeg" ContentType="image/jpeg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FA33-E249-450A-84BB-9088C9B4E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8FFB-1BBA-4DE4-A948-6887B3BA6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CE44-08BF-4B05-A0D5-45ED53B2E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07CE-43EE-4F72-A348-DE9F31AF9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E6B5-4E18-4F51-9621-443BB784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F6491-D8EC-472D-AFE3-7D21D49D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D22E-A68C-49FE-8C39-70B34DFB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77E7-63A1-4C09-BA7E-D067D6F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4E81D-333E-48FD-A0DB-CA6E7F78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C8B3B-27B4-484E-BC5F-29B966CE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6D25-3B55-4F03-A924-D315F0B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81C5-2267-4249-9E27-B155511C7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123D5-5184-47FA-9AF2-5C3008E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5824-331D-473A-93F6-0FB42D3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53C8-0211-47D9-86C0-81ABC90D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E2E6F-885B-43B9-8E3A-620FD3E5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F54A-2516-4B41-9534-954B89D6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C5F2-7F3E-47A7-A2C5-33976BB15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66FF-506D-456C-9218-B5A6511F5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E8F8-1557-45BB-A0AF-C9F9D7905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1A5B-22D3-4725-BD6D-29BC06251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FA17-7FA0-47DE-BDA2-4803AF23A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93E5-5A0A-4D5D-A67E-321690E7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EB31-36FC-48A0-9AD3-3BD16417D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38280" y="6575040"/>
            <a:ext cx="4724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4-</a:t>
            </a:r>
            <a:fld id="{7613A060-9196-4DD9-8E9E-67193E2839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DBAF-CCBC-4BE5-95EE-A1349C7F62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ranchiseregistry.com/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30A74563-51D1-4819-AC4B-B8823E7972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559560" cy="1828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ranchising and the Entrepreneu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6" descr="MPj03961740000[1]"/>
          <p:cNvPicPr/>
          <p:nvPr/>
        </p:nvPicPr>
        <p:blipFill>
          <a:blip r:embed="rId1"/>
          <a:stretch/>
        </p:blipFill>
        <p:spPr>
          <a:xfrm>
            <a:off x="3048120" y="2362320"/>
            <a:ext cx="2874960" cy="190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MPj03862470000[1]"/>
          <p:cNvPicPr/>
          <p:nvPr/>
        </p:nvPicPr>
        <p:blipFill>
          <a:blip r:embed="rId2"/>
          <a:srcRect l="0" t="19045" r="0" b="0"/>
          <a:stretch/>
        </p:blipFill>
        <p:spPr>
          <a:xfrm>
            <a:off x="6583320" y="4282920"/>
            <a:ext cx="1847880" cy="2271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MPj03958630000[1]"/>
          <p:cNvPicPr/>
          <p:nvPr/>
        </p:nvPicPr>
        <p:blipFill>
          <a:blip r:embed="rId3"/>
          <a:stretch/>
        </p:blipFill>
        <p:spPr>
          <a:xfrm>
            <a:off x="2986200" y="4410000"/>
            <a:ext cx="2869920" cy="191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MPj03864310000[1]"/>
          <p:cNvPicPr/>
          <p:nvPr/>
        </p:nvPicPr>
        <p:blipFill>
          <a:blip r:embed="rId4"/>
          <a:stretch/>
        </p:blipFill>
        <p:spPr>
          <a:xfrm>
            <a:off x="461880" y="4417920"/>
            <a:ext cx="1575000" cy="22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5" descr="Something Sweet image"/>
          <p:cNvPicPr/>
          <p:nvPr/>
        </p:nvPicPr>
        <p:blipFill>
          <a:blip r:embed="rId5"/>
          <a:stretch/>
        </p:blipFill>
        <p:spPr>
          <a:xfrm>
            <a:off x="396720" y="2557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8" descr=""/>
          <p:cNvPicPr/>
          <p:nvPr/>
        </p:nvPicPr>
        <p:blipFill>
          <a:blip r:embed="rId6"/>
          <a:stretch/>
        </p:blipFill>
        <p:spPr>
          <a:xfrm>
            <a:off x="6629400" y="2405160"/>
            <a:ext cx="1760400" cy="1730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1876D669-0B60-46D3-93C7-709A563CC8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800244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eater Chance for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6240" y="1919160"/>
            <a:ext cx="6391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: After 5 years, 90% of franchises are still in business compared to 40% of independent busines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ffere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s, assistance, and guidance that experienced franchisers offer their franchise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7266"/>
          <p:cNvPicPr/>
          <p:nvPr/>
        </p:nvPicPr>
        <p:blipFill>
          <a:blip r:embed="rId1"/>
          <a:stretch/>
        </p:blipFill>
        <p:spPr>
          <a:xfrm>
            <a:off x="7315200" y="2286000"/>
            <a:ext cx="18288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-228600" y="914400"/>
          <a:ext cx="93726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914400"/>
                    <a:ext cx="9372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3"/>
          <p:cNvSpPr/>
          <p:nvPr/>
        </p:nvSpPr>
        <p:spPr>
          <a:xfrm>
            <a:off x="230400" y="5867280"/>
            <a:ext cx="56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ource: National Federation of Independent Businesses and U.S. Department of Commerce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79440" y="661356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8610480" y="6629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0" y="6629400"/>
            <a:ext cx="19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06601096-3642-4045-8245-526C83CF46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Franchisers Want in Franchise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to be coach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7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business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 to capi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preneurial mind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industry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167146E2-DD8C-42AE-BA9C-9451DBD4E6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0796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rawback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e fees and revenu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-up costs range from $2,000 to $250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yalty: 1% to 11% of s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ct adherence to standardized op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ions on purcha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37733" t="21257" r="40938" b="28832"/>
          <a:stretch/>
        </p:blipFill>
        <p:spPr>
          <a:xfrm>
            <a:off x="7489800" y="4486320"/>
            <a:ext cx="1492200" cy="2352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9EF380AC-5857-4FE7-94FA-23D2E477EB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0796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rawback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6548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produc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atisfactory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prisoner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37733" t="21257" r="40938" b="28832"/>
          <a:stretch/>
        </p:blipFill>
        <p:spPr>
          <a:xfrm>
            <a:off x="7489800" y="4486320"/>
            <a:ext cx="1492200" cy="235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313D3B2B-C5E9-4A0F-95C9-B470632F30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ing is the safest way to go into business because franchises never f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ll be able to open my franchise for less money than the franchiser estim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gger the franchise organization, the more successful I’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F045FB76-750C-4B63-AF02-6355A3E3E1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ll use 80 percent of the franchiser’s business system, but I’ll improve upon it by substituting my experience and know-h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franchises are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don’t have to be a “hands-on” manager. I can be an absentee owner and be very successfu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B846FB3B-36F7-4A3E-9111-7E397EBB8C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one can be a satisfied, successful franchise ow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ing is the cheapest way to get into business for you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nchiser will solve my business problems for me; after all, that’s why I pay an ongoing royal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I open my franchise, I’ll be able to run things the way I wan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3904C386-895D-4E76-AC49-8474E0B0F0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7543800" cy="13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Buy a Franch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, common sense, and patience are vital ingredients in choosing the right franch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yourself – What do you like and dis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th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 your franchise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a copy of the franchiser’s Uniform Franchise Disclosure Document (UFDD) and stud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A1E8451A-34BC-4BA4-804C-1D03C03BFD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Should You Look Fo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que concept or marketing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ed trade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j0140231"/>
          <p:cNvPicPr/>
          <p:nvPr/>
        </p:nvPicPr>
        <p:blipFill>
          <a:blip r:embed="rId1"/>
          <a:stretch/>
        </p:blipFill>
        <p:spPr>
          <a:xfrm>
            <a:off x="6400800" y="3962520"/>
            <a:ext cx="2212920" cy="219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B5F161BE-F119-4CB9-8075-71519CFBA9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7086600" y="304920"/>
          <a:ext cx="180036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04920"/>
                    <a:ext cx="180036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he Franchising Boom!!!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ers can now buy virtually every product or service imaginable through franch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854,000 franchise outlets in the United St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 almost 9.6 millio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e $835 billion in annual output – an amount that is 5.8% of the country’s GD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Group 35"/>
          <p:cNvGrpSpPr/>
          <p:nvPr/>
        </p:nvGrpSpPr>
        <p:grpSpPr>
          <a:xfrm>
            <a:off x="7010280" y="0"/>
            <a:ext cx="2133720" cy="2193840"/>
            <a:chOff x="7010280" y="0"/>
            <a:chExt cx="2133720" cy="2193840"/>
          </a:xfrm>
        </p:grpSpPr>
        <p:graphicFrame>
          <p:nvGraphicFramePr>
            <p:cNvPr id="125" name="Object 3"/>
            <p:cNvGraphicFramePr/>
            <p:nvPr/>
          </p:nvGraphicFramePr>
          <p:xfrm>
            <a:off x="7162920" y="0"/>
            <a:ext cx="1981080" cy="21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920" y="0"/>
                      <a:ext cx="1981080" cy="21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Picture 8" descr="dd00942_"/>
            <p:cNvPicPr/>
            <p:nvPr/>
          </p:nvPicPr>
          <p:blipFill>
            <a:blip r:embed="rId5"/>
            <a:stretch/>
          </p:blipFill>
          <p:spPr>
            <a:xfrm>
              <a:off x="7010280" y="228600"/>
              <a:ext cx="2133720" cy="145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1B41991E-3BFE-4FCC-986D-B734AAD895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Should You Look Fo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siness system tha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olid train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sitive relationship with franch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5" descr="j0140231"/>
          <p:cNvPicPr/>
          <p:nvPr/>
        </p:nvPicPr>
        <p:blipFill>
          <a:blip r:embed="rId1"/>
          <a:stretch/>
        </p:blipFill>
        <p:spPr>
          <a:xfrm>
            <a:off x="6400800" y="3962520"/>
            <a:ext cx="2212920" cy="219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7667640" y="1600200"/>
            <a:ext cx="1137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A9103A99-C596-4966-94AF-AAC3A02A6E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7543800" cy="13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Buy a Franch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to existing franch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the franchiser some tough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667640" y="1600200"/>
            <a:ext cx="1137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8600" y="15120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4.4  Advantages and Disadvantages of Buying a New vs. an Established Franch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990720"/>
          <a:ext cx="8686800" cy="5456160"/>
        </p:xfrm>
        <a:graphic>
          <a:graphicData uri="http://schemas.openxmlformats.org/drawingml/2006/table">
            <a:tbl>
              <a:tblPr/>
              <a:tblGrid>
                <a:gridCol w="1600200"/>
                <a:gridCol w="3560760"/>
                <a:gridCol w="352584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Franch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 be new and exci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cept can be fresh and different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ility of getting lower fees as a “pioneer” of the conce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tial for a high return on inves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is not tested or established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known brand and trade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ility that the concept is a fad with no staying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may lack the experience to deliver valuable services to franchis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ed Franch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cept likely is well-known to consumers and market for the products or services is already esta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has experience in delivering services to franchis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has had time to work the “bugs” out of the business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franchise fees and costs that often are non-negot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 may be on the wane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’s brand and trademark may remind customers of an outdated conce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’s “trade dress” may be in need of updating and redesig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63"/>
          <p:cNvSpPr/>
          <p:nvPr/>
        </p:nvSpPr>
        <p:spPr>
          <a:xfrm>
            <a:off x="0" y="6401520"/>
            <a:ext cx="502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ource: Based on Andrew A. Caffey, “Age Issues,”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preneur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anuary 2002. p. 118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2819520" y="6629400"/>
            <a:ext cx="460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0" y="662940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8534520" y="66294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2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29862A73-23F9-4FF1-94B9-B2572943F7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Global 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2% of U.S. franchisers have international outlet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the U.S. franchisers who operate globally, 30% of their total outlets are located in other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 markets: Europe and Pacific Rim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9" descr="j0431167"/>
          <p:cNvPicPr/>
          <p:nvPr/>
        </p:nvPicPr>
        <p:blipFill>
          <a:blip r:embed="rId1"/>
          <a:stretch/>
        </p:blipFill>
        <p:spPr>
          <a:xfrm>
            <a:off x="2895480" y="4648320"/>
            <a:ext cx="2845080" cy="189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4C220680-583A-4044-B139-BBA9A0ECEE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65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582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ing – semi-independent business owners pay fees and royalties to a parent company in exchange for the right to sell its products and services under the franchiser’s trade name and often to use its business format and syste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j0149993"/>
          <p:cNvPicPr/>
          <p:nvPr/>
        </p:nvPicPr>
        <p:blipFill>
          <a:blip r:embed="rId1"/>
          <a:stretch/>
        </p:blipFill>
        <p:spPr>
          <a:xfrm>
            <a:off x="3657600" y="4724280"/>
            <a:ext cx="1828800" cy="18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" y="56880"/>
            <a:ext cx="358128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Figure 4.1 The Franchising Relationship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3" descr="j0384118"/>
          <p:cNvPicPr/>
          <p:nvPr/>
        </p:nvPicPr>
        <p:blipFill>
          <a:blip r:embed="rId1"/>
          <a:stretch/>
        </p:blipFill>
        <p:spPr>
          <a:xfrm>
            <a:off x="2362320" y="838080"/>
            <a:ext cx="2057400" cy="97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j0297295"/>
          <p:cNvPicPr/>
          <p:nvPr/>
        </p:nvPicPr>
        <p:blipFill>
          <a:blip r:embed="rId2"/>
          <a:stretch/>
        </p:blipFill>
        <p:spPr>
          <a:xfrm>
            <a:off x="6858000" y="838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0" y="538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ranchis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324480" y="533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ranchis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79800" y="1935000"/>
            <a:ext cx="3287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sees and approves; may choose s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otype 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general recommendations an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ning sugges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s product or servic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nly recommend 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es quality standards; provid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of approved suppliers; may requ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anchisees to purchase from the franchis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s and coordinates national a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paign; may require minimum level of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nding on local adverti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s quality standards and enforces the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inspections; trains franchis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support through an establishe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32480" y="1935000"/>
            <a:ext cx="34257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oses site with franchiser’s appro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s for and implements 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res, manages, and fir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es only with franchiser’s appro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s final 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meet quality standards; must purchas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from approved suppliers; must purchas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supplier if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s for national ad campaign; complies wi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advertising requirements; gets franchis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roval on local a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s quality standards; trains employe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implement qualit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es business on a day-to-day basis wi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anchiser’s 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9160" y="1924200"/>
            <a:ext cx="18320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e sele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ts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ch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0" y="538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0" y="6488280"/>
            <a:ext cx="836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ource: Adapted from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Economic Impact of Franchised Businesses: A Study for the International Franchise Association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, National Economic Consulting Practice of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iceWaterhouseCoopers, (IFA Educational Foundation, New York: 2004), pp. 3,5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02B1AF23-BDFA-4D78-A328-9A2EBCB594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79200" y="382680"/>
            <a:ext cx="5769000" cy="76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ypes of 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506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084320" y="2494080"/>
            <a:ext cx="758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 dis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100160" y="3032280"/>
            <a:ext cx="8001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e (Business form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0" descr="MPj03866450000[1]"/>
          <p:cNvPicPr/>
          <p:nvPr/>
        </p:nvPicPr>
        <p:blipFill>
          <a:blip r:embed="rId1"/>
          <a:stretch/>
        </p:blipFill>
        <p:spPr>
          <a:xfrm>
            <a:off x="6176880" y="1590840"/>
            <a:ext cx="2667240" cy="190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MPj03057330000[1]"/>
          <p:cNvPicPr/>
          <p:nvPr/>
        </p:nvPicPr>
        <p:blipFill>
          <a:blip r:embed="rId2"/>
          <a:stretch/>
        </p:blipFill>
        <p:spPr>
          <a:xfrm>
            <a:off x="4572000" y="3962520"/>
            <a:ext cx="3657600" cy="245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splash2"/>
          <p:cNvPicPr/>
          <p:nvPr/>
        </p:nvPicPr>
        <p:blipFill>
          <a:blip r:embed="rId3"/>
          <a:stretch/>
        </p:blipFill>
        <p:spPr>
          <a:xfrm>
            <a:off x="1066680" y="3886200"/>
            <a:ext cx="233388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008E7CD5-3190-42C0-A277-5DFD2A1BCB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Buy a Franchis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ees are buying the franchiser’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erienc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ing into busines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u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ees get a proven business system and avoid having to learn by trial-and-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fore buying, ask: “What can a franchise do for me that I cannot do for myself?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F058A61E-97E9-41B6-95A7-69B1DC1EE4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687708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t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 name app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ed quality of goods and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advertis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j0234700"/>
          <p:cNvPicPr/>
          <p:nvPr/>
        </p:nvPicPr>
        <p:blipFill>
          <a:blip r:embed="rId1"/>
          <a:stretch/>
        </p:blipFill>
        <p:spPr>
          <a:xfrm>
            <a:off x="7467480" y="529272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5CD19E20-B85D-4932-8426-B7877A6BC1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687708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t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Franchise Reg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n products and business form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ized buying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e selection and territorial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er chance for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j0234700"/>
          <p:cNvPicPr/>
          <p:nvPr/>
        </p:nvPicPr>
        <p:blipFill>
          <a:blip r:embed="rId2"/>
          <a:stretch/>
        </p:blipFill>
        <p:spPr>
          <a:xfrm>
            <a:off x="7467480" y="529272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3:02:00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1:38:47Z</dcterms:modified>
  <cp:revision>128</cp:revision>
  <dc:subject/>
  <dc:title> Chapter 1:The Foundations of Entrepreneurship</dc:title>
</cp:coreProperties>
</file>