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E936-72F7-4754-A0DE-1895158BB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AFA7-0481-4ECA-BF81-3E881BDD3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F5BB-7B7D-4E59-8D0F-1A9A511B6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C9D2-C26D-4D32-9942-B59541A95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CE91F-0A54-4244-911C-C5B797364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4F989-DEB1-471B-A100-4E9E9E513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09E44-F36E-4C9D-8AF3-97BB49C13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BA47D-6CD3-42F8-AC26-897EA8031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E1A5C-4413-433A-AE55-981E44A8A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EC680-A5D9-468C-B8EE-716DCB199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02867-690B-4567-8865-490C4CC8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039D-30A5-44D1-ACE9-613B8EF15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BB021-8C62-4998-B5E8-8726DAF5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C2813-1667-495D-B6A8-0A44DCE99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A0EF1-6EB9-4E84-86FA-B6AE6D4A9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1A950-E4F5-4472-98C3-92438FDD5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90146-9DA8-4656-A568-807755C54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E743-B683-4F7C-A24A-51BE561C6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DC4E-7914-4A60-AC18-9739BAD4E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049D-95CA-4615-8041-A5A65CE26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29D8-D187-4FEF-9F91-08C19541F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CE2A-D09E-481B-9CEF-8546C79B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1DD2-9950-4797-8C18-AE5992F08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5722-7289-4F2F-8518-555DE4F4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 algn="r" rtl="1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 algn="r" rtl="1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 algn="r" rtl="1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 algn="r" rtl="1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791D9-CC4B-4A97-A850-D534250C864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455FD-CE41-4DA5-BEE8-8DA236880D7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79640" y="2852280"/>
            <a:ext cx="5400720" cy="12970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cc0000"/>
                </a:solidFill>
                <a:latin typeface="Verdana"/>
              </a:rPr>
              <a:t>المحاضرة الثالثة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280" y="549000"/>
            <a:ext cx="8001000" cy="855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7</a:t>
            </a: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- مميزات الأحياء المفضلة في التجارب الوراثية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10920" y="1752480"/>
            <a:ext cx="795636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-554400" algn="r" rtl="1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Verdana"/>
              </a:rPr>
              <a:t>هناك عدة اعتبارات مهمه لانتخاب الكائن الحي الملائم للتجارب الوراثية , منها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54400" indent="-554400" algn="r" rtl="1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Verdana"/>
              </a:rPr>
              <a:t>التباين (التغاير)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Variation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ar-SA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54400" indent="-554400" algn="r" rtl="1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Verdana"/>
              </a:rPr>
              <a:t>القدرة على تكوين اتحادات جديدة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Recombination</a:t>
            </a:r>
            <a:r>
              <a:rPr b="1" lang="ar-SA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54400" indent="0" algn="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Verdana"/>
              </a:rPr>
              <a:t>ج- التزاوجات الموجهه :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Con trolled metings</a:t>
            </a:r>
            <a:r>
              <a:rPr b="1" lang="ar-SA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54400" indent="0" algn="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Verdana"/>
              </a:rPr>
              <a:t>د- دورة الحياة القصيرة :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Short life cycle</a:t>
            </a:r>
            <a:r>
              <a:rPr b="1" lang="ar-SA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54400" indent="0" algn="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Verdana"/>
              </a:rPr>
              <a:t>هـ - كثرة عدد النسل :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Large number of offspring</a:t>
            </a:r>
            <a:r>
              <a:rPr b="1" lang="ar-SA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54400" indent="0" algn="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Verdana"/>
              </a:rPr>
              <a:t>و- سهولة التعامل مع الكائن :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Convenience of handling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54400" indent="0" algn="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Verdana"/>
              </a:rPr>
              <a:t>ز- قلة عدد الكوموسومات :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Small number of   chromosomes</a:t>
            </a:r>
            <a:r>
              <a:rPr b="1" lang="ar-SA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000000"/>
                </a:solidFill>
                <a:latin typeface="Verdana"/>
              </a:rPr>
              <a:t>امتدد الدراسات الوراثية لتشمل كل مستويات التنظيم الحيوي من الجزيئات الى العشائر ( الشكل رقم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) 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r" rtl="1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000000"/>
                </a:solidFill>
                <a:latin typeface="Verdana"/>
              </a:rPr>
              <a:t>دراسات الوراثة التقليدية 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r" rtl="1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000000"/>
                </a:solidFill>
                <a:latin typeface="Verdana"/>
              </a:rPr>
              <a:t>الدراسات الوراثية الخلوية 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r" rtl="1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000000"/>
                </a:solidFill>
                <a:latin typeface="Verdana"/>
              </a:rPr>
              <a:t>التحليل الجزيئي والكيميائي الحيوي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r" rtl="1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000000"/>
                </a:solidFill>
                <a:latin typeface="Verdana"/>
              </a:rPr>
              <a:t>الدراسات المرتبطة بالعشائر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1331640" y="692280"/>
            <a:ext cx="6553080" cy="72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8</a:t>
            </a: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- الطرق البحثية في علم الوراثة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68360" y="2781360"/>
            <a:ext cx="2951280" cy="3240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16000" y="620280"/>
            <a:ext cx="7243920" cy="792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Verdana"/>
              </a:rPr>
              <a:t>9</a:t>
            </a:r>
            <a:r>
              <a:rPr b="0" lang="en-US" sz="3800" spc="-1" strike="noStrike">
                <a:solidFill>
                  <a:srgbClr val="cc0000"/>
                </a:solidFill>
                <a:latin typeface="Verdana"/>
              </a:rPr>
              <a:t>- العلاقة بين الجينات والصفات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000" spc="-1" strike="noStrike">
                <a:solidFill>
                  <a:srgbClr val="000000"/>
                </a:solidFill>
                <a:latin typeface="Verdana"/>
              </a:rPr>
              <a:t>الشكل رقم(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55640" y="1844640"/>
            <a:ext cx="3551400" cy="4176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8T17:52:39Z</dcterms:created>
  <dc:creator>هلا</dc:creator>
  <dc:description/>
  <dc:language>en-US</dc:language>
  <cp:lastModifiedBy>هلا</cp:lastModifiedBy>
  <dcterms:modified xsi:type="dcterms:W3CDTF">2007-10-30T19:19:43Z</dcterms:modified>
  <cp:revision>3</cp:revision>
  <dc:subject/>
  <dc:title>المحاضرة الثالثة</dc:title>
</cp:coreProperties>
</file>