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802-44A3-43BC-8E92-FE3B3582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CE4-8998-4EFE-9264-98647A5B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34F-31EA-4E82-8FDB-C74978CE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B73-1CA0-4A0E-93CA-689C2FF2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ACE1-DE57-4A6E-B970-F56FBC80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DD06-31F3-4208-947D-B88DF142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EBC8-66BC-4344-8EB3-7F384EC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4AF6-BE7A-436A-A989-EA1C1AE2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DCC3-8EE1-4413-BB70-16B2C4C5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F999-2068-42A7-B27C-A4ED9D44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DFA5-6585-4F48-B920-05340C70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1E1-6189-4558-921A-08FD0B24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9F75-B964-411B-9C8F-4A2C519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203B-16A6-4094-AEA2-D410E446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12B6-4B4A-46B7-B036-1A5A4460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FFC2-272C-4B03-8E3E-F572C606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3B48-E3C4-48C3-943E-383E62D0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F35-6CC5-4390-A4A0-11498D13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9D2-A676-4104-A185-008EFF29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608-EA60-4089-A1A2-15B53CC7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4A2-7D97-4A12-AE21-F636708D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6A2-7EB7-48B3-84D0-D6FBE110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F09-6460-4E3A-88CA-BC874E40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66A-9110-45A0-A599-AF880CAA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58BD-1281-4C54-BA93-70CEC9A52E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B450-D920-4EBF-94E5-7EA4E9D139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2852280"/>
            <a:ext cx="5400720" cy="129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Verdana"/>
              </a:rPr>
              <a:t>المحاضرة الثالثة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855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7</a:t>
            </a: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- مميزات الأحياء المفضلة في التجارب الوراثي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795636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هناك عدة اعتبارات مهمه لانتخاب الكائن الحي الملائم للتجارب الوراثية , منه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التباين (التغاير)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ariation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-55440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القدرة على تكوين اتحادات جديدة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combination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ج- التزاوجات الموجهه 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 trolled metings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د- دورة الحياة القصيرة 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hort life cycle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هـ - كثرة عدد النسل 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Large number of offspring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و- سهولة التعامل مع الكائن 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venience of handling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544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ز- قلة عدد الكوموسومات 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mall number of   chromosomes</a:t>
            </a: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Verdana"/>
              </a:rPr>
              <a:t>امتدد الدراسات الوراثية لتشمل كل مستويات التنظيم الحيوي من الجزيئات الى العشائر ( الشكل رقم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Verdana"/>
              </a:rPr>
              <a:t>دراسات الوراثة التقليدي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Verdana"/>
              </a:rPr>
              <a:t>الدراسات الوراثية الخلوي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Verdana"/>
              </a:rPr>
              <a:t>التحليل الجزيئي والكيميائي الحيوي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Verdana"/>
              </a:rPr>
              <a:t>الدراسات المرتبطة بالعشائ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331640" y="692280"/>
            <a:ext cx="655308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8</a:t>
            </a: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- الطرق البحثية في علم الوراث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2951280" cy="32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243920" cy="79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9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- العلاقة بين الجينات والصفات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0000"/>
                </a:solidFill>
                <a:latin typeface="Verdana"/>
              </a:rPr>
              <a:t>الشكل رقم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551400" cy="41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7:52:39Z</dcterms:created>
  <dc:creator>هلا</dc:creator>
  <dc:description/>
  <dc:language>en-US</dc:language>
  <cp:lastModifiedBy>هلا</cp:lastModifiedBy>
  <dcterms:modified xsi:type="dcterms:W3CDTF">2007-10-30T19:19:43Z</dcterms:modified>
  <cp:revision>3</cp:revision>
  <dc:subject/>
  <dc:title>المحاضرة الثالثة</dc:title>
</cp:coreProperties>
</file>