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13F5-37DB-4CBA-B2A4-FE47EC563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0BDE-38E1-45A0-B769-32EC1DDB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3E96-ACA9-4300-9DE7-3C5A7E160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9F9B-7636-47EB-9393-1FA68A79D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ACFC-5DC2-4C79-BD77-588844C4E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ACEB-8319-4CED-B3F6-9C06361C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5815-2D0A-404E-AE1A-84A95994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FB0C-56B4-4757-AFDD-165F98D9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BDED-EE0D-4450-A30E-628BD626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543440" cy="120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D68C8-EE17-4CF4-838E-05148DC4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1788-CBE5-4A31-8C6E-F59C937B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01F9-5AEB-4CCB-AB4F-9FCFD361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BE43-6535-4D20-AFA1-99901702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FF0EC-40B0-47DD-A66E-5A7AB6B7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1C58-7B01-4A43-BF86-4558D0F2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9C44-E58C-46EE-96D9-EF48E9D45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7B02-D153-4091-8723-3899CE347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68AEF-F77D-4447-BCD1-7290CFC50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59D81-573C-409F-9A4F-14B158AC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41F87-173B-48A9-9FFB-7F757B365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55D39-2B20-4F63-B512-F69020C9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38F13-C103-41E0-B977-95A74FDD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7219-62F3-4CDA-95C7-C738AD17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543440" cy="120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67DCF-3A6C-4C5D-9261-96004CC3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D90BE-07EE-4C49-94E8-9F84DDDA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07DF7-1A6C-4A16-A6B2-28CE5776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08BDC-5AE2-4B6A-9539-F95E3614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648E7-E27F-42D3-9632-335436AF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28BA4-B794-44B9-8BC6-B98F985B5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FA74E-EF60-4BFC-8006-24F6A0927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5E95D-A338-4A09-96FB-E034DD5D8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98748-5EDA-4FD6-9A61-0D39C89E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57215-786A-460F-A92A-FBC4632A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CE7A-956D-426B-9B44-B28ECCF5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C95BE-68B3-4139-9851-BE57F5F3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5AD94-38CD-4925-BFF3-2384D032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543440" cy="120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EFEA9-6A0A-47AF-A0D3-36182060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FAA02-2BC3-4803-B416-A1CC2D3D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1148E-A149-4537-B08C-DCE53383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ACB1E-6AF3-4611-9F72-ECCBB4EE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2536E-D262-4C6D-B6C5-545AD9623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E27DC-1EA5-475F-A344-B801CF5B6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E2FFA-B8F6-4521-9B8C-0374A468B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3D1DB-D308-4A75-A31A-43714E493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708F-D524-4C03-B41A-12C0CD31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38EED-B151-4DED-AF5C-F2344E09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7224C-F16E-400F-AB06-362BCEB6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1DF35-16FC-4C48-8D9E-1CBB94CA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EF4C4-B2B2-4FAC-AF21-4BE4A514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543440" cy="120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6EFE4-3598-45A8-9DB6-598964DD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344C5-F6D2-4EAA-AA24-0CA56802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B33E8-62E5-4859-A24F-C7664818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2FAA7-91AC-4C3B-934D-C3F22FA1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319F8-D5FC-4FE8-ACC1-5B0CEE95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EB578-BE13-4288-A7A8-7795DB412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543440" cy="120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E39A-CD01-4B7F-ABD7-B4EFCE77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FB7DC-1E77-4D79-805E-A223532C6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B9B9-2521-4A7A-9289-811DF2E3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1F42-B127-4D35-810E-1E676810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01B6-2193-4D9C-8433-8F6BFD82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circle">
            <a:fillToRect l="10000" t="50000" r="9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8458200" y="0"/>
            <a:ext cx="68544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8458200" y="5486400"/>
            <a:ext cx="685440" cy="6854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x-none" sz="6600" spc="-100" strike="noStrike">
                <a:solidFill>
                  <a:srgbClr val="1f497d"/>
                </a:solidFill>
                <a:latin typeface="Cambria"/>
              </a:rPr>
              <a:t>Click to edit Master title style</a:t>
            </a:r>
            <a:endParaRPr b="0" lang="x-none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 rot="16200000">
            <a:off x="7551360" y="1646280"/>
            <a:ext cx="243792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x-none" sz="1200" spc="-1" strike="noStrike">
                <a:solidFill>
                  <a:srgbClr val="eeece1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x-none" sz="1200" spc="-1" strike="noStrike">
                <a:solidFill>
                  <a:srgbClr val="eeece1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 rot="16200000">
            <a:off x="7587000" y="4048920"/>
            <a:ext cx="23670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531640" y="5649120"/>
            <a:ext cx="548280" cy="39600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0" rIns="0" tIns="0" bIns="0" anchor="ctr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x-none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fld id="{E36C29C1-2FC9-48BA-8CA3-6CA1B3561706}" type="slidenum">
              <a:rPr b="0" lang="x-none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x-none" sz="16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x-none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x-none" sz="14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x-none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x-none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x-none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circle">
            <a:fillToRect l="10000" t="50000" r="9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8458200" y="0"/>
            <a:ext cx="68544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8458200" y="5486400"/>
            <a:ext cx="685440" cy="6854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2160" y="5486400"/>
            <a:ext cx="765936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x-none" sz="3600" spc="-100" strike="noStrike" cap="all">
                <a:solidFill>
                  <a:srgbClr val="1f497d"/>
                </a:solidFill>
                <a:latin typeface="Cambria"/>
              </a:rPr>
              <a:t>Click to edit Master title style</a:t>
            </a:r>
            <a:endParaRPr b="0" lang="x-none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22160" y="3852720"/>
            <a:ext cx="6135480" cy="163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x-none" sz="2000" spc="-1" strike="noStrike">
                <a:solidFill>
                  <a:srgbClr val="8b8b8b"/>
                </a:solidFill>
                <a:latin typeface="Calibri"/>
              </a:rPr>
              <a:t>Click to edit Master text styles</a:t>
            </a:r>
            <a:endParaRPr b="0" lang="x-none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6200000">
            <a:off x="7551360" y="1646280"/>
            <a:ext cx="243792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x-none" sz="1200" spc="-1" strike="noStrike">
                <a:solidFill>
                  <a:srgbClr val="eeece1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x-none" sz="1200" spc="-1" strike="noStrike">
                <a:solidFill>
                  <a:srgbClr val="eeece1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000" y="4048920"/>
            <a:ext cx="23670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31640" y="5649120"/>
            <a:ext cx="548280" cy="39600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0" rIns="0" tIns="0" bIns="0" anchor="ctr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x-none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fld id="{0827A285-8DE1-4E39-8683-6580E003C29F}" type="slidenum">
              <a:rPr b="0" lang="x-none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circle">
            <a:fillToRect l="10000" t="50000" r="9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8458200" y="0"/>
            <a:ext cx="68544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8458200" y="5486400"/>
            <a:ext cx="685440" cy="6854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x-none" sz="4600" spc="-100" strike="noStrike">
                <a:solidFill>
                  <a:srgbClr val="1f497d"/>
                </a:solidFill>
                <a:latin typeface="Cambria"/>
              </a:rPr>
              <a:t>Click to edit Master title style</a:t>
            </a:r>
            <a:endParaRPr b="0" lang="x-none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28600">
              <a:lnSpc>
                <a:spcPct val="100000"/>
              </a:lnSpc>
              <a:spcBef>
                <a:spcPts val="439"/>
              </a:spcBef>
              <a:buClr>
                <a:srgbClr val="4f81bd"/>
              </a:buClr>
              <a:buFont typeface="Arial"/>
              <a:buChar char="•"/>
            </a:pPr>
            <a:r>
              <a:rPr b="0" lang="x-none" sz="2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  <a:p>
            <a:pPr lvl="1" marL="640080" indent="-228600">
              <a:lnSpc>
                <a:spcPct val="10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•"/>
            </a:pPr>
            <a:r>
              <a:rPr b="0" lang="x-none" sz="20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x-none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28600">
              <a:lnSpc>
                <a:spcPct val="100000"/>
              </a:lnSpc>
              <a:spcBef>
                <a:spcPts val="360"/>
              </a:spcBef>
              <a:buClr>
                <a:srgbClr val="9bbb59"/>
              </a:buClr>
              <a:buFont typeface="Arial"/>
              <a:buChar char="•"/>
            </a:pP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  <a:p>
            <a:pPr lvl="3" marL="1280160" indent="-228600">
              <a:lnSpc>
                <a:spcPct val="100000"/>
              </a:lnSpc>
              <a:spcBef>
                <a:spcPts val="320"/>
              </a:spcBef>
              <a:buClr>
                <a:srgbClr val="8064a2"/>
              </a:buClr>
              <a:buFont typeface="Arial"/>
              <a:buChar char="•"/>
            </a:pPr>
            <a:r>
              <a:rPr b="0" lang="x-none" sz="16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x-none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480" indent="-228600">
              <a:lnSpc>
                <a:spcPct val="100000"/>
              </a:lnSpc>
              <a:spcBef>
                <a:spcPts val="281"/>
              </a:spcBef>
              <a:buClr>
                <a:srgbClr val="4bacc6"/>
              </a:buClr>
              <a:buFont typeface="Arial"/>
              <a:buChar char="•"/>
            </a:pPr>
            <a:r>
              <a:rPr b="0" lang="x-none" sz="14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x-none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6200000">
            <a:off x="7551360" y="1646280"/>
            <a:ext cx="243792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x-none" sz="1200" spc="-1" strike="noStrike">
                <a:solidFill>
                  <a:srgbClr val="eeece1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x-none" sz="1200" spc="-1" strike="noStrike">
                <a:solidFill>
                  <a:srgbClr val="eeece1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 rot="16200000">
            <a:off x="7587000" y="4048920"/>
            <a:ext cx="23670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531640" y="5649120"/>
            <a:ext cx="548280" cy="39600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0" rIns="0" tIns="0" bIns="0" anchor="ctr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x-none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fld id="{BAB68843-30FA-421F-BCF2-81A1C3751107}" type="slidenum">
              <a:rPr b="0" lang="x-none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circle">
            <a:fillToRect l="10000" t="50000" r="9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8458200" y="0"/>
            <a:ext cx="68544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8458200" y="5486400"/>
            <a:ext cx="685440" cy="6854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x-none" sz="4600" spc="-100" strike="noStrike">
                <a:solidFill>
                  <a:srgbClr val="1f497d"/>
                </a:solidFill>
                <a:latin typeface="Cambria"/>
              </a:rPr>
              <a:t>Click to edit Master title style</a:t>
            </a:r>
            <a:endParaRPr b="0" lang="x-none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536120"/>
            <a:ext cx="3657240" cy="45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28600">
              <a:lnSpc>
                <a:spcPct val="100000"/>
              </a:lnSpc>
              <a:spcBef>
                <a:spcPts val="561"/>
              </a:spcBef>
              <a:buClr>
                <a:srgbClr val="4f81bd"/>
              </a:buClr>
              <a:buFont typeface="Arial"/>
              <a:buChar char="•"/>
            </a:pPr>
            <a:r>
              <a:rPr b="0" lang="x-none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x-none" sz="2800" spc="-1" strike="noStrike">
              <a:solidFill>
                <a:srgbClr val="000000"/>
              </a:solidFill>
              <a:latin typeface="Calibri"/>
            </a:endParaRPr>
          </a:p>
          <a:p>
            <a:pPr lvl="1" marL="640080" indent="-228600">
              <a:lnSpc>
                <a:spcPct val="100000"/>
              </a:lnSpc>
              <a:spcBef>
                <a:spcPts val="479"/>
              </a:spcBef>
              <a:buClr>
                <a:srgbClr val="c0504d"/>
              </a:buClr>
              <a:buFont typeface="Arial"/>
              <a:buChar char="•"/>
            </a:pPr>
            <a:r>
              <a:rPr b="0" lang="x-none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x-none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28600">
              <a:lnSpc>
                <a:spcPct val="100000"/>
              </a:lnSpc>
              <a:spcBef>
                <a:spcPts val="400"/>
              </a:spcBef>
              <a:buClr>
                <a:srgbClr val="9bbb59"/>
              </a:buClr>
              <a:buFont typeface="Arial"/>
              <a:buChar char="•"/>
            </a:pPr>
            <a:r>
              <a:rPr b="0" lang="x-none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x-none" sz="2000" spc="-1" strike="noStrike">
              <a:solidFill>
                <a:srgbClr val="000000"/>
              </a:solidFill>
              <a:latin typeface="Calibri"/>
            </a:endParaRPr>
          </a:p>
          <a:p>
            <a:pPr lvl="3" marL="1280160" indent="-228600">
              <a:lnSpc>
                <a:spcPct val="100000"/>
              </a:lnSpc>
              <a:spcBef>
                <a:spcPts val="360"/>
              </a:spcBef>
              <a:buClr>
                <a:srgbClr val="8064a2"/>
              </a:buClr>
              <a:buFont typeface="Arial"/>
              <a:buChar char="•"/>
            </a:pP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  <a:p>
            <a:pPr lvl="4" marL="1554480" indent="-228600">
              <a:lnSpc>
                <a:spcPct val="100000"/>
              </a:lnSpc>
              <a:spcBef>
                <a:spcPts val="360"/>
              </a:spcBef>
              <a:buClr>
                <a:srgbClr val="4bacc6"/>
              </a:buClr>
              <a:buFont typeface="Arial"/>
              <a:buChar char="•"/>
            </a:pP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body"/>
          </p:nvPr>
        </p:nvSpPr>
        <p:spPr>
          <a:xfrm>
            <a:off x="4419720" y="1536120"/>
            <a:ext cx="3657240" cy="45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28600">
              <a:lnSpc>
                <a:spcPct val="100000"/>
              </a:lnSpc>
              <a:spcBef>
                <a:spcPts val="561"/>
              </a:spcBef>
              <a:buClr>
                <a:srgbClr val="4f81bd"/>
              </a:buClr>
              <a:buFont typeface="Arial"/>
              <a:buChar char="•"/>
            </a:pPr>
            <a:r>
              <a:rPr b="0" lang="x-none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x-none" sz="2800" spc="-1" strike="noStrike">
              <a:solidFill>
                <a:srgbClr val="000000"/>
              </a:solidFill>
              <a:latin typeface="Calibri"/>
            </a:endParaRPr>
          </a:p>
          <a:p>
            <a:pPr lvl="1" marL="640080" indent="-228600">
              <a:lnSpc>
                <a:spcPct val="100000"/>
              </a:lnSpc>
              <a:spcBef>
                <a:spcPts val="479"/>
              </a:spcBef>
              <a:buClr>
                <a:srgbClr val="c0504d"/>
              </a:buClr>
              <a:buFont typeface="Arial"/>
              <a:buChar char="•"/>
            </a:pPr>
            <a:r>
              <a:rPr b="0" lang="x-none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x-none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28600">
              <a:lnSpc>
                <a:spcPct val="100000"/>
              </a:lnSpc>
              <a:spcBef>
                <a:spcPts val="400"/>
              </a:spcBef>
              <a:buClr>
                <a:srgbClr val="9bbb59"/>
              </a:buClr>
              <a:buFont typeface="Arial"/>
              <a:buChar char="•"/>
            </a:pPr>
            <a:r>
              <a:rPr b="0" lang="x-none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x-none" sz="2000" spc="-1" strike="noStrike">
              <a:solidFill>
                <a:srgbClr val="000000"/>
              </a:solidFill>
              <a:latin typeface="Calibri"/>
            </a:endParaRPr>
          </a:p>
          <a:p>
            <a:pPr lvl="3" marL="1280160" indent="-228600">
              <a:lnSpc>
                <a:spcPct val="100000"/>
              </a:lnSpc>
              <a:spcBef>
                <a:spcPts val="360"/>
              </a:spcBef>
              <a:buClr>
                <a:srgbClr val="8064a2"/>
              </a:buClr>
              <a:buFont typeface="Arial"/>
              <a:buChar char="•"/>
            </a:pP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  <a:p>
            <a:pPr lvl="4" marL="1554480" indent="-228600">
              <a:lnSpc>
                <a:spcPct val="100000"/>
              </a:lnSpc>
              <a:spcBef>
                <a:spcPts val="360"/>
              </a:spcBef>
              <a:buClr>
                <a:srgbClr val="4bacc6"/>
              </a:buClr>
              <a:buFont typeface="Arial"/>
              <a:buChar char="•"/>
            </a:pP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dt" idx="10"/>
          </p:nvPr>
        </p:nvSpPr>
        <p:spPr>
          <a:xfrm rot="16200000">
            <a:off x="7551360" y="1646280"/>
            <a:ext cx="243792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x-none" sz="1200" spc="-1" strike="noStrike">
                <a:solidFill>
                  <a:srgbClr val="eeece1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x-none" sz="1200" spc="-1" strike="noStrike">
                <a:solidFill>
                  <a:srgbClr val="eeece1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1"/>
          </p:nvPr>
        </p:nvSpPr>
        <p:spPr>
          <a:xfrm rot="16200000">
            <a:off x="7587000" y="4048920"/>
            <a:ext cx="23670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2"/>
          </p:nvPr>
        </p:nvSpPr>
        <p:spPr>
          <a:xfrm>
            <a:off x="8531640" y="5649120"/>
            <a:ext cx="548280" cy="39600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0" rIns="0" tIns="0" bIns="0" anchor="ctr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x-none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fld id="{0F174F34-3AF6-4619-B8E1-E00B6E2DA21D}" type="slidenum">
              <a:rPr b="0" lang="x-none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circle">
            <a:fillToRect l="10000" t="50000" r="9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8458200" y="0"/>
            <a:ext cx="68544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8458200" y="5486400"/>
            <a:ext cx="685440" cy="6854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5495400"/>
            <a:ext cx="7772040" cy="59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x-none" sz="2200" spc="-100" strike="noStrike">
                <a:solidFill>
                  <a:srgbClr val="1f497d"/>
                </a:solidFill>
                <a:latin typeface="Cambria"/>
              </a:rPr>
              <a:t>Click to edit Master title style</a:t>
            </a: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304920" y="6095880"/>
            <a:ext cx="7772040" cy="60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x-none" sz="16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x-none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 rot="16200000">
            <a:off x="7551360" y="1646280"/>
            <a:ext cx="243792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x-none" sz="1200" spc="-1" strike="noStrike">
                <a:solidFill>
                  <a:srgbClr val="eeece1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x-none" sz="1200" spc="-1" strike="noStrike">
                <a:solidFill>
                  <a:srgbClr val="eeece1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 rot="16200000">
            <a:off x="7587000" y="4048920"/>
            <a:ext cx="23670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8531640" y="5649120"/>
            <a:ext cx="548280" cy="39600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0" rIns="0" tIns="0" bIns="0" anchor="ctr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x-none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fld id="{9378974F-6B0D-413D-A09B-D17F77E122E6}" type="slidenum">
              <a:rPr b="0" lang="x-none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 type="body"/>
          </p:nvPr>
        </p:nvSpPr>
        <p:spPr>
          <a:xfrm>
            <a:off x="304920" y="380880"/>
            <a:ext cx="7772040" cy="494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28600">
              <a:lnSpc>
                <a:spcPct val="100000"/>
              </a:lnSpc>
              <a:spcBef>
                <a:spcPts val="439"/>
              </a:spcBef>
              <a:buClr>
                <a:srgbClr val="4f81bd"/>
              </a:buClr>
              <a:buFont typeface="Arial"/>
              <a:buChar char="•"/>
            </a:pPr>
            <a:r>
              <a:rPr b="0" lang="x-none" sz="2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  <a:p>
            <a:pPr lvl="1" marL="640080" indent="-228600">
              <a:lnSpc>
                <a:spcPct val="10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•"/>
            </a:pPr>
            <a:r>
              <a:rPr b="0" lang="x-none" sz="20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x-none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28600">
              <a:lnSpc>
                <a:spcPct val="100000"/>
              </a:lnSpc>
              <a:spcBef>
                <a:spcPts val="360"/>
              </a:spcBef>
              <a:buClr>
                <a:srgbClr val="9bbb59"/>
              </a:buClr>
              <a:buFont typeface="Arial"/>
              <a:buChar char="•"/>
            </a:pP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  <a:p>
            <a:pPr lvl="3" marL="1280160" indent="-228600">
              <a:lnSpc>
                <a:spcPct val="100000"/>
              </a:lnSpc>
              <a:spcBef>
                <a:spcPts val="320"/>
              </a:spcBef>
              <a:buClr>
                <a:srgbClr val="8064a2"/>
              </a:buClr>
              <a:buFont typeface="Arial"/>
              <a:buChar char="•"/>
            </a:pPr>
            <a:r>
              <a:rPr b="0" lang="x-none" sz="16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x-none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480" indent="-228600">
              <a:lnSpc>
                <a:spcPct val="100000"/>
              </a:lnSpc>
              <a:spcBef>
                <a:spcPts val="281"/>
              </a:spcBef>
              <a:buClr>
                <a:srgbClr val="4bacc6"/>
              </a:buClr>
              <a:buFont typeface="Arial"/>
              <a:buChar char="•"/>
            </a:pPr>
            <a:r>
              <a:rPr b="0" lang="x-none" sz="14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x-none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savethechildren.org.uk/" TargetMode="External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who.int/ar/" TargetMode="External"/><Relationship Id="rId2" Type="http://schemas.openxmlformats.org/officeDocument/2006/relationships/hyperlink" Target="http://www.who.int/ar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ilo.org/beirut/lang--ar/index.htm" TargetMode="External"/><Relationship Id="rId2" Type="http://schemas.openxmlformats.org/officeDocument/2006/relationships/hyperlink" Target="http://www.ilo.org/beirut/lang--ar/index.htm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feature=player_embedded&amp;v=QpHEj0yC_to" TargetMode="External"/><Relationship Id="rId2" Type="http://schemas.openxmlformats.org/officeDocument/2006/relationships/hyperlink" Target="http://www.youtube.com/watch?feature=player_embedded&amp;v=QpHEj0yC_to" TargetMode="External"/><Relationship Id="rId3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ar-SA" sz="6600" spc="-100" strike="noStrike">
                <a:solidFill>
                  <a:srgbClr val="1f497d"/>
                </a:solidFill>
                <a:latin typeface="Cambria"/>
              </a:rPr>
              <a:t>تابع.. </a:t>
            </a:r>
            <a:br>
              <a:rPr sz="6600"/>
            </a:br>
            <a:r>
              <a:rPr b="0" lang="ar-SA" sz="6600" spc="-100" strike="noStrike">
                <a:solidFill>
                  <a:srgbClr val="1f497d"/>
                </a:solidFill>
                <a:latin typeface="Cambria"/>
              </a:rPr>
              <a:t>المنظمات الدولية</a:t>
            </a:r>
            <a:endParaRPr b="0" lang="x-none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691640" y="4797000"/>
            <a:ext cx="6461280" cy="106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ar-SA" sz="3200" spc="-1" strike="noStrike">
                <a:solidFill>
                  <a:srgbClr val="8b8b8b"/>
                </a:solidFill>
                <a:latin typeface="Calibri"/>
              </a:rPr>
              <a:t>أ. مـــهـــا الحقبــا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ubtitle 2"/>
          <p:cNvSpPr/>
          <p:nvPr/>
        </p:nvSpPr>
        <p:spPr>
          <a:xfrm>
            <a:off x="395640" y="908640"/>
            <a:ext cx="64612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ar-SA" sz="3200" spc="-1" strike="noStrike">
                <a:solidFill>
                  <a:srgbClr val="8b8b8b"/>
                </a:solidFill>
                <a:latin typeface="Calibri"/>
              </a:rPr>
              <a:t>أ. مـــهـــا الحقبــا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مربع نص 1"/>
          <p:cNvSpPr/>
          <p:nvPr/>
        </p:nvSpPr>
        <p:spPr>
          <a:xfrm>
            <a:off x="251640" y="188640"/>
            <a:ext cx="7992360" cy="74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x-none" sz="3200" spc="-1" strike="noStrike" u="sng">
                <a:solidFill>
                  <a:srgbClr val="ff6600"/>
                </a:solidFill>
                <a:uFillTx/>
                <a:latin typeface="Calibri"/>
              </a:rPr>
              <a:t>3</a:t>
            </a:r>
            <a:r>
              <a:rPr b="1" lang="x-none" sz="3200" spc="-1" strike="noStrike" u="sng">
                <a:solidFill>
                  <a:srgbClr val="ff6600"/>
                </a:solidFill>
                <a:uFillTx/>
                <a:latin typeface="Calibri"/>
              </a:rPr>
              <a:t>. تعزيز النظم الصح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لتمكين عملية التحسين الصحي من تأدية دورها كأحد استراتيجيات الحد من الفقر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، وتوصيل الخدمات الصحية إلى الفقراء والفئات التي لا تستفيد منها على النحو الكاف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3200" spc="-1" strike="noStrike">
                <a:solidFill>
                  <a:srgbClr val="558ed5"/>
                </a:solidFill>
                <a:latin typeface="Calibri"/>
              </a:rPr>
              <a:t>وتظل النظم الصحية في كثير من مناطق العالم عاجزة عن تحقيق ذلك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ومن المجالات الجاري تناولها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وفيرأعداد كافية من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العاملين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المدربين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 بطريقة مناسب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أموال كاف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نظم ملائمة لجمع الإحصاءات الأساس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فرص الحصول على التكنولوجيات المواتيه بما في ذلك الأدوية الأساس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مربع نص 1"/>
          <p:cNvSpPr/>
          <p:nvPr/>
        </p:nvSpPr>
        <p:spPr>
          <a:xfrm>
            <a:off x="323640" y="908640"/>
            <a:ext cx="7848360" cy="59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x-none" sz="3200" spc="-1" strike="noStrike" u="sng">
                <a:solidFill>
                  <a:schemeClr val="accent6">
                    <a:lumMod val="75000"/>
                  </a:schemeClr>
                </a:solidFill>
                <a:uFillTx/>
                <a:latin typeface="Calibri"/>
              </a:rPr>
              <a:t>4</a:t>
            </a:r>
            <a:r>
              <a:rPr b="1" lang="x-none" sz="3200" spc="-1" strike="noStrike" u="sng">
                <a:solidFill>
                  <a:schemeClr val="accent6">
                    <a:lumMod val="75000"/>
                  </a:schemeClr>
                </a:solidFill>
                <a:uFillTx/>
                <a:latin typeface="Calibri"/>
              </a:rPr>
              <a:t>. تسخير البحوث والمعلومات والبيانات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مثل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البيانات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 الأساس الذي تقوم عليه عمليات تحديد الأولويات ووضع الاستراتيجيات وقياس النتائج وتسعى منظمة الصحة العالمية إل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3200" spc="-1" strike="noStrike">
                <a:solidFill>
                  <a:srgbClr val="558ed5"/>
                </a:solidFill>
                <a:latin typeface="Calibri"/>
              </a:rPr>
              <a:t>إصدار معلومات صحية موثو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ذلك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من أجل وضع القواعد والمعايير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 وتحديد الخيارات السياسية المستندة للبيانات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ورصد الوضع الصحي العالمي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آخذ في التطو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مربع نص 1"/>
          <p:cNvSpPr/>
          <p:nvPr/>
        </p:nvSpPr>
        <p:spPr>
          <a:xfrm>
            <a:off x="0" y="1124640"/>
            <a:ext cx="83160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x-none" sz="3200" spc="-1" strike="noStrike" u="sng">
                <a:solidFill>
                  <a:schemeClr val="accent6">
                    <a:lumMod val="75000"/>
                  </a:schemeClr>
                </a:solidFill>
                <a:uFillTx/>
                <a:latin typeface="Calibri"/>
              </a:rPr>
              <a:t>5</a:t>
            </a:r>
            <a:r>
              <a:rPr b="1" lang="x-none" sz="3200" spc="-1" strike="noStrike" u="sng">
                <a:solidFill>
                  <a:schemeClr val="accent6">
                    <a:lumMod val="75000"/>
                  </a:schemeClr>
                </a:solidFill>
                <a:uFillTx/>
                <a:latin typeface="Calibri"/>
              </a:rPr>
              <a:t>. تقوية الشراكات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وتضطلع منظمة الصحة العالمية بعملها </a:t>
            </a:r>
            <a:r>
              <a:rPr b="0" lang="hi-IN" sz="3200" spc="-1" strike="noStrike">
                <a:solidFill>
                  <a:srgbClr val="ff0000"/>
                </a:solidFill>
                <a:latin typeface="Calibri"/>
              </a:rPr>
              <a:t>بدعم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 من العديد من الشركاء وبالتعاون معهم بما في ذلك </a:t>
            </a:r>
            <a:r>
              <a:rPr b="1" lang="hi-IN" sz="3200" spc="-1" strike="noStrike">
                <a:solidFill>
                  <a:srgbClr val="000000"/>
                </a:solidFill>
                <a:latin typeface="Calibri"/>
              </a:rPr>
              <a:t>وكالات الأمم المتحدة </a:t>
            </a: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وغيرها من المنظمات الدولية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٬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الجهات المانحة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٬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هيئات المجتمع المدني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٬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القطاع الخا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مربع نص 1"/>
          <p:cNvSpPr/>
          <p:nvPr/>
        </p:nvSpPr>
        <p:spPr>
          <a:xfrm>
            <a:off x="611640" y="1052640"/>
            <a:ext cx="748836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x-none" sz="3200" spc="-1" strike="noStrike" u="sng">
                <a:solidFill>
                  <a:srgbClr val="e46c0a"/>
                </a:solidFill>
                <a:uFillTx/>
                <a:latin typeface="Calibri"/>
              </a:rPr>
              <a:t>6</a:t>
            </a:r>
            <a:r>
              <a:rPr b="1" lang="x-none" sz="3200" spc="-1" strike="noStrike" u="sng">
                <a:solidFill>
                  <a:srgbClr val="e46c0a"/>
                </a:solidFill>
                <a:uFillTx/>
                <a:latin typeface="Calibri"/>
              </a:rPr>
              <a:t>. تحسين الأداء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تشارك منظمة الصحة العالمية في الإصلاحات الجارية التي تهدف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إلى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تحسين كفاءتها وفعاليتها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على الصعيدين الدولي والقطري على حد سوا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كما ترمي المنظمة إلى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ضمان بيئة تحفيزية ومجزية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لأكبر مورد تمتلكه ألا وهو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مجموع موظفي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2699640" y="404640"/>
            <a:ext cx="3816000" cy="84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6000"/>
          </a:bodyPr>
          <a:p>
            <a:pPr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ar-SA" sz="5400" spc="-1" strike="noStrike">
                <a:solidFill>
                  <a:srgbClr val="8b8b8b"/>
                </a:solidFill>
                <a:latin typeface="Calibri"/>
              </a:rPr>
              <a:t>الهيكل التنظيمي</a:t>
            </a:r>
            <a:endParaRPr b="0" lang="x-none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1594800" y="1484640"/>
            <a:ext cx="5598000" cy="4113000"/>
          </a:xfrm>
          <a:prstGeom prst="rect">
            <a:avLst/>
          </a:prstGeom>
          <a:solidFill>
            <a:srgbClr val="faceb9"/>
          </a:solidFill>
          <a:ln>
            <a:solidFill>
              <a:srgbClr val="f59240"/>
            </a:solidFill>
            <a:round/>
          </a:ln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400" spc="-1" strike="noStrike">
                <a:solidFill>
                  <a:schemeClr val="dk1"/>
                </a:solidFill>
                <a:latin typeface="Calibri"/>
              </a:rPr>
              <a:t>المدير الع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400" spc="-1" strike="noStrike">
                <a:solidFill>
                  <a:schemeClr val="dk1"/>
                </a:solidFill>
                <a:latin typeface="Calibri"/>
              </a:rPr>
              <a:t>نائب المدير الع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400" spc="-1" strike="noStrike">
                <a:solidFill>
                  <a:schemeClr val="dk1"/>
                </a:solidFill>
                <a:latin typeface="Calibri"/>
              </a:rPr>
              <a:t>مكتب المدير الع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400" spc="-1" strike="noStrike">
                <a:solidFill>
                  <a:schemeClr val="dk1"/>
                </a:solidFill>
                <a:latin typeface="Calibri"/>
              </a:rPr>
              <a:t>الاتصال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400" spc="-1" strike="noStrike">
                <a:solidFill>
                  <a:schemeClr val="dk1"/>
                </a:solidFill>
                <a:latin typeface="Calibri"/>
              </a:rPr>
              <a:t>الأجهزة الرئاس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400" spc="-1" strike="noStrike">
                <a:solidFill>
                  <a:schemeClr val="dk1"/>
                </a:solidFill>
                <a:latin typeface="Calibri"/>
              </a:rPr>
              <a:t>خدمات المراقبة الداخل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400" spc="-1" strike="noStrike">
                <a:solidFill>
                  <a:schemeClr val="dk1"/>
                </a:solidFill>
                <a:latin typeface="Calibri"/>
              </a:rPr>
              <a:t>المستشار القانون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400" spc="-1" strike="noStrike">
                <a:solidFill>
                  <a:schemeClr val="dk1"/>
                </a:solidFill>
                <a:latin typeface="Calibri"/>
              </a:rPr>
              <a:t>أمين المظال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400" spc="-1" strike="noStrike">
                <a:solidFill>
                  <a:schemeClr val="dk1"/>
                </a:solidFill>
                <a:latin typeface="Calibri"/>
              </a:rPr>
              <a:t>التنسيق مع الأمم المتحد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400" spc="-1" strike="noStrike">
                <a:solidFill>
                  <a:schemeClr val="dk1"/>
                </a:solidFill>
                <a:latin typeface="Calibri"/>
              </a:rPr>
              <a:t>مكتب منظمة الصحة العالمية، الأمم المتحدة، نيويور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مربع نص 1"/>
          <p:cNvSpPr/>
          <p:nvPr/>
        </p:nvSpPr>
        <p:spPr>
          <a:xfrm>
            <a:off x="395640" y="620640"/>
            <a:ext cx="7776360" cy="57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hi-IN" sz="3200" spc="-1" strike="noStrike" u="sng">
                <a:solidFill>
                  <a:srgbClr val="ff0000"/>
                </a:solidFill>
                <a:uFillTx/>
                <a:latin typeface="Calibri"/>
              </a:rPr>
              <a:t>مجالات العم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تهتم هذه المنظمة بتشجيع الأبحاث الطبية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وتقترح عقد الاتفاقيات في شؤون الصحة العالم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وتراقب تفشي الأمراض السارية مثل الجدري والطاعون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 وتعمل على مكافحت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كما تعمل على توفير الحماية الصحية للأمومة والطفول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نشر الوعي من أجل حماية مياه الشرب من التلوث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Content Placeholder 3" descr="الهيكل التنظيمي لمنظمة الصحة العالمية.png"/>
          <p:cNvPicPr/>
          <p:nvPr/>
        </p:nvPicPr>
        <p:blipFill>
          <a:blip r:embed="rId1"/>
          <a:srcRect l="-1115" t="0" r="595" b="0"/>
          <a:stretch/>
        </p:blipFill>
        <p:spPr>
          <a:xfrm>
            <a:off x="1259640" y="476640"/>
            <a:ext cx="4497120" cy="596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مربع نص 1"/>
          <p:cNvSpPr/>
          <p:nvPr/>
        </p:nvSpPr>
        <p:spPr>
          <a:xfrm>
            <a:off x="323640" y="980640"/>
            <a:ext cx="7776360" cy="64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hi-IN" sz="3200" spc="-1" strike="noStrike" u="sng">
                <a:solidFill>
                  <a:srgbClr val="000000"/>
                </a:solidFill>
                <a:uFillTx/>
                <a:latin typeface="Calibri"/>
              </a:rPr>
              <a:t>كما تهتم منظمة الصحة العالمية بدعم عدد من الجهود العالمية التي تتلخص فيما يل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-216000" algn="r" rtl="1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تنسيق الجهود العالمية لمراقبة نشوء أمراض العدوى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-216000" algn="r" rtl="1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ترعى منظمة الصحة العالمية برامج للوقاية والعلاج لهذه الأمرا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-216000" algn="r" rtl="1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تدعم منظمة الصحة العالمية تطوير وتوزيع لقاح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-216000" algn="r" rtl="1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تطوير لقاح للأنفلونز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Content Placeholder 3" descr="الرضاعة الطبيعية.png"/>
          <p:cNvPicPr/>
          <p:nvPr/>
        </p:nvPicPr>
        <p:blipFill>
          <a:blip r:embed="rId1"/>
          <a:srcRect l="-648" t="0" r="-370" b="0"/>
          <a:stretch/>
        </p:blipFill>
        <p:spPr>
          <a:xfrm>
            <a:off x="683640" y="112680"/>
            <a:ext cx="6912360" cy="67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23640" y="5949360"/>
            <a:ext cx="7772040" cy="719640"/>
          </a:xfrm>
          <a:prstGeom prst="rect">
            <a:avLst/>
          </a:prstGeom>
          <a:solidFill>
            <a:srgbClr val="b9d6e1"/>
          </a:solidFill>
          <a:ln w="12600">
            <a:solidFill>
              <a:srgbClr val="46aac4"/>
            </a:solidFill>
            <a:round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ar-SA" sz="3600" spc="-1" strike="noStrike">
                <a:solidFill>
                  <a:srgbClr val="a32779"/>
                </a:solidFill>
                <a:latin typeface="Calibri"/>
              </a:rPr>
              <a:t>الأسبوع العالمي للرضاعة الطبيعية</a:t>
            </a:r>
            <a:endParaRPr b="0" lang="x-none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x-none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1475640" y="188640"/>
            <a:ext cx="5616360" cy="56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مربع نص 1"/>
          <p:cNvSpPr/>
          <p:nvPr/>
        </p:nvSpPr>
        <p:spPr>
          <a:xfrm>
            <a:off x="1619640" y="1484640"/>
            <a:ext cx="6192360" cy="33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hi-IN" sz="3200" spc="-1" strike="noStrike">
                <a:solidFill>
                  <a:srgbClr val="808080"/>
                </a:solidFill>
                <a:latin typeface="Tahoma"/>
                <a:cs typeface="Tahoma"/>
              </a:rPr>
              <a:t>محاور المحاضر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40000"/>
              </a:lnSpc>
              <a:buClr>
                <a:srgbClr val="000000"/>
              </a:buClr>
              <a:buFont typeface="Arial"/>
              <a:buChar char="•"/>
            </a:pPr>
            <a:r>
              <a:rPr b="0" lang="hi-IN" sz="3200" spc="-1" strike="noStrike">
                <a:solidFill>
                  <a:srgbClr val="000000"/>
                </a:solidFill>
                <a:latin typeface="Tahoma"/>
                <a:cs typeface="Tahoma"/>
              </a:rPr>
              <a:t>منظمة الصحة العالمية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40000"/>
              </a:lnSpc>
              <a:buClr>
                <a:srgbClr val="000000"/>
              </a:buClr>
              <a:buFont typeface="Arial"/>
              <a:buChar char="•"/>
            </a:pPr>
            <a:r>
              <a:rPr b="0" lang="hi-IN" sz="3200" spc="-1" strike="noStrike">
                <a:solidFill>
                  <a:srgbClr val="000000"/>
                </a:solidFill>
                <a:latin typeface="Tahoma"/>
                <a:cs typeface="Tahoma"/>
              </a:rPr>
              <a:t>صندوق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إنقاذ الأطفا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40000"/>
              </a:lnSpc>
              <a:buClr>
                <a:srgbClr val="000000"/>
              </a:buClr>
              <a:buFont typeface="Arial"/>
              <a:buChar char="•"/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منظمة العمل الدولية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23640" y="5949360"/>
            <a:ext cx="7772040" cy="719640"/>
          </a:xfrm>
          <a:prstGeom prst="rect">
            <a:avLst/>
          </a:prstGeom>
          <a:solidFill>
            <a:srgbClr val="cfdcbc"/>
          </a:solidFill>
          <a:ln w="12600">
            <a:solidFill>
              <a:srgbClr val="98b855"/>
            </a:solidFill>
            <a:round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ar-SA" sz="3600" spc="-1" strike="noStrike">
                <a:solidFill>
                  <a:srgbClr val="a32779"/>
                </a:solidFill>
                <a:latin typeface="Calibri"/>
              </a:rPr>
              <a:t>الأسبوع العالمي للرضاعة الطبيعية</a:t>
            </a:r>
            <a:endParaRPr b="0" lang="x-none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x-none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1" descr=""/>
          <p:cNvPicPr/>
          <p:nvPr/>
        </p:nvPicPr>
        <p:blipFill>
          <a:blip r:embed="rId1"/>
          <a:stretch/>
        </p:blipFill>
        <p:spPr>
          <a:xfrm>
            <a:off x="1331640" y="116640"/>
            <a:ext cx="5726520" cy="573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323640" y="5949360"/>
            <a:ext cx="7772040" cy="719640"/>
          </a:xfrm>
          <a:prstGeom prst="rect">
            <a:avLst/>
          </a:prstGeom>
          <a:solidFill>
            <a:srgbClr val="c6bed2"/>
          </a:solidFill>
          <a:ln w="12600">
            <a:solidFill>
              <a:srgbClr val="7d5fa0"/>
            </a:solidFill>
            <a:round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ar-SA" sz="36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الأسبوع العالمي للرضاعة الطبيعية</a:t>
            </a:r>
            <a:endParaRPr b="0" lang="x-none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x-none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1403640" y="38160"/>
            <a:ext cx="5760360" cy="57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323640" y="5949360"/>
            <a:ext cx="7772040" cy="719640"/>
          </a:xfrm>
          <a:prstGeom prst="rect">
            <a:avLst/>
          </a:prstGeom>
          <a:solidFill>
            <a:srgbClr val="cfdcbc"/>
          </a:solidFill>
          <a:ln w="12600">
            <a:solidFill>
              <a:srgbClr val="98b855"/>
            </a:solidFill>
            <a:round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ar-SA" sz="3600" spc="-1" strike="noStrike">
                <a:solidFill>
                  <a:srgbClr val="a32779"/>
                </a:solidFill>
                <a:latin typeface="Calibri"/>
              </a:rPr>
              <a:t>الأسبوع العالمي للرضاعة الطبيعية</a:t>
            </a:r>
            <a:endParaRPr b="0" lang="x-none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x-none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1" descr=""/>
          <p:cNvPicPr/>
          <p:nvPr/>
        </p:nvPicPr>
        <p:blipFill>
          <a:blip r:embed="rId1"/>
          <a:stretch/>
        </p:blipFill>
        <p:spPr>
          <a:xfrm>
            <a:off x="1331640" y="116640"/>
            <a:ext cx="5726520" cy="573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349000"/>
            <a:ext cx="7543440" cy="214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ar-SA" sz="6600" spc="-100" strike="noStrike">
                <a:solidFill>
                  <a:srgbClr val="1f497d"/>
                </a:solidFill>
                <a:latin typeface="Cambria"/>
              </a:rPr>
              <a:t>٢</a:t>
            </a:r>
            <a:r>
              <a:rPr b="0" lang="x-none" sz="6600" spc="-100" strike="noStrike">
                <a:solidFill>
                  <a:srgbClr val="1f497d"/>
                </a:solidFill>
                <a:latin typeface="Cambria"/>
              </a:rPr>
              <a:t>- صندوق إنقاذ الأطفال</a:t>
            </a:r>
            <a:endParaRPr b="0" lang="x-none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5" descr=""/>
          <p:cNvPicPr/>
          <p:nvPr/>
        </p:nvPicPr>
        <p:blipFill>
          <a:blip r:embed="rId1"/>
          <a:stretch/>
        </p:blipFill>
        <p:spPr>
          <a:xfrm>
            <a:off x="2699640" y="4797000"/>
            <a:ext cx="4896360" cy="104904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6"/>
          <p:cNvSpPr/>
          <p:nvPr/>
        </p:nvSpPr>
        <p:spPr>
          <a:xfrm>
            <a:off x="3630960" y="5949360"/>
            <a:ext cx="405072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savethechildren.org.uk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مربع نص 1"/>
          <p:cNvSpPr/>
          <p:nvPr/>
        </p:nvSpPr>
        <p:spPr>
          <a:xfrm>
            <a:off x="179640" y="476640"/>
            <a:ext cx="7992360" cy="77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0" lang="hi-IN" sz="2800" spc="-1" strike="noStrike">
                <a:solidFill>
                  <a:srgbClr val="000000"/>
                </a:solidFill>
                <a:latin typeface="Calibri"/>
              </a:rPr>
              <a:t>صندوق إنقاذ الأطفال هو الهيئة التي تعرف باسم </a:t>
            </a:r>
            <a:r>
              <a:rPr b="1" lang="hi-IN" sz="28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منظمة إنقاذ الطفولة </a:t>
            </a:r>
            <a:r>
              <a:rPr b="0" lang="hi-IN" sz="2800" spc="-1" strike="noStrike">
                <a:solidFill>
                  <a:srgbClr val="000000"/>
                </a:solidFill>
                <a:latin typeface="Calibri"/>
              </a:rPr>
              <a:t>الناشطة دوليا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ً وهي تقع ضمن فئات المنظمات </a:t>
            </a: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غير الحكوم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هي من أبرز المنظمات التي تعزز حقوق الطفل وتوفر الإغاثة كما تساعد على دعم الاطفال خاصة في البلدان </a:t>
            </a: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النامية</a:t>
            </a:r>
            <a:r>
              <a:rPr b="0" lang="x-none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أسست منظمة إنقاذ الأطفال في </a:t>
            </a:r>
            <a:r>
              <a:rPr b="1" lang="ar-SA" sz="2800" spc="-1" strike="noStrike">
                <a:solidFill>
                  <a:srgbClr val="77933c"/>
                </a:solidFill>
                <a:latin typeface="Calibri"/>
              </a:rPr>
              <a:t>الولايات المتحد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2800" spc="-1" strike="noStrike" u="sng">
                <a:solidFill>
                  <a:srgbClr val="000000"/>
                </a:solidFill>
                <a:uFillTx/>
                <a:latin typeface="Calibri"/>
              </a:rPr>
              <a:t>من أجل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 rtl="1">
              <a:lnSpc>
                <a:spcPct val="100000"/>
              </a:lnSpc>
              <a:buClr>
                <a:srgbClr val="215968"/>
              </a:buClr>
              <a:buFont typeface="Cambria"/>
              <a:buAutoNum type="arabicPeriod"/>
            </a:pPr>
            <a:r>
              <a:rPr b="1" lang="x-none" sz="2800" spc="-1" strike="noStrike">
                <a:solidFill>
                  <a:schemeClr val="accent5">
                    <a:lumMod val="50000"/>
                  </a:schemeClr>
                </a:solidFill>
                <a:latin typeface="Calibri"/>
              </a:rPr>
              <a:t> تحسين حياة الأطفال من خلال تحسين التعليم والرعاية الصحية والفرص الاقتصاد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 rtl="1">
              <a:lnSpc>
                <a:spcPct val="100000"/>
              </a:lnSpc>
              <a:buClr>
                <a:srgbClr val="215968"/>
              </a:buClr>
              <a:buFont typeface="Cambria"/>
              <a:buAutoNum type="arabicPeriod"/>
            </a:pPr>
            <a:r>
              <a:rPr b="1" lang="ar-SA" sz="2800" spc="-1" strike="noStrike">
                <a:solidFill>
                  <a:schemeClr val="accent5">
                    <a:lumMod val="50000"/>
                  </a:schemeClr>
                </a:solidFill>
                <a:latin typeface="Calibri"/>
              </a:rPr>
              <a:t>وتقديم المساعدات الطارئة في حالات الكوارث الطبيعية والحروب والصراعات الأخرى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 rtl="1">
              <a:lnSpc>
                <a:spcPct val="100000"/>
              </a:lnSpc>
              <a:buClr>
                <a:srgbClr val="215968"/>
              </a:buClr>
              <a:buFont typeface="Cambria"/>
              <a:buAutoNum type="arabicPeriod"/>
            </a:pPr>
            <a:r>
              <a:rPr b="1" lang="ar-SA" sz="2800" spc="-1" strike="noStrike">
                <a:solidFill>
                  <a:schemeClr val="accent5">
                    <a:lumMod val="50000"/>
                  </a:schemeClr>
                </a:solidFill>
                <a:latin typeface="Calibri"/>
              </a:rPr>
              <a:t>والدعوة لتغذية الرضع وزيادة معدلات بقاء الأطفا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مربع نص 1"/>
          <p:cNvSpPr/>
          <p:nvPr/>
        </p:nvSpPr>
        <p:spPr>
          <a:xfrm>
            <a:off x="251640" y="476640"/>
            <a:ext cx="792036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تأسست المنظمة بشكل رسمي معلن في اجتماع عقد في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لنـدن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ن أج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 ”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توفير مواد الإغاثة للأطفال الذين يعانون من آثار الحرب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3060000" y="2781000"/>
            <a:ext cx="4689720" cy="30013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251640" y="5589360"/>
            <a:ext cx="4896360" cy="10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مربع نص 1"/>
          <p:cNvSpPr/>
          <p:nvPr/>
        </p:nvSpPr>
        <p:spPr>
          <a:xfrm>
            <a:off x="251640" y="980640"/>
            <a:ext cx="7920360" cy="47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منظمة إنقاذ الطفولة كانت نشطة في </a:t>
            </a:r>
            <a:r>
              <a:rPr b="1" lang="hi-IN" sz="3200" spc="-1" strike="noStrike">
                <a:solidFill>
                  <a:srgbClr val="ff0000"/>
                </a:solidFill>
                <a:latin typeface="Calibri"/>
              </a:rPr>
              <a:t>الكوارث الكبرى للعصر </a:t>
            </a: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خاصة في حرب فيتنام والكوارث في اثيوبيا والسودان وغيرها من الحروب والكوارث التي جلبت مآسي مروعة من الجوع والتشتت والمرض واليتم للعديد من أطفال العال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فجمعت المنظمة </a:t>
            </a:r>
            <a:r>
              <a:rPr b="1" lang="hi-IN" sz="3200" spc="-1" strike="noStrike">
                <a:solidFill>
                  <a:srgbClr val="000000"/>
                </a:solidFill>
                <a:latin typeface="Calibri"/>
              </a:rPr>
              <a:t>تبرعات عامة </a:t>
            </a: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و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سعت نطاق عملها للمساهمة في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تمويل أعمال الإغاث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مربع نص 1"/>
          <p:cNvSpPr/>
          <p:nvPr/>
        </p:nvSpPr>
        <p:spPr>
          <a:xfrm>
            <a:off x="251640" y="620640"/>
            <a:ext cx="8004960" cy="78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hi-IN" sz="3200" spc="-1" strike="noStrike" u="sng">
                <a:solidFill>
                  <a:srgbClr val="ff0000"/>
                </a:solidFill>
                <a:uFillTx/>
                <a:latin typeface="Calibri"/>
              </a:rPr>
              <a:t>معايير تم وضعها بعين الاعتبار </a:t>
            </a:r>
            <a:r>
              <a:rPr b="1" lang="ar-SA" sz="3200" spc="-1" strike="noStrike" u="sng">
                <a:solidFill>
                  <a:srgbClr val="ff0000"/>
                </a:solidFill>
                <a:uFillTx/>
                <a:latin typeface="Calibri"/>
              </a:rPr>
              <a:t>في منظمة صندوق الأطفال وهي كما يل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3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جب أن يمنح الطفل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رعاية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 التي تؤهله للنمو بشكل طبيع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3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جب أن تقدم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تغذية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 المناسبة للطفل الذي يعاني الفقر والحرما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3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جب ان يكون الطفل أول من يتلقى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عون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 في أوقات الشد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3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جب وضع الطفل في وضع يمكنه من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كسب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 عيش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3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جب أن تكرس كل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طاقات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 لخدمة الأطفال المحتاج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مربع نص 1"/>
          <p:cNvSpPr/>
          <p:nvPr/>
        </p:nvSpPr>
        <p:spPr>
          <a:xfrm>
            <a:off x="433800" y="404640"/>
            <a:ext cx="7632360" cy="67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hi-IN" sz="3200" spc="-1" strike="noStrike">
                <a:solidFill>
                  <a:srgbClr val="ff0000"/>
                </a:solidFill>
                <a:latin typeface="Calibri"/>
              </a:rPr>
              <a:t>يتبلور عمل منظمة إنقاذ الأطفال من خلال العمل وف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hi-IN" sz="3200" spc="-1" strike="noStrike" u="sng">
                <a:solidFill>
                  <a:srgbClr val="000000"/>
                </a:solidFill>
                <a:uFillTx/>
                <a:latin typeface="Calibri"/>
              </a:rPr>
              <a:t>ست خطوات رئيسية ه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2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التركيز على الأطفال حديثي الولاد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2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العدالة في توزيع الخدم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2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تعبئة موارد إضاف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2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تدريب ونشر مزيد من العاملين في مجال الرعاية الصح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2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معالجة سوء التغذ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2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زيادة التركيز على الأطفال في حالات الطوار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مربع نص 1"/>
          <p:cNvSpPr/>
          <p:nvPr/>
        </p:nvSpPr>
        <p:spPr>
          <a:xfrm>
            <a:off x="179640" y="332640"/>
            <a:ext cx="806436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hi-IN" sz="3600" spc="-1" strike="noStrike" u="sng">
                <a:solidFill>
                  <a:srgbClr val="000000"/>
                </a:solidFill>
                <a:uFillTx/>
                <a:latin typeface="Calibri"/>
              </a:rPr>
              <a:t>بالإضافة الى العمل على تحقيق أربع مبادرات رئيسية هي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3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</a:rPr>
              <a:t>ضمان جودة التعليم ل </a:t>
            </a:r>
            <a:r>
              <a:rPr b="1" lang="x-none" sz="28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x-none" sz="2800" spc="-1" strike="noStrike">
                <a:solidFill>
                  <a:srgbClr val="000000"/>
                </a:solidFill>
                <a:latin typeface="Calibri"/>
              </a:rPr>
              <a:t> ملايين من الأطفال المتأثرين بالنزاعات المسلح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3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</a:rPr>
              <a:t>توسيع وتحسين وجود المنظمة في البلدان ذات الأهمية الاستراتيج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3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</a:rPr>
              <a:t>وضع صوت أقوى للأطفا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3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</a:rPr>
              <a:t>أن تكون وكالة الاستجابات الطارئة للأطفال في جميع أنحاء العال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22160" y="5486400"/>
            <a:ext cx="765936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x-none" sz="3600" spc="-100" strike="noStrike" cap="all">
                <a:solidFill>
                  <a:srgbClr val="1f497d"/>
                </a:solidFill>
                <a:latin typeface="Cambria"/>
              </a:rPr>
              <a:t>1- </a:t>
            </a:r>
            <a:r>
              <a:rPr b="0" lang="ar-SA" sz="3600" spc="-100" strike="noStrike" cap="all">
                <a:solidFill>
                  <a:srgbClr val="1f497d"/>
                </a:solidFill>
                <a:latin typeface="Cambria"/>
              </a:rPr>
              <a:t>منظمة الصحة العالمية</a:t>
            </a:r>
            <a:endParaRPr b="0" lang="x-none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60000" y="6083640"/>
            <a:ext cx="3221640" cy="76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 u="sng">
                <a:solidFill>
                  <a:srgbClr val="8b8bff"/>
                </a:solidFill>
                <a:uFillTx/>
                <a:latin typeface="Calibri"/>
                <a:hlinkClick r:id="rId1"/>
              </a:rPr>
              <a:t>http://www.who.int/ar</a:t>
            </a:r>
            <a:r>
              <a:rPr b="0" lang="en-GB" sz="2000" spc="-1" strike="noStrike" u="sng">
                <a:solidFill>
                  <a:srgbClr val="8b8bff"/>
                </a:solidFill>
                <a:uFillTx/>
                <a:latin typeface="Calibri"/>
                <a:hlinkClick r:id="rId2"/>
              </a:rPr>
              <a:t>/</a:t>
            </a:r>
            <a:endParaRPr b="0" lang="x-none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x-none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4" descr="https://encrypted-tbn3.gstatic.com/images?q=tbn:ANd9GcQC95w0WWeJNQ024faPGK3kxrj6uYFlq9otbjsf5BxtsynSC6g2ZQ"/>
          <p:cNvPicPr/>
          <p:nvPr/>
        </p:nvPicPr>
        <p:blipFill>
          <a:blip r:embed="rId3"/>
          <a:stretch/>
        </p:blipFill>
        <p:spPr>
          <a:xfrm>
            <a:off x="1403640" y="1340640"/>
            <a:ext cx="5703480" cy="36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مربع نص 1"/>
          <p:cNvSpPr/>
          <p:nvPr/>
        </p:nvSpPr>
        <p:spPr>
          <a:xfrm>
            <a:off x="899640" y="548640"/>
            <a:ext cx="7056360" cy="2283480"/>
          </a:xfrm>
          <a:prstGeom prst="rect">
            <a:avLst/>
          </a:prstGeom>
          <a:solidFill>
            <a:srgbClr val="ffffff"/>
          </a:solidFill>
          <a:ln>
            <a:solidFill>
              <a:srgbClr val="4f81bd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hi-IN" sz="3200" spc="-1" strike="noStrike" u="sng">
                <a:solidFill>
                  <a:srgbClr val="ff0000"/>
                </a:solidFill>
                <a:uFillTx/>
                <a:latin typeface="Calibri"/>
              </a:rPr>
              <a:t>الهيكل التنظيم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hi-IN" sz="2800" spc="-1" strike="noStrike">
                <a:solidFill>
                  <a:schemeClr val="dk1"/>
                </a:solidFill>
                <a:latin typeface="Calibri"/>
              </a:rPr>
              <a:t>الجمعية العموم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hi-IN" sz="2800" spc="-1" strike="noStrike">
                <a:solidFill>
                  <a:schemeClr val="dk1"/>
                </a:solidFill>
                <a:latin typeface="Calibri"/>
              </a:rPr>
              <a:t>اللجان التنفيذ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hi-IN" sz="2800" spc="-1" strike="noStrike">
                <a:solidFill>
                  <a:schemeClr val="dk1"/>
                </a:solidFill>
                <a:latin typeface="Calibri"/>
              </a:rPr>
              <a:t>الأمانة العام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hi-IN" sz="2800" spc="-1" strike="noStrike">
                <a:solidFill>
                  <a:schemeClr val="dk1"/>
                </a:solidFill>
                <a:latin typeface="Calibri"/>
              </a:rPr>
              <a:t>ا</a:t>
            </a:r>
            <a:r>
              <a:rPr b="0" lang="ar-SA" sz="2800" spc="-1" strike="noStrike">
                <a:solidFill>
                  <a:schemeClr val="dk1"/>
                </a:solidFill>
                <a:latin typeface="Calibri"/>
              </a:rPr>
              <a:t>لإدارات العامة والمكاتب الفرعية الإقليم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مربع نص 2"/>
          <p:cNvSpPr/>
          <p:nvPr/>
        </p:nvSpPr>
        <p:spPr>
          <a:xfrm>
            <a:off x="899640" y="3213000"/>
            <a:ext cx="7128360" cy="3989880"/>
          </a:xfrm>
          <a:prstGeom prst="rect">
            <a:avLst/>
          </a:prstGeom>
          <a:solidFill>
            <a:srgbClr val="ffffff"/>
          </a:solidFill>
          <a:ln>
            <a:solidFill>
              <a:srgbClr val="4f81bd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hi-IN" sz="3200" spc="-1" strike="noStrike" u="sng">
                <a:solidFill>
                  <a:srgbClr val="ff0000"/>
                </a:solidFill>
                <a:uFillTx/>
                <a:latin typeface="Calibri"/>
              </a:rPr>
              <a:t>التموي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hi-IN" sz="2800" spc="-1" strike="noStrike">
                <a:solidFill>
                  <a:schemeClr val="dk1"/>
                </a:solidFill>
                <a:latin typeface="Calibri"/>
              </a:rPr>
              <a:t>يقوم التمويل من خلال عدة مصادر أبرزها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hi-IN" sz="2800" spc="-1" strike="noStrike">
                <a:solidFill>
                  <a:schemeClr val="dk1"/>
                </a:solidFill>
                <a:latin typeface="Calibri"/>
              </a:rPr>
              <a:t>التبرعات من قبل الأفراد او المؤسسات الحكومية والأهل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hi-IN" sz="2800" spc="-1" strike="noStrike">
                <a:solidFill>
                  <a:schemeClr val="dk1"/>
                </a:solidFill>
                <a:latin typeface="Calibri"/>
              </a:rPr>
              <a:t>المنح والهبا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hi-IN" sz="2800" spc="-1" strike="noStrike">
                <a:solidFill>
                  <a:schemeClr val="dk1"/>
                </a:solidFill>
                <a:latin typeface="Calibri"/>
              </a:rPr>
              <a:t>الاستثمارات الخاصة بالمنظم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hi-IN" sz="2800" spc="-1" strike="noStrike">
                <a:solidFill>
                  <a:schemeClr val="dk1"/>
                </a:solidFill>
                <a:latin typeface="Calibri"/>
              </a:rPr>
              <a:t>المساعدات الدولية من الأمم المتحد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hi-IN" sz="2800" spc="-1" strike="noStrike">
                <a:solidFill>
                  <a:schemeClr val="dk1"/>
                </a:solidFill>
                <a:latin typeface="Calibri"/>
              </a:rPr>
              <a:t>الاستشارات والبحوث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907640" y="4941000"/>
            <a:ext cx="6461280" cy="106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 u="sng">
                <a:solidFill>
                  <a:srgbClr val="8b8bff"/>
                </a:solidFill>
                <a:uFillTx/>
                <a:latin typeface="Calibri"/>
                <a:hlinkClick r:id="rId1"/>
              </a:rPr>
              <a:t>http://www.ilo.org/beirut/lang--</a:t>
            </a:r>
            <a:r>
              <a:rPr b="0" lang="en-US" sz="2000" spc="-1" strike="noStrike" u="sng">
                <a:solidFill>
                  <a:srgbClr val="8b8bff"/>
                </a:solidFill>
                <a:uFillTx/>
                <a:latin typeface="Calibri"/>
                <a:hlinkClick r:id="rId2"/>
              </a:rPr>
              <a:t>ar/index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3"/>
          <a:stretch/>
        </p:blipFill>
        <p:spPr>
          <a:xfrm>
            <a:off x="1763640" y="980640"/>
            <a:ext cx="504036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مربع نص 1"/>
          <p:cNvSpPr/>
          <p:nvPr/>
        </p:nvSpPr>
        <p:spPr>
          <a:xfrm>
            <a:off x="395640" y="836640"/>
            <a:ext cx="7920360" cy="59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تأسست منظمة العمل الدولية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 عام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١٩١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قرها مدينة</a:t>
            </a:r>
            <a:r>
              <a:rPr b="1" lang="x-none" sz="3200" spc="-1" strike="noStrike">
                <a:solidFill>
                  <a:srgbClr val="ff0000"/>
                </a:solidFill>
                <a:latin typeface="Calibri"/>
              </a:rPr>
              <a:t> جنيف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في سويسر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جاءت كردة فعل على نتائج الحرب العالمية الأولى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تأثرت بعدد من التغييرات والاضطرابات على مدى ثلاثة عقو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تعتمد على ركيزة دستورية أساسية وه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أن السلام العادل والدائم لا يمكن أن يتحقق إلا إذا استند على العدالة الاجتماع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مربع نص 1"/>
          <p:cNvSpPr/>
          <p:nvPr/>
        </p:nvSpPr>
        <p:spPr>
          <a:xfrm>
            <a:off x="683640" y="404640"/>
            <a:ext cx="7128360" cy="2070360"/>
          </a:xfrm>
          <a:prstGeom prst="rect">
            <a:avLst/>
          </a:prstGeom>
          <a:solidFill>
            <a:srgbClr val="ffffff"/>
          </a:solidFill>
          <a:ln>
            <a:solidFill>
              <a:srgbClr val="4f81bd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hi-IN" sz="2800" spc="-1" strike="noStrike">
                <a:solidFill>
                  <a:srgbClr val="ff0000"/>
                </a:solidFill>
                <a:latin typeface="Calibri"/>
              </a:rPr>
              <a:t>منظمة العمل الدولية حددت الكثير من العلامات المميزة للمجتمع الصناعي </a:t>
            </a:r>
            <a:r>
              <a:rPr b="1" lang="hi-IN" sz="2800" spc="-1" strike="noStrike" u="sng">
                <a:solidFill>
                  <a:srgbClr val="ff0000"/>
                </a:solidFill>
                <a:uFillTx/>
                <a:latin typeface="Calibri"/>
              </a:rPr>
              <a:t>مثل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-2160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hi-IN" sz="2800" spc="-1" strike="noStrike">
                <a:solidFill>
                  <a:schemeClr val="dk1"/>
                </a:solidFill>
                <a:latin typeface="Calibri"/>
              </a:rPr>
              <a:t>تحديد ساعات العمل </a:t>
            </a:r>
            <a:r>
              <a:rPr b="0" lang="x-none" sz="2800" spc="-1" strike="noStrike">
                <a:solidFill>
                  <a:schemeClr val="dk1"/>
                </a:solidFill>
                <a:latin typeface="Calibri"/>
              </a:rPr>
              <a:t>8</a:t>
            </a:r>
            <a:r>
              <a:rPr b="0" lang="x-none" sz="2800" spc="-1" strike="noStrike">
                <a:solidFill>
                  <a:schemeClr val="dk1"/>
                </a:solidFill>
                <a:latin typeface="Calibri"/>
              </a:rPr>
              <a:t> ساع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-2160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hi-IN" sz="2800" spc="-1" strike="noStrike">
                <a:solidFill>
                  <a:schemeClr val="dk1"/>
                </a:solidFill>
                <a:latin typeface="Calibri"/>
              </a:rPr>
              <a:t>سياسات تتعلق حول السلامة في مكان العم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مربع نص 3"/>
          <p:cNvSpPr/>
          <p:nvPr/>
        </p:nvSpPr>
        <p:spPr>
          <a:xfrm>
            <a:off x="467640" y="2781000"/>
            <a:ext cx="7488360" cy="4355640"/>
          </a:xfrm>
          <a:prstGeom prst="rect">
            <a:avLst/>
          </a:prstGeom>
          <a:solidFill>
            <a:srgbClr val="ffffff"/>
          </a:solidFill>
          <a:ln>
            <a:solidFill>
              <a:srgbClr val="4f81bd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0" lang="hi-IN" sz="2800" spc="-1" strike="noStrike">
                <a:solidFill>
                  <a:schemeClr val="dk1"/>
                </a:solidFill>
                <a:latin typeface="Calibri"/>
              </a:rPr>
              <a:t>تتمحور </a:t>
            </a:r>
            <a:r>
              <a:rPr b="0" lang="ar-SA" sz="2800" spc="-1" strike="noStrike">
                <a:solidFill>
                  <a:schemeClr val="dk1"/>
                </a:solidFill>
                <a:latin typeface="Calibri"/>
              </a:rPr>
              <a:t>أهم أدوار منظمة العمل الدولية ف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x-none" sz="2800" spc="-1" strike="noStrike">
                <a:solidFill>
                  <a:schemeClr val="dk1"/>
                </a:solidFill>
                <a:latin typeface="Calibri"/>
              </a:rPr>
              <a:t> وضع برامج للقضاء على أسوأ أشكال عمل الأطفال واستغلالهم والوقاية من الأعمال التي تعرض الطفولة للخط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2800" spc="-1" strike="noStrike">
                <a:solidFill>
                  <a:schemeClr val="dk1"/>
                </a:solidFill>
                <a:latin typeface="Calibri"/>
              </a:rPr>
              <a:t>وقد أصدرت المنظمة العديد من الاتفاقيات التي تعالج شؤون العمل المختلفة منها الاتفاقيات الثمانية التي تعتبر المعايير الأساسية لحقوق الإنسان في العم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مربع نص 1"/>
          <p:cNvSpPr/>
          <p:nvPr/>
        </p:nvSpPr>
        <p:spPr>
          <a:xfrm>
            <a:off x="395640" y="836640"/>
            <a:ext cx="7848360" cy="50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hi-IN" sz="3600" spc="-1" strike="noStrike">
                <a:solidFill>
                  <a:srgbClr val="ff0000"/>
                </a:solidFill>
                <a:latin typeface="Calibri"/>
              </a:rPr>
              <a:t>أهدافها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تهدف منظمة العمل الدولية على المدى البعيد الى </a:t>
            </a:r>
            <a:r>
              <a:rPr b="1" lang="hi-IN" sz="3200" spc="-1" strike="noStrike">
                <a:solidFill>
                  <a:srgbClr val="000000"/>
                </a:solidFill>
                <a:latin typeface="Calibri"/>
              </a:rPr>
              <a:t>القضاء الكامل على عمل الاطفال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 حيث وضعت حدا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ً أدنى لسن العمل هو سن إتمام التعليم الإلزام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منعت عمل الأطفال حتى سن 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"/>
          <p:cNvSpPr/>
          <p:nvPr/>
        </p:nvSpPr>
        <p:spPr>
          <a:xfrm>
            <a:off x="467640" y="5445360"/>
            <a:ext cx="763236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youtube.com/watch?feature=player_embedded&amp;v=QpHEj0yC_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مربع نص 1"/>
          <p:cNvSpPr/>
          <p:nvPr/>
        </p:nvSpPr>
        <p:spPr>
          <a:xfrm>
            <a:off x="467640" y="260640"/>
            <a:ext cx="7704360" cy="7340400"/>
          </a:xfrm>
          <a:prstGeom prst="rect">
            <a:avLst/>
          </a:prstGeom>
          <a:solidFill>
            <a:srgbClr val="ffffff"/>
          </a:solidFill>
          <a:ln>
            <a:solidFill>
              <a:srgbClr val="4f81bd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0" lang="hi-IN" sz="3200" spc="-1" strike="noStrike" u="sng">
                <a:solidFill>
                  <a:schemeClr val="dk1"/>
                </a:solidFill>
                <a:uFillTx/>
                <a:latin typeface="Calibri"/>
              </a:rPr>
              <a:t>أكدت المنظمة أن</a:t>
            </a:r>
            <a:r>
              <a:rPr b="0" lang="x-none" sz="3200" spc="-1" strike="noStrike" u="sng">
                <a:solidFill>
                  <a:schemeClr val="dk1"/>
                </a:solidFill>
                <a:uFillTx/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x-none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الفقر هو السبب الرئيسي لعمل الأطفال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3200" spc="-1" strike="noStrike" u="sng">
                <a:solidFill>
                  <a:schemeClr val="dk1"/>
                </a:solidFill>
                <a:uFillTx/>
                <a:latin typeface="Calibri"/>
              </a:rPr>
              <a:t>وأن الحل يكمن ف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x-none" sz="3200" spc="-1" strike="noStrike">
                <a:solidFill>
                  <a:srgbClr val="ff0000"/>
                </a:solidFill>
                <a:latin typeface="Calibri"/>
              </a:rPr>
              <a:t> تعزيز النمو الاقتصادي للدو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2800" spc="-1" strike="noStrike">
                <a:solidFill>
                  <a:schemeClr val="dk1"/>
                </a:solidFill>
                <a:latin typeface="Calibri"/>
              </a:rPr>
              <a:t>بالإضافة الى ما يل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-2160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ar-SA" sz="3200" spc="-1" strike="noStrike">
                <a:solidFill>
                  <a:schemeClr val="dk1"/>
                </a:solidFill>
                <a:latin typeface="Calibri"/>
              </a:rPr>
              <a:t>دعم العمل اللائق والنمو المستدام والانتعا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-2160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ar-SA" sz="3200" spc="-1" strike="noStrike">
                <a:solidFill>
                  <a:schemeClr val="dk1"/>
                </a:solidFill>
                <a:latin typeface="Calibri"/>
              </a:rPr>
              <a:t>ارساء أنظمة حماية اجتماعية ملائمة وحماية الأفرا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-2160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ar-SA" sz="3200" spc="-1" strike="noStrike">
                <a:solidFill>
                  <a:schemeClr val="dk1"/>
                </a:solidFill>
                <a:latin typeface="Calibri"/>
              </a:rPr>
              <a:t>تعزيز معايير العمل الدولية وحقوق العما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-2160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ar-SA" sz="3200" spc="-1" strike="noStrike">
                <a:solidFill>
                  <a:schemeClr val="dk1"/>
                </a:solidFill>
                <a:latin typeface="Calibri"/>
              </a:rPr>
              <a:t>تعزيز الحوار الاجتماع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-2160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ar-SA" sz="3200" spc="-1" strike="noStrike">
                <a:solidFill>
                  <a:schemeClr val="dk1"/>
                </a:solidFill>
                <a:latin typeface="Calibri"/>
              </a:rPr>
              <a:t>تعزيز استدامة المشاريع من أجل استحداث فرص العم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2"/>
          <p:cNvSpPr/>
          <p:nvPr/>
        </p:nvSpPr>
        <p:spPr>
          <a:xfrm>
            <a:off x="2420640" y="2893680"/>
            <a:ext cx="3657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م بحمد الله وتوفيق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مربع نص 3"/>
          <p:cNvSpPr/>
          <p:nvPr/>
        </p:nvSpPr>
        <p:spPr>
          <a:xfrm>
            <a:off x="395640" y="1989000"/>
            <a:ext cx="73443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hi-IN" sz="3600" spc="-1" strike="noStrike">
                <a:solidFill>
                  <a:srgbClr val="000000"/>
                </a:solidFill>
                <a:latin typeface="Calibri"/>
              </a:rPr>
              <a:t>هي واحدة من عدة وكالات </a:t>
            </a:r>
            <a:r>
              <a:rPr b="1" lang="hi-IN" sz="3600" spc="-1" strike="noStrike">
                <a:solidFill>
                  <a:srgbClr val="ff0000"/>
                </a:solidFill>
                <a:latin typeface="Calibri"/>
              </a:rPr>
              <a:t>تابعة للأمم المتحدة </a:t>
            </a:r>
            <a:r>
              <a:rPr b="0" lang="hi-IN" sz="3600" spc="-1" strike="noStrike">
                <a:solidFill>
                  <a:srgbClr val="000000"/>
                </a:solidFill>
                <a:latin typeface="Calibri"/>
              </a:rPr>
              <a:t>متخصصة في مجال الصح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-2160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hi-IN" sz="3600" spc="-1" strike="noStrike">
                <a:solidFill>
                  <a:srgbClr val="000000"/>
                </a:solidFill>
                <a:latin typeface="Calibri"/>
              </a:rPr>
              <a:t>مقرها الحالي في </a:t>
            </a:r>
            <a:r>
              <a:rPr b="1" lang="hi-IN" sz="3600" spc="-1" strike="noStrike">
                <a:solidFill>
                  <a:srgbClr val="ff0000"/>
                </a:solidFill>
                <a:latin typeface="Calibri"/>
              </a:rPr>
              <a:t>جنيف</a:t>
            </a:r>
            <a:r>
              <a:rPr b="0" lang="x-none" sz="3600" spc="-1" strike="noStrike">
                <a:solidFill>
                  <a:srgbClr val="000000"/>
                </a:solidFill>
                <a:latin typeface="Calibri"/>
              </a:rPr>
              <a:t>, سويسرا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7640" y="54864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600" spc="-100" strike="noStrike">
                <a:solidFill>
                  <a:srgbClr val="1f497d"/>
                </a:solidFill>
                <a:latin typeface="Cambria"/>
              </a:rPr>
              <a:t>WHO </a:t>
            </a:r>
            <a:r>
              <a:rPr b="1" lang="ar-SA" sz="4600" spc="-100" strike="noStrike">
                <a:solidFill>
                  <a:srgbClr val="1f497d"/>
                </a:solidFill>
                <a:latin typeface="Cambria"/>
              </a:rPr>
              <a:t>منظمة الصحة العالمية</a:t>
            </a:r>
            <a:endParaRPr b="0" lang="x-none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 rtl="1">
              <a:lnSpc>
                <a:spcPct val="100000"/>
              </a:lnSpc>
            </a:pPr>
            <a:endParaRPr b="0" lang="en-GB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AutoShape 6"/>
          <p:cNvSpPr/>
          <p:nvPr/>
        </p:nvSpPr>
        <p:spPr>
          <a:xfrm>
            <a:off x="307800" y="7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 rtl="1">
              <a:lnSpc>
                <a:spcPct val="100000"/>
              </a:lnSpc>
            </a:pPr>
            <a:endParaRPr b="0" lang="en-GB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AutoShape 8"/>
          <p:cNvSpPr/>
          <p:nvPr/>
        </p:nvSpPr>
        <p:spPr>
          <a:xfrm>
            <a:off x="460440" y="16020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 rtl="1">
              <a:lnSpc>
                <a:spcPct val="100000"/>
              </a:lnSpc>
            </a:pPr>
            <a:endParaRPr b="0" lang="en-GB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AutoShape 10"/>
          <p:cNvSpPr/>
          <p:nvPr/>
        </p:nvSpPr>
        <p:spPr>
          <a:xfrm>
            <a:off x="612720" y="3128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 rtl="1">
              <a:lnSpc>
                <a:spcPct val="100000"/>
              </a:lnSpc>
            </a:pPr>
            <a:endParaRPr b="0" lang="en-GB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12" descr="http://www.sra7h.com/wp-content/uploads/1595.jpg"/>
          <p:cNvPicPr/>
          <p:nvPr/>
        </p:nvPicPr>
        <p:blipFill>
          <a:blip r:embed="rId1"/>
          <a:stretch/>
        </p:blipFill>
        <p:spPr>
          <a:xfrm>
            <a:off x="-12960" y="4437000"/>
            <a:ext cx="3314160" cy="22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ar-SA" sz="4600" spc="-100" strike="noStrike">
                <a:solidFill>
                  <a:srgbClr val="1f497d"/>
                </a:solidFill>
                <a:latin typeface="Cambria"/>
              </a:rPr>
              <a:t>المديرة العامة للمنظمة</a:t>
            </a:r>
            <a:endParaRPr b="0" lang="x-none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419720" y="1536120"/>
            <a:ext cx="3657240" cy="45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28600" algn="r" rtl="1">
              <a:lnSpc>
                <a:spcPct val="100000"/>
              </a:lnSpc>
              <a:spcBef>
                <a:spcPts val="561"/>
              </a:spcBef>
              <a:buClr>
                <a:srgbClr val="4f81bd"/>
              </a:buClr>
              <a:buFont typeface="Arial"/>
              <a:buChar char="•"/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دكتورة </a:t>
            </a:r>
            <a:r>
              <a:rPr b="1" lang="ar-SA" sz="2800" spc="-1" strike="noStrike">
                <a:solidFill>
                  <a:srgbClr val="ff0000"/>
                </a:solidFill>
                <a:latin typeface="Calibri"/>
              </a:rPr>
              <a:t>مارغريت تشان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هي المديرة العامة لمنظمة الصحة العالمية.</a:t>
            </a:r>
            <a:endParaRPr b="0" lang="x-none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100000"/>
              </a:lnSpc>
              <a:spcBef>
                <a:spcPts val="561"/>
              </a:spcBef>
              <a:buNone/>
            </a:pPr>
            <a:endParaRPr b="0" lang="x-none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lnSpc>
                <a:spcPct val="100000"/>
              </a:lnSpc>
              <a:spcBef>
                <a:spcPts val="561"/>
              </a:spcBef>
              <a:buClr>
                <a:srgbClr val="4f81bd"/>
              </a:buClr>
              <a:buFont typeface="Arial"/>
              <a:buChar char="•"/>
            </a:pPr>
            <a:r>
              <a:rPr b="0" lang="x-none" sz="2800" spc="-1" strike="noStrike">
                <a:solidFill>
                  <a:srgbClr val="000000"/>
                </a:solidFill>
                <a:latin typeface="Calibri"/>
              </a:rPr>
              <a:t> وقد عينتها في هذا المنصب جمعية الصحة العالمية في التاسع من تشرين الثاني/ نوفمبر </a:t>
            </a:r>
            <a:r>
              <a:rPr b="0" lang="x-none" sz="2800" spc="-1" strike="noStrike">
                <a:solidFill>
                  <a:srgbClr val="000000"/>
                </a:solidFill>
                <a:latin typeface="Calibri"/>
              </a:rPr>
              <a:t>2006</a:t>
            </a:r>
            <a:r>
              <a:rPr b="0" lang="x-none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x-none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2" descr="http://www.who.int/entity/dg/chan/chan_official_portrait.jpg"/>
          <p:cNvPicPr/>
          <p:nvPr/>
        </p:nvPicPr>
        <p:blipFill>
          <a:blip r:embed="rId1"/>
          <a:stretch/>
        </p:blipFill>
        <p:spPr>
          <a:xfrm>
            <a:off x="899640" y="1700640"/>
            <a:ext cx="2496960" cy="332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مربع نص 1"/>
          <p:cNvSpPr/>
          <p:nvPr/>
        </p:nvSpPr>
        <p:spPr>
          <a:xfrm>
            <a:off x="1115640" y="1124640"/>
            <a:ext cx="676836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hi-IN" sz="3600" spc="-1" strike="noStrike" u="sng">
                <a:solidFill>
                  <a:srgbClr val="808080"/>
                </a:solidFill>
                <a:uFillTx/>
                <a:latin typeface="Calibri"/>
              </a:rPr>
              <a:t>الهدف الرئيس من منظمة الصحة العالم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r>
              <a:rPr b="1" lang="hi-IN" sz="3600" spc="-1" strike="noStrike">
                <a:solidFill>
                  <a:schemeClr val="accent2">
                    <a:lumMod val="75000"/>
                  </a:schemeClr>
                </a:solidFill>
                <a:latin typeface="Calibri"/>
              </a:rPr>
              <a:t>توفير أفضل ما يمكن من الحالة الصحية لجميع الشعوب على اعتبار أن الصحة تعتبر جزء أساسي من التنمية البشرية المتطور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ar-SA" sz="4400" spc="-100" strike="noStrike">
                <a:solidFill>
                  <a:srgbClr val="1f497d"/>
                </a:solidFill>
                <a:latin typeface="Cambria"/>
              </a:rPr>
              <a:t>إحصائية منظمة الصحة العالمية عن السعودية</a:t>
            </a:r>
            <a:endParaRPr b="0" lang="x-none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6" name="Content Placeholder 3"/>
          <p:cNvGraphicFramePr/>
          <p:nvPr/>
        </p:nvGraphicFramePr>
        <p:xfrm>
          <a:off x="1259640" y="2205000"/>
          <a:ext cx="6048360" cy="3528360"/>
        </p:xfrm>
        <a:graphic>
          <a:graphicData uri="http://schemas.openxmlformats.org/drawingml/2006/table">
            <a:tbl>
              <a:tblPr/>
              <a:tblGrid>
                <a:gridCol w="3024000"/>
                <a:gridCol w="3024000"/>
              </a:tblGrid>
              <a:tr h="653400">
                <a:tc>
                  <a:txBody>
                    <a:bodyPr lIns="37800" rIns="37800" tIns="22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مجموع االسكان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20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3040">
                      <a:solidFill>
                        <a:srgbClr val="ffffff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37800" rIns="37800" tIns="22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31,54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3040">
                      <a:solidFill>
                        <a:srgbClr val="ffffff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1698840">
                <a:tc>
                  <a:txBody>
                    <a:bodyPr lIns="37800" rIns="37800" tIns="22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الدخل القومي الإجمالي للفرد (تعادل القوة الشرائية بالدولار الأمريكي الدولي،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201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 w="23040">
                      <a:solidFill>
                        <a:srgbClr val="ffffff"/>
                      </a:solidFill>
                    </a:lnT>
                    <a:lnB w="23040">
                      <a:solidFill>
                        <a:srgbClr val="ffffff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37800" rIns="37800" tIns="22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 w="23040">
                      <a:solidFill>
                        <a:srgbClr val="ffffff"/>
                      </a:solidFill>
                    </a:lnT>
                    <a:lnB w="23040">
                      <a:solidFill>
                        <a:srgbClr val="ffffff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1176120">
                <a:tc>
                  <a:txBody>
                    <a:bodyPr lIns="37800" rIns="37800" tIns="22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متوسط العمر المأمول عند الميلاد ذ\أ (بالسنوات،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20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 w="23040">
                      <a:solidFill>
                        <a:srgbClr val="ffffff"/>
                      </a:solidFill>
                    </a:lnT>
                    <a:lnB w="23040">
                      <a:solidFill>
                        <a:srgbClr val="ffffff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37800" rIns="37800" tIns="22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73\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 w="23040">
                      <a:solidFill>
                        <a:srgbClr val="ffffff"/>
                      </a:solidFill>
                    </a:lnT>
                    <a:lnB w="23040">
                      <a:solidFill>
                        <a:srgbClr val="ffffff"/>
                      </a:solidFill>
                    </a:lnB>
                    <a:solidFill>
                      <a:srgbClr val="f5f5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مربع نص 2"/>
          <p:cNvSpPr/>
          <p:nvPr/>
        </p:nvSpPr>
        <p:spPr>
          <a:xfrm>
            <a:off x="251640" y="476640"/>
            <a:ext cx="8064360" cy="74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ff6600"/>
              </a:buClr>
              <a:buFont typeface="StarSymbol"/>
              <a:buAutoNum type="arabicPeriod"/>
            </a:pPr>
            <a:r>
              <a:rPr b="1" lang="hi-IN" sz="3200" spc="-1" strike="noStrike" u="sng">
                <a:solidFill>
                  <a:srgbClr val="ff6600"/>
                </a:solidFill>
                <a:uFillTx/>
                <a:latin typeface="Calibri"/>
              </a:rPr>
              <a:t>تعزيز التنم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لقد احتلت الصحة خلال السنوات العشر الماضية, مركزا غير مسبوق كأحد العناصر الأساسية لإحراز التقدم الاجتماعي والاقتصاد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ويستند </a:t>
            </a:r>
            <a:r>
              <a:rPr b="1" lang="hi-IN" sz="3200" spc="-1" strike="noStrike">
                <a:solidFill>
                  <a:srgbClr val="558ed5"/>
                </a:solidFill>
                <a:latin typeface="Calibri"/>
              </a:rPr>
              <a:t>تعزيز الصحة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إلى المبدأ الأخلاقي المتمثل في</a:t>
            </a:r>
            <a:r>
              <a:rPr b="1" lang="x-none" sz="3200" spc="-1" strike="noStrike">
                <a:solidFill>
                  <a:srgbClr val="000000"/>
                </a:solidFill>
                <a:latin typeface="Calibri"/>
              </a:rPr>
              <a:t> الإنصاف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يعني ذلك أنه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لا ينبغي أن يحرم أي شخص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ن التدخلات الرامية إلى تعزيز الصحة لأسباب غير عادلة بما فيها الأسباب القائمة على أسس اقتصادية أو اجتماع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640" y="26064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hi-IN" sz="4800" spc="299" strike="noStrike">
                <a:solidFill>
                  <a:srgbClr val="808080"/>
                </a:solidFill>
                <a:latin typeface="Cambria"/>
              </a:rPr>
              <a:t>برنامج المنظمة</a:t>
            </a:r>
            <a:r>
              <a:rPr b="1" lang="x-none" sz="4800" spc="299" strike="noStrike">
                <a:solidFill>
                  <a:srgbClr val="808080"/>
                </a:solidFill>
                <a:latin typeface="Cambria"/>
              </a:rPr>
              <a:t>:</a:t>
            </a:r>
            <a:br>
              <a:rPr sz="4800"/>
            </a:br>
            <a:endParaRPr b="0" lang="x-none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مربع نص 1"/>
          <p:cNvSpPr/>
          <p:nvPr/>
        </p:nvSpPr>
        <p:spPr>
          <a:xfrm>
            <a:off x="611640" y="980640"/>
            <a:ext cx="7560360" cy="54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Calibri"/>
              </a:rPr>
              <a:t>2</a:t>
            </a:r>
            <a:r>
              <a:rPr b="1" lang="en-US" sz="3200" spc="-1" strike="noStrike" u="sng">
                <a:solidFill>
                  <a:srgbClr val="ff6600"/>
                </a:solidFill>
                <a:uFillTx/>
                <a:latin typeface="Calibri"/>
              </a:rPr>
              <a:t>. </a:t>
            </a:r>
            <a:r>
              <a:rPr b="1" lang="ar-SA" sz="3200" spc="-1" strike="noStrike" u="sng">
                <a:solidFill>
                  <a:srgbClr val="ff6600"/>
                </a:solidFill>
                <a:uFillTx/>
                <a:latin typeface="Calibri"/>
              </a:rPr>
              <a:t>تدعيم الأمن الصح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إن مواطن الضعف المشتركة أمام الأخطار التي تهدد الأمن الصحي تقتضي اتخاذ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إجراءات جماعية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, وينجم أحد أكبر الأخطار المحدقة بالأمن الصحي الدولي عن فاشيات الأمراض المستجدة والأمراض التي قد تتحول الى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أوبئة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تحدث تلك الفاشيات بأعداد متزايدة وتسهم في وقوعها عوامل مثل التوسع العمران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Adjacency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djacency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Adjacency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Adjacency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Adjacency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ustin</Template>
  <TotalTime>145243</TotalTime>
  <Application>LibreOffice/7.4.7.2$Linux_X86_64 LibreOffice_project/40$Build-2</Application>
  <AppVersion>15.0000</AppVersion>
  <Words>1255</Words>
  <Paragraphs>18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16:07:08Z</dcterms:created>
  <dc:creator>user1</dc:creator>
  <dc:description/>
  <dc:language>en-US</dc:language>
  <cp:lastModifiedBy>maha</cp:lastModifiedBy>
  <dcterms:modified xsi:type="dcterms:W3CDTF">2016-10-18T06:33:39Z</dcterms:modified>
  <cp:revision>62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36</vt:r8>
  </property>
</Properties>
</file>