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D3FE-AB64-46B4-9138-56AEB043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F337-56D6-4FF6-B03B-FDD8E018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FAB-E598-45C6-ACB3-45CDA330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136-27E1-4442-8660-07B94280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8F0-A51F-482E-A7C1-2966D3E2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1D01-63C8-45C2-BC7C-23346E28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4B1E-6803-48E9-84F8-A78E46CB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35C9-64ED-4918-A1D9-2E405499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51D0-FD6E-4EE5-AD65-0DD47EAA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A714-8654-4EAB-8271-0AC091B7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3983-DD65-4931-BEBC-331CD521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4BE-C9C0-4247-BE15-DF508340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CCAF-A1E0-465D-82FD-8694B577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729C-EFE0-45A2-981D-45F44C1E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BC2F-F200-43FE-9B86-60CF2FCE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CD67-BB88-4AA3-B3CA-17C3C91A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17E3-36B2-434C-B1A6-A0FA05FA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0F8B1-E68D-48DE-9BE4-FD0F8680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FF991-D173-4450-86C9-2BA84313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D95D-B988-424F-9506-B4A53856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81A5-0B87-4A00-B278-70631A30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4CC6-1B5F-40C9-B99A-858925A0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526-9EE9-47E1-ACEA-E893212D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A66DA-BE24-4FEA-AF1E-7DF4ED36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6559C-A1AD-4E12-9F25-72F51D89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D70E-9AFD-41AD-A28E-3268A518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C0B56-E5DB-4A1E-83DE-9C7F58DF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34DCC-09E5-4634-8E3B-1FBB1874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0B2D-12A9-4CE2-8336-5A0FDA64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AF6C5-91FB-4408-8972-92A98956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A9432-988B-464D-B329-EA899D4E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EF114-9194-49CE-B20D-23F24F67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03476-D640-457B-B1A7-36C87498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DEF-8D9D-4F75-8EA3-82EB13E0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341CB-BAB2-4D87-AC47-C9874D37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3DF94-2F69-46E5-8E52-A278FF4A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51A37-A727-4B60-A885-B3340CC1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D21C8-5E64-47EF-B34C-E33A0D4B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F5913-3B66-4BE8-B07B-8CC19C24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74BE8-84D3-4D38-8B0D-036985FF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D6C9-E768-4007-843D-5B354282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490BE-3D2A-4B71-9E04-46EDF8E5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FEB24-080B-4C9B-B018-591E54B73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D6E0B-0C7E-4DDB-9364-B8E504C8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67C-A541-4C9B-8043-C31F6949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A4AE-1266-4427-B82B-758A2532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DB02C-FF13-4CDA-8533-4B124756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EE4B5-5291-4B1C-9BC7-B052F001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210E-6C77-4C8D-A4D5-D68A1F3F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142D1-9CFD-42E4-96C2-38935215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44E02-6BD9-4AF8-AB83-92CD91D1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B0B2A-9DC3-43E3-9A5A-1B1FD2C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FC55-0E14-49A2-9B7A-7AA3B731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06E1F-24D1-40B1-AD2C-16C4A4C9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7A0A-C0BD-43F1-8567-81166C39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543440" cy="120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1E4-620B-4929-95FB-6C4B3490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0A88-52B6-4E89-BDF1-72774879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550-0C18-4185-A170-A3CF7793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1B6-36CA-489E-BCFE-573B7F44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6F8-75FE-4DB8-91F7-D051083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6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00A1BA8F-1953-45BC-8EA4-4AF90FD3EBB4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5486400"/>
            <a:ext cx="765936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3600" spc="-100" strike="noStrike" cap="all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22160" y="3852720"/>
            <a:ext cx="6135480" cy="16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x-none" sz="2000" spc="-1" strike="noStrike">
                <a:solidFill>
                  <a:srgbClr val="8b8b8b"/>
                </a:solidFill>
                <a:latin typeface="Calibri"/>
              </a:rPr>
              <a:t>Click to edit Master text styles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0ABB2239-46E1-43F6-A973-DDD27E86AC34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4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61976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61A00628-0E48-49D1-B647-9D0EED52F6DA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x-none" sz="46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79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360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441972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79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360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10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11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12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AE5F3AC3-B296-4428-8C80-E4F89A42783D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adada"/>
            </a:gs>
          </a:gsLst>
          <a:path path="circle">
            <a:fillToRect l="10000" t="50000" r="9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458200" y="0"/>
            <a:ext cx="685440" cy="68576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458200" y="5486400"/>
            <a:ext cx="685440" cy="6854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5495400"/>
            <a:ext cx="7772040" cy="59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x-none" sz="2200" spc="-100" strike="noStrike">
                <a:solidFill>
                  <a:srgbClr val="1f497d"/>
                </a:solidFill>
                <a:latin typeface="Cambria"/>
              </a:rPr>
              <a:t>Click to edit Master title style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04920" y="6095880"/>
            <a:ext cx="77720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16200000">
            <a:off x="7551360" y="1646280"/>
            <a:ext cx="243792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x-none" sz="1200" spc="-1" strike="noStrike">
                <a:solidFill>
                  <a:srgbClr val="eeece1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x-none" sz="1200" spc="-1" strike="noStrike">
                <a:solidFill>
                  <a:srgbClr val="eeece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 rot="16200000">
            <a:off x="7587000" y="4048920"/>
            <a:ext cx="236700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31640" y="5649120"/>
            <a:ext cx="548280" cy="39600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0" rIns="0" tIns="0" bIns="0" anchor="ctr">
            <a:noAutofit/>
          </a:bodyPr>
          <a:lstStyle>
            <a:lvl1pPr indent="0" algn="ctr" rtl="1">
              <a:lnSpc>
                <a:spcPct val="100000"/>
              </a:lnSpc>
              <a:buNone/>
              <a:defRPr b="0" lang="x-none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 rtl="1">
              <a:lnSpc>
                <a:spcPct val="100000"/>
              </a:lnSpc>
              <a:buNone/>
            </a:pPr>
            <a:fld id="{60F9C96A-B68F-4142-B70D-71DB667C9CD2}" type="slidenum">
              <a:rPr b="0" lang="x-none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body"/>
          </p:nvPr>
        </p:nvSpPr>
        <p:spPr>
          <a:xfrm>
            <a:off x="304920" y="380880"/>
            <a:ext cx="7772040" cy="49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>
              <a:lnSpc>
                <a:spcPct val="100000"/>
              </a:lnSpc>
              <a:spcBef>
                <a:spcPts val="439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x-none" sz="2200" spc="-1" strike="noStrike">
              <a:solidFill>
                <a:srgbClr val="000000"/>
              </a:solidFill>
              <a:latin typeface="Calibri"/>
            </a:endParaRPr>
          </a:p>
          <a:p>
            <a:pPr lvl="1" marL="640080" indent="-22860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Font typeface="Arial"/>
              <a:buChar char="•"/>
            </a:pPr>
            <a:r>
              <a:rPr b="0" lang="x-none" sz="20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2860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Font typeface="Arial"/>
              <a:buChar char="•"/>
            </a:pPr>
            <a:r>
              <a:rPr b="0" lang="x-none" sz="18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x-none" sz="18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228600">
              <a:lnSpc>
                <a:spcPct val="100000"/>
              </a:lnSpc>
              <a:spcBef>
                <a:spcPts val="320"/>
              </a:spcBef>
              <a:buClr>
                <a:srgbClr val="8064a2"/>
              </a:buClr>
              <a:buFont typeface="Arial"/>
              <a:buChar char="•"/>
            </a:pPr>
            <a:r>
              <a:rPr b="0" lang="x-none" sz="16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480" indent="-228600">
              <a:lnSpc>
                <a:spcPct val="100000"/>
              </a:lnSpc>
              <a:spcBef>
                <a:spcPts val="281"/>
              </a:spcBef>
              <a:buClr>
                <a:srgbClr val="4bacc6"/>
              </a:buClr>
              <a:buFont typeface="Arial"/>
              <a:buChar char="•"/>
            </a:pPr>
            <a:r>
              <a:rPr b="0" lang="x-none" sz="14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x-none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savethechildren.org.uk/" TargetMode="External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ho.int/ar/" TargetMode="External"/><Relationship Id="rId2" Type="http://schemas.openxmlformats.org/officeDocument/2006/relationships/hyperlink" Target="http://www.who.int/ar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ilo.org/beirut/lang--ar/index.htm" TargetMode="External"/><Relationship Id="rId2" Type="http://schemas.openxmlformats.org/officeDocument/2006/relationships/hyperlink" Target="http://www.ilo.org/beirut/lang--ar/index.htm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QpHEj0yC_to" TargetMode="External"/><Relationship Id="rId2" Type="http://schemas.openxmlformats.org/officeDocument/2006/relationships/hyperlink" Target="http://www.youtube.com/watch?feature=player_embedded&amp;v=QpHEj0yC_to" TargetMode="External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543440" cy="259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تابع.. </a:t>
            </a:r>
            <a:br>
              <a:rPr sz="6600"/>
            </a:b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المنظمات الدولية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691640" y="4797000"/>
            <a:ext cx="646128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ar-SA" sz="3200" spc="-1" strike="noStrike">
                <a:solidFill>
                  <a:srgbClr val="8b8b8b"/>
                </a:solidFill>
                <a:latin typeface="Calibri"/>
              </a:rPr>
              <a:t>أ. مـــهـــا الحقبــ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ubtitle 2"/>
          <p:cNvSpPr/>
          <p:nvPr/>
        </p:nvSpPr>
        <p:spPr>
          <a:xfrm>
            <a:off x="395640" y="908640"/>
            <a:ext cx="64612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641"/>
              </a:spcBef>
              <a:tabLst>
                <a:tab algn="l" pos="0"/>
              </a:tabLst>
            </a:pPr>
            <a:r>
              <a:rPr b="1" lang="ar-SA" sz="3200" spc="-1" strike="noStrike">
                <a:solidFill>
                  <a:srgbClr val="8b8b8b"/>
                </a:solidFill>
                <a:latin typeface="Calibri"/>
              </a:rPr>
              <a:t>أ. مـــهـــا الحقبــ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مربع نص 1"/>
          <p:cNvSpPr/>
          <p:nvPr/>
        </p:nvSpPr>
        <p:spPr>
          <a:xfrm>
            <a:off x="251640" y="188640"/>
            <a:ext cx="799236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rgbClr val="ff6600"/>
                </a:solidFill>
                <a:uFillTx/>
                <a:latin typeface="Calibri"/>
              </a:rPr>
              <a:t>3</a:t>
            </a:r>
            <a:r>
              <a:rPr b="1" lang="x-none" sz="3200" spc="-1" strike="noStrike" u="sng">
                <a:solidFill>
                  <a:srgbClr val="ff6600"/>
                </a:solidFill>
                <a:uFillTx/>
                <a:latin typeface="Calibri"/>
              </a:rPr>
              <a:t>. تعزيز النظم الصح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لتمكين عملية التحسين الصحي من تأدية دورها كأحد استراتيجيات الحد من الفق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، وتوصيل الخدمات الصحية إلى الفقراء والفئات التي لا تستفيد منها على النحو الكاف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وتظل النظم الصحية في كثير من مناطق العالم عاجزة عن تحقيق ذل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Calibri"/>
              </a:rPr>
              <a:t>ومن المجالات الجاري تناولها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وفيرأعداد كافية من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عاملي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مدربي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بطريقة منا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أموال كاف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نظم ملائمة لجمع الإحصاءات الأس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فرص الحصول على التكنولوجيات المواتيه بما في ذلك الأدوية الأساس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مربع نص 1"/>
          <p:cNvSpPr/>
          <p:nvPr/>
        </p:nvSpPr>
        <p:spPr>
          <a:xfrm>
            <a:off x="323640" y="908640"/>
            <a:ext cx="7848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4</a:t>
            </a: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. تسخير البحوث والمعلومات والبيان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ثل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البيانات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أساس الذي تقوم عليه عمليات تحديد الأولويات ووضع الاستراتيجيات وقياس النتائج وتسعى منظمة الصحة العالمية إل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558ed5"/>
                </a:solidFill>
                <a:latin typeface="Calibri"/>
              </a:rPr>
              <a:t>إصدار معلومات صحية موثو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ذلك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ن أجل وضع القواعد والمعايير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وتحديد الخيارات السياسية المستندة للبيانات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رصد الوضع الصحي العالم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آخذ في التط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مربع نص 1"/>
          <p:cNvSpPr/>
          <p:nvPr/>
        </p:nvSpPr>
        <p:spPr>
          <a:xfrm>
            <a:off x="0" y="1124640"/>
            <a:ext cx="83160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5</a:t>
            </a:r>
            <a:r>
              <a:rPr b="1" lang="x-none" sz="3200" spc="-1" strike="noStrike" u="sng">
                <a:solidFill>
                  <a:schemeClr val="accent6">
                    <a:lumMod val="75000"/>
                  </a:schemeClr>
                </a:solidFill>
                <a:uFillTx/>
                <a:latin typeface="Calibri"/>
              </a:rPr>
              <a:t>. تقوية الشراك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ضطلع منظمة الصحة العالمية بعملها </a:t>
            </a:r>
            <a:r>
              <a:rPr b="0" lang="hi-IN" sz="3200" spc="-1" strike="noStrike">
                <a:solidFill>
                  <a:srgbClr val="ff0000"/>
                </a:solidFill>
                <a:latin typeface="Calibri"/>
              </a:rPr>
              <a:t>بدعم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من العديد من الشركاء وبالتعاون معهم بما في ذلك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وكالات الأمم المتحدة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غيرها من المنظمات الدول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جهات المان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هيئات المجتمع المدني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٬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القطاع الخا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مربع نص 1"/>
          <p:cNvSpPr/>
          <p:nvPr/>
        </p:nvSpPr>
        <p:spPr>
          <a:xfrm>
            <a:off x="611640" y="1052640"/>
            <a:ext cx="7488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x-none" sz="3200" spc="-1" strike="noStrike" u="sng">
                <a:solidFill>
                  <a:srgbClr val="e46c0a"/>
                </a:solidFill>
                <a:uFillTx/>
                <a:latin typeface="Calibri"/>
              </a:rPr>
              <a:t>6</a:t>
            </a:r>
            <a:r>
              <a:rPr b="1" lang="x-none" sz="3200" spc="-1" strike="noStrike" u="sng">
                <a:solidFill>
                  <a:srgbClr val="e46c0a"/>
                </a:solidFill>
                <a:uFillTx/>
                <a:latin typeface="Calibri"/>
              </a:rPr>
              <a:t>. تحسين الأدا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شارك منظمة الصحة العالمية في الإصلاحات الجارية التي تهد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حسين كفاءتها وفعاليتها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على الصعيدين الدولي والقطري على حد سو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ترمي المنظمة إ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ضمان بيئة تحفيزية ومجزي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لأكبر مورد تمتلكه ألا وهو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مجموع موظف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2699640" y="404640"/>
            <a:ext cx="3816000" cy="84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6000"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ar-SA" sz="5400" spc="-1" strike="noStrike">
                <a:solidFill>
                  <a:srgbClr val="8b8b8b"/>
                </a:solidFill>
                <a:latin typeface="Calibri"/>
              </a:rPr>
              <a:t>الهيكل التنظيمي</a:t>
            </a:r>
            <a:endParaRPr b="0" lang="x-none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1594800" y="1484640"/>
            <a:ext cx="5598000" cy="4113000"/>
          </a:xfrm>
          <a:prstGeom prst="rect">
            <a:avLst/>
          </a:prstGeom>
          <a:solidFill>
            <a:srgbClr val="faceb9"/>
          </a:solidFill>
          <a:ln>
            <a:solidFill>
              <a:srgbClr val="f59240"/>
            </a:solidFill>
            <a:round/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نائب 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مكتب المدير الع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اتصا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أجهزة الرئاس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خدمات المراقبة الداخ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مستشار القانو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أمين المظال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التنسيق مع الأمم المتح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ar-SA" sz="2400" spc="-1" strike="noStrike">
                <a:solidFill>
                  <a:schemeClr val="dk1"/>
                </a:solidFill>
                <a:latin typeface="Calibri"/>
              </a:rPr>
              <a:t>مكتب منظمة الصحة العالمية، الأمم المتحدة، نيويور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مربع نص 1"/>
          <p:cNvSpPr/>
          <p:nvPr/>
        </p:nvSpPr>
        <p:spPr>
          <a:xfrm>
            <a:off x="395640" y="620640"/>
            <a:ext cx="777636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مجالات العم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هتم هذه المنظمة بتشجيع الأبحاث الطبي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قترح عقد الاتفاقيات في شؤون الصح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تراقب تفشي الأمراض السارية مثل الجدري والطاعو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وتعمل على مكافحت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كما تعمل على توفير الحماية الصحية للأمومة والطفو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نشر الوعي من أجل حماية مياه الشرب من التلو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Content Placeholder 3" descr="الهيكل التنظيمي لمنظمة الصحة العالمية.png"/>
          <p:cNvPicPr/>
          <p:nvPr/>
        </p:nvPicPr>
        <p:blipFill>
          <a:blip r:embed="rId1"/>
          <a:srcRect l="-1115" t="0" r="595" b="0"/>
          <a:stretch/>
        </p:blipFill>
        <p:spPr>
          <a:xfrm>
            <a:off x="1259640" y="476640"/>
            <a:ext cx="4497120" cy="59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مربع نص 1"/>
          <p:cNvSpPr/>
          <p:nvPr/>
        </p:nvSpPr>
        <p:spPr>
          <a:xfrm>
            <a:off x="323640" y="980640"/>
            <a:ext cx="7776360" cy="64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Calibri"/>
              </a:rPr>
              <a:t>كما تهتم منظمة الصحة العالمية بدعم عدد من الجهود العالمية التي تتلخص في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نسيق الجهود العالمية لمراقبة نشوء أمراض العدو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رعى منظمة الصحة العالمية برامج للوقاية والعلاج لهذه الأمرا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دعم منظمة الصحة العالمية تطوير وتوزيع لقاح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طوير لقاح للأنفلونز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Content Placeholder 3" descr="الرضاعة الطبيعية.png"/>
          <p:cNvPicPr/>
          <p:nvPr/>
        </p:nvPicPr>
        <p:blipFill>
          <a:blip r:embed="rId1"/>
          <a:srcRect l="-648" t="0" r="-370" b="0"/>
          <a:stretch/>
        </p:blipFill>
        <p:spPr>
          <a:xfrm>
            <a:off x="683640" y="112680"/>
            <a:ext cx="6912360" cy="67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b9d6e1"/>
          </a:solidFill>
          <a:ln w="12600">
            <a:solidFill>
              <a:srgbClr val="46aac4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1475640" y="188640"/>
            <a:ext cx="5616360" cy="56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مربع نص 1"/>
          <p:cNvSpPr/>
          <p:nvPr/>
        </p:nvSpPr>
        <p:spPr>
          <a:xfrm>
            <a:off x="1619640" y="1484640"/>
            <a:ext cx="61923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808080"/>
                </a:solidFill>
                <a:latin typeface="Tahoma"/>
                <a:cs typeface="Tahoma"/>
              </a:rPr>
              <a:t>محاور المحاضر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منظمة الصحة العالمية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200" spc="-1" strike="noStrike">
                <a:solidFill>
                  <a:srgbClr val="000000"/>
                </a:solidFill>
                <a:latin typeface="Tahoma"/>
                <a:cs typeface="Tahoma"/>
              </a:rPr>
              <a:t>صندوق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إنقاذ الأطف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14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منظمة العمل الدولية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fdcbc"/>
          </a:solidFill>
          <a:ln w="12600">
            <a:solidFill>
              <a:srgbClr val="98b855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1" descr=""/>
          <p:cNvPicPr/>
          <p:nvPr/>
        </p:nvPicPr>
        <p:blipFill>
          <a:blip r:embed="rId1"/>
          <a:stretch/>
        </p:blipFill>
        <p:spPr>
          <a:xfrm>
            <a:off x="1331640" y="116640"/>
            <a:ext cx="57265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6bed2"/>
          </a:solidFill>
          <a:ln w="12600">
            <a:solidFill>
              <a:srgbClr val="7d5fa0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1403640" y="38160"/>
            <a:ext cx="5760360" cy="57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23640" y="5949360"/>
            <a:ext cx="7772040" cy="719640"/>
          </a:xfrm>
          <a:prstGeom prst="rect">
            <a:avLst/>
          </a:prstGeom>
          <a:solidFill>
            <a:srgbClr val="cfdcbc"/>
          </a:solidFill>
          <a:ln w="12600">
            <a:solidFill>
              <a:srgbClr val="98b855"/>
            </a:solidFill>
            <a:round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ar-SA" sz="3600" spc="-1" strike="noStrike">
                <a:solidFill>
                  <a:srgbClr val="a32779"/>
                </a:solidFill>
                <a:latin typeface="Calibri"/>
              </a:rPr>
              <a:t>الأسبوع العالمي للرضاعة الطبيع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x-none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1" descr=""/>
          <p:cNvPicPr/>
          <p:nvPr/>
        </p:nvPicPr>
        <p:blipFill>
          <a:blip r:embed="rId1"/>
          <a:stretch/>
        </p:blipFill>
        <p:spPr>
          <a:xfrm>
            <a:off x="1331640" y="116640"/>
            <a:ext cx="57265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543440" cy="21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ar-SA" sz="6600" spc="-100" strike="noStrike">
                <a:solidFill>
                  <a:srgbClr val="1f497d"/>
                </a:solidFill>
                <a:latin typeface="Cambria"/>
              </a:rPr>
              <a:t>٢</a:t>
            </a:r>
            <a:r>
              <a:rPr b="0" lang="x-none" sz="6600" spc="-100" strike="noStrike">
                <a:solidFill>
                  <a:srgbClr val="1f497d"/>
                </a:solidFill>
                <a:latin typeface="Cambria"/>
              </a:rPr>
              <a:t>- صندوق إنقاذ الأطفال</a:t>
            </a:r>
            <a:endParaRPr b="0" lang="x-none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2699640" y="4797000"/>
            <a:ext cx="4896360" cy="104904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6"/>
          <p:cNvSpPr/>
          <p:nvPr/>
        </p:nvSpPr>
        <p:spPr>
          <a:xfrm>
            <a:off x="3630960" y="5949360"/>
            <a:ext cx="405072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savethechildren.org.uk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ربع نص 1"/>
          <p:cNvSpPr/>
          <p:nvPr/>
        </p:nvSpPr>
        <p:spPr>
          <a:xfrm>
            <a:off x="179640" y="476640"/>
            <a:ext cx="7992360" cy="77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صندوق إنقاذ الأطفال هو الهيئة التي تعرف باسم </a:t>
            </a:r>
            <a:r>
              <a:rPr b="1" lang="hi-IN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منظمة إنقاذ الطفولة </a:t>
            </a: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الناشطة دولي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ً وهي تقع ضمن فئات المنظمات 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غير الحك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 من أبرز المنظمات التي تعزز حقوق الطفل وتوفر الإغاثة كما تساعد على دعم الاطفال خاصة في البلدان </a:t>
            </a:r>
            <a:r>
              <a:rPr b="0" lang="ar-SA" sz="2800" spc="-1" strike="noStrike">
                <a:solidFill>
                  <a:srgbClr val="ff0000"/>
                </a:solidFill>
                <a:latin typeface="Calibri"/>
              </a:rPr>
              <a:t>النامية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أسست منظمة إنقاذ الأطفال في </a:t>
            </a:r>
            <a:r>
              <a:rPr b="1" lang="ar-SA" sz="2800" spc="-1" strike="noStrike">
                <a:solidFill>
                  <a:srgbClr val="77933c"/>
                </a:solidFill>
                <a:latin typeface="Calibri"/>
              </a:rPr>
              <a:t>الولايات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</a:rPr>
              <a:t>من أج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x-none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 تحسين حياة الأطفال من خلال تحسين التعليم والرعاية الصحية والفرص الاقتصاد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ar-SA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وتقديم المساعدات الطارئة في حالات الكوارث الطبيعية والحروب والصراعات الأخر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 rtl="1">
              <a:lnSpc>
                <a:spcPct val="100000"/>
              </a:lnSpc>
              <a:buClr>
                <a:srgbClr val="215968"/>
              </a:buClr>
              <a:buFont typeface="Cambria"/>
              <a:buAutoNum type="arabicPeriod"/>
            </a:pPr>
            <a:r>
              <a:rPr b="1" lang="ar-SA" sz="2800" spc="-1" strike="noStrike">
                <a:solidFill>
                  <a:schemeClr val="accent5">
                    <a:lumMod val="50000"/>
                  </a:schemeClr>
                </a:solidFill>
                <a:latin typeface="Calibri"/>
              </a:rPr>
              <a:t>والدعوة لتغذية الرضع وزيادة معدلات بقاء ا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ربع نص 1"/>
          <p:cNvSpPr/>
          <p:nvPr/>
        </p:nvSpPr>
        <p:spPr>
          <a:xfrm>
            <a:off x="251640" y="476640"/>
            <a:ext cx="792036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أسست المنظمة بشكل رسمي معلن في اجتماع عقد في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لنـدن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أج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”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توفير مواد الإغاثة للأطفال الذين يعانون من آثار الحرب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3060000" y="2781000"/>
            <a:ext cx="4689720" cy="30013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251640" y="5589360"/>
            <a:ext cx="489636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مربع نص 1"/>
          <p:cNvSpPr/>
          <p:nvPr/>
        </p:nvSpPr>
        <p:spPr>
          <a:xfrm>
            <a:off x="251640" y="980640"/>
            <a:ext cx="792036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منظمة إنقاذ الطفولة كانت نشطة في </a:t>
            </a:r>
            <a:r>
              <a:rPr b="1" lang="hi-IN" sz="3200" spc="-1" strike="noStrike">
                <a:solidFill>
                  <a:srgbClr val="ff0000"/>
                </a:solidFill>
                <a:latin typeface="Calibri"/>
              </a:rPr>
              <a:t>الكوارث الكبرى للعصر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خاصة في حرب فيتنام والكوارث في اثيوبيا والسودان وغيرها من الحروب والكوارث التي جلبت مآسي مروعة من الجوع والتشتت والمرض واليتم للعديد من أطفال العال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فجمعت المنظمة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تبرعات عامة </a:t>
            </a: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سعت نطاق عملها للمساهمة في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مويل أعمال الإغا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مربع نص 1"/>
          <p:cNvSpPr/>
          <p:nvPr/>
        </p:nvSpPr>
        <p:spPr>
          <a:xfrm>
            <a:off x="251640" y="620640"/>
            <a:ext cx="8004960" cy="78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معايير تم وضعها بعين الاعتبار </a:t>
            </a:r>
            <a:r>
              <a:rPr b="1" lang="ar-SA" sz="3200" spc="-1" strike="noStrike" u="sng">
                <a:solidFill>
                  <a:srgbClr val="ff0000"/>
                </a:solidFill>
                <a:uFillTx/>
                <a:latin typeface="Calibri"/>
              </a:rPr>
              <a:t>في منظمة صندوق الأطفال وهي كما ي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يمنح الطف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رعا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تي تؤهله للنمو بشكل طبي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قدم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تغذ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المناسبة للطفل الذي يعاني الفقر والحرم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ان يكون الطفل أول من يتلق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عون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في أوقات الش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وضع الطفل في وضع يمكنه من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كسب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عيش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يجب أن تكرس كل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طاقات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لخدمة الأطفال المحتاج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مربع نص 1"/>
          <p:cNvSpPr/>
          <p:nvPr/>
        </p:nvSpPr>
        <p:spPr>
          <a:xfrm>
            <a:off x="433800" y="404640"/>
            <a:ext cx="7632360" cy="67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>
                <a:solidFill>
                  <a:srgbClr val="ff0000"/>
                </a:solidFill>
                <a:latin typeface="Calibri"/>
              </a:rPr>
              <a:t>يتبلور عمل منظمة إنقاذ الأطفال من خلال العمل وف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000000"/>
                </a:solidFill>
                <a:uFillTx/>
                <a:latin typeface="Calibri"/>
              </a:rPr>
              <a:t>ست خطوات رئيسي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التركيز على الأطفال حديثي الولا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العدالة في توزيع الخد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عبئة موارد إضاف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دريب ونشر مزيد من العاملين في مجال الرعاية الصح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معالجة سوء التغذ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زيادة التركيز على الأطفال في حالات الطوار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مربع نص 1"/>
          <p:cNvSpPr/>
          <p:nvPr/>
        </p:nvSpPr>
        <p:spPr>
          <a:xfrm>
            <a:off x="179640" y="332640"/>
            <a:ext cx="806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000000"/>
                </a:solidFill>
                <a:uFillTx/>
                <a:latin typeface="Calibri"/>
              </a:rPr>
              <a:t>بالإضافة الى العمل على تحقيق أربع مبادرات رئيسية ه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ضمان جودة التعليم ل </a:t>
            </a:r>
            <a:r>
              <a:rPr b="1" lang="x-none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x-none" sz="2800" spc="-1" strike="noStrike">
                <a:solidFill>
                  <a:srgbClr val="000000"/>
                </a:solidFill>
                <a:latin typeface="Calibri"/>
              </a:rPr>
              <a:t> ملايين من الأطفال المتأثرين بالنزاعات المسلح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توسيع وتحسين وجود المنظمة في البلدان ذات الأهمية الاستراتيج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وضع صوت أقوى للأطف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3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</a:rPr>
              <a:t>أن تكون وكالة الاستجابات الطارئة للأطفال في جميع أنحاء العال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2160" y="5486400"/>
            <a:ext cx="765936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x-none" sz="3600" spc="-100" strike="noStrike" cap="all">
                <a:solidFill>
                  <a:srgbClr val="1f497d"/>
                </a:solidFill>
                <a:latin typeface="Cambria"/>
              </a:rPr>
              <a:t>1- </a:t>
            </a:r>
            <a:r>
              <a:rPr b="0" lang="ar-SA" sz="3600" spc="-100" strike="noStrike" cap="all">
                <a:solidFill>
                  <a:srgbClr val="1f497d"/>
                </a:solidFill>
                <a:latin typeface="Cambria"/>
              </a:rPr>
              <a:t>منظمة الصحة العالمية</a:t>
            </a:r>
            <a:endParaRPr b="0" lang="x-none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60000" y="6083640"/>
            <a:ext cx="3221640" cy="76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GB" sz="2000" spc="-1" strike="noStrike" u="sng">
                <a:solidFill>
                  <a:srgbClr val="8b8bff"/>
                </a:solidFill>
                <a:uFillTx/>
                <a:latin typeface="Calibri"/>
                <a:hlinkClick r:id="rId1"/>
              </a:rPr>
              <a:t>http://www.who.int/ar</a:t>
            </a:r>
            <a:r>
              <a:rPr b="0" lang="en-GB" sz="2000" spc="-1" strike="noStrike" u="sng">
                <a:solidFill>
                  <a:srgbClr val="8b8bff"/>
                </a:solidFill>
                <a:uFillTx/>
                <a:latin typeface="Calibri"/>
                <a:hlinkClick r:id="rId2"/>
              </a:rPr>
              <a:t>/</a:t>
            </a: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x-none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https://encrypted-tbn3.gstatic.com/images?q=tbn:ANd9GcQC95w0WWeJNQ024faPGK3kxrj6uYFlq9otbjsf5BxtsynSC6g2ZQ"/>
          <p:cNvPicPr/>
          <p:nvPr/>
        </p:nvPicPr>
        <p:blipFill>
          <a:blip r:embed="rId3"/>
          <a:stretch/>
        </p:blipFill>
        <p:spPr>
          <a:xfrm>
            <a:off x="1403640" y="1340640"/>
            <a:ext cx="570348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مربع نص 1"/>
          <p:cNvSpPr/>
          <p:nvPr/>
        </p:nvSpPr>
        <p:spPr>
          <a:xfrm>
            <a:off x="899640" y="548640"/>
            <a:ext cx="7056360" cy="228348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الهيكل التنظيم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جمعية العمو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لجان التنفيذ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أمانة العا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</a:t>
            </a: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لإدارات العامة والمكاتب الفرعية الإقلي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ربع نص 2"/>
          <p:cNvSpPr/>
          <p:nvPr/>
        </p:nvSpPr>
        <p:spPr>
          <a:xfrm>
            <a:off x="899640" y="3213000"/>
            <a:ext cx="7128360" cy="398988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200" spc="-1" strike="noStrike" u="sng">
                <a:solidFill>
                  <a:srgbClr val="ff0000"/>
                </a:solidFill>
                <a:uFillTx/>
                <a:latin typeface="Calibri"/>
              </a:rPr>
              <a:t>التموي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chemeClr val="dk1"/>
                </a:solidFill>
                <a:latin typeface="Calibri"/>
              </a:rPr>
              <a:t>يقوم التمويل من خلال عدة مصادر أبرز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تبرعات من قبل الأفراد او المؤسسات الحكومية والأه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منح واله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استثمارات الخاصة بالمنظم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مساعدات الدولية من الأمم المت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الاستشارات والبحوث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907640" y="4941000"/>
            <a:ext cx="646128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 u="sng">
                <a:solidFill>
                  <a:srgbClr val="8b8bff"/>
                </a:solidFill>
                <a:uFillTx/>
                <a:latin typeface="Calibri"/>
                <a:hlinkClick r:id="rId1"/>
              </a:rPr>
              <a:t>http://www.ilo.org/beirut/lang--</a:t>
            </a:r>
            <a:r>
              <a:rPr b="0" lang="en-US" sz="2000" spc="-1" strike="noStrike" u="sng">
                <a:solidFill>
                  <a:srgbClr val="8b8bff"/>
                </a:solidFill>
                <a:uFillTx/>
                <a:latin typeface="Calibri"/>
                <a:hlinkClick r:id="rId2"/>
              </a:rPr>
              <a:t>ar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1763640" y="980640"/>
            <a:ext cx="504036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مربع نص 1"/>
          <p:cNvSpPr/>
          <p:nvPr/>
        </p:nvSpPr>
        <p:spPr>
          <a:xfrm>
            <a:off x="395640" y="836640"/>
            <a:ext cx="792036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أسست منظمة العمل الدول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عام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١٩١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قرها مدينة</a:t>
            </a:r>
            <a:r>
              <a:rPr b="1" lang="x-none" sz="3200" spc="-1" strike="noStrike">
                <a:solidFill>
                  <a:srgbClr val="ff0000"/>
                </a:solidFill>
                <a:latin typeface="Calibri"/>
              </a:rPr>
              <a:t> جنيف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في سويسر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جاءت كردة فعل على نتائج الحرب العالمية الأولى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أثرت بعدد من التغييرات والاضطرابات على مدى ثلاثة عق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تعتمد على ركيزة دستورية أساسية و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ن السلام العادل والدائم لا يمكن أن يتحقق إلا إذا استند على العدالة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مربع نص 1"/>
          <p:cNvSpPr/>
          <p:nvPr/>
        </p:nvSpPr>
        <p:spPr>
          <a:xfrm>
            <a:off x="683640" y="404640"/>
            <a:ext cx="7128360" cy="207036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2800" spc="-1" strike="noStrike">
                <a:solidFill>
                  <a:srgbClr val="ff0000"/>
                </a:solidFill>
                <a:latin typeface="Calibri"/>
              </a:rPr>
              <a:t>منظمة العمل الدولية حددت الكثير من العلامات المميزة للمجتمع الصناعي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Calibri"/>
              </a:rPr>
              <a:t>مث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تحديد ساعات العمل </a:t>
            </a:r>
            <a:r>
              <a:rPr b="0" lang="x-none" sz="2800" spc="-1" strike="noStrike">
                <a:solidFill>
                  <a:schemeClr val="dk1"/>
                </a:solidFill>
                <a:latin typeface="Calibri"/>
              </a:rPr>
              <a:t>8</a:t>
            </a:r>
            <a:r>
              <a:rPr b="0" lang="x-none" sz="2800" spc="-1" strike="noStrike">
                <a:solidFill>
                  <a:schemeClr val="dk1"/>
                </a:solidFill>
                <a:latin typeface="Calibri"/>
              </a:rPr>
              <a:t> ساع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سياسات تتعلق حول السلامة في مكان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ربع نص 3"/>
          <p:cNvSpPr/>
          <p:nvPr/>
        </p:nvSpPr>
        <p:spPr>
          <a:xfrm>
            <a:off x="467640" y="2781000"/>
            <a:ext cx="7488360" cy="435564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2800" spc="-1" strike="noStrike">
                <a:solidFill>
                  <a:schemeClr val="dk1"/>
                </a:solidFill>
                <a:latin typeface="Calibri"/>
              </a:rPr>
              <a:t>تتمحور </a:t>
            </a: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أهم أدوار منظمة العمل الدولية ف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2800" spc="-1" strike="noStrike">
                <a:solidFill>
                  <a:schemeClr val="dk1"/>
                </a:solidFill>
                <a:latin typeface="Calibri"/>
              </a:rPr>
              <a:t> وضع برامج للقضاء على أسوأ أشكال عمل الأطفال واستغلالهم والوقاية من الأعمال التي تعرض الطفولة للخط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2800" spc="-1" strike="noStrike">
                <a:solidFill>
                  <a:schemeClr val="dk1"/>
                </a:solidFill>
                <a:latin typeface="Calibri"/>
              </a:rPr>
              <a:t>وقد أصدرت المنظمة العديد من الاتفاقيات التي تعالج شؤون العمل المختلفة منها الاتفاقيات الثمانية التي تعتبر المعايير الأساسية لحقوق الإنسان في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مربع نص 1"/>
          <p:cNvSpPr/>
          <p:nvPr/>
        </p:nvSpPr>
        <p:spPr>
          <a:xfrm>
            <a:off x="395640" y="836640"/>
            <a:ext cx="7848360" cy="50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أهدافه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تهدف منظمة العمل الدولية على المدى البعيد الى </a:t>
            </a:r>
            <a:r>
              <a:rPr b="1" lang="hi-IN" sz="3200" spc="-1" strike="noStrike">
                <a:solidFill>
                  <a:srgbClr val="000000"/>
                </a:solidFill>
                <a:latin typeface="Calibri"/>
              </a:rPr>
              <a:t>القضاء الكامل على عمل الاطفال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 حيث وضعت حدا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ً أدنى لسن العمل هو سن إتمام التعليم الإلزا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منعت عمل الأطفال حتى سن 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67640" y="5445360"/>
            <a:ext cx="763236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feature=player_embedded&amp;v=QpHEj0yC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مربع نص 1"/>
          <p:cNvSpPr/>
          <p:nvPr/>
        </p:nvSpPr>
        <p:spPr>
          <a:xfrm>
            <a:off x="467640" y="260640"/>
            <a:ext cx="7704360" cy="7340400"/>
          </a:xfrm>
          <a:prstGeom prst="rect">
            <a:avLst/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hi-IN" sz="3200" spc="-1" strike="noStrike" u="sng">
                <a:solidFill>
                  <a:schemeClr val="dk1"/>
                </a:solidFill>
                <a:uFillTx/>
                <a:latin typeface="Calibri"/>
              </a:rPr>
              <a:t>أكدت المنظمة أن</a:t>
            </a:r>
            <a:r>
              <a:rPr b="0" lang="x-none" sz="3200" spc="-1" strike="noStrike" u="sng">
                <a:solidFill>
                  <a:schemeClr val="dk1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x-none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الفقر هو السبب الرئيسي لعمل الأطفال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 u="sng">
                <a:solidFill>
                  <a:schemeClr val="dk1"/>
                </a:solidFill>
                <a:uFillTx/>
                <a:latin typeface="Calibri"/>
              </a:rPr>
              <a:t>وأن الحل يكمن ف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x-none" sz="3200" spc="-1" strike="noStrike">
                <a:solidFill>
                  <a:srgbClr val="ff0000"/>
                </a:solidFill>
                <a:latin typeface="Calibri"/>
              </a:rPr>
              <a:t> تعزيز النمو الاقتصادي للد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ar-SA" sz="2800" spc="-1" strike="noStrike">
                <a:solidFill>
                  <a:schemeClr val="dk1"/>
                </a:solidFill>
                <a:latin typeface="Calibri"/>
              </a:rPr>
              <a:t>بالإضافة الى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دعم العمل اللائق والنمو المستدام والانتعا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ارساء أنظمة حماية اجتماعية ملائمة وحماية الأفر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معايير العمل الدولية وحقوق ال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الحوار الاجتماع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ar-SA" sz="3200" spc="-1" strike="noStrike">
                <a:solidFill>
                  <a:schemeClr val="dk1"/>
                </a:solidFill>
                <a:latin typeface="Calibri"/>
              </a:rPr>
              <a:t>تعزيز استدامة المشاريع من أجل استحداث فرص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2"/>
          <p:cNvSpPr/>
          <p:nvPr/>
        </p:nvSpPr>
        <p:spPr>
          <a:xfrm>
            <a:off x="2420640" y="2893680"/>
            <a:ext cx="3657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تم بحمد الله وتوفيق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مربع نص 3"/>
          <p:cNvSpPr/>
          <p:nvPr/>
        </p:nvSpPr>
        <p:spPr>
          <a:xfrm>
            <a:off x="395640" y="1989000"/>
            <a:ext cx="73443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هي واحدة من عدة وكالات </a:t>
            </a: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تابعة للأمم المتحدة </a:t>
            </a: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متخصصة في مجال الصح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-216000"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hi-IN" sz="3600" spc="-1" strike="noStrike">
                <a:solidFill>
                  <a:srgbClr val="000000"/>
                </a:solidFill>
                <a:latin typeface="Calibri"/>
              </a:rPr>
              <a:t>مقرها الحالي في </a:t>
            </a:r>
            <a:r>
              <a:rPr b="1" lang="hi-IN" sz="3600" spc="-1" strike="noStrike">
                <a:solidFill>
                  <a:srgbClr val="ff0000"/>
                </a:solidFill>
                <a:latin typeface="Calibri"/>
              </a:rPr>
              <a:t>جنيف</a:t>
            </a:r>
            <a:r>
              <a:rPr b="0" lang="x-none" sz="3600" spc="-1" strike="noStrike">
                <a:solidFill>
                  <a:srgbClr val="000000"/>
                </a:solidFill>
                <a:latin typeface="Calibri"/>
              </a:rPr>
              <a:t>, سويسرا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600" spc="-100" strike="noStrike">
                <a:solidFill>
                  <a:srgbClr val="1f497d"/>
                </a:solidFill>
                <a:latin typeface="Cambria"/>
              </a:rPr>
              <a:t>WHO </a:t>
            </a:r>
            <a:r>
              <a:rPr b="1" lang="ar-SA" sz="4600" spc="-100" strike="noStrike">
                <a:solidFill>
                  <a:srgbClr val="1f497d"/>
                </a:solidFill>
                <a:latin typeface="Cambria"/>
              </a:rPr>
              <a:t>منظمة الصحة العالمية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307800" y="79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AutoShape 8"/>
          <p:cNvSpPr/>
          <p:nvPr/>
        </p:nvSpPr>
        <p:spPr>
          <a:xfrm>
            <a:off x="460440" y="16020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12720" y="3128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 algn="r" rtl="1"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2" descr="http://www.sra7h.com/wp-content/uploads/1595.jpg"/>
          <p:cNvPicPr/>
          <p:nvPr/>
        </p:nvPicPr>
        <p:blipFill>
          <a:blip r:embed="rId1"/>
          <a:stretch/>
        </p:blipFill>
        <p:spPr>
          <a:xfrm>
            <a:off x="-12960" y="4437000"/>
            <a:ext cx="3314160" cy="22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ar-SA" sz="4600" spc="-100" strike="noStrike">
                <a:solidFill>
                  <a:srgbClr val="1f497d"/>
                </a:solidFill>
                <a:latin typeface="Cambria"/>
              </a:rPr>
              <a:t>المديرة العامة للمنظمة</a:t>
            </a:r>
            <a:endParaRPr b="0" lang="x-none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19720" y="1536120"/>
            <a:ext cx="3657240" cy="45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228600" algn="r" rtl="1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كتورة </a:t>
            </a:r>
            <a:r>
              <a:rPr b="1" lang="ar-SA" sz="2800" spc="-1" strike="noStrike">
                <a:solidFill>
                  <a:srgbClr val="ff0000"/>
                </a:solidFill>
                <a:latin typeface="Calibri"/>
              </a:rPr>
              <a:t>مارغريت تشان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ي المديرة العامة لمنظمة الصحة العالمية.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561"/>
              </a:spcBef>
              <a:buNone/>
            </a:pP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r" rtl="1">
              <a:lnSpc>
                <a:spcPct val="100000"/>
              </a:lnSpc>
              <a:spcBef>
                <a:spcPts val="561"/>
              </a:spcBef>
              <a:buClr>
                <a:srgbClr val="4f81bd"/>
              </a:buClr>
              <a:buFont typeface="Arial"/>
              <a:buChar char="•"/>
            </a:pP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 وقد عينتها في هذا المنصب جمعية الصحة العالمية في التاسع من تشرين الثاني/ نوفمبر 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x-none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x-none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2" descr="http://www.who.int/entity/dg/chan/chan_official_portrait.jpg"/>
          <p:cNvPicPr/>
          <p:nvPr/>
        </p:nvPicPr>
        <p:blipFill>
          <a:blip r:embed="rId1"/>
          <a:stretch/>
        </p:blipFill>
        <p:spPr>
          <a:xfrm>
            <a:off x="899640" y="1700640"/>
            <a:ext cx="2496960" cy="332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مربع نص 1"/>
          <p:cNvSpPr/>
          <p:nvPr/>
        </p:nvSpPr>
        <p:spPr>
          <a:xfrm>
            <a:off x="1115640" y="1124640"/>
            <a:ext cx="67683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hi-IN" sz="3600" spc="-1" strike="noStrike" u="sng">
                <a:solidFill>
                  <a:srgbClr val="808080"/>
                </a:solidFill>
                <a:uFillTx/>
                <a:latin typeface="Calibri"/>
              </a:rPr>
              <a:t>الهدف الرئيس من منظمة الصحة العالم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</a:pPr>
            <a:r>
              <a:rPr b="1" lang="hi-IN" sz="36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توفير أفضل ما يمكن من الحالة الصحية لجميع الشعوب على اعتبار أن الصحة تعتبر جزء أساسي من التنمية البشرية المتطو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ar-SA" sz="4400" spc="-100" strike="noStrike">
                <a:solidFill>
                  <a:srgbClr val="1f497d"/>
                </a:solidFill>
                <a:latin typeface="Cambria"/>
              </a:rPr>
              <a:t>إحصائية منظمة الصحة العالمية عن السعودية</a:t>
            </a:r>
            <a:endParaRPr b="0" lang="x-none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6" name="Content Placeholder 3"/>
          <p:cNvGraphicFramePr/>
          <p:nvPr/>
        </p:nvGraphicFramePr>
        <p:xfrm>
          <a:off x="1259640" y="2205000"/>
          <a:ext cx="6048360" cy="3528360"/>
        </p:xfrm>
        <a:graphic>
          <a:graphicData uri="http://schemas.openxmlformats.org/drawingml/2006/table">
            <a:tbl>
              <a:tblPr/>
              <a:tblGrid>
                <a:gridCol w="3024000"/>
                <a:gridCol w="3024000"/>
              </a:tblGrid>
              <a:tr h="65340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مجموع االسكان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31,5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69884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الدخل القومي الإجمالي للفرد (تعادل القوة الشرائية بالدولار الأمريكي الدولي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  <a:tr h="1176120"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متوسط العمر المأمول عند الميلاد ذ\أ (بالسنوات،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20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  <a:tc>
                  <a:txBody>
                    <a:bodyPr lIns="37800" rIns="37800" tIns="2268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inherit"/>
                        </a:rPr>
                        <a:t>73\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7800" marR="37800">
                    <a:lnL>
                      <a:noFill/>
                    </a:lnL>
                    <a:lnR>
                      <a:noFill/>
                    </a:lnR>
                    <a:lnT w="23040">
                      <a:solidFill>
                        <a:srgbClr val="ffffff"/>
                      </a:solidFill>
                    </a:lnT>
                    <a:lnB w="23040">
                      <a:solidFill>
                        <a:srgbClr val="ffffff"/>
                      </a:solidFill>
                    </a:lnB>
                    <a:solidFill>
                      <a:srgbClr val="f5f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مربع نص 2"/>
          <p:cNvSpPr/>
          <p:nvPr/>
        </p:nvSpPr>
        <p:spPr>
          <a:xfrm>
            <a:off x="251640" y="476640"/>
            <a:ext cx="8064360" cy="74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buClr>
                <a:srgbClr val="ff6600"/>
              </a:buClr>
              <a:buFont typeface="StarSymbol"/>
              <a:buAutoNum type="arabicPeriod"/>
            </a:pPr>
            <a:r>
              <a:rPr b="1" lang="hi-IN" sz="3200" spc="-1" strike="noStrike" u="sng">
                <a:solidFill>
                  <a:srgbClr val="ff6600"/>
                </a:solidFill>
                <a:uFillTx/>
                <a:latin typeface="Calibri"/>
              </a:rPr>
              <a:t>تعزيز التنم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لقد احتلت الصحة خلال السنوات العشر الماضية, مركزا غير مسبوق كأحد العناصر الأساسية لإحراز التقدم الاجتماعي والاقتصا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Calibri"/>
              </a:rPr>
              <a:t>ويستند </a:t>
            </a:r>
            <a:r>
              <a:rPr b="1" lang="hi-IN" sz="3200" spc="-1" strike="noStrike">
                <a:solidFill>
                  <a:srgbClr val="558ed5"/>
                </a:solidFill>
                <a:latin typeface="Calibri"/>
              </a:rPr>
              <a:t>تعزيز الصحة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لى المبدأ الأخلاقي المتمثل في</a:t>
            </a:r>
            <a:r>
              <a:rPr b="1" lang="x-none" sz="3200" spc="-1" strike="noStrike">
                <a:solidFill>
                  <a:srgbClr val="000000"/>
                </a:solidFill>
                <a:latin typeface="Calibri"/>
              </a:rPr>
              <a:t> الإنصاف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يعني ذلك أنه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لا ينبغي أن يحرم أي شخص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من التدخلات الرامية إلى تعزيز الصحة لأسباب غير عادلة بما فيها الأسباب القائمة على أسس اقتصادية أو 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260640"/>
            <a:ext cx="76197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hi-IN" sz="4800" spc="299" strike="noStrike">
                <a:solidFill>
                  <a:srgbClr val="808080"/>
                </a:solidFill>
                <a:latin typeface="Cambria"/>
              </a:rPr>
              <a:t>برنامج المنظمة</a:t>
            </a:r>
            <a:r>
              <a:rPr b="1" lang="x-none" sz="4800" spc="299" strike="noStrike">
                <a:solidFill>
                  <a:srgbClr val="808080"/>
                </a:solidFill>
                <a:latin typeface="Cambria"/>
              </a:rPr>
              <a:t>:</a:t>
            </a:r>
            <a:br>
              <a:rPr sz="4800"/>
            </a:br>
            <a:endParaRPr b="0" lang="x-none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مربع نص 1"/>
          <p:cNvSpPr/>
          <p:nvPr/>
        </p:nvSpPr>
        <p:spPr>
          <a:xfrm>
            <a:off x="611640" y="980640"/>
            <a:ext cx="756036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2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Calibri"/>
              </a:rPr>
              <a:t>. </a:t>
            </a:r>
            <a:r>
              <a:rPr b="1" lang="ar-SA" sz="3200" spc="-1" strike="noStrike" u="sng">
                <a:solidFill>
                  <a:srgbClr val="ff6600"/>
                </a:solidFill>
                <a:uFillTx/>
                <a:latin typeface="Calibri"/>
              </a:rPr>
              <a:t>تدعيم الأمن الصح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إن مواطن الضعف المشتركة أمام الأخطار التي تهدد الأمن الصحي تقتضي اتخاذ </a:t>
            </a:r>
            <a:r>
              <a:rPr b="0" lang="ar-SA" sz="3200" spc="-1" strike="noStrike">
                <a:solidFill>
                  <a:srgbClr val="ff0000"/>
                </a:solidFill>
                <a:latin typeface="Calibri"/>
              </a:rPr>
              <a:t>إجراءات جماعي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, وينجم أحد أكبر الأخطار المحدقة بالأمن الصحي الدولي عن فاشيات الأمراض المستجدة والأمراض التي قد تتحول الى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وبئة</a:t>
            </a:r>
            <a:r>
              <a:rPr b="0" lang="x-non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وتحدث تلك الفاشيات بأعداد متزايدة وتسهم في وقوعها عوامل مثل التوسع العمر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djacency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ustin</Template>
  <TotalTime>145243</TotalTime>
  <Application>LibreOffice/7.4.7.2$Linux_X86_64 LibreOffice_project/40$Build-2</Application>
  <AppVersion>15.0000</AppVersion>
  <Words>1255</Words>
  <Paragraphs>1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2T16:07:08Z</dcterms:created>
  <dc:creator>user1</dc:creator>
  <dc:description/>
  <dc:language>en-US</dc:language>
  <cp:lastModifiedBy>maha</cp:lastModifiedBy>
  <dcterms:modified xsi:type="dcterms:W3CDTF">2016-10-18T06:33:39Z</dcterms:modified>
  <cp:revision>62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36</vt:r8>
  </property>
</Properties>
</file>