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1A00-A021-4597-A531-1DFFE09B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8C04-81AF-4B03-9C7D-8B397773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96BB-3001-40FC-902B-09331F3DB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226E-80DD-4AEB-8826-85B91C26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4F51-0402-4816-950D-A81DD2C5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FBB7-9758-484F-A88B-1D844837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0CF4-F0F4-4E37-A81F-344C36D6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9B76-FCF4-42E5-88BF-0DD3DB0B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67D3-5C93-48F1-9010-CDE60699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039C-BCCF-4DA9-8A57-1E450F12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14FB-3BBD-4F7E-B1A2-E078B5A2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91DA-53BB-4F4D-AB91-E9B49276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FD6E-5805-4EA8-9E12-043D5814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A9B5-AAEA-4417-A23B-2E4AAFD4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AAC3-5D4A-4C45-8F95-CEC36C39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1EC5-3080-4B1C-AB82-A6F2EDEF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E959-FD8C-4949-906D-851EA08A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C9A2B-1A2C-4479-983B-94ABB6BD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D1EC2-0013-4293-AAE5-A78F8217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7727A-2448-4BE1-A903-79B201B3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F7548-42B5-42F1-9D43-7FA6C4FC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1D3F3-5C76-4E4F-B377-24896300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4869-7E33-468C-8B24-DE5BD523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F1562-7F2A-4B10-AD79-1DF7470D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3940C-076D-4CAF-BD2F-7201B72D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8CEDE-319A-4F88-9014-F18B623A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BCC6E-E551-49ED-8072-8D5B68FF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87B13-712B-48CF-AB92-1935F5E2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CFCA4-BDDE-47C2-AC97-2FEE1765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A4E1E-B4E2-4EC3-8144-51E6E08B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06F6D-802A-4924-A2DB-B32664AF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7550B-94D6-404D-A2C7-EB9EBEFA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75310-4141-452F-A0D7-8CB872E6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D947-433F-4DB3-8572-6A28C750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007BB-6004-484A-8261-EC2F0404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90CF8-AB94-481F-B0B7-CCB49962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83DC3-ECFA-4888-9C06-1260A9C6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9F2EB-CD14-48B6-BE12-10143096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8B290-EC08-42C4-A35D-E25B95B4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B10A5-4414-4490-A37E-34D89B9E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86D78-1590-4BAF-B597-8A8F3AD3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6F5DF-AAA5-45B5-9F53-94335714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7D74B-4CAA-4646-8BF6-22DB9384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92F10-AA55-4A46-8912-E57C5F6C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674A-C8EC-45E8-8E90-09DEC872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29BB8-5383-4D99-888B-397C190A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BF479-0619-42CF-AB29-0B066997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0DFB0-A784-4ED5-844C-8C4FA6A2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298F4-5284-450E-A9F1-005D90CA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0D068-C842-48BE-8E87-963F80C1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B5415-F7B3-4D22-8EA1-33E382E0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2D598-B313-47FC-BACB-B0675105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1E585-D488-4CAD-8DE8-DBD1AB4F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20419-2B2C-4BF4-A990-83BF9B20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5799F-AB62-4501-AEF1-C624D0B5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B21E-12C0-41AF-8BF5-37CD1F4F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FB99A-765F-4059-B37C-36ABAE04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F8427-A4C2-4025-9E0A-F5DB160A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AF502-3D9C-413E-BCF0-47CF1DDB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BED9E-C8CB-4ED6-B67E-15AE6932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A8035-2373-48B1-8B1F-6A4DDB5B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AFE1A-B460-4CC9-B509-F7ACC8BB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60411-CC2F-4781-8B80-675EF9A5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A1C6C-0E9A-42AC-A901-20932405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62F7E-A351-49B5-8E1A-BCCB6F17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84D04-B676-440D-A4CC-D753AFAF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1F9A-0F1F-4B11-B1A0-0DB6CAC5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A3A55-6C99-4D23-919D-E3C7BD73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D8E9F-C88C-4093-91AD-4840C00F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F67E0-C51A-4055-BA5E-581DD4BD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1DE34-5701-4F16-9525-8F9318C0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650E0-A94B-42AA-AF90-D4559876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50172-9BFC-4B64-805E-A3E8F139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BD066-1B88-4752-B587-D542123E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78B03-16C8-47A0-82E0-0E7A519E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2FFA9-BB8E-4FDC-A6AF-6CDE35E5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25CE7-5C68-4B19-8F96-020309C4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2E91-229F-4882-A67D-F7352BD9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548FF-E00B-4CA4-8D76-8FD76096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9F588-9BEE-4C94-90FD-A3E4DE9E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4EEA3-E421-4A2D-AB71-41CF5174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D3A1E-F272-4874-A1CC-73621DB7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028DC-ACA4-45DB-91CB-8513D917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B78DB-EB68-4C34-A4CD-FCBF5A5E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B3736-AFE7-41D9-89C7-CFAA1D73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D1A31-D319-480F-9066-B4B94A13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73AA9-E101-47CC-AB03-0BD47544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F544B-ED35-448A-AED4-905BF9E6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BA36-D07F-4052-877A-332DDD1E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17314-FCB1-4B0F-BDE1-B9D82A3F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AC0C2-165B-4DD9-AAE8-8581A2EF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67CFF-3076-4B97-9147-01DBE544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1B802-E9A5-418F-90B0-82713F09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E54C2-EBE2-4F65-843F-BB88B9B9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B08D3-D6FE-46AD-9A2B-17A22BFB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3F52E-308D-4DCD-996D-EF9C3D40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0E87-B123-451C-8E5D-F617BFA303C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579F-FF1B-4087-9CF0-A0E6A59B7A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3F8A-8064-413E-A66C-61E133E1CE62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BF39-A10C-4CE1-88E5-AE551E42F67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3506-B7FB-4AB4-83E9-0BECAF6EEB13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67D4-5899-40E0-852F-B6ED19888F60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BCA2-6FF4-44E7-BB37-C9BA19745ECB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127D-F8AC-490B-9B43-E784A2BD1F40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amazon.com/gp/product/B0014DHVPE/ref=as_li_ss_tl?ie=UTF8&amp;camp=1789&amp;creative=390957&amp;creativeASIN=B0014DHVPE&amp;linkCode=as2&amp;tag=wonderbaby04-20" TargetMode="External"/><Relationship Id="rId2" Type="http://schemas.openxmlformats.org/officeDocument/2006/relationships/hyperlink" Target="http://www.amazon.com/gp/product/B0012APD7C/ref=as_li_ss_tl?ie=UTF8&amp;camp=1789&amp;creative=390957&amp;creativeASIN=B0012APD7C&amp;linkCode=as2&amp;tag=wonderbaby04-20" TargetMode="External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9pp4zdlw3FI" TargetMode="External"/><Relationship Id="rId2" Type="http://schemas.openxmlformats.org/officeDocument/2006/relationships/hyperlink" Target="https://www.youtube.com/watch?v=BVswl7CHPiM" TargetMode="External"/><Relationship Id="rId3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220400"/>
            <a:ext cx="77724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0000"/>
                </a:solidFill>
                <a:latin typeface="Andalus"/>
                <a:cs typeface="Andalus"/>
              </a:rPr>
              <a:t>التصنيف والتناظر الأحاد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220400"/>
            <a:ext cx="77724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76092"/>
                </a:solidFill>
                <a:latin typeface="Calibri"/>
              </a:rPr>
              <a:t>كيف يتم التصنيف 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376092"/>
                </a:solidFill>
                <a:uFillTx/>
                <a:latin typeface="Calibri"/>
              </a:rPr>
              <a:t>القياس القبل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250920" y="2060280"/>
            <a:ext cx="8642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376092"/>
                </a:solidFill>
                <a:uFillTx/>
                <a:latin typeface="Gill Sans MT"/>
                <a:cs typeface="Majalla UI"/>
              </a:rPr>
              <a:t>ملاحظة أنشطة لعب الأطفال الحر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2455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e46c0a"/>
                </a:solidFill>
                <a:latin typeface="Gill Sans MT"/>
                <a:cs typeface="Majalla UI"/>
              </a:rPr>
              <a:t>هل يقومون بفصل الاشياء و تجميعها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2455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  <a:ea typeface="Majalla UI"/>
              </a:rPr>
              <a:t>( مثل: بناء مواقف احدهما للسيارات الصغيرة و آخر للسيارات الكبيرة – الاولاد يلعبون كفريق والبنات كفريق مقابل ....الخ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2455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24552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376092"/>
                </a:solidFill>
                <a:uFillTx/>
                <a:latin typeface="Gill Sans MT"/>
                <a:cs typeface="Majalla UI"/>
              </a:rPr>
              <a:t>تكليف الأطفال بمهام التصنيف و تكوين فئات بناء على محكات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2455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e46c0a"/>
                </a:solidFill>
                <a:latin typeface="Gill Sans MT"/>
                <a:ea typeface="Majalla UI"/>
              </a:rPr>
              <a:t> مثل اللون – الحجم – النوع .....الخ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2455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  <a:cs typeface="Majalla UI"/>
              </a:rPr>
              <a:t>ومن المهم سؤال الطفل عن السبب الذى جعله يضم هذا العنصر او ذاك في هذه الفئة – لماذا في رأيك ينتمى هذا العنصر الى هذه الفئة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245520" algn="r"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70056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6b9b8"/>
                </a:solidFill>
                <a:latin typeface="Calibri"/>
              </a:rPr>
              <a:t>انشطة تدعم اكتساب المفهوم</a:t>
            </a:r>
            <a:r>
              <a:rPr b="0" lang="ar-SA" sz="4000" spc="-1" strike="noStrike">
                <a:solidFill>
                  <a:srgbClr val="e6b9b8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79280" y="1483920"/>
            <a:ext cx="8569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698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e6b9b8"/>
                </a:solidFill>
                <a:uFillTx/>
                <a:latin typeface="Gill Sans MT"/>
                <a:ea typeface="Majalla UI"/>
              </a:rPr>
              <a:t>1</a:t>
            </a:r>
            <a:r>
              <a:rPr b="1" lang="ar-SA" sz="3000" spc="-1" strike="noStrike" u="sng">
                <a:solidFill>
                  <a:srgbClr val="e6b9b8"/>
                </a:solidFill>
                <a:uFillTx/>
                <a:latin typeface="Gill Sans MT"/>
                <a:ea typeface="Majalla UI"/>
              </a:rPr>
              <a:t>- انشطة طبيعية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  <a:cs typeface="Majalla UI"/>
              </a:rPr>
              <a:t>من المعروف ان الاطفال منذ سن صغيرة يبدأون في تكوين مجموعات – و بوصولهم الى سن </a:t>
            </a:r>
            <a:r>
              <a:rPr b="1" lang="ar-SA" sz="3000" spc="-1" strike="noStrike">
                <a:solidFill>
                  <a:srgbClr val="ffff00"/>
                </a:solidFill>
                <a:latin typeface="Gill Sans MT"/>
                <a:cs typeface="Majalla UI"/>
              </a:rPr>
              <a:t>الثالثة</a:t>
            </a:r>
            <a:r>
              <a:rPr b="1" lang="ar-SA" sz="3000" spc="-1" strike="noStrike">
                <a:solidFill>
                  <a:srgbClr val="000000"/>
                </a:solidFill>
                <a:latin typeface="Gill Sans MT"/>
                <a:ea typeface="Majalla UI"/>
              </a:rPr>
              <a:t> يبدأون في فصل الاشياء لأغراض متعددة مثل فصل ما يحتاجه من ادوات اللعب – انتقاء الحيوانات المفترسة لتكوين حديقة الحيوانات – الدمى التي تمثل البشر لتمثيل مشاهد تخص الاسرة ....الخ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e6b9b8"/>
                </a:solidFill>
                <a:uFillTx/>
                <a:latin typeface="Gill Sans MT"/>
                <a:ea typeface="Majalla UI"/>
              </a:rPr>
              <a:t>2</a:t>
            </a:r>
            <a:r>
              <a:rPr b="1" lang="ar-SA" sz="3000" spc="-1" strike="noStrike" u="sng">
                <a:solidFill>
                  <a:srgbClr val="e6b9b8"/>
                </a:solidFill>
                <a:uFillTx/>
                <a:latin typeface="Gill Sans MT"/>
                <a:ea typeface="Majalla UI"/>
              </a:rPr>
              <a:t>- أنشطة غير رسمية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  <a:cs typeface="Majalla UI"/>
              </a:rPr>
              <a:t>من خلال </a:t>
            </a:r>
            <a:r>
              <a:rPr b="1" lang="ar-SA" sz="3000" spc="-1" strike="noStrike">
                <a:solidFill>
                  <a:srgbClr val="ffff00"/>
                </a:solidFill>
                <a:latin typeface="Gill Sans MT"/>
                <a:cs typeface="Majalla UI"/>
              </a:rPr>
              <a:t>اظهار الاهتمام و التشجيع لما يقوم به الاطفال </a:t>
            </a:r>
            <a:r>
              <a:rPr b="1" lang="ar-SA" sz="3000" spc="-1" strike="noStrike">
                <a:solidFill>
                  <a:srgbClr val="000000"/>
                </a:solidFill>
                <a:latin typeface="Gill Sans MT"/>
                <a:cs typeface="Majalla UI"/>
              </a:rPr>
              <a:t>من انشطة فصل و تجميع و التعليق عليها بهدف بناء القاموس اللغوي للأطفال المتعلق بالتصنيف و من خلال طرح الاسئلة المتعلقة بذلك مثل : لقد استخدمت كل القطع الزرقاء لبناء البيت – بإمكانك وضع الحيوانات المتوحشة في هذه الناحية والحيوانات الاليفة في الناحية الاخرى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80000"/>
              </a:lnSpc>
              <a:spcBef>
                <a:spcPts val="751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2340000" y="16002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6984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 u="sng">
                <a:solidFill>
                  <a:srgbClr val="d99694"/>
                </a:solidFill>
                <a:uFillTx/>
                <a:latin typeface="Gill Sans MT"/>
                <a:ea typeface="Majalla UI"/>
              </a:rPr>
              <a:t>3</a:t>
            </a:r>
            <a:r>
              <a:rPr b="1" lang="ar-SA" sz="2500" spc="-1" strike="noStrike" u="sng">
                <a:solidFill>
                  <a:srgbClr val="d99694"/>
                </a:solidFill>
                <a:uFillTx/>
                <a:latin typeface="Gill Sans MT"/>
                <a:ea typeface="Majalla UI"/>
              </a:rPr>
              <a:t>- انشطة محددة البناء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Gill Sans MT"/>
                <a:cs typeface="Majalla UI"/>
              </a:rPr>
              <a:t>يمكن تصميم أنشطة لمعاونة الأطفال على عملية بناء مجموعات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Gill Sans MT"/>
                <a:ea typeface="Majalla UI"/>
              </a:rPr>
              <a:t> مثل توفير عدة اشياء مختلفة لها نفس اللون و اربعة اشياء كل منها من لون مختلف، و يطلب من الطفل فصل الاشياء وجمعها بناء على اللون 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Gill Sans MT"/>
                <a:cs typeface="Majalla UI"/>
              </a:rPr>
              <a:t>أو حمل جسم لونه احمر مثلا و نطلب من الطفل ان يحاول العثور على اجسام اخرى لها نفس هذا اللون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30000"/>
              </a:lnSpc>
              <a:spcBef>
                <a:spcPts val="624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692316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efe"/>
                </a:solidFill>
                <a:latin typeface="Calibri"/>
              </a:rPr>
              <a:t>التقييم البعدي</a:t>
            </a:r>
            <a:r>
              <a:rPr b="0" lang="ar-SA" sz="4400" spc="-1" strike="noStrike">
                <a:solidFill>
                  <a:srgbClr val="fffefe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6840" y="1752120"/>
            <a:ext cx="82184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Gill Sans MT"/>
                <a:cs typeface="Majalla UI"/>
              </a:rPr>
              <a:t>يمكن ملاحظة عمليات فصل الاشياء و تجميعها اثناء لعب الاطفال الطبيعي, اذ لا بد ان نلاحظ تزايدا في ميل الأطفال للتصنيف في مواقف اللعب الطبيعية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4720" indent="-25128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Gill Sans MT"/>
                <a:cs typeface="Majalla UI"/>
              </a:rPr>
              <a:t>كما يجب ان يظهر الاطفال قدرات متزايدة على اطلاق التسميات الصحيحة على ما يكونونه من مجموعات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4720" indent="-25128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Gill Sans MT"/>
                <a:cs typeface="Majalla UI"/>
              </a:rPr>
              <a:t>و في النهاية يمكن اللجوء الى التقييم الاكثر بنائية و تحديدا من خلال انشطة البطاقات او المهام العملية التي نكلفهم بها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4720" indent="-251280" algn="r" rtl="1">
              <a:lnSpc>
                <a:spcPct val="140000"/>
              </a:lnSpc>
              <a:spcBef>
                <a:spcPts val="649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22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efe"/>
                </a:solidFill>
                <a:latin typeface="Calibri"/>
              </a:rPr>
              <a:t>ما الفرق بين التصنيف والتطابق؟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مستطيل 1"/>
          <p:cNvSpPr/>
          <p:nvPr/>
        </p:nvSpPr>
        <p:spPr>
          <a:xfrm>
            <a:off x="444600" y="1484280"/>
            <a:ext cx="8064360" cy="34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r" rtl="1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e46c0a"/>
                </a:solidFill>
                <a:uFillTx/>
                <a:latin typeface="Verdana"/>
              </a:rPr>
              <a:t>التصنيف والتجميع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يقوم بها الطفل باستخدام أشياء </a:t>
            </a:r>
            <a:r>
              <a:rPr b="1" lang="ar-SA" sz="2400" spc="-1" strike="noStrike">
                <a:solidFill>
                  <a:srgbClr val="ff0000"/>
                </a:solidFill>
                <a:latin typeface="Verdana"/>
              </a:rPr>
              <a:t>عديدة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يجمعها بناء على الاشتراك في خاصية مثل اللون أو الشكل او الحج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اما في </a:t>
            </a:r>
            <a:r>
              <a:rPr b="1" lang="ar-SA" sz="2400" spc="-1" strike="noStrike" u="sng">
                <a:solidFill>
                  <a:srgbClr val="e46c0a"/>
                </a:solidFill>
                <a:uFillTx/>
                <a:latin typeface="Verdana"/>
              </a:rPr>
              <a:t>التطابق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يقوم الطفل باستخدام صورة وصورة أخرى طبق الأصل او أداة وأداة اخرى طبق الأصل او يوصل شكلين متطابقين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22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يهما وسيلة تصنيف 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3722760" cy="28735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"/>
          <p:cNvPicPr/>
          <p:nvPr/>
        </p:nvPicPr>
        <p:blipFill>
          <a:blip r:embed="rId2"/>
          <a:stretch/>
        </p:blipFill>
        <p:spPr>
          <a:xfrm>
            <a:off x="4643280" y="2205000"/>
            <a:ext cx="396900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22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تصنيف أم مطابقة 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Content Placeholder 3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1372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22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تصنيف أم مطابقة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Content Placeholder 3" descr=""/>
          <p:cNvPicPr/>
          <p:nvPr/>
        </p:nvPicPr>
        <p:blipFill>
          <a:blip r:embed="rId1"/>
          <a:stretch/>
        </p:blipFill>
        <p:spPr>
          <a:xfrm>
            <a:off x="2227320" y="2373480"/>
            <a:ext cx="46893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Calibri"/>
              </a:rPr>
              <a:t>المقارن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مستطيل 2"/>
          <p:cNvSpPr/>
          <p:nvPr/>
        </p:nvSpPr>
        <p:spPr>
          <a:xfrm>
            <a:off x="1763640" y="1628640"/>
            <a:ext cx="6985080" cy="67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تشير توقعات الجودة في مناهج الرياضيات الى ضرورة تمكن الاطفال من الربط بين الخامات المادية و فهم الصفات والعلاقات الخاصة بالطول والسعة والوزن والمساحة والحجم ودرجة الحرارة, و ذلك من خلال القيام بعمليات المقارنة البسيطة, وان الاطفال يجب ان يكونوا قادرين على وصف التغيرات وصفا كيفيا مثل اطول من – اثقل من – اسرع من وكل ذلك يعكس فهم الطفل لمفاهيم المقارنة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8260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و يمكن ادماج مفاهيم المقارنة في مجالات المنهج المختلفة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403280" y="764640"/>
            <a:ext cx="640080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1" lang="ar-SA" sz="5400" spc="-1" strike="noStrike">
                <a:solidFill>
                  <a:srgbClr val="ff0000"/>
                </a:solidFill>
                <a:latin typeface="Tahoma"/>
                <a:cs typeface="Tahoma"/>
              </a:rPr>
              <a:t>مهارة التصني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2340000" y="1600200"/>
            <a:ext cx="63468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00"/>
                </a:solidFill>
                <a:latin typeface="Calibri"/>
              </a:rPr>
              <a:t>كيف تتم المقارنة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efe"/>
                </a:solidFill>
                <a:latin typeface="Calibri"/>
              </a:rPr>
              <a:t>القياس القبل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340000" y="16002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r" rtl="1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من خلال ملاحظة الطفل اثناء انشطته العادية و اثناء </a:t>
            </a:r>
            <a:r>
              <a:rPr b="1" lang="ar-SA" sz="2200" spc="-1" strike="noStrike">
                <a:solidFill>
                  <a:srgbClr val="d99694"/>
                </a:solidFill>
                <a:latin typeface="Gill Sans MT"/>
              </a:rPr>
              <a:t>اللعب الحر </a:t>
            </a: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و ملاحظة كيف يتعامل مع المواقف التى تتضمن المقارنة بين شيئين هل يشير الى الدمى بان هذه كبيرة و تلك صغير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6680" indent="-268200" algn="r" rtl="1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كذلك يمكن ملاحظة ما لديه من محصول لغوى يعكس الفهم لعمليات المقارنة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6680" indent="-268200" algn="r" rtl="1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تكليف الطفل بمهمة تظهر القدرة على المقارنة كأن يشير الى الاشياء الكبيرة و الاخرى الصغيرة او الطويلة و القصيرة , او التى تحتوى على قطع اكثر و قطع اقل ....الخ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6680" indent="-268200" algn="r" rtl="1">
              <a:lnSpc>
                <a:spcPct val="130000"/>
              </a:lnSpc>
              <a:spcBef>
                <a:spcPts val="550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efe"/>
                </a:solidFill>
                <a:latin typeface="Calibri"/>
              </a:rPr>
              <a:t>انشطة لتنمية المفهوم</a:t>
            </a:r>
            <a:r>
              <a:rPr b="0" lang="ar-SA" sz="4400" spc="-1" strike="noStrike">
                <a:solidFill>
                  <a:srgbClr val="fffefe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 algn="r" rtl="1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d99694"/>
                </a:solidFill>
                <a:latin typeface="Gill Sans MT"/>
              </a:rPr>
              <a:t>انشطة طبيعية: 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هناك مواقف عديدة ويومية تتضمن عمليات المقارنة مثل اجلس على المقعد الصغير فهذا كبير – تناول الشراب الآن فهو اصبح ابرد – لا تحمل هذه فهي ثقيلة يمكنك ان تحمل الاخرى فهي اخ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8320" indent="-254160" algn="r" rtl="1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8320" indent="-254160" algn="r" rtl="1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d99694"/>
                </a:solidFill>
                <a:latin typeface="Gill Sans MT"/>
              </a:rPr>
              <a:t>انشطة غير رسمية: 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عادة ما يود الاطفال التأكد من عدالة التوزيع للأشياء و ان كل واحد فيهم قد اخذ نفس القدر من الاشياء و للتأكد من ذلك يمكن ان نطلب من الاطفال الاكبر او الاكثر نضجا ان يقوموا بالعد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8320" indent="-254160" algn="r" rtl="1">
              <a:lnSpc>
                <a:spcPct val="100000"/>
              </a:lnSpc>
              <a:spcBef>
                <a:spcPts val="799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efe"/>
                </a:solidFill>
                <a:latin typeface="Calibri"/>
              </a:rPr>
              <a:t>انشطة ذات بناء محدد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24000" y="1197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حين نلاحظ ان احد الاطفال لا يستغل المواقف الطبيعية التي تستدعى المقارنة للقيام بذلك فانه يمكننا ان نخطط لهم انشطة اكثر رسمية من خلال توفير خامات </a:t>
            </a:r>
            <a:r>
              <a:rPr b="0" lang="ar-SA" sz="3000" spc="-1" strike="noStrike">
                <a:solidFill>
                  <a:srgbClr val="d99694"/>
                </a:solidFill>
                <a:latin typeface="Gill Sans MT"/>
              </a:rPr>
              <a:t>تجارية</a:t>
            </a: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 صممت لهذا الغرض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9960" indent="-24012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9960" indent="-24012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بالإضافة الى توفير خامات من </a:t>
            </a:r>
            <a:r>
              <a:rPr b="0" lang="ar-SA" sz="3000" spc="-1" strike="noStrike">
                <a:solidFill>
                  <a:srgbClr val="d99694"/>
                </a:solidFill>
                <a:latin typeface="Gill Sans MT"/>
              </a:rPr>
              <a:t>البيئة</a:t>
            </a: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 يمكن ان تخدم نفس الغرض وبالطبع تكون البداية بالخامات الطبيعية وتنتهى بالصور المجردة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9960" indent="-2401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99694"/>
                </a:solidFill>
                <a:latin typeface="Gill Sans MT"/>
              </a:rPr>
              <a:t>ومن امثلة الخامات التي يمكن توفيرها: الازرار – الدمى- الاكواب – الاطباق – سيارات – صناديق – اقلام – عصى ....الخ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9960" indent="-2401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9960" indent="-24012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وذلك لاختبار قدرة الطفل على المقارنة طبقا للصفات المختلفة مثل: كبير/صغير – قصير / طويل (راسيا و افقيا ) – سمين / نحيف – ثقيل /خفيف – سريع / بطيء – ساخن /بارد – قريب / بعيد ...الخ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9960" indent="-240120" algn="r" rtl="1">
              <a:lnSpc>
                <a:spcPct val="80000"/>
              </a:lnSpc>
              <a:spcBef>
                <a:spcPts val="751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efe"/>
                </a:solidFill>
                <a:latin typeface="Calibri"/>
              </a:rPr>
              <a:t>التقييم البعد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340000" y="16002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يمكن باستخدام مجموعة من الخامات التي يمكن للأطفال المقارنة بينها, بالإضافة لاستغلال المواقف اليومية الطبيعية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مثل: هل لدينا اليوم عدد اولاد اكثر ام بنات اكثر – هل لدينا قطع حلوى الشكولاتة اكثر ام ان تلك التي بالفواكه اكثر – هل انت الشقيق الاكبر ام الاصغر ...الخ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lnSpc>
                <a:spcPct val="100000"/>
              </a:lnSpc>
              <a:spcBef>
                <a:spcPts val="799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220400"/>
            <a:ext cx="77724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Calibri"/>
              </a:rPr>
              <a:t>ثانياً: التناظر الأحادي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22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efe"/>
                </a:solidFill>
                <a:latin typeface="Calibri"/>
              </a:rPr>
              <a:t>ثانياً: التناظر الاحادي (المقابلة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8000" y="1557360"/>
            <a:ext cx="806436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 algn="r" rtl="1">
              <a:lnSpc>
                <a:spcPct val="100000"/>
              </a:lnSpc>
              <a:spcBef>
                <a:spcPts val="700"/>
              </a:spcBef>
              <a:buClr>
                <a:srgbClr val="95b3d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Gill Sans MT"/>
              </a:rPr>
              <a:t>ادراك ان مجموعة ما، لها العدد نفسه لعناصر المجموعة الاخرى. لكل طفل كعكة، لكل طفل كتا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7440" indent="-397440" algn="r" rtl="1">
              <a:lnSpc>
                <a:spcPct val="100000"/>
              </a:lnSpc>
              <a:spcBef>
                <a:spcPts val="700"/>
              </a:spcBef>
              <a:buClr>
                <a:srgbClr val="95b3d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7440" indent="-397440" algn="r" rtl="1">
              <a:lnSpc>
                <a:spcPct val="100000"/>
              </a:lnSpc>
              <a:spcBef>
                <a:spcPts val="700"/>
              </a:spcBef>
              <a:buClr>
                <a:srgbClr val="95b3d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70c0"/>
                </a:solidFill>
                <a:uFillTx/>
                <a:latin typeface="Gill Sans MT"/>
              </a:rPr>
              <a:t> يقصد بالمزاوجة او المقابلة او التناظر الاحادي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7440" indent="-3974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Gill Sans MT"/>
              </a:rPr>
              <a:t> (ان يكون لكل عنصر من عناصر المجموعة الاولى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Gill Sans MT"/>
              </a:rPr>
              <a:t>عنصرا واحدا فقط</a:t>
            </a:r>
            <a:r>
              <a:rPr b="1" lang="ar-SA" sz="2800" spc="-1" strike="noStrike">
                <a:solidFill>
                  <a:srgbClr val="000000"/>
                </a:solidFill>
                <a:latin typeface="Gill Sans MT"/>
              </a:rPr>
              <a:t> مناظرا له من عناصر المجموعة الثانية والعكس صحي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7440" indent="-3974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ar-SA" sz="2800" spc="-1" strike="noStrike">
                <a:solidFill>
                  <a:srgbClr val="d99694"/>
                </a:solidFill>
                <a:latin typeface="Gill Sans MT"/>
              </a:rPr>
              <a:t>مثا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7440" indent="-3974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Gill Sans MT"/>
              </a:rPr>
              <a:t>(اذا كان هناك اربعة اطباق فلا بد من وجود اربعة اكواب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لكل عنصر في المجموعة عنصر واحد فقط مقابل له في المجموعة الأخرى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2" descr="Image result for ‫وسائل التناظر الاحادي للاطفال‬‎"/>
          <p:cNvPicPr/>
          <p:nvPr/>
        </p:nvPicPr>
        <p:blipFill>
          <a:blip r:embed="rId1"/>
          <a:stretch/>
        </p:blipFill>
        <p:spPr>
          <a:xfrm>
            <a:off x="2411280" y="2637000"/>
            <a:ext cx="6016680" cy="3381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2"/>
          <a:stretch/>
        </p:blipFill>
        <p:spPr>
          <a:xfrm>
            <a:off x="333360" y="2565360"/>
            <a:ext cx="164628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70c0"/>
                </a:solidFill>
                <a:latin typeface="Calibri"/>
              </a:rPr>
              <a:t>التناظر الأحاد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340000" y="16002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 algn="r" rtl="1">
              <a:spcBef>
                <a:spcPts val="700"/>
              </a:spcBef>
              <a:buClr>
                <a:srgbClr val="95b3d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تكوين مفهوم المقابلة او التناظر الأحادي الأطفال بحاجة الى أن تكون </a:t>
            </a:r>
            <a:r>
              <a:rPr b="1" lang="ar-SA" sz="2800" spc="-1" strike="noStrike">
                <a:solidFill>
                  <a:srgbClr val="e46c0a"/>
                </a:solidFill>
                <a:latin typeface="Calibri"/>
              </a:rPr>
              <a:t>تجاربهم حسية وحقيقية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الأطفال يتعلمون من خلال العمل في الشي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 algn="r" rtl="1">
              <a:spcBef>
                <a:spcPts val="700"/>
              </a:spcBef>
              <a:buClr>
                <a:srgbClr val="95b3d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المقابلة او التناظر الاحادي من المكونات الأساسية لمفهوم </a:t>
            </a:r>
            <a:r>
              <a:rPr b="1" lang="ar-SA" sz="2800" spc="-1" strike="noStrike">
                <a:solidFill>
                  <a:srgbClr val="e46c0a"/>
                </a:solidFill>
                <a:latin typeface="Calibri"/>
              </a:rPr>
              <a:t>العدد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، المفاهيم الرياضية مثل مفهوم العدد والمقارنة العددية ومفهوم المجموعة والمجموعة الجزئية ومقارنة المجموعات يمكن ان يتعلمها الطفل أسهل بكثير بعد تعلمه لمفهوم </a:t>
            </a:r>
            <a:r>
              <a:rPr b="1" lang="ar-SA" sz="2800" spc="-1" strike="noStrike">
                <a:solidFill>
                  <a:srgbClr val="e46c0a"/>
                </a:solidFill>
                <a:latin typeface="Calibri"/>
              </a:rPr>
              <a:t>المقابلة</a:t>
            </a:r>
            <a:r>
              <a:rPr b="0" lang="ar-SA" sz="2800" spc="-1" strike="noStrike">
                <a:solidFill>
                  <a:srgbClr val="e46c0a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 algn="r" rtl="1">
              <a:spcBef>
                <a:spcPts val="700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efe"/>
                </a:solidFill>
                <a:latin typeface="Calibri"/>
              </a:rPr>
              <a:t>التناظر الاحاد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340000" y="126828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00"/>
              </a:spcBef>
              <a:buClr>
                <a:srgbClr val="95b3d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Calibri"/>
              </a:rPr>
              <a:t>تجربة بياجيه الكؤوس والبيض، تدل ع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عدم قدرة الطفل على ادراك الثبات العددي (الاحتفاظ)، عند تغيير وضع البيض من أمام الكؤوس (مفهوم التناظر الأحادي متطلب سابق للعدد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00"/>
              </a:spcBef>
              <a:buClr>
                <a:srgbClr val="95b3d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00"/>
              </a:spcBef>
              <a:buClr>
                <a:srgbClr val="95b3d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يبدأ تعلم الطفل مفهوم التناظر الأحادي في المرحلة الحسية الحركية اثناء اللعب، </a:t>
            </a:r>
            <a:r>
              <a:rPr b="1" lang="ar-SA" sz="2800" spc="-1" strike="noStrike">
                <a:solidFill>
                  <a:srgbClr val="e46c0a"/>
                </a:solidFill>
                <a:latin typeface="Calibri"/>
              </a:rPr>
              <a:t>مثلا يضع امام كل دمية صح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00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c000"/>
              </a:solidFill>
              <a:uFillTx/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340000" y="1600200"/>
            <a:ext cx="68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14040"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ماهو مفهومك لمصطلح التصنيف ؟؟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مخطط انسيابي: تخزين بالوصول التسلسلي 12"/>
          <p:cNvSpPr/>
          <p:nvPr/>
        </p:nvSpPr>
        <p:spPr>
          <a:xfrm>
            <a:off x="2268360" y="3860640"/>
            <a:ext cx="662472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هو القدرة على تجميع الأشياء التي لها نفس الخصائص في مجموعة واحدة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جربة بياج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2195280" y="1599840"/>
            <a:ext cx="5040360" cy="2189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C:\Users\SOSO\Documents\اتجاهات سحر\تجربية بياجيه 2.png"/>
          <p:cNvPicPr/>
          <p:nvPr/>
        </p:nvPicPr>
        <p:blipFill>
          <a:blip r:embed="rId2"/>
          <a:stretch/>
        </p:blipFill>
        <p:spPr>
          <a:xfrm>
            <a:off x="1297080" y="1125360"/>
            <a:ext cx="7369200" cy="29847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C:\Users\SOSO\Documents\اتجاهات سحر\تجربة بياجيه 1.png"/>
          <p:cNvPicPr/>
          <p:nvPr/>
        </p:nvPicPr>
        <p:blipFill>
          <a:blip r:embed="rId3"/>
          <a:stretch/>
        </p:blipFill>
        <p:spPr>
          <a:xfrm>
            <a:off x="1619280" y="2878200"/>
            <a:ext cx="669780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40000" y="11556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46c0a"/>
                </a:solidFill>
                <a:latin typeface="Calibri"/>
              </a:rPr>
              <a:t>التناظر الأحاد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050560" y="126828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r" rtl="1">
              <a:lnSpc>
                <a:spcPct val="90000"/>
              </a:lnSpc>
              <a:spcBef>
                <a:spcPts val="700"/>
              </a:spcBef>
              <a:buClr>
                <a:srgbClr val="95b3d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يجب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</a:rPr>
              <a:t>ان نتدرج في تقديم المفهوم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للطفل في البداية يكون عدد عناصر المجموعة اقل من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عناصر، ثم تزيد تدريجيا حتى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عناصر وعندها نستطيع ان نحكم ان الطفل فهم التناظر الاحادي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 algn="r" rtl="1">
              <a:lnSpc>
                <a:spcPct val="90000"/>
              </a:lnSpc>
              <a:spcBef>
                <a:spcPts val="700"/>
              </a:spcBef>
              <a:buClr>
                <a:srgbClr val="95b3d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</a:rPr>
              <a:t>أمثلة على التناظر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الحيوان وصغار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العامل وأدوات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نوع الحيوان والغطاء الذي يغطي جسم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مقابلة مجموعات مكونه من نفس العد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22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efe"/>
                </a:solidFill>
                <a:latin typeface="Calibri"/>
              </a:rPr>
              <a:t>نمو مفهوم المقابل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6836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r" rtl="1">
              <a:spcBef>
                <a:spcPts val="601"/>
              </a:spcBef>
              <a:buClr>
                <a:srgbClr val="95b3d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يبدأ تعلم الطفل مفهوم التناظر الأحادي في </a:t>
            </a:r>
            <a:r>
              <a:rPr b="1" lang="ar-SA" sz="2400" spc="-1" strike="noStrike">
                <a:solidFill>
                  <a:srgbClr val="0070c0"/>
                </a:solidFill>
                <a:latin typeface="Calibri"/>
              </a:rPr>
              <a:t>المرحلة الحسية الحركية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ثناء اللعب، من قبل سن المشي يستطيع ان يقابل يركب الدمى الخمس في الحفر الخمس في لعبة البا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buClr>
                <a:srgbClr val="95b3d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ومع نمو الطفل  في </a:t>
            </a:r>
            <a:r>
              <a:rPr b="1" lang="ar-SA" sz="2400" spc="-1" strike="noStrike">
                <a:solidFill>
                  <a:srgbClr val="0070c0"/>
                </a:solidFill>
                <a:latin typeface="Calibri"/>
              </a:rPr>
              <a:t>سن الثانية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فإنه يقضي الكثير من الوقت في العاب المقابلة، مثلا:  </a:t>
            </a:r>
            <a:r>
              <a:rPr b="1" lang="ar-SA" sz="2400" spc="-1" strike="noStrike">
                <a:solidFill>
                  <a:srgbClr val="e46c0a"/>
                </a:solidFill>
                <a:latin typeface="Calibri"/>
              </a:rPr>
              <a:t>يضع على كل طبق فنجان وعلى كل كرسي دمية واحيانا يقوم بمساعدة والدته في اعداد مائدة الطعام فيضع لكل فرد كوب او ملعق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buClr>
                <a:srgbClr val="95b3d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الا ان نمو مفهوم التناظر الاحادي وثبات العدد للمجموعات لا تنمو لدى الطفل الا في </a:t>
            </a:r>
            <a:r>
              <a:rPr b="1" lang="ar-SA" sz="2400" spc="-1" strike="noStrike">
                <a:solidFill>
                  <a:srgbClr val="0070c0"/>
                </a:solidFill>
                <a:latin typeface="Calibri"/>
              </a:rPr>
              <a:t>مراحل متاخرة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كما وضح بياجيه في تجربت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22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2373480"/>
            <a:ext cx="822960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Picture 2" descr="Collage of photos of eggs and toys and Ivan choosing just one"/>
          <p:cNvPicPr/>
          <p:nvPr/>
        </p:nvPicPr>
        <p:blipFill>
          <a:blip r:embed="rId1"/>
          <a:stretch/>
        </p:blipFill>
        <p:spPr>
          <a:xfrm>
            <a:off x="2185920" y="476280"/>
            <a:ext cx="507384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22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هل يمكن أن يكون في القصص تناظر أحادي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2373480"/>
            <a:ext cx="822960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عتقد كثير من الناس أن تعلم كيفية العد هو أساس وبداية تعليم مهارات الرياضيات للأطفال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تزخر العديد من الأغاني بعناصر العد (</a:t>
            </a:r>
            <a:r>
              <a:rPr b="0" lang="ar-SA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خمس بطات صغيرة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0" lang="ar-SA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ثلاثة ضفادع خضراء مرقطة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tc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يبدو أنه النقطة المنطقية لبدء تعليم الأطفال الأرقا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2" descr="http://ir-na.amazon-adsystem.com/e/ir?t=wonderbaby04-20&amp;l=as2&amp;o=1&amp;a=B0014DHVPE"/>
          <p:cNvPicPr/>
          <p:nvPr/>
        </p:nvPicPr>
        <p:blipFill>
          <a:blip r:embed="rId3"/>
          <a:stretch/>
        </p:blipFill>
        <p:spPr>
          <a:xfrm>
            <a:off x="-4680" y="-11448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http://ir-na.amazon-adsystem.com/e/ir?t=wonderbaby04-20&amp;l=as2&amp;o=1&amp;a=B0012APD7C"/>
          <p:cNvPicPr/>
          <p:nvPr/>
        </p:nvPicPr>
        <p:blipFill>
          <a:blip r:embed="rId4"/>
          <a:stretch/>
        </p:blipFill>
        <p:spPr>
          <a:xfrm>
            <a:off x="-1851120" y="-114480"/>
            <a:ext cx="9720" cy="972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4"/>
          <p:cNvSpPr/>
          <p:nvPr/>
        </p:nvSpPr>
        <p:spPr>
          <a:xfrm>
            <a:off x="900000" y="608184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http://www.wonderbaby.org/ar/articles/%D9%88%D8%A7%D8%AD%D8%AF-%D9%81%D9%82%D8%B7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دد استخدام لنفس الأدوات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youtube.com/watch?v=9pp4zdlw3F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تعدد المستويات باستخدام الملفات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www.youtube.com/watch?v=BVswl7CHPi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22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هيا نلتقط شيئا واحدا فقط، ونضعه في الكوب." كرر ما قلته مع بقية الأكواب مستخدما لفظ "واحد فقط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Picture 2" descr="Ivan placing one candy on the cookie"/>
          <p:cNvPicPr/>
          <p:nvPr/>
        </p:nvPicPr>
        <p:blipFill>
          <a:blip r:embed="rId1"/>
          <a:stretch/>
        </p:blipFill>
        <p:spPr>
          <a:xfrm>
            <a:off x="826920" y="2419200"/>
            <a:ext cx="3780000" cy="27370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Ellie playing with buttons in a muffin tin"/>
          <p:cNvPicPr/>
          <p:nvPr/>
        </p:nvPicPr>
        <p:blipFill>
          <a:blip r:embed="rId2"/>
          <a:stretch/>
        </p:blipFill>
        <p:spPr>
          <a:xfrm>
            <a:off x="5076720" y="2492280"/>
            <a:ext cx="3095640" cy="35845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3"/>
          <p:cNvSpPr/>
          <p:nvPr/>
        </p:nvSpPr>
        <p:spPr>
          <a:xfrm>
            <a:off x="600120" y="5373720"/>
            <a:ext cx="368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46c0a"/>
                </a:solidFill>
                <a:latin typeface="Verdana"/>
              </a:rPr>
              <a:t>إذا قال الطفل الرقم، ولكنه لم يحرك شيئا، أو حرك أكثر من شيء، فإنه لم يتقن بعد مفهوم التناظر الأحادي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220400"/>
            <a:ext cx="77724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70c0"/>
                </a:solidFill>
                <a:latin typeface="Calibri"/>
              </a:rPr>
              <a:t>مستويات وأنواع التناظر الأحاد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371600" y="1943280"/>
            <a:ext cx="64008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91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efe"/>
                </a:solidFill>
                <a:latin typeface="Calibri"/>
              </a:rPr>
              <a:t>تتنوع انشطة تعلم المقابلة وفق خمس مستويات متدرجة</a:t>
            </a:r>
            <a:r>
              <a:rPr b="0" lang="ar-SA" sz="4000" spc="-1" strike="noStrike">
                <a:solidFill>
                  <a:srgbClr val="fffefe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050560" y="188640"/>
            <a:ext cx="69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95b3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Calibri"/>
              </a:rPr>
              <a:t>إدراك السمات الحسية لعناصر المقابلة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Calibri"/>
              </a:rPr>
              <a:t>يتدرج هذا النشاط من السهولة إلى الصعوبة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في البداية نقدم أشياء حقيقية غير متشابه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مثل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:كل صحن ملعقة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ثم ننتقل الى الاشياء الحقيقية المشابه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مثل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جموعتين مكعبات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ثم ننتقل الى الصورغير المتشابه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مثل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(لكل صاحب مهنة ادا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ثم ننتقل الى الصور المتشابهة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مثل: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صور دوائر صفراء وحمراء مثل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2268000" y="1197000"/>
            <a:ext cx="6418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00"/>
              </a:spcBef>
              <a:buClr>
                <a:srgbClr val="95b3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Calibri"/>
              </a:rPr>
              <a:t>عدد العناصر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00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نبدأ باقل من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حتى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عناص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00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00"/>
              </a:spcBef>
              <a:buClr>
                <a:srgbClr val="95b3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Calibri"/>
              </a:rPr>
              <a:t>المجسمات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00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نبدأ بالأشياء الحقيقية والشائعة بالنسبة للطفل مثل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دمى وسيارات،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في المستوى الثاني نستخدم اشكال مقصوصة مثل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اشكال الهندسية،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بعدها ننتقل الى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صور الاشياء الحقيقي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، وفي المستوى الرابع ممكن ان ننتقل الى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رموز والنماذج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مثلا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مع اربعة دوائ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00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22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خصائص التصني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2373480"/>
            <a:ext cx="822960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lvl="1" marL="623880" indent="-267480" algn="r" rtl="1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هارة التصنيف تعتبر من </a:t>
            </a:r>
            <a:r>
              <a:rPr b="1" lang="ar-SA" sz="2600" spc="-1" strike="noStrike">
                <a:solidFill>
                  <a:srgbClr val="ffc000"/>
                </a:solidFill>
                <a:latin typeface="Times New Roman"/>
                <a:cs typeface="Times New Roman"/>
              </a:rPr>
              <a:t>أول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مهارات التي يكتسبها العقل البشري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67480" algn="r" rtl="1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د مهارة التصنيف </a:t>
            </a:r>
            <a:r>
              <a:rPr b="1" lang="ar-SA" sz="2600" spc="-1" strike="noStrike">
                <a:solidFill>
                  <a:srgbClr val="ffc000"/>
                </a:solidFill>
                <a:latin typeface="Times New Roman"/>
                <a:cs typeface="Times New Roman"/>
              </a:rPr>
              <a:t>الأساس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ذي يبنى عليه  تعلم المفاهيم الرياضية اللاحقة 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67480" algn="r" rtl="1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ضمن التصنيف القدرة على </a:t>
            </a:r>
            <a:r>
              <a:rPr b="1" lang="ar-SA" sz="2600" spc="-1" strike="noStrike">
                <a:solidFill>
                  <a:srgbClr val="ffc000"/>
                </a:solidFill>
                <a:latin typeface="Times New Roman"/>
                <a:cs typeface="Times New Roman"/>
              </a:rPr>
              <a:t>التمييز البصري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فالطفل بحاجة إلى ان يميز بصرياً  الأشكال والأحجام والألوان حتى يتمكن من تصنيفها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67480" algn="r" rtl="1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ضمن التصنيف القدرة على </a:t>
            </a:r>
            <a:r>
              <a:rPr b="1" lang="ar-SA" sz="2600" spc="-1" strike="noStrike">
                <a:solidFill>
                  <a:srgbClr val="ffc000"/>
                </a:solidFill>
                <a:latin typeface="Times New Roman"/>
                <a:cs typeface="Times New Roman"/>
              </a:rPr>
              <a:t>المقارنة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ن الأشياء.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908000" y="476280"/>
            <a:ext cx="6778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00"/>
              </a:spcBef>
              <a:buClr>
                <a:srgbClr val="95b3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Calibri"/>
              </a:rPr>
              <a:t>درجة الارتباط الطبيعي بين مجموعتي المقابل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نبدأ بالمجموعات المرتبطة ارتباطاً طبيعياً  لأنها اسهل مثلا 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</a:rPr>
              <a:t>(قدم- حذاء ، صحن- فنجان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ثم نستطيع ان ننتقل الى اقامة مقابلة بين عناصر مجموعات    لا يربطها ارتباط طبيعي مثل 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</a:rPr>
              <a:t>(كرة- صندو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00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00"/>
              </a:spcBef>
              <a:buClr>
                <a:srgbClr val="95b3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Calibri"/>
              </a:rPr>
              <a:t>مقابلة المجموعات المتساوية وغير المتساوية عددياً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مقابلة بين المجموعات غير المتساوية عدديا صعب على الطفل ويجعله غير متأكد من أدائ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00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46c0a"/>
                </a:solidFill>
                <a:latin typeface="Calibri"/>
              </a:rPr>
              <a:t>المشروع العملي الأول 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94920" y="404640"/>
            <a:ext cx="8209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d99694"/>
                </a:solidFill>
                <a:uFillTx/>
                <a:latin typeface="Calibri"/>
              </a:rPr>
              <a:t>المشروع الأو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. التصني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قوم الطالبة بعمل وسيلة تصني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(التصنيف المتعدد) لركن الإدرا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كتابة التحضير خلال المحاضرة القادم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r" rtl="1">
              <a:lnSpc>
                <a:spcPct val="9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 u="sng">
                <a:solidFill>
                  <a:srgbClr val="e46c0a"/>
                </a:solidFill>
                <a:uFillTx/>
                <a:latin typeface="Calibri"/>
              </a:rPr>
              <a:t>2</a:t>
            </a:r>
            <a:r>
              <a:rPr b="1" lang="ar-SA" sz="3300" spc="-1" strike="noStrike" u="sng">
                <a:solidFill>
                  <a:srgbClr val="e46c0a"/>
                </a:solidFill>
                <a:uFillTx/>
                <a:latin typeface="Calibri"/>
              </a:rPr>
              <a:t>. التناظرالاحادي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5000"/>
              </a:lnSpc>
              <a:spcBef>
                <a:spcPts val="751"/>
              </a:spcBef>
              <a:buClr>
                <a:srgbClr val="95b3d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تخطط الطالبة لنشاط تناظر احادي مناسب لركن الأدراك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5000"/>
              </a:lnSpc>
              <a:spcBef>
                <a:spcPts val="751"/>
              </a:spcBef>
              <a:buClr>
                <a:srgbClr val="95b3d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لا تقل عدد عناصر المقابلة عن 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 عناصر يقابلها 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 عناصر اخرى ولا تزيد عن 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5000"/>
              </a:lnSpc>
              <a:spcBef>
                <a:spcPts val="751"/>
              </a:spcBef>
              <a:buClr>
                <a:srgbClr val="95b3d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تبتعد الطالبة عن استخدام الاعداد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5000"/>
              </a:lnSpc>
              <a:spcBef>
                <a:spcPts val="751"/>
              </a:spcBef>
              <a:buClr>
                <a:srgbClr val="95b3d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ان تكون عناصر المقابلة  بينها ارتباط طبيعي، ويجمعها موضوع واحد مثل (مقابلة الحيوانات ومساكنها) (مقابلة المهن مع ادواتها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220400"/>
            <a:ext cx="77724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46c0a"/>
                </a:solidFill>
                <a:latin typeface="Calibri"/>
              </a:rPr>
              <a:t>معايير صنع الوسيلة</a:t>
            </a:r>
            <a:r>
              <a:rPr b="1" lang="ar-SA" sz="4400" spc="-1" strike="noStrike">
                <a:solidFill>
                  <a:srgbClr val="e46c0a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22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efe"/>
                </a:solidFill>
                <a:latin typeface="Calibri"/>
              </a:rPr>
              <a:t>معايير صنع الوسيل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250920" y="1125360"/>
            <a:ext cx="86630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مع مراعاة ما يلي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وضع </a:t>
            </a:r>
            <a:r>
              <a:rPr b="1" lang="ar-SA" sz="2400" spc="-1" strike="noStrike">
                <a:solidFill>
                  <a:srgbClr val="d99694"/>
                </a:solidFill>
                <a:latin typeface="Calibri"/>
              </a:rPr>
              <a:t>قاعد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تجمع اجزاء الوسيلة ( سلة – ملف – لوح – سبورة .. الخ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ابداع والتميز والتجديد في فكرة التقديم والوسائ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ن تراعي </a:t>
            </a:r>
            <a:r>
              <a:rPr b="1" lang="ar-SA" sz="2400" spc="-1" strike="noStrike">
                <a:solidFill>
                  <a:srgbClr val="d99694"/>
                </a:solidFill>
                <a:latin typeface="Calibri"/>
              </a:rPr>
              <a:t>متان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الوسيلة </a:t>
            </a:r>
            <a:r>
              <a:rPr b="1" lang="ar-SA" sz="2400" spc="-1" strike="noStrike">
                <a:solidFill>
                  <a:srgbClr val="d99694"/>
                </a:solidFill>
                <a:latin typeface="Calibri"/>
              </a:rPr>
              <a:t>وتغليف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البطاقات ان وجد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تكون على دراية تامة </a:t>
            </a:r>
            <a:r>
              <a:rPr b="1" lang="ar-SA" sz="2400" spc="-1" strike="noStrike">
                <a:solidFill>
                  <a:srgbClr val="d99694"/>
                </a:solidFill>
                <a:latin typeface="Calibri"/>
              </a:rPr>
              <a:t>بالأهداف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التي تحققها الوسيلة وكيفية تقديمها للطفل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ن تكون الادوات مناسبة من ناحية </a:t>
            </a:r>
            <a:r>
              <a:rPr b="1" lang="ar-SA" sz="2400" spc="-1" strike="noStrike">
                <a:solidFill>
                  <a:srgbClr val="d99694"/>
                </a:solidFill>
                <a:latin typeface="Calibri"/>
              </a:rPr>
              <a:t>الحج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للرك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تقدم الطالبة </a:t>
            </a:r>
            <a:r>
              <a:rPr b="1" lang="ar-SA" sz="2400" spc="-1" strike="noStrike">
                <a:solidFill>
                  <a:srgbClr val="d99694"/>
                </a:solidFill>
                <a:latin typeface="Calibri"/>
              </a:rPr>
              <a:t>ورقة تحضير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للوسيل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ستخدام خامات عملية ( الجوخ – الورق – الفلين المرن/ السومو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أن تحقق الوسيلة أكثر من هدف في وقت واحد ( تعدد الاستخدا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صحة المفهو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إمكانية التدرج في مستوى الصعوب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000"/>
                </a:solidFill>
                <a:latin typeface="Times New Roman"/>
              </a:rPr>
              <a:t>مثا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484000" y="1557360"/>
            <a:ext cx="6270840" cy="42480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5b3d7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تجمع أمام منزل أحد الأئمة عدد كبير من الناس كل منهم يريد الفتوى في أمر يهمه وكان منزل الإمام لا يسع إلا لعشرين شخصًا ، فإذا سمع الإمام لكل واحد منهم منفردًا فسيستغرق ذلك وقتا طويلا ، فماذا يفعل الإمام حتى يحل هذه المشكلة ؟؟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1f497d"/>
                </a:solidFill>
                <a:uFillTx/>
                <a:latin typeface="Calibri"/>
              </a:rPr>
              <a:t>فكر الإمام وقام بحل هذه المشكلة بواسطة مهارة التصنيف ؟؟ كيف 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 rtl="1">
              <a:spcBef>
                <a:spcPts val="601"/>
              </a:spcBef>
              <a:buClr>
                <a:srgbClr val="95b3d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Times New Roman"/>
              </a:rPr>
              <a:t>مراحل التصني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979640" y="1752480"/>
            <a:ext cx="69134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 algn="r" rtl="1">
              <a:lnSpc>
                <a:spcPct val="150000"/>
              </a:lnSpc>
              <a:spcBef>
                <a:spcPts val="700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بدء بالتصنيف بناء على </a:t>
            </a:r>
            <a:r>
              <a:rPr b="1" lang="ar-SA" sz="2800" spc="-1" strike="noStrike">
                <a:solidFill>
                  <a:srgbClr val="d99694"/>
                </a:solidFill>
                <a:latin typeface="Calibri"/>
              </a:rPr>
              <a:t>خاصية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واحد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5160" indent="-425160" algn="r" rtl="1">
              <a:lnSpc>
                <a:spcPct val="150000"/>
              </a:lnSpc>
              <a:spcBef>
                <a:spcPts val="700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بعد إتقان السابق نستطيع ان ننتقل الى التصنيف بناء على الاشتراك في </a:t>
            </a:r>
            <a:r>
              <a:rPr b="1" lang="ar-SA" sz="2800" spc="-1" strike="noStrike">
                <a:solidFill>
                  <a:srgbClr val="d99694"/>
                </a:solidFill>
                <a:latin typeface="Calibri"/>
              </a:rPr>
              <a:t>خاصيتين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في آن واح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5160" indent="-425160" algn="r" rtl="1">
              <a:lnSpc>
                <a:spcPct val="150000"/>
              </a:lnSpc>
              <a:spcBef>
                <a:spcPts val="700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يصل الطفل للمفاهيم الخاصة بالتصنيف كل حسب </a:t>
            </a:r>
            <a:r>
              <a:rPr b="1" lang="ar-SA" sz="2800" spc="-1" strike="noStrike">
                <a:solidFill>
                  <a:srgbClr val="d99694"/>
                </a:solidFill>
                <a:latin typeface="Calibri"/>
              </a:rPr>
              <a:t>سرعته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الخاصة في النمو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7138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لتنمو مهارة التصنيف بشكل متكامل يجب تحقيق شرطين أساسيين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195640" y="1773360"/>
            <a:ext cx="712944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82620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4f81bd"/>
                </a:solidFill>
                <a:uFillTx/>
                <a:latin typeface="Verdana"/>
              </a:rPr>
              <a:t>1</a:t>
            </a:r>
            <a:r>
              <a:rPr b="1" lang="ar-SA" sz="2600" spc="-1" strike="noStrike" u="sng">
                <a:solidFill>
                  <a:srgbClr val="4f81bd"/>
                </a:solidFill>
                <a:uFillTx/>
                <a:latin typeface="Verdana"/>
              </a:rPr>
              <a:t>- تنمية الإدراك الحسي للطفل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620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 عن طريق توظيف الحواس للتعرف على الأشياء ووصفها وتصنيفها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620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82620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4f81bd"/>
                </a:solidFill>
                <a:uFillTx/>
                <a:latin typeface="Verdana"/>
              </a:rPr>
              <a:t>2</a:t>
            </a:r>
            <a:r>
              <a:rPr b="1" lang="ar-SA" sz="2600" spc="-1" strike="noStrike" u="sng">
                <a:solidFill>
                  <a:srgbClr val="4f81bd"/>
                </a:solidFill>
                <a:uFillTx/>
                <a:latin typeface="Verdana"/>
              </a:rPr>
              <a:t>- تنمية العمليات العقلية لدى الطفل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620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ويقصد به قدرته على تحليل الأشياء والأحداث واكتشاف أوجه الشبة والاختلاف بينها في ضوء خصائص محسوسة أو مجردة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98240" algn="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98240" algn="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تعد هذه المهارة إحدى المكونات الأساسية </a:t>
            </a:r>
            <a:r>
              <a:rPr b="1" lang="ar-SA" sz="2600" spc="-1" strike="noStrike">
                <a:solidFill>
                  <a:srgbClr val="ff3399"/>
                </a:solidFill>
                <a:latin typeface="Verdana"/>
              </a:rPr>
              <a:t>للتفكير المنطقي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مستطيل 3"/>
          <p:cNvSpPr/>
          <p:nvPr/>
        </p:nvSpPr>
        <p:spPr>
          <a:xfrm>
            <a:off x="503280" y="137304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54061"/>
                </a:solidFill>
                <a:latin typeface="Times New Roman"/>
                <a:cs typeface="Times New Roman"/>
              </a:rPr>
              <a:t>يتعلم الاطفال تجميع الأشياء باستخدام عدد من أنواع الملامح المألوفة مثل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عنصر نائب للمحتوى 2"/>
          <p:cNvSpPr/>
          <p:nvPr/>
        </p:nvSpPr>
        <p:spPr>
          <a:xfrm>
            <a:off x="0" y="2149560"/>
            <a:ext cx="90360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5416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46c0a"/>
                </a:solidFill>
                <a:latin typeface="Gill Sans MT"/>
              </a:rPr>
              <a:t>اللون: </a:t>
            </a: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الأشياء يمكن أن تكون معاً لأنها كلها لونها </a:t>
            </a:r>
            <a:r>
              <a:rPr b="1" lang="ar-SA" sz="2400" spc="-1" strike="noStrike">
                <a:solidFill>
                  <a:srgbClr val="ff0000"/>
                </a:solidFill>
                <a:latin typeface="Gill Sans MT"/>
              </a:rPr>
              <a:t>احمر</a:t>
            </a: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8320" indent="-25416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46c0a"/>
                </a:solidFill>
                <a:latin typeface="Gill Sans MT"/>
              </a:rPr>
              <a:t>الشكل: </a:t>
            </a: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الاشياء قد تكون مستديرة , مربعة , مستطيل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8320" indent="-25416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46c0a"/>
                </a:solidFill>
                <a:latin typeface="Gill Sans MT"/>
              </a:rPr>
              <a:t>الحجم: </a:t>
            </a: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هناك بعض الأشياء كبيرة وبعضها صغيرة بعضها ممتلئ وبعضها رفيع بعضها قصير وبعضها طويل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8320" indent="-25416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46c0a"/>
                </a:solidFill>
                <a:latin typeface="Gill Sans MT"/>
              </a:rPr>
              <a:t>الخامات: </a:t>
            </a: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الاشياء التي يمكن ان تكون مصنوعة من خامات مختلفة كالخشب, البلاستيك, او الزجاج او الورق او القماش او المعد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8320" indent="-25416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46c0a"/>
                </a:solidFill>
                <a:latin typeface="Gill Sans MT"/>
              </a:rPr>
              <a:t>النمط: </a:t>
            </a: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الاشياء قد تتميز بأنماط بصرية مختلفة مثل الشرائط, النقاط, الزهور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مستطيل 3"/>
          <p:cNvSpPr/>
          <p:nvPr/>
        </p:nvSpPr>
        <p:spPr>
          <a:xfrm>
            <a:off x="324000" y="1557360"/>
            <a:ext cx="8569080" cy="66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46c0a"/>
                </a:solidFill>
                <a:latin typeface="Gill Sans MT"/>
              </a:rPr>
              <a:t>الملمس</a:t>
            </a:r>
            <a:r>
              <a:rPr b="1" lang="ar-SA" sz="2400" spc="-1" strike="noStrike">
                <a:solidFill>
                  <a:srgbClr val="e6b9b8"/>
                </a:solidFill>
                <a:latin typeface="Gill Sans MT"/>
              </a:rPr>
              <a:t>: </a:t>
            </a: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الأشياء يمكن أن يكون لها ملامس مختلفة عن بعضها البعض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8260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( فبعضها ناعم , خشن , طري , صلب , رطب , جاف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8260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8260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46c0a"/>
                </a:solidFill>
                <a:latin typeface="Gill Sans MT"/>
              </a:rPr>
              <a:t>الوظيفة: </a:t>
            </a: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بعض الأشياء تؤدي نفس الوظيفة أو انها تستخدم لأداء نفس الشي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8260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(كل هذه لأجل تناول الطعام , الكتابة , عزف الموسيقى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8260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8260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46c0a"/>
                </a:solidFill>
                <a:latin typeface="Gill Sans MT"/>
              </a:rPr>
              <a:t>فئات الاسماء: </a:t>
            </a: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هناك اسماء تنتمي لعدة اشيا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8260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(أشخاص – حيوانات – طعام – وسائل مواصلات – اسلحة – ملابس – منازل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16:19:23Z</dcterms:created>
  <dc:creator>Hala</dc:creator>
  <dc:description/>
  <dc:language>en-US</dc:language>
  <cp:lastModifiedBy>Maha</cp:lastModifiedBy>
  <dcterms:modified xsi:type="dcterms:W3CDTF">2016-10-30T18:34:41Z</dcterms:modified>
  <cp:revision>162</cp:revision>
  <dc:subject/>
  <dc:title>التصنيف</dc:title>
</cp:coreProperties>
</file>