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0F9-9B75-40C5-B351-07C9ED3A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89E-E270-47DB-A374-43C22AE4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0F1F-EC3C-43E2-9A3D-25C46F8D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0E8-FBB0-49ED-B1D6-6C3BE1A6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0836-276D-4A9D-BC1A-74A7C8AB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E31F-3267-46EE-A94C-C01A061C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C94-4E8C-4382-8210-94FE39A6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4B7D-F80E-47E9-AD2E-81240A8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818C5-7370-4F4C-9A63-0675793E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A07C-7782-424E-A2B0-F60767A3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00D9-31D6-4F7C-BBA8-B3EEEF5F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A2E5-80E1-4BEA-AF4F-4E42FBA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750F-5DA3-4EFB-8D98-E9CE6D83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AD71-53CE-48C7-8B3C-2FCD5F30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EC39-CBDA-4AC1-B414-9AE0CE08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90F-5A7A-4AC7-9596-C92BB5F6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9589-4F52-4302-BCBA-BA6A4A779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E3E8-C3BF-4994-83CD-24B543B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620FA-E961-4830-9DA1-4188097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CC887-77F3-451C-9D03-9A470710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37A19-E006-495D-AA98-688D1DBC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DB340-2EDD-4AEA-8384-96F30271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AF1-66EB-4DC1-A34B-F14FD721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F286-EF58-468B-AF8A-D9E921E6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4E9A-ED16-4BB5-AFA8-98FE7085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75F0D-3FA3-40F8-AD3F-BF7434E3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EE98-F79D-436E-BCFA-8904381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C3520-5429-4EFA-BE6E-8B03E7D8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A792-29D9-4F54-A707-34316FD6F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FEA4F-0E00-49E2-AE92-6334C8B7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92513-AE90-491A-BE96-99EA1535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1084E-4F77-4881-B9D1-74652550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E685-2C1D-47E1-8C0E-636F9B8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738-310D-4F87-A081-9570325D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1F35-E3B1-4C84-9D01-5C6B87C3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ED5FC-D9F2-4AFA-8659-30B7826D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10034-C1F6-4BB6-99FD-A216E1CD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BB0D-3B32-43B8-84EB-2908249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0C5B2-9C7E-4DD5-AF79-E8F4242A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D082E-BF5F-4797-AF40-ED68214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67B5-C79E-48EB-BB94-3B1D488F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52D7-A529-4E01-8C8F-4E49C461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50DB-24A6-4622-BBDE-F2AE6E19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3FC2A-0791-444D-9B6F-64C67AF9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33E-50EC-4F18-8982-B6C30FAA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E504F-3A3D-41FA-AD88-8731DDE4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D15BD-22D2-41A5-B1D5-B0A17478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04079-D09C-4892-A74D-12FD5FB6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23903-E085-4C35-B9D4-4CB3C290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63BA-42BF-46D0-B98C-51FCA4A3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761D-FA05-4DEC-9EC1-A84FEAF0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42789-F3D9-46E3-A76D-2F26C5E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641E8-510F-46E9-A1AD-E98FFE8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CF92-48D4-415A-95EE-01FE0596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B3661-EE53-44FF-BBF7-EBF64864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6E6-1797-4E0A-BD45-D4D0DA7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CB62A-AD44-440E-8FE1-330178750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CE13-AE7C-42FA-98AC-4CBF916A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E5FF-EE70-4BB8-987F-260CDE16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BFBE7-6133-431A-B71B-9FDCF942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B231-FB32-46E2-B172-F9400239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B35AC-C7C0-4810-9EE2-0F679B3D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A2E22-74F7-4FE0-826D-C7A9F7A0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6DF5-DED2-4B5D-B15A-B9D0968D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EEF7-92E8-4D07-831C-0DDA529F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3C862-65A7-4713-BFD2-94AD18FB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5574-2E4D-490A-AC8C-FED9F2BE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1FCDA-41DD-4D3A-A844-0EF28F43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06711-85BE-436A-AA9E-5659C0A3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AE8A3-EA84-45E7-AFFB-10C61106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45E0-C921-4B6C-B474-2FAA04F4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6575F-C42D-44D9-89EE-9C06CB81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7E92-91A9-410F-AFC2-47E7FB1C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A1DB5-0A91-49F2-AB7D-8FDF5288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17A64-EC38-4BE0-AFC5-BA4111F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988F9-9649-4DF5-A6CE-97C8A03E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6A8CB-6149-4E6D-AA4D-FCB8C9F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E75-5900-4795-924A-9C1E5EB8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4709A-80B4-4E5A-91E6-6914D96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C80A2-5CC2-45B4-BB79-00734D80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EAD35-793C-45AB-BC5E-0F90EC4E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32F6D-610C-4F03-BCAD-486DDC15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646B0-79C1-4924-87A6-8C5C89B93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C018-F517-49F9-A437-A537A6C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79236-750B-430E-A020-D6FB83EE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D52E2-04F4-4472-ACCD-840D2A45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93FD-B954-4DE4-9C51-0CD529AF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8552E-F72B-409D-A182-6DF6147D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1A8-3B84-4426-8E8B-6539A4FA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EBD3-F8E7-4FF5-8549-D9AD620E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BF63A-07FC-4B64-A427-09BF691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AF080-C951-4FAA-8200-F2718D7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E9DAB-5005-4F00-8792-35A90668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DAED0-B82A-4142-88AF-53C4A036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6E37-B4CF-4B0C-AF69-77C4F311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408F3-8286-483C-A598-8C0CDF97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C155-2C97-4DC5-8AF9-DD0CFCCF20E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A3E2-71FA-4B23-9D6A-E185A68D55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C86E-3557-4451-BC54-BC7680F0BD9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EE6D-C102-4DCB-BD73-698690F7A1C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FC20-FA61-4FE6-9884-F61297A936B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9905-A7FB-429F-96A4-B0B9A7B33B1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59CE-CC7B-460C-8E5C-0E01715A6CB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6854-F41C-4CDD-94F6-2240B8B75F9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amazon.com/gp/product/B0014DHVPE/ref=as_li_ss_tl?ie=UTF8&amp;camp=1789&amp;creative=390957&amp;creativeASIN=B0014DHVPE&amp;linkCode=as2&amp;tag=wonderbaby04-20" TargetMode="External"/><Relationship Id="rId2" Type="http://schemas.openxmlformats.org/officeDocument/2006/relationships/hyperlink" Target="http://www.amazon.com/gp/product/B0012APD7C/ref=as_li_ss_tl?ie=UTF8&amp;camp=1789&amp;creative=390957&amp;creativeASIN=B0012APD7C&amp;linkCode=as2&amp;tag=wonderbaby04-20" TargetMode="External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9pp4zdlw3FI" TargetMode="External"/><Relationship Id="rId2" Type="http://schemas.openxmlformats.org/officeDocument/2006/relationships/hyperlink" Target="https://www.youtube.com/watch?v=BVswl7CHPiM" TargetMode="External"/><Relationship Id="rId3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00"/>
                </a:solidFill>
                <a:latin typeface="Andalus"/>
                <a:cs typeface="Andalus"/>
              </a:rPr>
              <a:t>التصنيف والتناظر الأحادي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76092"/>
                </a:solidFill>
                <a:latin typeface="Calibri"/>
              </a:rPr>
              <a:t>كيف يتم التصنيف 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376092"/>
                </a:solidFill>
                <a:uFillTx/>
                <a:latin typeface="Calibri"/>
              </a:rPr>
              <a:t>القياس القب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250920" y="2060280"/>
            <a:ext cx="8642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376092"/>
                </a:solidFill>
                <a:uFillTx/>
                <a:latin typeface="Gill Sans MT"/>
                <a:cs typeface="Majalla UI"/>
              </a:rPr>
              <a:t>ملاحظة أنشطة لعب الأطفال الحر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46c0a"/>
                </a:solidFill>
                <a:latin typeface="Gill Sans MT"/>
                <a:cs typeface="Majalla UI"/>
              </a:rPr>
              <a:t>هل يقومون بفصل الاشياء و تجميعها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  <a:ea typeface="Majalla UI"/>
              </a:rPr>
              <a:t>( مثل: بناء مواقف احدهما للسيارات الصغيرة و آخر للسيارات الكبيرة – الاولاد يلعبون كفريق والبنات كفريق مقابل ....الخ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376092"/>
                </a:solidFill>
                <a:uFillTx/>
                <a:latin typeface="Gill Sans MT"/>
                <a:cs typeface="Majalla UI"/>
              </a:rPr>
              <a:t>تكليف الأطفال بمهام التصنيف و تكوين فئات بناء على محكات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e46c0a"/>
                </a:solidFill>
                <a:latin typeface="Gill Sans MT"/>
                <a:ea typeface="Majalla UI"/>
              </a:rPr>
              <a:t> مثل اللون – الحجم – النوع .....ال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ومن المهم سؤال الطفل عن السبب الذى جعله يضم هذا العنصر او ذاك في هذه الفئة – لماذا في رأيك ينتمى هذا العنصر الى هذه الفئة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520" indent="-245520" algn="r" rtl="1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19280" y="333360"/>
            <a:ext cx="7005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6b9b8"/>
                </a:solidFill>
                <a:latin typeface="Calibri"/>
              </a:rPr>
              <a:t>انشطة تدعم اكتساب المفهوم</a:t>
            </a:r>
            <a:r>
              <a:rPr b="0" lang="ar-SA" sz="4000" spc="-1" strike="noStrike">
                <a:solidFill>
                  <a:srgbClr val="e6b9b8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9280" y="1483920"/>
            <a:ext cx="8569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1</a:t>
            </a: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- انشطة طبيعية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المعروف ان الاطفال منذ سن صغيرة يبدأون في تكوين مجموعات – و بوصولهم الى سن </a:t>
            </a:r>
            <a:r>
              <a:rPr b="1" lang="ar-SA" sz="3000" spc="-1" strike="noStrike">
                <a:solidFill>
                  <a:srgbClr val="ffff00"/>
                </a:solidFill>
                <a:latin typeface="Gill Sans MT"/>
                <a:cs typeface="Majalla UI"/>
              </a:rPr>
              <a:t>الثالثة</a:t>
            </a:r>
            <a:r>
              <a:rPr b="1" lang="ar-SA" sz="3000" spc="-1" strike="noStrike">
                <a:solidFill>
                  <a:srgbClr val="000000"/>
                </a:solidFill>
                <a:latin typeface="Gill Sans MT"/>
                <a:ea typeface="Majalla UI"/>
              </a:rPr>
              <a:t> يبدأون في فصل الاشياء لأغراض متعددة مثل فصل ما يحتاجه من ادوات اللعب – انتقاء الحيوانات المفترسة لتكوين حديقة الحيوانات – الدمى التي تمثل البشر لتمثيل مشاهد تخص الاسرة ....ال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2</a:t>
            </a:r>
            <a:r>
              <a:rPr b="1" lang="ar-SA" sz="3000" spc="-1" strike="noStrike" u="sng">
                <a:solidFill>
                  <a:srgbClr val="e6b9b8"/>
                </a:solidFill>
                <a:uFillTx/>
                <a:latin typeface="Gill Sans MT"/>
                <a:ea typeface="Majalla UI"/>
              </a:rPr>
              <a:t>- أنشطة غير رسمية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خلال </a:t>
            </a:r>
            <a:r>
              <a:rPr b="1" lang="ar-SA" sz="3000" spc="-1" strike="noStrike">
                <a:solidFill>
                  <a:srgbClr val="ffff00"/>
                </a:solidFill>
                <a:latin typeface="Gill Sans MT"/>
                <a:cs typeface="Majalla UI"/>
              </a:rPr>
              <a:t>اظهار الاهتمام و التشجيع لما يقوم به الاطفال </a:t>
            </a:r>
            <a:r>
              <a:rPr b="1" lang="ar-SA" sz="3000" spc="-1" strike="noStrike">
                <a:solidFill>
                  <a:srgbClr val="000000"/>
                </a:solidFill>
                <a:latin typeface="Gill Sans MT"/>
                <a:cs typeface="Majalla UI"/>
              </a:rPr>
              <a:t>من انشطة فصل و تجميع و التعليق عليها بهدف بناء القاموس اللغوي للأطفال المتعلق بالتصنيف و من خلال طرح الاسئلة المتعلقة بذلك مثل : لقد استخدمت كل القطع الزرقاء لبناء البيت – بإمكانك وضع الحيوانات المتوحشة في هذه الناحية والحيوانات الاليفة في الناحية الاخرى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80000"/>
              </a:lnSpc>
              <a:spcBef>
                <a:spcPts val="75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 u="sng">
                <a:solidFill>
                  <a:srgbClr val="d99694"/>
                </a:solidFill>
                <a:uFillTx/>
                <a:latin typeface="Gill Sans MT"/>
                <a:ea typeface="Majalla UI"/>
              </a:rPr>
              <a:t>3</a:t>
            </a:r>
            <a:r>
              <a:rPr b="1" lang="ar-SA" sz="2500" spc="-1" strike="noStrike" u="sng">
                <a:solidFill>
                  <a:srgbClr val="d99694"/>
                </a:solidFill>
                <a:uFillTx/>
                <a:latin typeface="Gill Sans MT"/>
                <a:ea typeface="Majalla UI"/>
              </a:rPr>
              <a:t>- انشطة محددة البناء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cs typeface="Majalla UI"/>
              </a:rPr>
              <a:t>يمكن تصميم أنشطة لمعاونة الأطفال على عملية بناء مجموعات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ea typeface="Majalla UI"/>
              </a:rPr>
              <a:t> مثل توفير عدة اشياء مختلفة لها نفس اللون و اربعة اشياء كل منها من لون مختلف، و يطلب من الطفل فصل الاشياء وجمعها بناء على اللون 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0000"/>
                </a:solidFill>
                <a:latin typeface="Gill Sans MT"/>
                <a:cs typeface="Majalla UI"/>
              </a:rPr>
              <a:t>أو حمل جسم لونه احمر مثلا و نطلب من الطفل ان يحاول العثور على اجسام اخرى لها نفس هذا اللون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69840" algn="r" rtl="1">
              <a:lnSpc>
                <a:spcPct val="130000"/>
              </a:lnSpc>
              <a:spcBef>
                <a:spcPts val="624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69231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تقييم البعدي</a:t>
            </a: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6840" y="1752120"/>
            <a:ext cx="82184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يمكن ملاحظة عمليات فصل الاشياء و تجميعها اثناء لعب الاطفال الطبيعي, اذ لا بد ان نلاحظ تزايدا في ميل الأطفال للتصنيف في مواقف اللعب الطبيعي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كما يجب ان يظهر الاطفال قدرات متزايدة على اطلاق التسميات الصحيحة على ما يكونونه من مجموعات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Gill Sans MT"/>
                <a:cs typeface="Majalla UI"/>
              </a:rPr>
              <a:t>و في النهاية يمكن اللجوء الى التقييم الاكثر بنائية و تحديدا من خلال انشطة البطاقات او المهام العملية التي نكلفهم بها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4720" indent="-251280" algn="r" rtl="1">
              <a:lnSpc>
                <a:spcPct val="140000"/>
              </a:lnSpc>
              <a:spcBef>
                <a:spcPts val="64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ما الفرق بين التصنيف والتطابق؟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مستطيل 1"/>
          <p:cNvSpPr/>
          <p:nvPr/>
        </p:nvSpPr>
        <p:spPr>
          <a:xfrm>
            <a:off x="444600" y="1484280"/>
            <a:ext cx="806436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e46c0a"/>
                </a:solidFill>
                <a:uFillTx/>
                <a:latin typeface="Verdana"/>
              </a:rPr>
              <a:t>التصنيف والتجميع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قوم بها الطفل باستخدام أشياء </a:t>
            </a:r>
            <a:r>
              <a:rPr b="1" lang="ar-SA" sz="2400" spc="-1" strike="noStrike">
                <a:solidFill>
                  <a:srgbClr val="ff0000"/>
                </a:solidFill>
                <a:latin typeface="Verdana"/>
              </a:rPr>
              <a:t>عديدة 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يجمعها بناء على الاشتراك في خاصية مثل اللون أو الشكل او الحج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 rtl="1">
              <a:lnSpc>
                <a:spcPct val="15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اما في </a:t>
            </a:r>
            <a:r>
              <a:rPr b="1" lang="ar-SA" sz="2400" spc="-1" strike="noStrike" u="sng">
                <a:solidFill>
                  <a:srgbClr val="e46c0a"/>
                </a:solidFill>
                <a:uFillTx/>
                <a:latin typeface="Verdana"/>
              </a:rPr>
              <a:t>التطابق</a:t>
            </a:r>
            <a:r>
              <a:rPr b="1" lang="ar-SA" sz="2400" spc="-1" strike="noStrike">
                <a:solidFill>
                  <a:srgbClr val="000000"/>
                </a:solidFill>
                <a:latin typeface="Verdana"/>
              </a:rPr>
              <a:t> يقوم الطفل باستخدام صورة وصورة أخرى طبق الأصل او أداة وأداة اخرى طبق الأصل او يوصل شكلين متطابقين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أيهما وسيلة تصنيف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722760" cy="28735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396900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صنيف أم مطابقة 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1372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تصنيف أم مطابقة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Content Placeholder 3" descr=""/>
          <p:cNvPicPr/>
          <p:nvPr/>
        </p:nvPicPr>
        <p:blipFill>
          <a:blip r:embed="rId1"/>
          <a:stretch/>
        </p:blipFill>
        <p:spPr>
          <a:xfrm>
            <a:off x="2227320" y="2373480"/>
            <a:ext cx="468936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0000"/>
                </a:solidFill>
                <a:latin typeface="Calibri"/>
              </a:rPr>
              <a:t>المقارن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مستطيل 2"/>
          <p:cNvSpPr/>
          <p:nvPr/>
        </p:nvSpPr>
        <p:spPr>
          <a:xfrm>
            <a:off x="1763640" y="1628640"/>
            <a:ext cx="6985080" cy="67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تشير توقعات الجودة في مناهج الرياضيات الى ضرورة تمكن الاطفال من الربط بين الخامات المادية و فهم الصفات والعلاقات الخاصة بالطول والسعة والوزن والمساحة والحجم ودرجة الحرارة, و ذلك من خلال القيام بعمليات المقارنة البسيطة, وان الاطفال يجب ان يكونوا قادرين على وصف التغيرات وصفا كيفيا مثل اطول من – اثقل من – اسرع من وكل ذلك يعكس فهم الطفل لمفاهيم المقارنة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و يمكن ادماج مفاهيم المقارنة في مجالات المنهج المختلف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403280" y="764640"/>
            <a:ext cx="64008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ar-SA" sz="5400" spc="-1" strike="noStrike">
                <a:solidFill>
                  <a:srgbClr val="ff0000"/>
                </a:solidFill>
                <a:latin typeface="Tahoma"/>
                <a:cs typeface="Tahoma"/>
              </a:rPr>
              <a:t>مهارة التصني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340000" y="1600200"/>
            <a:ext cx="6346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00"/>
                </a:solidFill>
                <a:latin typeface="Calibri"/>
              </a:rPr>
              <a:t>كيف تتم المقارنة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قياس القبل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من خلال ملاحظة الطفل اثناء انشطته العادية و اثناء </a:t>
            </a:r>
            <a:r>
              <a:rPr b="1" lang="ar-SA" sz="2200" spc="-1" strike="noStrike">
                <a:solidFill>
                  <a:srgbClr val="d99694"/>
                </a:solidFill>
                <a:latin typeface="Gill Sans MT"/>
              </a:rPr>
              <a:t>اللعب الحر </a:t>
            </a: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و ملاحظة كيف يتعامل مع المواقف التى تتضمن المقارنة بين شيئين هل يشير الى الدمى بان هذه كبيرة و تلك صغي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كذلك يمكن ملاحظة ما لديه من محصول لغوى يعكس الفهم لعمليات المقارن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Gill Sans MT"/>
              </a:rPr>
              <a:t>تكليف الطفل بمهمة تظهر القدرة على المقارنة كأن يشير الى الاشياء الكبيرة و الاخرى الصغيرة او الطويلة و القصيرة , او التى تحتوى على قطع اكثر و قطع اقل ....ال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6680" indent="-268200" algn="r" rtl="1">
              <a:lnSpc>
                <a:spcPct val="130000"/>
              </a:lnSpc>
              <a:spcBef>
                <a:spcPts val="55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نشطة لتنمية المفهوم</a:t>
            </a: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9694"/>
                </a:solidFill>
                <a:latin typeface="Gill Sans MT"/>
              </a:rPr>
              <a:t>انشطة طبيعية: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هناك مواقف عديدة ويومية تتضمن عمليات المقارنة مثل اجلس على المقعد الصغير فهذا كبير – تناول الشراب الآن فهو اصبح ابرد – لا تحمل هذه فهي ثقيلة يمكنك ان تحمل الاخرى فهي اخ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9694"/>
                </a:solidFill>
                <a:latin typeface="Gill Sans MT"/>
              </a:rPr>
              <a:t>انشطة غير رسمية: 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عادة ما يود الاطفال التأكد من عدالة التوزيع للأشياء و ان كل واحد فيهم قد اخذ نفس القدر من الاشياء و للتأكد من ذلك يمكن ان نطلب من الاطفال الاكبر او الاكثر نضجا ان يقوموا بالعد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8320" indent="-254160" algn="r" rtl="1">
              <a:lnSpc>
                <a:spcPct val="10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نشطة ذات بناء محدد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4000" y="1197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حين نلاحظ ان احد الاطفال لا يستغل المواقف الطبيعية التي تستدعى المقارنة للقيام بذلك فانه يمكننا ان نخطط لهم انشطة اكثر رسمية من خلال توفير خامات </a:t>
            </a: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تجارية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 صممت لهذا الغرض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بالإضافة الى توفير خامات من </a:t>
            </a: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البيئة</a:t>
            </a: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 يمكن ان تخدم نفس الغرض وبالطبع تكون البداية بالخامات الطبيعية وتنتهى بالصور المجردة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d99694"/>
                </a:solidFill>
                <a:latin typeface="Gill Sans MT"/>
              </a:rPr>
              <a:t>ومن امثلة الخامات التي يمكن توفيرها: الازرار – الدمى- الاكواب – الاطباق – سيارات – صناديق – اقلام – عصى ....ال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Gill Sans MT"/>
              </a:rPr>
              <a:t>وذلك لاختبار قدرة الطفل على المقارنة طبقا للصفات المختلفة مثل: كبير/صغير – قصير / طويل (راسيا و افقيا ) – سمين / نحيف – ثقيل /خفيف – سريع / بطيء – ساخن /بارد – قريب / بعيد ...الخ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9960" indent="-240120" algn="r" rtl="1">
              <a:lnSpc>
                <a:spcPct val="80000"/>
              </a:lnSpc>
              <a:spcBef>
                <a:spcPts val="75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التقييم البع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يمكن باستخدام مجموعة من الخامات التي يمكن للأطفال المقارنة بينها, بالإضافة لاستغلال المواقف اليومية الطبيعية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مثل: هل لدينا اليوم عدد اولاد اكثر ام بنات اكثر – هل لدينا قطع حلوى الشكولاتة اكثر ام ان تلك التي بالفواكه اكثر – هل انت الشقيق الاكبر ام الاصغر ...الخ</a:t>
            </a:r>
            <a:r>
              <a:rPr b="0" lang="ar-SA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080" indent="-279720">
              <a:lnSpc>
                <a:spcPct val="10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ثانياً: التناظر الأحاد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ثانياً: التناظر الاحادي (المقابلة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557360"/>
            <a:ext cx="8064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ادراك ان مجموعة ما، لها العدد نفسه لعناصر المجموعة الاخرى. لكل طفل كعكة، لكل طفل 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70c0"/>
                </a:solidFill>
                <a:uFillTx/>
                <a:latin typeface="Gill Sans MT"/>
              </a:rPr>
              <a:t> يقصد بالمزاوجة او المقابلة او التناظر الاحاد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(ان يكون لكل عنصر من عناصر المجموعة الاولى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Gill Sans MT"/>
              </a:rPr>
              <a:t>عنصرا واحدا فقط</a:t>
            </a:r>
            <a:r>
              <a:rPr b="1" lang="ar-SA" sz="2800" spc="-1" strike="noStrike">
                <a:solidFill>
                  <a:srgbClr val="000000"/>
                </a:solidFill>
                <a:latin typeface="Gill Sans MT"/>
              </a:rPr>
              <a:t> مناظرا له من عناصر المجموعة الثانية والعكس صحي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ar-SA" sz="2800" spc="-1" strike="noStrike">
                <a:solidFill>
                  <a:srgbClr val="d99694"/>
                </a:solidFill>
                <a:latin typeface="Gill Sans MT"/>
              </a:rPr>
              <a:t>مثا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7440" indent="-3974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Gill Sans MT"/>
              </a:rPr>
              <a:t>(اذا كان هناك اربعة اطباق فلا بد من وجود اربعة اكواب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كل عنصر في المجموعة عنصر واحد فقط مقابل له في المجموعة الأخرى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2" descr="Image result for ‫وسائل التناظر الاحادي للاطفال‬‎"/>
          <p:cNvPicPr/>
          <p:nvPr/>
        </p:nvPicPr>
        <p:blipFill>
          <a:blip r:embed="rId1"/>
          <a:stretch/>
        </p:blipFill>
        <p:spPr>
          <a:xfrm>
            <a:off x="2411280" y="2637000"/>
            <a:ext cx="6016680" cy="3381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333360" y="2565360"/>
            <a:ext cx="164628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Calibri"/>
              </a:rPr>
              <a:t>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340000" y="160020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تكوين مفهوم المقابلة او التناظر الأحادي الأطفال بحاجة الى أن تكون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تجاربهم حسية وحقيقية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الأطفال يتعلمون من خلال العمل في الشي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لمقابلة او التناظر الاحادي من المكونات الأساسية لمفهوم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عدد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المفاهيم الرياضية مثل مفهوم العدد والمقارنة العددية ومفهوم المجموعة والمجموعة الجزئية ومقارنة المجموعات يمكن ان يتعلمها الطفل أسهل بكثير بعد تعلمه لمفهوم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المقابلة</a:t>
            </a:r>
            <a:r>
              <a:rPr b="0" lang="ar-SA" sz="28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480" indent="-4114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التناظر الاحاد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340000" y="1268280"/>
            <a:ext cx="634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تجربة بياجيه الكؤوس والبيض، تدل ع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عدم قدرة الطفل على ادراك الثبات العددي (الاحتفاظ)، عند تغيير وضع البيض من أمام الكؤوس (مفهوم التناظر الأحادي متطلب سابق للعدد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يبدأ تعلم الطفل مفهوم التناظر الأحادي في المرحلة الحسية الحركية اثناء اللعب، </a:t>
            </a:r>
            <a:r>
              <a:rPr b="1" lang="ar-SA" sz="2800" spc="-1" strike="noStrike">
                <a:solidFill>
                  <a:srgbClr val="e46c0a"/>
                </a:solidFill>
                <a:latin typeface="Calibri"/>
              </a:rPr>
              <a:t>مثلا يضع امام كل دمية صح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ffc000"/>
              </a:solidFill>
              <a:uFillTx/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340000" y="160020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ماهو مفهومك لمصطلح التصنيف ؟؟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140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مخطط انسيابي: تخزين بالوصول التسلسلي 12"/>
          <p:cNvSpPr/>
          <p:nvPr/>
        </p:nvSpPr>
        <p:spPr>
          <a:xfrm>
            <a:off x="2268360" y="3860640"/>
            <a:ext cx="6624720" cy="1584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هو القدرة على تجميع الأشياء التي لها نفس الخصائص في مجموعة واحدة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جربة بياج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195280" y="1599840"/>
            <a:ext cx="5040360" cy="2189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C:\Users\SOSO\Documents\اتجاهات سحر\تجربية بياجيه 2.png"/>
          <p:cNvPicPr/>
          <p:nvPr/>
        </p:nvPicPr>
        <p:blipFill>
          <a:blip r:embed="rId2"/>
          <a:stretch/>
        </p:blipFill>
        <p:spPr>
          <a:xfrm>
            <a:off x="1297080" y="1125360"/>
            <a:ext cx="7369200" cy="2984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SOSO\Documents\اتجاهات سحر\تجربة بياجيه 1.png"/>
          <p:cNvPicPr/>
          <p:nvPr/>
        </p:nvPicPr>
        <p:blipFill>
          <a:blip r:embed="rId3"/>
          <a:stretch/>
        </p:blipFill>
        <p:spPr>
          <a:xfrm>
            <a:off x="1619280" y="2878200"/>
            <a:ext cx="66978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40000" y="11556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2050560" y="126828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جب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ان نتدرج في تقديم المفهوم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للطفل في البداية يكون عدد عناصر المجموعة اقل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عناصر، ثم تزيد تدريجيا حت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عناصر وعندها نستطيع ان نحكم ان الطفل فهم التناظر الاحاد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أمثلة على التناظ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حيوان وصغار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العامل وأدوا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نوع الحيوان والغطاء الذي يغطي جسم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0920" indent="-25092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70c0"/>
                </a:solidFill>
                <a:latin typeface="Calibri"/>
              </a:rPr>
              <a:t>مقابلة مجموعات مكونه من نفس العد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efe"/>
                </a:solidFill>
                <a:latin typeface="Calibri"/>
              </a:rPr>
              <a:t>نمو مفهوم المقابل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بدأ تعلم الطفل مفهوم التناظر الأحادي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المرحلة الحسية الحركي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ثناء اللعب، من قبل سن المشي يستطيع ان يقابل يركب الدمى الخمس في الحفر الخمس في لعبة البا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ومع نمو الطفل 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سن الثاني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فإنه يقضي الكثير من الوقت في العاب المقابلة، مثلا:  </a:t>
            </a:r>
            <a:r>
              <a:rPr b="1" lang="ar-SA" sz="2400" spc="-1" strike="noStrike">
                <a:solidFill>
                  <a:srgbClr val="e46c0a"/>
                </a:solidFill>
                <a:latin typeface="Calibri"/>
              </a:rPr>
              <a:t>يضع على كل طبق فنجان وعلى كل كرسي دمية واحيانا يقوم بمساعدة والدته في اعداد مائدة الطعام فيضع لكل فرد كوب او ملع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ا ان نمو مفهوم التناظر الاحادي وثبات العدد للمجموعات لا تنمو لدى الطفل الا في </a:t>
            </a:r>
            <a:r>
              <a:rPr b="1" lang="ar-SA" sz="2400" spc="-1" strike="noStrike">
                <a:solidFill>
                  <a:srgbClr val="0070c0"/>
                </a:solidFill>
                <a:latin typeface="Calibri"/>
              </a:rPr>
              <a:t>مراحل متاخرة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كما وضح بياجيه في تجربت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2" descr="Collage of photos of eggs and toys and Ivan choosing just one"/>
          <p:cNvPicPr/>
          <p:nvPr/>
        </p:nvPicPr>
        <p:blipFill>
          <a:blip r:embed="rId1"/>
          <a:stretch/>
        </p:blipFill>
        <p:spPr>
          <a:xfrm>
            <a:off x="2185920" y="476280"/>
            <a:ext cx="507384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Calibri"/>
              </a:rPr>
              <a:t>هل يمكن أن يكون في القصص تناظر أحادي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عتقد كثير من الناس أن تعلم كيفية العد هو أساس وبداية تعليم مهارات الرياضيات للأطفال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زخر العديد من الأغاني بعناصر العد (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خمس بطات صغير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ar-SA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ثلاثة ضفادع خضراء مرقطة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بدو أنه النقطة المنطقية لبدء تعليم الأطفال الأرقا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http://ir-na.amazon-adsystem.com/e/ir?t=wonderbaby04-20&amp;l=as2&amp;o=1&amp;a=B0014DHVPE"/>
          <p:cNvPicPr/>
          <p:nvPr/>
        </p:nvPicPr>
        <p:blipFill>
          <a:blip r:embed="rId3"/>
          <a:stretch/>
        </p:blipFill>
        <p:spPr>
          <a:xfrm>
            <a:off x="-4680" y="-11448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3" descr="http://ir-na.amazon-adsystem.com/e/ir?t=wonderbaby04-20&amp;l=as2&amp;o=1&amp;a=B0012APD7C"/>
          <p:cNvPicPr/>
          <p:nvPr/>
        </p:nvPicPr>
        <p:blipFill>
          <a:blip r:embed="rId4"/>
          <a:stretch/>
        </p:blipFill>
        <p:spPr>
          <a:xfrm>
            <a:off x="-1851120" y="-11448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4"/>
          <p:cNvSpPr/>
          <p:nvPr/>
        </p:nvSpPr>
        <p:spPr>
          <a:xfrm>
            <a:off x="900000" y="608184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http://www.wonderbaby.org/ar/articles/%D9%88%D8%A7%D8%AD%D8%AF-%D9%81%D9%82%D8%B7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عدد استخدام لنفس الأدوات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9pp4zdlw3F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تعدد المستويات باستخدام الملفات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youtube.com/watch?v=BVswl7CHP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هيا نلتقط شيئا واحدا فقط، ونضعه في الكوب." كرر ما قلته مع بقية الأكواب مستخدما لفظ "واحد فقط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2" descr="Ivan placing one candy on the cookie"/>
          <p:cNvPicPr/>
          <p:nvPr/>
        </p:nvPicPr>
        <p:blipFill>
          <a:blip r:embed="rId1"/>
          <a:stretch/>
        </p:blipFill>
        <p:spPr>
          <a:xfrm>
            <a:off x="826920" y="2419200"/>
            <a:ext cx="3780000" cy="2737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Ellie playing with buttons in a muffin tin"/>
          <p:cNvPicPr/>
          <p:nvPr/>
        </p:nvPicPr>
        <p:blipFill>
          <a:blip r:embed="rId2"/>
          <a:stretch/>
        </p:blipFill>
        <p:spPr>
          <a:xfrm>
            <a:off x="5076720" y="2492280"/>
            <a:ext cx="3095640" cy="358452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3"/>
          <p:cNvSpPr/>
          <p:nvPr/>
        </p:nvSpPr>
        <p:spPr>
          <a:xfrm>
            <a:off x="600120" y="5373720"/>
            <a:ext cx="368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Verdana"/>
              </a:rPr>
              <a:t>إذا قال الطفل الرقم، ولكنه لم يحرك شيئا، أو حرك أكثر من شيء، فإنه لم يتقن بعد مفهوم التناظر الأحادي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Calibri"/>
              </a:rPr>
              <a:t>مستويات وأنواع التناظر الأحاد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1943280"/>
            <a:ext cx="64008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91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تتنوع انشطة تعلم المقابلة وفق خمس مستويات متدرجة</a:t>
            </a:r>
            <a:r>
              <a:rPr b="0" lang="ar-SA" sz="4000" spc="-1" strike="noStrike">
                <a:solidFill>
                  <a:srgbClr val="fffefe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050560" y="188640"/>
            <a:ext cx="69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إدراك السمات الحسية لعناصر المقابل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70c0"/>
                </a:solidFill>
                <a:latin typeface="Calibri"/>
              </a:rPr>
              <a:t>يتدرج هذا النشاط من السهولة إلى الصعوبة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البداية نقدم أشياء حقيقية غير متشابه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:كل صحن ملعقة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ثم ننتقل الى الاشياء الحقيقية المشابه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جموعتين مكعبات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ثم ننتقل الى الصورغير المتشابه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(لكل صاحب مهنة ادا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ثم ننتقل الى الصور المتشابهة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مثل: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صور دوائر صفراء وحمراء مثل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2268000" y="1197000"/>
            <a:ext cx="64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عدد العناصر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قل م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حتى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عناص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المجسمات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لأشياء الحقيقية والشائعة بالنسبة للطفل مثل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دمى وسيارات،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في المستوى الثاني نستخدم اشكال مقصوصة مثل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اشكال الهندسية،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بعدها ننتقل ال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صور الاشياء الحقيقي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وفي المستوى الرابع ممكن ان ننتقل الى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رموز والنماذج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ثلا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ع اربعة دوائ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Calibri"/>
              </a:rPr>
              <a:t>خصائص التصني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3734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هارة التصنيف تعتبر من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أول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مهارات التي يكتسبها العقل البشري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د مهارة التصنيف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أساس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ذي يبنى عليه  تعلم المفاهيم الرياضية اللاحقة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تصنيف القدرة على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تمييز البصري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فالطفل بحاجة إلى ان يميز بصرياً  الأشكال والأحجام والألوان حتى يتمكن من تصنيفها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67480" algn="r" rtl="1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ضمن التصنيف القدرة على </a:t>
            </a:r>
            <a:r>
              <a:rPr b="1" lang="ar-SA" sz="2600" spc="-1" strike="noStrike">
                <a:solidFill>
                  <a:srgbClr val="ffc000"/>
                </a:solidFill>
                <a:latin typeface="Times New Roman"/>
                <a:cs typeface="Times New Roman"/>
              </a:rPr>
              <a:t>المقارنة</a:t>
            </a:r>
            <a:r>
              <a:rPr b="1" lang="ar-SA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أشياء.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908000" y="476280"/>
            <a:ext cx="67788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درجة الارتباط الطبيعي بين مجموعتي المقابل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بدأ بالمجموعات المرتبطة ارتباطاً طبيعياً  لأنها اسهل مثلا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(قدم- حذاء ، صحن- فنجان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ثم نستطيع ان ننتقل الى اقامة مقابلة بين عناصر مجموعات    لا يربطها ارتباط طبيعي مثل </a:t>
            </a:r>
            <a:r>
              <a:rPr b="0" lang="ar-SA" sz="2800" spc="-1" strike="noStrike">
                <a:solidFill>
                  <a:srgbClr val="0070c0"/>
                </a:solidFill>
                <a:latin typeface="Calibri"/>
              </a:rPr>
              <a:t>(كرة- صندو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Calibri"/>
              </a:rPr>
              <a:t>مقابلة المجموعات المتساوية وغير المتساوية عدديا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قابلة بين المجموعات غير المتساوية عدديا صعب على الطفل ويجعله غير متأكد من أدائ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r" rtl="1"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e46c0a"/>
                </a:solidFill>
                <a:latin typeface="Calibri"/>
              </a:rPr>
              <a:t>المشروع العملي الأول 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4920" y="40464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d99694"/>
                </a:solidFill>
                <a:uFillTx/>
                <a:latin typeface="Calibri"/>
              </a:rPr>
              <a:t>المشروع الأ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. التصني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قوم الطالبة بعمل وسيلة تصني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(التصنيف المتعدد) لركن الإدرا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تابة التحضير خلال المحاضرة القادم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99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68360" y="1413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r" rtl="1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300" spc="-1" strike="noStrike" u="sng">
                <a:solidFill>
                  <a:srgbClr val="e46c0a"/>
                </a:solidFill>
                <a:uFillTx/>
                <a:latin typeface="Calibri"/>
              </a:rPr>
              <a:t>2</a:t>
            </a:r>
            <a:r>
              <a:rPr b="1" lang="ar-SA" sz="3300" spc="-1" strike="noStrike" u="sng">
                <a:solidFill>
                  <a:srgbClr val="e46c0a"/>
                </a:solidFill>
                <a:uFillTx/>
                <a:latin typeface="Calibri"/>
              </a:rPr>
              <a:t>. التناظرالاحادي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خطط الطالبة لنشاط تناظر احادي مناسب لركن الأدراك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لا تقل عدد عناصر المقابلة عن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عناصر يقابلها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 عناصر اخرى ولا تزيد عن 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تبتعد الطالبة عن استخدام الاعداد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5000"/>
              </a:lnSpc>
              <a:spcBef>
                <a:spcPts val="751"/>
              </a:spcBef>
              <a:buClr>
                <a:srgbClr val="95b3d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Calibri"/>
              </a:rPr>
              <a:t>ان تكون عناصر المقابلة  بينها ارتباط طبيعي، ويجمعها موضوع واحد مثل (مقابلة الحيوانات ومساكنها) (مقابلة المهن مع ادواتها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22040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عايير صنع الوسيلة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2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efe"/>
                </a:solidFill>
                <a:latin typeface="Calibri"/>
              </a:rPr>
              <a:t>معايير صنع الوسيل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250920" y="1125360"/>
            <a:ext cx="8663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مع مراعاة ما يلي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وضع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قاعد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تجمع اجزاء الوسيلة ( سلة – ملف – لوح – سبورة .. الخ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بداع والتميز والتجديد في فكرة التقديم والوسائل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ن تراعي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متان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وسيل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وتغلي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بطاقات ان وجد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كون على دراية تام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بالأهداف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تي تحققها الوسيلة وكيفية تقديمها للطفل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ن تكون الادوات مناسبة من ناحي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الحج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للرك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تقدم الطالبة </a:t>
            </a:r>
            <a:r>
              <a:rPr b="1" lang="ar-SA" sz="2400" spc="-1" strike="noStrike">
                <a:solidFill>
                  <a:srgbClr val="d99694"/>
                </a:solidFill>
                <a:latin typeface="Calibri"/>
              </a:rPr>
              <a:t>ورقة تحضير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للوسيل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ستخدام خامات عملية ( الجوخ – الورق – الفلين المرن/ السومو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أن تحقق الوسيلة أكثر من هدف في وقت واحد ( تعدد الاستخدا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صحة المفهو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إمكانية التدرج في مستوى الصعوب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c000"/>
                </a:solidFill>
                <a:latin typeface="Times New Roman"/>
              </a:rPr>
              <a:t>مثا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484000" y="1557360"/>
            <a:ext cx="6270840" cy="424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95b3d7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تجمع أمام منزل أحد الأئمة عدد كبير من الناس كل منهم يريد الفتوى في أمر يهمه وكان منزل الإمام لا يسع إلا لعشرين شخصًا ، فإذا سمع الإمام لكل واحد منهم منفردًا فسيستغرق ذلك وقتا طويلا ، فماذا يفعل الإمام حتى يحل هذه المشكلة ؟؟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1f497d"/>
                </a:solidFill>
                <a:uFillTx/>
                <a:latin typeface="Calibri"/>
              </a:rPr>
              <a:t>فكر الإمام وقام بحل هذه المشكلة بواسطة مهارة التصنيف ؟؟ كيف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 rtl="1">
              <a:spcBef>
                <a:spcPts val="601"/>
              </a:spcBef>
              <a:buClr>
                <a:srgbClr val="95b3d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</a:rPr>
              <a:t>مراحل التصني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979640" y="1752480"/>
            <a:ext cx="6913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بدء بالتصنيف بناء على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خاصية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واح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بعد إتقان السابق نستطيع ان ننتقل الى التصنيف بناء على الاشتراك في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خاصيتين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في آن واح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5160" indent="-425160" algn="r" rtl="1">
              <a:lnSpc>
                <a:spcPct val="150000"/>
              </a:lnSpc>
              <a:spcBef>
                <a:spcPts val="700"/>
              </a:spcBef>
              <a:buClr>
                <a:srgbClr val="95b3d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يصل الطفل للمفاهيم الخاصة بالتصنيف كل حسب </a:t>
            </a:r>
            <a:r>
              <a:rPr b="1" lang="ar-SA" sz="2800" spc="-1" strike="noStrike">
                <a:solidFill>
                  <a:srgbClr val="d99694"/>
                </a:solidFill>
                <a:latin typeface="Calibri"/>
              </a:rPr>
              <a:t>سرعته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الخاصة في النم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7138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لتنمو مهارة التصنيف بشكل متكامل يجب تحقيق شرطين أساسيين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195640" y="1773360"/>
            <a:ext cx="71294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1</a:t>
            </a: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- تنمية الإدراك الحسي للطف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 عن طريق توظيف الحواس للتعرف على الأشياء ووصفها وتصنيفها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2</a:t>
            </a:r>
            <a:r>
              <a:rPr b="1" lang="ar-SA" sz="2600" spc="-1" strike="noStrike" u="sng">
                <a:solidFill>
                  <a:srgbClr val="4f81bd"/>
                </a:solidFill>
                <a:uFillTx/>
                <a:latin typeface="Verdana"/>
              </a:rPr>
              <a:t>- تنمية العمليات العقلية لدى الطفل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6200"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ويقصد به قدرته على تحليل الأشياء والأحداث واكتشاف أوجه الشبة والاختلاف بينها في ضوء خصائص محسوسة أو مجرد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982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98240" algn="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Verdana"/>
              </a:rPr>
              <a:t>تعد هذه المهارة إحدى المكونات الأساسية </a:t>
            </a:r>
            <a:r>
              <a:rPr b="1" lang="ar-SA" sz="2600" spc="-1" strike="noStrike">
                <a:solidFill>
                  <a:srgbClr val="ff3399"/>
                </a:solidFill>
                <a:latin typeface="Verdana"/>
              </a:rPr>
              <a:t>للتفكير المنطقي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مستطيل 3"/>
          <p:cNvSpPr/>
          <p:nvPr/>
        </p:nvSpPr>
        <p:spPr>
          <a:xfrm>
            <a:off x="503280" y="13730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54061"/>
                </a:solidFill>
                <a:latin typeface="Times New Roman"/>
                <a:cs typeface="Times New Roman"/>
              </a:rPr>
              <a:t>يتعلم الاطفال تجميع الأشياء باستخدام عدد من أنواع الملامح المألوفة مثل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عنصر نائب للمحتوى 2"/>
          <p:cNvSpPr/>
          <p:nvPr/>
        </p:nvSpPr>
        <p:spPr>
          <a:xfrm>
            <a:off x="0" y="2149560"/>
            <a:ext cx="90360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لون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أشياء يمكن أن تكون معاً لأنها كلها لونها </a:t>
            </a:r>
            <a:r>
              <a:rPr b="1" lang="ar-SA" sz="2400" spc="-1" strike="noStrike">
                <a:solidFill>
                  <a:srgbClr val="ff0000"/>
                </a:solidFill>
                <a:latin typeface="Gill Sans MT"/>
              </a:rPr>
              <a:t>احمر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شكل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قد تكون مستديرة , مربعة , مستطيل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حجم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هناك بعض الأشياء كبيرة وبعضها صغيرة بعضها ممتلئ وبعضها رفيع بعضها قصير وبعضها طويل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خامات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التي يمكن ان تكون مصنوعة من خامات مختلفة كالخشب, البلاستيك, او الزجاج او الورق او القماش او المعد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8320" indent="-25416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نمط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اشياء قد تتميز بأنماط بصرية مختلفة مثل الشرائط, النقاط, الزهور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مستطيل 3"/>
          <p:cNvSpPr/>
          <p:nvPr/>
        </p:nvSpPr>
        <p:spPr>
          <a:xfrm>
            <a:off x="324000" y="1557360"/>
            <a:ext cx="8569080" cy="66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ملمس</a:t>
            </a:r>
            <a:r>
              <a:rPr b="1" lang="ar-SA" sz="2400" spc="-1" strike="noStrike">
                <a:solidFill>
                  <a:srgbClr val="e6b9b8"/>
                </a:solidFill>
                <a:latin typeface="Gill Sans MT"/>
              </a:rPr>
              <a:t>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الأشياء يمكن أن يكون لها ملامس مختلفة عن بعضها البعض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 فبعضها ناعم , خشن , طري , صلب , رطب , جاف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الوظيفة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بعض الأشياء تؤدي نفس الوظيفة أو انها تستخدم لأداء نفس الشي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كل هذه لأجل تناول الطعام , الكتابة , عزف الموسيقى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46c0a"/>
                </a:solidFill>
                <a:latin typeface="Gill Sans MT"/>
              </a:rPr>
              <a:t>فئات الاسماء: </a:t>
            </a: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هناك اسماء تنتمي لعدة اشيا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5040" indent="-282600" algn="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Gill Sans MT"/>
              </a:rPr>
              <a:t>(أشخاص – حيوانات – طعام – وسائل مواصلات – اسلحة – ملابس – منازل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19:23Z</dcterms:created>
  <dc:creator>Hala</dc:creator>
  <dc:description/>
  <dc:language>en-US</dc:language>
  <cp:lastModifiedBy>Maha</cp:lastModifiedBy>
  <dcterms:modified xsi:type="dcterms:W3CDTF">2016-10-30T18:34:41Z</dcterms:modified>
  <cp:revision>162</cp:revision>
  <dc:subject/>
  <dc:title>التصنيف</dc:title>
</cp:coreProperties>
</file>