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1A59E-9E93-4409-8615-94CDFBCAD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A44C-BA3B-4679-8A7B-F60647D32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B4E7B1-88B0-419A-B098-6656F2D8DF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E4990B-9C80-4938-9800-C3296C49BA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DDB33-CBE0-4A75-BD43-0D85999498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A8E13-F2FB-4630-ABAA-C515098A5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EDB84-C721-4661-A6DB-3112E7305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0F1A31-74A2-4A7C-8DCE-5F2614776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6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BAD0AB-AF60-4A25-B69D-AD2BCA01FF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53D866-408B-4F01-871E-A429B248D6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04B110-631A-4447-8C2D-FD22CF1F94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82797-A9FE-4D91-9195-13757B48F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8A251-A14E-4405-8EAD-BBA8E7442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8DF91-C9C8-4388-81D8-98391B62E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49"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29AF1-B23B-4022-B02C-D41764453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2AD0B-B6D0-4E54-90D3-1606CFC04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772BF-8145-4DCE-88DF-380CEB94B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21513-AB7F-4D5B-BF78-8BC9A3771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B00D0-0C08-4DC1-9BA2-D88954800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3EFB2-A678-4E10-ACD0-3C7B0317E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64BAF-4F4E-452D-BDA3-47FF19A50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1A0E3-CDA9-4B8F-AF94-BB79D70E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6D500-D521-4F5B-9F10-15F067CC6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0"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2C1E1-E9F9-439B-A6FA-A569B09C3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6E4FA-05D3-4C43-97F6-A6A43E3CC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8"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C1C9D-5A61-497F-A32A-FB344EAC4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27B244-9238-4178-BBE9-73B6CCE701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2"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89D6A-94FA-4E5E-99EA-05A802326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30C78-36D9-4E8C-BC78-AFAB70BE0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CF66B-F8B3-4557-894A-6BFECC18E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223B5-7F63-48E1-9D3E-D70F84330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04178-51F3-4F96-A3A7-340DC5269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231B5-A7F3-4B30-89CB-48D161F20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8DF76-A216-4313-9E86-863173DC3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138FB-4C88-4EF2-BA95-BA0EC14098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9F97A-6340-4985-97C8-F3A18701B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3"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7D5C49-C7F3-4E67-BB54-364FB2082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31B286-9FA8-4011-98B4-F183C0495D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1"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AE83F9-B1D5-4E31-964F-EA0D65145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4E0318-FEFB-4184-8A28-58074776B7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ECBB3-02FA-423E-A151-F17756638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A3E08-2A36-4A20-9D23-20C29EF352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CCA1B-456E-4E50-BD3D-E65A2BE60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C04F4-8645-479F-B1BB-56681333F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AFB9D-4E24-4C6F-99AA-38AC7EDD6F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781246-1847-4A31-8497-15DBC1D1E6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1B639-C854-4BED-8301-0B28451B2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F0F46-B7ED-414D-98AD-77FD5EE5F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D7497-18DD-4E3D-9441-CA539A143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0F2D8-33E9-4DAE-A3B5-946D6E190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6234E-4C58-4A9A-B5FC-2A42760F96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467310-2E35-4EDC-8D2E-77BCB1E2F5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25D023-5EF9-4F6C-8CD5-09C1A865F5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8F9A2-1201-4AAE-B3A7-96C8279E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14538E-3CF3-434F-8084-DAD5969BF9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AB8B4-84C1-420C-A492-AC51E5A89B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5E062-27DD-4C3E-BA9F-5E78D2BA9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4F41FF-C8A8-4DBE-AEC7-FC52880FA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F2F89-6245-47CE-A34F-147F10D6CC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2FD25F-E618-46EB-95EB-3EBDD4A94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F944C-5FAB-4011-B03C-47143EE29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82C7E-3607-42BA-8957-74D3B2DFB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7E18C-DB73-4EEC-BD79-B6984ED2F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ED266E-37B7-4C2A-948C-0051EDF127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4290-4617-4DAA-9B77-B37A7B395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0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28024E-3E52-4552-8185-40D6187D48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51D955-06A2-47B2-850D-AF6310E19B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969C59-9007-4BB1-8D17-3B527ACF4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15615-5572-43F0-A914-55ABAF292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2CC1F5-4B56-4D3C-A8C2-6B7488D98B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533CE2-757D-4A3F-83E1-65C2B4782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C8262-3658-44A1-A80D-E6DDAD072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EAFC1-114F-4077-B4CD-229D699C8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7D767F-D1C7-4EDE-8834-3E321F384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22DA1-AFC3-4065-A195-D2ABA8B39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A4376-94E2-4174-BD65-F6A5D470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B2531-F7AA-467B-9E6B-A865460421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5971C8-C576-4467-AA5D-77E96F19C2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AE3AA2-AC95-402C-9289-9DF3085600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22609B-A902-4DD8-9A7A-269AC690B4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0"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3BAD9F-5F3B-44D6-B8F7-642420831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2"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F735A-995A-4155-99A5-073736FAED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B593D2-C350-4567-8626-397C4EEF3B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7E59E6-F419-4EFD-B900-8A885713F4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D39B21-25EF-4341-B387-2D893BD777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6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FA6DBA-1AB9-41EB-A172-52DA9A989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FC81-DA72-4334-B523-FA96B1E64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BF5C80-6252-4D0A-AEA3-BE21E89A9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7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D8A41-39A2-4984-B399-B91B9CD41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1"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5E11C8-88CC-4754-B805-D733F16BEF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D457D1-2DC0-4B3A-B99E-F546ACC8F4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89"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88B9FA-B7D3-4D87-AE85-EC663C3A7F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4EA852-78F4-4DAB-9007-6B57A19584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787CBB-E68A-4AA7-BA51-182A07F957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6912D-856B-45A4-A780-AE18D42525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F361F7-41BA-44A2-99B7-EF3C5982D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A8E3F-71EB-4068-B68D-4A5B0A4F1B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BE570-0D13-4B71-B5F1-48BA13792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9D81E8-4823-4284-A814-F4FCD57E7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4794AE-227E-4E0A-B9DE-A9449690B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1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63D57-2CC8-451F-8186-20D06D829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9E3D4-981F-43E0-AF14-50BA02199B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3713AD-7E1A-488B-AC54-F2ACC1E8F7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70ED07-B52D-4377-AE1E-CFBAD8EA06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3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7CE640-8100-49EF-B60A-0F73644034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BFB194-33CC-42D8-8E61-AD407943B7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F09131-1C60-4BEC-9388-C8DE5D69C3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4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8B5EB3-0BD2-4C97-A238-F2E0D57BF0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A1F2-8D97-412A-AC9A-E8C420E3370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3"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4F1B-9C60-4228-8B7C-3DB0465C8441}"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46"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B7C4-9E1C-4ADA-8EDD-C9A8B87FD9FF}" type="slidenum">
              <a:rPr b="1" lang="ar-SA"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8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AEDC-B4E4-44AF-AF4B-69C6FBF854C0}"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48769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6840" y="1600200"/>
            <a:ext cx="487692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53760" indent="-251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058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0796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indent="-200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422C-B6E5-4EEA-8AA5-B80B351CF47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1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3" name="PlaceHolder 3"/>
          <p:cNvSpPr>
            <a:spLocks noGrp="1"/>
          </p:cNvSpPr>
          <p:nvPr>
            <p:ph type="dt" idx="16"/>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4"/>
          <p:cNvSpPr>
            <a:spLocks noGrp="1"/>
          </p:cNvSpPr>
          <p:nvPr>
            <p:ph type="ftr" idx="17"/>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PlaceHolder 5"/>
          <p:cNvSpPr>
            <a:spLocks noGrp="1"/>
          </p:cNvSpPr>
          <p:nvPr>
            <p:ph type="sldNum" idx="18"/>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975C-3545-427D-BD41-0B0DEE49DDEB}"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5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6" name="PlaceHolder 3"/>
          <p:cNvSpPr>
            <a:spLocks noGrp="1"/>
          </p:cNvSpPr>
          <p:nvPr>
            <p:ph type="dt" idx="19"/>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4"/>
          <p:cNvSpPr>
            <a:spLocks noGrp="1"/>
          </p:cNvSpPr>
          <p:nvPr>
            <p:ph type="ftr" idx="20"/>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PlaceHolder 5"/>
          <p:cNvSpPr>
            <a:spLocks noGrp="1"/>
          </p:cNvSpPr>
          <p:nvPr>
            <p:ph type="sldNum" idx="21"/>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A461-BC62-45A0-8E32-6BB863E0CD65}"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98"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9" name="PlaceHolder 3"/>
          <p:cNvSpPr>
            <a:spLocks noGrp="1"/>
          </p:cNvSpPr>
          <p:nvPr>
            <p:ph type="dt" idx="22"/>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PlaceHolder 4"/>
          <p:cNvSpPr>
            <a:spLocks noGrp="1"/>
          </p:cNvSpPr>
          <p:nvPr>
            <p:ph type="ftr" idx="23"/>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PlaceHolder 5"/>
          <p:cNvSpPr>
            <a:spLocks noGrp="1"/>
          </p:cNvSpPr>
          <p:nvPr>
            <p:ph type="sldNum" idx="24"/>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C23D-1D18-4C43-996C-FF982E88C05C}"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34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gn="r" rtl="1">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42" name="PlaceHolder 3"/>
          <p:cNvSpPr>
            <a:spLocks noGrp="1"/>
          </p:cNvSpPr>
          <p:nvPr>
            <p:ph type="dt" idx="25"/>
          </p:nvPr>
        </p:nvSpPr>
        <p:spPr>
          <a:xfrm>
            <a:off x="456840" y="6171840"/>
            <a:ext cx="3429000" cy="30492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PlaceHolder 4"/>
          <p:cNvSpPr>
            <a:spLocks noGrp="1"/>
          </p:cNvSpPr>
          <p:nvPr>
            <p:ph type="ftr" idx="26"/>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PlaceHolder 5"/>
          <p:cNvSpPr>
            <a:spLocks noGrp="1"/>
          </p:cNvSpPr>
          <p:nvPr>
            <p:ph type="sldNum" idx="27"/>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DD13-B7B8-450E-98DE-7A24A8DCA891}"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332000" y="2276640"/>
            <a:ext cx="579096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Andalus"/>
                <a:cs typeface="Andalus"/>
              </a:rPr>
              <a:t>التصنيف </a:t>
            </a:r>
            <a:br>
              <a:rPr sz="6000"/>
            </a:br>
            <a:r>
              <a:rPr b="0" lang="ar-SA" sz="6000" spc="-1" strike="noStrike">
                <a:solidFill>
                  <a:srgbClr val="ff0000"/>
                </a:solidFill>
                <a:latin typeface="Andalus"/>
                <a:ea typeface="Andalus"/>
              </a:rPr>
              <a:t>+</a:t>
            </a:r>
            <a:br>
              <a:rPr sz="6000"/>
            </a:br>
            <a:r>
              <a:rPr b="0" lang="ar-SA" sz="6000" spc="-1" strike="noStrike">
                <a:solidFill>
                  <a:srgbClr val="ff0000"/>
                </a:solidFill>
                <a:latin typeface="Andalus"/>
                <a:cs typeface="Andalus"/>
              </a:rPr>
              <a:t>التناظر الأحادي</a:t>
            </a:r>
            <a:endParaRPr b="0" lang="en-US" sz="6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نشطة تدعم اكتساب مفهوم </a:t>
            </a:r>
            <a:endParaRPr b="0" lang="en-US" sz="3600" spc="-1" strike="noStrike">
              <a:solidFill>
                <a:srgbClr val="d1282e"/>
              </a:solidFill>
              <a:latin typeface="Arial Black"/>
            </a:endParaRPr>
          </a:p>
        </p:txBody>
      </p:sp>
      <p:sp>
        <p:nvSpPr>
          <p:cNvPr id="398" name=""/>
          <p:cNvSpPr txBox="1"/>
          <p:nvPr/>
        </p:nvSpPr>
        <p:spPr>
          <a:xfrm>
            <a:off x="456840" y="1752120"/>
            <a:ext cx="8002440" cy="4373640"/>
          </a:xfrm>
          <a:prstGeom prst="rect">
            <a:avLst/>
          </a:prstGeom>
          <a:noFill/>
          <a:ln w="0">
            <a:noFill/>
          </a:ln>
        </p:spPr>
        <p:txBody>
          <a:bodyPr anchor="t">
            <a:normAutofit/>
          </a:bodyPr>
          <a:p>
            <a:pPr marL="539640" indent="-457200" algn="r" rtl="1">
              <a:lnSpc>
                <a:spcPct val="9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نشطة غير رسمية: من خلال اظهار الاهتمام و التشجيع لما يقوم به الاطفال من انشطة فصل و تجميع و التعليق عليها بهدف بناء القاموس اللغوي للأطفال المتعلق بالتصنيف و من خلال طرح الاسئلة المتعلقة بذلك مثل : لقد استخدمت كل القطع الزرقاء لبناء البيت – بإمكانك وضع الحيوانات المتوحشة في هذه الناحية والحيوانات الاليفة في الناحية الاخرى </a:t>
            </a:r>
            <a:endParaRPr b="1" lang="en-US" sz="2800" spc="-1" strike="noStrike">
              <a:solidFill>
                <a:srgbClr val="000000"/>
              </a:solidFill>
              <a:latin typeface="Arial"/>
            </a:endParaRPr>
          </a:p>
          <a:p>
            <a:pPr marL="539640" indent="-457200" algn="r" rtl="1">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6840" y="1752120"/>
            <a:ext cx="7620120" cy="4373640"/>
          </a:xfrm>
          <a:prstGeom prst="rect">
            <a:avLst/>
          </a:prstGeom>
          <a:noFill/>
          <a:ln w="0">
            <a:noFill/>
          </a:ln>
        </p:spPr>
        <p:txBody>
          <a:bodyPr anchor="t">
            <a:normAutofit fontScale="97000"/>
          </a:bodyPr>
          <a:p>
            <a:pPr marL="353880" indent="-27396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انشطة محددة البناء: يمكن تصميم انشطة لمعاونة الاطفال على عملية بناء مجموعات مثل توفير عدة اشياء مختلفة لها نفس اللون و اربعة اشياء كل منها من لون مختلف و يطلب من الطفل فصل الاشياء وجمعها بناء على اللون – حمل جسم لونه احمر مثلا و نطلب من الطفل ان يحاول العثور على اجسام اخرى لها نفس هذا اللون.  </a:t>
            </a:r>
            <a:endParaRPr b="1" lang="en-US" sz="3200" spc="-1" strike="noStrike">
              <a:solidFill>
                <a:srgbClr val="000000"/>
              </a:solidFill>
              <a:latin typeface="Arial"/>
            </a:endParaRPr>
          </a:p>
          <a:p>
            <a:pPr marL="353880" indent="-27396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قييم البعدي </a:t>
            </a:r>
            <a:endParaRPr b="0" lang="en-US" sz="3600" spc="-1" strike="noStrike">
              <a:solidFill>
                <a:srgbClr val="d1282e"/>
              </a:solidFill>
              <a:latin typeface="Arial Black"/>
            </a:endParaRPr>
          </a:p>
        </p:txBody>
      </p:sp>
      <p:sp>
        <p:nvSpPr>
          <p:cNvPr id="401" name=""/>
          <p:cNvSpPr txBox="1"/>
          <p:nvPr/>
        </p:nvSpPr>
        <p:spPr>
          <a:xfrm>
            <a:off x="457200" y="1752120"/>
            <a:ext cx="8075520" cy="4373640"/>
          </a:xfrm>
          <a:prstGeom prst="rect">
            <a:avLst/>
          </a:prstGeom>
          <a:noFill/>
          <a:ln w="0">
            <a:noFill/>
          </a:ln>
        </p:spPr>
        <p:txBody>
          <a:bodyPr anchor="t">
            <a:normAutofit fontScale="88000"/>
          </a:bodyPr>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يمكن ملاحظة عمليات فصل الاشياء و تجميعها اثناء لعب الاطفال الطبيعي, اذ لا بد ان نلاحظ تزايدا في ميل الأطفال للتصنيف في مواقف اللعب الطبيعية.</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كما يجب ان يظهر الاطفال قدرات متزايدة على اطلاق التسميات الصحيحة على ما يكونونه من مجموعات.</a:t>
            </a:r>
            <a:endParaRPr b="1" lang="en-US" sz="3200" spc="-1" strike="noStrike">
              <a:solidFill>
                <a:srgbClr val="000000"/>
              </a:solidFill>
              <a:latin typeface="Arial"/>
            </a:endParaRPr>
          </a:p>
          <a:p>
            <a:pPr marL="321120" indent="-2484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و في النهاية يمكن اللجوء الى التقييم الاكثر بنائية و تحديدا من خلال انشطة البطاقات او المهام العملية التي نكلفهم بها. </a:t>
            </a:r>
            <a:endParaRPr b="1" lang="en-US" sz="3200" spc="-1" strike="noStrike">
              <a:solidFill>
                <a:srgbClr val="000000"/>
              </a:solidFill>
              <a:latin typeface="Arial"/>
            </a:endParaRPr>
          </a:p>
          <a:p>
            <a:pPr marL="321120" indent="-2484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243080" y="692280"/>
            <a:ext cx="6858000" cy="914400"/>
          </a:xfrm>
          <a:prstGeom prst="rect">
            <a:avLst/>
          </a:prstGeom>
          <a:noFill/>
          <a:ln w="0">
            <a:noFill/>
          </a:ln>
        </p:spPr>
        <p:txBody>
          <a:bodyPr anchor="t">
            <a:noAutofit/>
          </a:bodyPr>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1282e"/>
                </a:solidFill>
                <a:latin typeface="Arial Black"/>
              </a:rPr>
              <a:t>ما لفرق بين التصنيف والتطابق </a:t>
            </a:r>
            <a:endParaRPr b="1" lang="en-US" sz="4400" spc="-1" strike="noStrike">
              <a:solidFill>
                <a:srgbClr val="000000"/>
              </a:solidFill>
              <a:latin typeface="Arial"/>
            </a:endParaRPr>
          </a:p>
          <a:p>
            <a:pP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3" name="مستطيل 1"/>
          <p:cNvSpPr/>
          <p:nvPr/>
        </p:nvSpPr>
        <p:spPr>
          <a:xfrm>
            <a:off x="826920" y="2133720"/>
            <a:ext cx="7345440" cy="3844080"/>
          </a:xfrm>
          <a:prstGeom prst="rect">
            <a:avLst/>
          </a:prstGeom>
          <a:noFill/>
          <a:ln w="0">
            <a:noFill/>
          </a:ln>
        </p:spPr>
        <p:style>
          <a:lnRef idx="0"/>
          <a:fillRef idx="0"/>
          <a:effectRef idx="0"/>
          <a:fontRef idx="minor"/>
        </p:style>
        <p:txBody>
          <a:bodyPr lIns="90000" rIns="90000" tIns="46800" bIns="46800" anchor="t">
            <a:sp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طابق ليس كالتصنيف فالتصنيف والتجميع يقوم بها الطفل باستخدام أشياء عديدة يجمعها بناء على الاشتراك في خاصية مثل اللون أو الشكل او الحجم، </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ما في التطابق يقوم الطفل باستخدام صورة وصورة أخرى طبق الأصل او أداة وأداة اخرى طبق الأصل او يوصل شكلين متطابقين.</a:t>
            </a:r>
            <a:endParaRPr b="0" lang="en-US" sz="3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 (المقابلة)</a:t>
            </a:r>
            <a:endParaRPr b="0" lang="en-US" sz="3600" spc="-1" strike="noStrike">
              <a:solidFill>
                <a:srgbClr val="d1282e"/>
              </a:solidFill>
              <a:latin typeface="Arial Black"/>
            </a:endParaRPr>
          </a:p>
        </p:txBody>
      </p:sp>
      <p:sp>
        <p:nvSpPr>
          <p:cNvPr id="405" name=""/>
          <p:cNvSpPr txBox="1"/>
          <p:nvPr/>
        </p:nvSpPr>
        <p:spPr>
          <a:xfrm>
            <a:off x="2050560" y="1752120"/>
            <a:ext cx="6481800" cy="4373640"/>
          </a:xfrm>
          <a:prstGeom prst="rect">
            <a:avLst/>
          </a:prstGeom>
          <a:noFill/>
          <a:ln w="0">
            <a:noFill/>
          </a:ln>
        </p:spPr>
        <p:txBody>
          <a:bodyPr anchor="t">
            <a:normAutofit/>
          </a:bodyPr>
          <a:p>
            <a:pPr marL="457200" indent="-4572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قصد بالمزاوجة او المقابلة او التناظر الاحادي (ان يكون لكل عنصر من عناصر المجموعة الاولى عنصرا واحدا فقط مناظرا له من عناصر المجموعة الثانية والعكس صحيح)</a:t>
            </a:r>
            <a:br>
              <a:rPr sz="2400"/>
            </a:br>
            <a:r>
              <a:rPr b="1" lang="ar-SA" sz="2400" spc="-1" strike="noStrike">
                <a:solidFill>
                  <a:srgbClr val="000000"/>
                </a:solidFill>
                <a:latin typeface="Gill Sans MT"/>
              </a:rPr>
              <a:t>مثال (اذا كان هناك اربعة اطباق فلا بد من وجود اربعة اكواب). </a:t>
            </a:r>
            <a:endParaRPr b="1" lang="en-US" sz="2400" spc="-1" strike="noStrike">
              <a:solidFill>
                <a:srgbClr val="000000"/>
              </a:solidFill>
              <a:latin typeface="Arial"/>
            </a:endParaRPr>
          </a:p>
          <a:p>
            <a:pPr marL="457200" indent="-457200" algn="r" rtl="1">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إدراك ان مجموعة ما لها نفس عدد عناصر مجموعة أخرى، لكل طفل كعكة، لكل طفل كتاب</a:t>
            </a:r>
            <a:endParaRPr b="1" lang="en-US" sz="2400" spc="-1" strike="noStrike">
              <a:solidFill>
                <a:srgbClr val="000000"/>
              </a:solidFill>
              <a:latin typeface="Arial"/>
            </a:endParaRPr>
          </a:p>
          <a:p>
            <a:pPr marL="457200" indent="-457200"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06" name="Picture 4" descr=""/>
          <p:cNvPicPr/>
          <p:nvPr/>
        </p:nvPicPr>
        <p:blipFill>
          <a:blip r:embed="rId1"/>
          <a:stretch/>
        </p:blipFill>
        <p:spPr>
          <a:xfrm>
            <a:off x="179280" y="3213000"/>
            <a:ext cx="1646280" cy="353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08" name=""/>
          <p:cNvSpPr txBox="1"/>
          <p:nvPr/>
        </p:nvSpPr>
        <p:spPr>
          <a:xfrm>
            <a:off x="456840" y="1752120"/>
            <a:ext cx="7620120" cy="4373640"/>
          </a:xfrm>
          <a:prstGeom prst="rect">
            <a:avLst/>
          </a:prstGeom>
          <a:noFill/>
          <a:ln w="0">
            <a:noFill/>
          </a:ln>
        </p:spPr>
        <p:txBody>
          <a:bodyPr anchor="t">
            <a:normAutofit fontScale="96000"/>
          </a:bodyPr>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تكوين مفهوم المقابلة او التناظر الأحادي الأطفال بحاجة الى أن تكون تجاربهم حسية وحقيقية فالأطفال يتعلمون من خلال العمل في الشيء.</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قابلة او التناظر الاحادي من المكونات الأساسية لمفهوم العدد.</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المقابلة.</a:t>
            </a:r>
            <a:endParaRPr b="1" lang="en-US" sz="2800" spc="-1" strike="noStrike">
              <a:solidFill>
                <a:srgbClr val="000000"/>
              </a:solidFill>
              <a:latin typeface="Arial"/>
            </a:endParaRPr>
          </a:p>
          <a:p>
            <a:pPr marL="438840" indent="-438840" algn="r" rtl="1">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جربة بياجيه</a:t>
            </a:r>
            <a:endParaRPr b="0" lang="en-US" sz="4400" spc="-1" strike="noStrike">
              <a:solidFill>
                <a:srgbClr val="000000"/>
              </a:solidFill>
              <a:latin typeface="Arial"/>
            </a:endParaRPr>
          </a:p>
        </p:txBody>
      </p:sp>
      <p:pic>
        <p:nvPicPr>
          <p:cNvPr id="410" name="" descr=""/>
          <p:cNvPicPr/>
          <p:nvPr/>
        </p:nvPicPr>
        <p:blipFill>
          <a:blip r:embed="rId1"/>
          <a:stretch/>
        </p:blipFill>
        <p:spPr>
          <a:xfrm>
            <a:off x="2195280" y="1599840"/>
            <a:ext cx="5040360" cy="2189160"/>
          </a:xfrm>
          <a:prstGeom prst="rect">
            <a:avLst/>
          </a:prstGeom>
          <a:ln w="0">
            <a:noFill/>
          </a:ln>
        </p:spPr>
      </p:pic>
      <p:pic>
        <p:nvPicPr>
          <p:cNvPr id="411" name="Picture 2" descr="C:\Users\SOSO\Documents\اتجاهات سحر\تجربية بياجيه 2.png"/>
          <p:cNvPicPr/>
          <p:nvPr/>
        </p:nvPicPr>
        <p:blipFill>
          <a:blip r:embed="rId2"/>
          <a:stretch/>
        </p:blipFill>
        <p:spPr>
          <a:xfrm>
            <a:off x="1835280" y="1484280"/>
            <a:ext cx="6481800" cy="2625840"/>
          </a:xfrm>
          <a:prstGeom prst="rect">
            <a:avLst/>
          </a:prstGeom>
          <a:ln w="0">
            <a:noFill/>
          </a:ln>
        </p:spPr>
      </p:pic>
      <p:pic>
        <p:nvPicPr>
          <p:cNvPr id="412" name="Picture 3" descr="C:\Users\SOSO\Documents\اتجاهات سحر\تجربة بياجيه 1.png"/>
          <p:cNvPicPr/>
          <p:nvPr/>
        </p:nvPicPr>
        <p:blipFill>
          <a:blip r:embed="rId3"/>
          <a:stretch/>
        </p:blipFill>
        <p:spPr>
          <a:xfrm>
            <a:off x="1852560" y="2967120"/>
            <a:ext cx="6464520" cy="247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14"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جربة بياجيه الكؤوس والبيض، وعدم قدرة الطفل على ادراك الثبات العددي (الاحتفاظ)، عند تغيير وضع البيض من أمام الكؤوس (وهذا يوضح أن مفهوم التناظر الأحادي متطلب سابق للعدد)</a:t>
            </a: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بدأ تعلم الطفل مفهوم التناظر الأحادي في المرحلة الحسية الحركية اثناء اللعب، مثلا يضع امام كل دمية صحن.</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تناظر الاحادي</a:t>
            </a:r>
            <a:endParaRPr b="0" lang="en-US" sz="3600" spc="-1" strike="noStrike">
              <a:solidFill>
                <a:srgbClr val="d1282e"/>
              </a:solidFill>
              <a:latin typeface="Arial Black"/>
            </a:endParaRPr>
          </a:p>
        </p:txBody>
      </p:sp>
      <p:sp>
        <p:nvSpPr>
          <p:cNvPr id="416" name=""/>
          <p:cNvSpPr txBox="1"/>
          <p:nvPr/>
        </p:nvSpPr>
        <p:spPr>
          <a:xfrm>
            <a:off x="456840" y="1752120"/>
            <a:ext cx="7620120" cy="4373640"/>
          </a:xfrm>
          <a:prstGeom prst="rect">
            <a:avLst/>
          </a:prstGeom>
          <a:noFill/>
          <a:ln w="0">
            <a:noFill/>
          </a:ln>
        </p:spPr>
        <p:txBody>
          <a:bodyPr anchor="t">
            <a:normAutofit/>
          </a:bodyPr>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ن نتدرج في تقديم المفهوم للطفل في البداية يكون عدد عناصر المجموعة اقل من </a:t>
            </a:r>
            <a:r>
              <a:rPr b="0" lang="ar-SA" sz="2400" spc="-1" strike="noStrike">
                <a:solidFill>
                  <a:srgbClr val="000000"/>
                </a:solidFill>
                <a:latin typeface="Arial"/>
              </a:rPr>
              <a:t>5</a:t>
            </a:r>
            <a:r>
              <a:rPr b="0" lang="ar-SA" sz="2400" spc="-1" strike="noStrike">
                <a:solidFill>
                  <a:srgbClr val="000000"/>
                </a:solidFill>
                <a:latin typeface="Arial"/>
              </a:rPr>
              <a:t> عناصر، ثم تزيد تدريجيا حتى </a:t>
            </a:r>
            <a:r>
              <a:rPr b="0" lang="ar-SA" sz="2400" spc="-1" strike="noStrike">
                <a:solidFill>
                  <a:srgbClr val="000000"/>
                </a:solidFill>
                <a:latin typeface="Arial"/>
              </a:rPr>
              <a:t>9</a:t>
            </a:r>
            <a:r>
              <a:rPr b="0" lang="ar-SA" sz="2400" spc="-1" strike="noStrike">
                <a:solidFill>
                  <a:srgbClr val="000000"/>
                </a:solidFill>
                <a:latin typeface="Arial"/>
              </a:rPr>
              <a:t> عناصر وعندها نستطيع ان نحكم ان الطفل فهم التناظر الاحادي.</a:t>
            </a:r>
            <a:endParaRPr b="1" lang="en-US" sz="2400" spc="-1" strike="noStrike">
              <a:solidFill>
                <a:srgbClr val="000000"/>
              </a:solidFill>
              <a:latin typeface="Arial"/>
            </a:endParaRPr>
          </a:p>
          <a:p>
            <a:pPr marL="272880" indent="-27288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مثله :</a:t>
            </a:r>
            <a:endParaRPr b="1" lang="en-US" sz="2400" spc="-1" strike="noStrike">
              <a:solidFill>
                <a:srgbClr val="000000"/>
              </a:solidFill>
              <a:latin typeface="Arial"/>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يوان وصغاره – العامل وادواته - نوع الحيوان والغطاء الذي يغطي جسمه – مقابلة مجموعات مكونه من نفس العدد.</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نمو مفهوم المقابلة</a:t>
            </a:r>
            <a:endParaRPr b="0" lang="en-US" sz="3600" spc="-1" strike="noStrike">
              <a:solidFill>
                <a:srgbClr val="d1282e"/>
              </a:solidFill>
              <a:latin typeface="Arial Black"/>
            </a:endParaRPr>
          </a:p>
        </p:txBody>
      </p:sp>
      <p:sp>
        <p:nvSpPr>
          <p:cNvPr id="418" name=""/>
          <p:cNvSpPr txBox="1"/>
          <p:nvPr/>
        </p:nvSpPr>
        <p:spPr>
          <a:xfrm>
            <a:off x="456840" y="1752120"/>
            <a:ext cx="793116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بدأ تعلم الطفل مفهوم التناظر الأحادي في المرحلة الحسية الحركية اثناء اللعب، من قبل سن المشي يستطيع ان يقابل يركب الدمى الخمس في الحفر الخمس.</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مع نمو الطفل  في سن الثانية فإنه يقضي الكثير من الوقت في العاب المقابلة، مثلا يضع على كل طبق فنجان وعلى كل كرسي دمية واحيانا يقوم بمساعدة والدته في اعداد مائدة الطعام فيضع لكل فرد كوب او ملعقة.</a:t>
            </a: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 ان نمو مفهوم التناظر الاحادي وثبات العدد للمجموعات لا تنمو لدى الطفل الا في مراحل متأخرة كما وضح بياجيه في تجربت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03280" y="259920"/>
            <a:ext cx="6400800" cy="8384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b9899"/>
                </a:solidFill>
                <a:latin typeface="Arial Black"/>
              </a:rPr>
              <a:t>مهارة التصنيف</a:t>
            </a:r>
            <a:endParaRPr b="0" lang="en-US" sz="3600" spc="-1" strike="noStrike">
              <a:solidFill>
                <a:srgbClr val="d1282e"/>
              </a:solidFill>
              <a:latin typeface="Arial Black"/>
            </a:endParaRPr>
          </a:p>
        </p:txBody>
      </p:sp>
      <p:sp>
        <p:nvSpPr>
          <p:cNvPr id="383" name=""/>
          <p:cNvSpPr txBox="1"/>
          <p:nvPr/>
        </p:nvSpPr>
        <p:spPr>
          <a:xfrm>
            <a:off x="971640" y="2362320"/>
            <a:ext cx="7772400" cy="4495680"/>
          </a:xfrm>
          <a:prstGeom prst="rect">
            <a:avLst/>
          </a:prstGeom>
          <a:noFill/>
          <a:ln w="0">
            <a:noFill/>
          </a:ln>
        </p:spPr>
        <p:txBody>
          <a:bodyPr anchor="t">
            <a:normAutofit/>
          </a:bodyPr>
          <a:p>
            <a:pPr lvl="1" marL="457200" indent="1440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ماهو مفهومك لمصطلح التصنيف ؟؟؟</a:t>
            </a:r>
            <a:endParaRPr b="0" lang="en-US" sz="24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مخطط انسيابي: تخزين بالوصول التسلسلي 12"/>
          <p:cNvSpPr/>
          <p:nvPr/>
        </p:nvSpPr>
        <p:spPr>
          <a:xfrm>
            <a:off x="1187280" y="3860640"/>
            <a:ext cx="6624720" cy="1584360"/>
          </a:xfrm>
          <a:prstGeom prst="flowChartMagneticTape">
            <a:avLst/>
          </a:prstGeom>
          <a:solidFill>
            <a:srgbClr val="ff0000"/>
          </a:solidFill>
          <a:ln w="41400">
            <a:solidFill>
              <a:srgbClr val="ffffff"/>
            </a:solidFill>
            <a:miter/>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هو القدرة على تجميع الاشياء التي لها نفس الخصائص في مجموعة واحدة</a:t>
            </a:r>
            <a:r>
              <a:rPr b="1" lang="ar-SA" sz="2200" spc="-1" strike="noStrike">
                <a:solidFill>
                  <a:srgbClr val="ffffff"/>
                </a:solidFill>
                <a:latin typeface="Arial"/>
                <a:ea typeface="Arial"/>
              </a:rPr>
              <a:t>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4"/>
                                        </p:tgtEl>
                                        <p:attrNameLst>
                                          <p:attrName>style.visibility</p:attrName>
                                        </p:attrNameLst>
                                      </p:cBhvr>
                                      <p:to>
                                        <p:strVal val="visible"/>
                                      </p:to>
                                    </p:set>
                                    <p:animEffect filter="blinds(horizontal)" transition="in">
                                      <p:cBhvr additive="repl">
                                        <p:cTn id="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915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تتنوع انشطة تعلم المقابلة:</a:t>
            </a:r>
            <a:endParaRPr b="0" lang="en-US" sz="3600" spc="-1" strike="noStrike">
              <a:solidFill>
                <a:srgbClr val="d1282e"/>
              </a:solidFill>
              <a:latin typeface="Arial Black"/>
            </a:endParaRPr>
          </a:p>
        </p:txBody>
      </p:sp>
      <p:sp>
        <p:nvSpPr>
          <p:cNvPr id="420"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دراك السمات الحسية لعناصر المقابلة:</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درج هذا النشاط من السهولة الى الصعوبة، في البداية نقدم اشياء حقيقية غير متشابهة مثل كل صحن ملعقة، ثم ننتقل الى الاشياء الحقيقية  المشابهة مثل مجموعتين مكعبات، ثم ننتقل الى الصور غير المتشابهة مثل (لكل صاحب مهنة اداة) ثم ننتقل الى الصور المتشابهة: صور دوائر مثلا صفراء وحمراء مثلا.</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عدد ال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قل من </a:t>
            </a:r>
            <a:r>
              <a:rPr b="0" lang="ar-SA" sz="2400" spc="-1" strike="noStrike">
                <a:solidFill>
                  <a:srgbClr val="000000"/>
                </a:solidFill>
                <a:latin typeface="Arial"/>
              </a:rPr>
              <a:t>5</a:t>
            </a:r>
            <a:r>
              <a:rPr b="0" lang="ar-SA" sz="2400" spc="-1" strike="noStrike">
                <a:solidFill>
                  <a:srgbClr val="000000"/>
                </a:solidFill>
                <a:latin typeface="Arial"/>
              </a:rPr>
              <a:t> حتى </a:t>
            </a:r>
            <a:r>
              <a:rPr b="0" lang="ar-SA" sz="2400" spc="-1" strike="noStrike">
                <a:solidFill>
                  <a:srgbClr val="000000"/>
                </a:solidFill>
                <a:latin typeface="Arial"/>
              </a:rPr>
              <a:t>9</a:t>
            </a:r>
            <a:r>
              <a:rPr b="0" lang="ar-SA" sz="2400" spc="-1" strike="noStrike">
                <a:solidFill>
                  <a:srgbClr val="000000"/>
                </a:solidFill>
                <a:latin typeface="Arial"/>
              </a:rPr>
              <a:t> عناصر.</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مجسمات:</a:t>
            </a:r>
            <a:endParaRPr b="1"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أشياء الحقيقية والشائعة بالنسبة للطفل مثل دمى وسيارات، وفي المستوى الثاني نستخدم اشكال مقصوصة مثل الاشكال الهندسية، وبعدها ننتقل الى صور الاشياء الحقيقية، وفي المستوى الرابع ممكن ان ننتقل الى الرموز والنماذج مثلا </a:t>
            </a:r>
            <a:r>
              <a:rPr b="0" lang="ar-SA" sz="2400" spc="-1" strike="noStrike">
                <a:solidFill>
                  <a:srgbClr val="000000"/>
                </a:solidFill>
                <a:latin typeface="Arial"/>
              </a:rPr>
              <a:t>4</a:t>
            </a:r>
            <a:r>
              <a:rPr b="0" lang="ar-SA" sz="2400" spc="-1" strike="noStrike">
                <a:solidFill>
                  <a:srgbClr val="000000"/>
                </a:solidFill>
                <a:latin typeface="Arial"/>
              </a:rPr>
              <a:t> مع اربعة دوائر.</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6840" y="1752120"/>
            <a:ext cx="7620120" cy="437364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درجة الارتباط الطبيعي بين مجموعتي المقابلة:</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بدأ بالمجموعات المرتبطة ارتباطاً طبيعياً  لأنها اسهل مثلا (قدم- حذاء ، صحن- فنجان) ثم نستطيع ان ننتقل الى اقامة مقابلة بين عناصر مجموعات    لا يربطها ارتباط طبيعي مثل (كرة- صندوق)..</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مقابلة المجموعات المتساوية وغير المتساوية عددياً: </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قابلة بين المجموعات غير المتساوية عدديا صعب على الطفل ويجعله غير متأكد من ادائه</a:t>
            </a:r>
            <a:endParaRPr b="1" lang="en-US" sz="2400" spc="-1" strike="noStrike">
              <a:solidFill>
                <a:srgbClr val="000000"/>
              </a:solidFill>
              <a:latin typeface="Arial"/>
            </a:endParaRPr>
          </a:p>
          <a:p>
            <a:pPr marL="343080" indent="-343080"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94920" y="404280"/>
            <a:ext cx="8209080" cy="4373640"/>
          </a:xfrm>
          <a:prstGeom prst="rect">
            <a:avLst/>
          </a:prstGeom>
          <a:noFill/>
          <a:ln w="0">
            <a:noFill/>
          </a:ln>
        </p:spPr>
        <p:txBody>
          <a:bodyPr anchor="t">
            <a:normAutofit fontScale="84000"/>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شروع الأول</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a:t>
            </a:r>
            <a:r>
              <a:rPr b="1" lang="ar-SA" sz="2000" spc="-1" strike="noStrike" u="sng">
                <a:solidFill>
                  <a:srgbClr val="000000"/>
                </a:solidFill>
                <a:uFillTx/>
                <a:latin typeface="Arial"/>
              </a:rPr>
              <a:t>. التصنيف:</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وم الطالبة بعمل وسيلة تصنيف  لركن الادراك.</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rPr>
              <a:t>مع مراعاة ما يلي:</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ضع قاعدة تجمع اجزاء الوسيلة.</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بداع والتميز والتجديد في فكرة التقديم والوسائل.</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راعي متانة الوسيلة وتغليف البطاقات ان وجدت.</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ند تقديم الطالبة لوسيلتها تكون على دراية تامة بالأهداف التي تحققها الوسيلة وكيفية تقديمها للطفل .</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يكون مستوى صعوبة الوسيلة مناسب للأطفال وقادر على اثارة تفكيرهم.</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الادوات مناسبة من ناحية الحجم للركن.</a:t>
            </a:r>
            <a:endParaRPr b="1" lang="en-US" sz="2000" spc="-1" strike="noStrike">
              <a:solidFill>
                <a:srgbClr val="000000"/>
              </a:solidFill>
              <a:latin typeface="Arial"/>
            </a:endParaRPr>
          </a:p>
          <a:p>
            <a:pPr algn="r" rtl="1">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11280" y="1125000"/>
            <a:ext cx="7619760" cy="4373640"/>
          </a:xfrm>
          <a:prstGeom prst="rect">
            <a:avLst/>
          </a:prstGeom>
          <a:noFill/>
          <a:ln w="0">
            <a:noFill/>
          </a:ln>
        </p:spPr>
        <p:txBody>
          <a:bodyPr anchor="t">
            <a:normAutofit fontScale="92000"/>
          </a:bodyPr>
          <a:p>
            <a:pPr algn="r" rtl="1">
              <a:lnSpc>
                <a:spcPct val="115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2</a:t>
            </a:r>
            <a:r>
              <a:rPr b="1" lang="ar-SA" sz="2000" spc="-1" strike="noStrike" u="sng">
                <a:solidFill>
                  <a:srgbClr val="000000"/>
                </a:solidFill>
                <a:uFillTx/>
                <a:latin typeface="Arial"/>
              </a:rPr>
              <a:t>. التناظرالاحادي:</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طط الطالبة لنشاط تناظر احادي مناسب لركن الأدراك بحيث تقدم فكرته عن طريق الصور فقط دون تنفيذ بالوسائل - كما يمكن ان تبحث في مواقع الانترنت عن نشاط مناسب ويحقق الهدف المطلوب وتحضر صورته.</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تقل عدد عناصر المقابلة عن </a:t>
            </a:r>
            <a:r>
              <a:rPr b="0" lang="ar-SA" sz="2000" spc="-1" strike="noStrike">
                <a:solidFill>
                  <a:srgbClr val="000000"/>
                </a:solidFill>
                <a:latin typeface="Arial"/>
              </a:rPr>
              <a:t>6</a:t>
            </a:r>
            <a:r>
              <a:rPr b="0" lang="ar-SA" sz="2000" spc="-1" strike="noStrike">
                <a:solidFill>
                  <a:srgbClr val="000000"/>
                </a:solidFill>
                <a:latin typeface="Arial"/>
              </a:rPr>
              <a:t> عناصر يقابلها </a:t>
            </a:r>
            <a:r>
              <a:rPr b="0" lang="ar-SA" sz="2000" spc="-1" strike="noStrike">
                <a:solidFill>
                  <a:srgbClr val="000000"/>
                </a:solidFill>
                <a:latin typeface="Arial"/>
              </a:rPr>
              <a:t>6</a:t>
            </a:r>
            <a:r>
              <a:rPr b="0" lang="ar-SA" sz="2000" spc="-1" strike="noStrike">
                <a:solidFill>
                  <a:srgbClr val="000000"/>
                </a:solidFill>
                <a:latin typeface="Arial"/>
              </a:rPr>
              <a:t> عناصر اخرى ولا تزيد عن </a:t>
            </a:r>
            <a:r>
              <a:rPr b="0" lang="ar-SA" sz="2000" spc="-1" strike="noStrike">
                <a:solidFill>
                  <a:srgbClr val="000000"/>
                </a:solidFill>
                <a:latin typeface="Arial"/>
              </a:rPr>
              <a:t>9</a:t>
            </a:r>
            <a:r>
              <a:rPr b="0" lang="ar-SA" sz="2000" spc="-1" strike="noStrike">
                <a:solidFill>
                  <a:srgbClr val="000000"/>
                </a:solidFill>
                <a:latin typeface="Arial"/>
              </a:rPr>
              <a:t>.</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تعد الطالبة عن استخدام الاعداد .</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 تكون عناصر المقابلة  بينها ارتباط طبيعي، ويجمعها موضوع واحد مثل (مقابلة الحيوانات ومساكنها) (مقابلة المهن مع ادواتها).</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ن يكتب في ورقة العمل (اسم الطفل, والمطلوب منه في جملة مختصرة).</a:t>
            </a:r>
            <a:endParaRPr b="1" lang="en-US" sz="2000" spc="-1" strike="noStrike">
              <a:solidFill>
                <a:srgbClr val="000000"/>
              </a:solidFill>
              <a:latin typeface="Arial"/>
            </a:endParaRPr>
          </a:p>
          <a:p>
            <a:pPr algn="r" rtl="1">
              <a:lnSpc>
                <a:spcPct val="115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دم الطالبة ورقة تحضير للوسيلة بالإضافة الى الصورة التوضيحية للوسيلة. </a:t>
            </a:r>
            <a:endParaRPr b="1" lang="en-US" sz="2000" spc="-1" strike="noStrike">
              <a:solidFill>
                <a:srgbClr val="000000"/>
              </a:solidFill>
              <a:latin typeface="Arial"/>
            </a:endParaRPr>
          </a:p>
          <a:p>
            <a:pPr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971640" y="692280"/>
            <a:ext cx="7772400" cy="4495680"/>
          </a:xfrm>
          <a:prstGeom prst="rect">
            <a:avLst/>
          </a:prstGeom>
          <a:noFill/>
          <a:ln w="0">
            <a:noFill/>
          </a:ln>
        </p:spPr>
        <p:txBody>
          <a:bodyPr anchor="t">
            <a:normAutofit fontScale="94000"/>
          </a:bodyPr>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مهارة التصنيف تعتبر من أول المهارات التي يكتسبها العقل البشري.</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تعد مهارة التصنيف الاساس الذي يبنى عليه  تعلم المفاهيم الرياضية اللاحقة .</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تمييز البصري، فالطفل بحاجة الى ان يميز بصرياً  الأشكال والأحجام والألوان حتى يتمكن من تصنيفها.</a:t>
            </a:r>
            <a:endParaRPr b="0" lang="en-US" sz="2400" spc="-1" strike="noStrike">
              <a:solidFill>
                <a:srgbClr val="000000"/>
              </a:solidFill>
              <a:latin typeface="Arial"/>
            </a:endParaRPr>
          </a:p>
          <a:p>
            <a:pPr lvl="1" marL="752040" indent="-322200" algn="r" rtl="1">
              <a:lnSpc>
                <a:spcPct val="150000"/>
              </a:lnSpc>
              <a:spcBef>
                <a:spcPts val="601"/>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يتضمن التصنيف القدرة على المقارنة بين الأشياء.</a:t>
            </a:r>
            <a:r>
              <a:rPr b="1" lang="en-US" sz="2400" spc="-1" strike="noStrike">
                <a:solidFill>
                  <a:srgbClr val="ff0000"/>
                </a:solidFill>
                <a:latin typeface="Times New Roman"/>
                <a:ea typeface="Times New Roman"/>
              </a:rPr>
              <a:t> </a:t>
            </a:r>
            <a:endParaRPr b="0" lang="en-US" sz="2400" spc="-1" strike="noStrike">
              <a:solidFill>
                <a:srgbClr val="000000"/>
              </a:solidFill>
              <a:latin typeface="Arial"/>
            </a:endParaRPr>
          </a:p>
          <a:p>
            <a:pPr marL="256320" indent="-256320" algn="r" rtl="1">
              <a:lnSpc>
                <a:spcPct val="10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مثال</a:t>
            </a:r>
            <a:endParaRPr b="0" lang="en-US" sz="3600" spc="-1" strike="noStrike">
              <a:solidFill>
                <a:srgbClr val="d1282e"/>
              </a:solidFill>
              <a:latin typeface="Arial Black"/>
            </a:endParaRPr>
          </a:p>
        </p:txBody>
      </p:sp>
      <p:sp>
        <p:nvSpPr>
          <p:cNvPr id="387" name=""/>
          <p:cNvSpPr txBox="1"/>
          <p:nvPr/>
        </p:nvSpPr>
        <p:spPr>
          <a:xfrm>
            <a:off x="250560" y="1989000"/>
            <a:ext cx="8504280" cy="4572000"/>
          </a:xfrm>
          <a:prstGeom prst="rect">
            <a:avLst/>
          </a:prstGeom>
          <a:noFill/>
          <a:ln w="0">
            <a:noFill/>
          </a:ln>
        </p:spPr>
        <p:txBody>
          <a:bodyPr anchor="t">
            <a:normAutofit/>
          </a:bodyPr>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9d1e23"/>
                </a:solidFill>
                <a:latin typeface="Arial"/>
              </a:rPr>
              <a:t> </a:t>
            </a:r>
            <a:r>
              <a:rPr b="1" lang="ar-SA" sz="2800" spc="-1" strike="noStrike">
                <a:solidFill>
                  <a:srgbClr val="9d1e23"/>
                </a:solidFill>
                <a:latin typeface="Arial"/>
              </a:rPr>
              <a:t>تجمع أمام منزل أحد الأئمة عدد كبير من الناس كل منهم يريد الفتوى في أمر يهمه وكان منزل الإمام لا يسع إلا لعشرين شخصًا ، فإذا سمع الإمام لكل واحد منهم منفردًا فسيستغرق ذلك وقتا طويلا ، فماذا يفعل الإمام حتى يحل هذه المشكلة ؟؟! </a:t>
            </a:r>
            <a:endParaRPr b="1" lang="en-US" sz="2800" spc="-1" strike="noStrike">
              <a:solidFill>
                <a:srgbClr val="000000"/>
              </a:solidFill>
              <a:latin typeface="Arial"/>
            </a:endParaRPr>
          </a:p>
          <a:p>
            <a:pPr marL="272880" indent="-272880" algn="r" rtl="1">
              <a:spcBef>
                <a:spcPts val="700"/>
              </a:spcBef>
              <a:buClr>
                <a:srgbClr val="9d1e2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d1e23"/>
                </a:solidFill>
                <a:uFillTx/>
                <a:latin typeface="Arial"/>
              </a:rPr>
              <a:t>فكر الإمام وقام بحل هذه المشكلة بواسطة مهارة التصنيف ؟؟</a:t>
            </a:r>
            <a:endParaRPr b="1" lang="en-US" sz="2800" spc="-1" strike="noStrike">
              <a:solidFill>
                <a:srgbClr val="000000"/>
              </a:solidFill>
              <a:latin typeface="Arial"/>
            </a:endParaRPr>
          </a:p>
          <a:p>
            <a:pPr marL="272880" indent="-272880" algn="r" rtl="1">
              <a:spcBef>
                <a:spcPts val="700"/>
              </a:spcBef>
              <a:buClr>
                <a:srgbClr val="9d1e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تصنيف</a:t>
            </a:r>
            <a:endParaRPr b="0" lang="en-US" sz="3600" spc="-1" strike="noStrike">
              <a:solidFill>
                <a:srgbClr val="d1282e"/>
              </a:solidFill>
              <a:latin typeface="Arial Black"/>
            </a:endParaRPr>
          </a:p>
        </p:txBody>
      </p:sp>
      <p:sp>
        <p:nvSpPr>
          <p:cNvPr id="389" name=""/>
          <p:cNvSpPr txBox="1"/>
          <p:nvPr/>
        </p:nvSpPr>
        <p:spPr>
          <a:xfrm>
            <a:off x="456840" y="1752120"/>
            <a:ext cx="7715160" cy="2868840"/>
          </a:xfrm>
          <a:prstGeom prst="rect">
            <a:avLst/>
          </a:prstGeom>
          <a:noFill/>
          <a:ln w="0">
            <a:noFill/>
          </a:ln>
        </p:spPr>
        <p:txBody>
          <a:bodyPr anchor="t">
            <a:normAutofit fontScale="96000"/>
          </a:bodyPr>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دء بالتصنيف بناء على خاصية واحدة.</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إتقان السابق نستطيع ان ننتقل الى التصنيف بناء على الاشتراك في خاصيتين  في آن واحد (تصنيف متعدد)</a:t>
            </a:r>
            <a:endParaRPr b="1" lang="en-US" sz="2800" spc="-1" strike="noStrike">
              <a:solidFill>
                <a:srgbClr val="000000"/>
              </a:solidFill>
              <a:latin typeface="Arial"/>
            </a:endParaRPr>
          </a:p>
          <a:p>
            <a:pPr marL="438840" indent="-438840" algn="r" rtl="1">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صل الطفل للمفاهيم الخاصة بالتصنيف كل حسب سرعته الخاصة في النمو.</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71640" y="549360"/>
            <a:ext cx="7138800" cy="13716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لتنمو مهارة التصنيف بشكل متكامل يجب تحقيق شرطين اساسيين: </a:t>
            </a:r>
            <a:br>
              <a:rPr sz="3200"/>
            </a:br>
            <a:endParaRPr b="0" lang="en-US" sz="3600" spc="-1" strike="noStrike">
              <a:solidFill>
                <a:srgbClr val="d1282e"/>
              </a:solidFill>
              <a:latin typeface="Arial Black"/>
            </a:endParaRPr>
          </a:p>
        </p:txBody>
      </p:sp>
      <p:sp>
        <p:nvSpPr>
          <p:cNvPr id="391" name=""/>
          <p:cNvSpPr txBox="1"/>
          <p:nvPr/>
        </p:nvSpPr>
        <p:spPr>
          <a:xfrm>
            <a:off x="1186920" y="1699920"/>
            <a:ext cx="7620120" cy="4373640"/>
          </a:xfrm>
          <a:prstGeom prst="rect">
            <a:avLst/>
          </a:prstGeom>
          <a:noFill/>
          <a:ln w="0">
            <a:noFill/>
          </a:ln>
        </p:spPr>
        <p:txBody>
          <a:bodyPr anchor="t">
            <a:normAutofit fontScale="98000"/>
          </a:bodyPr>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ادراك الحسي للطفل عن طريق توظيف الحواس للتعرف على الاشياء ووصفها وتصنيفها.</a:t>
            </a:r>
            <a:endParaRPr b="0" lang="en-US" sz="2400" spc="-1" strike="noStrike">
              <a:solidFill>
                <a:srgbClr val="000000"/>
              </a:solidFill>
              <a:latin typeface="Arial"/>
            </a:endParaRPr>
          </a:p>
          <a:p>
            <a:pPr lvl="2" marL="1337760" indent="-447840" algn="r" rtl="1">
              <a:lnSpc>
                <a:spcPct val="10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نمية العمليات العقلية لدى الطفل: ويقصد به قدرته على تحليل الاشياء والاحداث واكتشاف اوجه الشبة والاختلاف بينها في ضوء خصائص محسوسة او مجردة.</a:t>
            </a: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7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عد هذه المهارة احدى المكونات الاساسية للتفكير المنطقي </a:t>
            </a:r>
            <a:endParaRPr b="0" lang="en-US" sz="2400" spc="-1" strike="noStrike">
              <a:solidFill>
                <a:srgbClr val="000000"/>
              </a:solidFill>
              <a:latin typeface="Arial"/>
            </a:endParaRPr>
          </a:p>
          <a:p>
            <a:pPr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ستطيل 3"/>
          <p:cNvSpPr/>
          <p:nvPr/>
        </p:nvSpPr>
        <p:spPr>
          <a:xfrm>
            <a:off x="468360" y="333360"/>
            <a:ext cx="8136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يتعلم الاطفال تجميع الأشياء باستخدام عدد من أنواع الملامح المألوفة مثل:</a:t>
            </a:r>
            <a:endParaRPr b="0" lang="en-US" sz="3600" spc="-1" strike="noStrike">
              <a:solidFill>
                <a:srgbClr val="000000"/>
              </a:solidFill>
              <a:latin typeface="Verdana"/>
            </a:endParaRPr>
          </a:p>
        </p:txBody>
      </p:sp>
      <p:sp>
        <p:nvSpPr>
          <p:cNvPr id="393" name="عنصر نائب للمحتوى 2"/>
          <p:cNvSpPr/>
          <p:nvPr/>
        </p:nvSpPr>
        <p:spPr>
          <a:xfrm>
            <a:off x="755640" y="1844640"/>
            <a:ext cx="8034480" cy="4800600"/>
          </a:xfrm>
          <a:prstGeom prst="rect">
            <a:avLst/>
          </a:prstGeom>
          <a:noFill/>
          <a:ln w="0">
            <a:noFill/>
          </a:ln>
        </p:spPr>
        <p:style>
          <a:lnRef idx="0"/>
          <a:fillRef idx="0"/>
          <a:effectRef idx="0"/>
          <a:fontRef idx="minor"/>
        </p:style>
        <p:txBody>
          <a:bodyPr lIns="90000" rIns="90000" tIns="46800" bIns="46800" anchor="t">
            <a:normAutofit fontScale="95000"/>
          </a:bodyPr>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لون: الاشياء يمكن أن تكون معا لأنها كلها لونها احمر</a:t>
            </a:r>
            <a:endParaRPr b="0" lang="en-US" sz="2800" spc="-1" strike="noStrike">
              <a:solidFill>
                <a:srgbClr val="000000"/>
              </a:solidFill>
              <a:latin typeface="Verdana"/>
            </a:endParaRPr>
          </a:p>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شكل: الاشياء قد تكون مستديرة , مربعة , مستطيلة </a:t>
            </a:r>
            <a:endParaRPr b="0" lang="en-US" sz="2800" spc="-1" strike="noStrike">
              <a:solidFill>
                <a:srgbClr val="000000"/>
              </a:solidFill>
              <a:latin typeface="Verdana"/>
            </a:endParaRPr>
          </a:p>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حجم: هناك بعض الأشياء كبيرة وبعضها صغيرة بعضها ممتلئ وبعضها رفيع بعضها قصير وبعضها طويل.</a:t>
            </a:r>
            <a:endParaRPr b="0" lang="en-US" sz="2800" spc="-1" strike="noStrike">
              <a:solidFill>
                <a:srgbClr val="000000"/>
              </a:solidFill>
              <a:latin typeface="Verdana"/>
            </a:endParaRPr>
          </a:p>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خامات: الاشياء التي يمكن ان تكون مصنوعة من خامات مختلفة كالخشب, البلاستيك, او الزجاج او الورق او القماش او المعدن</a:t>
            </a:r>
            <a:endParaRPr b="0" lang="en-US" sz="2800" spc="-1" strike="noStrike">
              <a:solidFill>
                <a:srgbClr val="000000"/>
              </a:solidFill>
              <a:latin typeface="Verdana"/>
            </a:endParaRPr>
          </a:p>
          <a:p>
            <a:pPr marL="346680" indent="-268200" algn="r" rtl="1">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لمس: الاشياء يمكن ان يكون لها ملامس مختلفة عن بعضها البعض ( فبعضها ناعم , خشن , طري , صلب , رطب , جاف)</a:t>
            </a:r>
            <a:endParaRPr b="0" lang="en-US" sz="2800" spc="-1" strike="noStrike">
              <a:solidFill>
                <a:srgbClr val="000000"/>
              </a:solidFill>
              <a:latin typeface="Verdana"/>
            </a:endParaRPr>
          </a:p>
          <a:p>
            <a:pPr marL="346680" indent="-268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6840" y="1752120"/>
            <a:ext cx="7620120" cy="4373640"/>
          </a:xfrm>
          <a:prstGeom prst="rect">
            <a:avLst/>
          </a:prstGeom>
          <a:noFill/>
          <a:ln w="0">
            <a:noFill/>
          </a:ln>
        </p:spPr>
        <p:txBody>
          <a:bodyPr anchor="t">
            <a:normAutofit/>
          </a:bodyPr>
          <a:p>
            <a:pPr algn="ctr" rtl="1">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كيف يتم التصنيف؟</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8000" y="115920"/>
            <a:ext cx="5791320" cy="1371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1282e"/>
                </a:solidFill>
                <a:latin typeface="Arial Black"/>
              </a:rPr>
              <a:t>القياس القبلي</a:t>
            </a:r>
            <a:endParaRPr b="0" lang="en-US" sz="3600" spc="-1" strike="noStrike">
              <a:solidFill>
                <a:srgbClr val="d1282e"/>
              </a:solidFill>
              <a:latin typeface="Arial Black"/>
            </a:endParaRPr>
          </a:p>
        </p:txBody>
      </p:sp>
      <p:sp>
        <p:nvSpPr>
          <p:cNvPr id="396" name=""/>
          <p:cNvSpPr txBox="1"/>
          <p:nvPr/>
        </p:nvSpPr>
        <p:spPr>
          <a:xfrm>
            <a:off x="457200" y="1752120"/>
            <a:ext cx="8291520" cy="4373640"/>
          </a:xfrm>
          <a:prstGeom prst="rect">
            <a:avLst/>
          </a:prstGeom>
          <a:noFill/>
          <a:ln w="0">
            <a:noFill/>
          </a:ln>
        </p:spPr>
        <p:txBody>
          <a:bodyPr anchor="t">
            <a:normAutofit fontScale="93000"/>
          </a:bodyPr>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ملاحظة انشطة لعب الاطفال الحر: هل يقومون بفصل الاشياء و تجميعها ( بناء مواقف احدهما للسيارات الصغيرة و آخر للسيارات الكبيرة – الاولاد يلعبون كفريق والبنات كفريق مقابل ....الخ) </a:t>
            </a:r>
            <a:endParaRPr b="1" lang="en-US" sz="3200" spc="-1" strike="noStrike">
              <a:solidFill>
                <a:srgbClr val="000000"/>
              </a:solidFill>
              <a:latin typeface="Arial"/>
            </a:endParaRPr>
          </a:p>
          <a:p>
            <a:pPr marL="339480" indent="-262800" algn="r" rtl="1">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cs typeface="Majalla UI"/>
              </a:rPr>
              <a:t>تكليف الاطفال بمهام التصنيف و تكوين فئات بناء على محكات مثل اللون – الحجم – النوع .....الخ و من المهم سؤال الطفل عن السبب الذى جعله يضم هذا العنصر او ذاك في هذه الفئة – لماذا في رأيك ينتمى هذا العنصر الى هذه الفئة؟</a:t>
            </a:r>
            <a:endParaRPr b="1" lang="en-US" sz="3200" spc="-1" strike="noStrike">
              <a:solidFill>
                <a:srgbClr val="000000"/>
              </a:solidFill>
              <a:latin typeface="Arial"/>
            </a:endParaRPr>
          </a:p>
          <a:p>
            <a:pPr marL="339480" indent="-262800" algn="r" rtl="1">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9:23Z</dcterms:created>
  <dc:creator>Hala</dc:creator>
  <dc:description/>
  <dc:language>en-US</dc:language>
  <cp:lastModifiedBy>GCUSER</cp:lastModifiedBy>
  <dcterms:modified xsi:type="dcterms:W3CDTF">2017-03-28T06:56:31Z</dcterms:modified>
  <cp:revision>134</cp:revision>
  <dc:subject/>
  <dc:title>التصنيف</dc:title>
</cp:coreProperties>
</file>