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C696-D511-4181-B3EA-CB558D32B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B6AC8-A10C-4AD8-9BE3-1330214E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FD164-1523-4E23-8966-B334DEB4B2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6ADD4-7B1F-43F1-8C32-BC0743136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6C76D8-A3BA-41B0-8040-9AEB7C6814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04282-58ED-4372-B263-E9CDA5D05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19180-10DC-40ED-BB06-E4B2744B1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BAA8F-91E8-4C65-9A95-C8E91B31B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53BE26-C512-40CD-98E2-A58603595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0830EA-9E4F-4E44-8F8A-0B9F3ABD1B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324D1C-12B4-4496-B135-79174314FE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35A2E-BCAE-406C-88BF-11AB1AE2C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582AF-C02A-4E10-B99F-9C6C04048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70F93-6EA2-4E8D-A6D2-5DA1C4706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D5DFB-2096-4691-AB03-450A12B5D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49AF6-FC48-40B6-A4ED-C8C6F7091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76E53-5DE0-40C4-A75C-E06C11B75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28A38-8C38-4CDA-8F26-1D9677662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1D1EF-CF06-4268-ABB1-0BE249B7A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647E-54C5-4C2E-9ACC-18243EB7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EA34B-50D6-4B81-ACE2-E0DEC53AF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EA7DF-5519-4E05-BA74-84F92F92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85745-3056-4F47-BF92-9B54155FD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37D2F-CC73-4FE4-AA94-2F6CB15AB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329D5-E371-4BB6-AE04-96F3ADE8E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EF5F8-3986-4D82-B943-A4C0067BA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83B20A-C63B-4A86-95D8-0AECA2F5E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15A26-F602-4E36-912E-952B2CACF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D4488-1360-4E6E-9D4E-5008ED374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6C439-671F-4C0B-8B3F-AFB392728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77511-B82D-48C4-AF06-2F4E642CB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033D-BCF8-43FE-A684-0AAC1D99D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6C3E1-093A-4505-99EF-03A88A184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29FAF-8529-4088-BF22-E296693C3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F2D63-3143-4F20-840B-9685D579E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AB370-7F8A-48A5-B048-5EA862E23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BE176-FD0F-4925-A96A-B17F09370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61A3E1-5647-4440-B058-1C1A65A86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35031-377C-4AB6-9A99-99BBD759B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4FC11-2B44-4960-8D7E-4EF4AA8C0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3A89D-42B0-4394-AA56-1DF875F72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A37EB-BC8E-4E3C-8A9A-4B1827829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0E24A-0647-42F9-B0EE-C71DF6219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EC04A-B10B-4AE4-9740-E077E88E0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FFD4A-CBB8-4CBE-92A1-D6C80CCC7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5C648-5111-4E29-B288-EB15B9D3D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7801B-4364-4DE8-891D-D5258503C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A160F-A403-481B-9DA6-A681EF7C6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6F8C-F0EB-44E7-852D-BDDFBDAB3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B869A-1F84-40CA-B741-4CDDEB253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6B9C6-B698-4FFB-964C-9B10FCE19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A82D70-B06F-4D06-B8C6-9DDB9E2685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917B80-2F83-48E1-B0CB-8FF450A74E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728F-9C4D-49D6-A1A6-DCA22A978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3B553-ABBB-41D2-810A-3B9265AA5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EB1D5-A937-4DD5-9E47-16012CCA2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26231-81CA-4D52-807A-FBA217DCC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188F6-1642-4871-88D3-7BD6D032A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D2865-B1AE-492A-9CAB-BB59708CD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1F795-82D5-492D-8B3B-40CDE476A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210B5-F625-48AE-9DD5-12266AD99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AC704-B534-4D6F-ADA8-25FFBEBFC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E8F0E-C6B5-4CCA-91B6-FCE416EE5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65F8B-ACB3-45AA-93E2-E8DCD2828A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C7E9-65A6-477C-AEEA-98227EAEB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0F0540-F97C-4EB5-85C0-CF67BA3410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CC1E13-0C98-41EF-82B2-F3156B6959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9C728-A4D8-492F-8A35-5DFF474B30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17226-7FE9-46D8-BB86-917A5AA24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2F22BB-9A42-42D5-9793-358A798B6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F23A5-DBD6-490F-9CCE-EB11AA0F5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27FA46-775A-4AF4-B5F6-75756A613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B181B-2377-4E89-B22A-A0F1C8DE9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6CB24-FBDE-4088-B194-112E09499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E1D87-66FB-436B-9023-199378ED2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D2A76-F765-4718-8096-A37B73C7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34F1F-02EE-47D0-8800-BE282205C0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BBAF39-0B4E-4B30-BB1B-A5753B9451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BAF721-49BA-4B85-B7B4-AA7397C9D3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C25D30-F831-4837-9EC7-0F7DBC0798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37D4C-414B-4784-8B3C-516C38379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781F4-EC96-466C-8BB9-60FFC5B759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71EA6-18AC-476F-849C-D3EDD1DBD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3DF16-472B-4692-94C4-3AA254C2B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D4192-9A89-43A0-B365-C84DA3F503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0B42C-6B04-415A-AB2B-90CB57CF1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55EB-235B-402B-A277-0B9313A5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2876D-D528-44B8-9349-672E0C0CC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0E1B4-6D6E-4872-A844-924A42441B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5EB04-5AC3-41A9-98E9-D646F262E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C7513B-701C-49E0-85D8-5B0654E194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B39BAD-AE1B-44EC-A062-B1DF6DFEE3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995D8D-A04C-4818-96A5-CD5FA0E97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D62293-43EF-427F-9F21-E7F93CE11B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6F09A-9ECE-4F42-B560-357AB78175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0E3DC4-5E44-407B-AA7B-FB2806C14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05E3B-9531-48FC-A62E-5F881E8D9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B793-F70C-4CF9-8105-01D94E1F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1597C-BD77-4B3C-9F54-2CBAB9E0D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A37D3-505A-42DA-B0BA-57C9E8F0D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956E8-59AB-4547-941A-DCDAAAC76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8A6C1-6769-4CA7-947D-29AC119CF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E5773-296A-4395-8141-02C78921F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97B846-06C9-4CD4-AF4E-17E567CFA6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0B8522-1DC1-46AD-88C1-59D662C9C3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FDEAF6-BE69-4EAA-8974-571C60057B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B0793-7D88-43F3-82FF-DEEFDCDA5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E03D1-F7CC-4A6F-AF18-DBFE3D6608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268A-39E9-4017-8736-DF03BDFECD5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1EB0-1A0E-4DFE-ACBE-8CAEEDF20B7D}"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C47E-6820-48FB-A13A-D1BC24AC0FA9}"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7AE6-B673-48CE-AD6D-4736E5BF1F33}"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8356-B275-481D-9FC4-54899773F87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02E9-7E17-4210-8DCE-D0378AFE1465}"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D416-191C-4DEB-8F21-0774D0A584A9}"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62C1-3341-44A9-9036-944F939CC621}"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7EF5-2549-4DA7-8780-3CFBA5632B91}"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8"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المفهوم </a:t>
            </a:r>
            <a:endParaRPr b="0" lang="en-US" sz="3600" spc="-1" strike="noStrike">
              <a:solidFill>
                <a:srgbClr val="d1282e"/>
              </a:solidFill>
              <a:latin typeface="Arial Black"/>
            </a:endParaRPr>
          </a:p>
        </p:txBody>
      </p:sp>
      <p:sp>
        <p:nvSpPr>
          <p:cNvPr id="400" name=""/>
          <p:cNvSpPr txBox="1"/>
          <p:nvPr/>
        </p:nvSpPr>
        <p:spPr>
          <a:xfrm>
            <a:off x="456840" y="1752120"/>
            <a:ext cx="8002440" cy="4373640"/>
          </a:xfrm>
          <a:prstGeom prst="rect">
            <a:avLst/>
          </a:prstGeom>
          <a:noFill/>
          <a:ln w="0">
            <a:noFill/>
          </a:ln>
        </p:spPr>
        <p:txBody>
          <a:bodyPr anchor="t">
            <a:normAutofit fontScale="84000"/>
          </a:bodyPr>
          <a:p>
            <a:pPr marL="453240" indent="-38376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طبيعية: من المعروف ان الاطفال منذ سن صغيرة يبدأون في تكوين مجموعات – و بوصولهم الى سن الثالثة يبدأون في فصل الاشياء لأغراض متعددة مثل فصل ما يحتاجه من ادوات اللعب – انتقاء الحيوانات المفترسة لتكوين حديقة الحيوانات – الدمى التي تمثل البشر لتمثيل مشاهد تخص الاسرة ....الخ </a:t>
            </a:r>
            <a:endParaRPr b="1" lang="en-US" sz="2800" spc="-1" strike="noStrike">
              <a:solidFill>
                <a:srgbClr val="000000"/>
              </a:solidFill>
              <a:latin typeface="Arial"/>
            </a:endParaRPr>
          </a:p>
          <a:p>
            <a:pPr marL="453240" indent="-38376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453240" indent="-3837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3"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5"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1282e"/>
                </a:solidFill>
                <a:latin typeface="Arial Black"/>
              </a:rPr>
              <a:t>المقارنة</a:t>
            </a:r>
            <a:endParaRPr b="0" lang="en-US" sz="4000" spc="-1" strike="noStrike">
              <a:solidFill>
                <a:srgbClr val="d1282e"/>
              </a:solidFill>
              <a:latin typeface="Arial Black"/>
            </a:endParaRPr>
          </a:p>
        </p:txBody>
      </p:sp>
      <p:sp>
        <p:nvSpPr>
          <p:cNvPr id="407" name="مستطيل 2"/>
          <p:cNvSpPr/>
          <p:nvPr/>
        </p:nvSpPr>
        <p:spPr>
          <a:xfrm>
            <a:off x="569880" y="1628640"/>
            <a:ext cx="7920000" cy="543204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 و ذلك من خلال القيام بعمليات المقارنة البسيطة, وان الاطفال يجب ان يكونوا قادرين على وصف التغيرات وصفا كيفيا مثل اطول من – اثقل من – اسرع من وكل ذلك يعكس فهم الطفل لمفاهيم المقارنة. </a:t>
            </a:r>
            <a:endParaRPr b="0" lang="en-US" sz="3200" spc="-1" strike="noStrike">
              <a:solidFill>
                <a:srgbClr val="000000"/>
              </a:solidFill>
              <a:latin typeface="Verdana"/>
            </a:endParaRPr>
          </a:p>
          <a:p>
            <a:pPr marL="365040" indent="-2826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 يمكن ادماج مفاهيم المقارنة في مجالات المنهج المختلف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تتم المقارنة؟</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410"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خلال ملاحظة الطفل اثناء انشطته العادية و اثناء اللعب الحر و ملاحظة كيف يتعامل مع المواقف التى تتضمن المقارنة بين شيئين هل يشير الى الدمى بان هذه كبيرة و تلك صغيرة</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ذلك يمكن ملاحظة ما لديه من محصول لغوى يعكس الفهم لعمليات المقارنة </a:t>
            </a:r>
            <a:endParaRPr b="1" lang="en-US" sz="2800" spc="-1" strike="noStrike">
              <a:solidFill>
                <a:srgbClr val="000000"/>
              </a:solidFill>
              <a:latin typeface="Arial"/>
            </a:endParaRPr>
          </a:p>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كليف الطفل بمهمة تظهر القدرة على المقارنة كأن يشير الى الاشياء الكبيرة و الاخرى الصغيرة او الطويلة و القصيرة , او التى تحتوى على قطع اكثر و قطع اقل ....الخ</a:t>
            </a:r>
            <a:endParaRPr b="1" lang="en-US" sz="2800" spc="-1" strike="noStrike">
              <a:solidFill>
                <a:srgbClr val="000000"/>
              </a:solidFill>
              <a:latin typeface="Arial"/>
            </a:endParaRPr>
          </a:p>
          <a:p>
            <a:pPr marL="353880" indent="-27396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لتنمية المفهوم </a:t>
            </a:r>
            <a:endParaRPr b="0" lang="en-US" sz="3600" spc="-1" strike="noStrike">
              <a:solidFill>
                <a:srgbClr val="d1282e"/>
              </a:solidFill>
              <a:latin typeface="Arial Black"/>
            </a:endParaRPr>
          </a:p>
        </p:txBody>
      </p:sp>
      <p:sp>
        <p:nvSpPr>
          <p:cNvPr id="412" name=""/>
          <p:cNvSpPr txBox="1"/>
          <p:nvPr/>
        </p:nvSpPr>
        <p:spPr>
          <a:xfrm>
            <a:off x="456840" y="1752120"/>
            <a:ext cx="7620120" cy="4373640"/>
          </a:xfrm>
          <a:prstGeom prst="rect">
            <a:avLst/>
          </a:prstGeom>
          <a:noFill/>
          <a:ln w="0">
            <a:noFill/>
          </a:ln>
        </p:spPr>
        <p:txBody>
          <a:bodyPr anchor="t">
            <a:normAutofit fontScale="86000"/>
          </a:bodyPr>
          <a:p>
            <a:pPr marL="313920" indent="-2430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طبيعية: هناك مواقف عديدة ويومية تتضمن عمليات المقارنة مثل اجلس على المقعد الصغير فهذا كبير – تناول الشراب الآن فهو اصبح ابرد – لا تحمل هذه فهي ثقيلة يمكنك ان تحمل الاخرى فهي اخف. </a:t>
            </a:r>
            <a:endParaRPr b="1" lang="en-US" sz="3200" spc="-1" strike="noStrike">
              <a:solidFill>
                <a:srgbClr val="000000"/>
              </a:solidFill>
              <a:latin typeface="Arial"/>
            </a:endParaRPr>
          </a:p>
          <a:p>
            <a:pPr marL="313920" indent="-2430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نشطة غير رسمية: 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 </a:t>
            </a:r>
            <a:endParaRPr b="1" lang="en-US" sz="3200" spc="-1" strike="noStrike">
              <a:solidFill>
                <a:srgbClr val="000000"/>
              </a:solidFill>
              <a:latin typeface="Arial"/>
            </a:endParaRPr>
          </a:p>
          <a:p>
            <a:pPr marL="313920" indent="-2430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ذات بناء محدد </a:t>
            </a:r>
            <a:endParaRPr b="0" lang="en-US" sz="3600" spc="-1" strike="noStrike">
              <a:solidFill>
                <a:srgbClr val="d1282e"/>
              </a:solidFill>
              <a:latin typeface="Arial Black"/>
            </a:endParaRPr>
          </a:p>
        </p:txBody>
      </p:sp>
      <p:sp>
        <p:nvSpPr>
          <p:cNvPr id="414" name=""/>
          <p:cNvSpPr txBox="1"/>
          <p:nvPr/>
        </p:nvSpPr>
        <p:spPr>
          <a:xfrm>
            <a:off x="457200" y="1752120"/>
            <a:ext cx="8291520" cy="4629240"/>
          </a:xfrm>
          <a:prstGeom prst="rect">
            <a:avLst/>
          </a:prstGeom>
          <a:noFill/>
          <a:ln w="0">
            <a:noFill/>
          </a:ln>
        </p:spPr>
        <p:txBody>
          <a:bodyPr anchor="t">
            <a:normAutofit fontScale="85000"/>
          </a:bodyPr>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حين نلاحظ ان احد الاطفال لا يستغل المواقف الطبيعية التي تستدعى المقارنة للقيام بذلك فانه يمكننا ان نخطط لهم انشطة اكثر رسمية من خلال توفير خامات تجارية صممت لهذا الغرض,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لإضافة الى توفير خامات من البيئة يمكن ان تخدم نفس الغرض وبالطبع تكون البداية بالخامات الطبيعية وتنتهى بالصور المجردة. </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مثلة الخامات التي يمكن توفيرها: الازرار – الدمى- الاكواب – الاطباق – سيارات – صناديق – اقلام – عصى ....الخ</a:t>
            </a:r>
            <a:endParaRPr b="1" lang="en-US" sz="2800" spc="-1" strike="noStrike">
              <a:solidFill>
                <a:srgbClr val="000000"/>
              </a:solidFill>
              <a:latin typeface="Arial"/>
            </a:endParaRPr>
          </a:p>
          <a:p>
            <a:pPr marL="309960" indent="-24012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ذلك لاختبار قدرة الطفل على المقارنة طبقا للصفات المختلفة مثل: كبير/صغير – قصير / طويل (راسيا و افقيا ) – سمين / نحيف – ثقيل /خفيف – سريع / بطيء – ساخن /بارد – قريب / بعيد ...الخ. </a:t>
            </a:r>
            <a:endParaRPr b="1" lang="en-US" sz="2800" spc="-1" strike="noStrike">
              <a:solidFill>
                <a:srgbClr val="000000"/>
              </a:solidFill>
              <a:latin typeface="Arial"/>
            </a:endParaRPr>
          </a:p>
          <a:p>
            <a:pPr marL="309960" indent="-24012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83">
                                            <p:txEl>
                                              <p:pRg st="0" end="0"/>
                                            </p:txEl>
                                          </p:spTgt>
                                        </p:tgtEl>
                                        <p:attrNameLst>
                                          <p:attrName>style.visibility</p:attrName>
                                        </p:attrNameLst>
                                      </p:cBhvr>
                                      <p:to>
                                        <p:strVal val="visible"/>
                                      </p:to>
                                    </p:set>
                                    <p:anim calcmode="lin" valueType="num">
                                      <p:cBhvr additive="base">
                                        <p:cTn id="12"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a:t>
            </a:r>
            <a:endParaRPr b="0" lang="en-US" sz="3600" spc="-1" strike="noStrike">
              <a:solidFill>
                <a:srgbClr val="d1282e"/>
              </a:solidFill>
              <a:latin typeface="Arial Black"/>
            </a:endParaRPr>
          </a:p>
        </p:txBody>
      </p:sp>
      <p:sp>
        <p:nvSpPr>
          <p:cNvPr id="416" name=""/>
          <p:cNvSpPr txBox="1"/>
          <p:nvPr/>
        </p:nvSpPr>
        <p:spPr>
          <a:xfrm>
            <a:off x="456840" y="1752120"/>
            <a:ext cx="7620120" cy="4373640"/>
          </a:xfrm>
          <a:prstGeom prst="rect">
            <a:avLst/>
          </a:prstGeom>
          <a:noFill/>
          <a:ln w="0">
            <a:noFill/>
          </a:ln>
        </p:spPr>
        <p:txBody>
          <a:bodyPr anchor="t">
            <a:norm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باستخدام مجموعة من الخامات التي يمكن للأطفال المقارنة بينها, بالإضافة لاستغلال المواقف اليومية الطبيعية  </a:t>
            </a:r>
            <a:endParaRPr b="1" lang="en-US" sz="32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ثل: هل لدينا اليوم عدد اولاد اكثر ام بنات اكثر – هل لدينا قطع حلوى الشكولاتة اكثر ام ان تلك التي بالفواكه اكثر – هل انت الشقيق الاكبر ام الاصغر ...الخ </a:t>
            </a:r>
            <a:endParaRPr b="1" lang="en-US" sz="3200" spc="-1" strike="noStrike">
              <a:solidFill>
                <a:srgbClr val="000000"/>
              </a:solidFill>
              <a:latin typeface="Arial"/>
            </a:endParaRPr>
          </a:p>
          <a:p>
            <a:pPr marL="365040" indent="-2826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18" name=""/>
          <p:cNvSpPr txBox="1"/>
          <p:nvPr/>
        </p:nvSpPr>
        <p:spPr>
          <a:xfrm>
            <a:off x="2050560" y="1752120"/>
            <a:ext cx="6481800" cy="4373640"/>
          </a:xfrm>
          <a:prstGeom prst="rect">
            <a:avLst/>
          </a:prstGeom>
          <a:noFill/>
          <a:ln w="0">
            <a:noFill/>
          </a:ln>
        </p:spPr>
        <p:txBody>
          <a:bodyPr anchor="t">
            <a:normAutofit fontScale="91000"/>
          </a:bodyPr>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دراك ان مجموعة ما لها العدد نفسه لعناصر المجموعة الاخرى.</a:t>
            </a:r>
            <a:endParaRPr b="1" lang="en-US" sz="2400" spc="-1" strike="noStrike">
              <a:solidFill>
                <a:srgbClr val="000000"/>
              </a:solidFill>
              <a:latin typeface="Arial"/>
            </a:endParaRPr>
          </a:p>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15800" indent="-4158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15800" indent="-4158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19"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1" name=""/>
          <p:cNvSpPr txBox="1"/>
          <p:nvPr/>
        </p:nvSpPr>
        <p:spPr>
          <a:xfrm>
            <a:off x="456840" y="1752120"/>
            <a:ext cx="7620120" cy="4373640"/>
          </a:xfrm>
          <a:prstGeom prst="rect">
            <a:avLst/>
          </a:prstGeom>
          <a:noFill/>
          <a:ln w="0">
            <a:noFill/>
          </a:ln>
        </p:spPr>
        <p:txBody>
          <a:bodyPr anchor="t">
            <a:normAutofit fontScale="98000"/>
          </a:bodyPr>
          <a:p>
            <a:pPr marL="447840" indent="-447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47840" indent="-447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47840" indent="-447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مفهوم التناظر الأحادي متطلب سابق للعدد )</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25" name="" descr=""/>
          <p:cNvPicPr/>
          <p:nvPr/>
        </p:nvPicPr>
        <p:blipFill>
          <a:blip r:embed="rId1"/>
          <a:stretch/>
        </p:blipFill>
        <p:spPr>
          <a:xfrm>
            <a:off x="2195280" y="1599840"/>
            <a:ext cx="5040360" cy="2189160"/>
          </a:xfrm>
          <a:prstGeom prst="rect">
            <a:avLst/>
          </a:prstGeom>
          <a:ln w="0">
            <a:noFill/>
          </a:ln>
        </p:spPr>
      </p:pic>
      <p:pic>
        <p:nvPicPr>
          <p:cNvPr id="426"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27"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29"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31"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 في لعبة الباص.</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ا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 وفق خمس مستويات متدرجة:</a:t>
            </a:r>
            <a:endParaRPr b="0" lang="en-US" sz="3600" spc="-1" strike="noStrike">
              <a:solidFill>
                <a:srgbClr val="d1282e"/>
              </a:solidFill>
              <a:latin typeface="Arial Black"/>
            </a:endParaRPr>
          </a:p>
        </p:txBody>
      </p:sp>
      <p:sp>
        <p:nvSpPr>
          <p:cNvPr id="433"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ا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التصنيف المتعدد)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620120" cy="2971800"/>
          </a:xfrm>
          <a:prstGeom prst="rect">
            <a:avLst/>
          </a:prstGeom>
          <a:noFill/>
          <a:ln w="0">
            <a:noFill/>
          </a:ln>
        </p:spPr>
        <p:txBody>
          <a:bodyPr anchor="t">
            <a:normAutofit fontScale="99000"/>
          </a:bodyPr>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52520" indent="-45252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
        <p:nvSpPr>
          <p:cNvPr id="390" name="Rectangle 5"/>
          <p:cNvSpPr/>
          <p:nvPr/>
        </p:nvSpPr>
        <p:spPr>
          <a:xfrm>
            <a:off x="684360" y="4436280"/>
            <a:ext cx="8064360" cy="36828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35892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2"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4"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نمط: الاشياء قد تتميز بأنماط بصرية مختلفة مثل الشرائط, النقاط, الزهو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ستطيل 3"/>
          <p:cNvSpPr/>
          <p:nvPr/>
        </p:nvSpPr>
        <p:spPr>
          <a:xfrm>
            <a:off x="297000" y="404640"/>
            <a:ext cx="8351640" cy="4086000"/>
          </a:xfrm>
          <a:prstGeom prst="rect">
            <a:avLst/>
          </a:prstGeom>
          <a:noFill/>
          <a:ln w="0">
            <a:noFill/>
          </a:ln>
        </p:spPr>
        <p:style>
          <a:lnRef idx="0"/>
          <a:fillRef idx="0"/>
          <a:effectRef idx="0"/>
          <a:fontRef idx="minor"/>
        </p:style>
        <p:txBody>
          <a:bodyPr lIns="90000" rIns="90000" tIns="46800" bIns="46800" anchor="t">
            <a:sp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وظيفة: بعض الاشياء تؤدي نفس الوظيفة أو انها تستخدم لأداء نفس الشي (كل هذه لأجل تناول الطعام , الكتابة , عزف الموسيقى)</a:t>
            </a:r>
            <a:endParaRPr b="0" lang="en-US" sz="2800" spc="-1" strike="noStrike">
              <a:solidFill>
                <a:srgbClr val="000000"/>
              </a:solidFill>
              <a:latin typeface="Verdana"/>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ئات الاسماء: هناك اسماء تنتمي لعدة اشياء (أشخاص – حيوانات – طعام – وسائل مواصلات – اسلحة – ملابس – مناز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aglaf@ksu.edu.sa</cp:lastModifiedBy>
  <dcterms:modified xsi:type="dcterms:W3CDTF">2016-02-18T07:55:52Z</dcterms:modified>
  <cp:revision>129</cp:revision>
  <dc:subject/>
  <dc:title>التصنيف</dc:title>
</cp:coreProperties>
</file>