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599D8-0359-465F-B21F-771A5985C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2D6CB-6A4B-481E-BD36-4BEBFD5F4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EC99A9-8BBA-4D93-8FBE-306E51F0E4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DC82E1-67F3-479F-9A80-1A08BE02C7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EB1646-4573-4792-BE52-837B1E0ED2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AACA57-216A-410A-AAAE-A423FC8B3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2C538-C835-4A14-A74C-AE167DCCC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E051F-414E-4287-8BFE-F5DBCF091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21BF54-68DA-469E-ADA9-8EDB24E66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292E96-C046-42EE-B069-6751161E07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20812F-306D-4F8E-8834-902DD05DF7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66DE3-0130-4A0C-AEB4-459A2C30C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63103-1223-4A5E-B1E3-8B4340EC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FD7DD-3F1E-4BDB-9F97-E908022AF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49"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58FDF-CD3F-49A7-9729-BCAE694B9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202B7-7424-434D-889C-DD4D72376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CDA26-FA48-48A0-953B-2CDAF5E2C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05FC8-E1B0-4F9D-B8F0-61161E3E5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78101-20E9-4B77-B33B-308835064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DD6D4-5DC9-4602-AF95-FB64FADDD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18C9-3954-4CCF-BFB6-594CFDF39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91B76-C9ED-470E-BB5F-DDA060A77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F2CD6-2A37-4778-B223-07211C1FD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0"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8BA00-255B-482E-967F-0CA4307A8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10D05-F367-40DD-A14B-832413312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8"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961AF-7DA3-4C1A-808D-E8D703D67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203D71-0D67-44C6-8234-FECDD07042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2"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A5D7B-C3F3-45AB-BF99-AC3D094C9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6D8A7-4216-42C4-B5A0-985AC9FA5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9003F-E28A-4548-8A4A-3BF1E4F55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734F4-D5AD-4D8E-BBC6-BD44FA3B1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BE552-1D71-425A-AE1B-DF157B39C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95112-4433-48F8-A1FC-641A11F69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1ED14-03C6-4ED1-BA96-15A4604C7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128A1-05E5-4C03-9FAD-DFA2FA119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3B8E5-3944-4EA8-9040-5467071A6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3"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2A4D8-2974-40CD-A082-B4D9D4E9D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E2EE81-B3C6-4B96-9234-BEA7BBF4FD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1"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74C1EA-D6BA-4EF2-923B-8B668B2384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221614-11D8-4510-ACD0-FAE6B55E2F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F53196-F57B-4E21-B3D3-E10BEC366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797F49-8265-4089-A653-BECA44CB7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F0CCF-1024-4341-9C9B-0AFE3513C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5C99E-F6AB-41FC-8037-EB55BEBD91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498515-C7B0-42C9-815D-AEC7FCC4D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25FDA-D4A9-44A0-A1B4-8A33D78B55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22CC49-99FD-45F0-93D0-5F18A1039C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30A19-DBAF-488E-92F0-664837644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22117-9696-4899-8837-BC27F167F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0D6BC3-DED7-420C-BC93-0939861DBC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C2B65-97DB-4029-BFCF-A5CCD56730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6A1636-5864-4CFF-B258-3D400E0588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1AE757-C41C-4FA4-B5E2-ED982FB93D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EF6ED-6595-44B8-B2D6-B89C09B35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F1DD9F-9E26-4A13-876A-7C8F5DAAAE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B3BFE4-A64E-432C-861F-8B6692BBF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F44E1-FABB-470F-9AC7-0F18CB3EC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AE4336-B78A-4B0C-A231-DCB9AF0CE0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46370-56D7-496A-BAFF-33B85C06FE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541A8-AFE7-4EF6-A850-DEC06BD61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BC9FC-E024-47C7-982C-DB2119104D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84E78-FB79-45A2-89CB-0FEB31D0E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693305-5B26-4EE5-BC41-B13AE667C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E51794-1BF1-4D77-BBF3-34D8E1E975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0BD39-44A2-4491-9DBE-D677F5C76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0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8C8D81-5BF5-4A2B-B37F-C220DAEF8A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17A462-E242-4C58-AB1C-0230F08C74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DE0483-138E-40C2-B7D7-2359DC3FC2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BD7745-446E-48EE-B8A1-B25291EE0C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72D605-EDBE-4A07-BC57-DFB0FB8FB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E8DCA-F5DD-49AB-8C29-7444DB6CD6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51A486-E1AA-4A8A-B1A5-5A8BAA0D2D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C9B95-FDDA-43D2-8235-3BBD458A6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9BD7B-E55D-4DC5-8C26-4F468CEDE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55A46-3453-4E8D-8371-5153C531D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A916-5A67-4A9A-B34B-7CCA71ED0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4D4BAE-58F0-4DDD-A62F-DD6974FE09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A8DD3F-95B1-47C9-B020-27AA7695CF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1E5FB6-9FBE-4181-BF61-2D066945C0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06A290-98D2-4A59-8668-51317DBC6C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0"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B4E1B0-6B92-4A6E-8A89-E1B50DD31C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2"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ECE2B-CBFE-4956-AA25-B73315A51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C9BEB-2D04-4461-A055-015840F170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9CA1D2-B589-4B0A-AE06-1F9ED67CD8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D3BA29-6040-46B1-9063-5257DF093C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B9698-1445-4439-B5B9-DF93EB102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120A2-7824-497C-90EA-DE7D0E599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4842A-97B8-4C23-B980-3ACA36B81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641E8-B75C-4E04-B8E0-D483A0F66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1"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477D10-7A1B-45DD-99FC-F6AED5B5A7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0B4F33-D657-46BA-909B-7B6FE22EBA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9"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054ACB-6308-4034-861B-2C43A95DF6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E10BCE-4C47-48CE-BE96-5B630BC952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A234A-A826-43E1-949B-2254A1D038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ED6AAC-D6B9-4901-83E0-F0AC44FB2D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CEE1CF-AA20-4E44-8219-BA66A45DC5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34A287-58A4-4642-9E5A-340EBBEF41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3DF1-BFA2-40B4-80FE-4A7B89E49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03E452-7AD6-4DDF-A43B-1CF1695E7C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F8400-1933-4CFF-9907-C9F04491E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948E42-5357-4575-95E7-64F74DBFD4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504D2-C197-4689-B76F-8EF48905A6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C772E9-6BA0-488D-A22F-A5683F91D3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7DF711-C20A-4820-8E4A-C4227A300A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3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EA4E1A-57C7-41B3-8A18-FF6F12EB2C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2CBBEB-1542-49CD-8402-5B7056D8C9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B7E536-A318-455F-8E8F-23501327B8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F2DB41-BB1C-4F3D-91EF-B9EE2723E2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9FD7-5311-4FD3-B4A5-BBD2A999702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3"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DE1E-9710-451C-AFBB-860279FF64F3}"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46"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6"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9612-B218-49E3-907E-7AF9B61A919A}"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8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15A5-37D9-4F02-98CE-A752876627B4}"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9F33-3255-4128-829F-C658AD04BB8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1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3" name="PlaceHolder 3"/>
          <p:cNvSpPr>
            <a:spLocks noGrp="1"/>
          </p:cNvSpPr>
          <p:nvPr>
            <p:ph type="dt" idx="16"/>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4"/>
          <p:cNvSpPr>
            <a:spLocks noGrp="1"/>
          </p:cNvSpPr>
          <p:nvPr>
            <p:ph type="ftr" idx="17"/>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PlaceHolder 5"/>
          <p:cNvSpPr>
            <a:spLocks noGrp="1"/>
          </p:cNvSpPr>
          <p:nvPr>
            <p:ph type="sldNum" idx="18"/>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A9E4-5664-4BEB-A85D-C29C4D3CB893}"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5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56" name="PlaceHolder 3"/>
          <p:cNvSpPr>
            <a:spLocks noGrp="1"/>
          </p:cNvSpPr>
          <p:nvPr>
            <p:ph type="dt" idx="19"/>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PlaceHolder 4"/>
          <p:cNvSpPr>
            <a:spLocks noGrp="1"/>
          </p:cNvSpPr>
          <p:nvPr>
            <p:ph type="ftr" idx="20"/>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PlaceHolder 5"/>
          <p:cNvSpPr>
            <a:spLocks noGrp="1"/>
          </p:cNvSpPr>
          <p:nvPr>
            <p:ph type="sldNum" idx="21"/>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57F8-48DD-49D2-8166-CB4047132FA2}"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98"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99" name="PlaceHolder 3"/>
          <p:cNvSpPr>
            <a:spLocks noGrp="1"/>
          </p:cNvSpPr>
          <p:nvPr>
            <p:ph type="dt" idx="22"/>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0" name="PlaceHolder 4"/>
          <p:cNvSpPr>
            <a:spLocks noGrp="1"/>
          </p:cNvSpPr>
          <p:nvPr>
            <p:ph type="ftr" idx="23"/>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PlaceHolder 5"/>
          <p:cNvSpPr>
            <a:spLocks noGrp="1"/>
          </p:cNvSpPr>
          <p:nvPr>
            <p:ph type="sldNum" idx="24"/>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A3EB-84BF-4A90-8B05-AEDBB3454900}"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34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42" name="PlaceHolder 3"/>
          <p:cNvSpPr>
            <a:spLocks noGrp="1"/>
          </p:cNvSpPr>
          <p:nvPr>
            <p:ph type="dt" idx="25"/>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PlaceHolder 4"/>
          <p:cNvSpPr>
            <a:spLocks noGrp="1"/>
          </p:cNvSpPr>
          <p:nvPr>
            <p:ph type="ftr" idx="26"/>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PlaceHolder 5"/>
          <p:cNvSpPr>
            <a:spLocks noGrp="1"/>
          </p:cNvSpPr>
          <p:nvPr>
            <p:ph type="sldNum" idx="27"/>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2FB0-DAFB-4D0C-9F39-A8C2B63FD08B}"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2276640"/>
            <a:ext cx="579096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ndalus"/>
                <a:cs typeface="Andalus"/>
              </a:rPr>
              <a:t>التصنيف </a:t>
            </a:r>
            <a:br>
              <a:rPr sz="6000"/>
            </a:br>
            <a:r>
              <a:rPr b="0" lang="ar-SA" sz="6000" spc="-1" strike="noStrike">
                <a:solidFill>
                  <a:srgbClr val="ff0000"/>
                </a:solidFill>
                <a:latin typeface="Andalus"/>
                <a:ea typeface="Andalus"/>
              </a:rPr>
              <a:t>+</a:t>
            </a:r>
            <a:br>
              <a:rPr sz="6000"/>
            </a:br>
            <a:r>
              <a:rPr b="0" lang="ar-SA" sz="6000" spc="-1" strike="noStrike">
                <a:solidFill>
                  <a:srgbClr val="ff0000"/>
                </a:solidFill>
                <a:latin typeface="Andalus"/>
                <a:cs typeface="Andalus"/>
              </a:rPr>
              <a:t>التناظر الأحادي</a:t>
            </a:r>
            <a:endParaRPr b="0" lang="en-US" sz="6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000" y="11592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398" name=""/>
          <p:cNvSpPr txBox="1"/>
          <p:nvPr/>
        </p:nvSpPr>
        <p:spPr>
          <a:xfrm>
            <a:off x="457200" y="1752120"/>
            <a:ext cx="8291520" cy="4373640"/>
          </a:xfrm>
          <a:prstGeom prst="rect">
            <a:avLst/>
          </a:prstGeom>
          <a:noFill/>
          <a:ln w="0">
            <a:noFill/>
          </a:ln>
        </p:spPr>
        <p:txBody>
          <a:bodyPr anchor="t">
            <a:normAutofit fontScale="93000"/>
          </a:bodyPr>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ة انشطة لعب الاطفال الحر: هل يقومون بفصل الاشياء و تجميعها ( بناء مواقف احدهما للسيارات الصغيرة و آخر للسيارات الكبيرة – الاولاد يلعبون كفريق والبنات كفريق مقابل ....الخ) </a:t>
            </a:r>
            <a:endParaRPr b="1" lang="en-US" sz="3200" spc="-1" strike="noStrike">
              <a:solidFill>
                <a:srgbClr val="000000"/>
              </a:solidFill>
              <a:latin typeface="Arial"/>
            </a:endParaRPr>
          </a:p>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تكليف الاطفال بمهام التصنيف و تكوين فئات بناء على محكات مثل اللون – الحجم – النوع .....الخ و من المهم سؤال الطفل عن السبب الذى جعله يضم هذا العنصر او ذاك في هذه الفئة – لماذا في رأيك ينتمى هذا العنصر الى هذه الفئة؟</a:t>
            </a:r>
            <a:endParaRPr b="1" lang="en-US" sz="3200" spc="-1" strike="noStrike">
              <a:solidFill>
                <a:srgbClr val="000000"/>
              </a:solidFill>
              <a:latin typeface="Arial"/>
            </a:endParaRPr>
          </a:p>
          <a:p>
            <a:pPr marL="339480" indent="-2628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تدعم اكتساب المفهوم </a:t>
            </a:r>
            <a:endParaRPr b="0" lang="en-US" sz="3600" spc="-1" strike="noStrike">
              <a:solidFill>
                <a:srgbClr val="d1282e"/>
              </a:solidFill>
              <a:latin typeface="Arial Black"/>
            </a:endParaRPr>
          </a:p>
        </p:txBody>
      </p:sp>
      <p:sp>
        <p:nvSpPr>
          <p:cNvPr id="400" name=""/>
          <p:cNvSpPr txBox="1"/>
          <p:nvPr/>
        </p:nvSpPr>
        <p:spPr>
          <a:xfrm>
            <a:off x="456840" y="1752120"/>
            <a:ext cx="8002440" cy="4373640"/>
          </a:xfrm>
          <a:prstGeom prst="rect">
            <a:avLst/>
          </a:prstGeom>
          <a:noFill/>
          <a:ln w="0">
            <a:noFill/>
          </a:ln>
        </p:spPr>
        <p:txBody>
          <a:bodyPr anchor="t">
            <a:normAutofit fontScale="84000"/>
          </a:bodyPr>
          <a:p>
            <a:pPr marL="453240" indent="-383760" algn="r" rtl="1">
              <a:lnSpc>
                <a:spcPct val="9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نشطة طبيعية: من المعروف ان الاطفال منذ سن صغيرة يبدأون في تكوين مجموعات – و بوصولهم الى سن الثالثة يبدأون في فصل الاشياء لأغراض متعددة مثل فصل ما يحتاجه من ادوات اللعب – انتقاء الحيوانات المفترسة لتكوين حديقة الحيوانات – الدمى التي تمثل البشر لتمثيل مشاهد تخص الاسرة ....الخ </a:t>
            </a:r>
            <a:endParaRPr b="1" lang="en-US" sz="2800" spc="-1" strike="noStrike">
              <a:solidFill>
                <a:srgbClr val="000000"/>
              </a:solidFill>
              <a:latin typeface="Arial"/>
            </a:endParaRPr>
          </a:p>
          <a:p>
            <a:pPr marL="453240" indent="-383760" algn="r" rtl="1">
              <a:lnSpc>
                <a:spcPct val="9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نشطة غير رسمية: من خلال اظهار الاهتمام و التشجيع لما يقوم به الاطفال من انشطة فصل و تجميع و التعليق عليها بهدف بناء القاموس اللغوي للأطفال المتعلق بالتصنيف و من خلال طرح الاسئلة المتعلقة بذلك مثل : لقد استخدمت كل القطع الزرقاء لبناء البيت – بإمكانك وضع الحيوانات المتوحشة في هذه الناحية والحيوانات الاليفة في الناحية الاخرى </a:t>
            </a:r>
            <a:endParaRPr b="1" lang="en-US" sz="2800" spc="-1" strike="noStrike">
              <a:solidFill>
                <a:srgbClr val="000000"/>
              </a:solidFill>
              <a:latin typeface="Arial"/>
            </a:endParaRPr>
          </a:p>
          <a:p>
            <a:pPr marL="453240" indent="-38376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نشطة محددة البناء: يمكن تصميم انشطة لمعاونة الاطفال على عملية بناء مجموعات مثل توفير عدة اشياء مختلفة لها نفس اللون و اربعة اشياء كل منها من لون مختلف و يطلب من الطفل فصل الاشياء وجمعها بناء على اللون – حمل جسم لونه احمر مثلا و نطلب من الطفل ان يحاول العثور على اجسام اخرى لها نفس هذا اللون.  </a:t>
            </a:r>
            <a:endParaRPr b="1" lang="en-US" sz="3200" spc="-1" strike="noStrike">
              <a:solidFill>
                <a:srgbClr val="000000"/>
              </a:solidFill>
              <a:latin typeface="Arial"/>
            </a:endParaRPr>
          </a:p>
          <a:p>
            <a:pPr marL="353880" indent="-27396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 </a:t>
            </a:r>
            <a:endParaRPr b="0" lang="en-US" sz="3600" spc="-1" strike="noStrike">
              <a:solidFill>
                <a:srgbClr val="d1282e"/>
              </a:solidFill>
              <a:latin typeface="Arial Black"/>
            </a:endParaRPr>
          </a:p>
        </p:txBody>
      </p:sp>
      <p:sp>
        <p:nvSpPr>
          <p:cNvPr id="403" name=""/>
          <p:cNvSpPr txBox="1"/>
          <p:nvPr/>
        </p:nvSpPr>
        <p:spPr>
          <a:xfrm>
            <a:off x="457200" y="1752120"/>
            <a:ext cx="8075520" cy="4373640"/>
          </a:xfrm>
          <a:prstGeom prst="rect">
            <a:avLst/>
          </a:prstGeom>
          <a:noFill/>
          <a:ln w="0">
            <a:noFill/>
          </a:ln>
        </p:spPr>
        <p:txBody>
          <a:bodyPr anchor="t">
            <a:normAutofit fontScale="88000"/>
          </a:bodyPr>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مكن ملاحظة عمليات فصل الاشياء و تجميعها اثناء لعب الاطفال الطبيعي, اذ لا بد ان نلاحظ تزايدا في ميل الأطفال للتصنيف في مواقف اللعب الطبيعية.</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كما يجب ان يظهر الاطفال قدرات متزايدة على اطلاق التسميات الصحيحة على ما يكونونه من مجموعات.</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 في النهاية يمكن اللجوء الى التقييم الاكثر بنائية و تحديدا من خلال انشطة البطاقات او المهام العملية التي نكلفهم بها. </a:t>
            </a:r>
            <a:endParaRPr b="1" lang="en-US" sz="3200" spc="-1" strike="noStrike">
              <a:solidFill>
                <a:srgbClr val="000000"/>
              </a:solidFill>
              <a:latin typeface="Arial"/>
            </a:endParaRPr>
          </a:p>
          <a:p>
            <a:pPr marL="321120" indent="-2484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243080" y="692280"/>
            <a:ext cx="6858000" cy="914400"/>
          </a:xfrm>
          <a:prstGeom prst="rect">
            <a:avLst/>
          </a:prstGeom>
          <a:noFill/>
          <a:ln w="0">
            <a:noFill/>
          </a:ln>
        </p:spPr>
        <p:txBody>
          <a:bodyPr anchor="t">
            <a:noAutofit/>
          </a:bodyPr>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1282e"/>
                </a:solidFill>
                <a:latin typeface="Arial Black"/>
              </a:rPr>
              <a:t>ما لفرق بين التصنيف والتطابق </a:t>
            </a:r>
            <a:endParaRPr b="1" lang="en-US" sz="4400" spc="-1" strike="noStrike">
              <a:solidFill>
                <a:srgbClr val="000000"/>
              </a:solidFill>
              <a:latin typeface="Arial"/>
            </a:endParaRPr>
          </a:p>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5" name="مستطيل 1"/>
          <p:cNvSpPr/>
          <p:nvPr/>
        </p:nvSpPr>
        <p:spPr>
          <a:xfrm>
            <a:off x="826920" y="2133720"/>
            <a:ext cx="7345440" cy="3844080"/>
          </a:xfrm>
          <a:prstGeom prst="rect">
            <a:avLst/>
          </a:prstGeom>
          <a:noFill/>
          <a:ln w="0">
            <a:noFill/>
          </a:ln>
        </p:spPr>
        <p:style>
          <a:lnRef idx="0"/>
          <a:fillRef idx="0"/>
          <a:effectRef idx="0"/>
          <a:fontRef idx="minor"/>
        </p:style>
        <p:txBody>
          <a:bodyPr lIns="90000" rIns="90000" tIns="46800" bIns="46800" anchor="t">
            <a:sp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طابق ليس كالتصنيف فالتصنيف والتجميع يقوم بها الطفل باستخدام أشياء عديدة يجمعها بناء على الاشتراك في خاصية مثل اللون أو الشكل او الحجم، </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ما في التطابق يقوم الطفل باستخدام صورة وصورة أخرى طبق الأصل او أداة وأداة اخرى طبق الأصل او يوصل شكلين متطابقين.</a:t>
            </a:r>
            <a:endParaRPr b="0" lang="en-US" sz="3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1282e"/>
                </a:solidFill>
                <a:latin typeface="Arial Black"/>
              </a:rPr>
              <a:t>المقارنة</a:t>
            </a:r>
            <a:endParaRPr b="0" lang="en-US" sz="4000" spc="-1" strike="noStrike">
              <a:solidFill>
                <a:srgbClr val="d1282e"/>
              </a:solidFill>
              <a:latin typeface="Arial Black"/>
            </a:endParaRPr>
          </a:p>
        </p:txBody>
      </p:sp>
      <p:sp>
        <p:nvSpPr>
          <p:cNvPr id="407" name="مستطيل 2"/>
          <p:cNvSpPr/>
          <p:nvPr/>
        </p:nvSpPr>
        <p:spPr>
          <a:xfrm>
            <a:off x="569880" y="1628640"/>
            <a:ext cx="7920000" cy="5432040"/>
          </a:xfrm>
          <a:prstGeom prst="rect">
            <a:avLst/>
          </a:prstGeom>
          <a:noFill/>
          <a:ln w="0">
            <a:noFill/>
          </a:ln>
        </p:spPr>
        <p:style>
          <a:lnRef idx="0"/>
          <a:fillRef idx="0"/>
          <a:effectRef idx="0"/>
          <a:fontRef idx="minor"/>
        </p:style>
        <p:txBody>
          <a:bodyPr lIns="90000" rIns="90000" tIns="46800" bIns="46800" anchor="t">
            <a:spAutoFit/>
          </a:bodyPr>
          <a:p>
            <a:pPr marL="365040" indent="-2826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شير توقعات الجودة في مناهج الرياضيات الى ضرورة تمكن الاطفال من الربط بين الخامات المادية و فهم الصفات والعلاقات الخاصة بالطول والسعة والوزن والمساحة والحجم ودرجة الحرارة, و ذلك من خلال القيام بعمليات المقارنة البسيطة, وان الاطفال يجب ان يكونوا قادرين على وصف التغيرات وصفا كيفيا مثل اطول من – اثقل من – اسرع من وكل ذلك يعكس فهم الطفل لمفاهيم المقارنة. </a:t>
            </a:r>
            <a:endParaRPr b="0" lang="en-US" sz="3200" spc="-1" strike="noStrike">
              <a:solidFill>
                <a:srgbClr val="000000"/>
              </a:solidFill>
              <a:latin typeface="Verdana"/>
            </a:endParaRPr>
          </a:p>
          <a:p>
            <a:pPr marL="365040" indent="-2826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 يمكن ادماج مفاهيم المقارنة في مجالات المنهج المختلف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تتم المقارنة؟</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410"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خلال ملاحظة الطفل اثناء انشطته العادية و اثناء اللعب الحر و ملاحظة كيف يتعامل مع المواقف التى تتضمن المقارنة بين شيئين هل يشير الى الدمى بان هذه كبيرة و تلك صغيرة</a:t>
            </a:r>
            <a:endParaRPr b="1" lang="en-US" sz="2800" spc="-1" strike="noStrike">
              <a:solidFill>
                <a:srgbClr val="000000"/>
              </a:solidFill>
              <a:latin typeface="Arial"/>
            </a:endParaRPr>
          </a:p>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ذلك يمكن ملاحظة ما لديه من محصول لغوى يعكس الفهم لعمليات المقارنة </a:t>
            </a:r>
            <a:endParaRPr b="1" lang="en-US" sz="2800" spc="-1" strike="noStrike">
              <a:solidFill>
                <a:srgbClr val="000000"/>
              </a:solidFill>
              <a:latin typeface="Arial"/>
            </a:endParaRPr>
          </a:p>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كليف الطفل بمهمة تظهر القدرة على المقارنة كأن يشير الى الاشياء الكبيرة و الاخرى الصغيرة او الطويلة و القصيرة , او التى تحتوى على قطع اكثر و قطع اقل ....الخ</a:t>
            </a:r>
            <a:endParaRPr b="1" lang="en-US" sz="2800" spc="-1" strike="noStrike">
              <a:solidFill>
                <a:srgbClr val="000000"/>
              </a:solidFill>
              <a:latin typeface="Arial"/>
            </a:endParaRPr>
          </a:p>
          <a:p>
            <a:pPr marL="353880" indent="-27396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لتنمية المفهوم </a:t>
            </a:r>
            <a:endParaRPr b="0" lang="en-US" sz="3600" spc="-1" strike="noStrike">
              <a:solidFill>
                <a:srgbClr val="d1282e"/>
              </a:solidFill>
              <a:latin typeface="Arial Black"/>
            </a:endParaRPr>
          </a:p>
        </p:txBody>
      </p:sp>
      <p:sp>
        <p:nvSpPr>
          <p:cNvPr id="412" name=""/>
          <p:cNvSpPr txBox="1"/>
          <p:nvPr/>
        </p:nvSpPr>
        <p:spPr>
          <a:xfrm>
            <a:off x="456840" y="1752120"/>
            <a:ext cx="7620120" cy="4373640"/>
          </a:xfrm>
          <a:prstGeom prst="rect">
            <a:avLst/>
          </a:prstGeom>
          <a:noFill/>
          <a:ln w="0">
            <a:noFill/>
          </a:ln>
        </p:spPr>
        <p:txBody>
          <a:bodyPr anchor="t">
            <a:normAutofit fontScale="86000"/>
          </a:bodyPr>
          <a:p>
            <a:pPr marL="313920" indent="-2430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نشطة طبيعية: هناك مواقف عديدة ويومية تتضمن عمليات المقارنة مثل اجلس على المقعد الصغير فهذا كبير – تناول الشراب الآن فهو اصبح ابرد – لا تحمل هذه فهي ثقيلة يمكنك ان تحمل الاخرى فهي اخف. </a:t>
            </a:r>
            <a:endParaRPr b="1" lang="en-US" sz="3200" spc="-1" strike="noStrike">
              <a:solidFill>
                <a:srgbClr val="000000"/>
              </a:solidFill>
              <a:latin typeface="Arial"/>
            </a:endParaRPr>
          </a:p>
          <a:p>
            <a:pPr marL="313920" indent="-2430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نشطة غير رسمية: عادة ما يود الاطفال التأكد من عدالة التوزيع للأشياء و ان كل واحد فيهم قد اخذ نفس القدر من الاشياء و للتأكد من ذلك يمكن ان نطلب من الاطفال الاكبر او الاكثر نضجا ان يقوموا بالعد. </a:t>
            </a:r>
            <a:endParaRPr b="1" lang="en-US" sz="3200" spc="-1" strike="noStrike">
              <a:solidFill>
                <a:srgbClr val="000000"/>
              </a:solidFill>
              <a:latin typeface="Arial"/>
            </a:endParaRPr>
          </a:p>
          <a:p>
            <a:pPr marL="313920" indent="-2430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ذات بناء محدد </a:t>
            </a:r>
            <a:endParaRPr b="0" lang="en-US" sz="3600" spc="-1" strike="noStrike">
              <a:solidFill>
                <a:srgbClr val="d1282e"/>
              </a:solidFill>
              <a:latin typeface="Arial Black"/>
            </a:endParaRPr>
          </a:p>
        </p:txBody>
      </p:sp>
      <p:sp>
        <p:nvSpPr>
          <p:cNvPr id="414" name=""/>
          <p:cNvSpPr txBox="1"/>
          <p:nvPr/>
        </p:nvSpPr>
        <p:spPr>
          <a:xfrm>
            <a:off x="457200" y="1752120"/>
            <a:ext cx="8291520" cy="4629240"/>
          </a:xfrm>
          <a:prstGeom prst="rect">
            <a:avLst/>
          </a:prstGeom>
          <a:noFill/>
          <a:ln w="0">
            <a:noFill/>
          </a:ln>
        </p:spPr>
        <p:txBody>
          <a:bodyPr anchor="t">
            <a:normAutofit fontScale="85000"/>
          </a:bodyPr>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حين نلاحظ ان احد الاطفال لا يستغل المواقف الطبيعية التي تستدعى المقارنة للقيام بذلك فانه يمكننا ان نخطط لهم انشطة اكثر رسمية من خلال توفير خامات تجارية صممت لهذا الغرض, </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الإضافة الى توفير خامات من البيئة يمكن ان تخدم نفس الغرض وبالطبع تكون البداية بالخامات الطبيعية وتنتهى بالصور المجردة. </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ن امثلة الخامات التي يمكن توفيرها: الازرار – الدمى- الاكواب – الاطباق – سيارات – صناديق – اقلام – عصى ....الخ</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ذلك لاختبار قدرة الطفل على المقارنة طبقا للصفات المختلفة مثل: كبير/صغير – قصير / طويل (راسيا و افقيا ) – سمين / نحيف – ثقيل /خفيف – سريع / بطيء – ساخن /بارد – قريب / بعيد ...الخ. </a:t>
            </a:r>
            <a:endParaRPr b="1" lang="en-US" sz="2800" spc="-1" strike="noStrike">
              <a:solidFill>
                <a:srgbClr val="000000"/>
              </a:solidFill>
              <a:latin typeface="Arial"/>
            </a:endParaRPr>
          </a:p>
          <a:p>
            <a:pPr marL="309960" indent="-24012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03280" y="259920"/>
            <a:ext cx="6400800" cy="8384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b9899"/>
                </a:solidFill>
                <a:latin typeface="Arial Black"/>
              </a:rPr>
              <a:t>مهارة التصنيف</a:t>
            </a:r>
            <a:endParaRPr b="0" lang="en-US" sz="3600" spc="-1" strike="noStrike">
              <a:solidFill>
                <a:srgbClr val="d1282e"/>
              </a:solidFill>
              <a:latin typeface="Arial Black"/>
            </a:endParaRPr>
          </a:p>
        </p:txBody>
      </p:sp>
      <p:sp>
        <p:nvSpPr>
          <p:cNvPr id="383" name=""/>
          <p:cNvSpPr txBox="1"/>
          <p:nvPr/>
        </p:nvSpPr>
        <p:spPr>
          <a:xfrm>
            <a:off x="971640" y="2362320"/>
            <a:ext cx="7772400" cy="4495680"/>
          </a:xfrm>
          <a:prstGeom prst="rect">
            <a:avLst/>
          </a:prstGeom>
          <a:noFill/>
          <a:ln w="0">
            <a:noFill/>
          </a:ln>
        </p:spPr>
        <p:txBody>
          <a:bodyPr anchor="t">
            <a:normAutofit/>
          </a:bodyPr>
          <a:p>
            <a:pPr lvl="1" marL="457200" indent="1440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ماهو مفهومك لمصطلح التصنيف ؟؟؟</a:t>
            </a:r>
            <a:endParaRPr b="0" lang="en-US" sz="24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مخطط انسيابي: تخزين بالوصول التسلسلي 12"/>
          <p:cNvSpPr/>
          <p:nvPr/>
        </p:nvSpPr>
        <p:spPr>
          <a:xfrm>
            <a:off x="1187280" y="3860640"/>
            <a:ext cx="6624720" cy="1584360"/>
          </a:xfrm>
          <a:prstGeom prst="flowChartMagneticTape">
            <a:avLst/>
          </a:prstGeom>
          <a:solidFill>
            <a:srgbClr val="ff0000"/>
          </a:solidFill>
          <a:ln w="41400">
            <a:solidFill>
              <a:srgbClr val="ffffff"/>
            </a:solidFill>
            <a:miter/>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هو القدرة على تجميع الاشياء التي لها نفس الخصائص في مجموعة واحدة</a:t>
            </a:r>
            <a:r>
              <a:rPr b="1" lang="ar-SA" sz="2200" spc="-1" strike="noStrike">
                <a:solidFill>
                  <a:srgbClr val="ffffff"/>
                </a:solidFill>
                <a:latin typeface="Arial"/>
                <a:ea typeface="Arial"/>
              </a:rPr>
              <a:t>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4"/>
                                        </p:tgtEl>
                                        <p:attrNameLst>
                                          <p:attrName>style.visibility</p:attrName>
                                        </p:attrNameLst>
                                      </p:cBhvr>
                                      <p:to>
                                        <p:strVal val="visible"/>
                                      </p:to>
                                    </p:set>
                                    <p:animEffect filter="blinds(horizontal)" transition="in">
                                      <p:cBhvr additive="repl">
                                        <p:cTn id="7" dur="1000"/>
                                        <p:tgtEl>
                                          <p:spTgt spid="38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83">
                                            <p:txEl>
                                              <p:pRg st="0" end="0"/>
                                            </p:txEl>
                                          </p:spTgt>
                                        </p:tgtEl>
                                        <p:attrNameLst>
                                          <p:attrName>style.visibility</p:attrName>
                                        </p:attrNameLst>
                                      </p:cBhvr>
                                      <p:to>
                                        <p:strVal val="visible"/>
                                      </p:to>
                                    </p:set>
                                    <p:anim calcmode="lin" valueType="num">
                                      <p:cBhvr additive="base">
                                        <p:cTn id="12"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a:t>
            </a:r>
            <a:endParaRPr b="0" lang="en-US" sz="3600" spc="-1" strike="noStrike">
              <a:solidFill>
                <a:srgbClr val="d1282e"/>
              </a:solidFill>
              <a:latin typeface="Arial Black"/>
            </a:endParaRPr>
          </a:p>
        </p:txBody>
      </p:sp>
      <p:sp>
        <p:nvSpPr>
          <p:cNvPr id="416" name=""/>
          <p:cNvSpPr txBox="1"/>
          <p:nvPr/>
        </p:nvSpPr>
        <p:spPr>
          <a:xfrm>
            <a:off x="456840" y="1752120"/>
            <a:ext cx="7620120" cy="4373640"/>
          </a:xfrm>
          <a:prstGeom prst="rect">
            <a:avLst/>
          </a:prstGeom>
          <a:noFill/>
          <a:ln w="0">
            <a:noFill/>
          </a:ln>
        </p:spPr>
        <p:txBody>
          <a:bodyPr anchor="t">
            <a:norm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مكن باستخدام مجموعة من الخامات التي يمكن للأطفال المقارنة بينها, بالإضافة لاستغلال المواقف اليومية الطبيعية  </a:t>
            </a:r>
            <a:endParaRPr b="1" lang="en-US" sz="3200" spc="-1" strike="noStrike">
              <a:solidFill>
                <a:srgbClr val="000000"/>
              </a:solidFill>
              <a:latin typeface="Arial"/>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ثل: هل لدينا اليوم عدد اولاد اكثر ام بنات اكثر – هل لدينا قطع حلوى الشكولاتة اكثر ام ان تلك التي بالفواكه اكثر – هل انت الشقيق الاكبر ام الاصغر ...الخ </a:t>
            </a:r>
            <a:endParaRPr b="1" lang="en-US" sz="3200" spc="-1" strike="noStrike">
              <a:solidFill>
                <a:srgbClr val="000000"/>
              </a:solidFill>
              <a:latin typeface="Arial"/>
            </a:endParaRPr>
          </a:p>
          <a:p>
            <a:pPr marL="365040" indent="-2826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 (المقابلة)</a:t>
            </a:r>
            <a:endParaRPr b="0" lang="en-US" sz="3600" spc="-1" strike="noStrike">
              <a:solidFill>
                <a:srgbClr val="d1282e"/>
              </a:solidFill>
              <a:latin typeface="Arial Black"/>
            </a:endParaRPr>
          </a:p>
        </p:txBody>
      </p:sp>
      <p:sp>
        <p:nvSpPr>
          <p:cNvPr id="418" name=""/>
          <p:cNvSpPr txBox="1"/>
          <p:nvPr/>
        </p:nvSpPr>
        <p:spPr>
          <a:xfrm>
            <a:off x="2050560" y="1752120"/>
            <a:ext cx="6481800" cy="4373640"/>
          </a:xfrm>
          <a:prstGeom prst="rect">
            <a:avLst/>
          </a:prstGeom>
          <a:noFill/>
          <a:ln w="0">
            <a:noFill/>
          </a:ln>
        </p:spPr>
        <p:txBody>
          <a:bodyPr anchor="t">
            <a:normAutofit fontScale="91000"/>
          </a:bodyPr>
          <a:p>
            <a:pPr marL="415800" indent="-4158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دراك ان مجموعة ما لها العدد نفسه لعناصر المجموعة الاخرى.</a:t>
            </a:r>
            <a:endParaRPr b="1" lang="en-US" sz="2400" spc="-1" strike="noStrike">
              <a:solidFill>
                <a:srgbClr val="000000"/>
              </a:solidFill>
              <a:latin typeface="Arial"/>
            </a:endParaRPr>
          </a:p>
          <a:p>
            <a:pPr marL="415800" indent="-4158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يقصد بالمزاوجة او المقابلة او التناظر الاحادي (ان يكون لكل عنصر من عناصر المجموعة الاولى عنصرا واحدا فقط مناظرا له من عناصر المجموعة الثانية والعكس صحيح)</a:t>
            </a:r>
            <a:br>
              <a:rPr sz="2400"/>
            </a:br>
            <a:r>
              <a:rPr b="1" lang="ar-SA" sz="2400" spc="-1" strike="noStrike">
                <a:solidFill>
                  <a:srgbClr val="000000"/>
                </a:solidFill>
                <a:latin typeface="Gill Sans MT"/>
              </a:rPr>
              <a:t>مثال (اذا كان هناك اربعة اطباق فلا بد من وجود اربعة اكواب). </a:t>
            </a:r>
            <a:endParaRPr b="1" lang="en-US" sz="2400" spc="-1" strike="noStrike">
              <a:solidFill>
                <a:srgbClr val="000000"/>
              </a:solidFill>
              <a:latin typeface="Arial"/>
            </a:endParaRPr>
          </a:p>
          <a:p>
            <a:pPr marL="415800" indent="-4158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إدراك ان مجموعة ما لها نفس عدد عناصر مجموعة أخرى، لكل طفل كعكة، لكل طفل كتاب</a:t>
            </a:r>
            <a:endParaRPr b="1" lang="en-US" sz="2400" spc="-1" strike="noStrike">
              <a:solidFill>
                <a:srgbClr val="000000"/>
              </a:solidFill>
              <a:latin typeface="Arial"/>
            </a:endParaRPr>
          </a:p>
          <a:p>
            <a:pPr marL="415800" indent="-415800"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19" name="Picture 4" descr=""/>
          <p:cNvPicPr/>
          <p:nvPr/>
        </p:nvPicPr>
        <p:blipFill>
          <a:blip r:embed="rId1"/>
          <a:stretch/>
        </p:blipFill>
        <p:spPr>
          <a:xfrm>
            <a:off x="179280" y="3213000"/>
            <a:ext cx="1646280" cy="353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1" name=""/>
          <p:cNvSpPr txBox="1"/>
          <p:nvPr/>
        </p:nvSpPr>
        <p:spPr>
          <a:xfrm>
            <a:off x="456840" y="1752120"/>
            <a:ext cx="7620120" cy="4373640"/>
          </a:xfrm>
          <a:prstGeom prst="rect">
            <a:avLst/>
          </a:prstGeom>
          <a:noFill/>
          <a:ln w="0">
            <a:noFill/>
          </a:ln>
        </p:spPr>
        <p:txBody>
          <a:bodyPr anchor="t">
            <a:normAutofit fontScale="98000"/>
          </a:bodyPr>
          <a:p>
            <a:pPr marL="447840" indent="-447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تكوين مفهوم المقابلة او التناظر الأحادي الأطفال بحاجة الى أن تكون تجاربهم حسية وحقيقية فالأطفال يتعلمون من خلال العمل في الشيء.</a:t>
            </a:r>
            <a:endParaRPr b="1" lang="en-US" sz="2800" spc="-1" strike="noStrike">
              <a:solidFill>
                <a:srgbClr val="000000"/>
              </a:solidFill>
              <a:latin typeface="Arial"/>
            </a:endParaRPr>
          </a:p>
          <a:p>
            <a:pPr marL="447840" indent="-447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قابلة او التناظر الاحادي من المكونات الأساسية لمفهوم العدد، 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المقابلة.</a:t>
            </a:r>
            <a:endParaRPr b="1" lang="en-US" sz="2800" spc="-1" strike="noStrike">
              <a:solidFill>
                <a:srgbClr val="000000"/>
              </a:solidFill>
              <a:latin typeface="Arial"/>
            </a:endParaRPr>
          </a:p>
          <a:p>
            <a:pPr marL="447840" indent="-447840" algn="r" rtl="1">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3"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جربة بياجيه الكؤوس والبيض، وعدم قدرة الطفل على ادراك الثبات العددي (الاحتفاظ)، عند تغيير وضع البيض من أمام الكؤوس (مفهوم التناظر الأحادي متطلب سابق للعدد )</a:t>
            </a: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بدأ تعلم الطفل مفهوم التناظر الأحادي في المرحلة الحسية الحركية اثناء اللعب، مثلا يضع امام كل دمية صحن.</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جربة بياجيه</a:t>
            </a:r>
            <a:endParaRPr b="0" lang="en-US" sz="4400" spc="-1" strike="noStrike">
              <a:solidFill>
                <a:srgbClr val="000000"/>
              </a:solidFill>
              <a:latin typeface="Arial"/>
            </a:endParaRPr>
          </a:p>
        </p:txBody>
      </p:sp>
      <p:pic>
        <p:nvPicPr>
          <p:cNvPr id="425" name="" descr=""/>
          <p:cNvPicPr/>
          <p:nvPr/>
        </p:nvPicPr>
        <p:blipFill>
          <a:blip r:embed="rId1"/>
          <a:stretch/>
        </p:blipFill>
        <p:spPr>
          <a:xfrm>
            <a:off x="2195280" y="1599840"/>
            <a:ext cx="5040360" cy="2189160"/>
          </a:xfrm>
          <a:prstGeom prst="rect">
            <a:avLst/>
          </a:prstGeom>
          <a:ln w="0">
            <a:noFill/>
          </a:ln>
        </p:spPr>
      </p:pic>
      <p:pic>
        <p:nvPicPr>
          <p:cNvPr id="426" name="Picture 2" descr="C:\Users\SOSO\Documents\اتجاهات سحر\تجربية بياجيه 2.png"/>
          <p:cNvPicPr/>
          <p:nvPr/>
        </p:nvPicPr>
        <p:blipFill>
          <a:blip r:embed="rId2"/>
          <a:stretch/>
        </p:blipFill>
        <p:spPr>
          <a:xfrm>
            <a:off x="1835280" y="1484280"/>
            <a:ext cx="6481800" cy="2625840"/>
          </a:xfrm>
          <a:prstGeom prst="rect">
            <a:avLst/>
          </a:prstGeom>
          <a:ln w="0">
            <a:noFill/>
          </a:ln>
        </p:spPr>
      </p:pic>
      <p:pic>
        <p:nvPicPr>
          <p:cNvPr id="427" name="Picture 3" descr="C:\Users\SOSO\Documents\اتجاهات سحر\تجربة بياجيه 1.png"/>
          <p:cNvPicPr/>
          <p:nvPr/>
        </p:nvPicPr>
        <p:blipFill>
          <a:blip r:embed="rId3"/>
          <a:stretch/>
        </p:blipFill>
        <p:spPr>
          <a:xfrm>
            <a:off x="1852560" y="2967120"/>
            <a:ext cx="6464520" cy="247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9" name=""/>
          <p:cNvSpPr txBox="1"/>
          <p:nvPr/>
        </p:nvSpPr>
        <p:spPr>
          <a:xfrm>
            <a:off x="456840" y="1752120"/>
            <a:ext cx="7620120" cy="4373640"/>
          </a:xfrm>
          <a:prstGeom prst="rect">
            <a:avLst/>
          </a:prstGeom>
          <a:noFill/>
          <a:ln w="0">
            <a:noFill/>
          </a:ln>
        </p:spPr>
        <p:txBody>
          <a:bodyPr anchor="t">
            <a:normAutofit/>
          </a:bodyPr>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ن نتدرج في تقديم المفهوم للطفل في البداية يكون عدد عناصر المجموعة اقل من </a:t>
            </a:r>
            <a:r>
              <a:rPr b="0" lang="ar-SA" sz="2400" spc="-1" strike="noStrike">
                <a:solidFill>
                  <a:srgbClr val="000000"/>
                </a:solidFill>
                <a:latin typeface="Arial"/>
              </a:rPr>
              <a:t>5</a:t>
            </a:r>
            <a:r>
              <a:rPr b="0" lang="ar-SA" sz="2400" spc="-1" strike="noStrike">
                <a:solidFill>
                  <a:srgbClr val="000000"/>
                </a:solidFill>
                <a:latin typeface="Arial"/>
              </a:rPr>
              <a:t> عناصر، ثم تزيد تدريجيا حتى </a:t>
            </a:r>
            <a:r>
              <a:rPr b="0" lang="ar-SA" sz="2400" spc="-1" strike="noStrike">
                <a:solidFill>
                  <a:srgbClr val="000000"/>
                </a:solidFill>
                <a:latin typeface="Arial"/>
              </a:rPr>
              <a:t>9</a:t>
            </a:r>
            <a:r>
              <a:rPr b="0" lang="ar-SA" sz="2400" spc="-1" strike="noStrike">
                <a:solidFill>
                  <a:srgbClr val="000000"/>
                </a:solidFill>
                <a:latin typeface="Arial"/>
              </a:rPr>
              <a:t> عناصر وعندها نستطيع ان نحكم ان الطفل فهم التناظر الاحادي.</a:t>
            </a:r>
            <a:endParaRPr b="1" lang="en-US" sz="2400" spc="-1" strike="noStrike">
              <a:solidFill>
                <a:srgbClr val="000000"/>
              </a:solidFill>
              <a:latin typeface="Arial"/>
            </a:endParaRPr>
          </a:p>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مثله :</a:t>
            </a:r>
            <a:endParaRPr b="1" lang="en-US" sz="2400" spc="-1" strike="noStrike">
              <a:solidFill>
                <a:srgbClr val="000000"/>
              </a:solidFill>
              <a:latin typeface="Arial"/>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يوان وصغاره – العامل وادواته - نوع الحيوان والغطاء الذي يغطي جسمه – مقابلة مجموعات مكونه من نفس العدد.</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نمو مفهوم المقابلة</a:t>
            </a:r>
            <a:endParaRPr b="0" lang="en-US" sz="3600" spc="-1" strike="noStrike">
              <a:solidFill>
                <a:srgbClr val="d1282e"/>
              </a:solidFill>
              <a:latin typeface="Arial Black"/>
            </a:endParaRPr>
          </a:p>
        </p:txBody>
      </p:sp>
      <p:sp>
        <p:nvSpPr>
          <p:cNvPr id="431" name=""/>
          <p:cNvSpPr txBox="1"/>
          <p:nvPr/>
        </p:nvSpPr>
        <p:spPr>
          <a:xfrm>
            <a:off x="456840" y="1752120"/>
            <a:ext cx="793116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بدأ تعلم الطفل مفهوم التناظر الأحادي في المرحلة الحسية الحركية اثناء اللعب، من قبل سن المشي يستطيع ان يقابل يركب الدمى الخمس في الحفر الخمس في لعبة الباص.</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مع نمو الطفل  في سن الثانية فإنه يقضي الكثير من الوقت في العاب المقابلة، مثلا يضع على كل طبق فنجان وعلى كل كرسي دمية واحيانا يقوم بمساعدة والدته في اعداد مائدة الطعام فيضع لكل فرد كوب او ملعقة.</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 ان نمو مفهوم التناظر الاحادي وثبات العدد للمجموعات لا تنمو لدى الطفل الا في مراحل متاخرة كما وضح بياجيه في تجربت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915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تتنوع انشطة تعلم المقابلة وفق خمس مستويات متدرجة:</a:t>
            </a:r>
            <a:endParaRPr b="0" lang="en-US" sz="3600" spc="-1" strike="noStrike">
              <a:solidFill>
                <a:srgbClr val="d1282e"/>
              </a:solidFill>
              <a:latin typeface="Arial Black"/>
            </a:endParaRPr>
          </a:p>
        </p:txBody>
      </p:sp>
      <p:sp>
        <p:nvSpPr>
          <p:cNvPr id="433"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دراك السمات الحسية لعناصر المقابلة:</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درج هذا النشاط من السهولة الى الصعوبة، في البداية نقدم اشياء حقيقية غير متشابهة مثل كل صحن ملعقة، ثم ننتقل الى الاشياء الحقيقية  المشابهة مثل مجموعتين مكعبات، ثم ننتقل الى الصور غير المتشابهة مثل (لكل صاحب مهنة اداة) ثم ننتقل الى الصور المتشابهة: صور دوائر مثلا صفراء وحمراء مثلا.</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عدد ال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قل من </a:t>
            </a:r>
            <a:r>
              <a:rPr b="0" lang="ar-SA" sz="2400" spc="-1" strike="noStrike">
                <a:solidFill>
                  <a:srgbClr val="000000"/>
                </a:solidFill>
                <a:latin typeface="Arial"/>
              </a:rPr>
              <a:t>5</a:t>
            </a:r>
            <a:r>
              <a:rPr b="0" lang="ar-SA" sz="2400" spc="-1" strike="noStrike">
                <a:solidFill>
                  <a:srgbClr val="000000"/>
                </a:solidFill>
                <a:latin typeface="Arial"/>
              </a:rPr>
              <a:t> حتى </a:t>
            </a:r>
            <a:r>
              <a:rPr b="0" lang="ar-SA" sz="2400" spc="-1" strike="noStrike">
                <a:solidFill>
                  <a:srgbClr val="000000"/>
                </a:solidFill>
                <a:latin typeface="Arial"/>
              </a:rPr>
              <a:t>9</a:t>
            </a:r>
            <a:r>
              <a:rPr b="0" lang="ar-SA" sz="2400" spc="-1" strike="noStrike">
                <a:solidFill>
                  <a:srgbClr val="000000"/>
                </a:solidFill>
                <a:latin typeface="Arial"/>
              </a:rPr>
              <a:t> 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لمجسمات:</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أشياء الحقيقية والشائعة بالنسبة للطفل مثل دمى وسيارات، وفي المستوى الثاني نستخدم اشكال مقصوصة مثل الاشكال الهندسية، وبعدها ننتقل الى صور الاشياء الحقيقية، وفي المستوى الرابع ممكن ان ننتقل الى الرموز والنماذج مثلا </a:t>
            </a:r>
            <a:r>
              <a:rPr b="0" lang="ar-SA" sz="2400" spc="-1" strike="noStrike">
                <a:solidFill>
                  <a:srgbClr val="000000"/>
                </a:solidFill>
                <a:latin typeface="Arial"/>
              </a:rPr>
              <a:t>4</a:t>
            </a:r>
            <a:r>
              <a:rPr b="0" lang="ar-SA" sz="2400" spc="-1" strike="noStrike">
                <a:solidFill>
                  <a:srgbClr val="000000"/>
                </a:solidFill>
                <a:latin typeface="Arial"/>
              </a:rPr>
              <a:t> مع اربعة دوائر.</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درجة الارتباط الطبيعي بين مجموعتي المقابلة:</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مجموعات المرتبطة ارتباطاً طبيعياً  لانها اسهل مثلا (قدم- حذاء ، صحن- فنجان) ثم نستطيع ان ننتقل الى اقامة مقابلة بين عناصر مجموعات    لا يربطها ارتباط طبيعي مثل (كرة- صندوق)..</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مقابلة المجموعات المتساوية وغير المتساوية عددياً: </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قابلة بين المجموعات غير المتساوية عدديا صعب على الطفل ويجعله غير متأكد من ادائ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71640" y="692280"/>
            <a:ext cx="7772400" cy="4495680"/>
          </a:xfrm>
          <a:prstGeom prst="rect">
            <a:avLst/>
          </a:prstGeom>
          <a:noFill/>
          <a:ln w="0">
            <a:noFill/>
          </a:ln>
        </p:spPr>
        <p:txBody>
          <a:bodyPr anchor="t">
            <a:normAutofit fontScale="94000"/>
          </a:bodyPr>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مهارة التصنيف تعتبر من أول المهارات التي يكتسبها العقل البشري.</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تعد مهارة التصنيف الاساس الذي يبنى عليه  تعلم المفاهيم الرياضية اللاحقة .</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تمييز البصري، فالطفل بحاجة الى ان يميز بصرياً  الأشكال والأحجام والألوان حتى يتمكن من تصنيفها.</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مقارنة بين الأشياء.</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56320" indent="-256320" algn="r" rtl="1">
              <a:lnSpc>
                <a:spcPct val="10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4920" y="404280"/>
            <a:ext cx="8209080" cy="4373640"/>
          </a:xfrm>
          <a:prstGeom prst="rect">
            <a:avLst/>
          </a:prstGeom>
          <a:noFill/>
          <a:ln w="0">
            <a:noFill/>
          </a:ln>
        </p:spPr>
        <p:txBody>
          <a:bodyPr anchor="t">
            <a:normAutofit fontScale="84000"/>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شروع الأول</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a:t>
            </a:r>
            <a:r>
              <a:rPr b="1" lang="ar-SA" sz="2000" spc="-1" strike="noStrike" u="sng">
                <a:solidFill>
                  <a:srgbClr val="000000"/>
                </a:solidFill>
                <a:uFillTx/>
                <a:latin typeface="Arial"/>
              </a:rPr>
              <a:t>. التصنيف:</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وم الطالبة بعمل وسيلة تصنيف  (التصنيف المتعدد) لركن الادراك.</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rPr>
              <a:t>مع مراعاة ما يلي:</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ضع قاعدة تجمع اجزاء الوسيلة .</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بداع والتميز والتجديد في فكرة التقديم والوسائل.</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راعي متانة الوسيلة وتغليف البطاقات ان وجدت.</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ند تقديم الطالبة لوسيلتها تكون على دراية تامة بالأهداف التي تحققها الوسيلة وكيفية تقديمها للطفل .</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يكون مستوى صعوبة الوسيلة مناسب للأطفال وقادر على اثارة تفكيرهم.</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الادوات مناسبة من ناحية الحجم للركن.</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611280" y="1125000"/>
            <a:ext cx="7619760" cy="4373640"/>
          </a:xfrm>
          <a:prstGeom prst="rect">
            <a:avLst/>
          </a:prstGeom>
          <a:noFill/>
          <a:ln w="0">
            <a:noFill/>
          </a:ln>
        </p:spPr>
        <p:txBody>
          <a:bodyPr anchor="t">
            <a:normAutofit fontScale="92000"/>
          </a:bodyPr>
          <a:p>
            <a:pPr algn="r" rtl="1">
              <a:lnSpc>
                <a:spcPct val="11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2</a:t>
            </a:r>
            <a:r>
              <a:rPr b="1" lang="ar-SA" sz="2000" spc="-1" strike="noStrike" u="sng">
                <a:solidFill>
                  <a:srgbClr val="000000"/>
                </a:solidFill>
                <a:uFillTx/>
                <a:latin typeface="Arial"/>
              </a:rPr>
              <a:t>. التناظرالاحادي:</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طط الطالبة لنشاط تناظر احادي مناسب لركن الأدراك بحيث تقدم فكرته عن طريق الصور فقط دون تنفيذ بالوسائل - كما يمكن ان تبحث في مواقع الانترنت عن نشاط مناسب ويحقق الهدف المطلوب وتحضر صورته.</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تقل عدد عناصر المقابلة عن </a:t>
            </a:r>
            <a:r>
              <a:rPr b="0" lang="ar-SA" sz="2000" spc="-1" strike="noStrike">
                <a:solidFill>
                  <a:srgbClr val="000000"/>
                </a:solidFill>
                <a:latin typeface="Arial"/>
              </a:rPr>
              <a:t>6</a:t>
            </a:r>
            <a:r>
              <a:rPr b="0" lang="ar-SA" sz="2000" spc="-1" strike="noStrike">
                <a:solidFill>
                  <a:srgbClr val="000000"/>
                </a:solidFill>
                <a:latin typeface="Arial"/>
              </a:rPr>
              <a:t> عناصر يقابلها </a:t>
            </a:r>
            <a:r>
              <a:rPr b="0" lang="ar-SA" sz="2000" spc="-1" strike="noStrike">
                <a:solidFill>
                  <a:srgbClr val="000000"/>
                </a:solidFill>
                <a:latin typeface="Arial"/>
              </a:rPr>
              <a:t>6</a:t>
            </a:r>
            <a:r>
              <a:rPr b="0" lang="ar-SA" sz="2000" spc="-1" strike="noStrike">
                <a:solidFill>
                  <a:srgbClr val="000000"/>
                </a:solidFill>
                <a:latin typeface="Arial"/>
              </a:rPr>
              <a:t> عناصر اخرى ولا تزيد عن </a:t>
            </a:r>
            <a:r>
              <a:rPr b="0" lang="ar-SA" sz="2000" spc="-1" strike="noStrike">
                <a:solidFill>
                  <a:srgbClr val="000000"/>
                </a:solidFill>
                <a:latin typeface="Arial"/>
              </a:rPr>
              <a:t>9</a:t>
            </a:r>
            <a:r>
              <a:rPr b="0" lang="ar-SA" sz="2000" spc="-1" strike="noStrike">
                <a:solidFill>
                  <a:srgbClr val="000000"/>
                </a:solidFill>
                <a:latin typeface="Arial"/>
              </a:rPr>
              <a:t>.</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تعد الطالبة عن استخدام الاعداد .</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عناصر المقابلة  بينها ارتباط طبيعي، ويجمعها موضوع واحد مثل (مقابلة الحيوانات ومساكنها) (مقابلة المهن مع ادواتها).</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ن يكتب في ورقة العمل (اسم الطفل, والمطلوب منه في جملة مختصرة).</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 بالإضافة الى الصورة التوضيحية للوسيلة. </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مثال</a:t>
            </a:r>
            <a:endParaRPr b="0" lang="en-US" sz="3600" spc="-1" strike="noStrike">
              <a:solidFill>
                <a:srgbClr val="d1282e"/>
              </a:solidFill>
              <a:latin typeface="Arial Black"/>
            </a:endParaRPr>
          </a:p>
        </p:txBody>
      </p:sp>
      <p:sp>
        <p:nvSpPr>
          <p:cNvPr id="387" name=""/>
          <p:cNvSpPr txBox="1"/>
          <p:nvPr/>
        </p:nvSpPr>
        <p:spPr>
          <a:xfrm>
            <a:off x="250560" y="1989000"/>
            <a:ext cx="8504280" cy="4572000"/>
          </a:xfrm>
          <a:prstGeom prst="rect">
            <a:avLst/>
          </a:prstGeom>
          <a:noFill/>
          <a:ln w="0">
            <a:noFill/>
          </a:ln>
        </p:spPr>
        <p:txBody>
          <a:bodyPr anchor="t">
            <a:normAutofit/>
          </a:bodyPr>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9d1e23"/>
                </a:solidFill>
                <a:latin typeface="Arial"/>
              </a:rPr>
              <a:t> </a:t>
            </a:r>
            <a:r>
              <a:rPr b="1" lang="ar-SA" sz="2800" spc="-1" strike="noStrike">
                <a:solidFill>
                  <a:srgbClr val="9d1e23"/>
                </a:solidFill>
                <a:latin typeface="Arial"/>
              </a:rPr>
              <a:t>تجمع أمام منزل أحد الأئمة عدد كبير من الناس كل منهم يريد الفتوى في أمر يهمه وكان منزل الإمام لا يسع إلا لعشرين شخصًا ، فإذا سمع الإمام لكل واحد منهم منفردًا فسيستغرق ذلك وقتا طويلا ، فماذا يفعل الإمام حتى يحل هذه المشكلة ؟؟! </a:t>
            </a:r>
            <a:endParaRPr b="1" lang="en-US" sz="2800" spc="-1" strike="noStrike">
              <a:solidFill>
                <a:srgbClr val="000000"/>
              </a:solidFill>
              <a:latin typeface="Arial"/>
            </a:endParaRPr>
          </a:p>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d1e23"/>
                </a:solidFill>
                <a:uFillTx/>
                <a:latin typeface="Arial"/>
              </a:rPr>
              <a:t>فكر الإمام وقام بحل هذه المشكلة بواسطة مهارة التصنيف ؟؟</a:t>
            </a:r>
            <a:endParaRPr b="1" lang="en-US" sz="2800" spc="-1" strike="noStrike">
              <a:solidFill>
                <a:srgbClr val="000000"/>
              </a:solidFill>
              <a:latin typeface="Arial"/>
            </a:endParaRPr>
          </a:p>
          <a:p>
            <a:pPr marL="272880" indent="-272880" algn="r" rtl="1">
              <a:spcBef>
                <a:spcPts val="700"/>
              </a:spcBef>
              <a:buClr>
                <a:srgbClr val="9d1e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تصنيف</a:t>
            </a:r>
            <a:endParaRPr b="0" lang="en-US" sz="3600" spc="-1" strike="noStrike">
              <a:solidFill>
                <a:srgbClr val="d1282e"/>
              </a:solidFill>
              <a:latin typeface="Arial Black"/>
            </a:endParaRPr>
          </a:p>
        </p:txBody>
      </p:sp>
      <p:sp>
        <p:nvSpPr>
          <p:cNvPr id="389" name=""/>
          <p:cNvSpPr txBox="1"/>
          <p:nvPr/>
        </p:nvSpPr>
        <p:spPr>
          <a:xfrm>
            <a:off x="456840" y="1752120"/>
            <a:ext cx="7620120" cy="2971800"/>
          </a:xfrm>
          <a:prstGeom prst="rect">
            <a:avLst/>
          </a:prstGeom>
          <a:noFill/>
          <a:ln w="0">
            <a:noFill/>
          </a:ln>
        </p:spPr>
        <p:txBody>
          <a:bodyPr anchor="t">
            <a:normAutofit fontScale="99000"/>
          </a:bodyPr>
          <a:p>
            <a:pPr marL="452520" indent="-45252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دء بالتصنيف بناء على خاصية واحدة.</a:t>
            </a:r>
            <a:endParaRPr b="1" lang="en-US" sz="2800" spc="-1" strike="noStrike">
              <a:solidFill>
                <a:srgbClr val="000000"/>
              </a:solidFill>
              <a:latin typeface="Arial"/>
            </a:endParaRPr>
          </a:p>
          <a:p>
            <a:pPr marL="452520" indent="-45252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عد إتقان السابق نستطيع ان ننتقل الى التصنيف بناء على الاشتراك في خاصيتين  في آن واحد (تصنيف متعدد)</a:t>
            </a:r>
            <a:endParaRPr b="1" lang="en-US" sz="2800" spc="-1" strike="noStrike">
              <a:solidFill>
                <a:srgbClr val="000000"/>
              </a:solidFill>
              <a:latin typeface="Arial"/>
            </a:endParaRPr>
          </a:p>
          <a:p>
            <a:pPr marL="452520" indent="-45252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صل الطفل للمفاهيم الخاصة بالتصنيف كل حسب سرعته الخاصة في النمو.</a:t>
            </a:r>
            <a:endParaRPr b="1" lang="en-US" sz="2800" spc="-1" strike="noStrike">
              <a:solidFill>
                <a:srgbClr val="000000"/>
              </a:solidFill>
              <a:latin typeface="Arial"/>
            </a:endParaRPr>
          </a:p>
        </p:txBody>
      </p:sp>
      <p:sp>
        <p:nvSpPr>
          <p:cNvPr id="390" name="Rectangle 5"/>
          <p:cNvSpPr/>
          <p:nvPr/>
        </p:nvSpPr>
        <p:spPr>
          <a:xfrm>
            <a:off x="684360" y="4436280"/>
            <a:ext cx="8064360" cy="368280"/>
          </a:xfrm>
          <a:prstGeom prst="rect">
            <a:avLst/>
          </a:prstGeom>
          <a:noFill/>
          <a:ln w="0">
            <a:noFill/>
          </a:ln>
        </p:spPr>
        <p:style>
          <a:lnRef idx="0"/>
          <a:fillRef idx="0"/>
          <a:effectRef idx="0"/>
          <a:fontRef idx="minor"/>
        </p:style>
        <p:txBody>
          <a:bodyPr lIns="90000" rIns="90000" tIns="46800" bIns="46800" anchor="ctr">
            <a:spAutoFit/>
          </a:bodyPr>
          <a:p>
            <a:pPr lvl="1" marL="457200" algn="r" rtl="1">
              <a:lnSpc>
                <a:spcPct val="100000"/>
              </a:lnSpc>
              <a:tabLst>
                <a:tab algn="l" pos="0"/>
                <a:tab algn="l" pos="35892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71640" y="549360"/>
            <a:ext cx="713880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لتنمو مهارة التصنيف بشكل متكامل يجب تحقيق شرطين اساسيين: </a:t>
            </a:r>
            <a:br>
              <a:rPr sz="3200"/>
            </a:br>
            <a:endParaRPr b="0" lang="en-US" sz="3600" spc="-1" strike="noStrike">
              <a:solidFill>
                <a:srgbClr val="d1282e"/>
              </a:solidFill>
              <a:latin typeface="Arial Black"/>
            </a:endParaRPr>
          </a:p>
        </p:txBody>
      </p:sp>
      <p:sp>
        <p:nvSpPr>
          <p:cNvPr id="392" name=""/>
          <p:cNvSpPr txBox="1"/>
          <p:nvPr/>
        </p:nvSpPr>
        <p:spPr>
          <a:xfrm>
            <a:off x="1186920" y="1699920"/>
            <a:ext cx="7620120" cy="4373640"/>
          </a:xfrm>
          <a:prstGeom prst="rect">
            <a:avLst/>
          </a:prstGeom>
          <a:noFill/>
          <a:ln w="0">
            <a:noFill/>
          </a:ln>
        </p:spPr>
        <p:txBody>
          <a:bodyPr anchor="t">
            <a:normAutofit fontScale="98000"/>
          </a:bodyPr>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ادراك الحسي للطفل عن طريق توظيف الحواس للتعرف على الاشياء ووصفها وتصنيفها.</a:t>
            </a:r>
            <a:endParaRPr b="0" lang="en-US" sz="2400" spc="-1" strike="noStrike">
              <a:solidFill>
                <a:srgbClr val="000000"/>
              </a:solidFill>
              <a:latin typeface="Arial"/>
            </a:endParaRPr>
          </a:p>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عمليات العقلية لدى الطفل: ويقصد به قدرته على تحليل الاشياء والاحداث واكتشاف اوجه الشبة والاختلاف بينها في ضوء خصائص محسوسة او مجردة.</a:t>
            </a: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عد هذه المهارة احدى المكونات الاساسية للتفكير المنطقي </a:t>
            </a:r>
            <a:endParaRPr b="0" lang="en-US" sz="2400" spc="-1" strike="noStrike">
              <a:solidFill>
                <a:srgbClr val="000000"/>
              </a:solidFill>
              <a:latin typeface="Arial"/>
            </a:endParaRPr>
          </a:p>
          <a:p>
            <a:pPr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مستطيل 3"/>
          <p:cNvSpPr/>
          <p:nvPr/>
        </p:nvSpPr>
        <p:spPr>
          <a:xfrm>
            <a:off x="468360" y="333360"/>
            <a:ext cx="8136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يتعلم الاطفال تجميع الأشياء باستخدام عدد من أنواع الملامح المألوفة مثل:</a:t>
            </a:r>
            <a:endParaRPr b="0" lang="en-US" sz="3600" spc="-1" strike="noStrike">
              <a:solidFill>
                <a:srgbClr val="000000"/>
              </a:solidFill>
              <a:latin typeface="Verdana"/>
            </a:endParaRPr>
          </a:p>
        </p:txBody>
      </p:sp>
      <p:sp>
        <p:nvSpPr>
          <p:cNvPr id="394" name="عنصر نائب للمحتوى 2"/>
          <p:cNvSpPr/>
          <p:nvPr/>
        </p:nvSpPr>
        <p:spPr>
          <a:xfrm>
            <a:off x="755640" y="1844640"/>
            <a:ext cx="8034480" cy="4800600"/>
          </a:xfrm>
          <a:prstGeom prst="rect">
            <a:avLst/>
          </a:prstGeom>
          <a:noFill/>
          <a:ln w="0">
            <a:noFill/>
          </a:ln>
        </p:spPr>
        <p:style>
          <a:lnRef idx="0"/>
          <a:fillRef idx="0"/>
          <a:effectRef idx="0"/>
          <a:fontRef idx="minor"/>
        </p:style>
        <p:txBody>
          <a:bodyPr lIns="90000" rIns="90000" tIns="46800" bIns="46800" anchor="t">
            <a:no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لون: الاشياء يمكن أن تكون معا لأنها كلها لونها احمر</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شكل: الاشياء قد تكون مستديرة , مربعة , مستطيلة </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حجم: هناك بعض الأشياء كبيرة وبعضها صغيرة بعضها ممتلئ وبعضها رفيع بعضها قصير وبعضها طويل.</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خامات: الاشياء التي يمكن ان تكون مصنوعة من خامات مختلفة كالخشب, البلاستيك, او الزجاج او الورق او القماش او المعدن</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نمط: الاشياء قد تتميز بأنماط بصرية مختلفة مثل الشرائط, النقاط, الزهور.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ستطيل 3"/>
          <p:cNvSpPr/>
          <p:nvPr/>
        </p:nvSpPr>
        <p:spPr>
          <a:xfrm>
            <a:off x="297000" y="404640"/>
            <a:ext cx="8351640" cy="4086000"/>
          </a:xfrm>
          <a:prstGeom prst="rect">
            <a:avLst/>
          </a:prstGeom>
          <a:noFill/>
          <a:ln w="0">
            <a:noFill/>
          </a:ln>
        </p:spPr>
        <p:style>
          <a:lnRef idx="0"/>
          <a:fillRef idx="0"/>
          <a:effectRef idx="0"/>
          <a:fontRef idx="minor"/>
        </p:style>
        <p:txBody>
          <a:bodyPr lIns="90000" rIns="90000" tIns="46800" bIns="46800" anchor="t">
            <a:sp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لمس: الاشياء يمكن ان يكون لها ملامس مختلفة عن بعضها البعض ( فبعضها ناعم , خشن , طري , صلب , رطب , جاف)</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وظيفة: بعض الاشياء تؤدي نفس الوظيفة أو انها تستخدم لأداء نفس الشي (كل هذه لأجل تناول الطعام , الكتابة , عزف الموسيقى)</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ئات الاسماء: هناك اسماء تنتمي لعدة اشياء (أشخاص – حيوانات – طعام – وسائل مواصلات – اسلحة – ملابس – مناز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يتم التصنيف؟</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9:23Z</dcterms:created>
  <dc:creator>Hala</dc:creator>
  <dc:description/>
  <dc:language>en-US</dc:language>
  <cp:lastModifiedBy>aglaf@ksu.edu.sa</cp:lastModifiedBy>
  <dcterms:modified xsi:type="dcterms:W3CDTF">2016-02-18T07:55:52Z</dcterms:modified>
  <cp:revision>129</cp:revision>
  <dc:subject/>
  <dc:title>التصنيف</dc:title>
</cp:coreProperties>
</file>