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4EF1-6EBC-4735-9BFB-BD9F7A4E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A49E-11B2-40C1-BF13-15786C94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203A-7764-454D-98CE-B616D1D3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1091-FC74-4224-9516-3E3D4697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922B-35FC-4397-A02A-D28953B0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7FE-B6ED-4B3F-9056-7A1BE6A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E35A-E77E-40C5-A741-47018CB0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6A5-1DE5-4B21-AD90-40A5BBC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A657-551F-41B9-B3C5-3EEBB025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38B3-B223-4883-B383-BA3E3076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7B8-1621-49C2-A9BF-3D8E5C77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DC88-F0C2-4B22-8028-C3A66CC8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77EC-BE23-4987-AF95-0635257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353-C306-4091-847F-57A6FB50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FBA3-2BF5-47AC-92EF-8F29C04B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2A9-769E-46B2-BA1D-7E730B65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3F6E-B573-4167-851E-1324364E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FA0D-1F2F-4E49-A273-B5A29FB9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137E-6EDF-4541-B619-38157F9A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B0C1-B9B0-4C0E-A8F4-72C57F93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9DD8-6F05-42FC-A40A-F180DD9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1F53-B58F-4156-A370-4089073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C5AC-5A70-464D-B6E8-E4F6692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1B0F-3659-42B2-B5BB-8458056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17CD-C0BF-4DFC-A38C-B1CA4147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94D4-AD6F-4622-A962-E1F6138F63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n this lesson we will answer the follow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How does sedimentation fit into the water treatment proces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5.6   SEDI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Sedimentation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99ff33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-  settling velo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99ff33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-  over flow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99ff33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=                   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Whe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Q 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flow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s 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surface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H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depth of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t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deten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600200" y="2133720"/>
            <a:ext cx="1219320" cy="109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733920" y="2133720"/>
            <a:ext cx="1143000" cy="109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00200" y="2133720"/>
                <a:ext cx="1219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3733920" y="213372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f  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 &gt;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, particles will completely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settle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f  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 &lt;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, particles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do not settle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unless the particles are at h level when entering the sedimentation tank, w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  = 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o get the effective of sedimentation tan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&lt;&lt;&lt;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. This can be achieved by increas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he area of the tank (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 = Q/As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ype 2 Sedimentation Ana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To determine the criteria of the particles and the effectiveness of the ta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Using settling colum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diameter of the column is not important but the depth of the water is same as the actual water dep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occur in  steady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cord the initial concentration of the suspended solids, 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withdrawn the sample at every sample ports at selected time intervals, 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calculate the percent of removal for every sample point and sampl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plot the %R at depth versus time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19320" y="3962520"/>
            <a:ext cx="5029200" cy="13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1295280" y="3962520"/>
                <a:ext cx="4876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%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From the analysis, can determ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he effectiveness of the tank at selected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s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Relationship between analysis (column) and actual condition (tan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 Scale-up factors of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0.65 for overflow rate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1.75 for detention time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to be used to design the tan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133720" cy="487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entury Gothic"/>
              </a:rPr>
              <a:t>Example 1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Given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Co = 400 mg/L,   Overflow rate = 2.7 m</a:t>
            </a:r>
            <a:r>
              <a:rPr b="1" lang="en-US" sz="2400" spc="-1" strike="noStrike" baseline="30000">
                <a:solidFill>
                  <a:srgbClr val="99ff33"/>
                </a:solidFill>
                <a:latin typeface="Century Gothic"/>
              </a:rPr>
              <a:t>3</a:t>
            </a: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/m</a:t>
            </a:r>
            <a:r>
              <a:rPr b="1" lang="en-US" sz="24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.h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Find the effectiveness of settling colum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219320"/>
          <a:ext cx="8229600" cy="3581280"/>
        </p:xfrm>
        <a:graphic>
          <a:graphicData uri="http://schemas.openxmlformats.org/drawingml/2006/table">
            <a:tbl>
              <a:tblPr/>
              <a:tblGrid>
                <a:gridCol w="1560600"/>
                <a:gridCol w="865080"/>
                <a:gridCol w="982800"/>
                <a:gridCol w="982440"/>
                <a:gridCol w="982800"/>
                <a:gridCol w="982800"/>
                <a:gridCol w="982440"/>
                <a:gridCol w="890640"/>
              </a:tblGrid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me (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epth, 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ercent Removal (%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1.  </a:t>
            </a:r>
            <a:r>
              <a:rPr b="1" i="1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3200" spc="-1" strike="noStrike" baseline="-25000">
                <a:solidFill>
                  <a:srgbClr val="99ff33"/>
                </a:solidFill>
                <a:latin typeface="Century Gothic"/>
              </a:rPr>
              <a:t>o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   =  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Century Gothic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               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 </a:t>
            </a:r>
            <a:r>
              <a:rPr b="1" i="1" lang="en-US" sz="3200" spc="-1" strike="noStrike" baseline="-25000">
                <a:solidFill>
                  <a:srgbClr val="99ff33"/>
                </a:solidFill>
                <a:latin typeface="Century Gothic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Century Gothic"/>
              </a:rPr>
              <a:t>2.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Plot the graph (%R at depth (H) vs Time (t)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2819520"/>
            <a:ext cx="8076960" cy="13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09480" y="2819520"/>
                <a:ext cx="7925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ig a sedi"/>
          <p:cNvPicPr/>
          <p:nvPr/>
        </p:nvPicPr>
        <p:blipFill>
          <a:blip r:embed="rId1"/>
          <a:stretch/>
        </p:blipFill>
        <p:spPr>
          <a:xfrm>
            <a:off x="838080" y="228600"/>
            <a:ext cx="7086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entury Gothic"/>
              </a:rPr>
              <a:t>3.  The effectiveness of settling colum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5800" y="1752480"/>
            <a:ext cx="8001000" cy="131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685800" y="1752480"/>
                <a:ext cx="7924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Text Box 7"/>
          <p:cNvSpPr/>
          <p:nvPr/>
        </p:nvSpPr>
        <p:spPr>
          <a:xfrm>
            <a:off x="685800" y="3733920"/>
            <a:ext cx="7543800" cy="155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838080" y="3809880"/>
                <a:ext cx="72392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o remove the suspended material from water by the action of gra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Sedimentation tanks can be rectangular, square or circular in shape. The most common types are rectangular, and circular with centre fe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Example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termine the surface area of settling tank for 0.5 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/s and find the depth of the clarifier for the overflow rate of 32.5 m/d and detention time of 95 min. A minimum of two tanks is provided, each with a width of 12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olutio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Example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A rectangular sedimentation tank is to be designed for a flow of 20 million litre per day using a 2:1 length-width ratio and overflow rate of 24 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entury Gothic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.day. the tank is to be 2 m deep. Determine the dimensions for the tank and the detention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33"/>
                </a:solidFill>
                <a:uFillTx/>
                <a:latin typeface="Century Gothic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Q = A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                                             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833.33 m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L:W = 2: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 = L x W = 2W x W = 2W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= 833.3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W = 20.41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L = 2W = 2(20.41) = 40.82 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-1752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57200" y="2514600"/>
            <a:ext cx="426708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457200" y="2514600"/>
                <a:ext cx="4267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ay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entury Gothic"/>
              </a:rPr>
              <a:t>Detentio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 =                =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=  120 min = 0.0833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95280" y="1752480"/>
            <a:ext cx="99072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371600" y="1828800"/>
                <a:ext cx="762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Text Box 7"/>
          <p:cNvSpPr/>
          <p:nvPr/>
        </p:nvSpPr>
        <p:spPr>
          <a:xfrm>
            <a:off x="3276720" y="1752480"/>
            <a:ext cx="3276360" cy="100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3276720" y="1752480"/>
                <a:ext cx="3276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5627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deal rectangular sedimentation tank illustration the settling of discrete parti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sedi concept"/>
          <p:cNvPicPr/>
          <p:nvPr/>
        </p:nvPicPr>
        <p:blipFill>
          <a:blip r:embed="rId1"/>
          <a:stretch/>
        </p:blipFill>
        <p:spPr>
          <a:xfrm>
            <a:off x="609480" y="83808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ng rectangular settling bas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4" descr="sedi2"/>
          <p:cNvPicPr/>
          <p:nvPr/>
        </p:nvPicPr>
        <p:blipFill>
          <a:blip r:embed="rId1"/>
          <a:stretch/>
        </p:blipFill>
        <p:spPr>
          <a:xfrm>
            <a:off x="457200" y="6094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EDIMENTATION T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457200" y="1447920"/>
            <a:ext cx="8381520" cy="5028840"/>
            <a:chOff x="457200" y="1447920"/>
            <a:chExt cx="8381520" cy="5028840"/>
          </a:xfrm>
        </p:grpSpPr>
        <p:pic>
          <p:nvPicPr>
            <p:cNvPr id="105" name="Picture 5" descr="SED&amp;FILTER"/>
            <p:cNvPicPr/>
            <p:nvPr/>
          </p:nvPicPr>
          <p:blipFill>
            <a:blip r:embed="rId1"/>
            <a:srcRect l="0" t="8462" r="0" b="16512"/>
            <a:stretch/>
          </p:blipFill>
          <p:spPr>
            <a:xfrm>
              <a:off x="457200" y="1447920"/>
              <a:ext cx="838152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"/>
            <p:cNvSpPr/>
            <p:nvPr/>
          </p:nvSpPr>
          <p:spPr>
            <a:xfrm>
              <a:off x="5729400" y="3920040"/>
              <a:ext cx="25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Sedimentation Tank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H="1">
              <a:off x="4711680" y="4319640"/>
              <a:ext cx="695160" cy="47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"/>
          <p:cNvGraphicFramePr/>
          <p:nvPr/>
        </p:nvGraphicFramePr>
        <p:xfrm>
          <a:off x="457200" y="380880"/>
          <a:ext cx="8381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381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4"/>
          <p:cNvGraphicFramePr/>
          <p:nvPr/>
        </p:nvGraphicFramePr>
        <p:xfrm>
          <a:off x="457200" y="457200"/>
          <a:ext cx="82296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entury Gothic"/>
              </a:rPr>
              <a:t>Types of partic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. Discrete / individual parti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-size, velocity are constant during the sett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b. Flocculate parti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- size, velocity are changing during the sett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- the particles flocculate and grow bigger in siz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Century Gothic"/>
              </a:rPr>
              <a:t>Types of sediment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entury Gothic"/>
              </a:rPr>
              <a:t>Type 1 sedimen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concentration i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very 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settle a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individual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parti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example : sand and grit material removal in wastewater treatment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ype 2 sedi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concentration i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flocculate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during sett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example : particles removal in sedimentation ta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ype 3 sedimentation / zone sedi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concentration i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tend to settle as a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mass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and form a layer called “blanke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distinct clear zone and sludge zone are pre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example : secondary sedimentation in wastewater treatment p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4:30:55Z</dcterms:created>
  <dc:creator>Suryati</dc:creator>
  <dc:description/>
  <dc:language>en-US</dc:language>
  <cp:lastModifiedBy>Owner</cp:lastModifiedBy>
  <dcterms:modified xsi:type="dcterms:W3CDTF">2008-07-02T18:35:07Z</dcterms:modified>
  <cp:revision>27</cp:revision>
  <dc:subject/>
  <dc:title>Slide 1</dc:title>
</cp:coreProperties>
</file>