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1C66-3D36-4C85-89D5-53D546AE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06E5-AFA3-4407-BCBC-8C16500B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8EE1-7036-4357-8608-49E8DBA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9AD5-A10C-4C75-AE81-8762EF2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4F4C-513F-480C-9A95-BB9ADC82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9D0F-FD17-44B8-8DBF-067BDAF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E65EF-0574-4CB8-B2AC-0A3BFA8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8954-FFFA-4678-AB01-3E4B59BA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A310A-C033-4B3A-A937-2D1D30D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984C-A93E-4918-B8C1-FE7015C5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4B7A5-8C71-49C1-AD33-40D8942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A04A-F108-4C3B-A28F-17E550D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AAE2-6F4F-4C1E-9CC7-61E3CBFA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8DE5-7B74-4273-B011-AEA28E5C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B429-68AE-44BF-A976-9886FEF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03FA-C573-4CB4-9A00-1ACB963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6D04-88E5-4D02-A6E6-382B262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05EB-9649-4133-BBF1-1F8F465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CB12-5890-4226-A953-43E3670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61C8-8890-4B72-AE1E-DA3C56E9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5A6BF-DC14-40C0-B81F-6DD3B654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20A9D-3360-414B-A7A5-E62589AA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B8777-E72C-4C63-871C-6A10F3C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54FF84-2A5B-43BA-9510-7F6A3753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ACFB4-16A5-4453-9596-0C1FEE7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8E2A7-028C-4F03-9325-7D4DEE3F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BFC43-0D9E-4AB7-8406-CEE1408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ECDF8-D17C-4615-A231-5B980CF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7B81A-E3B7-4653-B793-C255927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677B6-A5A7-43EF-B3AC-20D2CA1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160-440B-4DF1-A23F-0A027C86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62868-12C2-417F-A667-428D52C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A5290-CC58-4C00-9098-6C02C01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58145-8443-4F3D-9D6E-28850FB8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9CDA0-05FF-45D0-B382-4FD05CCB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FA8D7-37BA-4DE2-9CED-6445CFE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5D722-CE60-4CA5-B7F4-C6D10721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4DD91-B391-4E4A-988D-130026A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A6A9F-9FAF-4393-B75E-F2902327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4229-A38B-4BB7-9ADE-C65E0A0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17DE0-5DC1-4974-B4EB-0EED475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908-3C15-4CD2-9CA7-4D42D351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14251-D529-4D11-B259-F83C9A1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EB959-37DB-4794-AD12-ECC4C20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9966B-32ED-4EDD-8E31-89B3D5FF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4F857-01D6-46F0-B037-50695CF8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52905-AE06-4391-BCB2-E2B2EF36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21DDB-BAA9-4ECC-B25A-35DECC27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61B9C-7C74-4C1A-8886-C2D5EB73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C1AC8-E08E-4FE5-9C97-C68A961F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D5828-B8BA-4B63-9B02-2659AB2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D70D8-A07D-4D91-83F5-2F0A06C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457-B6C6-4B3E-8CC1-9F6ECB1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D2760-C1C6-4B61-B041-3E687F38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59AC4-0E80-4EF8-924A-052DAFD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480C0-EB27-4F04-9AE2-C0EEF8D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B19DE-B441-4961-8FED-45D46DA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A306-2C61-4490-8E19-CBB781D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6CDCF-E5B0-4FB7-85B7-6F8A3213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324B-A965-4022-B94A-489BF762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1E437D-177C-4012-AB7D-136208CC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5A5FB3-E2E7-4FDF-8E67-71DDC50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F57786-78A6-4517-A889-D4F03BC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1D7-928A-4CE6-A568-4D5B6827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C3EDC5-96D7-42A8-9E27-7C38D0E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C6A420-C8FB-4050-BA07-A300441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81B00B-A194-4522-9643-94C6A77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6A4696-1E3B-44E4-B43D-A6A46C2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450531-898E-4757-9333-981ADE4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8C05A2-4E45-4CEC-A89E-4C647AD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D6AFF6-CDF6-491B-9C5B-B3CD77B7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BA4193-E9AC-457D-AE06-197F62B3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E46DED-902F-4725-B728-84A0963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A7E-E863-4BB4-B9C3-63B574D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B90-BC89-4FE8-B9F9-38FBD2A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AE7-C4A6-4271-94B0-81A84A2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A33-F510-47E8-9976-7FE2E3F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C02-915D-460C-845C-F000AEA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392-11F7-4D58-8FE6-96C55F5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CF7-07BC-4919-B5C5-23625F5D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70A-832F-4FE9-B51E-657F687F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A29-DA85-4282-97A3-9CF6D59D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7D3-3E19-4310-8E35-2A65B7B0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8F0-66A8-4846-9F76-49AEE6F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EE74-2933-4BEE-A103-A0D39146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DFD9-4753-425D-8027-F26C6CA2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AE10-4423-4FDA-A617-0949ED41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B6F6-94BB-45FF-AC79-6F69845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F90C-ABAD-4577-BF1D-EE23BC10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FD1-D19B-4037-8289-A4B227A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091-43A4-47D1-9C3F-D120DB8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5FC-A872-4F9A-B4BB-97BB5008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3E5-9741-4ED3-BC67-28E4936C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FD07-6B73-4EA9-AC1C-613076EA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4D8D-4032-479B-A995-190B95F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089C-E83C-4D67-9EBD-15B163A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0F6E-4658-4F68-B5D2-314A651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2DBB-2DBA-4816-9D86-F9B19B48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3786-31EB-4BE4-9076-1B599483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E9F7-A6F6-4E65-B5E6-D9BD068F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7518-73D6-4AA9-8DED-39FCC24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56A3-F327-4769-9303-AAD024A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551F-68EB-4F70-8714-3477EB73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3CEB-32D6-44DA-BAA4-FCB72B04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C29A-98B5-4E38-A02E-10D7BD6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55A3-D40E-44F6-B262-5B0B9AF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05B3-A5C3-4D75-A1D5-9E8E045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7F4B-1133-4D14-B0BE-98417DC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E916-91D7-40EB-BEE4-2169343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6677-405C-4854-8720-1C5A7BD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9444-B7A9-4B9C-9B38-6EAB8E8C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034D-DF2A-445B-9139-4A5114F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1FEA-F233-40D3-9B99-908C6192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18BE-52C7-468A-80E7-B532ECF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C435-B5DA-49E8-9152-A6A6245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2212-B0BE-4062-90E2-3674B89A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C83C-3CC6-4096-9C50-BD3349EA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14F2-97F0-463F-8B5D-EE8195CA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679C-DA18-47F9-AB04-C3117A8B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2FA8-4843-447A-91AC-66D7883F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D2F3-DB10-43AE-BFD5-923B6B0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07B6-BAC9-40EB-ABFC-BCEBC1E0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8A1F-F5A5-4B12-A2E4-3BE8129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E494-8FBF-458F-94EF-EDBCA34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B429-83B6-4057-9971-AF89370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BE49-90C9-40B5-8A32-9E556AE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53824-794D-4A34-90CF-DA320FA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89CE2-095C-47CC-8A66-211DE55B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017D-F0A3-4C1A-9B24-26C85A62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BEF73-8458-45B9-ADF8-FA8B6BC0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ED6E8-B0F0-486D-96CE-F9B31C7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71869-D873-4C05-A2ED-28AF8207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30C05-138D-48FD-B7A0-0EC9E4C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FEE1C-676C-450E-9E59-9BF83F0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7D722-A752-43F9-B233-4979575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AFFEE-2D3A-44DC-804D-7E48987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111C4-A4E5-4A13-AF40-8EDFB88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A3DE9-51B1-4EC1-AF98-9F9D0AE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37176-E44B-4A2A-AC36-5A214E50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89F34-5113-4D39-B0EB-20B31D77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83960-E02D-4156-9092-A3C5D9B9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2E33-60F4-4016-983C-48FCBFB6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6EC23-DEEC-4B32-A872-39A6A931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C2DF3-4E3F-41EE-898C-7AD8CF6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F798039-6B58-45EA-9479-A81D1CB92C2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A4B-B8B4-4ECB-BB28-92B5855B14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BD13C67-FD8A-43B4-A50B-D7CD33016C8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222-C3F2-4158-9CF2-69AFE5124FB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24D5E97B-7607-4750-96B3-4BFE2F0EBF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64FA225-9A4D-476A-A3D5-2C8B785B3CE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17B1-D851-46FF-BFB7-71A70E9A72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E387A1B-4EE8-49C8-AE50-E3763C605E4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5E9A-4D1A-4772-B8AE-FCEDB9E420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0C8590E-E13A-4A43-8795-62615F87703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46B-A4EF-4EAA-9536-235A660C520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A8A1D62C-FCFA-49B4-8E40-AB068F69F0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7517-F72D-41F9-83D0-8E5499B91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43846B1-BDDC-4120-BEEB-F050049CB9A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7274-94B4-476D-8095-F93D16FEF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50D12E4-AD67-4ACA-82F8-8B8AB1F3295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B312-A957-4B23-AA77-6C39187BC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261D4C1-15EB-4CEE-9D27-9A93C99B075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C356B43-0A2E-454A-A6EE-CAB05254230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877922F-B54F-45F2-98A6-D594D897BF3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FF0-93A0-441D-8CAB-80408EC142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BFE5915-F0D4-4E5E-97BC-79695F49D9A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1735-3EC4-4867-8496-9C83C4B027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398CCDC-A12E-454D-B4E7-8E3E5C43286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F1AD-0B48-4768-951D-189A5624112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2A0ACE62-BDDC-4E71-85FE-EABC4AC4F6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EA712DD-3863-4261-9756-D8725236B21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058-57DB-4616-9AC5-8C759BA9CC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159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305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unctional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s of the project that are not directly related to the functional area get short-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of team members is often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of the client are secondary and are responded to slow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35B5C891-3AC9-4455-8517-1839E1A4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6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785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Project Organization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4290840" y="2057400"/>
            <a:ext cx="1946520" cy="45396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2057400" y="2905200"/>
            <a:ext cx="175248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973680" y="2905200"/>
            <a:ext cx="136044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5486400" y="2905200"/>
            <a:ext cx="160020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9"/>
          <p:cNvSpPr/>
          <p:nvPr/>
        </p:nvSpPr>
        <p:spPr>
          <a:xfrm>
            <a:off x="5264280" y="252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0"/>
          <p:cNvSpPr/>
          <p:nvPr/>
        </p:nvSpPr>
        <p:spPr>
          <a:xfrm>
            <a:off x="3000240" y="2708280"/>
            <a:ext cx="466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29908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2"/>
          <p:cNvSpPr/>
          <p:nvPr/>
        </p:nvSpPr>
        <p:spPr>
          <a:xfrm>
            <a:off x="766764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7238880" y="2905200"/>
            <a:ext cx="121932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4"/>
          <p:cNvSpPr/>
          <p:nvPr/>
        </p:nvSpPr>
        <p:spPr>
          <a:xfrm>
            <a:off x="45496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>
            <a:off x="60436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915480" y="4014720"/>
            <a:ext cx="1158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915480" y="4797360"/>
            <a:ext cx="1158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915480" y="5578560"/>
            <a:ext cx="11721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2092320" y="433872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0"/>
          <p:cNvSpPr/>
          <p:nvPr/>
        </p:nvSpPr>
        <p:spPr>
          <a:xfrm>
            <a:off x="2092320" y="51195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1"/>
          <p:cNvSpPr/>
          <p:nvPr/>
        </p:nvSpPr>
        <p:spPr>
          <a:xfrm>
            <a:off x="2092320" y="59022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2"/>
          <p:cNvSpPr/>
          <p:nvPr/>
        </p:nvSpPr>
        <p:spPr>
          <a:xfrm>
            <a:off x="29908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"/>
          <p:cNvSpPr/>
          <p:nvPr/>
        </p:nvSpPr>
        <p:spPr>
          <a:xfrm>
            <a:off x="45496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60436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"/>
          <p:cNvSpPr/>
          <p:nvPr/>
        </p:nvSpPr>
        <p:spPr>
          <a:xfrm>
            <a:off x="766764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2272785F-C6F7-4D6D-A930-C56CC68D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60160" y="609120"/>
            <a:ext cx="8126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communications between function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pointe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on of resources is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“home” for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ies of the parent organization are follow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A8A9ABD2-94AF-447B-AEC6-15FBA1CF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7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51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many b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s on project manager’s negotiat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for sub-optim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BD1902DE-905A-4FDC-A081-E34D47E0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7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Statement of Work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written description of the objectives to be achieved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Task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further subdivision of a project – usually shorter than several months and performed by a single group or organization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Work Package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group of activities combined to be assignable to a single organizational unit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Title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376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ject Milestone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pecific events in the life of the projec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fines the hierarchy of project tasks, subtasks, and work packag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ieces of work that consume tim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085"/>
          <p:cNvSpPr/>
          <p:nvPr/>
        </p:nvSpPr>
        <p:spPr>
          <a:xfrm>
            <a:off x="609480" y="533520"/>
            <a:ext cx="7772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05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52"/>
          <p:cNvSpPr/>
          <p:nvPr/>
        </p:nvSpPr>
        <p:spPr>
          <a:xfrm>
            <a:off x="8959680" y="723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2053"/>
          <p:cNvGrpSpPr/>
          <p:nvPr/>
        </p:nvGrpSpPr>
        <p:grpSpPr>
          <a:xfrm>
            <a:off x="839160" y="2362320"/>
            <a:ext cx="7466400" cy="3710520"/>
            <a:chOff x="839160" y="2362320"/>
            <a:chExt cx="7466400" cy="3710520"/>
          </a:xfrm>
        </p:grpSpPr>
        <p:sp>
          <p:nvSpPr>
            <p:cNvPr id="730" name="Rectangle 2054"/>
            <p:cNvSpPr/>
            <p:nvPr/>
          </p:nvSpPr>
          <p:spPr>
            <a:xfrm>
              <a:off x="1868760" y="2553840"/>
              <a:ext cx="10551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055"/>
            <p:cNvSpPr/>
            <p:nvPr/>
          </p:nvSpPr>
          <p:spPr>
            <a:xfrm>
              <a:off x="2594880" y="2944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56"/>
            <p:cNvSpPr/>
            <p:nvPr/>
          </p:nvSpPr>
          <p:spPr>
            <a:xfrm>
              <a:off x="2067480" y="3319920"/>
              <a:ext cx="10551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ject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057"/>
            <p:cNvSpPr/>
            <p:nvPr/>
          </p:nvSpPr>
          <p:spPr>
            <a:xfrm>
              <a:off x="3588840" y="331992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ject 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058"/>
            <p:cNvSpPr/>
            <p:nvPr/>
          </p:nvSpPr>
          <p:spPr>
            <a:xfrm>
              <a:off x="2604600" y="3126960"/>
              <a:ext cx="15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59"/>
            <p:cNvSpPr/>
            <p:nvPr/>
          </p:nvSpPr>
          <p:spPr>
            <a:xfrm>
              <a:off x="4116600" y="313632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060"/>
            <p:cNvSpPr/>
            <p:nvPr/>
          </p:nvSpPr>
          <p:spPr>
            <a:xfrm>
              <a:off x="4126320" y="3126960"/>
              <a:ext cx="417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061"/>
            <p:cNvSpPr/>
            <p:nvPr/>
          </p:nvSpPr>
          <p:spPr>
            <a:xfrm>
              <a:off x="2820960" y="37112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062"/>
            <p:cNvSpPr/>
            <p:nvPr/>
          </p:nvSpPr>
          <p:spPr>
            <a:xfrm>
              <a:off x="2624040" y="408600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ask 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063"/>
            <p:cNvSpPr/>
            <p:nvPr/>
          </p:nvSpPr>
          <p:spPr>
            <a:xfrm>
              <a:off x="3416400" y="4477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064"/>
            <p:cNvSpPr/>
            <p:nvPr/>
          </p:nvSpPr>
          <p:spPr>
            <a:xfrm>
              <a:off x="3152880" y="4852080"/>
              <a:ext cx="158508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ubtask 1.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065"/>
            <p:cNvSpPr/>
            <p:nvPr/>
          </p:nvSpPr>
          <p:spPr>
            <a:xfrm>
              <a:off x="4142880" y="52434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066"/>
            <p:cNvSpPr/>
            <p:nvPr/>
          </p:nvSpPr>
          <p:spPr>
            <a:xfrm>
              <a:off x="2756160" y="5618160"/>
              <a:ext cx="24447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 Package 1.1.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2067"/>
            <p:cNvSpPr/>
            <p:nvPr/>
          </p:nvSpPr>
          <p:spPr>
            <a:xfrm>
              <a:off x="839160" y="2362320"/>
              <a:ext cx="908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068"/>
            <p:cNvSpPr/>
            <p:nvPr/>
          </p:nvSpPr>
          <p:spPr>
            <a:xfrm>
              <a:off x="1081800" y="3319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069"/>
            <p:cNvSpPr/>
            <p:nvPr/>
          </p:nvSpPr>
          <p:spPr>
            <a:xfrm>
              <a:off x="1081800" y="40860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070"/>
            <p:cNvSpPr/>
            <p:nvPr/>
          </p:nvSpPr>
          <p:spPr>
            <a:xfrm>
              <a:off x="1081800" y="48520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2071"/>
            <p:cNvSpPr/>
            <p:nvPr/>
          </p:nvSpPr>
          <p:spPr>
            <a:xfrm>
              <a:off x="1081800" y="5618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2072"/>
            <p:cNvSpPr/>
            <p:nvPr/>
          </p:nvSpPr>
          <p:spPr>
            <a:xfrm>
              <a:off x="4145400" y="408600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ask 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073"/>
            <p:cNvSpPr/>
            <p:nvPr/>
          </p:nvSpPr>
          <p:spPr>
            <a:xfrm>
              <a:off x="2830680" y="3891960"/>
              <a:ext cx="150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074"/>
            <p:cNvSpPr/>
            <p:nvPr/>
          </p:nvSpPr>
          <p:spPr>
            <a:xfrm>
              <a:off x="4341240" y="390276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2075"/>
            <p:cNvSpPr/>
            <p:nvPr/>
          </p:nvSpPr>
          <p:spPr>
            <a:xfrm>
              <a:off x="3426120" y="4659480"/>
              <a:ext cx="229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076"/>
            <p:cNvSpPr/>
            <p:nvPr/>
          </p:nvSpPr>
          <p:spPr>
            <a:xfrm>
              <a:off x="5797800" y="466884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77"/>
            <p:cNvSpPr/>
            <p:nvPr/>
          </p:nvSpPr>
          <p:spPr>
            <a:xfrm>
              <a:off x="5270040" y="4852080"/>
              <a:ext cx="15847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ubtask 1.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2078"/>
            <p:cNvSpPr/>
            <p:nvPr/>
          </p:nvSpPr>
          <p:spPr>
            <a:xfrm>
              <a:off x="4285800" y="3891960"/>
              <a:ext cx="401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2079"/>
            <p:cNvSpPr/>
            <p:nvPr/>
          </p:nvSpPr>
          <p:spPr>
            <a:xfrm>
              <a:off x="5742360" y="4659480"/>
              <a:ext cx="256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80"/>
            <p:cNvSpPr/>
            <p:nvPr/>
          </p:nvSpPr>
          <p:spPr>
            <a:xfrm>
              <a:off x="5534280" y="5618160"/>
              <a:ext cx="24447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 Package 1.1.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081"/>
            <p:cNvSpPr/>
            <p:nvPr/>
          </p:nvSpPr>
          <p:spPr>
            <a:xfrm>
              <a:off x="4155120" y="542556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082"/>
            <p:cNvSpPr/>
            <p:nvPr/>
          </p:nvSpPr>
          <p:spPr>
            <a:xfrm>
              <a:off x="6459120" y="543492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083"/>
            <p:cNvSpPr/>
            <p:nvPr/>
          </p:nvSpPr>
          <p:spPr>
            <a:xfrm>
              <a:off x="6536160" y="5425560"/>
              <a:ext cx="1769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Rectangle 2084"/>
          <p:cNvSpPr/>
          <p:nvPr/>
        </p:nvSpPr>
        <p:spPr>
          <a:xfrm>
            <a:off x="914400" y="1447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ork breakdown structur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the hierarchy of project tasks, subtasks, and work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08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6E068D4E-2EED-48A4-A8AC-C40330D9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763" name="Content Placeholder 4" descr=""/>
          <p:cNvPicPr/>
          <p:nvPr/>
        </p:nvPicPr>
        <p:blipFill>
          <a:blip r:embed="rId2"/>
          <a:stretch/>
        </p:blipFill>
        <p:spPr>
          <a:xfrm>
            <a:off x="360360" y="1603440"/>
            <a:ext cx="84056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 for Critical Path Method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ject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defined jobs or tasks whose completion marks the end of the proje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jobs or tas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asks that follow a given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A41CEF06-E885-4425-9991-2B577C86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7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Critical Path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M with a Single Tim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activity times are known with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determine timing estimates for the project, each activity in the project, and slack time for activ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M with Three Activity Tim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activity times are uncer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obtain the same information as the Single Time Estimate model and probabilit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Cos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cost trade-off information is a major consideration i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determine the least cost in reducing total project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3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F4B57C7F-0DDA-405D-B3BB-ACADF4E6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2" dur="1" fill="hold"/>
                                  <p:tgtEl>
                                    <p:spTgt spid="7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7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7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3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143000" y="37339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773" name="Content Placeholder 4" descr=""/>
          <p:cNvPicPr/>
          <p:nvPr/>
        </p:nvPicPr>
        <p:blipFill>
          <a:blip r:embed="rId2"/>
          <a:stretch/>
        </p:blipFill>
        <p:spPr>
          <a:xfrm>
            <a:off x="334800" y="1573200"/>
            <a:ext cx="8407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31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the CPM with Single Time Est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445080" cy="36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Sequencing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twork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itical path all of the project and activity timing information can be ob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3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E941D3E-6C5E-43B8-BF94-40513E30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7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80" dur="1" fill="hold"/>
                                  <p:tgtEl>
                                    <p:spTgt spid="7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M with Single Time Estim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29"/>
          <p:cNvSpPr/>
          <p:nvPr/>
        </p:nvSpPr>
        <p:spPr>
          <a:xfrm>
            <a:off x="914400" y="1828800"/>
            <a:ext cx="73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consulting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030"/>
          <p:cNvGrpSpPr/>
          <p:nvPr/>
        </p:nvGrpSpPr>
        <p:grpSpPr>
          <a:xfrm>
            <a:off x="217800" y="2286000"/>
            <a:ext cx="8697240" cy="2598840"/>
            <a:chOff x="217800" y="2286000"/>
            <a:chExt cx="8697240" cy="2598840"/>
          </a:xfrm>
        </p:grpSpPr>
        <p:sp>
          <p:nvSpPr>
            <p:cNvPr id="781" name="Rectangle 1031"/>
            <p:cNvSpPr/>
            <p:nvPr/>
          </p:nvSpPr>
          <p:spPr>
            <a:xfrm>
              <a:off x="257040" y="2309760"/>
              <a:ext cx="8658000" cy="2543400"/>
            </a:xfrm>
            <a:prstGeom prst="rect">
              <a:avLst/>
            </a:prstGeom>
            <a:solidFill>
              <a:srgbClr val="a6f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032"/>
            <p:cNvSpPr/>
            <p:nvPr/>
          </p:nvSpPr>
          <p:spPr>
            <a:xfrm>
              <a:off x="280080" y="2322720"/>
              <a:ext cx="86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33"/>
            <p:cNvSpPr/>
            <p:nvPr/>
          </p:nvSpPr>
          <p:spPr>
            <a:xfrm>
              <a:off x="269280" y="232272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34"/>
            <p:cNvSpPr/>
            <p:nvPr/>
          </p:nvSpPr>
          <p:spPr>
            <a:xfrm>
              <a:off x="290520" y="263700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35"/>
            <p:cNvSpPr/>
            <p:nvPr/>
          </p:nvSpPr>
          <p:spPr>
            <a:xfrm>
              <a:off x="269280" y="263700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036"/>
            <p:cNvSpPr/>
            <p:nvPr/>
          </p:nvSpPr>
          <p:spPr>
            <a:xfrm>
              <a:off x="290520" y="295128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037"/>
            <p:cNvSpPr/>
            <p:nvPr/>
          </p:nvSpPr>
          <p:spPr>
            <a:xfrm>
              <a:off x="269280" y="295128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38"/>
            <p:cNvSpPr/>
            <p:nvPr/>
          </p:nvSpPr>
          <p:spPr>
            <a:xfrm>
              <a:off x="290520" y="326700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039"/>
            <p:cNvSpPr/>
            <p:nvPr/>
          </p:nvSpPr>
          <p:spPr>
            <a:xfrm>
              <a:off x="269280" y="326700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040"/>
            <p:cNvSpPr/>
            <p:nvPr/>
          </p:nvSpPr>
          <p:spPr>
            <a:xfrm>
              <a:off x="290520" y="358128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041"/>
            <p:cNvSpPr/>
            <p:nvPr/>
          </p:nvSpPr>
          <p:spPr>
            <a:xfrm>
              <a:off x="269280" y="358128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042"/>
            <p:cNvSpPr/>
            <p:nvPr/>
          </p:nvSpPr>
          <p:spPr>
            <a:xfrm>
              <a:off x="290520" y="389592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043"/>
            <p:cNvSpPr/>
            <p:nvPr/>
          </p:nvSpPr>
          <p:spPr>
            <a:xfrm>
              <a:off x="269280" y="389592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044"/>
            <p:cNvSpPr/>
            <p:nvPr/>
          </p:nvSpPr>
          <p:spPr>
            <a:xfrm>
              <a:off x="290520" y="421164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045"/>
            <p:cNvSpPr/>
            <p:nvPr/>
          </p:nvSpPr>
          <p:spPr>
            <a:xfrm>
              <a:off x="269280" y="421164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046"/>
            <p:cNvSpPr/>
            <p:nvPr/>
          </p:nvSpPr>
          <p:spPr>
            <a:xfrm>
              <a:off x="290520" y="452592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047"/>
            <p:cNvSpPr/>
            <p:nvPr/>
          </p:nvSpPr>
          <p:spPr>
            <a:xfrm>
              <a:off x="269280" y="452592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48"/>
            <p:cNvSpPr/>
            <p:nvPr/>
          </p:nvSpPr>
          <p:spPr>
            <a:xfrm>
              <a:off x="280080" y="4840200"/>
              <a:ext cx="86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049"/>
            <p:cNvSpPr/>
            <p:nvPr/>
          </p:nvSpPr>
          <p:spPr>
            <a:xfrm>
              <a:off x="269280" y="484020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050"/>
            <p:cNvSpPr/>
            <p:nvPr/>
          </p:nvSpPr>
          <p:spPr>
            <a:xfrm>
              <a:off x="225720" y="2286000"/>
              <a:ext cx="104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51"/>
            <p:cNvSpPr/>
            <p:nvPr/>
          </p:nvSpPr>
          <p:spPr>
            <a:xfrm>
              <a:off x="4071240" y="2286000"/>
              <a:ext cx="147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ig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052"/>
            <p:cNvSpPr/>
            <p:nvPr/>
          </p:nvSpPr>
          <p:spPr>
            <a:xfrm>
              <a:off x="5539320" y="2286000"/>
              <a:ext cx="167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med. Pr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53"/>
            <p:cNvSpPr/>
            <p:nvPr/>
          </p:nvSpPr>
          <p:spPr>
            <a:xfrm>
              <a:off x="7214040" y="2286000"/>
              <a:ext cx="170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ime (Week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054"/>
            <p:cNvSpPr/>
            <p:nvPr/>
          </p:nvSpPr>
          <p:spPr>
            <a:xfrm>
              <a:off x="222480" y="2602080"/>
              <a:ext cx="26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ess customer's nee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055"/>
            <p:cNvSpPr/>
            <p:nvPr/>
          </p:nvSpPr>
          <p:spPr>
            <a:xfrm>
              <a:off x="4601160" y="2602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056"/>
            <p:cNvSpPr/>
            <p:nvPr/>
          </p:nvSpPr>
          <p:spPr>
            <a:xfrm>
              <a:off x="5989680" y="260208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057"/>
            <p:cNvSpPr/>
            <p:nvPr/>
          </p:nvSpPr>
          <p:spPr>
            <a:xfrm>
              <a:off x="7893720" y="26020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58"/>
            <p:cNvSpPr/>
            <p:nvPr/>
          </p:nvSpPr>
          <p:spPr>
            <a:xfrm>
              <a:off x="219960" y="291636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and submit propos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059"/>
            <p:cNvSpPr/>
            <p:nvPr/>
          </p:nvSpPr>
          <p:spPr>
            <a:xfrm>
              <a:off x="4613040" y="2916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60"/>
            <p:cNvSpPr/>
            <p:nvPr/>
          </p:nvSpPr>
          <p:spPr>
            <a:xfrm>
              <a:off x="6166080" y="29163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061"/>
            <p:cNvSpPr/>
            <p:nvPr/>
          </p:nvSpPr>
          <p:spPr>
            <a:xfrm>
              <a:off x="7893720" y="2916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62"/>
            <p:cNvSpPr/>
            <p:nvPr/>
          </p:nvSpPr>
          <p:spPr>
            <a:xfrm>
              <a:off x="224280" y="3230640"/>
              <a:ext cx="1832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tain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63"/>
            <p:cNvSpPr/>
            <p:nvPr/>
          </p:nvSpPr>
          <p:spPr>
            <a:xfrm>
              <a:off x="4608720" y="323064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64"/>
            <p:cNvSpPr/>
            <p:nvPr/>
          </p:nvSpPr>
          <p:spPr>
            <a:xfrm>
              <a:off x="6178320" y="323064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65"/>
            <p:cNvSpPr/>
            <p:nvPr/>
          </p:nvSpPr>
          <p:spPr>
            <a:xfrm>
              <a:off x="7893720" y="32306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66"/>
            <p:cNvSpPr/>
            <p:nvPr/>
          </p:nvSpPr>
          <p:spPr>
            <a:xfrm>
              <a:off x="219240" y="3546360"/>
              <a:ext cx="35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 service vision and go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67"/>
            <p:cNvSpPr/>
            <p:nvPr/>
          </p:nvSpPr>
          <p:spPr>
            <a:xfrm>
              <a:off x="4601160" y="35463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8"/>
            <p:cNvSpPr/>
            <p:nvPr/>
          </p:nvSpPr>
          <p:spPr>
            <a:xfrm>
              <a:off x="6172560" y="3546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69"/>
            <p:cNvSpPr/>
            <p:nvPr/>
          </p:nvSpPr>
          <p:spPr>
            <a:xfrm>
              <a:off x="7893720" y="3546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70"/>
            <p:cNvSpPr/>
            <p:nvPr/>
          </p:nvSpPr>
          <p:spPr>
            <a:xfrm>
              <a:off x="224280" y="3861000"/>
              <a:ext cx="188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 employe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71"/>
            <p:cNvSpPr/>
            <p:nvPr/>
          </p:nvSpPr>
          <p:spPr>
            <a:xfrm>
              <a:off x="4613040" y="386100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072"/>
            <p:cNvSpPr/>
            <p:nvPr/>
          </p:nvSpPr>
          <p:spPr>
            <a:xfrm>
              <a:off x="6172560" y="38610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073"/>
            <p:cNvSpPr/>
            <p:nvPr/>
          </p:nvSpPr>
          <p:spPr>
            <a:xfrm>
              <a:off x="7893720" y="3861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074"/>
            <p:cNvSpPr/>
            <p:nvPr/>
          </p:nvSpPr>
          <p:spPr>
            <a:xfrm>
              <a:off x="217800" y="4175280"/>
              <a:ext cx="365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ality improvement pilot grou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075"/>
            <p:cNvSpPr/>
            <p:nvPr/>
          </p:nvSpPr>
          <p:spPr>
            <a:xfrm>
              <a:off x="4625280" y="41752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76"/>
            <p:cNvSpPr/>
            <p:nvPr/>
          </p:nvSpPr>
          <p:spPr>
            <a:xfrm>
              <a:off x="6025320" y="4175280"/>
              <a:ext cx="64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,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077"/>
            <p:cNvSpPr/>
            <p:nvPr/>
          </p:nvSpPr>
          <p:spPr>
            <a:xfrm>
              <a:off x="7828200" y="4175280"/>
              <a:ext cx="37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078"/>
            <p:cNvSpPr/>
            <p:nvPr/>
          </p:nvSpPr>
          <p:spPr>
            <a:xfrm>
              <a:off x="221760" y="4491000"/>
              <a:ext cx="2629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assessment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79"/>
            <p:cNvSpPr/>
            <p:nvPr/>
          </p:nvSpPr>
          <p:spPr>
            <a:xfrm>
              <a:off x="4601160" y="4491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80"/>
            <p:cNvSpPr/>
            <p:nvPr/>
          </p:nvSpPr>
          <p:spPr>
            <a:xfrm>
              <a:off x="6190200" y="44910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081"/>
            <p:cNvSpPr/>
            <p:nvPr/>
          </p:nvSpPr>
          <p:spPr>
            <a:xfrm>
              <a:off x="7893720" y="4491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082"/>
            <p:cNvSpPr/>
            <p:nvPr/>
          </p:nvSpPr>
          <p:spPr>
            <a:xfrm>
              <a:off x="269280" y="2333520"/>
              <a:ext cx="0" cy="25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083"/>
            <p:cNvSpPr/>
            <p:nvPr/>
          </p:nvSpPr>
          <p:spPr>
            <a:xfrm>
              <a:off x="269280" y="2322720"/>
              <a:ext cx="576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084"/>
            <p:cNvSpPr/>
            <p:nvPr/>
          </p:nvSpPr>
          <p:spPr>
            <a:xfrm>
              <a:off x="402804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85"/>
            <p:cNvSpPr/>
            <p:nvPr/>
          </p:nvSpPr>
          <p:spPr>
            <a:xfrm>
              <a:off x="4028040" y="2322720"/>
              <a:ext cx="288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086"/>
            <p:cNvSpPr/>
            <p:nvPr/>
          </p:nvSpPr>
          <p:spPr>
            <a:xfrm>
              <a:off x="550620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087"/>
            <p:cNvSpPr/>
            <p:nvPr/>
          </p:nvSpPr>
          <p:spPr>
            <a:xfrm>
              <a:off x="5506200" y="2322720"/>
              <a:ext cx="288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088"/>
            <p:cNvSpPr/>
            <p:nvPr/>
          </p:nvSpPr>
          <p:spPr>
            <a:xfrm>
              <a:off x="715752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089"/>
            <p:cNvSpPr/>
            <p:nvPr/>
          </p:nvSpPr>
          <p:spPr>
            <a:xfrm>
              <a:off x="7157520" y="2322720"/>
              <a:ext cx="576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090"/>
            <p:cNvSpPr/>
            <p:nvPr/>
          </p:nvSpPr>
          <p:spPr>
            <a:xfrm>
              <a:off x="8903160" y="2333520"/>
              <a:ext cx="0" cy="25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091"/>
            <p:cNvSpPr/>
            <p:nvPr/>
          </p:nvSpPr>
          <p:spPr>
            <a:xfrm>
              <a:off x="8903160" y="2322720"/>
              <a:ext cx="612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092"/>
            <p:cNvSpPr/>
            <p:nvPr/>
          </p:nvSpPr>
          <p:spPr>
            <a:xfrm>
              <a:off x="257040" y="2309760"/>
              <a:ext cx="86580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093"/>
            <p:cNvSpPr/>
            <p:nvPr/>
          </p:nvSpPr>
          <p:spPr>
            <a:xfrm>
              <a:off x="257040" y="4829400"/>
              <a:ext cx="86580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094"/>
            <p:cNvSpPr/>
            <p:nvPr/>
          </p:nvSpPr>
          <p:spPr>
            <a:xfrm>
              <a:off x="257040" y="2333520"/>
              <a:ext cx="25560" cy="249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095"/>
            <p:cNvSpPr/>
            <p:nvPr/>
          </p:nvSpPr>
          <p:spPr>
            <a:xfrm>
              <a:off x="8892360" y="2333520"/>
              <a:ext cx="22680" cy="249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096"/>
          <p:cNvSpPr/>
          <p:nvPr/>
        </p:nvSpPr>
        <p:spPr>
          <a:xfrm>
            <a:off x="228600" y="5030640"/>
            <a:ext cx="8686800" cy="15058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evelop a critical path diagram and determine the duration of the critical path and slack times for all activiti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09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14EEB1B3-3486-4FB4-B4D1-15868B73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raw the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7"/>
          <p:cNvGrpSpPr/>
          <p:nvPr/>
        </p:nvGrpSpPr>
        <p:grpSpPr>
          <a:xfrm>
            <a:off x="744480" y="4186080"/>
            <a:ext cx="1395360" cy="900000"/>
            <a:chOff x="744480" y="4186080"/>
            <a:chExt cx="1395360" cy="900000"/>
          </a:xfrm>
        </p:grpSpPr>
        <p:sp>
          <p:nvSpPr>
            <p:cNvPr id="851" name="Line 5"/>
            <p:cNvSpPr/>
            <p:nvPr/>
          </p:nvSpPr>
          <p:spPr>
            <a:xfrm>
              <a:off x="1623960" y="463536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6"/>
            <p:cNvSpPr/>
            <p:nvPr/>
          </p:nvSpPr>
          <p:spPr>
            <a:xfrm>
              <a:off x="744480" y="4186080"/>
              <a:ext cx="87156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0"/>
          <p:cNvGrpSpPr/>
          <p:nvPr/>
        </p:nvGrpSpPr>
        <p:grpSpPr>
          <a:xfrm>
            <a:off x="2146320" y="4186080"/>
            <a:ext cx="1441440" cy="900000"/>
            <a:chOff x="2146320" y="4186080"/>
            <a:chExt cx="1441440" cy="900000"/>
          </a:xfrm>
        </p:grpSpPr>
        <p:sp>
          <p:nvSpPr>
            <p:cNvPr id="854" name="Line 8"/>
            <p:cNvSpPr/>
            <p:nvPr/>
          </p:nvSpPr>
          <p:spPr>
            <a:xfrm>
              <a:off x="2995560" y="4635360"/>
              <a:ext cx="5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9"/>
            <p:cNvSpPr/>
            <p:nvPr/>
          </p:nvSpPr>
          <p:spPr>
            <a:xfrm>
              <a:off x="2146320" y="418608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35"/>
          <p:cNvGrpSpPr/>
          <p:nvPr/>
        </p:nvGrpSpPr>
        <p:grpSpPr>
          <a:xfrm>
            <a:off x="3581280" y="4186080"/>
            <a:ext cx="871560" cy="900360"/>
            <a:chOff x="3581280" y="4186080"/>
            <a:chExt cx="871560" cy="900360"/>
          </a:xfrm>
        </p:grpSpPr>
        <p:sp>
          <p:nvSpPr>
            <p:cNvPr id="857" name="Oval 11"/>
            <p:cNvSpPr/>
            <p:nvPr/>
          </p:nvSpPr>
          <p:spPr>
            <a:xfrm>
              <a:off x="3581280" y="4186080"/>
              <a:ext cx="871560" cy="90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2"/>
            <p:cNvSpPr/>
            <p:nvPr/>
          </p:nvSpPr>
          <p:spPr>
            <a:xfrm>
              <a:off x="3780000" y="4356000"/>
              <a:ext cx="4744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5"/>
          <p:cNvGrpSpPr/>
          <p:nvPr/>
        </p:nvGrpSpPr>
        <p:grpSpPr>
          <a:xfrm>
            <a:off x="4348080" y="3736440"/>
            <a:ext cx="604440" cy="1941840"/>
            <a:chOff x="4348080" y="3736440"/>
            <a:chExt cx="604440" cy="1941840"/>
          </a:xfrm>
        </p:grpSpPr>
        <p:sp>
          <p:nvSpPr>
            <p:cNvPr id="860" name="Line 13"/>
            <p:cNvSpPr/>
            <p:nvPr/>
          </p:nvSpPr>
          <p:spPr>
            <a:xfrm flipV="1">
              <a:off x="4348080" y="3736440"/>
              <a:ext cx="57600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>
              <a:off x="4363560" y="4962240"/>
              <a:ext cx="58896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8"/>
          <p:cNvGrpSpPr/>
          <p:nvPr/>
        </p:nvGrpSpPr>
        <p:grpSpPr>
          <a:xfrm>
            <a:off x="4876920" y="2971800"/>
            <a:ext cx="947160" cy="3414600"/>
            <a:chOff x="4876920" y="2971800"/>
            <a:chExt cx="947160" cy="3414600"/>
          </a:xfrm>
        </p:grpSpPr>
        <p:sp>
          <p:nvSpPr>
            <p:cNvPr id="863" name="Oval 16"/>
            <p:cNvSpPr/>
            <p:nvPr/>
          </p:nvSpPr>
          <p:spPr>
            <a:xfrm>
              <a:off x="4876920" y="297180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7"/>
            <p:cNvSpPr/>
            <p:nvPr/>
          </p:nvSpPr>
          <p:spPr>
            <a:xfrm>
              <a:off x="4952880" y="548640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5638680" y="3809880"/>
            <a:ext cx="1609560" cy="1972800"/>
            <a:chOff x="5638680" y="3809880"/>
            <a:chExt cx="1609560" cy="1972800"/>
          </a:xfrm>
        </p:grpSpPr>
        <p:sp>
          <p:nvSpPr>
            <p:cNvPr id="866" name="Line 19"/>
            <p:cNvSpPr/>
            <p:nvPr/>
          </p:nvSpPr>
          <p:spPr>
            <a:xfrm>
              <a:off x="5638680" y="3809880"/>
              <a:ext cx="9032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0"/>
            <p:cNvSpPr/>
            <p:nvPr/>
          </p:nvSpPr>
          <p:spPr>
            <a:xfrm flipV="1">
              <a:off x="5787720" y="5082480"/>
              <a:ext cx="7509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1"/>
            <p:cNvSpPr/>
            <p:nvPr/>
          </p:nvSpPr>
          <p:spPr>
            <a:xfrm>
              <a:off x="6376680" y="4273200"/>
              <a:ext cx="871560" cy="90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5"/>
          <p:cNvGrpSpPr/>
          <p:nvPr/>
        </p:nvGrpSpPr>
        <p:grpSpPr>
          <a:xfrm>
            <a:off x="7292880" y="4183200"/>
            <a:ext cx="1434960" cy="900000"/>
            <a:chOff x="7292880" y="4183200"/>
            <a:chExt cx="1434960" cy="900000"/>
          </a:xfrm>
        </p:grpSpPr>
        <p:sp>
          <p:nvSpPr>
            <p:cNvPr id="870" name="Line 23"/>
            <p:cNvSpPr/>
            <p:nvPr/>
          </p:nvSpPr>
          <p:spPr>
            <a:xfrm>
              <a:off x="7292880" y="4646880"/>
              <a:ext cx="54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4"/>
            <p:cNvSpPr/>
            <p:nvPr/>
          </p:nvSpPr>
          <p:spPr>
            <a:xfrm>
              <a:off x="7856280" y="4183200"/>
              <a:ext cx="87156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6"/>
          <p:cNvSpPr/>
          <p:nvPr/>
        </p:nvSpPr>
        <p:spPr>
          <a:xfrm>
            <a:off x="762120" y="19051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762120" y="220968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762120" y="251460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762120" y="28195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1"/>
          <p:cNvSpPr/>
          <p:nvPr/>
        </p:nvSpPr>
        <p:spPr>
          <a:xfrm>
            <a:off x="762120" y="312408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2"/>
          <p:cNvSpPr/>
          <p:nvPr/>
        </p:nvSpPr>
        <p:spPr>
          <a:xfrm>
            <a:off x="762120" y="342900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,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3"/>
          <p:cNvSpPr/>
          <p:nvPr/>
        </p:nvSpPr>
        <p:spPr>
          <a:xfrm>
            <a:off x="762120" y="37339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4"/>
          <p:cNvSpPr/>
          <p:nvPr/>
        </p:nvSpPr>
        <p:spPr>
          <a:xfrm>
            <a:off x="457200" y="1447920"/>
            <a:ext cx="289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ed. Pred.   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A3249614-A363-424B-A9F9-40AD2207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early starts and early finish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5889240" y="290844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7151400" y="290844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890280" y="28796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2112840" y="2879640"/>
            <a:ext cx="101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3355560" y="28796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"/>
          <p:cNvSpPr/>
          <p:nvPr/>
        </p:nvSpPr>
        <p:spPr>
          <a:xfrm>
            <a:off x="4589280" y="42433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1"/>
          <p:cNvSpPr/>
          <p:nvPr/>
        </p:nvSpPr>
        <p:spPr>
          <a:xfrm>
            <a:off x="4557240" y="17035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3"/>
          <p:cNvSpPr/>
          <p:nvPr/>
        </p:nvSpPr>
        <p:spPr>
          <a:xfrm>
            <a:off x="1601640" y="4195800"/>
            <a:ext cx="463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4"/>
          <p:cNvSpPr/>
          <p:nvPr/>
        </p:nvSpPr>
        <p:spPr>
          <a:xfrm>
            <a:off x="812880" y="374652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6"/>
          <p:cNvSpPr/>
          <p:nvPr/>
        </p:nvSpPr>
        <p:spPr>
          <a:xfrm>
            <a:off x="2832120" y="419580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7"/>
          <p:cNvSpPr/>
          <p:nvPr/>
        </p:nvSpPr>
        <p:spPr>
          <a:xfrm>
            <a:off x="2070000" y="374652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8"/>
          <p:cNvSpPr/>
          <p:nvPr/>
        </p:nvSpPr>
        <p:spPr>
          <a:xfrm>
            <a:off x="3359160" y="3746520"/>
            <a:ext cx="78120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0"/>
          <p:cNvSpPr/>
          <p:nvPr/>
        </p:nvSpPr>
        <p:spPr>
          <a:xfrm flipV="1">
            <a:off x="4046400" y="3296880"/>
            <a:ext cx="574920" cy="58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1"/>
          <p:cNvSpPr/>
          <p:nvPr/>
        </p:nvSpPr>
        <p:spPr>
          <a:xfrm>
            <a:off x="4062240" y="4522680"/>
            <a:ext cx="587520" cy="7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3"/>
          <p:cNvSpPr/>
          <p:nvPr/>
        </p:nvSpPr>
        <p:spPr>
          <a:xfrm>
            <a:off x="4521240" y="253224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4"/>
          <p:cNvSpPr/>
          <p:nvPr/>
        </p:nvSpPr>
        <p:spPr>
          <a:xfrm>
            <a:off x="4589640" y="504684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6"/>
          <p:cNvSpPr/>
          <p:nvPr/>
        </p:nvSpPr>
        <p:spPr>
          <a:xfrm>
            <a:off x="5226120" y="3327480"/>
            <a:ext cx="8110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7"/>
          <p:cNvSpPr/>
          <p:nvPr/>
        </p:nvSpPr>
        <p:spPr>
          <a:xfrm flipV="1">
            <a:off x="5359320" y="4600080"/>
            <a:ext cx="67464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8"/>
          <p:cNvSpPr/>
          <p:nvPr/>
        </p:nvSpPr>
        <p:spPr>
          <a:xfrm>
            <a:off x="5888160" y="3790800"/>
            <a:ext cx="782640" cy="900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0"/>
          <p:cNvSpPr/>
          <p:nvPr/>
        </p:nvSpPr>
        <p:spPr>
          <a:xfrm>
            <a:off x="6689880" y="4206960"/>
            <a:ext cx="4870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31"/>
          <p:cNvSpPr/>
          <p:nvPr/>
        </p:nvSpPr>
        <p:spPr>
          <a:xfrm>
            <a:off x="7196040" y="374328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6"/>
          <p:cNvSpPr/>
          <p:nvPr/>
        </p:nvSpPr>
        <p:spPr>
          <a:xfrm>
            <a:off x="1003320" y="4952880"/>
            <a:ext cx="2735280" cy="10036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: Start with ES=0 and go forward in the network from A to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4A67350-82D3-4BBC-818D-98AC3052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3"/>
          <p:cNvSpPr/>
          <p:nvPr/>
        </p:nvSpPr>
        <p:spPr>
          <a:xfrm>
            <a:off x="3560760" y="5878440"/>
            <a:ext cx="2600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4114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late starts and late finish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6122520" y="2394000"/>
            <a:ext cx="2277000" cy="820440"/>
            <a:chOff x="6122520" y="2394000"/>
            <a:chExt cx="2277000" cy="820440"/>
          </a:xfrm>
        </p:grpSpPr>
        <p:sp>
          <p:nvSpPr>
            <p:cNvPr id="908" name="Rectangle 5"/>
            <p:cNvSpPr/>
            <p:nvPr/>
          </p:nvSpPr>
          <p:spPr>
            <a:xfrm>
              <a:off x="6122520" y="239400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"/>
            <p:cNvSpPr/>
            <p:nvPr/>
          </p:nvSpPr>
          <p:spPr>
            <a:xfrm>
              <a:off x="7386120" y="239400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8"/>
          <p:cNvSpPr/>
          <p:nvPr/>
        </p:nvSpPr>
        <p:spPr>
          <a:xfrm>
            <a:off x="1118880" y="2365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9"/>
          <p:cNvSpPr/>
          <p:nvPr/>
        </p:nvSpPr>
        <p:spPr>
          <a:xfrm>
            <a:off x="2343240" y="2365200"/>
            <a:ext cx="933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"/>
          <p:cNvSpPr/>
          <p:nvPr/>
        </p:nvSpPr>
        <p:spPr>
          <a:xfrm>
            <a:off x="3587400" y="2365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1"/>
          <p:cNvSpPr/>
          <p:nvPr/>
        </p:nvSpPr>
        <p:spPr>
          <a:xfrm>
            <a:off x="4820760" y="3697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2"/>
          <p:cNvSpPr/>
          <p:nvPr/>
        </p:nvSpPr>
        <p:spPr>
          <a:xfrm>
            <a:off x="4789080" y="12175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15"/>
          <p:cNvGrpSpPr/>
          <p:nvPr/>
        </p:nvGrpSpPr>
        <p:grpSpPr>
          <a:xfrm>
            <a:off x="1041480" y="3211560"/>
            <a:ext cx="1253520" cy="879480"/>
            <a:chOff x="1041480" y="3211560"/>
            <a:chExt cx="1253520" cy="879480"/>
          </a:xfrm>
        </p:grpSpPr>
        <p:sp>
          <p:nvSpPr>
            <p:cNvPr id="916" name="Line 13"/>
            <p:cNvSpPr/>
            <p:nvPr/>
          </p:nvSpPr>
          <p:spPr>
            <a:xfrm>
              <a:off x="1831680" y="365040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4"/>
            <p:cNvSpPr/>
            <p:nvPr/>
          </p:nvSpPr>
          <p:spPr>
            <a:xfrm>
              <a:off x="1041480" y="321156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8"/>
          <p:cNvGrpSpPr/>
          <p:nvPr/>
        </p:nvGrpSpPr>
        <p:grpSpPr>
          <a:xfrm>
            <a:off x="2300400" y="3211560"/>
            <a:ext cx="1294920" cy="879480"/>
            <a:chOff x="2300400" y="3211560"/>
            <a:chExt cx="1294920" cy="879480"/>
          </a:xfrm>
        </p:grpSpPr>
        <p:sp>
          <p:nvSpPr>
            <p:cNvPr id="919" name="Line 16"/>
            <p:cNvSpPr/>
            <p:nvPr/>
          </p:nvSpPr>
          <p:spPr>
            <a:xfrm>
              <a:off x="3063240" y="3650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>
              <a:off x="2300400" y="3211560"/>
              <a:ext cx="78264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Oval 19"/>
          <p:cNvSpPr/>
          <p:nvPr/>
        </p:nvSpPr>
        <p:spPr>
          <a:xfrm>
            <a:off x="3589200" y="3211560"/>
            <a:ext cx="784440" cy="879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22"/>
          <p:cNvGrpSpPr/>
          <p:nvPr/>
        </p:nvGrpSpPr>
        <p:grpSpPr>
          <a:xfrm>
            <a:off x="4278240" y="2773440"/>
            <a:ext cx="603000" cy="1895040"/>
            <a:chOff x="4278240" y="2773440"/>
            <a:chExt cx="603000" cy="1895040"/>
          </a:xfrm>
        </p:grpSpPr>
        <p:sp>
          <p:nvSpPr>
            <p:cNvPr id="923" name="Line 20"/>
            <p:cNvSpPr/>
            <p:nvPr/>
          </p:nvSpPr>
          <p:spPr>
            <a:xfrm flipV="1">
              <a:off x="4278240" y="2773440"/>
              <a:ext cx="5749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1"/>
            <p:cNvSpPr/>
            <p:nvPr/>
          </p:nvSpPr>
          <p:spPr>
            <a:xfrm>
              <a:off x="4293720" y="3969720"/>
              <a:ext cx="58752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5"/>
          <p:cNvGrpSpPr/>
          <p:nvPr/>
        </p:nvGrpSpPr>
        <p:grpSpPr>
          <a:xfrm>
            <a:off x="4754520" y="2025720"/>
            <a:ext cx="850680" cy="3335400"/>
            <a:chOff x="4754520" y="2025720"/>
            <a:chExt cx="850680" cy="3335400"/>
          </a:xfrm>
        </p:grpSpPr>
        <p:sp>
          <p:nvSpPr>
            <p:cNvPr id="926" name="Oval 23"/>
            <p:cNvSpPr/>
            <p:nvPr/>
          </p:nvSpPr>
          <p:spPr>
            <a:xfrm>
              <a:off x="4754520" y="2025720"/>
              <a:ext cx="782280" cy="8791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>
              <a:off x="4822920" y="4482000"/>
              <a:ext cx="782280" cy="8791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29"/>
          <p:cNvGrpSpPr/>
          <p:nvPr/>
        </p:nvGrpSpPr>
        <p:grpSpPr>
          <a:xfrm>
            <a:off x="5457960" y="2801880"/>
            <a:ext cx="1445760" cy="1926720"/>
            <a:chOff x="5457960" y="2801880"/>
            <a:chExt cx="1445760" cy="1926720"/>
          </a:xfrm>
        </p:grpSpPr>
        <p:sp>
          <p:nvSpPr>
            <p:cNvPr id="929" name="Line 26"/>
            <p:cNvSpPr/>
            <p:nvPr/>
          </p:nvSpPr>
          <p:spPr>
            <a:xfrm>
              <a:off x="5457960" y="2801880"/>
              <a:ext cx="81144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 flipV="1">
              <a:off x="5590440" y="4044960"/>
              <a:ext cx="674640" cy="68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>
              <a:off x="6120720" y="325440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32"/>
          <p:cNvGrpSpPr/>
          <p:nvPr/>
        </p:nvGrpSpPr>
        <p:grpSpPr>
          <a:xfrm>
            <a:off x="6924600" y="3208320"/>
            <a:ext cx="1289160" cy="879480"/>
            <a:chOff x="6924600" y="3208320"/>
            <a:chExt cx="1289160" cy="879480"/>
          </a:xfrm>
        </p:grpSpPr>
        <p:sp>
          <p:nvSpPr>
            <p:cNvPr id="933" name="Line 30"/>
            <p:cNvSpPr/>
            <p:nvPr/>
          </p:nvSpPr>
          <p:spPr>
            <a:xfrm>
              <a:off x="6924600" y="3661200"/>
              <a:ext cx="487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>
              <a:off x="7430760" y="320832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33"/>
          <p:cNvSpPr/>
          <p:nvPr/>
        </p:nvSpPr>
        <p:spPr>
          <a:xfrm>
            <a:off x="7448400" y="411012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4"/>
          <p:cNvSpPr/>
          <p:nvPr/>
        </p:nvSpPr>
        <p:spPr>
          <a:xfrm>
            <a:off x="6132240" y="411012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5"/>
          <p:cNvSpPr/>
          <p:nvPr/>
        </p:nvSpPr>
        <p:spPr>
          <a:xfrm>
            <a:off x="4882680" y="532908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6"/>
          <p:cNvSpPr/>
          <p:nvPr/>
        </p:nvSpPr>
        <p:spPr>
          <a:xfrm>
            <a:off x="4812840" y="283068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0"/>
          <p:cNvGrpSpPr/>
          <p:nvPr/>
        </p:nvGrpSpPr>
        <p:grpSpPr>
          <a:xfrm>
            <a:off x="1108800" y="4078440"/>
            <a:ext cx="3325320" cy="820440"/>
            <a:chOff x="1108800" y="4078440"/>
            <a:chExt cx="3325320" cy="820440"/>
          </a:xfrm>
        </p:grpSpPr>
        <p:sp>
          <p:nvSpPr>
            <p:cNvPr id="940" name="Rectangle 37"/>
            <p:cNvSpPr/>
            <p:nvPr/>
          </p:nvSpPr>
          <p:spPr>
            <a:xfrm>
              <a:off x="357300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38"/>
            <p:cNvSpPr/>
            <p:nvPr/>
          </p:nvSpPr>
          <p:spPr>
            <a:xfrm>
              <a:off x="234072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39"/>
            <p:cNvSpPr/>
            <p:nvPr/>
          </p:nvSpPr>
          <p:spPr>
            <a:xfrm>
              <a:off x="110880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Rectangle 41"/>
          <p:cNvSpPr/>
          <p:nvPr/>
        </p:nvSpPr>
        <p:spPr>
          <a:xfrm>
            <a:off x="5689440" y="457200"/>
            <a:ext cx="3149640" cy="1917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Start with LF=15 or the total time of the project  and go backward in the network from G 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74A51606-183E-4CE2-B58B-AD98A45A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3"/>
          <p:cNvSpPr/>
          <p:nvPr/>
        </p:nvSpPr>
        <p:spPr>
          <a:xfrm>
            <a:off x="3371760" y="5826240"/>
            <a:ext cx="246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5800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Path &amp; Sl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7"/>
          <p:cNvGrpSpPr/>
          <p:nvPr/>
        </p:nvGrpSpPr>
        <p:grpSpPr>
          <a:xfrm>
            <a:off x="5951160" y="2532240"/>
            <a:ext cx="2210040" cy="820440"/>
            <a:chOff x="5951160" y="2532240"/>
            <a:chExt cx="2210040" cy="820440"/>
          </a:xfrm>
        </p:grpSpPr>
        <p:sp>
          <p:nvSpPr>
            <p:cNvPr id="948" name="Rectangle 5"/>
            <p:cNvSpPr/>
            <p:nvPr/>
          </p:nvSpPr>
          <p:spPr>
            <a:xfrm>
              <a:off x="5951160" y="253224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6"/>
            <p:cNvSpPr/>
            <p:nvPr/>
          </p:nvSpPr>
          <p:spPr>
            <a:xfrm>
              <a:off x="7147800" y="253224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Rectangle 8"/>
          <p:cNvSpPr/>
          <p:nvPr/>
        </p:nvSpPr>
        <p:spPr>
          <a:xfrm>
            <a:off x="917280" y="25052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9"/>
          <p:cNvSpPr/>
          <p:nvPr/>
        </p:nvSpPr>
        <p:spPr>
          <a:xfrm>
            <a:off x="2146320" y="2505240"/>
            <a:ext cx="977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0"/>
          <p:cNvSpPr/>
          <p:nvPr/>
        </p:nvSpPr>
        <p:spPr>
          <a:xfrm>
            <a:off x="3398400" y="25052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1"/>
          <p:cNvSpPr/>
          <p:nvPr/>
        </p:nvSpPr>
        <p:spPr>
          <a:xfrm>
            <a:off x="4641480" y="37638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4608000" y="14191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15"/>
          <p:cNvGrpSpPr/>
          <p:nvPr/>
        </p:nvGrpSpPr>
        <p:grpSpPr>
          <a:xfrm>
            <a:off x="838080" y="3305160"/>
            <a:ext cx="1188720" cy="831960"/>
            <a:chOff x="838080" y="3305160"/>
            <a:chExt cx="1188720" cy="831960"/>
          </a:xfrm>
        </p:grpSpPr>
        <p:sp>
          <p:nvSpPr>
            <p:cNvPr id="956" name="Line 13"/>
            <p:cNvSpPr/>
            <p:nvPr/>
          </p:nvSpPr>
          <p:spPr>
            <a:xfrm>
              <a:off x="1587240" y="3720240"/>
              <a:ext cx="43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14"/>
            <p:cNvSpPr/>
            <p:nvPr/>
          </p:nvSpPr>
          <p:spPr>
            <a:xfrm>
              <a:off x="838080" y="3305160"/>
              <a:ext cx="742680" cy="8319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8"/>
          <p:cNvGrpSpPr/>
          <p:nvPr/>
        </p:nvGrpSpPr>
        <p:grpSpPr>
          <a:xfrm>
            <a:off x="2104920" y="3305160"/>
            <a:ext cx="1228320" cy="831960"/>
            <a:chOff x="2104920" y="3305160"/>
            <a:chExt cx="1228320" cy="831960"/>
          </a:xfrm>
        </p:grpSpPr>
        <p:sp>
          <p:nvSpPr>
            <p:cNvPr id="959" name="Line 16"/>
            <p:cNvSpPr/>
            <p:nvPr/>
          </p:nvSpPr>
          <p:spPr>
            <a:xfrm>
              <a:off x="2828520" y="372024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7"/>
            <p:cNvSpPr/>
            <p:nvPr/>
          </p:nvSpPr>
          <p:spPr>
            <a:xfrm>
              <a:off x="2104920" y="3305160"/>
              <a:ext cx="742320" cy="8319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Oval 19"/>
          <p:cNvSpPr/>
          <p:nvPr/>
        </p:nvSpPr>
        <p:spPr>
          <a:xfrm>
            <a:off x="3402000" y="3305160"/>
            <a:ext cx="743040" cy="8319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2"/>
          <p:cNvGrpSpPr/>
          <p:nvPr/>
        </p:nvGrpSpPr>
        <p:grpSpPr>
          <a:xfrm>
            <a:off x="4095720" y="2890800"/>
            <a:ext cx="571320" cy="1792080"/>
            <a:chOff x="4095720" y="2890800"/>
            <a:chExt cx="571320" cy="1792080"/>
          </a:xfrm>
        </p:grpSpPr>
        <p:sp>
          <p:nvSpPr>
            <p:cNvPr id="963" name="Line 20"/>
            <p:cNvSpPr/>
            <p:nvPr/>
          </p:nvSpPr>
          <p:spPr>
            <a:xfrm flipV="1">
              <a:off x="4095720" y="2890800"/>
              <a:ext cx="544680" cy="54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>
              <a:off x="4110120" y="4021920"/>
              <a:ext cx="556920" cy="66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Oval 23"/>
          <p:cNvSpPr/>
          <p:nvPr/>
        </p:nvSpPr>
        <p:spPr>
          <a:xfrm>
            <a:off x="4573440" y="2184480"/>
            <a:ext cx="741600" cy="831600"/>
          </a:xfrm>
          <a:prstGeom prst="ellipse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4"/>
          <p:cNvSpPr/>
          <p:nvPr/>
        </p:nvSpPr>
        <p:spPr>
          <a:xfrm>
            <a:off x="4641840" y="4505400"/>
            <a:ext cx="743040" cy="831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Group 28"/>
          <p:cNvGrpSpPr/>
          <p:nvPr/>
        </p:nvGrpSpPr>
        <p:grpSpPr>
          <a:xfrm>
            <a:off x="5283360" y="2919240"/>
            <a:ext cx="1369440" cy="1820520"/>
            <a:chOff x="5283360" y="2919240"/>
            <a:chExt cx="1369440" cy="1820520"/>
          </a:xfrm>
        </p:grpSpPr>
        <p:sp>
          <p:nvSpPr>
            <p:cNvPr id="968" name="Line 25"/>
            <p:cNvSpPr/>
            <p:nvPr/>
          </p:nvSpPr>
          <p:spPr>
            <a:xfrm>
              <a:off x="5283360" y="2919240"/>
              <a:ext cx="7686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6"/>
            <p:cNvSpPr/>
            <p:nvPr/>
          </p:nvSpPr>
          <p:spPr>
            <a:xfrm flipV="1">
              <a:off x="5410080" y="4093920"/>
              <a:ext cx="640080" cy="64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27"/>
            <p:cNvSpPr/>
            <p:nvPr/>
          </p:nvSpPr>
          <p:spPr>
            <a:xfrm>
              <a:off x="5911200" y="3346560"/>
              <a:ext cx="741600" cy="830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31"/>
          <p:cNvGrpSpPr/>
          <p:nvPr/>
        </p:nvGrpSpPr>
        <p:grpSpPr>
          <a:xfrm>
            <a:off x="6757920" y="3303720"/>
            <a:ext cx="1222200" cy="830160"/>
            <a:chOff x="6757920" y="3303720"/>
            <a:chExt cx="1222200" cy="830160"/>
          </a:xfrm>
        </p:grpSpPr>
        <p:sp>
          <p:nvSpPr>
            <p:cNvPr id="972" name="Line 29"/>
            <p:cNvSpPr/>
            <p:nvPr/>
          </p:nvSpPr>
          <p:spPr>
            <a:xfrm>
              <a:off x="6757920" y="3731400"/>
              <a:ext cx="462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30"/>
            <p:cNvSpPr/>
            <p:nvPr/>
          </p:nvSpPr>
          <p:spPr>
            <a:xfrm>
              <a:off x="7237800" y="3303720"/>
              <a:ext cx="742320" cy="830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Rectangle 32"/>
          <p:cNvSpPr/>
          <p:nvPr/>
        </p:nvSpPr>
        <p:spPr>
          <a:xfrm>
            <a:off x="7284960" y="415440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33"/>
          <p:cNvSpPr/>
          <p:nvPr/>
        </p:nvSpPr>
        <p:spPr>
          <a:xfrm>
            <a:off x="5960880" y="415440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4"/>
          <p:cNvSpPr/>
          <p:nvPr/>
        </p:nvSpPr>
        <p:spPr>
          <a:xfrm>
            <a:off x="4703400" y="53071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5"/>
          <p:cNvSpPr/>
          <p:nvPr/>
        </p:nvSpPr>
        <p:spPr>
          <a:xfrm>
            <a:off x="4633560" y="29448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9"/>
          <p:cNvGrpSpPr/>
          <p:nvPr/>
        </p:nvGrpSpPr>
        <p:grpSpPr>
          <a:xfrm>
            <a:off x="906120" y="4124160"/>
            <a:ext cx="3199680" cy="820440"/>
            <a:chOff x="906120" y="4124160"/>
            <a:chExt cx="3199680" cy="820440"/>
          </a:xfrm>
        </p:grpSpPr>
        <p:sp>
          <p:nvSpPr>
            <p:cNvPr id="979" name="Rectangle 36"/>
            <p:cNvSpPr/>
            <p:nvPr/>
          </p:nvSpPr>
          <p:spPr>
            <a:xfrm>
              <a:off x="324468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207468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8"/>
            <p:cNvSpPr/>
            <p:nvPr/>
          </p:nvSpPr>
          <p:spPr>
            <a:xfrm>
              <a:off x="90612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Rectangle 40"/>
          <p:cNvSpPr/>
          <p:nvPr/>
        </p:nvSpPr>
        <p:spPr>
          <a:xfrm>
            <a:off x="5805360" y="5457960"/>
            <a:ext cx="258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43"/>
          <p:cNvGrpSpPr/>
          <p:nvPr/>
        </p:nvGrpSpPr>
        <p:grpSpPr>
          <a:xfrm>
            <a:off x="5299200" y="1644480"/>
            <a:ext cx="3584880" cy="668160"/>
            <a:chOff x="5299200" y="1644480"/>
            <a:chExt cx="3584880" cy="668160"/>
          </a:xfrm>
        </p:grpSpPr>
        <p:sp>
          <p:nvSpPr>
            <p:cNvPr id="984" name="Line 41"/>
            <p:cNvSpPr/>
            <p:nvPr/>
          </p:nvSpPr>
          <p:spPr>
            <a:xfrm flipH="1">
              <a:off x="5299200" y="1906920"/>
              <a:ext cx="7207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2"/>
            <p:cNvSpPr/>
            <p:nvPr/>
          </p:nvSpPr>
          <p:spPr>
            <a:xfrm>
              <a:off x="5959440" y="1644480"/>
              <a:ext cx="2924640" cy="393840"/>
            </a:xfrm>
            <a:prstGeom prst="rect">
              <a:avLst/>
            </a:prstGeom>
            <a:solidFill>
              <a:srgbClr val="a6f6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lack=(7-4)=(9-6)= 3 W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4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0F44B148-3D47-49F6-A969-84434415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870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. CPM with Three Activity Time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Object 1024"/>
          <p:cNvGraphicFramePr/>
          <p:nvPr/>
        </p:nvGraphicFramePr>
        <p:xfrm>
          <a:off x="2057400" y="1752480"/>
          <a:ext cx="631188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31188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Text Box 103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EBC69A76-3B66-456A-B973-23435F39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4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67A31C3D-5D80-4BF3-89B3-907498AF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59984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of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Control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Path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371600" y="914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C36B52A-1049-40FB-8F6E-FBCE33BE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6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series of related jobs usually directed toward some major output and requiring a significant period of time to per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ject Manag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management activities of planning, directing, and controlling resources (people, equipment, material) to meet the technical, cost, and time constraints of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609480" y="609480"/>
            <a:ext cx="8480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D72DD64A-9BE5-4F65-80C2-D1D2E0C2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6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2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124080" y="6251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0408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tt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760680" y="2670120"/>
            <a:ext cx="160632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2611440" y="2813040"/>
            <a:ext cx="1434960" cy="2160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3022560" y="3230640"/>
            <a:ext cx="1435320" cy="2160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321080" y="3654360"/>
            <a:ext cx="943200" cy="22068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4600440" y="4041720"/>
            <a:ext cx="2156040" cy="23184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5695920" y="4540320"/>
            <a:ext cx="662040" cy="22392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916680" y="4981680"/>
            <a:ext cx="309600" cy="2538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549440" y="5586480"/>
            <a:ext cx="528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3443400" y="57387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82296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304920" y="1298520"/>
            <a:ext cx="2514600" cy="11912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xis: Always Activities o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4648320" y="5870520"/>
            <a:ext cx="426708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Axis: Alway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3048120" y="1527120"/>
            <a:ext cx="5257800" cy="825480"/>
          </a:xfrm>
          <a:prstGeom prst="rect">
            <a:avLst/>
          </a:prstGeom>
          <a:solidFill>
            <a:srgbClr val="a6f695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bars used to denote length of time for each activity o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685EDF39-D5AA-48D7-8971-75CD7082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87520" y="2742840"/>
            <a:ext cx="8022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533520" y="533520"/>
            <a:ext cx="7947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1295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e1e1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ure project</a:t>
            </a:r>
            <a:r>
              <a:rPr b="1" lang="en-US" sz="2800" spc="-1" strike="noStrike">
                <a:solidFill>
                  <a:srgbClr val="e1e1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where a self-contained team works full-time on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00" y="365724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ject manager has full authority over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 report to one b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ened communic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pride, motivation, and commitment are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48F261F-2068-4744-9E12-645FD388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6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55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goals and policies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technolo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members have no functional area "home"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2EAD73C9-7076-465E-AF62-302F4830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6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05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3"/>
          <p:cNvGrpSpPr/>
          <p:nvPr/>
        </p:nvGrpSpPr>
        <p:grpSpPr>
          <a:xfrm>
            <a:off x="721080" y="2590920"/>
            <a:ext cx="7746840" cy="2847600"/>
            <a:chOff x="721080" y="2590920"/>
            <a:chExt cx="7746840" cy="2847600"/>
          </a:xfrm>
        </p:grpSpPr>
        <p:sp>
          <p:nvSpPr>
            <p:cNvPr id="638" name="Rectangle 5"/>
            <p:cNvSpPr/>
            <p:nvPr/>
          </p:nvSpPr>
          <p:spPr>
            <a:xfrm>
              <a:off x="3490560" y="2590920"/>
              <a:ext cx="2074320" cy="5302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si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858960" y="3581640"/>
              <a:ext cx="207468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earc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3490560" y="3581640"/>
              <a:ext cx="207432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6121800" y="3581640"/>
              <a:ext cx="207432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8"/>
            <p:cNvGrpSpPr/>
            <p:nvPr/>
          </p:nvGrpSpPr>
          <p:grpSpPr>
            <a:xfrm>
              <a:off x="721080" y="4353120"/>
              <a:ext cx="2484000" cy="1085400"/>
              <a:chOff x="721080" y="4353120"/>
              <a:chExt cx="2484000" cy="1085400"/>
            </a:xfrm>
          </p:grpSpPr>
          <p:grpSp>
            <p:nvGrpSpPr>
              <p:cNvPr id="643" name="Group 14"/>
              <p:cNvGrpSpPr/>
              <p:nvPr/>
            </p:nvGrpSpPr>
            <p:grpSpPr>
              <a:xfrm>
                <a:off x="1134720" y="4353120"/>
                <a:ext cx="1592280" cy="439920"/>
                <a:chOff x="1134720" y="4353120"/>
                <a:chExt cx="1592280" cy="439920"/>
              </a:xfrm>
            </p:grpSpPr>
            <p:sp>
              <p:nvSpPr>
                <p:cNvPr id="644" name="Line 9"/>
                <p:cNvSpPr/>
                <p:nvPr/>
              </p:nvSpPr>
              <p:spPr>
                <a:xfrm>
                  <a:off x="1896120" y="4353120"/>
                  <a:ext cx="0" cy="43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Group 13"/>
                <p:cNvGrpSpPr/>
                <p:nvPr/>
              </p:nvGrpSpPr>
              <p:grpSpPr>
                <a:xfrm>
                  <a:off x="1134720" y="4570560"/>
                  <a:ext cx="1592280" cy="222480"/>
                  <a:chOff x="1134720" y="4570560"/>
                  <a:chExt cx="1592280" cy="222480"/>
                </a:xfrm>
              </p:grpSpPr>
              <p:sp>
                <p:nvSpPr>
                  <p:cNvPr id="646" name="Line 10"/>
                  <p:cNvSpPr/>
                  <p:nvPr/>
                </p:nvSpPr>
                <p:spPr>
                  <a:xfrm>
                    <a:off x="1144800" y="4570560"/>
                    <a:ext cx="157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11"/>
                  <p:cNvSpPr/>
                  <p:nvPr/>
                </p:nvSpPr>
                <p:spPr>
                  <a:xfrm>
                    <a:off x="113472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12"/>
                  <p:cNvSpPr/>
                  <p:nvPr/>
                </p:nvSpPr>
                <p:spPr>
                  <a:xfrm>
                    <a:off x="272700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9" name="Rectangle 15"/>
              <p:cNvSpPr/>
              <p:nvPr/>
            </p:nvSpPr>
            <p:spPr>
              <a:xfrm>
                <a:off x="72108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6"/>
              <p:cNvSpPr/>
              <p:nvPr/>
            </p:nvSpPr>
            <p:spPr>
              <a:xfrm>
                <a:off x="148500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7"/>
              <p:cNvSpPr/>
              <p:nvPr/>
            </p:nvSpPr>
            <p:spPr>
              <a:xfrm>
                <a:off x="231336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3765960" y="4353120"/>
              <a:ext cx="1592280" cy="439920"/>
              <a:chOff x="3765960" y="4353120"/>
              <a:chExt cx="1592280" cy="439920"/>
            </a:xfrm>
          </p:grpSpPr>
          <p:sp>
            <p:nvSpPr>
              <p:cNvPr id="653" name="Line 19"/>
              <p:cNvSpPr/>
              <p:nvPr/>
            </p:nvSpPr>
            <p:spPr>
              <a:xfrm>
                <a:off x="4527360" y="4353120"/>
                <a:ext cx="0" cy="43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23"/>
              <p:cNvGrpSpPr/>
              <p:nvPr/>
            </p:nvGrpSpPr>
            <p:grpSpPr>
              <a:xfrm>
                <a:off x="3765960" y="4570560"/>
                <a:ext cx="1592280" cy="222480"/>
                <a:chOff x="3765960" y="4570560"/>
                <a:chExt cx="1592280" cy="222480"/>
              </a:xfrm>
            </p:grpSpPr>
            <p:sp>
              <p:nvSpPr>
                <p:cNvPr id="655" name="Line 20"/>
                <p:cNvSpPr/>
                <p:nvPr/>
              </p:nvSpPr>
              <p:spPr>
                <a:xfrm>
                  <a:off x="3772800" y="4570560"/>
                  <a:ext cx="157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21"/>
                <p:cNvSpPr/>
                <p:nvPr/>
              </p:nvSpPr>
              <p:spPr>
                <a:xfrm>
                  <a:off x="3765960" y="4581720"/>
                  <a:ext cx="0" cy="21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22"/>
                <p:cNvSpPr/>
                <p:nvPr/>
              </p:nvSpPr>
              <p:spPr>
                <a:xfrm>
                  <a:off x="5358240" y="4581720"/>
                  <a:ext cx="0" cy="21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Rectangle 25"/>
            <p:cNvSpPr/>
            <p:nvPr/>
          </p:nvSpPr>
          <p:spPr>
            <a:xfrm>
              <a:off x="335340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411516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7"/>
            <p:cNvSpPr/>
            <p:nvPr/>
          </p:nvSpPr>
          <p:spPr>
            <a:xfrm>
              <a:off x="494496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37"/>
            <p:cNvGrpSpPr/>
            <p:nvPr/>
          </p:nvGrpSpPr>
          <p:grpSpPr>
            <a:xfrm>
              <a:off x="5983920" y="4353120"/>
              <a:ext cx="2484000" cy="1085400"/>
              <a:chOff x="5983920" y="4353120"/>
              <a:chExt cx="2484000" cy="1085400"/>
            </a:xfrm>
          </p:grpSpPr>
          <p:grpSp>
            <p:nvGrpSpPr>
              <p:cNvPr id="662" name="Group 33"/>
              <p:cNvGrpSpPr/>
              <p:nvPr/>
            </p:nvGrpSpPr>
            <p:grpSpPr>
              <a:xfrm>
                <a:off x="6397200" y="4353120"/>
                <a:ext cx="1592640" cy="439920"/>
                <a:chOff x="6397200" y="4353120"/>
                <a:chExt cx="1592640" cy="439920"/>
              </a:xfrm>
            </p:grpSpPr>
            <p:sp>
              <p:nvSpPr>
                <p:cNvPr id="663" name="Line 28"/>
                <p:cNvSpPr/>
                <p:nvPr/>
              </p:nvSpPr>
              <p:spPr>
                <a:xfrm>
                  <a:off x="7158960" y="4353120"/>
                  <a:ext cx="0" cy="43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32"/>
                <p:cNvGrpSpPr/>
                <p:nvPr/>
              </p:nvGrpSpPr>
              <p:grpSpPr>
                <a:xfrm>
                  <a:off x="6397200" y="4570560"/>
                  <a:ext cx="1592640" cy="222480"/>
                  <a:chOff x="6397200" y="4570560"/>
                  <a:chExt cx="1592640" cy="222480"/>
                </a:xfrm>
              </p:grpSpPr>
              <p:sp>
                <p:nvSpPr>
                  <p:cNvPr id="665" name="Line 29"/>
                  <p:cNvSpPr/>
                  <p:nvPr/>
                </p:nvSpPr>
                <p:spPr>
                  <a:xfrm>
                    <a:off x="6407280" y="4570560"/>
                    <a:ext cx="1576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30"/>
                  <p:cNvSpPr/>
                  <p:nvPr/>
                </p:nvSpPr>
                <p:spPr>
                  <a:xfrm>
                    <a:off x="639720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31"/>
                  <p:cNvSpPr/>
                  <p:nvPr/>
                </p:nvSpPr>
                <p:spPr>
                  <a:xfrm>
                    <a:off x="798984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8" name="Rectangle 34"/>
              <p:cNvSpPr/>
              <p:nvPr/>
            </p:nvSpPr>
            <p:spPr>
              <a:xfrm>
                <a:off x="598392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35"/>
              <p:cNvSpPr/>
              <p:nvPr/>
            </p:nvSpPr>
            <p:spPr>
              <a:xfrm>
                <a:off x="674784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36"/>
              <p:cNvSpPr/>
              <p:nvPr/>
            </p:nvSpPr>
            <p:spPr>
              <a:xfrm>
                <a:off x="757620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Line 38"/>
            <p:cNvSpPr/>
            <p:nvPr/>
          </p:nvSpPr>
          <p:spPr>
            <a:xfrm>
              <a:off x="4527720" y="31341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42"/>
            <p:cNvGrpSpPr/>
            <p:nvPr/>
          </p:nvGrpSpPr>
          <p:grpSpPr>
            <a:xfrm>
              <a:off x="1896480" y="3351600"/>
              <a:ext cx="5262840" cy="222120"/>
              <a:chOff x="1896480" y="3351600"/>
              <a:chExt cx="5262840" cy="222120"/>
            </a:xfrm>
          </p:grpSpPr>
          <p:sp>
            <p:nvSpPr>
              <p:cNvPr id="673" name="Line 39"/>
              <p:cNvSpPr/>
              <p:nvPr/>
            </p:nvSpPr>
            <p:spPr>
              <a:xfrm>
                <a:off x="1906560" y="3351600"/>
                <a:ext cx="524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40"/>
              <p:cNvSpPr/>
              <p:nvPr/>
            </p:nvSpPr>
            <p:spPr>
              <a:xfrm>
                <a:off x="1896480" y="3362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41"/>
              <p:cNvSpPr/>
              <p:nvPr/>
            </p:nvSpPr>
            <p:spPr>
              <a:xfrm>
                <a:off x="7159320" y="3362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6" name="Rectangle 44"/>
          <p:cNvSpPr/>
          <p:nvPr/>
        </p:nvSpPr>
        <p:spPr>
          <a:xfrm>
            <a:off x="1828800" y="10666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unctional pro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oused within a function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2895480" y="5486400"/>
            <a:ext cx="3124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7"/>
          <p:cNvSpPr/>
          <p:nvPr/>
        </p:nvSpPr>
        <p:spPr>
          <a:xfrm>
            <a:off x="2286000" y="5410080"/>
            <a:ext cx="6477120" cy="990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Project “B” is in the functional area of Research and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8"/>
          <p:cNvSpPr/>
          <p:nvPr/>
        </p:nvSpPr>
        <p:spPr>
          <a:xfrm>
            <a:off x="1905120" y="54864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EBC07783-863B-4FBE-B3B0-F9EE77A1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75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am member can work on sever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xpertise is maintained within the function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ctional area is a “home” after the project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mass of specialized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C99F2859-888B-4DC2-9916-A5B8A429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6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2T20:31:08Z</dcterms:created>
  <dc:creator> </dc:creator>
  <dc:description/>
  <cp:keywords/>
  <dc:language>en-US</dc:language>
  <cp:lastModifiedBy>KSU S155-S9</cp:lastModifiedBy>
  <dcterms:modified xsi:type="dcterms:W3CDTF">2015-09-13T09:32:07Z</dcterms:modified>
  <cp:revision>74</cp:revision>
  <dc:subject/>
  <dc:title>Production  and Operations Management: Manufacturing and 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htdocs\pom\PowerPoint_Slid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