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BDA08-9FBE-4B31-881B-9105A126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E0F86-6749-43CD-B390-4BCC4403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AB83B-4208-48CC-B926-6BCF11BB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D6CFB-E2F6-45F0-8FCA-82B71E7D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22EBC-7F56-48E9-BFC6-108C6E90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542EE-650D-479F-80E5-1102827F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5AB8E-1A5E-4553-85B6-04E116D5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A143B-8226-4214-BAF2-5DEAABF6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438C4-CD80-4CB9-9422-7033B362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5CD47-841B-40B6-A9E9-8D2AD7D2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8C7F9-8065-41D7-9E8A-2C07D4A8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33B52-5301-4BEF-BF51-8CE12C9B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C20439-826D-48B4-9E39-C49C5228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081C3-3B2E-4D4E-A9D3-C8FCF301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564DC-2751-419D-9CF4-F6B734CC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2CEAB-352B-4DA6-888B-35BBC6CC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A59AB-83F7-4DBC-8012-90A72A09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06038-FA2E-4C55-87F6-B79C4704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7DE0C-2BEC-4604-B586-B919B207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7DF756-4071-48C3-B8B0-99F7FAE8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59B4E-7720-4214-8587-B2AF28FF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47AC19-2CA5-41CB-A13D-F0E79C87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BF8FA4-63B7-4DC7-8243-40060BCF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8E5C87-D166-485E-AFC1-8B897A59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04C1CE-2055-41B5-BA47-A60D2643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932AE4-B323-4617-AF6C-AFEAE158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58026F-2F7F-4F4D-8E9F-C53E5B9A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55FF07-C13F-4F77-A40B-69EFF666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A1D0EB-26F9-40BB-A301-7736AE23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B5321C-A5F7-46B4-B80D-373E8911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DA1-B091-45C8-BF59-CF9E04EF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78AE9F-F89D-431C-9EEC-9FBF2A28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AC16B-68E6-46CC-B020-165E23499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4309A3-3C10-4EB9-A2DD-0792F987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069F0-F88A-46BE-8889-2BCE2170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2C24A-B025-4CB3-9024-124314DD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FB2E5-FA83-496E-AE53-77B4857A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DD250-11DE-4D0E-BFD4-2D575807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BAB5F-D9DA-4F16-85D0-CC6A5413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31BDC-5B75-4CEA-BDAF-ADC98638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549D3-A3AC-47B3-A87F-0FC54C2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7F3-7913-4847-8D26-1F89E417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728E2-CC7A-4EB9-8EA2-DDA87DE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8434C-C475-40A1-A528-A64A67DA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980DC-42C4-4E3B-8726-5AFAFB8E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3DFE9-D74C-421F-9903-FFFD8F67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086E0-0740-486B-B934-3FAB18A1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BC7A6-E7D2-45BF-B8A6-425352FEB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CB8BB-529D-46C8-96D9-8CBA122C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3F1A1-5E8A-449B-95EF-5202407F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EBD81-87CE-45C0-ACBC-954877C5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D5245-E64F-4AFA-B0AA-EB530A47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0AB-3793-4FA3-81F6-8C6E1008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E70EB-7CBB-426E-8FD4-19D00927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9A778-6C54-4A38-A21A-031007F7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82831-AA3A-4C5C-B948-EA83AC33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D9B836-53D6-4719-81C1-3FEF71ED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7E006-0D92-4638-96FF-FE6170D0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97D66-7587-4BA3-BB9C-F820F301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D9A12-DF01-499E-A7BA-ABD48D42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C9E2AE-C899-4469-829B-9D1B6EFE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87CAF0-1036-4EDC-82D4-085CF93A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B184DC-D22E-4D26-90F6-659319C05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BDD-957F-4E9B-A629-161FEA7D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EFA26D7-5D2A-4346-8168-4FA5630D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C875F6-1EB8-42D2-B3C2-EA78DF79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DD00658-445D-4010-B739-C01A637D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457E60-DE87-49C0-AC39-841D00C5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CE1FA8-E354-4A12-9299-4F8A01F7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C52237-ED7A-48CA-A2E4-4BF5422D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4392AEA-8491-497B-8F2A-4B09C7AF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4FC49D-9474-4715-B9CC-52CD719A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8F7756-59DA-4CC6-B440-CD495780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1311-3457-405F-AB6D-1D19480C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926-4E48-4B4C-8E01-203BFABB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7DB-3DF6-47FC-833B-767B971A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59FA-0C3D-4101-96E5-65504B4B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2DAF-04F7-4FDB-BD7F-38897AC5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177-33DC-4A90-8093-D574AF3C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639-77EC-4582-9D92-918ABC9F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AEED-508B-408F-8AD4-E353B797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3B83-72A1-4220-BCD2-00344D6D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97F9-E088-4D91-A6AF-935F6B2F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C402-D359-400B-99B4-2CFF0021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7326-2C09-4B3B-A06B-EA8BA2B8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C3E7-4CEE-45DC-A852-54841E9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DF2D-51C7-4999-A0B8-6DBAB60C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067-9215-4EB9-9665-BC4BBA0E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C68C-5AB8-4DE2-A4CC-ACF72AB1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D16F-936C-4062-B08C-F759FFC9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F874-F43C-4B5C-9D62-60BB1802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9839-6870-40CC-8956-A923B604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2922-47D7-4EA1-B77C-B3EB9A30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137F0-C0CC-47E0-AF13-57CAA711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7BFA4-6A9C-490A-AE7E-37CE3835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BB033-E28E-442D-B570-6B802DE7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42C80-B4AD-441B-B9CB-ACA02EE0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FE6B-254E-4FAC-96BE-7D618991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D96F8-D611-47AE-8D36-EC467B10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559C-DCD7-41A7-8EBE-3CF10724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52D68-B709-40A4-8F3E-B190918F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8DB25-6BD1-42A5-B799-CBFB17BC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13A2-0F6B-4349-A884-764546D5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306B-8C4C-4028-A6E2-379F277C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77C0-58F5-4258-B402-78D68F5D8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44213-120B-4C56-B1AB-1F04C774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1560A-4D24-4D35-8FEE-189F0378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96D85-0005-441F-8286-E0FEED76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3030C-CFAE-4F70-8D88-0F65AA0A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88E85-E642-4949-AF4E-6F554F762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7DD06-0B63-4707-AD43-C3DCB985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D92E5-EE9C-43B5-B4EB-92E0F9A8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23596-518F-403E-9EEB-BC834885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28A7E-22EC-4671-87CB-02088FB3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B0D9C-67C4-4A90-8BA7-159774C1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A518D-8AF7-47A3-A75E-B3391B7B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CAE5A-2359-4B33-86F4-6104E149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1BBA6-0904-45E8-AB2B-8EF9ADFA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BE765-511E-4544-BF73-9533FB33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6AB9-C3BB-4A5F-9F0F-2D159772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47D9C-2B9E-44AB-8369-4A6AFC0C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670B5-E741-49FD-B639-FEA56B6F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EB16B-E7B1-4F29-AEAF-988A52D1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7C7ED-4DF6-4B02-8EB0-ABA8125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01B17-C863-4B20-BDE0-3A84F39F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4D9E3-769B-4A75-89E5-793E95A1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24F65-1E31-47DB-8A49-1B0BC07A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5EC3-7301-4625-9940-1AE03D35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DDB4-44B3-4E05-8EA1-8C45B0DD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335310-8A28-4606-877E-72014AA1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2473A-1F3B-4C90-8442-A83D9E7C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6FC5B6-B938-4525-B340-179803F2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E4A197-D0A5-4C9C-9044-885B871E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79128-483E-4538-B187-B7CB929D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A0068-0DAA-4F09-984B-97071DA0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4AA0B-972F-4730-A4D6-D68C39A9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1AB132-3B77-4BEF-9D57-34FE52CF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BA8BB-4383-4D28-ABAA-17617006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1171D6-3EEE-4CA1-94CB-9F45A4AE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C6A8A-7623-4887-BF22-A979972E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F6222-01FB-453A-9CE8-6E9A5D18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DF80C-548A-43F4-B87C-23E59BB8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59DF7-736B-4FDC-B6C8-21325ED3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0C9DF-548D-4EDD-AD19-B28BC2FB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A772762B-8326-421C-9659-7925D2C2339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588E-413E-4774-8D40-5A7087B0DE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6A2FDC2A-59E9-414A-8AE6-52943FDB2B7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11BB-79B2-477C-AEDD-3E007C66BD4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4-</a:t>
            </a:r>
            <a:fld id="{3E9F7D35-964F-4848-A9AA-56AFDCF45E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960BF806-DA0C-423A-80F8-DBE3ACC3083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41D7-4ED9-43FC-B6E0-A1147A18A5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FAC0D50F-4CC8-4169-BBC8-572B95105CC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0FE8-28CC-431E-BDD0-1D9065CFFC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C8AFD944-35F9-4BBB-8B02-45957F9291C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2972-708A-498E-84AD-FC3EDE50BB7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4-</a:t>
            </a:r>
            <a:fld id="{15CEBC87-2E3A-477D-8BB8-CFDFA21080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9EF6-0FD9-43F2-B51B-E5127909A2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A5273B0-2F9B-4DF8-979F-E7AE411EE62D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66E3-F138-4AF1-9091-77B289B2F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616040FA-1F70-42F8-9F8C-8A58ED0C49A3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7787-60C4-4112-A36D-6EAAF7C92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A2A193E-9561-46D5-8472-5C334852EAAD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8258040" y="650700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313917F5-D527-4E1B-B98D-2C77930E920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rcRect l="46677" t="0" r="0" b="0"/>
          <a:stretch/>
        </p:blipFill>
        <p:spPr>
          <a:xfrm>
            <a:off x="746748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63B9227E-4EFE-4D6B-B8E8-2CF17E43639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780A-E721-4E80-84B9-B005B023AA3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7552649B-BDDC-4D40-B24E-30744ED8F96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E9E8-87B5-43A6-BD82-D99E6EB957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505C51FC-B95F-4211-AEEB-165AFBB22D3A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12FC-8F87-484D-A9B5-3597B4AF545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4-</a:t>
            </a:r>
            <a:fld id="{FDED98AC-296B-4560-BAA9-3BAA0D0F73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5887AE3-D41A-4CC6-B877-721516357AC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A65B-FCC9-4C48-BE23-3922DED3E6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1905120" y="1676520"/>
            <a:ext cx="70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"/>
          <p:cNvPicPr/>
          <p:nvPr/>
        </p:nvPicPr>
        <p:blipFill>
          <a:blip r:embed="rId1"/>
          <a:srcRect l="46677" t="0" r="0" b="0"/>
          <a:stretch/>
        </p:blipFill>
        <p:spPr>
          <a:xfrm>
            <a:off x="7462800" y="-936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7"/>
          <p:cNvSpPr/>
          <p:nvPr/>
        </p:nvSpPr>
        <p:spPr>
          <a:xfrm>
            <a:off x="7936200" y="6611760"/>
            <a:ext cx="9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Tata McGr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9" descr=""/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597" name="TextBox 7" descr=""/>
          <p:cNvPicPr/>
          <p:nvPr/>
        </p:nvPicPr>
        <p:blipFill>
          <a:blip r:embed="rId3"/>
          <a:stretch/>
        </p:blipFill>
        <p:spPr>
          <a:xfrm>
            <a:off x="-73080" y="0"/>
            <a:ext cx="159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8305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Functional Projec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59984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s of the project that are not directly related to the functional area get short-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of team members is often w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eds of the client are secondary and are responded to slow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27502FDD-6264-4A34-A2B8-240C42A93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0" dur="1" fill="hold"/>
                                  <p:tgtEl>
                                    <p:spTgt spid="6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785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 Project Organization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4290840" y="2057400"/>
            <a:ext cx="1946520" cy="453960"/>
          </a:xfrm>
          <a:prstGeom prst="rect">
            <a:avLst/>
          </a:prstGeom>
          <a:solidFill>
            <a:srgbClr val="f8e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2057400" y="2905200"/>
            <a:ext cx="1752480" cy="649080"/>
          </a:xfrm>
          <a:prstGeom prst="rect">
            <a:avLst/>
          </a:prstGeom>
          <a:solidFill>
            <a:srgbClr val="f8e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3973680" y="2905200"/>
            <a:ext cx="1360440" cy="649080"/>
          </a:xfrm>
          <a:prstGeom prst="rect">
            <a:avLst/>
          </a:prstGeom>
          <a:solidFill>
            <a:srgbClr val="f8e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5486400" y="2905200"/>
            <a:ext cx="1600200" cy="649080"/>
          </a:xfrm>
          <a:prstGeom prst="rect">
            <a:avLst/>
          </a:prstGeom>
          <a:solidFill>
            <a:srgbClr val="f8e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9"/>
          <p:cNvSpPr/>
          <p:nvPr/>
        </p:nvSpPr>
        <p:spPr>
          <a:xfrm>
            <a:off x="5264280" y="2521080"/>
            <a:ext cx="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0"/>
          <p:cNvSpPr/>
          <p:nvPr/>
        </p:nvSpPr>
        <p:spPr>
          <a:xfrm>
            <a:off x="3000240" y="2708280"/>
            <a:ext cx="466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1"/>
          <p:cNvSpPr/>
          <p:nvPr/>
        </p:nvSpPr>
        <p:spPr>
          <a:xfrm>
            <a:off x="2990880" y="27176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2"/>
          <p:cNvSpPr/>
          <p:nvPr/>
        </p:nvSpPr>
        <p:spPr>
          <a:xfrm>
            <a:off x="7667640" y="27176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3"/>
          <p:cNvSpPr/>
          <p:nvPr/>
        </p:nvSpPr>
        <p:spPr>
          <a:xfrm>
            <a:off x="7238880" y="2905200"/>
            <a:ext cx="1219320" cy="649080"/>
          </a:xfrm>
          <a:prstGeom prst="rect">
            <a:avLst/>
          </a:prstGeom>
          <a:solidFill>
            <a:srgbClr val="f8e4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14"/>
          <p:cNvSpPr/>
          <p:nvPr/>
        </p:nvSpPr>
        <p:spPr>
          <a:xfrm>
            <a:off x="4549680" y="27176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15"/>
          <p:cNvSpPr/>
          <p:nvPr/>
        </p:nvSpPr>
        <p:spPr>
          <a:xfrm>
            <a:off x="6043680" y="271764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6"/>
          <p:cNvSpPr/>
          <p:nvPr/>
        </p:nvSpPr>
        <p:spPr>
          <a:xfrm>
            <a:off x="915480" y="4014720"/>
            <a:ext cx="1158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ject 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17"/>
          <p:cNvSpPr/>
          <p:nvPr/>
        </p:nvSpPr>
        <p:spPr>
          <a:xfrm>
            <a:off x="915480" y="4797360"/>
            <a:ext cx="1158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ject 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8"/>
          <p:cNvSpPr/>
          <p:nvPr/>
        </p:nvSpPr>
        <p:spPr>
          <a:xfrm>
            <a:off x="915480" y="5578560"/>
            <a:ext cx="117216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ject 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9"/>
          <p:cNvSpPr/>
          <p:nvPr/>
        </p:nvSpPr>
        <p:spPr>
          <a:xfrm>
            <a:off x="2092320" y="433872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0"/>
          <p:cNvSpPr/>
          <p:nvPr/>
        </p:nvSpPr>
        <p:spPr>
          <a:xfrm>
            <a:off x="2092320" y="511956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1"/>
          <p:cNvSpPr/>
          <p:nvPr/>
        </p:nvSpPr>
        <p:spPr>
          <a:xfrm>
            <a:off x="2092320" y="5902200"/>
            <a:ext cx="628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2"/>
          <p:cNvSpPr/>
          <p:nvPr/>
        </p:nvSpPr>
        <p:spPr>
          <a:xfrm>
            <a:off x="2990880" y="3695760"/>
            <a:ext cx="0" cy="246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3"/>
          <p:cNvSpPr/>
          <p:nvPr/>
        </p:nvSpPr>
        <p:spPr>
          <a:xfrm>
            <a:off x="4549680" y="3695760"/>
            <a:ext cx="0" cy="246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4"/>
          <p:cNvSpPr/>
          <p:nvPr/>
        </p:nvSpPr>
        <p:spPr>
          <a:xfrm>
            <a:off x="6043680" y="3695760"/>
            <a:ext cx="0" cy="246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5"/>
          <p:cNvSpPr/>
          <p:nvPr/>
        </p:nvSpPr>
        <p:spPr>
          <a:xfrm>
            <a:off x="7667640" y="3695760"/>
            <a:ext cx="0" cy="246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2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705593A8-0676-45EA-87CC-682B1D7E0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60160" y="609120"/>
            <a:ext cx="8126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59984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communications between functional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npointe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plication of resources is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al “home” for team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cies of the parent organization are follow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B6116DD4-2BD0-452E-B9C1-B7169A512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4" dur="1" fill="hold"/>
                                  <p:tgtEl>
                                    <p:spTgt spid="7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51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rix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 many bo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pends on project manager’s negotiating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40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tential for sub-optim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52E96B77-A695-435D-99DF-85A32314B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7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Statement of Work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"/>
              </a:rPr>
              <a:t>A written description of the objectives to be achieved</a:t>
            </a:r>
            <a:endParaRPr b="0" lang="en-US" sz="26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Task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"/>
              </a:rPr>
              <a:t>A further subdivision of a project – usually shorter than several months and performed by a single group or organization</a:t>
            </a:r>
            <a:endParaRPr b="0" lang="en-US" sz="26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Work Package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"/>
              </a:rPr>
              <a:t>A group of activities combined to be assignable to a single organizational unit</a:t>
            </a:r>
            <a:endParaRPr b="0" lang="en-US" sz="26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Title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3762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Project Milestone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pecific events in the life of the project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Work Breakdown Structure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Defines the hierarchy of project tasks, subtasks, and work packages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ieces of work that consume time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085"/>
          <p:cNvSpPr/>
          <p:nvPr/>
        </p:nvSpPr>
        <p:spPr>
          <a:xfrm>
            <a:off x="609480" y="533520"/>
            <a:ext cx="7772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205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reakdown Structur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052"/>
          <p:cNvSpPr/>
          <p:nvPr/>
        </p:nvSpPr>
        <p:spPr>
          <a:xfrm>
            <a:off x="8959680" y="723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2053"/>
          <p:cNvGrpSpPr/>
          <p:nvPr/>
        </p:nvGrpSpPr>
        <p:grpSpPr>
          <a:xfrm>
            <a:off x="839160" y="2362320"/>
            <a:ext cx="7466400" cy="3710520"/>
            <a:chOff x="839160" y="2362320"/>
            <a:chExt cx="7466400" cy="3710520"/>
          </a:xfrm>
        </p:grpSpPr>
        <p:sp>
          <p:nvSpPr>
            <p:cNvPr id="730" name="Rectangle 2054"/>
            <p:cNvSpPr/>
            <p:nvPr/>
          </p:nvSpPr>
          <p:spPr>
            <a:xfrm>
              <a:off x="1868760" y="2553840"/>
              <a:ext cx="105516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2055"/>
            <p:cNvSpPr/>
            <p:nvPr/>
          </p:nvSpPr>
          <p:spPr>
            <a:xfrm>
              <a:off x="2594880" y="2944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56"/>
            <p:cNvSpPr/>
            <p:nvPr/>
          </p:nvSpPr>
          <p:spPr>
            <a:xfrm>
              <a:off x="2067480" y="3319920"/>
              <a:ext cx="105516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ject 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057"/>
            <p:cNvSpPr/>
            <p:nvPr/>
          </p:nvSpPr>
          <p:spPr>
            <a:xfrm>
              <a:off x="3588840" y="3319920"/>
              <a:ext cx="105552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ject 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2058"/>
            <p:cNvSpPr/>
            <p:nvPr/>
          </p:nvSpPr>
          <p:spPr>
            <a:xfrm>
              <a:off x="2604600" y="3126960"/>
              <a:ext cx="150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059"/>
            <p:cNvSpPr/>
            <p:nvPr/>
          </p:nvSpPr>
          <p:spPr>
            <a:xfrm>
              <a:off x="4116600" y="3136320"/>
              <a:ext cx="0" cy="17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060"/>
            <p:cNvSpPr/>
            <p:nvPr/>
          </p:nvSpPr>
          <p:spPr>
            <a:xfrm>
              <a:off x="4126320" y="3126960"/>
              <a:ext cx="4179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2061"/>
            <p:cNvSpPr/>
            <p:nvPr/>
          </p:nvSpPr>
          <p:spPr>
            <a:xfrm>
              <a:off x="2820960" y="37112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062"/>
            <p:cNvSpPr/>
            <p:nvPr/>
          </p:nvSpPr>
          <p:spPr>
            <a:xfrm>
              <a:off x="2624040" y="4086000"/>
              <a:ext cx="105552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ask 1.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2063"/>
            <p:cNvSpPr/>
            <p:nvPr/>
          </p:nvSpPr>
          <p:spPr>
            <a:xfrm>
              <a:off x="3416400" y="4477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064"/>
            <p:cNvSpPr/>
            <p:nvPr/>
          </p:nvSpPr>
          <p:spPr>
            <a:xfrm>
              <a:off x="3152880" y="4852080"/>
              <a:ext cx="158508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ubtask 1.1.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065"/>
            <p:cNvSpPr/>
            <p:nvPr/>
          </p:nvSpPr>
          <p:spPr>
            <a:xfrm>
              <a:off x="4142880" y="52434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2066"/>
            <p:cNvSpPr/>
            <p:nvPr/>
          </p:nvSpPr>
          <p:spPr>
            <a:xfrm>
              <a:off x="2756160" y="5618160"/>
              <a:ext cx="244476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ork Package 1.1.1.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2067"/>
            <p:cNvSpPr/>
            <p:nvPr/>
          </p:nvSpPr>
          <p:spPr>
            <a:xfrm>
              <a:off x="839160" y="2362320"/>
              <a:ext cx="908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2068"/>
            <p:cNvSpPr/>
            <p:nvPr/>
          </p:nvSpPr>
          <p:spPr>
            <a:xfrm>
              <a:off x="1081800" y="33199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2069"/>
            <p:cNvSpPr/>
            <p:nvPr/>
          </p:nvSpPr>
          <p:spPr>
            <a:xfrm>
              <a:off x="1081800" y="40860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2070"/>
            <p:cNvSpPr/>
            <p:nvPr/>
          </p:nvSpPr>
          <p:spPr>
            <a:xfrm>
              <a:off x="1081800" y="485208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2071"/>
            <p:cNvSpPr/>
            <p:nvPr/>
          </p:nvSpPr>
          <p:spPr>
            <a:xfrm>
              <a:off x="1081800" y="561816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2072"/>
            <p:cNvSpPr/>
            <p:nvPr/>
          </p:nvSpPr>
          <p:spPr>
            <a:xfrm>
              <a:off x="4145400" y="4086000"/>
              <a:ext cx="105552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Task 1.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2073"/>
            <p:cNvSpPr/>
            <p:nvPr/>
          </p:nvSpPr>
          <p:spPr>
            <a:xfrm>
              <a:off x="2830680" y="3891960"/>
              <a:ext cx="150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2074"/>
            <p:cNvSpPr/>
            <p:nvPr/>
          </p:nvSpPr>
          <p:spPr>
            <a:xfrm>
              <a:off x="4341240" y="3902760"/>
              <a:ext cx="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2075"/>
            <p:cNvSpPr/>
            <p:nvPr/>
          </p:nvSpPr>
          <p:spPr>
            <a:xfrm>
              <a:off x="3426120" y="4659480"/>
              <a:ext cx="229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2076"/>
            <p:cNvSpPr/>
            <p:nvPr/>
          </p:nvSpPr>
          <p:spPr>
            <a:xfrm>
              <a:off x="5797800" y="4668840"/>
              <a:ext cx="0" cy="17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077"/>
            <p:cNvSpPr/>
            <p:nvPr/>
          </p:nvSpPr>
          <p:spPr>
            <a:xfrm>
              <a:off x="5270040" y="4852080"/>
              <a:ext cx="158472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Subtask 1.1.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2078"/>
            <p:cNvSpPr/>
            <p:nvPr/>
          </p:nvSpPr>
          <p:spPr>
            <a:xfrm>
              <a:off x="4285800" y="3891960"/>
              <a:ext cx="40197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2079"/>
            <p:cNvSpPr/>
            <p:nvPr/>
          </p:nvSpPr>
          <p:spPr>
            <a:xfrm>
              <a:off x="5742360" y="4659480"/>
              <a:ext cx="2563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080"/>
            <p:cNvSpPr/>
            <p:nvPr/>
          </p:nvSpPr>
          <p:spPr>
            <a:xfrm>
              <a:off x="5534280" y="5618160"/>
              <a:ext cx="2444760" cy="38052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Work Package 1.1.1.2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2081"/>
            <p:cNvSpPr/>
            <p:nvPr/>
          </p:nvSpPr>
          <p:spPr>
            <a:xfrm>
              <a:off x="4155120" y="542556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2082"/>
            <p:cNvSpPr/>
            <p:nvPr/>
          </p:nvSpPr>
          <p:spPr>
            <a:xfrm>
              <a:off x="6459120" y="5434920"/>
              <a:ext cx="0" cy="17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2083"/>
            <p:cNvSpPr/>
            <p:nvPr/>
          </p:nvSpPr>
          <p:spPr>
            <a:xfrm>
              <a:off x="6536160" y="5425560"/>
              <a:ext cx="17694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Rectangle 2084"/>
          <p:cNvSpPr/>
          <p:nvPr/>
        </p:nvSpPr>
        <p:spPr>
          <a:xfrm>
            <a:off x="914400" y="1447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work breakdown structure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s the hierarchy of project tasks, subtasks, and work pack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208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00A31909-4AF4-484E-9E21-DACF4CD47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pic>
        <p:nvPicPr>
          <p:cNvPr id="763" name="Content Placeholder 4" descr=""/>
          <p:cNvPicPr/>
          <p:nvPr/>
        </p:nvPicPr>
        <p:blipFill>
          <a:blip r:embed="rId2"/>
          <a:stretch/>
        </p:blipFill>
        <p:spPr>
          <a:xfrm>
            <a:off x="360360" y="1603440"/>
            <a:ext cx="840564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requisites for Critical Path Method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roject must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-defined jobs or tasks whose completion marks the end of the projec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t jobs or task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asks that follow a given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7C30EB81-2ADC-491F-A8A9-0DED0C91E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7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Critical Path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M with a Single Time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when activity times are known with 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to determine timing estimates for the project, each activity in the project, and slack time for activiti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M with Three Activity Time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when activity times are uncert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to obtain the same information as the Single Time Estimate model and probabilit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-Cost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when cost trade-off information is a major consideration in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to determine the least cost in reducing total project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032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7A641769-E090-4CBE-AC5F-F796E8382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7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2" dur="1" fill="hold"/>
                                  <p:tgtEl>
                                    <p:spTgt spid="77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53" dur="1" fill="hold"/>
                                  <p:tgtEl>
                                    <p:spTgt spid="77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54" dur="1" fill="hold"/>
                                  <p:tgtEl>
                                    <p:spTgt spid="77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3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1143000" y="373392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pic>
        <p:nvPicPr>
          <p:cNvPr id="773" name="Content Placeholder 4" descr=""/>
          <p:cNvPicPr/>
          <p:nvPr/>
        </p:nvPicPr>
        <p:blipFill>
          <a:blip r:embed="rId2"/>
          <a:stretch/>
        </p:blipFill>
        <p:spPr>
          <a:xfrm>
            <a:off x="334800" y="1573200"/>
            <a:ext cx="84074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431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in the CPM with Single Time Estima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6445080" cy="36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ity Sequencing 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twork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termine the 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critical path all of the project and activity timing information can be ob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030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431369A1-2E54-40E3-BCEE-5767C5C25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9" dur="1" fill="hold"/>
                                  <p:tgtEl>
                                    <p:spTgt spid="7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380" dur="1" fill="hold"/>
                                  <p:tgtEl>
                                    <p:spTgt spid="7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M with Single Time Estim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029"/>
          <p:cNvSpPr/>
          <p:nvPr/>
        </p:nvSpPr>
        <p:spPr>
          <a:xfrm>
            <a:off x="914400" y="1828800"/>
            <a:ext cx="7391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following consulting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1030"/>
          <p:cNvGrpSpPr/>
          <p:nvPr/>
        </p:nvGrpSpPr>
        <p:grpSpPr>
          <a:xfrm>
            <a:off x="217800" y="2286000"/>
            <a:ext cx="8697240" cy="2598840"/>
            <a:chOff x="217800" y="2286000"/>
            <a:chExt cx="8697240" cy="2598840"/>
          </a:xfrm>
        </p:grpSpPr>
        <p:sp>
          <p:nvSpPr>
            <p:cNvPr id="781" name="Rectangle 1031"/>
            <p:cNvSpPr/>
            <p:nvPr/>
          </p:nvSpPr>
          <p:spPr>
            <a:xfrm>
              <a:off x="257040" y="2309760"/>
              <a:ext cx="8658000" cy="2543400"/>
            </a:xfrm>
            <a:prstGeom prst="rect">
              <a:avLst/>
            </a:prstGeom>
            <a:solidFill>
              <a:srgbClr val="a6f6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032"/>
            <p:cNvSpPr/>
            <p:nvPr/>
          </p:nvSpPr>
          <p:spPr>
            <a:xfrm>
              <a:off x="280080" y="2322720"/>
              <a:ext cx="861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033"/>
            <p:cNvSpPr/>
            <p:nvPr/>
          </p:nvSpPr>
          <p:spPr>
            <a:xfrm>
              <a:off x="269280" y="2322720"/>
              <a:ext cx="86396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034"/>
            <p:cNvSpPr/>
            <p:nvPr/>
          </p:nvSpPr>
          <p:spPr>
            <a:xfrm>
              <a:off x="290520" y="263700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035"/>
            <p:cNvSpPr/>
            <p:nvPr/>
          </p:nvSpPr>
          <p:spPr>
            <a:xfrm>
              <a:off x="269280" y="2637000"/>
              <a:ext cx="86396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036"/>
            <p:cNvSpPr/>
            <p:nvPr/>
          </p:nvSpPr>
          <p:spPr>
            <a:xfrm>
              <a:off x="290520" y="295128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037"/>
            <p:cNvSpPr/>
            <p:nvPr/>
          </p:nvSpPr>
          <p:spPr>
            <a:xfrm>
              <a:off x="269280" y="2951280"/>
              <a:ext cx="86396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038"/>
            <p:cNvSpPr/>
            <p:nvPr/>
          </p:nvSpPr>
          <p:spPr>
            <a:xfrm>
              <a:off x="290520" y="326700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1039"/>
            <p:cNvSpPr/>
            <p:nvPr/>
          </p:nvSpPr>
          <p:spPr>
            <a:xfrm>
              <a:off x="269280" y="3267000"/>
              <a:ext cx="8639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1040"/>
            <p:cNvSpPr/>
            <p:nvPr/>
          </p:nvSpPr>
          <p:spPr>
            <a:xfrm>
              <a:off x="290520" y="358128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041"/>
            <p:cNvSpPr/>
            <p:nvPr/>
          </p:nvSpPr>
          <p:spPr>
            <a:xfrm>
              <a:off x="269280" y="3581280"/>
              <a:ext cx="8639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1042"/>
            <p:cNvSpPr/>
            <p:nvPr/>
          </p:nvSpPr>
          <p:spPr>
            <a:xfrm>
              <a:off x="290520" y="389592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1043"/>
            <p:cNvSpPr/>
            <p:nvPr/>
          </p:nvSpPr>
          <p:spPr>
            <a:xfrm>
              <a:off x="269280" y="3895920"/>
              <a:ext cx="863964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1044"/>
            <p:cNvSpPr/>
            <p:nvPr/>
          </p:nvSpPr>
          <p:spPr>
            <a:xfrm>
              <a:off x="290520" y="421164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1045"/>
            <p:cNvSpPr/>
            <p:nvPr/>
          </p:nvSpPr>
          <p:spPr>
            <a:xfrm>
              <a:off x="269280" y="4211640"/>
              <a:ext cx="8639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1046"/>
            <p:cNvSpPr/>
            <p:nvPr/>
          </p:nvSpPr>
          <p:spPr>
            <a:xfrm>
              <a:off x="290520" y="4525920"/>
              <a:ext cx="85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1047"/>
            <p:cNvSpPr/>
            <p:nvPr/>
          </p:nvSpPr>
          <p:spPr>
            <a:xfrm>
              <a:off x="269280" y="4525920"/>
              <a:ext cx="8639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1048"/>
            <p:cNvSpPr/>
            <p:nvPr/>
          </p:nvSpPr>
          <p:spPr>
            <a:xfrm>
              <a:off x="280080" y="4840200"/>
              <a:ext cx="8619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1049"/>
            <p:cNvSpPr/>
            <p:nvPr/>
          </p:nvSpPr>
          <p:spPr>
            <a:xfrm>
              <a:off x="269280" y="4840200"/>
              <a:ext cx="8639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1050"/>
            <p:cNvSpPr/>
            <p:nvPr/>
          </p:nvSpPr>
          <p:spPr>
            <a:xfrm>
              <a:off x="225720" y="2286000"/>
              <a:ext cx="104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tiv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051"/>
            <p:cNvSpPr/>
            <p:nvPr/>
          </p:nvSpPr>
          <p:spPr>
            <a:xfrm>
              <a:off x="4071240" y="2286000"/>
              <a:ext cx="147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sig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052"/>
            <p:cNvSpPr/>
            <p:nvPr/>
          </p:nvSpPr>
          <p:spPr>
            <a:xfrm>
              <a:off x="5539320" y="2286000"/>
              <a:ext cx="167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mmed. Pred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053"/>
            <p:cNvSpPr/>
            <p:nvPr/>
          </p:nvSpPr>
          <p:spPr>
            <a:xfrm>
              <a:off x="7214040" y="2286000"/>
              <a:ext cx="170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ime (Week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054"/>
            <p:cNvSpPr/>
            <p:nvPr/>
          </p:nvSpPr>
          <p:spPr>
            <a:xfrm>
              <a:off x="222480" y="2602080"/>
              <a:ext cx="2662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ssess customer's nee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1055"/>
            <p:cNvSpPr/>
            <p:nvPr/>
          </p:nvSpPr>
          <p:spPr>
            <a:xfrm>
              <a:off x="4601160" y="260208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1056"/>
            <p:cNvSpPr/>
            <p:nvPr/>
          </p:nvSpPr>
          <p:spPr>
            <a:xfrm>
              <a:off x="5989680" y="2602080"/>
              <a:ext cx="734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1057"/>
            <p:cNvSpPr/>
            <p:nvPr/>
          </p:nvSpPr>
          <p:spPr>
            <a:xfrm>
              <a:off x="7893720" y="260208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1058"/>
            <p:cNvSpPr/>
            <p:nvPr/>
          </p:nvSpPr>
          <p:spPr>
            <a:xfrm>
              <a:off x="219960" y="2916360"/>
              <a:ext cx="2894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rite and submit propos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1059"/>
            <p:cNvSpPr/>
            <p:nvPr/>
          </p:nvSpPr>
          <p:spPr>
            <a:xfrm>
              <a:off x="4613040" y="2916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1060"/>
            <p:cNvSpPr/>
            <p:nvPr/>
          </p:nvSpPr>
          <p:spPr>
            <a:xfrm>
              <a:off x="6166080" y="29163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1061"/>
            <p:cNvSpPr/>
            <p:nvPr/>
          </p:nvSpPr>
          <p:spPr>
            <a:xfrm>
              <a:off x="7893720" y="291636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62"/>
            <p:cNvSpPr/>
            <p:nvPr/>
          </p:nvSpPr>
          <p:spPr>
            <a:xfrm>
              <a:off x="224280" y="3230640"/>
              <a:ext cx="1832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btain approv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63"/>
            <p:cNvSpPr/>
            <p:nvPr/>
          </p:nvSpPr>
          <p:spPr>
            <a:xfrm>
              <a:off x="4608720" y="323064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64"/>
            <p:cNvSpPr/>
            <p:nvPr/>
          </p:nvSpPr>
          <p:spPr>
            <a:xfrm>
              <a:off x="6178320" y="323064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65"/>
            <p:cNvSpPr/>
            <p:nvPr/>
          </p:nvSpPr>
          <p:spPr>
            <a:xfrm>
              <a:off x="7893720" y="323064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66"/>
            <p:cNvSpPr/>
            <p:nvPr/>
          </p:nvSpPr>
          <p:spPr>
            <a:xfrm>
              <a:off x="219240" y="3546360"/>
              <a:ext cx="3552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velop service vision and go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67"/>
            <p:cNvSpPr/>
            <p:nvPr/>
          </p:nvSpPr>
          <p:spPr>
            <a:xfrm>
              <a:off x="4601160" y="354636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8"/>
            <p:cNvSpPr/>
            <p:nvPr/>
          </p:nvSpPr>
          <p:spPr>
            <a:xfrm>
              <a:off x="6172560" y="354636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69"/>
            <p:cNvSpPr/>
            <p:nvPr/>
          </p:nvSpPr>
          <p:spPr>
            <a:xfrm>
              <a:off x="7893720" y="354636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70"/>
            <p:cNvSpPr/>
            <p:nvPr/>
          </p:nvSpPr>
          <p:spPr>
            <a:xfrm>
              <a:off x="224280" y="3861000"/>
              <a:ext cx="188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in employe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71"/>
            <p:cNvSpPr/>
            <p:nvPr/>
          </p:nvSpPr>
          <p:spPr>
            <a:xfrm>
              <a:off x="4613040" y="386100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072"/>
            <p:cNvSpPr/>
            <p:nvPr/>
          </p:nvSpPr>
          <p:spPr>
            <a:xfrm>
              <a:off x="6172560" y="386100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073"/>
            <p:cNvSpPr/>
            <p:nvPr/>
          </p:nvSpPr>
          <p:spPr>
            <a:xfrm>
              <a:off x="7893720" y="386100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074"/>
            <p:cNvSpPr/>
            <p:nvPr/>
          </p:nvSpPr>
          <p:spPr>
            <a:xfrm>
              <a:off x="217800" y="4175280"/>
              <a:ext cx="365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uality improvement pilot grou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075"/>
            <p:cNvSpPr/>
            <p:nvPr/>
          </p:nvSpPr>
          <p:spPr>
            <a:xfrm>
              <a:off x="4625280" y="417528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76"/>
            <p:cNvSpPr/>
            <p:nvPr/>
          </p:nvSpPr>
          <p:spPr>
            <a:xfrm>
              <a:off x="6025320" y="4175280"/>
              <a:ext cx="649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, 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077"/>
            <p:cNvSpPr/>
            <p:nvPr/>
          </p:nvSpPr>
          <p:spPr>
            <a:xfrm>
              <a:off x="7828200" y="4175280"/>
              <a:ext cx="373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078"/>
            <p:cNvSpPr/>
            <p:nvPr/>
          </p:nvSpPr>
          <p:spPr>
            <a:xfrm>
              <a:off x="221760" y="4491000"/>
              <a:ext cx="2629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rite assessment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079"/>
            <p:cNvSpPr/>
            <p:nvPr/>
          </p:nvSpPr>
          <p:spPr>
            <a:xfrm>
              <a:off x="4601160" y="449100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080"/>
            <p:cNvSpPr/>
            <p:nvPr/>
          </p:nvSpPr>
          <p:spPr>
            <a:xfrm>
              <a:off x="6190200" y="4491000"/>
              <a:ext cx="323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081"/>
            <p:cNvSpPr/>
            <p:nvPr/>
          </p:nvSpPr>
          <p:spPr>
            <a:xfrm>
              <a:off x="7893720" y="4491000"/>
              <a:ext cx="30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082"/>
            <p:cNvSpPr/>
            <p:nvPr/>
          </p:nvSpPr>
          <p:spPr>
            <a:xfrm>
              <a:off x="269280" y="2333520"/>
              <a:ext cx="0" cy="250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083"/>
            <p:cNvSpPr/>
            <p:nvPr/>
          </p:nvSpPr>
          <p:spPr>
            <a:xfrm>
              <a:off x="269280" y="2322720"/>
              <a:ext cx="5760" cy="25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084"/>
            <p:cNvSpPr/>
            <p:nvPr/>
          </p:nvSpPr>
          <p:spPr>
            <a:xfrm>
              <a:off x="4028040" y="2344680"/>
              <a:ext cx="0" cy="24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85"/>
            <p:cNvSpPr/>
            <p:nvPr/>
          </p:nvSpPr>
          <p:spPr>
            <a:xfrm>
              <a:off x="4028040" y="2322720"/>
              <a:ext cx="2880" cy="25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086"/>
            <p:cNvSpPr/>
            <p:nvPr/>
          </p:nvSpPr>
          <p:spPr>
            <a:xfrm>
              <a:off x="5506200" y="2344680"/>
              <a:ext cx="0" cy="24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087"/>
            <p:cNvSpPr/>
            <p:nvPr/>
          </p:nvSpPr>
          <p:spPr>
            <a:xfrm>
              <a:off x="5506200" y="2322720"/>
              <a:ext cx="2880" cy="25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1088"/>
            <p:cNvSpPr/>
            <p:nvPr/>
          </p:nvSpPr>
          <p:spPr>
            <a:xfrm>
              <a:off x="7157520" y="2344680"/>
              <a:ext cx="0" cy="24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089"/>
            <p:cNvSpPr/>
            <p:nvPr/>
          </p:nvSpPr>
          <p:spPr>
            <a:xfrm>
              <a:off x="7157520" y="2322720"/>
              <a:ext cx="5760" cy="25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1090"/>
            <p:cNvSpPr/>
            <p:nvPr/>
          </p:nvSpPr>
          <p:spPr>
            <a:xfrm>
              <a:off x="8903160" y="2333520"/>
              <a:ext cx="0" cy="250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091"/>
            <p:cNvSpPr/>
            <p:nvPr/>
          </p:nvSpPr>
          <p:spPr>
            <a:xfrm>
              <a:off x="8903160" y="2322720"/>
              <a:ext cx="6120" cy="25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092"/>
            <p:cNvSpPr/>
            <p:nvPr/>
          </p:nvSpPr>
          <p:spPr>
            <a:xfrm>
              <a:off x="257040" y="2309760"/>
              <a:ext cx="86580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093"/>
            <p:cNvSpPr/>
            <p:nvPr/>
          </p:nvSpPr>
          <p:spPr>
            <a:xfrm>
              <a:off x="257040" y="4829400"/>
              <a:ext cx="86580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094"/>
            <p:cNvSpPr/>
            <p:nvPr/>
          </p:nvSpPr>
          <p:spPr>
            <a:xfrm>
              <a:off x="257040" y="2333520"/>
              <a:ext cx="25560" cy="249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095"/>
            <p:cNvSpPr/>
            <p:nvPr/>
          </p:nvSpPr>
          <p:spPr>
            <a:xfrm>
              <a:off x="8892360" y="2333520"/>
              <a:ext cx="22680" cy="249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Rectangle 1096"/>
          <p:cNvSpPr/>
          <p:nvPr/>
        </p:nvSpPr>
        <p:spPr>
          <a:xfrm>
            <a:off x="228600" y="5030640"/>
            <a:ext cx="8686800" cy="150588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Develop a critical path diagram and determine the duration of the critical path and slack times for all activities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09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36A50FBE-F788-48BD-8676-769DB5F23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draw the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Group 7"/>
          <p:cNvGrpSpPr/>
          <p:nvPr/>
        </p:nvGrpSpPr>
        <p:grpSpPr>
          <a:xfrm>
            <a:off x="744480" y="4186080"/>
            <a:ext cx="1395360" cy="900000"/>
            <a:chOff x="744480" y="4186080"/>
            <a:chExt cx="1395360" cy="900000"/>
          </a:xfrm>
        </p:grpSpPr>
        <p:sp>
          <p:nvSpPr>
            <p:cNvPr id="851" name="Line 5"/>
            <p:cNvSpPr/>
            <p:nvPr/>
          </p:nvSpPr>
          <p:spPr>
            <a:xfrm>
              <a:off x="1623960" y="4635360"/>
              <a:ext cx="51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6"/>
            <p:cNvSpPr/>
            <p:nvPr/>
          </p:nvSpPr>
          <p:spPr>
            <a:xfrm>
              <a:off x="744480" y="4186080"/>
              <a:ext cx="871560" cy="900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10"/>
          <p:cNvGrpSpPr/>
          <p:nvPr/>
        </p:nvGrpSpPr>
        <p:grpSpPr>
          <a:xfrm>
            <a:off x="2146320" y="4186080"/>
            <a:ext cx="1441440" cy="900000"/>
            <a:chOff x="2146320" y="4186080"/>
            <a:chExt cx="1441440" cy="900000"/>
          </a:xfrm>
        </p:grpSpPr>
        <p:sp>
          <p:nvSpPr>
            <p:cNvPr id="854" name="Line 8"/>
            <p:cNvSpPr/>
            <p:nvPr/>
          </p:nvSpPr>
          <p:spPr>
            <a:xfrm>
              <a:off x="2995560" y="4635360"/>
              <a:ext cx="59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9"/>
            <p:cNvSpPr/>
            <p:nvPr/>
          </p:nvSpPr>
          <p:spPr>
            <a:xfrm>
              <a:off x="2146320" y="4186080"/>
              <a:ext cx="871200" cy="900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6" name="Group 35"/>
          <p:cNvGrpSpPr/>
          <p:nvPr/>
        </p:nvGrpSpPr>
        <p:grpSpPr>
          <a:xfrm>
            <a:off x="3581280" y="4186080"/>
            <a:ext cx="871560" cy="900360"/>
            <a:chOff x="3581280" y="4186080"/>
            <a:chExt cx="871560" cy="900360"/>
          </a:xfrm>
        </p:grpSpPr>
        <p:sp>
          <p:nvSpPr>
            <p:cNvPr id="857" name="Oval 11"/>
            <p:cNvSpPr/>
            <p:nvPr/>
          </p:nvSpPr>
          <p:spPr>
            <a:xfrm>
              <a:off x="3581280" y="4186080"/>
              <a:ext cx="871560" cy="9003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2"/>
            <p:cNvSpPr/>
            <p:nvPr/>
          </p:nvSpPr>
          <p:spPr>
            <a:xfrm>
              <a:off x="3780000" y="4356000"/>
              <a:ext cx="4744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15"/>
          <p:cNvGrpSpPr/>
          <p:nvPr/>
        </p:nvGrpSpPr>
        <p:grpSpPr>
          <a:xfrm>
            <a:off x="4348080" y="3736440"/>
            <a:ext cx="604440" cy="1941840"/>
            <a:chOff x="4348080" y="3736440"/>
            <a:chExt cx="604440" cy="1941840"/>
          </a:xfrm>
        </p:grpSpPr>
        <p:sp>
          <p:nvSpPr>
            <p:cNvPr id="860" name="Line 13"/>
            <p:cNvSpPr/>
            <p:nvPr/>
          </p:nvSpPr>
          <p:spPr>
            <a:xfrm flipV="1">
              <a:off x="4348080" y="3736440"/>
              <a:ext cx="576000" cy="5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>
              <a:off x="4363560" y="4962240"/>
              <a:ext cx="588960" cy="7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Group 18"/>
          <p:cNvGrpSpPr/>
          <p:nvPr/>
        </p:nvGrpSpPr>
        <p:grpSpPr>
          <a:xfrm>
            <a:off x="4876920" y="2971800"/>
            <a:ext cx="947160" cy="3414600"/>
            <a:chOff x="4876920" y="2971800"/>
            <a:chExt cx="947160" cy="3414600"/>
          </a:xfrm>
        </p:grpSpPr>
        <p:sp>
          <p:nvSpPr>
            <p:cNvPr id="863" name="Oval 16"/>
            <p:cNvSpPr/>
            <p:nvPr/>
          </p:nvSpPr>
          <p:spPr>
            <a:xfrm>
              <a:off x="4876920" y="2971800"/>
              <a:ext cx="871200" cy="900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17"/>
            <p:cNvSpPr/>
            <p:nvPr/>
          </p:nvSpPr>
          <p:spPr>
            <a:xfrm>
              <a:off x="4952880" y="5486400"/>
              <a:ext cx="871200" cy="900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22"/>
          <p:cNvGrpSpPr/>
          <p:nvPr/>
        </p:nvGrpSpPr>
        <p:grpSpPr>
          <a:xfrm>
            <a:off x="5638680" y="3809880"/>
            <a:ext cx="1609560" cy="1972800"/>
            <a:chOff x="5638680" y="3809880"/>
            <a:chExt cx="1609560" cy="1972800"/>
          </a:xfrm>
        </p:grpSpPr>
        <p:sp>
          <p:nvSpPr>
            <p:cNvPr id="866" name="Line 19"/>
            <p:cNvSpPr/>
            <p:nvPr/>
          </p:nvSpPr>
          <p:spPr>
            <a:xfrm>
              <a:off x="5638680" y="3809880"/>
              <a:ext cx="903240" cy="55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20"/>
            <p:cNvSpPr/>
            <p:nvPr/>
          </p:nvSpPr>
          <p:spPr>
            <a:xfrm flipV="1">
              <a:off x="5787720" y="5082480"/>
              <a:ext cx="75096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21"/>
            <p:cNvSpPr/>
            <p:nvPr/>
          </p:nvSpPr>
          <p:spPr>
            <a:xfrm>
              <a:off x="6376680" y="4273200"/>
              <a:ext cx="871560" cy="9003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25"/>
          <p:cNvGrpSpPr/>
          <p:nvPr/>
        </p:nvGrpSpPr>
        <p:grpSpPr>
          <a:xfrm>
            <a:off x="7292880" y="4183200"/>
            <a:ext cx="1434960" cy="900000"/>
            <a:chOff x="7292880" y="4183200"/>
            <a:chExt cx="1434960" cy="900000"/>
          </a:xfrm>
        </p:grpSpPr>
        <p:sp>
          <p:nvSpPr>
            <p:cNvPr id="870" name="Line 23"/>
            <p:cNvSpPr/>
            <p:nvPr/>
          </p:nvSpPr>
          <p:spPr>
            <a:xfrm>
              <a:off x="7292880" y="4646880"/>
              <a:ext cx="542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24"/>
            <p:cNvSpPr/>
            <p:nvPr/>
          </p:nvSpPr>
          <p:spPr>
            <a:xfrm>
              <a:off x="7856280" y="4183200"/>
              <a:ext cx="871560" cy="9000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Text Box 26"/>
          <p:cNvSpPr/>
          <p:nvPr/>
        </p:nvSpPr>
        <p:spPr>
          <a:xfrm>
            <a:off x="762120" y="190512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27"/>
          <p:cNvSpPr/>
          <p:nvPr/>
        </p:nvSpPr>
        <p:spPr>
          <a:xfrm>
            <a:off x="762120" y="220968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29"/>
          <p:cNvSpPr/>
          <p:nvPr/>
        </p:nvSpPr>
        <p:spPr>
          <a:xfrm>
            <a:off x="762120" y="251460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0"/>
          <p:cNvSpPr/>
          <p:nvPr/>
        </p:nvSpPr>
        <p:spPr>
          <a:xfrm>
            <a:off x="762120" y="281952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31"/>
          <p:cNvSpPr/>
          <p:nvPr/>
        </p:nvSpPr>
        <p:spPr>
          <a:xfrm>
            <a:off x="762120" y="312408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32"/>
          <p:cNvSpPr/>
          <p:nvPr/>
        </p:nvSpPr>
        <p:spPr>
          <a:xfrm>
            <a:off x="762120" y="342900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,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33"/>
          <p:cNvSpPr/>
          <p:nvPr/>
        </p:nvSpPr>
        <p:spPr>
          <a:xfrm>
            <a:off x="762120" y="3733920"/>
            <a:ext cx="2209680" cy="337320"/>
          </a:xfrm>
          <a:prstGeom prst="rect">
            <a:avLst/>
          </a:prstGeom>
          <a:solidFill>
            <a:srgbClr val="a6f6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 Box 34"/>
          <p:cNvSpPr/>
          <p:nvPr/>
        </p:nvSpPr>
        <p:spPr>
          <a:xfrm>
            <a:off x="457200" y="1447920"/>
            <a:ext cx="28954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ed. Pred.   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3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24E6B4FD-7FD1-4E15-B68C-F7CA7D0D4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early starts and early finish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5889240" y="290844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6"/>
          <p:cNvSpPr/>
          <p:nvPr/>
        </p:nvSpPr>
        <p:spPr>
          <a:xfrm>
            <a:off x="7151400" y="290844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7"/>
          <p:cNvSpPr/>
          <p:nvPr/>
        </p:nvSpPr>
        <p:spPr>
          <a:xfrm>
            <a:off x="890280" y="287964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8"/>
          <p:cNvSpPr/>
          <p:nvPr/>
        </p:nvSpPr>
        <p:spPr>
          <a:xfrm>
            <a:off x="2112840" y="2879640"/>
            <a:ext cx="1011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9"/>
          <p:cNvSpPr/>
          <p:nvPr/>
        </p:nvSpPr>
        <p:spPr>
          <a:xfrm>
            <a:off x="3355560" y="287964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0"/>
          <p:cNvSpPr/>
          <p:nvPr/>
        </p:nvSpPr>
        <p:spPr>
          <a:xfrm>
            <a:off x="4589280" y="424332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1"/>
          <p:cNvSpPr/>
          <p:nvPr/>
        </p:nvSpPr>
        <p:spPr>
          <a:xfrm>
            <a:off x="4557240" y="170352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13"/>
          <p:cNvSpPr/>
          <p:nvPr/>
        </p:nvSpPr>
        <p:spPr>
          <a:xfrm>
            <a:off x="1601640" y="4195800"/>
            <a:ext cx="463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Oval 14"/>
          <p:cNvSpPr/>
          <p:nvPr/>
        </p:nvSpPr>
        <p:spPr>
          <a:xfrm>
            <a:off x="812880" y="3746520"/>
            <a:ext cx="78264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16"/>
          <p:cNvSpPr/>
          <p:nvPr/>
        </p:nvSpPr>
        <p:spPr>
          <a:xfrm>
            <a:off x="2832120" y="419580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7"/>
          <p:cNvSpPr/>
          <p:nvPr/>
        </p:nvSpPr>
        <p:spPr>
          <a:xfrm>
            <a:off x="2070000" y="3746520"/>
            <a:ext cx="78264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8"/>
          <p:cNvSpPr/>
          <p:nvPr/>
        </p:nvSpPr>
        <p:spPr>
          <a:xfrm>
            <a:off x="3359160" y="3746520"/>
            <a:ext cx="78120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20"/>
          <p:cNvSpPr/>
          <p:nvPr/>
        </p:nvSpPr>
        <p:spPr>
          <a:xfrm flipV="1">
            <a:off x="4046400" y="3296880"/>
            <a:ext cx="574920" cy="585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21"/>
          <p:cNvSpPr/>
          <p:nvPr/>
        </p:nvSpPr>
        <p:spPr>
          <a:xfrm>
            <a:off x="4062240" y="4522680"/>
            <a:ext cx="587520" cy="71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23"/>
          <p:cNvSpPr/>
          <p:nvPr/>
        </p:nvSpPr>
        <p:spPr>
          <a:xfrm>
            <a:off x="4521240" y="2532240"/>
            <a:ext cx="78264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4"/>
          <p:cNvSpPr/>
          <p:nvPr/>
        </p:nvSpPr>
        <p:spPr>
          <a:xfrm>
            <a:off x="4589640" y="5046840"/>
            <a:ext cx="78264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26"/>
          <p:cNvSpPr/>
          <p:nvPr/>
        </p:nvSpPr>
        <p:spPr>
          <a:xfrm>
            <a:off x="5226120" y="3327480"/>
            <a:ext cx="81108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27"/>
          <p:cNvSpPr/>
          <p:nvPr/>
        </p:nvSpPr>
        <p:spPr>
          <a:xfrm flipV="1">
            <a:off x="5359320" y="4600080"/>
            <a:ext cx="674640" cy="7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8"/>
          <p:cNvSpPr/>
          <p:nvPr/>
        </p:nvSpPr>
        <p:spPr>
          <a:xfrm>
            <a:off x="5888160" y="3790800"/>
            <a:ext cx="782640" cy="9003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0"/>
          <p:cNvSpPr/>
          <p:nvPr/>
        </p:nvSpPr>
        <p:spPr>
          <a:xfrm>
            <a:off x="6689880" y="4206960"/>
            <a:ext cx="487080" cy="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31"/>
          <p:cNvSpPr/>
          <p:nvPr/>
        </p:nvSpPr>
        <p:spPr>
          <a:xfrm>
            <a:off x="7196040" y="3743280"/>
            <a:ext cx="782640" cy="9000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36"/>
          <p:cNvSpPr/>
          <p:nvPr/>
        </p:nvSpPr>
        <p:spPr>
          <a:xfrm>
            <a:off x="1003320" y="4952880"/>
            <a:ext cx="2735280" cy="100368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t: Start with ES=0 and go forward in the network from A to 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415BE88E-B3A7-46B6-A535-50610297D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3"/>
          <p:cNvSpPr/>
          <p:nvPr/>
        </p:nvSpPr>
        <p:spPr>
          <a:xfrm>
            <a:off x="3560760" y="5878440"/>
            <a:ext cx="26002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4114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late starts and late finish ti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7" name="Group 7"/>
          <p:cNvGrpSpPr/>
          <p:nvPr/>
        </p:nvGrpSpPr>
        <p:grpSpPr>
          <a:xfrm>
            <a:off x="6122520" y="2394000"/>
            <a:ext cx="2277000" cy="820440"/>
            <a:chOff x="6122520" y="2394000"/>
            <a:chExt cx="2277000" cy="820440"/>
          </a:xfrm>
        </p:grpSpPr>
        <p:sp>
          <p:nvSpPr>
            <p:cNvPr id="908" name="Rectangle 5"/>
            <p:cNvSpPr/>
            <p:nvPr/>
          </p:nvSpPr>
          <p:spPr>
            <a:xfrm>
              <a:off x="6122520" y="2394000"/>
              <a:ext cx="1013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=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F=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"/>
            <p:cNvSpPr/>
            <p:nvPr/>
          </p:nvSpPr>
          <p:spPr>
            <a:xfrm>
              <a:off x="7386120" y="2394000"/>
              <a:ext cx="1013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=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F=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Rectangle 8"/>
          <p:cNvSpPr/>
          <p:nvPr/>
        </p:nvSpPr>
        <p:spPr>
          <a:xfrm>
            <a:off x="1118880" y="236520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9"/>
          <p:cNvSpPr/>
          <p:nvPr/>
        </p:nvSpPr>
        <p:spPr>
          <a:xfrm>
            <a:off x="2343240" y="2365200"/>
            <a:ext cx="9334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10"/>
          <p:cNvSpPr/>
          <p:nvPr/>
        </p:nvSpPr>
        <p:spPr>
          <a:xfrm>
            <a:off x="3587400" y="236520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11"/>
          <p:cNvSpPr/>
          <p:nvPr/>
        </p:nvSpPr>
        <p:spPr>
          <a:xfrm>
            <a:off x="4820760" y="369720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2"/>
          <p:cNvSpPr/>
          <p:nvPr/>
        </p:nvSpPr>
        <p:spPr>
          <a:xfrm>
            <a:off x="4789080" y="121752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Group 15"/>
          <p:cNvGrpSpPr/>
          <p:nvPr/>
        </p:nvGrpSpPr>
        <p:grpSpPr>
          <a:xfrm>
            <a:off x="1041480" y="3211560"/>
            <a:ext cx="1253520" cy="879480"/>
            <a:chOff x="1041480" y="3211560"/>
            <a:chExt cx="1253520" cy="879480"/>
          </a:xfrm>
        </p:grpSpPr>
        <p:sp>
          <p:nvSpPr>
            <p:cNvPr id="916" name="Line 13"/>
            <p:cNvSpPr/>
            <p:nvPr/>
          </p:nvSpPr>
          <p:spPr>
            <a:xfrm>
              <a:off x="1831680" y="3650400"/>
              <a:ext cx="46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4"/>
            <p:cNvSpPr/>
            <p:nvPr/>
          </p:nvSpPr>
          <p:spPr>
            <a:xfrm>
              <a:off x="1041480" y="3211560"/>
              <a:ext cx="783000" cy="879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18"/>
          <p:cNvGrpSpPr/>
          <p:nvPr/>
        </p:nvGrpSpPr>
        <p:grpSpPr>
          <a:xfrm>
            <a:off x="2300400" y="3211560"/>
            <a:ext cx="1294920" cy="879480"/>
            <a:chOff x="2300400" y="3211560"/>
            <a:chExt cx="1294920" cy="879480"/>
          </a:xfrm>
        </p:grpSpPr>
        <p:sp>
          <p:nvSpPr>
            <p:cNvPr id="919" name="Line 16"/>
            <p:cNvSpPr/>
            <p:nvPr/>
          </p:nvSpPr>
          <p:spPr>
            <a:xfrm>
              <a:off x="3063240" y="365040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7"/>
            <p:cNvSpPr/>
            <p:nvPr/>
          </p:nvSpPr>
          <p:spPr>
            <a:xfrm>
              <a:off x="2300400" y="3211560"/>
              <a:ext cx="782640" cy="879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Oval 19"/>
          <p:cNvSpPr/>
          <p:nvPr/>
        </p:nvSpPr>
        <p:spPr>
          <a:xfrm>
            <a:off x="3589200" y="3211560"/>
            <a:ext cx="784440" cy="8794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22"/>
          <p:cNvGrpSpPr/>
          <p:nvPr/>
        </p:nvGrpSpPr>
        <p:grpSpPr>
          <a:xfrm>
            <a:off x="4278240" y="2773440"/>
            <a:ext cx="603000" cy="1895040"/>
            <a:chOff x="4278240" y="2773440"/>
            <a:chExt cx="603000" cy="1895040"/>
          </a:xfrm>
        </p:grpSpPr>
        <p:sp>
          <p:nvSpPr>
            <p:cNvPr id="923" name="Line 20"/>
            <p:cNvSpPr/>
            <p:nvPr/>
          </p:nvSpPr>
          <p:spPr>
            <a:xfrm flipV="1">
              <a:off x="4278240" y="2773440"/>
              <a:ext cx="57492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21"/>
            <p:cNvSpPr/>
            <p:nvPr/>
          </p:nvSpPr>
          <p:spPr>
            <a:xfrm>
              <a:off x="4293720" y="3969720"/>
              <a:ext cx="58752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25"/>
          <p:cNvGrpSpPr/>
          <p:nvPr/>
        </p:nvGrpSpPr>
        <p:grpSpPr>
          <a:xfrm>
            <a:off x="4754520" y="2025720"/>
            <a:ext cx="850680" cy="3335400"/>
            <a:chOff x="4754520" y="2025720"/>
            <a:chExt cx="850680" cy="3335400"/>
          </a:xfrm>
        </p:grpSpPr>
        <p:sp>
          <p:nvSpPr>
            <p:cNvPr id="926" name="Oval 23"/>
            <p:cNvSpPr/>
            <p:nvPr/>
          </p:nvSpPr>
          <p:spPr>
            <a:xfrm>
              <a:off x="4754520" y="2025720"/>
              <a:ext cx="782280" cy="8791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24"/>
            <p:cNvSpPr/>
            <p:nvPr/>
          </p:nvSpPr>
          <p:spPr>
            <a:xfrm>
              <a:off x="4822920" y="4482000"/>
              <a:ext cx="782280" cy="8791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29"/>
          <p:cNvGrpSpPr/>
          <p:nvPr/>
        </p:nvGrpSpPr>
        <p:grpSpPr>
          <a:xfrm>
            <a:off x="5457960" y="2801880"/>
            <a:ext cx="1445760" cy="1926720"/>
            <a:chOff x="5457960" y="2801880"/>
            <a:chExt cx="1445760" cy="1926720"/>
          </a:xfrm>
        </p:grpSpPr>
        <p:sp>
          <p:nvSpPr>
            <p:cNvPr id="929" name="Line 26"/>
            <p:cNvSpPr/>
            <p:nvPr/>
          </p:nvSpPr>
          <p:spPr>
            <a:xfrm>
              <a:off x="5457960" y="2801880"/>
              <a:ext cx="81144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27"/>
            <p:cNvSpPr/>
            <p:nvPr/>
          </p:nvSpPr>
          <p:spPr>
            <a:xfrm flipV="1">
              <a:off x="5590440" y="4044960"/>
              <a:ext cx="674640" cy="68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28"/>
            <p:cNvSpPr/>
            <p:nvPr/>
          </p:nvSpPr>
          <p:spPr>
            <a:xfrm>
              <a:off x="6120720" y="3254400"/>
              <a:ext cx="783000" cy="879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Group 32"/>
          <p:cNvGrpSpPr/>
          <p:nvPr/>
        </p:nvGrpSpPr>
        <p:grpSpPr>
          <a:xfrm>
            <a:off x="6924600" y="3208320"/>
            <a:ext cx="1289160" cy="879480"/>
            <a:chOff x="6924600" y="3208320"/>
            <a:chExt cx="1289160" cy="879480"/>
          </a:xfrm>
        </p:grpSpPr>
        <p:sp>
          <p:nvSpPr>
            <p:cNvPr id="933" name="Line 30"/>
            <p:cNvSpPr/>
            <p:nvPr/>
          </p:nvSpPr>
          <p:spPr>
            <a:xfrm>
              <a:off x="6924600" y="3661200"/>
              <a:ext cx="487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31"/>
            <p:cNvSpPr/>
            <p:nvPr/>
          </p:nvSpPr>
          <p:spPr>
            <a:xfrm>
              <a:off x="7430760" y="3208320"/>
              <a:ext cx="783000" cy="879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5" name="Rectangle 33"/>
          <p:cNvSpPr/>
          <p:nvPr/>
        </p:nvSpPr>
        <p:spPr>
          <a:xfrm>
            <a:off x="7448400" y="411012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4"/>
          <p:cNvSpPr/>
          <p:nvPr/>
        </p:nvSpPr>
        <p:spPr>
          <a:xfrm>
            <a:off x="6132240" y="411012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5"/>
          <p:cNvSpPr/>
          <p:nvPr/>
        </p:nvSpPr>
        <p:spPr>
          <a:xfrm>
            <a:off x="4882680" y="532908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36"/>
          <p:cNvSpPr/>
          <p:nvPr/>
        </p:nvSpPr>
        <p:spPr>
          <a:xfrm>
            <a:off x="4812840" y="283068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0"/>
          <p:cNvGrpSpPr/>
          <p:nvPr/>
        </p:nvGrpSpPr>
        <p:grpSpPr>
          <a:xfrm>
            <a:off x="1108800" y="4078440"/>
            <a:ext cx="3325320" cy="820440"/>
            <a:chOff x="1108800" y="4078440"/>
            <a:chExt cx="3325320" cy="820440"/>
          </a:xfrm>
        </p:grpSpPr>
        <p:sp>
          <p:nvSpPr>
            <p:cNvPr id="940" name="Rectangle 37"/>
            <p:cNvSpPr/>
            <p:nvPr/>
          </p:nvSpPr>
          <p:spPr>
            <a:xfrm>
              <a:off x="3573000" y="407844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38"/>
            <p:cNvSpPr/>
            <p:nvPr/>
          </p:nvSpPr>
          <p:spPr>
            <a:xfrm>
              <a:off x="2340720" y="407844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39"/>
            <p:cNvSpPr/>
            <p:nvPr/>
          </p:nvSpPr>
          <p:spPr>
            <a:xfrm>
              <a:off x="1108800" y="407844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Rectangle 41"/>
          <p:cNvSpPr/>
          <p:nvPr/>
        </p:nvSpPr>
        <p:spPr>
          <a:xfrm>
            <a:off x="5689440" y="457200"/>
            <a:ext cx="3149640" cy="19177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Start with LF=15 or the total time of the project  and go backward in the network from G 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43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9CBA0F92-E45A-46D5-AC14-F5CB526B2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3"/>
          <p:cNvSpPr/>
          <p:nvPr/>
        </p:nvSpPr>
        <p:spPr>
          <a:xfrm>
            <a:off x="3371760" y="5826240"/>
            <a:ext cx="24670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858000" cy="44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Path &amp; Sl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7"/>
          <p:cNvGrpSpPr/>
          <p:nvPr/>
        </p:nvGrpSpPr>
        <p:grpSpPr>
          <a:xfrm>
            <a:off x="5951160" y="2532240"/>
            <a:ext cx="2210040" cy="820440"/>
            <a:chOff x="5951160" y="2532240"/>
            <a:chExt cx="2210040" cy="820440"/>
          </a:xfrm>
        </p:grpSpPr>
        <p:sp>
          <p:nvSpPr>
            <p:cNvPr id="948" name="Rectangle 5"/>
            <p:cNvSpPr/>
            <p:nvPr/>
          </p:nvSpPr>
          <p:spPr>
            <a:xfrm>
              <a:off x="5951160" y="2532240"/>
              <a:ext cx="1013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=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F=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6"/>
            <p:cNvSpPr/>
            <p:nvPr/>
          </p:nvSpPr>
          <p:spPr>
            <a:xfrm>
              <a:off x="7147800" y="2532240"/>
              <a:ext cx="10134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=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F=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0" name="Rectangle 8"/>
          <p:cNvSpPr/>
          <p:nvPr/>
        </p:nvSpPr>
        <p:spPr>
          <a:xfrm>
            <a:off x="917280" y="250524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9"/>
          <p:cNvSpPr/>
          <p:nvPr/>
        </p:nvSpPr>
        <p:spPr>
          <a:xfrm>
            <a:off x="2146320" y="2505240"/>
            <a:ext cx="977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10"/>
          <p:cNvSpPr/>
          <p:nvPr/>
        </p:nvSpPr>
        <p:spPr>
          <a:xfrm>
            <a:off x="3398400" y="250524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1"/>
          <p:cNvSpPr/>
          <p:nvPr/>
        </p:nvSpPr>
        <p:spPr>
          <a:xfrm>
            <a:off x="4641480" y="376380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2"/>
          <p:cNvSpPr/>
          <p:nvPr/>
        </p:nvSpPr>
        <p:spPr>
          <a:xfrm>
            <a:off x="4608000" y="141912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15"/>
          <p:cNvGrpSpPr/>
          <p:nvPr/>
        </p:nvGrpSpPr>
        <p:grpSpPr>
          <a:xfrm>
            <a:off x="838080" y="3305160"/>
            <a:ext cx="1188720" cy="831960"/>
            <a:chOff x="838080" y="3305160"/>
            <a:chExt cx="1188720" cy="831960"/>
          </a:xfrm>
        </p:grpSpPr>
        <p:sp>
          <p:nvSpPr>
            <p:cNvPr id="956" name="Line 13"/>
            <p:cNvSpPr/>
            <p:nvPr/>
          </p:nvSpPr>
          <p:spPr>
            <a:xfrm>
              <a:off x="1587240" y="3720240"/>
              <a:ext cx="43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14"/>
            <p:cNvSpPr/>
            <p:nvPr/>
          </p:nvSpPr>
          <p:spPr>
            <a:xfrm>
              <a:off x="838080" y="3305160"/>
              <a:ext cx="742680" cy="8319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Group 18"/>
          <p:cNvGrpSpPr/>
          <p:nvPr/>
        </p:nvGrpSpPr>
        <p:grpSpPr>
          <a:xfrm>
            <a:off x="2104920" y="3305160"/>
            <a:ext cx="1228320" cy="831960"/>
            <a:chOff x="2104920" y="3305160"/>
            <a:chExt cx="1228320" cy="831960"/>
          </a:xfrm>
        </p:grpSpPr>
        <p:sp>
          <p:nvSpPr>
            <p:cNvPr id="959" name="Line 16"/>
            <p:cNvSpPr/>
            <p:nvPr/>
          </p:nvSpPr>
          <p:spPr>
            <a:xfrm>
              <a:off x="2828520" y="3720240"/>
              <a:ext cx="50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17"/>
            <p:cNvSpPr/>
            <p:nvPr/>
          </p:nvSpPr>
          <p:spPr>
            <a:xfrm>
              <a:off x="2104920" y="3305160"/>
              <a:ext cx="742320" cy="8319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Oval 19"/>
          <p:cNvSpPr/>
          <p:nvPr/>
        </p:nvSpPr>
        <p:spPr>
          <a:xfrm>
            <a:off x="3402000" y="3305160"/>
            <a:ext cx="743040" cy="8319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22"/>
          <p:cNvGrpSpPr/>
          <p:nvPr/>
        </p:nvGrpSpPr>
        <p:grpSpPr>
          <a:xfrm>
            <a:off x="4095720" y="2890800"/>
            <a:ext cx="571320" cy="1792080"/>
            <a:chOff x="4095720" y="2890800"/>
            <a:chExt cx="571320" cy="1792080"/>
          </a:xfrm>
        </p:grpSpPr>
        <p:sp>
          <p:nvSpPr>
            <p:cNvPr id="963" name="Line 20"/>
            <p:cNvSpPr/>
            <p:nvPr/>
          </p:nvSpPr>
          <p:spPr>
            <a:xfrm flipV="1">
              <a:off x="4095720" y="2890800"/>
              <a:ext cx="544680" cy="54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21"/>
            <p:cNvSpPr/>
            <p:nvPr/>
          </p:nvSpPr>
          <p:spPr>
            <a:xfrm>
              <a:off x="4110120" y="4021920"/>
              <a:ext cx="556920" cy="66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Oval 23"/>
          <p:cNvSpPr/>
          <p:nvPr/>
        </p:nvSpPr>
        <p:spPr>
          <a:xfrm>
            <a:off x="4573440" y="2184480"/>
            <a:ext cx="741600" cy="831600"/>
          </a:xfrm>
          <a:prstGeom prst="ellipse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24"/>
          <p:cNvSpPr/>
          <p:nvPr/>
        </p:nvSpPr>
        <p:spPr>
          <a:xfrm>
            <a:off x="4641840" y="4505400"/>
            <a:ext cx="743040" cy="8316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7" name="Group 28"/>
          <p:cNvGrpSpPr/>
          <p:nvPr/>
        </p:nvGrpSpPr>
        <p:grpSpPr>
          <a:xfrm>
            <a:off x="5283360" y="2919240"/>
            <a:ext cx="1369440" cy="1820520"/>
            <a:chOff x="5283360" y="2919240"/>
            <a:chExt cx="1369440" cy="1820520"/>
          </a:xfrm>
        </p:grpSpPr>
        <p:sp>
          <p:nvSpPr>
            <p:cNvPr id="968" name="Line 25"/>
            <p:cNvSpPr/>
            <p:nvPr/>
          </p:nvSpPr>
          <p:spPr>
            <a:xfrm>
              <a:off x="5283360" y="2919240"/>
              <a:ext cx="76860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26"/>
            <p:cNvSpPr/>
            <p:nvPr/>
          </p:nvSpPr>
          <p:spPr>
            <a:xfrm flipV="1">
              <a:off x="5410080" y="4093920"/>
              <a:ext cx="640080" cy="64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27"/>
            <p:cNvSpPr/>
            <p:nvPr/>
          </p:nvSpPr>
          <p:spPr>
            <a:xfrm>
              <a:off x="5911200" y="3346560"/>
              <a:ext cx="741600" cy="8308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(5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Group 31"/>
          <p:cNvGrpSpPr/>
          <p:nvPr/>
        </p:nvGrpSpPr>
        <p:grpSpPr>
          <a:xfrm>
            <a:off x="6757920" y="3303720"/>
            <a:ext cx="1222200" cy="830160"/>
            <a:chOff x="6757920" y="3303720"/>
            <a:chExt cx="1222200" cy="830160"/>
          </a:xfrm>
        </p:grpSpPr>
        <p:sp>
          <p:nvSpPr>
            <p:cNvPr id="972" name="Line 29"/>
            <p:cNvSpPr/>
            <p:nvPr/>
          </p:nvSpPr>
          <p:spPr>
            <a:xfrm>
              <a:off x="6757920" y="3731400"/>
              <a:ext cx="4622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30"/>
            <p:cNvSpPr/>
            <p:nvPr/>
          </p:nvSpPr>
          <p:spPr>
            <a:xfrm>
              <a:off x="7237800" y="3303720"/>
              <a:ext cx="742320" cy="8301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Rectangle 32"/>
          <p:cNvSpPr/>
          <p:nvPr/>
        </p:nvSpPr>
        <p:spPr>
          <a:xfrm>
            <a:off x="7284960" y="415440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33"/>
          <p:cNvSpPr/>
          <p:nvPr/>
        </p:nvSpPr>
        <p:spPr>
          <a:xfrm>
            <a:off x="5960880" y="4154400"/>
            <a:ext cx="10134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34"/>
          <p:cNvSpPr/>
          <p:nvPr/>
        </p:nvSpPr>
        <p:spPr>
          <a:xfrm>
            <a:off x="4703400" y="530712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5"/>
          <p:cNvSpPr/>
          <p:nvPr/>
        </p:nvSpPr>
        <p:spPr>
          <a:xfrm>
            <a:off x="4633560" y="2944800"/>
            <a:ext cx="8611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=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F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Group 39"/>
          <p:cNvGrpSpPr/>
          <p:nvPr/>
        </p:nvGrpSpPr>
        <p:grpSpPr>
          <a:xfrm>
            <a:off x="906120" y="4124160"/>
            <a:ext cx="3199680" cy="820440"/>
            <a:chOff x="906120" y="4124160"/>
            <a:chExt cx="3199680" cy="820440"/>
          </a:xfrm>
        </p:grpSpPr>
        <p:sp>
          <p:nvSpPr>
            <p:cNvPr id="979" name="Rectangle 36"/>
            <p:cNvSpPr/>
            <p:nvPr/>
          </p:nvSpPr>
          <p:spPr>
            <a:xfrm>
              <a:off x="3244680" y="412416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37"/>
            <p:cNvSpPr/>
            <p:nvPr/>
          </p:nvSpPr>
          <p:spPr>
            <a:xfrm>
              <a:off x="2074680" y="412416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38"/>
            <p:cNvSpPr/>
            <p:nvPr/>
          </p:nvSpPr>
          <p:spPr>
            <a:xfrm>
              <a:off x="906120" y="4124160"/>
              <a:ext cx="861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S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F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Rectangle 40"/>
          <p:cNvSpPr/>
          <p:nvPr/>
        </p:nvSpPr>
        <p:spPr>
          <a:xfrm>
            <a:off x="5805360" y="5457960"/>
            <a:ext cx="2581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tion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5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43"/>
          <p:cNvGrpSpPr/>
          <p:nvPr/>
        </p:nvGrpSpPr>
        <p:grpSpPr>
          <a:xfrm>
            <a:off x="5299200" y="1644480"/>
            <a:ext cx="3584880" cy="668160"/>
            <a:chOff x="5299200" y="1644480"/>
            <a:chExt cx="3584880" cy="668160"/>
          </a:xfrm>
        </p:grpSpPr>
        <p:sp>
          <p:nvSpPr>
            <p:cNvPr id="984" name="Line 41"/>
            <p:cNvSpPr/>
            <p:nvPr/>
          </p:nvSpPr>
          <p:spPr>
            <a:xfrm flipH="1">
              <a:off x="5299200" y="1906920"/>
              <a:ext cx="7207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42"/>
            <p:cNvSpPr/>
            <p:nvPr/>
          </p:nvSpPr>
          <p:spPr>
            <a:xfrm>
              <a:off x="5959440" y="1644480"/>
              <a:ext cx="2924640" cy="393840"/>
            </a:xfrm>
            <a:prstGeom prst="rect">
              <a:avLst/>
            </a:prstGeom>
            <a:solidFill>
              <a:srgbClr val="a6f6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lack=(7-4)=(9-6)= 3 W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4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A59B685A-77F4-4523-9099-B1A9F1A5D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8706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2. CPM with Three Activity Time Estim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Object 1024"/>
          <p:cNvGraphicFramePr/>
          <p:nvPr/>
        </p:nvGraphicFramePr>
        <p:xfrm>
          <a:off x="2057400" y="1752480"/>
          <a:ext cx="631188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631188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0" name="Text Box 1030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DA588637-578A-4CE3-B954-FC69B842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4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 of Chapte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9A16C947-DB4C-43B9-A7D8-2173E1804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599840" y="20574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 of Projec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k Breakdown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Control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ctur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Path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1371600" y="9144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52DDC66F-450C-4F5C-8432-81809B640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6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/>
          </p:nvPr>
        </p:nvSpPr>
        <p:spPr>
          <a:xfrm>
            <a:off x="14479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Proje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series of related jobs usually directed toward some major output and requiring a significant period of time to per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Project Manage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re the management activities of planning, directing, and controlling resources (people, equipment, material) to meet the technical, cost, and time constraints of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609480" y="609480"/>
            <a:ext cx="84805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anagemen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A5FCA80E-A922-4399-90FF-F531EA5A6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6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2"/>
          <p:cNvSpPr/>
          <p:nvPr/>
        </p:nvSpPr>
        <p:spPr>
          <a:xfrm>
            <a:off x="609480" y="304920"/>
            <a:ext cx="7772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3124080" y="6251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6904080" cy="4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ntt Cha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760680" y="2670120"/>
            <a:ext cx="160632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y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2611440" y="2813040"/>
            <a:ext cx="1434960" cy="21600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3022560" y="3230640"/>
            <a:ext cx="1435320" cy="21600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4321080" y="3654360"/>
            <a:ext cx="943200" cy="22068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4600440" y="4041720"/>
            <a:ext cx="2156040" cy="23184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5695920" y="4540320"/>
            <a:ext cx="662040" cy="22392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1"/>
          <p:cNvSpPr/>
          <p:nvPr/>
        </p:nvSpPr>
        <p:spPr>
          <a:xfrm>
            <a:off x="6916680" y="4981680"/>
            <a:ext cx="309600" cy="253800"/>
          </a:xfrm>
          <a:prstGeom prst="rect">
            <a:avLst/>
          </a:prstGeom>
          <a:solidFill>
            <a:srgbClr val="a6f6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1549440" y="5586480"/>
            <a:ext cx="5280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13"/>
          <p:cNvSpPr/>
          <p:nvPr/>
        </p:nvSpPr>
        <p:spPr>
          <a:xfrm>
            <a:off x="3443400" y="5738760"/>
            <a:ext cx="85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16"/>
          <p:cNvSpPr/>
          <p:nvPr/>
        </p:nvSpPr>
        <p:spPr>
          <a:xfrm>
            <a:off x="8229600" y="640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304920" y="1298520"/>
            <a:ext cx="2514600" cy="119124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Axis: Always Activities or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4648320" y="5870520"/>
            <a:ext cx="4267080" cy="4597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Axis: Alway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3048120" y="1527120"/>
            <a:ext cx="5257800" cy="825480"/>
          </a:xfrm>
          <a:prstGeom prst="rect">
            <a:avLst/>
          </a:prstGeom>
          <a:solidFill>
            <a:srgbClr val="a6f695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bars used to denote length of time for each activity or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3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3F0B6A16-164F-431B-9C08-DF9335ECF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87520" y="2742840"/>
            <a:ext cx="80229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Projec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5"/>
          <p:cNvSpPr/>
          <p:nvPr/>
        </p:nvSpPr>
        <p:spPr>
          <a:xfrm>
            <a:off x="533520" y="533520"/>
            <a:ext cx="7947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1600200" y="129528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e1e1d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ure project</a:t>
            </a:r>
            <a:r>
              <a:rPr b="1" lang="en-US" sz="2800" spc="-1" strike="noStrike">
                <a:solidFill>
                  <a:srgbClr val="e1e1d1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where a self-contained team works full-time on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40000" y="3657240"/>
            <a:ext cx="7704000" cy="28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ject manager has full authority over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members report to one b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ened communication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pride, motivation, and commitment are 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B9E525E0-320E-463F-8848-B57DAB9A1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4" dur="1" fill="hold"/>
                                  <p:tgtEl>
                                    <p:spTgt spid="6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5564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Projec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60020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plication of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goals and policies are igno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technology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am members have no functional area "home"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13E00458-262D-4368-A237-6DCC34992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6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3055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43"/>
          <p:cNvGrpSpPr/>
          <p:nvPr/>
        </p:nvGrpSpPr>
        <p:grpSpPr>
          <a:xfrm>
            <a:off x="721080" y="2590920"/>
            <a:ext cx="7746840" cy="2847600"/>
            <a:chOff x="721080" y="2590920"/>
            <a:chExt cx="7746840" cy="2847600"/>
          </a:xfrm>
        </p:grpSpPr>
        <p:sp>
          <p:nvSpPr>
            <p:cNvPr id="638" name="Rectangle 5"/>
            <p:cNvSpPr/>
            <p:nvPr/>
          </p:nvSpPr>
          <p:spPr>
            <a:xfrm>
              <a:off x="3490560" y="2590920"/>
              <a:ext cx="2074320" cy="53028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esi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"/>
            <p:cNvSpPr/>
            <p:nvPr/>
          </p:nvSpPr>
          <p:spPr>
            <a:xfrm>
              <a:off x="858960" y="3581640"/>
              <a:ext cx="2074680" cy="75888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search 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7"/>
            <p:cNvSpPr/>
            <p:nvPr/>
          </p:nvSpPr>
          <p:spPr>
            <a:xfrm>
              <a:off x="3490560" y="3581640"/>
              <a:ext cx="2074320" cy="75888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8"/>
            <p:cNvSpPr/>
            <p:nvPr/>
          </p:nvSpPr>
          <p:spPr>
            <a:xfrm>
              <a:off x="6121800" y="3581640"/>
              <a:ext cx="2074320" cy="758880"/>
            </a:xfrm>
            <a:prstGeom prst="rect">
              <a:avLst/>
            </a:prstGeom>
            <a:solidFill>
              <a:srgbClr val="f8e4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ufactu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8"/>
            <p:cNvGrpSpPr/>
            <p:nvPr/>
          </p:nvGrpSpPr>
          <p:grpSpPr>
            <a:xfrm>
              <a:off x="721080" y="4353120"/>
              <a:ext cx="2484000" cy="1085400"/>
              <a:chOff x="721080" y="4353120"/>
              <a:chExt cx="2484000" cy="1085400"/>
            </a:xfrm>
          </p:grpSpPr>
          <p:grpSp>
            <p:nvGrpSpPr>
              <p:cNvPr id="643" name="Group 14"/>
              <p:cNvGrpSpPr/>
              <p:nvPr/>
            </p:nvGrpSpPr>
            <p:grpSpPr>
              <a:xfrm>
                <a:off x="1134720" y="4353120"/>
                <a:ext cx="1592280" cy="439920"/>
                <a:chOff x="1134720" y="4353120"/>
                <a:chExt cx="1592280" cy="439920"/>
              </a:xfrm>
            </p:grpSpPr>
            <p:sp>
              <p:nvSpPr>
                <p:cNvPr id="644" name="Line 9"/>
                <p:cNvSpPr/>
                <p:nvPr/>
              </p:nvSpPr>
              <p:spPr>
                <a:xfrm>
                  <a:off x="1896120" y="4353120"/>
                  <a:ext cx="0" cy="43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5" name="Group 13"/>
                <p:cNvGrpSpPr/>
                <p:nvPr/>
              </p:nvGrpSpPr>
              <p:grpSpPr>
                <a:xfrm>
                  <a:off x="1134720" y="4570560"/>
                  <a:ext cx="1592280" cy="222480"/>
                  <a:chOff x="1134720" y="4570560"/>
                  <a:chExt cx="1592280" cy="222480"/>
                </a:xfrm>
              </p:grpSpPr>
              <p:sp>
                <p:nvSpPr>
                  <p:cNvPr id="646" name="Line 10"/>
                  <p:cNvSpPr/>
                  <p:nvPr/>
                </p:nvSpPr>
                <p:spPr>
                  <a:xfrm>
                    <a:off x="1144800" y="4570560"/>
                    <a:ext cx="157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Line 11"/>
                  <p:cNvSpPr/>
                  <p:nvPr/>
                </p:nvSpPr>
                <p:spPr>
                  <a:xfrm>
                    <a:off x="1134720" y="4581720"/>
                    <a:ext cx="0" cy="21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Line 12"/>
                  <p:cNvSpPr/>
                  <p:nvPr/>
                </p:nvSpPr>
                <p:spPr>
                  <a:xfrm>
                    <a:off x="2727000" y="4581720"/>
                    <a:ext cx="0" cy="21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9" name="Rectangle 15"/>
              <p:cNvSpPr/>
              <p:nvPr/>
            </p:nvSpPr>
            <p:spPr>
              <a:xfrm>
                <a:off x="72108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6"/>
              <p:cNvSpPr/>
              <p:nvPr/>
            </p:nvSpPr>
            <p:spPr>
              <a:xfrm>
                <a:off x="148500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17"/>
              <p:cNvSpPr/>
              <p:nvPr/>
            </p:nvSpPr>
            <p:spPr>
              <a:xfrm>
                <a:off x="231336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24"/>
            <p:cNvGrpSpPr/>
            <p:nvPr/>
          </p:nvGrpSpPr>
          <p:grpSpPr>
            <a:xfrm>
              <a:off x="3765960" y="4353120"/>
              <a:ext cx="1592280" cy="439920"/>
              <a:chOff x="3765960" y="4353120"/>
              <a:chExt cx="1592280" cy="439920"/>
            </a:xfrm>
          </p:grpSpPr>
          <p:sp>
            <p:nvSpPr>
              <p:cNvPr id="653" name="Line 19"/>
              <p:cNvSpPr/>
              <p:nvPr/>
            </p:nvSpPr>
            <p:spPr>
              <a:xfrm>
                <a:off x="4527360" y="4353120"/>
                <a:ext cx="0" cy="43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Group 23"/>
              <p:cNvGrpSpPr/>
              <p:nvPr/>
            </p:nvGrpSpPr>
            <p:grpSpPr>
              <a:xfrm>
                <a:off x="3765960" y="4570560"/>
                <a:ext cx="1592280" cy="222480"/>
                <a:chOff x="3765960" y="4570560"/>
                <a:chExt cx="1592280" cy="222480"/>
              </a:xfrm>
            </p:grpSpPr>
            <p:sp>
              <p:nvSpPr>
                <p:cNvPr id="655" name="Line 20"/>
                <p:cNvSpPr/>
                <p:nvPr/>
              </p:nvSpPr>
              <p:spPr>
                <a:xfrm>
                  <a:off x="3772800" y="4570560"/>
                  <a:ext cx="157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Line 21"/>
                <p:cNvSpPr/>
                <p:nvPr/>
              </p:nvSpPr>
              <p:spPr>
                <a:xfrm>
                  <a:off x="3765960" y="4581720"/>
                  <a:ext cx="0" cy="21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22"/>
                <p:cNvSpPr/>
                <p:nvPr/>
              </p:nvSpPr>
              <p:spPr>
                <a:xfrm>
                  <a:off x="5358240" y="4581720"/>
                  <a:ext cx="0" cy="211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8" name="Rectangle 25"/>
            <p:cNvSpPr/>
            <p:nvPr/>
          </p:nvSpPr>
          <p:spPr>
            <a:xfrm>
              <a:off x="3353400" y="4800960"/>
              <a:ext cx="891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26"/>
            <p:cNvSpPr/>
            <p:nvPr/>
          </p:nvSpPr>
          <p:spPr>
            <a:xfrm>
              <a:off x="4115160" y="4800960"/>
              <a:ext cx="891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7"/>
            <p:cNvSpPr/>
            <p:nvPr/>
          </p:nvSpPr>
          <p:spPr>
            <a:xfrm>
              <a:off x="4944960" y="4800960"/>
              <a:ext cx="8917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37"/>
            <p:cNvGrpSpPr/>
            <p:nvPr/>
          </p:nvGrpSpPr>
          <p:grpSpPr>
            <a:xfrm>
              <a:off x="5983920" y="4353120"/>
              <a:ext cx="2484000" cy="1085400"/>
              <a:chOff x="5983920" y="4353120"/>
              <a:chExt cx="2484000" cy="1085400"/>
            </a:xfrm>
          </p:grpSpPr>
          <p:grpSp>
            <p:nvGrpSpPr>
              <p:cNvPr id="662" name="Group 33"/>
              <p:cNvGrpSpPr/>
              <p:nvPr/>
            </p:nvGrpSpPr>
            <p:grpSpPr>
              <a:xfrm>
                <a:off x="6397200" y="4353120"/>
                <a:ext cx="1592640" cy="439920"/>
                <a:chOff x="6397200" y="4353120"/>
                <a:chExt cx="1592640" cy="439920"/>
              </a:xfrm>
            </p:grpSpPr>
            <p:sp>
              <p:nvSpPr>
                <p:cNvPr id="663" name="Line 28"/>
                <p:cNvSpPr/>
                <p:nvPr/>
              </p:nvSpPr>
              <p:spPr>
                <a:xfrm>
                  <a:off x="7158960" y="4353120"/>
                  <a:ext cx="0" cy="43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32"/>
                <p:cNvGrpSpPr/>
                <p:nvPr/>
              </p:nvGrpSpPr>
              <p:grpSpPr>
                <a:xfrm>
                  <a:off x="6397200" y="4570560"/>
                  <a:ext cx="1592640" cy="222480"/>
                  <a:chOff x="6397200" y="4570560"/>
                  <a:chExt cx="1592640" cy="222480"/>
                </a:xfrm>
              </p:grpSpPr>
              <p:sp>
                <p:nvSpPr>
                  <p:cNvPr id="665" name="Line 29"/>
                  <p:cNvSpPr/>
                  <p:nvPr/>
                </p:nvSpPr>
                <p:spPr>
                  <a:xfrm>
                    <a:off x="6407280" y="4570560"/>
                    <a:ext cx="1576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Line 30"/>
                  <p:cNvSpPr/>
                  <p:nvPr/>
                </p:nvSpPr>
                <p:spPr>
                  <a:xfrm>
                    <a:off x="6397200" y="4581720"/>
                    <a:ext cx="0" cy="21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Line 31"/>
                  <p:cNvSpPr/>
                  <p:nvPr/>
                </p:nvSpPr>
                <p:spPr>
                  <a:xfrm>
                    <a:off x="7989840" y="4581720"/>
                    <a:ext cx="0" cy="211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68" name="Rectangle 34"/>
              <p:cNvSpPr/>
              <p:nvPr/>
            </p:nvSpPr>
            <p:spPr>
              <a:xfrm>
                <a:off x="598392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35"/>
              <p:cNvSpPr/>
              <p:nvPr/>
            </p:nvSpPr>
            <p:spPr>
              <a:xfrm>
                <a:off x="674784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36"/>
              <p:cNvSpPr/>
              <p:nvPr/>
            </p:nvSpPr>
            <p:spPr>
              <a:xfrm>
                <a:off x="7576200" y="4800960"/>
                <a:ext cx="8917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rojec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Line 38"/>
            <p:cNvSpPr/>
            <p:nvPr/>
          </p:nvSpPr>
          <p:spPr>
            <a:xfrm>
              <a:off x="4527720" y="313416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2" name="Group 42"/>
            <p:cNvGrpSpPr/>
            <p:nvPr/>
          </p:nvGrpSpPr>
          <p:grpSpPr>
            <a:xfrm>
              <a:off x="1896480" y="3351600"/>
              <a:ext cx="5262840" cy="222120"/>
              <a:chOff x="1896480" y="3351600"/>
              <a:chExt cx="5262840" cy="222120"/>
            </a:xfrm>
          </p:grpSpPr>
          <p:sp>
            <p:nvSpPr>
              <p:cNvPr id="673" name="Line 39"/>
              <p:cNvSpPr/>
              <p:nvPr/>
            </p:nvSpPr>
            <p:spPr>
              <a:xfrm>
                <a:off x="1906560" y="3351600"/>
                <a:ext cx="5246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40"/>
              <p:cNvSpPr/>
              <p:nvPr/>
            </p:nvSpPr>
            <p:spPr>
              <a:xfrm>
                <a:off x="1896480" y="336276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Line 41"/>
              <p:cNvSpPr/>
              <p:nvPr/>
            </p:nvSpPr>
            <p:spPr>
              <a:xfrm>
                <a:off x="7159320" y="3362760"/>
                <a:ext cx="0" cy="21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6" name="Rectangle 44"/>
          <p:cNvSpPr/>
          <p:nvPr/>
        </p:nvSpPr>
        <p:spPr>
          <a:xfrm>
            <a:off x="1828800" y="1066680"/>
            <a:ext cx="7315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unctional projec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housed within a functiona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5"/>
          <p:cNvSpPr/>
          <p:nvPr/>
        </p:nvSpPr>
        <p:spPr>
          <a:xfrm>
            <a:off x="2895480" y="5486400"/>
            <a:ext cx="3124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7"/>
          <p:cNvSpPr/>
          <p:nvPr/>
        </p:nvSpPr>
        <p:spPr>
          <a:xfrm>
            <a:off x="2286000" y="5410080"/>
            <a:ext cx="6477120" cy="9907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, Project “B” is in the functional area of Research and Develo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8"/>
          <p:cNvSpPr/>
          <p:nvPr/>
        </p:nvSpPr>
        <p:spPr>
          <a:xfrm>
            <a:off x="1905120" y="54864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5BEFB72D-448F-4D05-9C4A-1786E5DD5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175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ing Projec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 Project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eam member can work on several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ical expertise is maintained within the functional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unctional area is a “home” after the project is comple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mass of specialized knowled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</a:t>
            </a:r>
            <a:fld id="{62D85963-1D55-449B-95E0-EEE086E10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8" dur="1" fill="hold"/>
                                  <p:tgtEl>
                                    <p:spTgt spid="6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2T20:31:08Z</dcterms:created>
  <dc:creator> </dc:creator>
  <dc:description/>
  <cp:keywords/>
  <dc:language>en-US</dc:language>
  <cp:lastModifiedBy>KSU S155-S9</cp:lastModifiedBy>
  <dcterms:modified xsi:type="dcterms:W3CDTF">2015-09-13T09:32:07Z</dcterms:modified>
  <cp:revision>74</cp:revision>
  <dc:subject/>
  <dc:title>Production  and Operations Management: Manufacturing and  Servi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D:\htdocs\pom\PowerPoint_Slid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